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12F-3861-46E7-B667-80FB48771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8CC3-D6AF-46B5-BA7A-AE956039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990C-A558-4571-996A-551BA76A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BB3-51FC-47BD-8AED-1A011050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7CC-BE38-4F40-B614-995F1420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20B-E477-41F3-9742-41CF4137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84B7-D8F7-45F1-A27F-5F123BD6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3A4-E155-40B6-B3F7-CB0F6251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83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25F-95BB-491F-8EA5-EF4AD76E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85D-CD1D-4EAF-8E97-F8ED6620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74D-77FF-4829-B981-B9416ACC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01C3-3E62-49F7-9887-976ABE7B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006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33A0-59CF-4156-97A9-029F9B9A7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84360" y="6001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352680" y="2666880"/>
                <a:ext cx="15591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4711320" y="304812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419720"/>
            <a:ext cx="320040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876920"/>
            <a:ext cx="320040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334120"/>
            <a:ext cx="320040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5791320"/>
            <a:ext cx="320040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248520"/>
            <a:ext cx="320040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05432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79440" y="404640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7120" y="404640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16240" y="405432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33560" y="405432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405432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600200" y="4973760"/>
            <a:ext cx="1549440" cy="1655280"/>
            <a:chOff x="1600200" y="4973760"/>
            <a:chExt cx="1549440" cy="1655280"/>
          </a:xfrm>
        </p:grpSpPr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2131920" y="5430600"/>
                  <a:ext cx="519120" cy="72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2671920" y="5451480"/>
                  <a:ext cx="477720" cy="67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2117880" y="4973760"/>
                  <a:ext cx="51732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600200" y="5452920"/>
                  <a:ext cx="51768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2117880" y="5949720"/>
                  <a:ext cx="51732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300560" y="4754520"/>
                <a:ext cx="41227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4419720"/>
            <a:ext cx="320040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876920"/>
            <a:ext cx="320040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334120"/>
            <a:ext cx="320040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791320"/>
            <a:ext cx="320040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8520"/>
            <a:ext cx="320040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405432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9440" y="404640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7120" y="404640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16240" y="405432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33560" y="405432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405432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117440" y="4973760"/>
            <a:ext cx="1549440" cy="1655280"/>
            <a:chOff x="1117440" y="4973760"/>
            <a:chExt cx="1549440" cy="1655280"/>
          </a:xfrm>
        </p:grpSpPr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649160" y="5430600"/>
                  <a:ext cx="519120" cy="72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189160" y="5451480"/>
                  <a:ext cx="477720" cy="67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1635120" y="4973760"/>
                  <a:ext cx="51732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117440" y="5452920"/>
                  <a:ext cx="51768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1635120" y="5949720"/>
                  <a:ext cx="51732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352680" y="2666880"/>
                <a:ext cx="15591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300560" y="4754520"/>
                <a:ext cx="41227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711320" y="304812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4419720"/>
            <a:ext cx="320040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876920"/>
            <a:ext cx="320040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334120"/>
            <a:ext cx="320040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5791320"/>
            <a:ext cx="320040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248520"/>
            <a:ext cx="3200400" cy="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405432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9440" y="404640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97120" y="404640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16240" y="405432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33560" y="405432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4054320"/>
            <a:ext cx="0" cy="257508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09480" y="4973760"/>
            <a:ext cx="1549440" cy="1655280"/>
            <a:chOff x="609480" y="4973760"/>
            <a:chExt cx="1549440" cy="1655280"/>
          </a:xfrm>
        </p:grpSpPr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1141200" y="5430600"/>
                  <a:ext cx="519120" cy="72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1681200" y="5451480"/>
                  <a:ext cx="477720" cy="67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1127160" y="4973760"/>
                  <a:ext cx="51732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609480" y="5452920"/>
                  <a:ext cx="517680" cy="71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1127160" y="5949720"/>
                  <a:ext cx="51732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352680" y="2666880"/>
                <a:ext cx="15591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300560" y="4754520"/>
                <a:ext cx="41227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4711320" y="3048120"/>
            <a:ext cx="8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0T11:17:13Z</dcterms:created>
  <dc:creator>Eitan Sharon</dc:creator>
  <dc:description/>
  <dc:language>en-US</dc:language>
  <cp:lastModifiedBy>Achi Brandt</cp:lastModifiedBy>
  <dcterms:modified xsi:type="dcterms:W3CDTF">2004-11-10T05:18:07Z</dcterms:modified>
  <cp:revision>1285</cp:revision>
  <dc:subject/>
  <dc:title>Segmentation and Boundary Detection Using Multiscale Intensity Measurements</dc:title>
</cp:coreProperties>
</file>