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9960" y="617220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Perceptual color seg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93480" y="6172200"/>
            <a:ext cx="1116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Slide </a:t>
            </a:r>
            <a:fld id="{08FE8D83-B2A7-4E7C-B7D3-0F5F2C4EA279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04920"/>
            <a:ext cx="861048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ual Color Image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gi Chau &amp; Jeff Wal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ter 200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7432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(x |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ing membership of a pixel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robability that that pixel takes on its color (position in the color spac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knowledge of the color PDF for each cluster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s are estimated using histogra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se are three dimensional PDF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Q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d for every pixel, every seg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o calculate exactly: requires summation over all possible combinations of labels of all other pix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simplifying assumptions to make the problem trac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 only at the 3x3 neighborhood surrounding the pixel in ques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 a small subset of possible label patterns within that 3x3 squ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48320" y="1447920"/>
          <a:ext cx="1981080" cy="136656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553080" y="3048120"/>
          <a:ext cx="2209680" cy="136656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724280" y="4724280"/>
          <a:ext cx="2209680" cy="136656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al pi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n from the Berkeley Segmentation data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154944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rsest level of the perceptual t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ed at a distance of 300in (~7.6 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97160" y="1676520"/>
            <a:ext cx="28227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-means clustering with an initial K of 10000 and a threshold of 0.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e in [x y L a b]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9160" y="1503360"/>
            <a:ext cx="24256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ed clusters using a LAB difference threshold of 8 and removing clusters occupying less than 5% of the total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84560" y="1698480"/>
            <a:ext cx="28353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ion of core clusters by associating a pixel with a cluster if its confidence for that cluster is &gt;= 8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 into the multiscale probabilistic relaxation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62400" y="1590840"/>
            <a:ext cx="24177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heuristic parameters within the algorithm can influence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Number of Clusters for k-Means (more is bet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or PDF’s for each cluster estimated using 3D histogram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l number of bins in histogram hard to predi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rmehdi-Petrou is good at finding the middle of clusters – isn’t confused by texture (see Bag of Grai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gh sometimes we don’t find clean segment bounda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uitive justification of some steps makes setting algorithm parameters difficu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levels should we u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as for further eval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mpared M&amp;P against another method (Edge Flow) -&gt; but what elements of M&amp;P are actually importa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SCIELAB-style filtering actually effect the resul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effect of the number of levels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effect of the level of blurring of the coarsest im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a color image with textures, segment it into regions that would be close to how a person would segment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“color texture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orithm (Mirmehdi-Petro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s how human visual system might process an image by fove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main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ual tow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means clus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ion of initial core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scale probabilistic relax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pass information between levels of the t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32440" y="309888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ceptual t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 visual system response to colors is dependent on spati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ing done in opponent color space: Luminance, Red-Green, Blue-Yel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s are weighted sum of Gauss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-CIELAB (Zhang and Wandel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388280" y="228600"/>
            <a:ext cx="1222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-Means Cluste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91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ess initial set of means for each c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e each pixel with the cluster closest to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culate the means for the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ion stops when the changes in means is below a certain thres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29400" y="1519200"/>
            <a:ext cx="1828800" cy="183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012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ge Clus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91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very cluster, look at its neighboring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neighbor’s mean is close enough, merge the two clusters into a bigger clu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ion stops when we cannot find any more clusters to me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 insignificant clu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8223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012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e Clus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91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confidences for each pixel-cluster pai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e clusters formed from pixels that have confidences &gt;=80% for that c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1822320" cy="1828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012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2362320"/>
                <a:ext cx="54100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scale Probabilistic Relax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most probable cluster label given all availabl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Bayes’ Rule and make simplifying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L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ends only on leve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+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pixel’s measurement is independent of all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correct, but iteration hel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2209680"/>
                <a:ext cx="465120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rg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k</m:t>
                                </m:r>
                              </m:lim>
                            </m:limLow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∀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the cluster label for pixel i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4440" y="2606760"/>
                <a:ext cx="832464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|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ℜ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ℑ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∏"/>
                                    <m:supHide m:val="1"/>
                                  </m:naryPr>
                                  <m:sub>
                                    <m:r>
                                      <m:t xml:space="preserve">ℵ</m:t>
                                    </m:r>
                                  </m:sub>
                                  <m:sup/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(</m:t>
                                        </m:r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</m:sup>
                                        </m:sSubSup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scale Probabilistic Relax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43600" y="2286000"/>
            <a:ext cx="3049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3716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Probability assignments from previous level. At last level, this is calculated during core cluster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2578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Prior probability of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(calculated by relative siz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765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Probability of this pixel occurring in this cluster (calculated using 3D color histogra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943600" y="4724280"/>
            <a:ext cx="4572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809880" y="2286000"/>
            <a:ext cx="533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1:15:23Z</dcterms:created>
  <dc:creator>t</dc:creator>
  <dc:description/>
  <dc:language>en-US</dc:language>
  <cp:lastModifiedBy>Jeffrey Walters</cp:lastModifiedBy>
  <dcterms:modified xsi:type="dcterms:W3CDTF">2003-03-14T00:33:08Z</dcterms:modified>
  <cp:revision>52</cp:revision>
  <dc:subject/>
  <dc:title>Perceptual Color Image Seg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8354545</vt:r8>
  </property>
  <property fmtid="{D5CDD505-2E9C-101B-9397-08002B2CF9AE}" pid="3" name="_AuthorEmail">
    <vt:lpwstr>jwalt@stanford.edu</vt:lpwstr>
  </property>
  <property fmtid="{D5CDD505-2E9C-101B-9397-08002B2CF9AE}" pid="4" name="_AuthorEmailDisplayName">
    <vt:lpwstr>Jeffrey Walters</vt:lpwstr>
  </property>
  <property fmtid="{D5CDD505-2E9C-101B-9397-08002B2CF9AE}" pid="5" name="_EmailSubject">
    <vt:lpwstr/>
  </property>
</Properties>
</file>