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3D44-CA7C-4831-B3A2-8217C1338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76080" y="365076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4EA8-FC7C-450B-95AD-99E7A654E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64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38D9-C45A-4681-8920-B0317F8BE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6944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80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7608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6944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80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A7FFE-1A2A-422F-ACE2-E75343D15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76080" y="1182600"/>
            <a:ext cx="73738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7373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76080" y="1182600"/>
            <a:ext cx="737388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96E4F-A56C-44D3-A5CE-A0FD181AF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5464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76080" y="365076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5464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6944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562800" y="118260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7608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6944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562800" y="3650760"/>
            <a:ext cx="2374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7373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79568-ECF9-4B6E-AB08-1F97CB3CE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023F-92B8-479F-81EC-0E4FFDB26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B8A12-733B-4A81-9EAD-9C6C27CA8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6ED3-D1EF-48E9-9BFD-F443365D4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FC32-6B20-4523-B948-40482972E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640" y="365076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B134-D9A3-446A-96C0-BFDB08AB7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7608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640" y="1182600"/>
            <a:ext cx="3598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76080" y="3650760"/>
            <a:ext cx="737388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4748-E615-4280-9878-C4975DE7A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48200" y="6543360"/>
            <a:ext cx="42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enter for Signal and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Processing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70000" contrast="-70000"/>
          </a:blip>
          <a:srcRect l="0" t="0" r="82992" b="0"/>
          <a:stretch/>
        </p:blipFill>
        <p:spPr>
          <a:xfrm>
            <a:off x="0" y="0"/>
            <a:ext cx="1555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76080" y="1182600"/>
            <a:ext cx="7373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90480" indent="-233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31080" y="6386040"/>
            <a:ext cx="31096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i="1" lang="en-US" sz="1000" spc="-1" strike="noStrike">
                <a:solidFill>
                  <a:srgbClr val="ff9900"/>
                </a:solidFill>
                <a:latin typeface="Arial"/>
              </a:rPr>
              <a:t>Center for Signal and Image 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-76320" y="-1080"/>
            <a:ext cx="587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17CA-4C9E-4680-A40C-FE7BAF869FE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3680" y="6029280"/>
            <a:ext cx="1152360" cy="74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6440" y="1009800"/>
            <a:ext cx="73166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7238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600200" y="1980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620120" y="149400"/>
            <a:ext cx="129528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00200" y="1143000"/>
            <a:ext cx="7391520" cy="76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2138400" cy="716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5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0" y="2857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ducation and Research 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 the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nter for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al and Image Processing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19200" y="602100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://www.eedsp.gatech.ed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6080" y="376200"/>
            <a:ext cx="72435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P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92360" y="118260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r Ph.D. graduates have impact worldwide in  DSP education and resear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inguished facult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8 faculty (8 IEEE Fellow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-authors of over 25 books on D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 80 current Ph.D. stude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ted on third floo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 GCATT building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50 14th St., N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port from Georgia Research Alliance has provided outstanding well equipped lab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665680" y="3774960"/>
            <a:ext cx="2971800" cy="143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2459D-DCB5-4846-9726-C709723A26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IP Facul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440" y="1182600"/>
            <a:ext cx="3618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Yucel Altunbasa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vid V. Ander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homas P. Barn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rk A. C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aramarz Fek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onson H. Hay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oel R. Jack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red Jua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aron Lanterm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9800" y="1182600"/>
            <a:ext cx="4305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hin L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Vijay K. Madiset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rancois Malasse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James H. McClell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ussell M. Merserea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onald W. Schaf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ouglas B. Willia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. Tong Zho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t and Present Fund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33680" y="118224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ust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xas Instruments, Intel, BAE Systems, Hewlett-Packard, Mathworks, National Semiconductor, Analog Devices, Lucent, Harris, Hughes, Prentice-Ha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ederal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SF, U.S. Army, DARPA, ONR, NASA,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te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orgia Research Alli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ivate Foundatio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 and Mary Franklin Found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dustrial partner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xas Instruments Leadership University Program and Hewlett-Packard Lab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Research Areas - 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93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bust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utomatic speech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-quality low-bit-rate speech coding for voice over IP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ise and reverberation remov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sic analysis and synthe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ressed-domain processing of aud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-scale sinusoidal mode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phone array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os in wireless communication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ce-time coding and OFD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nsation for selective fading effe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utomated analysis of 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e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Research Areas - 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11426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rget tracking in 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ynthetic Aperture Radar imag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rget tracking/localization from acoustic sen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pid prototyp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ed measurement and modeling of behavior in biological syst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ntelligent Environment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torage and retrieval of speech and Audio-visual speech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ech-driven facial ani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 streaming with error concealment and MD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raphics streaming for the 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Research Areas - I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00200" y="1142640"/>
            <a:ext cx="73152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 indexing for a smart VC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per-resolution of vide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Buried mine det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lind separation of speech sign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age-based graphical rend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gmentation of cardiac MRI 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ensation of nonlinear power amp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SP for hand-held communication de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age interpolation for digital color camer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ite field wavelet transforms and applications to error control coding and cryptograph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 compr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ication of multimedia processing in edu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uate Cour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76080" y="1182240"/>
            <a:ext cx="73738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E-2025 Intro to Signal Proces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E-30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andom Signals (requi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ECE-4270 D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ppenheim and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chafer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the DSP Bib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E-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DSP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TLAB projects (sampling of grad cours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E-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DSP using AS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174600" indent="-174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CE-4006 Real-Time DSP Implem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gram DSP Boards in 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l-time audio, speech or video pro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89000" indent="-174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gorithms and architectures for DS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aduate Cour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76080" y="1163160"/>
            <a:ext cx="737388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0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vanced Digital Signal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tistical Digital Signal Processing and Modeling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Signal Modeling, Optimum Filters, and Power Spectrum Estimation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igital Processing of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peech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Signal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igital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Imag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Adaptiv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Filter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undamentals of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Radar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Signal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ethods of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Pattern Recognitio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with Application to Voice</a:t>
            </a:r>
            <a:br>
              <a:rPr sz="1600"/>
            </a:b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  special application section for automatic speech recognition and related signal processing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dwar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Systems Design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algorithms on programmable processors, multiprocessors, and ASIC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oftware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Systems Desig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7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9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patial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Array Process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6500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ourier Techniques and Signal Analys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7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ignal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etectio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Estim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58760" indent="-15876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CE-7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dvanced Signal Processing Theory</a:t>
            </a:r>
            <a:br>
              <a:rPr sz="1600"/>
            </a:b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6:23:20Z</dcterms:created>
  <dc:creator>Ron Schafer</dc:creator>
  <dc:description/>
  <dc:language>en-US</dc:language>
  <cp:lastModifiedBy>Jeff Davis</cp:lastModifiedBy>
  <cp:lastPrinted>2002-03-14T22:28:55Z</cp:lastPrinted>
  <dcterms:modified xsi:type="dcterms:W3CDTF">2004-03-31T19:42:09Z</dcterms:modified>
  <cp:revision>56</cp:revision>
  <dc:subject/>
  <dc:title>Education and Research   in the   Center for Signal and Image Processing </dc:title>
</cp:coreProperties>
</file>