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bin" ContentType="application/vnd.openxmlformats-officedocument.oleObject"/>
  <Override PartName="/ppt/media/image26.wmf" ContentType="image/x-wmf"/>
  <Override PartName="/ppt/media/image25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3.png" ContentType="image/png"/>
  <Override PartName="/ppt/media/image11.wmf" ContentType="image/x-wmf"/>
  <Override PartName="/ppt/media/image6.wmf" ContentType="image/x-wmf"/>
  <Override PartName="/ppt/media/image29.wmf" ContentType="image/x-wmf"/>
  <Override PartName="/ppt/media/image12.png" ContentType="image/png"/>
  <Override PartName="/ppt/media/image7.wmf" ContentType="image/x-wmf"/>
  <Override PartName="/ppt/media/image32.wmf" ContentType="image/x-wmf"/>
  <Override PartName="/ppt/media/image16.wmf" ContentType="image/x-wmf"/>
  <Override PartName="/ppt/media/image8.png" ContentType="image/png"/>
  <Override PartName="/ppt/media/image9.wmf" ContentType="image/x-wmf"/>
  <Override PartName="/ppt/media/image14.png" ContentType="image/png"/>
  <Override PartName="/ppt/media/image13.wmf" ContentType="image/x-wmf"/>
  <Override PartName="/ppt/media/image30.wmf" ContentType="image/x-wmf"/>
  <Override PartName="/ppt/media/image5.wmf" ContentType="image/x-wmf"/>
  <Override PartName="/ppt/media/image10.png" ContentType="image/png"/>
  <Override PartName="/ppt/media/image28.wmf" ContentType="image/x-wmf"/>
  <Override PartName="/ppt/media/image33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2.png" ContentType="image/png"/>
  <Override PartName="/ppt/media/image31.wmf" ContentType="image/x-wmf"/>
  <Override PartName="/ppt/media/image1.wmf" ContentType="image/x-wmf"/>
  <Override PartName="/ppt/media/image24.wmf" ContentType="image/x-wmf"/>
  <Override PartName="/ppt/media/image15.png" ContentType="image/png"/>
  <Override PartName="/ppt/media/image17.wmf" ContentType="image/x-wmf"/>
  <Override PartName="/ppt/media/image20.wmf" ContentType="image/x-wmf"/>
  <Override PartName="/ppt/media/image18.png" ContentType="image/png"/>
  <Override PartName="/ppt/media/image2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1A41B-C08A-4FEE-A949-79522BE5D8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-200160" y="382680"/>
            <a:ext cx="7266240" cy="544968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828720" y="6062400"/>
            <a:ext cx="5268960" cy="24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photoshop to make something gray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33E3-6EE9-455A-AA1D-345B49AE9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B2E5-34E2-4142-8FD0-33DBB0FB5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1116-48CD-4716-8198-C925A1069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C628-8AEA-41FA-911A-E698DAA57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8AFF-1D65-4FCC-B3D6-51D8687C2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5D19-12CA-4E68-AD16-27C717831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29E6-8691-496F-A0D0-EAE464833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237A-2C54-4556-86D6-A599E1C3E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77CD-ADE1-4D73-A0AA-F53C03687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D0A0-C54F-43F4-AA65-92D16950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4866-9D14-4F77-9B8A-24812DDB5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4452-1EC6-4DB9-8141-94E8CA267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682BB-2B7B-4546-9DD0-369A79F0EB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grams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P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we unpack our RGB int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RGB=0x7FDEAD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a = rgb &amp;0xFF000000&gt;&gt;24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r = rgb &amp;0x00FF0000 &gt;&gt;16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g = rgb &amp;0x0000FF00 &gt;&gt; 8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b = rgb &amp;0x000000FF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r1 = getRed(r,g,b);int g1=getGreen(r,g,b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b1 = getBlue(r,g,b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 0xFF000000 | (r1 &lt;&lt; 16) | (g1&lt;&lt;8) | b1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apter Patt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apter Pattern take one interface and maps to a new interf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interface HppFilterInterface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short getR(int r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short getG(int g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short getB(int b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kinds of methods for altering an im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irect method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 indirect method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irect methods employ a mapping function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pping functions are applied to the color pla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kinds of methods for altering an im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e do the direct methods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vertFil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class InvertFil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s HppFilterInterfac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short getR(int r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invert(r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short getG(int g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invert(g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short getB(int b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invert(b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ve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vate short invert(int v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(v &lt; 0) return 0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(v &gt; 255) return 255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 (short) (255 - v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86000" y="3505320"/>
            <a:ext cx="3429000" cy="23619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M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the total number of pixels of a particular 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ide by the total number of pix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099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286000" y="3581280"/>
          <a:ext cx="3395520" cy="2309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3581280"/>
                    <a:ext cx="3395520" cy="23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905120" y="3352680"/>
            <a:ext cx="4190760" cy="2133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les of Prob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 of all probs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MF is sum of all values up to a poi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905120" y="3429000"/>
          <a:ext cx="4186080" cy="2019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429000"/>
                    <a:ext cx="4186080" cy="20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Prob…Cont vs. Discre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MF – discrete but PDF are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MF – discrete by CDF are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Toss a coin – discr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Temp. Time, 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MF uses a discrete summation (for-loo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DF uses an integ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rete means quant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gram Comput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89548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tArray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256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=0; i&lt;width; i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=0; j &lt; height; j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tArray[plane[i][j] &amp; 0xFF]++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 what happens if you have 24 bit color imag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homogeneou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mogeneous point process treats all pixels the sa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'=f(p); // homogeneous point processing does not care about pixel loc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omorphic pixel mapp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rmalization of PM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2057400"/>
            <a:ext cx="914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ax = 0.0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=0; i&lt;256; i++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histArray[i] &gt; ma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 = histArray[i]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 Normal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=0; i&lt;256; i++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tArray[i] = (histArray[i] / max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Histogram of the Im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81400" y="26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281400" y="2690640"/>
            <a:ext cx="5024520" cy="28735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75300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676520" y="2590920"/>
            <a:ext cx="1638360" cy="164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Hist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251460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u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istogra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osableFram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uble[] getPMF(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uble[] getCMF(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intPMF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how(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istogram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lane[][], String tit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int(Graphics 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962520" y="2133720"/>
            <a:ext cx="3809880" cy="29718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Map and Sample Im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912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809880" y="1981080"/>
            <a:ext cx="4105440" cy="30355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143000" y="2362320"/>
            <a:ext cx="2666880" cy="265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UT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ory, lut is eas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Color = f(inputCol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(x) is an l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happens if x ranges from 0 to 2**24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gating an Im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5296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4519440" cy="44384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767040" y="26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952880" y="1828800"/>
            <a:ext cx="3700440" cy="37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26668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short invert(int v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(v &lt; 0) return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(v &gt; 255) return 255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(short) (255 - v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ppFilter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short getR(int r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short getG(int g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short getB(int b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reshold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anitze an im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n image with 256 gr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an image with only 2 gr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 I know which pixels are black and which are whi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(v &lt; thresh) v = 0, else v = 255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kinds of methods for altering an im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irect method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 indirect method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irect methods employ a mapping function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pping functions are applied to the color pla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ogeneous Point Proces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 point is treated the s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put size of image is same as output 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application of statistic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put image shape is the same as the output image shap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irect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direct method use statistical 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Kinds of Indirect Method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aptive and nonadap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638360" y="1739880"/>
            <a:ext cx="5943600" cy="42512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Point Proces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uting Aver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78612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209680" y="2057400"/>
          <a:ext cx="3452760" cy="290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057400"/>
                    <a:ext cx="3452760" cy="290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01640" y="1557360"/>
            <a:ext cx="6340680" cy="50832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age Enhanc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900080" y="1565280"/>
            <a:ext cx="6302520" cy="507528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ast Strec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wer law and image proces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0996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981080" y="1981080"/>
          <a:ext cx="4800600" cy="155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981080"/>
                    <a:ext cx="4800600" cy="15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5 exponent=darke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47184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471840" y="2281320"/>
            <a:ext cx="2200320" cy="229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293920" y="1887480"/>
            <a:ext cx="5799240" cy="41227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wer-law transfor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838080" y="1273320"/>
            <a:ext cx="6256440" cy="42894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mma Corr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shed out images can resul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648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666880" y="2133720"/>
            <a:ext cx="319104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11360" y="914400"/>
            <a:ext cx="8051760" cy="560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peration typically defines a new imag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terms of an existing imag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0" y="0"/>
          <a:ext cx="1219320" cy="14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219320" cy="14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2666880" y="2514600"/>
            <a:ext cx="3888000" cy="4665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1600200" y="4387680"/>
            <a:ext cx="5761080" cy="48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nging Brightness and Contra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9580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523880" y="2057400"/>
          <a:ext cx="4491000" cy="13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057400"/>
                    <a:ext cx="449100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410040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905120" y="3809880"/>
          <a:ext cx="3900240" cy="157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3809880"/>
                    <a:ext cx="3900240" cy="15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eq and hist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967120" y="23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6177240" cy="41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ightening and im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97180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676520" y="2514600"/>
            <a:ext cx="5257800" cy="26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uting parameters automatical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03380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2133720" y="2133720"/>
          <a:ext cx="3662280" cy="64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133720"/>
                    <a:ext cx="366228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290052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609480" y="3124080"/>
          <a:ext cx="7844040" cy="151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3124080"/>
                    <a:ext cx="7844040" cy="15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rkening Im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95740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676520" y="2057400"/>
            <a:ext cx="5271840" cy="259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rkening and the Hist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43280" y="26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286000" y="1905120"/>
            <a:ext cx="3457440" cy="16095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2286000" y="3505320"/>
            <a:ext cx="3457440" cy="157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ing the power xfo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2286000"/>
            <a:ext cx="9144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Image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=0; x &lt; width; x++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=0; y &lt; height; y++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[x][y] =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55 * Math.pow((r[x][y]/255.0),p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[x][y] =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55 * Math.pow((g[x][y]/255.0),p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[x][y] =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55 * Math.pow((b[x][y]/255.0),p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2Imag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AH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367000" y="27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6777000" cy="19764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96712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1828800" y="3581280"/>
            <a:ext cx="5038560" cy="25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MF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12912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676520" y="1871640"/>
            <a:ext cx="4338360" cy="23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aptive Equal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05280" y="18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057400" y="1600200"/>
            <a:ext cx="4505400" cy="45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need a function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unction has a single possible output value for any unique input val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elation can have two outputs for a given inp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xample x**2+y**2=r**2 is a rel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=sqrt(x*x+r*r); //take only the + part and you have a fun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gram an AUH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933640" y="127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666880" y="1905120"/>
            <a:ext cx="3276720" cy="430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UT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251460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u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ransformTab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ransformTable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z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hort[] getLut(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tLut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ut[]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int(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pping a pixel has many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ightening an im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ing the contr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oring the im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gram eq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rting to a new color sp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we implements HP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s for HPP base on an INTERF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tandardization of the filter into interface allows for polymorphis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int Proces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implest kind of range transformations are these independent of position x,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 = t(f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we form such an interfac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.awt has RGBImageFilter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requires that you impl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int filterRGB(int x, int y, int rgb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Unpack the rgb 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Do the HP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repack the int and return the val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5T01:14:58Z</dcterms:created>
  <dc:creator>lyon</dc:creator>
  <dc:description/>
  <dc:language>en-US</dc:language>
  <cp:lastModifiedBy>douglas lyon</cp:lastModifiedBy>
  <dcterms:modified xsi:type="dcterms:W3CDTF">2005-09-26T19:57:17Z</dcterms:modified>
  <cp:revision>13</cp:revision>
  <dc:subject/>
  <dc:title>Exceptions</dc:title>
</cp:coreProperties>
</file>