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1.jpeg" ContentType="image/jpeg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whoosh.wav" ContentType="audio/x-wav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32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6240" y="684000"/>
            <a:ext cx="4565520" cy="34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3656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74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742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8DC4-15DF-4A33-BFB6-AB981525E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-195120" y="382680"/>
            <a:ext cx="7256160" cy="5441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28720" y="6054840"/>
            <a:ext cx="5268960" cy="24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opposed to [0..25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-195120" y="382680"/>
            <a:ext cx="7256160" cy="5441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828720" y="6054840"/>
            <a:ext cx="5268960" cy="24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nder with scanalyze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9F16-F415-4EC8-8EC6-8998A661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38B8-DCEA-45E8-B2AC-F82DAD4D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943-39BA-4CF8-96AD-ECE4D6BB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C69-1487-4372-B499-386389B7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076-4393-4BE9-BF34-910A87CD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7327-C823-44ED-9065-6FDE14DD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3C37-5BBD-45F2-8DD0-605E468D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23A-E5A5-46CB-A294-D53482FA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F6D-5EE3-46CB-9475-22BCE431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E0E8-FCD2-4E6B-B808-9DBF1C47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A1C-04B9-4E8B-8E95-1693D04F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F56-0E00-4EC0-85CB-11E8339F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3072-357A-47CB-9C5F-E97217DA6F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6749-248A-493B-9DF3-CAF4C0E52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audio" Target="../media/whoosh.wav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whoosh.wav"/><Relationship Id="rId24" Type="http://schemas.openxmlformats.org/officeDocument/2006/relationships/audio" Target="../media/whoosh.wav"/><Relationship Id="rId25" Type="http://schemas.openxmlformats.org/officeDocument/2006/relationships/audio" Target="../media/whoosh.wav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whoosh.wav"/><Relationship Id="rId30" Type="http://schemas.openxmlformats.org/officeDocument/2006/relationships/audio" Target="../media/whoosh.wav"/><Relationship Id="rId31" Type="http://schemas.openxmlformats.org/officeDocument/2006/relationships/audio" Target="../media/whoosh.wav"/><Relationship Id="rId32" Type="http://schemas.openxmlformats.org/officeDocument/2006/relationships/audio" Target="../media/whoosh.wav"/><Relationship Id="rId33" Type="http://schemas.openxmlformats.org/officeDocument/2006/relationships/audio" Target="../media/whoosh.wav"/><Relationship Id="rId34" Type="http://schemas.openxmlformats.org/officeDocument/2006/relationships/audio" Target="../media/whoosh.wav"/><Relationship Id="rId3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Processing in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A91-0C56-49CD-A47C-D9B8430C254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6BA05-E021-4A2C-8E33-56393B3AAA0C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97080" y="990720"/>
            <a:ext cx="6514920" cy="45417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12960" y="5754600"/>
            <a:ext cx="5699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x,y) = reflectance(x,y) * illumination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lectance in [0,1], illumination in [0,in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67D-0212-4E02-B3B7-8A138567C9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E1248-36E6-4AD7-A158-019BB09268AB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81080" y="1054080"/>
            <a:ext cx="5035680" cy="5194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and Quant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60F-8E29-48FC-9F03-2EB0CD4FC35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BD287-0218-40B5-BBA6-D92B326B3BEC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73160" y="1657440"/>
            <a:ext cx="5197680" cy="37335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and Quant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AEF-D1AA-4B87-B667-09D78EF0BF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B2592-80FD-4485-BF1F-6A4FA203DBE7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ima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6080" y="1828800"/>
            <a:ext cx="8737560" cy="56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hink of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ag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function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rom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, 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give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position (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, 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stically, we expect the image only to be defined over a rectangle, with a finite ra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0,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136-BD76-46CF-942D-8438F59579D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A3EAC-62F8-4A28-B79B-58433636A0F9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lor image is just three functions pasted together.  We can write this as a “vector-valued” function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895480" y="3429000"/>
          <a:ext cx="3568680" cy="20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29000"/>
                    <a:ext cx="356868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38CB-1E3B-4C5C-9C4A-C2D0BB74DE8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2DCC7-B4DA-4932-93DD-4967AD4222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s as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15920" y="1200240"/>
            <a:ext cx="7213680" cy="520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E27-2A92-404E-99B7-FC1404BE7A8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D3243-5AFC-4699-918D-6D366C28CA0A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represent a pix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present l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862-BD50-477B-B543-E21E384E996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6337D-60D1-4D78-963F-33907B79C197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l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lectromagnetic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ble light is typically visible to the human visual system (ey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8EFF-FB05-4905-8AC1-21BB37ECBD8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924CE-2012-4005-87E5-118ED0698C88}" type="datetime1">
              <a:rPr lang="en-US"/>
              <a:t>07/28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represent a pixe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at the pixel is for hum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know the dynamic range of the ey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art in a million is needed for a pixel that displays on a monitor for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FB8B-1CF4-4FF5-90BF-F6C4F2E47B8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CDE66-169F-4D32-8A61-6AF159372965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90052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04920" y="2438280"/>
          <a:ext cx="814860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81486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990720" y="213372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we use 24 bits per pixel, 8 bits per col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ECBA-4C92-4D6C-BA87-950C3373801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E9738-5DC5-449B-8987-3B661F357ACE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DF6-87DE-405A-A563-66D2DCCAE1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5E9B8-7C90-4357-A475-76636BF467D5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13360" y="4300560"/>
            <a:ext cx="340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D KAF-3200E from Koda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184 x 1472 pixel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xel size 6.8 micron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95440" y="1938240"/>
            <a:ext cx="3276360" cy="2333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1640" y="658800"/>
            <a:ext cx="66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mage Sensor:Charge-Coupled Device (CC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41000" y="1949400"/>
            <a:ext cx="5005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convert a continu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into a digital 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s an array of light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s photon into electric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mulated in each sensor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B82-5622-444C-A267-A42435037D14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03979-A520-4D56-A01F-6DF76170BEB3}" type="datetime1">
              <a:rPr lang="en-US"/>
              <a:t>07/28/26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plays are designed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visual system (ey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ing with LIGHT (additive synthesis)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not painting with MUD! (subtractive synthesis) pr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4A6-54B8-4D69-AA8B-9D7797BAB98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D4D4F-C23B-4374-91F6-8F0FAA9EFBCA}" type="datetime1">
              <a:rPr lang="en-US"/>
              <a:t>07/28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18040" y="658800"/>
            <a:ext cx="25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mage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" y="1488960"/>
            <a:ext cx="740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mage sampl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discretize an image in the spatial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patial resolution / image re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el size or number of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05240" y="4265640"/>
            <a:ext cx="533520" cy="341280"/>
          </a:xfrm>
          <a:custGeom>
            <a:avLst/>
            <a:gdLst>
              <a:gd name="textAreaLeft" fmla="*/ 83160 w 533520"/>
              <a:gd name="textAreaRight" fmla="*/ 466920 w 533520"/>
              <a:gd name="textAreaTop" fmla="*/ 85320 h 341280"/>
              <a:gd name="textAreaBottom" fmla="*/ 255960 h 34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334120" y="3427560"/>
            <a:ext cx="2146320" cy="2133360"/>
            <a:chOff x="5334120" y="3427560"/>
            <a:chExt cx="2146320" cy="213336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rcRect l="15371" t="6467" r="58267" b="67171"/>
            <a:stretch/>
          </p:blipFill>
          <p:spPr>
            <a:xfrm>
              <a:off x="5334120" y="3428640"/>
              <a:ext cx="2130480" cy="2131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23" name=""/>
            <p:cNvSpPr/>
            <p:nvPr/>
          </p:nvSpPr>
          <p:spPr>
            <a:xfrm>
              <a:off x="5651640" y="342756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56200" y="342756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61120" y="342756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66040" y="342756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70600" y="342756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75520" y="342756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46720" y="37321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46720" y="40366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46720" y="43416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46720" y="46465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46720" y="49510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46720" y="52560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2"/>
          <a:srcRect l="15371" t="6467" r="58267" b="67171"/>
          <a:stretch/>
        </p:blipFill>
        <p:spPr>
          <a:xfrm>
            <a:off x="1676520" y="3429000"/>
            <a:ext cx="2130480" cy="213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C2C0-6D00-478A-B403-97AA3E9DACF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BE39C-0872-4456-A36B-E026BD697C91}" type="datetime1">
              <a:rPr lang="en-US"/>
              <a:t>07/28/26</a:t>
            </a:fld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930920" y="1782720"/>
            <a:ext cx="2674800" cy="1828800"/>
            <a:chOff x="4930920" y="1782720"/>
            <a:chExt cx="2674800" cy="1828800"/>
          </a:xfrm>
        </p:grpSpPr>
        <p:grpSp>
          <p:nvGrpSpPr>
            <p:cNvPr id="137" name=""/>
            <p:cNvGrpSpPr/>
            <p:nvPr/>
          </p:nvGrpSpPr>
          <p:grpSpPr>
            <a:xfrm>
              <a:off x="4938840" y="1782720"/>
              <a:ext cx="2666880" cy="1828800"/>
              <a:chOff x="4938840" y="1782720"/>
              <a:chExt cx="2666880" cy="1828800"/>
            </a:xfrm>
          </p:grpSpPr>
          <p:sp>
            <p:nvSpPr>
              <p:cNvPr id="138" name=""/>
              <p:cNvSpPr/>
              <p:nvPr/>
            </p:nvSpPr>
            <p:spPr>
              <a:xfrm>
                <a:off x="4938840" y="1782720"/>
                <a:ext cx="380880" cy="18288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00600" y="1782720"/>
                <a:ext cx="381240" cy="18288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462720" y="1782720"/>
                <a:ext cx="380880" cy="18288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19720" y="1782720"/>
                <a:ext cx="380880" cy="1828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081840" y="1782720"/>
                <a:ext cx="380880" cy="1828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843600" y="1782720"/>
                <a:ext cx="381240" cy="1828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224840" y="1782720"/>
                <a:ext cx="380880" cy="18288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4930920" y="1782720"/>
              <a:ext cx="266688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5160" y="658800"/>
            <a:ext cx="55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How to choose the spatial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46320" y="1782720"/>
            <a:ext cx="2666880" cy="1828800"/>
            <a:chOff x="1246320" y="1782720"/>
            <a:chExt cx="2666880" cy="1828800"/>
          </a:xfrm>
        </p:grpSpPr>
        <p:grpSp>
          <p:nvGrpSpPr>
            <p:cNvPr id="148" name=""/>
            <p:cNvGrpSpPr/>
            <p:nvPr/>
          </p:nvGrpSpPr>
          <p:grpSpPr>
            <a:xfrm>
              <a:off x="1246320" y="1782720"/>
              <a:ext cx="2666880" cy="1828800"/>
              <a:chOff x="1246320" y="1782720"/>
              <a:chExt cx="2666880" cy="1828800"/>
            </a:xfrm>
          </p:grpSpPr>
          <p:sp>
            <p:nvSpPr>
              <p:cNvPr id="149" name=""/>
              <p:cNvSpPr/>
              <p:nvPr/>
            </p:nvSpPr>
            <p:spPr>
              <a:xfrm>
                <a:off x="1246320" y="1782720"/>
                <a:ext cx="380880" cy="18288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008080" y="1782720"/>
                <a:ext cx="381240" cy="18288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770200" y="1782720"/>
                <a:ext cx="380880" cy="18288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627200" y="1782720"/>
                <a:ext cx="380880" cy="1828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89320" y="1782720"/>
                <a:ext cx="380880" cy="1828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151080" y="1782720"/>
                <a:ext cx="381240" cy="1828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532320" y="1782720"/>
                <a:ext cx="380880" cy="18288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1246320" y="1782720"/>
              <a:ext cx="266688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65120" y="1494000"/>
            <a:ext cx="2819520" cy="2133360"/>
            <a:chOff x="1365120" y="1494000"/>
            <a:chExt cx="2819520" cy="2133360"/>
          </a:xfrm>
        </p:grpSpPr>
        <p:sp>
          <p:nvSpPr>
            <p:cNvPr id="158" name=""/>
            <p:cNvSpPr/>
            <p:nvPr/>
          </p:nvSpPr>
          <p:spPr>
            <a:xfrm>
              <a:off x="1670040" y="1494000"/>
              <a:ext cx="0" cy="2133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65120" y="1722240"/>
              <a:ext cx="28195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08120" y="1494000"/>
              <a:ext cx="0" cy="2133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46560" y="1494000"/>
              <a:ext cx="0" cy="21333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65120" y="2560320"/>
              <a:ext cx="28195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65120" y="3398760"/>
              <a:ext cx="28195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936800" y="1989000"/>
              <a:ext cx="1142640" cy="1142280"/>
              <a:chOff x="1936800" y="1989000"/>
              <a:chExt cx="1142640" cy="114228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1936800" y="1989000"/>
                <a:ext cx="304560" cy="304200"/>
                <a:chOff x="1936800" y="1989000"/>
                <a:chExt cx="304560" cy="3042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089080" y="1989000"/>
                  <a:ext cx="0" cy="30420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936800" y="2140920"/>
                  <a:ext cx="304560" cy="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774880" y="1989000"/>
                <a:ext cx="304560" cy="304200"/>
                <a:chOff x="2774880" y="1989000"/>
                <a:chExt cx="304560" cy="3042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927160" y="1989000"/>
                  <a:ext cx="0" cy="30420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774880" y="2140920"/>
                  <a:ext cx="304560" cy="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936800" y="2826720"/>
                <a:ext cx="304560" cy="304560"/>
                <a:chOff x="1936800" y="2826720"/>
                <a:chExt cx="304560" cy="3045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089080" y="2826720"/>
                  <a:ext cx="0" cy="3045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936800" y="2979000"/>
                  <a:ext cx="304560" cy="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774880" y="2826720"/>
                <a:ext cx="304560" cy="304560"/>
                <a:chOff x="2774880" y="2826720"/>
                <a:chExt cx="304560" cy="3045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927160" y="2826720"/>
                  <a:ext cx="0" cy="30456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774880" y="2979000"/>
                  <a:ext cx="304560" cy="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7" name=""/>
          <p:cNvGrpSpPr/>
          <p:nvPr/>
        </p:nvGrpSpPr>
        <p:grpSpPr>
          <a:xfrm>
            <a:off x="4705200" y="1700280"/>
            <a:ext cx="2819520" cy="2133360"/>
            <a:chOff x="4705200" y="1700280"/>
            <a:chExt cx="2819520" cy="2133360"/>
          </a:xfrm>
        </p:grpSpPr>
        <p:sp>
          <p:nvSpPr>
            <p:cNvPr id="178" name=""/>
            <p:cNvSpPr/>
            <p:nvPr/>
          </p:nvSpPr>
          <p:spPr>
            <a:xfrm>
              <a:off x="5010120" y="1700280"/>
              <a:ext cx="0" cy="2133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05200" y="1928520"/>
              <a:ext cx="2819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48200" y="1700280"/>
              <a:ext cx="0" cy="2133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86640" y="1700280"/>
              <a:ext cx="0" cy="2133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05200" y="2766600"/>
              <a:ext cx="2819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05200" y="3605040"/>
              <a:ext cx="2819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276880" y="2195280"/>
              <a:ext cx="1142640" cy="1142280"/>
              <a:chOff x="5276880" y="2195280"/>
              <a:chExt cx="1142640" cy="114228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5276880" y="2195280"/>
                <a:ext cx="304560" cy="304200"/>
                <a:chOff x="5276880" y="2195280"/>
                <a:chExt cx="304560" cy="3042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429160" y="2195280"/>
                  <a:ext cx="0" cy="3042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276880" y="2347200"/>
                  <a:ext cx="3045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6114960" y="2195280"/>
                <a:ext cx="304560" cy="304200"/>
                <a:chOff x="6114960" y="2195280"/>
                <a:chExt cx="304560" cy="304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267240" y="2195280"/>
                  <a:ext cx="0" cy="30420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114960" y="2347200"/>
                  <a:ext cx="3045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5276880" y="3033000"/>
                <a:ext cx="304560" cy="304560"/>
                <a:chOff x="5276880" y="3033000"/>
                <a:chExt cx="304560" cy="3045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429160" y="3033000"/>
                  <a:ext cx="0" cy="3045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276880" y="3185280"/>
                  <a:ext cx="3045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6114960" y="3033000"/>
                <a:ext cx="304560" cy="304560"/>
                <a:chOff x="6114960" y="3033000"/>
                <a:chExt cx="304560" cy="3045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6267240" y="3033000"/>
                  <a:ext cx="0" cy="3045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114960" y="3185280"/>
                  <a:ext cx="30456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7" name=""/>
          <p:cNvSpPr/>
          <p:nvPr/>
        </p:nvSpPr>
        <p:spPr>
          <a:xfrm>
            <a:off x="1882800" y="5041800"/>
            <a:ext cx="842760" cy="843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25560" y="5041800"/>
            <a:ext cx="843120" cy="843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84240" y="4208400"/>
            <a:ext cx="843120" cy="843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25560" y="4191120"/>
            <a:ext cx="843120" cy="842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581120" y="3968640"/>
            <a:ext cx="2819520" cy="2133720"/>
            <a:chOff x="1581120" y="3968640"/>
            <a:chExt cx="2819520" cy="2133720"/>
          </a:xfrm>
        </p:grpSpPr>
        <p:sp>
          <p:nvSpPr>
            <p:cNvPr id="202" name=""/>
            <p:cNvSpPr/>
            <p:nvPr/>
          </p:nvSpPr>
          <p:spPr>
            <a:xfrm>
              <a:off x="1886040" y="396864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81120" y="419724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24120" y="396864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62560" y="396864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581120" y="503568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81120" y="587376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715000" y="1143000"/>
            <a:ext cx="2753640" cy="398880"/>
            <a:chOff x="5715000" y="1143000"/>
            <a:chExt cx="2753640" cy="398880"/>
          </a:xfrm>
        </p:grpSpPr>
        <p:sp>
          <p:nvSpPr>
            <p:cNvPr id="209" name=""/>
            <p:cNvSpPr/>
            <p:nvPr/>
          </p:nvSpPr>
          <p:spPr>
            <a:xfrm>
              <a:off x="6120720" y="1143000"/>
              <a:ext cx="23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Sampling lo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5715000" y="1187280"/>
              <a:ext cx="304560" cy="304200"/>
              <a:chOff x="5715000" y="1187280"/>
              <a:chExt cx="304560" cy="304200"/>
            </a:xfrm>
          </p:grpSpPr>
          <p:sp>
            <p:nvSpPr>
              <p:cNvPr id="211" name=""/>
              <p:cNvSpPr/>
              <p:nvPr/>
            </p:nvSpPr>
            <p:spPr>
              <a:xfrm>
                <a:off x="5867280" y="1187280"/>
                <a:ext cx="0" cy="30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15000" y="1339200"/>
                <a:ext cx="304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5334120" y="5033880"/>
            <a:ext cx="842760" cy="843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6880" y="5033880"/>
            <a:ext cx="843120" cy="843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560" y="4200480"/>
            <a:ext cx="843120" cy="843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6880" y="4202280"/>
            <a:ext cx="843120" cy="842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027760" y="3968640"/>
            <a:ext cx="2819160" cy="2133720"/>
            <a:chOff x="5027760" y="3968640"/>
            <a:chExt cx="2819160" cy="2133720"/>
          </a:xfrm>
        </p:grpSpPr>
        <p:sp>
          <p:nvSpPr>
            <p:cNvPr id="218" name=""/>
            <p:cNvSpPr/>
            <p:nvPr/>
          </p:nvSpPr>
          <p:spPr>
            <a:xfrm>
              <a:off x="5332320" y="396864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27760" y="419724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70400" y="396864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08840" y="396864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27760" y="503568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27760" y="587376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 rot="16200000">
            <a:off x="160560" y="249876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298080" y="471888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d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1971000" y="2268000"/>
            <a:ext cx="1238040" cy="336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02" y="4685"/>
                </a:moveTo>
                <a:arcTo wR="10800" hR="10800" stAng="-2069255" swAng="5807333"/>
                <a:lnTo>
                  <a:pt x="10800" y="10800"/>
                </a:lnTo>
                <a:close/>
              </a:path>
              <a:path fill="none" w="21600" h="21600">
                <a:moveTo>
                  <a:pt x="19702" y="4685"/>
                </a:moveTo>
                <a:arcTo wR="10800" hR="10800" stAng="-2069255" swAng="5807333"/>
              </a:path>
            </a:pathLst>
          </a:custGeom>
          <a:noFill/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813760" y="2241000"/>
            <a:ext cx="1238040" cy="336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02" y="4685"/>
                </a:moveTo>
                <a:arcTo wR="10800" hR="10800" stAng="-2069255" swAng="5807333"/>
                <a:lnTo>
                  <a:pt x="10800" y="10800"/>
                </a:lnTo>
                <a:close/>
              </a:path>
              <a:path fill="none" w="21600" h="21600">
                <a:moveTo>
                  <a:pt x="19702" y="4685"/>
                </a:moveTo>
                <a:arcTo wR="10800" hR="10800" stAng="-2069255" swAng="5807333"/>
              </a:path>
            </a:pathLst>
          </a:custGeom>
          <a:noFill/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rot="10800000">
            <a:off x="1193040" y="1954080"/>
            <a:ext cx="1238040" cy="336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02" y="4685"/>
                </a:moveTo>
                <a:arcTo wR="10800" hR="10800" stAng="-2069255" swAng="5807333"/>
                <a:lnTo>
                  <a:pt x="10800" y="10800"/>
                </a:lnTo>
                <a:close/>
              </a:path>
              <a:path fill="none" w="21600" h="21600">
                <a:moveTo>
                  <a:pt x="19702" y="4685"/>
                </a:moveTo>
                <a:arcTo wR="10800" hR="10800" stAng="-2069255" swAng="5807333"/>
              </a:path>
            </a:pathLst>
          </a:custGeom>
          <a:noFill/>
          <a:ln w="255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rot="10800000">
            <a:off x="2017440" y="1927800"/>
            <a:ext cx="1237320" cy="336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02" y="4685"/>
                </a:moveTo>
                <a:arcTo wR="10800" hR="10800" stAng="-2069255" swAng="5807333"/>
                <a:lnTo>
                  <a:pt x="10800" y="10800"/>
                </a:lnTo>
                <a:close/>
              </a:path>
              <a:path fill="none" w="21600" h="21600">
                <a:moveTo>
                  <a:pt x="19702" y="4685"/>
                </a:moveTo>
                <a:arcTo wR="10800" hR="10800" stAng="-2069255" swAng="5807333"/>
              </a:path>
            </a:pathLst>
          </a:custGeom>
          <a:noFill/>
          <a:ln w="255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30160" y="6172200"/>
            <a:ext cx="56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sampling, we lost some image detail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250600" y="2538360"/>
            <a:ext cx="1704600" cy="30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02" y="4685"/>
                </a:moveTo>
                <a:arcTo wR="10800" hR="10800" stAng="-2069255" swAng="5807333"/>
                <a:lnTo>
                  <a:pt x="10800" y="10800"/>
                </a:lnTo>
                <a:close/>
              </a:path>
              <a:path fill="none" w="21600" h="21600">
                <a:moveTo>
                  <a:pt x="19702" y="4685"/>
                </a:moveTo>
                <a:arcTo wR="10800" hR="10800" stAng="-2069255" swAng="5807333"/>
              </a:path>
            </a:pathLst>
          </a:custGeom>
          <a:noFill/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111000" y="2538360"/>
            <a:ext cx="1704600" cy="30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02" y="4685"/>
                </a:moveTo>
                <a:arcTo wR="10800" hR="10800" stAng="-2069255" swAng="5807333"/>
                <a:lnTo>
                  <a:pt x="10800" y="10800"/>
                </a:lnTo>
                <a:close/>
              </a:path>
              <a:path fill="none" w="21600" h="21600">
                <a:moveTo>
                  <a:pt x="19702" y="4685"/>
                </a:moveTo>
                <a:arcTo wR="10800" hR="10800" stAng="-2069255" swAng="5807333"/>
              </a:path>
            </a:pathLst>
          </a:custGeom>
          <a:noFill/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202280" y="2203200"/>
            <a:ext cx="1704600" cy="30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02" y="4685"/>
                </a:moveTo>
                <a:arcTo wR="10800" hR="10800" stAng="-2069255" swAng="5807333"/>
                <a:lnTo>
                  <a:pt x="10800" y="10800"/>
                </a:lnTo>
                <a:close/>
              </a:path>
              <a:path fill="none" w="21600" h="21600">
                <a:moveTo>
                  <a:pt x="19702" y="4685"/>
                </a:moveTo>
                <a:arcTo wR="10800" hR="10800" stAng="-2069255" swAng="5807333"/>
              </a:path>
            </a:pathLst>
          </a:custGeom>
          <a:noFill/>
          <a:ln w="255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025960" y="2193840"/>
            <a:ext cx="1704600" cy="30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702" y="4685"/>
                </a:moveTo>
                <a:arcTo wR="10800" hR="10800" stAng="-2069255" swAng="5807333"/>
                <a:lnTo>
                  <a:pt x="10800" y="10800"/>
                </a:lnTo>
                <a:close/>
              </a:path>
              <a:path fill="none" w="21600" h="21600">
                <a:moveTo>
                  <a:pt x="19702" y="4685"/>
                </a:moveTo>
                <a:arcTo wR="10800" hR="10800" stAng="-2069255" swAng="5807333"/>
              </a:path>
            </a:pathLst>
          </a:custGeom>
          <a:noFill/>
          <a:ln w="255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 rot="5400000">
            <a:off x="2849400" y="1111680"/>
            <a:ext cx="168120" cy="838080"/>
          </a:xfrm>
          <a:custGeom>
            <a:avLst/>
            <a:gdLst>
              <a:gd name="textAreaLeft" fmla="*/ 107640 w 168120"/>
              <a:gd name="textAreaRight" fmla="*/ 168480 w 1681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54520" y="1143000"/>
            <a:ext cx="19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E23-540F-4AB1-9D32-5A342B960850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1F973-196B-4276-8DD3-31B322709E0D}" type="datetime1">
              <a:rPr lang="en-US"/>
              <a:t>07/28/26</a:t>
            </a:fld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14440" y="658800"/>
            <a:ext cx="76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How to choose the spatial resolution : Nyquis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447920" y="1447920"/>
            <a:ext cx="2666880" cy="1828800"/>
            <a:chOff x="1447920" y="1447920"/>
            <a:chExt cx="2666880" cy="1828800"/>
          </a:xfrm>
        </p:grpSpPr>
        <p:grpSp>
          <p:nvGrpSpPr>
            <p:cNvPr id="239" name=""/>
            <p:cNvGrpSpPr/>
            <p:nvPr/>
          </p:nvGrpSpPr>
          <p:grpSpPr>
            <a:xfrm>
              <a:off x="1447920" y="1447920"/>
              <a:ext cx="2666880" cy="1828800"/>
              <a:chOff x="1447920" y="1447920"/>
              <a:chExt cx="2666880" cy="1828800"/>
            </a:xfrm>
          </p:grpSpPr>
          <p:sp>
            <p:nvSpPr>
              <p:cNvPr id="240" name=""/>
              <p:cNvSpPr/>
              <p:nvPr/>
            </p:nvSpPr>
            <p:spPr>
              <a:xfrm>
                <a:off x="1447920" y="1447920"/>
                <a:ext cx="380880" cy="18288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09680" y="1447920"/>
                <a:ext cx="381240" cy="18288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971800" y="1447920"/>
                <a:ext cx="380880" cy="18288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828800" y="1447920"/>
                <a:ext cx="380880" cy="1828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590920" y="1447920"/>
                <a:ext cx="380880" cy="1828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52680" y="1447920"/>
                <a:ext cx="381240" cy="1828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33920" y="1447920"/>
                <a:ext cx="380880" cy="18288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447920" y="1447920"/>
              <a:ext cx="2666880" cy="182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 rot="16200000">
            <a:off x="311400" y="210204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ginal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81160" y="5862600"/>
            <a:ext cx="2753280" cy="398880"/>
            <a:chOff x="281160" y="5862600"/>
            <a:chExt cx="2753280" cy="398880"/>
          </a:xfrm>
        </p:grpSpPr>
        <p:sp>
          <p:nvSpPr>
            <p:cNvPr id="250" name=""/>
            <p:cNvSpPr/>
            <p:nvPr/>
          </p:nvSpPr>
          <p:spPr>
            <a:xfrm>
              <a:off x="686520" y="5862600"/>
              <a:ext cx="23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 Sampling lo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281160" y="5907240"/>
              <a:ext cx="304560" cy="304560"/>
              <a:chOff x="281160" y="5907240"/>
              <a:chExt cx="304560" cy="304560"/>
            </a:xfrm>
          </p:grpSpPr>
          <p:sp>
            <p:nvSpPr>
              <p:cNvPr id="252" name=""/>
              <p:cNvSpPr/>
              <p:nvPr/>
            </p:nvSpPr>
            <p:spPr>
              <a:xfrm>
                <a:off x="433440" y="5907240"/>
                <a:ext cx="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81160" y="6059520"/>
                <a:ext cx="304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706400" y="1295280"/>
            <a:ext cx="2103480" cy="2133720"/>
            <a:chOff x="1706400" y="1295280"/>
            <a:chExt cx="2103480" cy="2133720"/>
          </a:xfrm>
        </p:grpSpPr>
        <p:grpSp>
          <p:nvGrpSpPr>
            <p:cNvPr id="255" name=""/>
            <p:cNvGrpSpPr/>
            <p:nvPr/>
          </p:nvGrpSpPr>
          <p:grpSpPr>
            <a:xfrm>
              <a:off x="1706400" y="1295280"/>
              <a:ext cx="2103480" cy="2133720"/>
              <a:chOff x="1706400" y="1295280"/>
              <a:chExt cx="2103480" cy="2133720"/>
            </a:xfrm>
          </p:grpSpPr>
          <p:sp>
            <p:nvSpPr>
              <p:cNvPr id="256" name=""/>
              <p:cNvSpPr/>
              <p:nvPr/>
            </p:nvSpPr>
            <p:spPr>
              <a:xfrm>
                <a:off x="1706400" y="1828800"/>
                <a:ext cx="210348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133360" y="1295280"/>
                <a:ext cx="0" cy="213372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514240" y="1295280"/>
                <a:ext cx="0" cy="213372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895480" y="1295280"/>
                <a:ext cx="0" cy="213372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76360" y="1295280"/>
                <a:ext cx="0" cy="213372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706400" y="2209680"/>
                <a:ext cx="210348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706400" y="2590920"/>
                <a:ext cx="210348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06400" y="2971800"/>
                <a:ext cx="210348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209680" y="2666880"/>
              <a:ext cx="228600" cy="228600"/>
              <a:chOff x="2209680" y="2666880"/>
              <a:chExt cx="228600" cy="228600"/>
            </a:xfrm>
          </p:grpSpPr>
          <p:sp>
            <p:nvSpPr>
              <p:cNvPr id="265" name=""/>
              <p:cNvSpPr/>
              <p:nvPr/>
            </p:nvSpPr>
            <p:spPr>
              <a:xfrm>
                <a:off x="2323800" y="2666880"/>
                <a:ext cx="0" cy="2286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09680" y="2781360"/>
                <a:ext cx="22860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590560" y="2666880"/>
              <a:ext cx="228600" cy="228600"/>
              <a:chOff x="2590560" y="2666880"/>
              <a:chExt cx="228600" cy="228600"/>
            </a:xfrm>
          </p:grpSpPr>
          <p:sp>
            <p:nvSpPr>
              <p:cNvPr id="268" name=""/>
              <p:cNvSpPr/>
              <p:nvPr/>
            </p:nvSpPr>
            <p:spPr>
              <a:xfrm>
                <a:off x="2704680" y="2666880"/>
                <a:ext cx="0" cy="2286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590560" y="2781360"/>
                <a:ext cx="22860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209680" y="2286000"/>
              <a:ext cx="228600" cy="228600"/>
              <a:chOff x="2209680" y="2286000"/>
              <a:chExt cx="228600" cy="228600"/>
            </a:xfrm>
          </p:grpSpPr>
          <p:sp>
            <p:nvSpPr>
              <p:cNvPr id="271" name=""/>
              <p:cNvSpPr/>
              <p:nvPr/>
            </p:nvSpPr>
            <p:spPr>
              <a:xfrm>
                <a:off x="2323800" y="2286000"/>
                <a:ext cx="0" cy="2286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09680" y="2400480"/>
                <a:ext cx="22860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590560" y="2286000"/>
              <a:ext cx="228600" cy="228600"/>
              <a:chOff x="2590560" y="2286000"/>
              <a:chExt cx="228600" cy="228600"/>
            </a:xfrm>
          </p:grpSpPr>
          <p:sp>
            <p:nvSpPr>
              <p:cNvPr id="274" name=""/>
              <p:cNvSpPr/>
              <p:nvPr/>
            </p:nvSpPr>
            <p:spPr>
              <a:xfrm>
                <a:off x="2704680" y="2286000"/>
                <a:ext cx="0" cy="2286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90560" y="2400480"/>
                <a:ext cx="22860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2209680" y="1905120"/>
              <a:ext cx="228600" cy="228600"/>
              <a:chOff x="2209680" y="1905120"/>
              <a:chExt cx="228600" cy="228600"/>
            </a:xfrm>
          </p:grpSpPr>
          <p:sp>
            <p:nvSpPr>
              <p:cNvPr id="277" name=""/>
              <p:cNvSpPr/>
              <p:nvPr/>
            </p:nvSpPr>
            <p:spPr>
              <a:xfrm>
                <a:off x="2323800" y="1905120"/>
                <a:ext cx="0" cy="2286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09680" y="2019600"/>
                <a:ext cx="22860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2971440" y="1905120"/>
              <a:ext cx="228600" cy="228600"/>
              <a:chOff x="2971440" y="1905120"/>
              <a:chExt cx="228600" cy="228600"/>
            </a:xfrm>
          </p:grpSpPr>
          <p:sp>
            <p:nvSpPr>
              <p:cNvPr id="280" name=""/>
              <p:cNvSpPr/>
              <p:nvPr/>
            </p:nvSpPr>
            <p:spPr>
              <a:xfrm>
                <a:off x="3085560" y="1905120"/>
                <a:ext cx="0" cy="2286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971440" y="2019600"/>
                <a:ext cx="22860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2971440" y="2286000"/>
              <a:ext cx="228600" cy="228600"/>
              <a:chOff x="2971440" y="2286000"/>
              <a:chExt cx="228600" cy="228600"/>
            </a:xfrm>
          </p:grpSpPr>
          <p:sp>
            <p:nvSpPr>
              <p:cNvPr id="283" name=""/>
              <p:cNvSpPr/>
              <p:nvPr/>
            </p:nvSpPr>
            <p:spPr>
              <a:xfrm>
                <a:off x="3085560" y="2286000"/>
                <a:ext cx="0" cy="2286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971440" y="2400480"/>
                <a:ext cx="22860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971440" y="2666880"/>
              <a:ext cx="228600" cy="228600"/>
              <a:chOff x="2971440" y="2666880"/>
              <a:chExt cx="228600" cy="228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085560" y="2666880"/>
                <a:ext cx="0" cy="2286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971440" y="2781360"/>
                <a:ext cx="22860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2590560" y="1905120"/>
              <a:ext cx="228600" cy="228600"/>
              <a:chOff x="2590560" y="1905120"/>
              <a:chExt cx="228600" cy="228600"/>
            </a:xfrm>
          </p:grpSpPr>
          <p:sp>
            <p:nvSpPr>
              <p:cNvPr id="289" name=""/>
              <p:cNvSpPr/>
              <p:nvPr/>
            </p:nvSpPr>
            <p:spPr>
              <a:xfrm>
                <a:off x="2704680" y="1905120"/>
                <a:ext cx="0" cy="22860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590560" y="2019600"/>
                <a:ext cx="22860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1" name=""/>
          <p:cNvSpPr/>
          <p:nvPr/>
        </p:nvSpPr>
        <p:spPr>
          <a:xfrm>
            <a:off x="5638680" y="2755800"/>
            <a:ext cx="381240" cy="38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638680" y="3137040"/>
            <a:ext cx="38124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920" y="2755800"/>
            <a:ext cx="380880" cy="38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517920"/>
            <a:ext cx="38124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3517920"/>
            <a:ext cx="38088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19920" y="3137040"/>
            <a:ext cx="380880" cy="380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00800" y="3137040"/>
            <a:ext cx="380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00800" y="2755800"/>
            <a:ext cx="380880" cy="38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00800" y="3517920"/>
            <a:ext cx="380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895480" y="3429000"/>
            <a:ext cx="381240" cy="762120"/>
            <a:chOff x="2895480" y="3429000"/>
            <a:chExt cx="381240" cy="762120"/>
          </a:xfrm>
        </p:grpSpPr>
        <p:sp>
          <p:nvSpPr>
            <p:cNvPr id="301" name=""/>
            <p:cNvSpPr/>
            <p:nvPr/>
          </p:nvSpPr>
          <p:spPr>
            <a:xfrm>
              <a:off x="2895480" y="3429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76720" y="34290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95480" y="39625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447920" y="3276720"/>
            <a:ext cx="761760" cy="761760"/>
            <a:chOff x="1447920" y="3276720"/>
            <a:chExt cx="761760" cy="761760"/>
          </a:xfrm>
        </p:grpSpPr>
        <p:sp>
          <p:nvSpPr>
            <p:cNvPr id="305" name=""/>
            <p:cNvSpPr/>
            <p:nvPr/>
          </p:nvSpPr>
          <p:spPr>
            <a:xfrm>
              <a:off x="1447920" y="3276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09680" y="3276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47920" y="38098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608760" y="3809880"/>
            <a:ext cx="1220040" cy="1618200"/>
            <a:chOff x="608760" y="3809880"/>
            <a:chExt cx="1220040" cy="1618200"/>
          </a:xfrm>
        </p:grpSpPr>
        <p:sp>
          <p:nvSpPr>
            <p:cNvPr id="309" name=""/>
            <p:cNvSpPr/>
            <p:nvPr/>
          </p:nvSpPr>
          <p:spPr>
            <a:xfrm>
              <a:off x="608760" y="4724280"/>
              <a:ext cx="119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inim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io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295280" y="3809880"/>
              <a:ext cx="5335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054520" y="3962520"/>
            <a:ext cx="1969920" cy="1618200"/>
            <a:chOff x="2054520" y="3962520"/>
            <a:chExt cx="1969920" cy="1618200"/>
          </a:xfrm>
        </p:grpSpPr>
        <p:sp>
          <p:nvSpPr>
            <p:cNvPr id="312" name=""/>
            <p:cNvSpPr/>
            <p:nvPr/>
          </p:nvSpPr>
          <p:spPr>
            <a:xfrm>
              <a:off x="2054520" y="4876920"/>
              <a:ext cx="196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atial resolu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sampling rat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076560" y="39625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2330280" y="2017800"/>
            <a:ext cx="3486240" cy="930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06840" y="2035080"/>
            <a:ext cx="3485880" cy="930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92400" y="2035080"/>
            <a:ext cx="3486240" cy="930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75120" y="2411280"/>
            <a:ext cx="3485880" cy="930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06840" y="2413080"/>
            <a:ext cx="3485880" cy="930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40000" y="2430360"/>
            <a:ext cx="3486240" cy="930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787480"/>
            <a:ext cx="3485880" cy="930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06840" y="2789280"/>
            <a:ext cx="3485880" cy="930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20920" y="2789280"/>
            <a:ext cx="3486240" cy="930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211720" y="1833480"/>
            <a:ext cx="2103480" cy="2522520"/>
            <a:chOff x="5211720" y="1833480"/>
            <a:chExt cx="2103480" cy="2522520"/>
          </a:xfrm>
        </p:grpSpPr>
        <p:grpSp>
          <p:nvGrpSpPr>
            <p:cNvPr id="324" name=""/>
            <p:cNvGrpSpPr/>
            <p:nvPr/>
          </p:nvGrpSpPr>
          <p:grpSpPr>
            <a:xfrm>
              <a:off x="5211720" y="2222640"/>
              <a:ext cx="2103480" cy="2133360"/>
              <a:chOff x="5211720" y="2222640"/>
              <a:chExt cx="2103480" cy="2133360"/>
            </a:xfrm>
          </p:grpSpPr>
          <p:sp>
            <p:nvSpPr>
              <p:cNvPr id="325" name=""/>
              <p:cNvSpPr/>
              <p:nvPr/>
            </p:nvSpPr>
            <p:spPr>
              <a:xfrm>
                <a:off x="5211720" y="2755800"/>
                <a:ext cx="210348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638680" y="2222640"/>
                <a:ext cx="0" cy="213336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019560" y="2222640"/>
                <a:ext cx="0" cy="213336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400800" y="2222640"/>
                <a:ext cx="0" cy="213336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81680" y="2222640"/>
                <a:ext cx="0" cy="213336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211720" y="3136680"/>
                <a:ext cx="210348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11720" y="3517920"/>
                <a:ext cx="210348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211720" y="3898800"/>
                <a:ext cx="2103480" cy="0"/>
              </a:xfrm>
              <a:prstGeom prst="line">
                <a:avLst/>
              </a:prstGeom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445000" y="1833480"/>
              <a:ext cx="175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ampled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5261400" y="43704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etail is los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26560" y="4784760"/>
            <a:ext cx="4389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yquist R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resolution must be less or eq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f of the minimum period of the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sampling frequency must be greater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 twice of the maximum frequen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44680" y="3456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2720520" y="3437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22C-CE89-4668-8BC7-BBF7E87AE1B9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5FA8B-07EB-4D68-9AE3-ADCC4E42188C}" type="datetime1">
              <a:rPr lang="en-US"/>
              <a:t>07/28/26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516240" y="65880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Effect of Spatial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85800" y="1143000"/>
            <a:ext cx="2340000" cy="5564520"/>
            <a:chOff x="685800" y="1143000"/>
            <a:chExt cx="2340000" cy="556452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685800" y="1143000"/>
              <a:ext cx="2340000" cy="234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41" name="" descr=""/>
            <p:cNvPicPr/>
            <p:nvPr/>
          </p:nvPicPr>
          <p:blipFill>
            <a:blip r:embed="rId2"/>
            <a:stretch/>
          </p:blipFill>
          <p:spPr>
            <a:xfrm>
              <a:off x="685800" y="4011480"/>
              <a:ext cx="2340000" cy="234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42" name=""/>
            <p:cNvSpPr/>
            <p:nvPr/>
          </p:nvSpPr>
          <p:spPr>
            <a:xfrm>
              <a:off x="982440" y="3429000"/>
              <a:ext cx="174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56x256 pix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10240" y="6308640"/>
              <a:ext cx="149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64x64 pix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657600" y="1143000"/>
            <a:ext cx="2340000" cy="5564520"/>
            <a:chOff x="3657600" y="1143000"/>
            <a:chExt cx="2340000" cy="5564520"/>
          </a:xfrm>
        </p:grpSpPr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3657600" y="1143000"/>
              <a:ext cx="2340000" cy="234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46" name="" descr=""/>
            <p:cNvPicPr/>
            <p:nvPr/>
          </p:nvPicPr>
          <p:blipFill>
            <a:blip r:embed="rId4"/>
            <a:stretch/>
          </p:blipFill>
          <p:spPr>
            <a:xfrm>
              <a:off x="3657600" y="4011480"/>
              <a:ext cx="2340000" cy="234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47" name=""/>
            <p:cNvSpPr/>
            <p:nvPr/>
          </p:nvSpPr>
          <p:spPr>
            <a:xfrm>
              <a:off x="3953880" y="3429000"/>
              <a:ext cx="174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28x128 pix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82040" y="6308640"/>
              <a:ext cx="149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2x32 pix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6398280" y="1143000"/>
            <a:ext cx="221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 irrever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5D1-AA3C-4AED-B24A-6C78D3BB0860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E4E04-3D80-4235-A1AB-7DC729046F15}" type="datetime1">
              <a:rPr lang="en-US"/>
              <a:t>07/28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to bitwise 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- &amp; (not &amp;&amp; which is logi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- | (not || which is logi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- ~ (not !, which is logic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r - ^ (which has no logical correspond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6CC-3CB7-46E9-9655-93575B030A4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F69C6-9A23-49FD-9AAD-58326EAABCDA}" type="datetime1">
              <a:rPr lang="en-US"/>
              <a:t>07/28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to 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 = 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j = 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&amp;I is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&amp;J is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&amp;I is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&amp;J i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29000" y="25909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724280" y="2057400"/>
            <a:ext cx="6098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25909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095880" y="213372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0572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162920" y="2590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095880" y="3886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19920" y="3657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3809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352320" y="38862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352680" y="2590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2971800"/>
            <a:ext cx="457200" cy="4572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2AB-6059-4588-95DE-F2CBAC0F81D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8241D-FEEF-4AA9-B151-4510BFE8BB48}" type="datetime1">
              <a:rPr lang="en-US"/>
              <a:t>07/28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 to 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=0xF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j =0x0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 240 = 0xF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|j is 255 in decimal = 0x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F0 = (in base 2) 1111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0F = (in base 2) 00001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0F | 0xF0 =        11111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F632-9494-4391-9A95-FC3FA95AF24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C44E0-667B-4449-86A0-47F95AD1AC69}" type="datetime1">
              <a:rPr lang="en-US"/>
              <a:t>07/28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hex for 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=0x7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j =0x0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is i&amp;j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11010 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001111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001010 = 0x0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B1E2-38E6-4FF7-A5CA-28E18483E86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96E0E-88F0-4357-B493-DFCBCE71A613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mage Process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D dat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an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put an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1B8-6F76-415F-B6A6-17B605514C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194F5-E5A9-4F9A-829E-D1B6580176EF}" type="datetime1">
              <a:rPr lang="en-US"/>
              <a:t>07/28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hex for n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=0x7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j =0x0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is ~j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fffffff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FBD3-3BAD-458D-9EFD-46157361FA3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6DCCF-ED79-4785-8CAF-B2B728451A09}" type="datetime1">
              <a:rPr lang="en-US"/>
              <a:t>07/28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hex for x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i=0x7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j =0x0F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is i^j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11100 = I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0001111 =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10011 = i^j = 0x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FE73-9BC9-419A-B0F9-A2A235210F2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895C1-0B49-45E4-8E71-EE8307AA98C8}" type="datetime1">
              <a:rPr lang="en-US"/>
              <a:t>07/28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Rad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java, you can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(base 2) Radi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al (base 8) Radix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mal (base 10) Radix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xidecimal (base 16) Radix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6550-0353-4674-8823-BCFCBDE281A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D674B-A2AC-469D-AD42-8DC25DFCA95C}" type="datetime1">
              <a:rPr lang="en-US"/>
              <a:t>07/28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ome they call it base 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only have 0 and 1, so why call it base 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not call it base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nality of the set of symbols is the radix S = {0, 1}, card(s)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081-952D-4410-BF7F-16FBEB9A1B1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ADD64-F7DC-4EA8-A292-0FD311AD4A46}" type="datetime1">
              <a:rPr lang="en-US"/>
              <a:t>07/28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all it a ba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e of the expon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, base 2 is, in deci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*2^3 + 1 * 2^2 + 0 * 2 ^ 1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8 + 4 + 0 + 1 = 13 base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alled positional no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8896-A74B-45EE-8306-F10068674B3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DAF2F-30B2-4699-AB2B-DFF9CCE571FA}" type="datetime1">
              <a:rPr lang="en-US"/>
              <a:t>07/28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ing the positional notation in h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28 = 2 * 16 ^ 1 + 8 * 16 ^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 * 16 +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2 + 8 = 40 base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F8C-23C6-4A67-AA9D-50D52D79611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21CEC-281F-4F23-AA86-C62EA2DFC266}" type="datetime1">
              <a:rPr lang="en-US"/>
              <a:t>07/28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20574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nt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a[][]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= 0; i &lt; a.length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 = 0; j &lt; a[0].length; j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(a[i][j]+"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D738-B817-47F4-8119-9037B3AFC212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5DC27-6B8A-4A0B-B738-9207C0EDBA83}" type="datetime1">
              <a:rPr lang="en-US"/>
              <a:t>07/28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w-Maj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2576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rrays are row major, then increment the row more quick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int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j = 0; j &lt; 3; j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 = 0; i &lt; 3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(a[i][j]+"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5C2-D38B-437D-8175-43A0434254C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23375-6DCB-43BE-B84D-F59C8E5562DC}" type="datetime1">
              <a:rPr lang="en-US"/>
              <a:t>07/28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w vs Column Maj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838080" y="2286000"/>
          <a:ext cx="7377120" cy="252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737712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39A-0519-4764-A341-35E58F2F54C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17762-63B9-49F7-B000-43EE3D34464F}" type="datetime1">
              <a:rPr lang="en-US"/>
              <a:t>07/28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ng 2D ar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38080" y="2209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etPixel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ls[y*width + x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1A3F-865C-4130-B506-67D42FA18694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59FD4-EFC9-4479-B114-81AD76E88931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Voice and Signal Proces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D dat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ime varying functions are used as both input and out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41A3-C661-4090-A6E8-E447D32B7C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2581A-BF27-40C2-B706-BAF480B02B22}" type="datetime1">
              <a:rPr lang="en-US"/>
              <a:t>07/28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ing in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3623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pa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paint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paint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paint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90A-F8C0-455A-B86A-03DB21A6B10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24217-8CE6-43E7-9DC2-DD600F26D768}" type="datetime1">
              <a:rPr lang="en-US"/>
              <a:t>07/28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143000" y="2819520"/>
            <a:ext cx="5410080" cy="3352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ag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0052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143000" y="2476440"/>
            <a:ext cx="5100480" cy="346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E574-A94F-4A81-B219-228953E2CF8A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8A018-DB1D-427B-BF90-0BE4778FC4D1}" type="datetime1">
              <a:rPr lang="en-US"/>
              <a:t>07/28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Frame-a series of methods that ease image process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286A-5456-4C41-89DB-5ED48F47CFE6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FCDD0-DEE1-48C5-9EFE-598A8A1D69EE}" type="datetime1">
              <a:rPr lang="en-US"/>
              <a:t>07/28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mageFr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te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hortCutFram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r[][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g[][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b[][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idth = 12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eight = 12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mageFrame(String tit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etImage(Image 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mage getImage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hort2Image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mage2Short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penGif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penGif(String f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ain(String args[]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F1D3-9233-43C6-8226-B2B147A90AB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CD695-5A09-46A0-8C31-AA1A45853503}" type="datetime1">
              <a:rPr lang="en-US"/>
              <a:t>07/28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Frame-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82880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.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ay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.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=0; x &lt; width; x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.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=0; y &lt; height; y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.         r[x][y] =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            ((r[x][y] + g[x][y]  + b[x][y]) / 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.              g[x][y] = r[x][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.              b[x][y] = r[x][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. 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.     short2Imag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.  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E7F9-F43D-4BD5-BCF5-0DA88535F08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47C70-58C0-4790-9484-2640FEB6D021}" type="datetime1">
              <a:rPr lang="en-US"/>
              <a:t>07/28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3385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805440" cy="348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DEC-7883-4B3D-8CFA-24BAF29FA91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4A559-B372-4AED-BACF-C4A03A16B86D}" type="datetime1">
              <a:rPr lang="en-US"/>
              <a:t>07/28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ellWl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4324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5291280" cy="502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706-352C-426E-B9DD-C87E75FA6C9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67482-31A0-4C56-941F-9D66C4B8AC71}" type="datetime1">
              <a:rPr lang="en-US"/>
              <a:t>07/28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b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rabFram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lterFram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grab(Container f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stPattern(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110-288D-48EA-A2A9-6E947E3231E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A5D33-CC46-4E07-9E71-C863F228D090}" type="datetime1">
              <a:rPr lang="en-US"/>
              <a:t>07/28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Patt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39552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65680" cy="40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A2F-9992-4300-ACE9-675F8A92075D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D92F7-4814-48A2-8A7E-536B329467E2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omputer Graph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geometry (sometimes im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put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6DF-93A5-4DF2-A02E-3EB5D360F0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060C2-569B-45EC-8470-34C60E4B52AF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omputer vision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is 2D (im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is geome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CF17-1A11-4EE2-850C-11E3189EAA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0AE97-E1BC-492A-8F1D-B65116015DB8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Ima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2D array of pix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xel is a scalar quantity that represents the intensity of light. It smallest area within the given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FAA-6C30-4B47-A8A6-3B6028A5D5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BF3DE-9674-4BE4-9575-5296EB5E3845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digital ima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usually operate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it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2D space on a regular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ch sample (round to nearest inte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our samples a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art, we can write this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= Quantize{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0"/>
          <a:ext cx="1219320" cy="1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19320" cy="1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828800" y="4800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625760" y="4940280"/>
            <a:ext cx="126720" cy="165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310840" y="4572000"/>
            <a:ext cx="812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108160" y="4432320"/>
            <a:ext cx="189000" cy="2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98C-C55B-4CF8-B0DA-7254D46AAC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EA38B-A5E7-45E1-BFF2-C8B2841E166B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6477120" y="5029200"/>
                <a:ext cx="15541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</m:mr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7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756480" y="5200560"/>
                <a:ext cx="155412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7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7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7050240" y="5410080"/>
                <a:ext cx="15541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⌈"/>
                        <m:endChr m:val="⌉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7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7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7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519480" y="65880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Imag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611520" cy="2405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35875" t="72877" r="55695" b="14454"/>
          <a:stretch/>
        </p:blipFill>
        <p:spPr>
          <a:xfrm>
            <a:off x="2743200" y="38098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rcRect l="38983" t="77544" r="59253" b="19796"/>
          <a:stretch/>
        </p:blipFill>
        <p:spPr>
          <a:xfrm>
            <a:off x="3886200" y="49528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81080" y="3048120"/>
            <a:ext cx="22860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981080" y="3048120"/>
            <a:ext cx="1905120" cy="1904760"/>
            <a:chOff x="1981080" y="3048120"/>
            <a:chExt cx="1905120" cy="1904760"/>
          </a:xfrm>
        </p:grpSpPr>
        <p:sp>
          <p:nvSpPr>
            <p:cNvPr id="79" name=""/>
            <p:cNvSpPr/>
            <p:nvPr/>
          </p:nvSpPr>
          <p:spPr>
            <a:xfrm>
              <a:off x="1981080" y="3276720"/>
              <a:ext cx="762120" cy="1676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09680" y="3048120"/>
              <a:ext cx="1676520" cy="761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276720" y="4191120"/>
            <a:ext cx="2209680" cy="2361960"/>
            <a:chOff x="3276720" y="4191120"/>
            <a:chExt cx="2209680" cy="2361960"/>
          </a:xfrm>
        </p:grpSpPr>
        <p:sp>
          <p:nvSpPr>
            <p:cNvPr id="82" name=""/>
            <p:cNvSpPr/>
            <p:nvPr/>
          </p:nvSpPr>
          <p:spPr>
            <a:xfrm>
              <a:off x="3505320" y="4191120"/>
              <a:ext cx="1981080" cy="761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76720" y="4419720"/>
              <a:ext cx="609480" cy="2133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276720" y="4191120"/>
            <a:ext cx="22860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5486400"/>
            <a:ext cx="533520" cy="341280"/>
          </a:xfrm>
          <a:custGeom>
            <a:avLst/>
            <a:gdLst>
              <a:gd name="textAreaLeft" fmla="*/ 83160 w 533520"/>
              <a:gd name="textAreaRight" fmla="*/ 466920 w 533520"/>
              <a:gd name="textAreaTop" fmla="*/ 85320 h 341280"/>
              <a:gd name="textAreaBottom" fmla="*/ 255960 h 34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0720" y="1371600"/>
            <a:ext cx="473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olor image or RGB im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ixel contains a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ing red, gree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5320" y="4572000"/>
            <a:ext cx="200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GB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ttp://www.docjava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0E44-A7E3-40F9-8ED1-EB3F057677E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F619F-9BF0-4F3F-A5F8-44299BB7679D}" type="datetime1">
              <a:rPr lang="en-US"/>
              <a:t>07/28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uglas lyon</cp:lastModifiedBy>
  <dcterms:modified xsi:type="dcterms:W3CDTF">2005-09-26T22:21:57Z</dcterms:modified>
  <cp:revision>25</cp:revision>
  <dc:subject/>
  <dc:title>PowerPoint Presentation</dc:title>
</cp:coreProperties>
</file>