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28B4-58A2-4A44-8724-342F6B38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BEA-4CEA-412D-A491-01958286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506E-09E4-48EB-82BA-EE2F3556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19C-6AB5-4E7A-8CA2-98DBB550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94E-4779-44D4-B6CE-EE460F6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C23-2E72-4FFA-AD5F-DB4E37D0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172-653B-40E9-9D96-6E89CBF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1CA9-A167-442D-9252-6CE40CFA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C32-4844-4C7C-A7DD-EF58841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3478-A6F3-4A93-AD50-61E9BE07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833-418A-4AB8-950F-A59D281F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F27-7DDE-487D-9690-8DE28573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B008-B92F-43DB-A338-2E3087D61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theory made ea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form takes one function (or signal) and turns it into another function (or sig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crete Fourier Trans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ier 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89320" y="4013280"/>
            <a:ext cx="25653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Fourier 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ast Fourier Transform (FFT) is a very efficient algorithm for performing a discrete 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 principle first used by Gauss in 18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FT algorithm published by Cooley &amp; Tukey in 19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69, the 2048 point analysis of a seismic trace took 13 ½ hours. Using the FFT, the same task on the same machine took 2.4 second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sine_pair" descr=""/>
          <p:cNvPicPr/>
          <p:nvPr/>
        </p:nvPicPr>
        <p:blipFill>
          <a:blip r:embed="rId1"/>
          <a:stretch/>
        </p:blipFill>
        <p:spPr>
          <a:xfrm>
            <a:off x="685800" y="1827360"/>
            <a:ext cx="5475240" cy="4105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Fourier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81120" y="25560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78600" y="449568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Fourier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auss_pair" descr=""/>
          <p:cNvPicPr/>
          <p:nvPr/>
        </p:nvPicPr>
        <p:blipFill>
          <a:blip r:embed="rId1"/>
          <a:stretch/>
        </p:blipFill>
        <p:spPr>
          <a:xfrm>
            <a:off x="684360" y="182736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81120" y="25560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960" y="44956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Fourier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sinc_pair_c" descr=""/>
          <p:cNvPicPr/>
          <p:nvPr/>
        </p:nvPicPr>
        <p:blipFill>
          <a:blip r:embed="rId1"/>
          <a:stretch/>
        </p:blipFill>
        <p:spPr>
          <a:xfrm>
            <a:off x="684360" y="182736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079320" y="2556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81120" y="449568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Fourier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9320" y="2556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81120" y="449568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inc_1" descr=""/>
          <p:cNvPicPr/>
          <p:nvPr/>
        </p:nvPicPr>
        <p:blipFill>
          <a:blip r:embed="rId1"/>
          <a:stretch/>
        </p:blipFill>
        <p:spPr>
          <a:xfrm>
            <a:off x="684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mous Fourier Trans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79320" y="2556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79320" y="4495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rentz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xp_pair" descr=""/>
          <p:cNvPicPr/>
          <p:nvPr/>
        </p:nvPicPr>
        <p:blipFill>
          <a:blip r:embed="rId1"/>
          <a:stretch/>
        </p:blipFill>
        <p:spPr>
          <a:xfrm>
            <a:off x="684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 of F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id_pair_1" descr=""/>
          <p:cNvPicPr/>
          <p:nvPr/>
        </p:nvPicPr>
        <p:blipFill>
          <a:blip r:embed="rId1"/>
          <a:stretch/>
        </p:blipFill>
        <p:spPr>
          <a:xfrm>
            <a:off x="1828800" y="1827360"/>
            <a:ext cx="5484960" cy="411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5791320"/>
                <a:ext cx="3047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 of F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id_pair_2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FT of F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id_pair_3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ine_2_nodot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4960" cy="4113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03320" y="22050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*sin (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04040" y="266688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tud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3320" y="320040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= 4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4120" y="5867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ne 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hanging sample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id_sr_0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hanging sample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fid_pair_sr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hanging sample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ing the sample r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the Nyquist frequency, 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the maximum measurable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ffect the frequency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hanging sampling d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sample_time_0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hanging sampling d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sample_time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hanging sampling d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ng the sampling d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s the frequency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not affect the range of frequencies you can m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hanging sampling d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ample_time3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changing sampling du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ample_time2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suring multiple frequ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id_3f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suring multiple frequ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id_3f_nyq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ine_2_dot" descr=""/>
          <p:cNvPicPr/>
          <p:nvPr/>
        </p:nvPicPr>
        <p:blipFill>
          <a:blip r:embed="rId1"/>
          <a:stretch/>
        </p:blipFill>
        <p:spPr>
          <a:xfrm>
            <a:off x="912960" y="182736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2960" y="2133720"/>
            <a:ext cx="112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*sin(2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4040" y="259560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plitud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3320" y="3129120"/>
            <a:ext cx="164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equency = 4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6003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ing rate = 256 samples/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4120" y="586728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4286160"/>
            <a:ext cx="20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pling duratio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ine wave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undersampled" descr=""/>
          <p:cNvPicPr/>
          <p:nvPr/>
        </p:nvPicPr>
        <p:blipFill>
          <a:blip r:embed="rId1"/>
          <a:stretch/>
        </p:blipFill>
        <p:spPr>
          <a:xfrm>
            <a:off x="1827360" y="182736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undersampled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yquist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yquist frequency is equal to one-half of the sampling frequ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yquist frequency is the highest frequency that can be measured in a sig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c functions and signals may be expanded into a series of sine and cosine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ier 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form takes one function (or signal) and turns it into another function (or sig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ier 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form takes one function (or signal) and turns it into another function (or sig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Fourier Trans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25720" y="415620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ose your eyes if you don’t like integ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ier Trans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nsform takes one function (or signal) and turns it into another function (or sig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Fourier Trans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200400" y="4038480"/>
                <a:ext cx="278136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f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f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23:55:10Z</dcterms:created>
  <dc:creator>Center For NeuroImaging</dc:creator>
  <dc:description/>
  <dc:language>en-US</dc:language>
  <cp:lastModifiedBy>dlyon</cp:lastModifiedBy>
  <dcterms:modified xsi:type="dcterms:W3CDTF">2005-03-21T18:05:52Z</dcterms:modified>
  <cp:revision>13</cp:revision>
  <dc:subject/>
  <dc:title>Fourier theory made easy (?)</dc:title>
</cp:coreProperties>
</file>