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13.jpeg" ContentType="image/jpeg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32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957B-F16B-4579-B961-09008CC2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BBA0-8847-4A40-AF59-9FA3BF44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59C-75AD-4037-9D21-2100A54D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F84-62BB-4322-BB86-801A7DF6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668-256E-42A8-BEDD-A8510FA8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B94-8F2E-4B06-8788-7DB100AA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9354-CD65-490C-B96A-E0B475A1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CE3-53B5-463F-BB89-4E2FE4E7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D554-FD04-4C85-8B8A-E7E4D998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BA7-9302-44FD-8747-1AE65918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FEDC-C6DC-4F36-A416-7DBD6D4D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4DAB-178A-403D-8FD4-36B7793F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56B9-E2DC-4D29-BF08-F82881AC4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encyclopedia.laborlawtalk.com/April_15" TargetMode="External"/><Relationship Id="rId2" Type="http://schemas.openxmlformats.org/officeDocument/2006/relationships/hyperlink" Target="http://encyclopedia.laborlawtalk.com/1707" TargetMode="External"/><Relationship Id="rId3" Type="http://schemas.openxmlformats.org/officeDocument/2006/relationships/hyperlink" Target="http://encyclopedia.laborlawtalk.com/September_18" TargetMode="External"/><Relationship Id="rId4" Type="http://schemas.openxmlformats.org/officeDocument/2006/relationships/hyperlink" Target="http://encyclopedia.laborlawtalk.com/1783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War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Scale about any 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9480" y="2819520"/>
          <a:ext cx="8229600" cy="19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819520"/>
                    <a:ext cx="8229600" cy="19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es this simplif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295280" y="2438280"/>
          <a:ext cx="5791320" cy="22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5791320" cy="22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working it ou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276720"/>
          <a:ext cx="7696080" cy="17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7696080" cy="17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ating the matr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in(String args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3 tr1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t3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3 tr2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t3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3 sc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t3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3 at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1.setTranslation(1,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.setScale(2,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2.setTranslation(-1,-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= tr1.multiply(s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= at.multiply(tr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.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371600" y="2057400"/>
          <a:ext cx="6324480" cy="23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324480" cy="23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es rotation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a complex number, times another complex number…what do you g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4038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ler’s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ler’s ident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440" y="2768400"/>
            <a:ext cx="3809880" cy="2539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249360" cy="1071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438280" y="3581280"/>
                <a:ext cx="38736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θ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θ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1</m:t>
                        </m:r>
                        <m:r>
                          <m:t xml:space="preserve">y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y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2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uler Rotati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33680" y="393048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371600" y="1371600"/>
                <a:ext cx="5600880" cy="380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θ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θ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1</m:t>
                        </m:r>
                        <m:r>
                          <m:t xml:space="preserve">y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y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2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ing it out you ge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3200400"/>
          <a:ext cx="548640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200400"/>
                    <a:ext cx="54864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ementation of rotation in mat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setRotation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ta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ta = theta  * Math.PI/18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cas = Math.cos(theta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sas = Math.sin(theta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[0][0] =  c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[1][1] =  c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[0][1] = -s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[1][0] =  s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mage warp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s coo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orrect for optical distortion (i.e. keyston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te Sensing (matching together multiple imag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tainment value (morp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ing for lost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Java2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ineTransform atr = new AffineTransform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.setToTranslation(x1, y1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.scale(sx, sy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.translate(-x1, -y1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transformedShape = atr.createTransformedShape(gp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mat3 to scale and ro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3 tr1 = new Mat3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3 tr2 = new Mat3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3 rt = new Mat3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3 sc = new Mat3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1.setTranslation(getCentroidX(), getCentroidY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.setScale(1, 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.setRotation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2.setTranslation(-getCentroidX(), -getCentroidY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= tr1.multiply(r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= at.multiply(s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= at.multiply(tr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2d, lets rotation occur about any 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void drawRotateGraphics(Graphics g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l int xc = getCentroidX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l int yc = getCentroid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ics2D g2d = (Graphics2D) 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fineTransform saveAt = g2d.getTransfor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(float theta = 0; theta &lt;= 360; theta += 10f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2d.setTransform(AffineTransform.getRotateInstance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ta * PI_ON_180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c, yc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2d.draw(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2d.setTransform(saveA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is leaves the g2d back on 0 degrees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ate with a new sha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void drawTransformedShape(Graphics g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int xc = getCentroidX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int yc = getCentroidY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s2D g2d = (Graphics2D) 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float theta = 0; theta &lt;= 360; theta += 10f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AffineTransform at = AffineTransform.getRotateInstance(theta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_ON_18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, y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2d.draw(at.createTransformedShape(p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use Mat3 to Dr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rawMat3(Graphics g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 int xc = getCentroidX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 int yc = getCentroidY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1.setTranslation(xc, y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2.setTranslation(-xc, -getCentroidY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(float theta = 0; theta &lt; 360; theta += 10f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t.setRotation(thet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= tr1.multiply(r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= at.multiply(tr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Polygon(g, at.transform(p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can thank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uler’s identit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440" y="2768400"/>
            <a:ext cx="3809880" cy="2539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249360" cy="1071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38280" y="3581280"/>
                <a:ext cx="38736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θ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θ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θ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1</m:t>
                        </m:r>
                        <m:r>
                          <m:t xml:space="preserve">y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y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2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was Eul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eonhard Eul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April 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170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September 1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178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(pronounced "oiler"). Lived to be 7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rst to use the term "function" (defined by Leibniz - 1694) to describe an expression involving various arguments; ie: y = F(x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athematical child prodig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fessor of mathematics in Saint Petersburg, and Berli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prolific mathematician of all time, 75 volu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lind for the last seventeen years of his life, during which time he produced almost half of his total outp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0289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743200" y="1828800"/>
          <a:ext cx="373392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828800"/>
                    <a:ext cx="373392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66880" y="4038480"/>
          <a:ext cx="2971800" cy="168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4038480"/>
                    <a:ext cx="2971800" cy="16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Sh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Shear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x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y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[0][0]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[1][1]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[2][2]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[0][1] = sh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[1][0] = sh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ffineFr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4987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ogeni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ogenious point processing means that all the points are processed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ogenious coordinate transforms means that all coordinates are transformed the same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62320" y="2438280"/>
            <a:ext cx="417672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81080" y="2209680"/>
          <a:ext cx="203040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09680"/>
                    <a:ext cx="203040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495680" y="2057400"/>
          <a:ext cx="2971800" cy="282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057400"/>
                    <a:ext cx="2971800" cy="28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371600" y="2666880"/>
          <a:ext cx="3352680" cy="16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666880"/>
                    <a:ext cx="3352680" cy="16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800600" y="1828800"/>
          <a:ext cx="250344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1828800"/>
                    <a:ext cx="25034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tination sc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orm = transform.inver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= 0; x &lt; w; x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=0; y &lt; h; y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transform.multiply(x,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 =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p[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p =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p[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(xp &lt; w) &amp;&amp; (yp &lt; h) &amp;&amp; (xp &gt;= 0) &amp;&amp; (yp &gt;= 0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n[x][y] = r[xp][y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n[x][y] = g[xp][y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n[x][y] = b[xp][y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14600" y="1996920"/>
            <a:ext cx="26668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524844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r in 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52480" y="1863720"/>
            <a:ext cx="34243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ct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the follow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CT’s using The Handout pp.s 126-1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in Chapter 14 of IP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translate(image, tx, ty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scale(image, sx, sy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rotate(image, theta); // in rad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shear(image, shx, shy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 the combi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scaleAbout(image, tx, ty,sx,sy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rotateAbout(image, tx, ty, theta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shearAbout(image, tx, ty, shx, shy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rotateShearScale(image, theta, shx,shy, sx, sy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rotateShearScaleAbout(image, tx,ty, theta, shx,shy, sx, sy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rix concate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atrix concatenation for every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a single 3x3 matrix will result when we are d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AffineTransform Class, as described on pp. 135 of the hand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CT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ogenous transforms include scaling, translation, rotation and shear which, collectively are special case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ff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nsform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Menu&gt;AffineTransformM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MenuIte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ate…, Scale…, Shea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ateAbout…, ScaleAbout…, ShearAbou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ateScaleShearAbou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K and Cancel RunBut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on the fin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with a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make an arrangement to demo ear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W due next wee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 a GUI based that will do image trans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need an affinetransform m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runMenuItem translat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a dialog b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need an RunMenuItem OpenMenu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666880" y="1981080"/>
          <a:ext cx="342900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981080"/>
                    <a:ext cx="34290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8080" y="3886200"/>
          <a:ext cx="2895840" cy="20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886200"/>
                    <a:ext cx="289584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ing a translation matr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362320" y="3657600"/>
          <a:ext cx="365760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657600"/>
                    <a:ext cx="36576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tting up x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Translation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x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y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[0][0]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[1][1]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[2][2]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[0][2] = t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[1][2] = 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ing up to sc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600200" y="3124080"/>
          <a:ext cx="5410080" cy="25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124080"/>
                    <a:ext cx="541008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67280" y="914400"/>
          <a:ext cx="2057400" cy="181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914400"/>
                    <a:ext cx="205740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Im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Scaling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x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y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[0][0] = sx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[1][1] = s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[2][2] =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5:02:46Z</dcterms:created>
  <dc:creator>D L</dc:creator>
  <dc:description/>
  <dc:language>en-US</dc:language>
  <cp:lastModifiedBy>dlyon</cp:lastModifiedBy>
  <dcterms:modified xsi:type="dcterms:W3CDTF">2005-04-18T17:24:04Z</dcterms:modified>
  <cp:revision>20</cp:revision>
  <dc:subject/>
  <dc:title>Chapter 5</dc:title>
</cp:coreProperties>
</file>