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gif" ContentType="image/gif"/>
  <Override PartName="/ppt/media/image20.wmf" ContentType="image/x-wmf"/>
  <Override PartName="/ppt/media/image22.wmf" ContentType="image/x-wmf"/>
  <Override PartName="/ppt/media/image21.wmf" ContentType="image/x-wmf"/>
  <Override PartName="/ppt/media/image25.gif" ContentType="image/gi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3.gif" ContentType="image/gi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10.jpeg" ContentType="image/jpeg"/>
  <Override PartName="/ppt/media/image30.png" ContentType="image/png"/>
  <Override PartName="/ppt/media/image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15.wmf" ContentType="image/x-wmf"/>
  <Override PartName="/ppt/media/image39.gif" ContentType="image/gif"/>
  <Override PartName="/ppt/media/image35.wmf" ContentType="image/x-wmf"/>
  <Override PartName="/ppt/media/image5.wmf" ContentType="image/x-wmf"/>
  <Override PartName="/ppt/media/image34.wmf" ContentType="image/x-wmf"/>
  <Override PartName="/ppt/media/image4.wmf" ContentType="image/x-wmf"/>
  <Override PartName="/ppt/media/image38.gif" ContentType="image/gif"/>
  <Override PartName="/ppt/media/image33.wmf" ContentType="image/x-wmf"/>
  <Override PartName="/ppt/media/image3.wmf" ContentType="image/x-wmf"/>
  <Override PartName="/ppt/media/image37.gif" ContentType="image/gif"/>
  <Override PartName="/ppt/media/image28.png" ContentType="image/png"/>
  <Override PartName="/ppt/media/image1.wmf" ContentType="image/x-wmf"/>
  <Override PartName="/ppt/media/image29.png" ContentType="image/png"/>
  <Override PartName="/ppt/media/image2.wmf" ContentType="image/x-wmf"/>
  <Override PartName="/ppt/media/image3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534150" cy="8863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534000" cy="886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30680" cy="442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01520" y="0"/>
            <a:ext cx="2830680" cy="442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50840" y="664920"/>
            <a:ext cx="4430880" cy="33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71560" y="4208040"/>
            <a:ext cx="4789440" cy="3987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18600"/>
            <a:ext cx="2830680" cy="442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01520" y="8418600"/>
            <a:ext cx="2830680" cy="442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fld id="{90CC5135-DBEA-48FE-A1BF-71F752585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50840" y="665280"/>
            <a:ext cx="4430880" cy="3322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71560" y="4208040"/>
            <a:ext cx="4789440" cy="3987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f inputs from neighboring locations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gative valu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reduce overall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, inputs are multiplied by negative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EE8D-61DD-4E64-8897-E7CBB022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7F6-5033-4C3D-81A0-34DE5E8F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E7A-A73B-4FA1-BB3F-C2EF28FCC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1259-0B10-470E-B3B9-4A0978E8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89A-8E6A-4C75-BC88-84AD13F4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C89-74E2-4E39-81D3-A9F3BFED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93D-D32F-4F83-8BFA-808E3439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728-8DD8-4D43-8408-48F37682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9C2-5827-4234-AE6C-94A1AB48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8DD-6147-406E-9A9C-A9F789C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E2E-53D8-4470-8270-26C29FEF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262-7264-49EF-8805-05AF5540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6F37-A059-4725-9D60-4FDD0EA4D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ocjava.com/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retina to extrastriate 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590920" y="2362320"/>
            <a:ext cx="4532400" cy="3276360"/>
            <a:chOff x="2590920" y="2362320"/>
            <a:chExt cx="4532400" cy="3276360"/>
          </a:xfrm>
        </p:grpSpPr>
        <p:sp>
          <p:nvSpPr>
            <p:cNvPr id="124" name=""/>
            <p:cNvSpPr/>
            <p:nvPr/>
          </p:nvSpPr>
          <p:spPr>
            <a:xfrm>
              <a:off x="3019320" y="2362320"/>
              <a:ext cx="3409920" cy="1915920"/>
            </a:xfrm>
            <a:custGeom>
              <a:avLst/>
              <a:gdLst/>
              <a:ahLst/>
              <a:rect l="l" t="t" r="r" b="b"/>
              <a:pathLst>
                <a:path w="2807" h="1577">
                  <a:moveTo>
                    <a:pt x="1725" y="77"/>
                  </a:moveTo>
                  <a:lnTo>
                    <a:pt x="1709" y="70"/>
                  </a:lnTo>
                  <a:lnTo>
                    <a:pt x="1694" y="61"/>
                  </a:lnTo>
                  <a:lnTo>
                    <a:pt x="1675" y="50"/>
                  </a:lnTo>
                  <a:lnTo>
                    <a:pt x="1655" y="36"/>
                  </a:lnTo>
                  <a:lnTo>
                    <a:pt x="1628" y="23"/>
                  </a:lnTo>
                  <a:lnTo>
                    <a:pt x="1598" y="11"/>
                  </a:lnTo>
                  <a:lnTo>
                    <a:pt x="1564" y="5"/>
                  </a:lnTo>
                  <a:lnTo>
                    <a:pt x="1524" y="0"/>
                  </a:lnTo>
                  <a:lnTo>
                    <a:pt x="1483" y="0"/>
                  </a:lnTo>
                  <a:lnTo>
                    <a:pt x="1449" y="5"/>
                  </a:lnTo>
                  <a:lnTo>
                    <a:pt x="1419" y="11"/>
                  </a:lnTo>
                  <a:lnTo>
                    <a:pt x="1392" y="20"/>
                  </a:lnTo>
                  <a:lnTo>
                    <a:pt x="1369" y="29"/>
                  </a:lnTo>
                  <a:lnTo>
                    <a:pt x="1347" y="39"/>
                  </a:lnTo>
                  <a:lnTo>
                    <a:pt x="1322" y="45"/>
                  </a:lnTo>
                  <a:lnTo>
                    <a:pt x="1295" y="50"/>
                  </a:lnTo>
                  <a:lnTo>
                    <a:pt x="1265" y="50"/>
                  </a:lnTo>
                  <a:lnTo>
                    <a:pt x="1238" y="48"/>
                  </a:lnTo>
                  <a:lnTo>
                    <a:pt x="1213" y="41"/>
                  </a:lnTo>
                  <a:lnTo>
                    <a:pt x="1188" y="34"/>
                  </a:lnTo>
                  <a:lnTo>
                    <a:pt x="1161" y="29"/>
                  </a:lnTo>
                  <a:lnTo>
                    <a:pt x="1136" y="25"/>
                  </a:lnTo>
                  <a:lnTo>
                    <a:pt x="1109" y="27"/>
                  </a:lnTo>
                  <a:lnTo>
                    <a:pt x="1081" y="32"/>
                  </a:lnTo>
                  <a:lnTo>
                    <a:pt x="1054" y="39"/>
                  </a:lnTo>
                  <a:lnTo>
                    <a:pt x="1029" y="41"/>
                  </a:lnTo>
                  <a:lnTo>
                    <a:pt x="1009" y="41"/>
                  </a:lnTo>
                  <a:lnTo>
                    <a:pt x="988" y="41"/>
                  </a:lnTo>
                  <a:lnTo>
                    <a:pt x="966" y="41"/>
                  </a:lnTo>
                  <a:lnTo>
                    <a:pt x="941" y="43"/>
                  </a:lnTo>
                  <a:lnTo>
                    <a:pt x="907" y="50"/>
                  </a:lnTo>
                  <a:lnTo>
                    <a:pt x="868" y="61"/>
                  </a:lnTo>
                  <a:lnTo>
                    <a:pt x="803" y="86"/>
                  </a:lnTo>
                  <a:lnTo>
                    <a:pt x="775" y="109"/>
                  </a:lnTo>
                  <a:lnTo>
                    <a:pt x="762" y="127"/>
                  </a:lnTo>
                  <a:lnTo>
                    <a:pt x="744" y="138"/>
                  </a:lnTo>
                  <a:lnTo>
                    <a:pt x="732" y="138"/>
                  </a:lnTo>
                  <a:lnTo>
                    <a:pt x="716" y="138"/>
                  </a:lnTo>
                  <a:lnTo>
                    <a:pt x="698" y="136"/>
                  </a:lnTo>
                  <a:lnTo>
                    <a:pt x="678" y="131"/>
                  </a:lnTo>
                  <a:lnTo>
                    <a:pt x="655" y="134"/>
                  </a:lnTo>
                  <a:lnTo>
                    <a:pt x="628" y="138"/>
                  </a:lnTo>
                  <a:lnTo>
                    <a:pt x="594" y="152"/>
                  </a:lnTo>
                  <a:lnTo>
                    <a:pt x="553" y="177"/>
                  </a:lnTo>
                  <a:lnTo>
                    <a:pt x="515" y="206"/>
                  </a:lnTo>
                  <a:lnTo>
                    <a:pt x="485" y="236"/>
                  </a:lnTo>
                  <a:lnTo>
                    <a:pt x="460" y="261"/>
                  </a:lnTo>
                  <a:lnTo>
                    <a:pt x="440" y="281"/>
                  </a:lnTo>
                  <a:lnTo>
                    <a:pt x="426" y="301"/>
                  </a:lnTo>
                  <a:lnTo>
                    <a:pt x="419" y="315"/>
                  </a:lnTo>
                  <a:lnTo>
                    <a:pt x="415" y="324"/>
                  </a:lnTo>
                  <a:lnTo>
                    <a:pt x="413" y="326"/>
                  </a:lnTo>
                  <a:lnTo>
                    <a:pt x="408" y="329"/>
                  </a:lnTo>
                  <a:lnTo>
                    <a:pt x="399" y="331"/>
                  </a:lnTo>
                  <a:lnTo>
                    <a:pt x="381" y="335"/>
                  </a:lnTo>
                  <a:lnTo>
                    <a:pt x="360" y="342"/>
                  </a:lnTo>
                  <a:lnTo>
                    <a:pt x="338" y="351"/>
                  </a:lnTo>
                  <a:lnTo>
                    <a:pt x="315" y="365"/>
                  </a:lnTo>
                  <a:lnTo>
                    <a:pt x="295" y="378"/>
                  </a:lnTo>
                  <a:lnTo>
                    <a:pt x="279" y="394"/>
                  </a:lnTo>
                  <a:lnTo>
                    <a:pt x="263" y="412"/>
                  </a:lnTo>
                  <a:lnTo>
                    <a:pt x="243" y="433"/>
                  </a:lnTo>
                  <a:lnTo>
                    <a:pt x="222" y="449"/>
                  </a:lnTo>
                  <a:lnTo>
                    <a:pt x="202" y="465"/>
                  </a:lnTo>
                  <a:lnTo>
                    <a:pt x="184" y="487"/>
                  </a:lnTo>
                  <a:lnTo>
                    <a:pt x="166" y="510"/>
                  </a:lnTo>
                  <a:lnTo>
                    <a:pt x="152" y="535"/>
                  </a:lnTo>
                  <a:lnTo>
                    <a:pt x="145" y="562"/>
                  </a:lnTo>
                  <a:lnTo>
                    <a:pt x="134" y="589"/>
                  </a:lnTo>
                  <a:lnTo>
                    <a:pt x="120" y="612"/>
                  </a:lnTo>
                  <a:lnTo>
                    <a:pt x="107" y="644"/>
                  </a:lnTo>
                  <a:lnTo>
                    <a:pt x="118" y="684"/>
                  </a:lnTo>
                  <a:lnTo>
                    <a:pt x="104" y="691"/>
                  </a:lnTo>
                  <a:lnTo>
                    <a:pt x="79" y="714"/>
                  </a:lnTo>
                  <a:lnTo>
                    <a:pt x="52" y="746"/>
                  </a:lnTo>
                  <a:lnTo>
                    <a:pt x="32" y="793"/>
                  </a:lnTo>
                  <a:lnTo>
                    <a:pt x="29" y="879"/>
                  </a:lnTo>
                  <a:lnTo>
                    <a:pt x="32" y="940"/>
                  </a:lnTo>
                  <a:lnTo>
                    <a:pt x="23" y="965"/>
                  </a:lnTo>
                  <a:lnTo>
                    <a:pt x="9" y="990"/>
                  </a:lnTo>
                  <a:lnTo>
                    <a:pt x="0" y="1029"/>
                  </a:lnTo>
                  <a:lnTo>
                    <a:pt x="5" y="1101"/>
                  </a:lnTo>
                  <a:lnTo>
                    <a:pt x="23" y="1181"/>
                  </a:lnTo>
                  <a:lnTo>
                    <a:pt x="45" y="1235"/>
                  </a:lnTo>
                  <a:lnTo>
                    <a:pt x="73" y="1267"/>
                  </a:lnTo>
                  <a:lnTo>
                    <a:pt x="109" y="1280"/>
                  </a:lnTo>
                  <a:lnTo>
                    <a:pt x="107" y="1305"/>
                  </a:lnTo>
                  <a:lnTo>
                    <a:pt x="118" y="1328"/>
                  </a:lnTo>
                  <a:lnTo>
                    <a:pt x="134" y="1348"/>
                  </a:lnTo>
                  <a:lnTo>
                    <a:pt x="156" y="1364"/>
                  </a:lnTo>
                  <a:lnTo>
                    <a:pt x="184" y="1382"/>
                  </a:lnTo>
                  <a:lnTo>
                    <a:pt x="213" y="1394"/>
                  </a:lnTo>
                  <a:lnTo>
                    <a:pt x="245" y="1405"/>
                  </a:lnTo>
                  <a:lnTo>
                    <a:pt x="274" y="1412"/>
                  </a:lnTo>
                  <a:lnTo>
                    <a:pt x="299" y="1416"/>
                  </a:lnTo>
                  <a:lnTo>
                    <a:pt x="320" y="1423"/>
                  </a:lnTo>
                  <a:lnTo>
                    <a:pt x="342" y="1430"/>
                  </a:lnTo>
                  <a:lnTo>
                    <a:pt x="363" y="1437"/>
                  </a:lnTo>
                  <a:lnTo>
                    <a:pt x="385" y="1446"/>
                  </a:lnTo>
                  <a:lnTo>
                    <a:pt x="408" y="1450"/>
                  </a:lnTo>
                  <a:lnTo>
                    <a:pt x="435" y="1453"/>
                  </a:lnTo>
                  <a:lnTo>
                    <a:pt x="469" y="1455"/>
                  </a:lnTo>
                  <a:lnTo>
                    <a:pt x="503" y="1455"/>
                  </a:lnTo>
                  <a:lnTo>
                    <a:pt x="531" y="1455"/>
                  </a:lnTo>
                  <a:lnTo>
                    <a:pt x="558" y="1455"/>
                  </a:lnTo>
                  <a:lnTo>
                    <a:pt x="587" y="1457"/>
                  </a:lnTo>
                  <a:lnTo>
                    <a:pt x="610" y="1459"/>
                  </a:lnTo>
                  <a:lnTo>
                    <a:pt x="633" y="1462"/>
                  </a:lnTo>
                  <a:lnTo>
                    <a:pt x="657" y="1466"/>
                  </a:lnTo>
                  <a:lnTo>
                    <a:pt x="682" y="1471"/>
                  </a:lnTo>
                  <a:lnTo>
                    <a:pt x="712" y="1478"/>
                  </a:lnTo>
                  <a:lnTo>
                    <a:pt x="741" y="1480"/>
                  </a:lnTo>
                  <a:lnTo>
                    <a:pt x="769" y="1478"/>
                  </a:lnTo>
                  <a:lnTo>
                    <a:pt x="796" y="1475"/>
                  </a:lnTo>
                  <a:lnTo>
                    <a:pt x="823" y="1468"/>
                  </a:lnTo>
                  <a:lnTo>
                    <a:pt x="848" y="1455"/>
                  </a:lnTo>
                  <a:lnTo>
                    <a:pt x="866" y="1439"/>
                  </a:lnTo>
                  <a:lnTo>
                    <a:pt x="877" y="1416"/>
                  </a:lnTo>
                  <a:lnTo>
                    <a:pt x="920" y="1410"/>
                  </a:lnTo>
                  <a:lnTo>
                    <a:pt x="959" y="1380"/>
                  </a:lnTo>
                  <a:lnTo>
                    <a:pt x="986" y="1339"/>
                  </a:lnTo>
                  <a:lnTo>
                    <a:pt x="998" y="1299"/>
                  </a:lnTo>
                  <a:lnTo>
                    <a:pt x="1022" y="1283"/>
                  </a:lnTo>
                  <a:lnTo>
                    <a:pt x="1029" y="1255"/>
                  </a:lnTo>
                  <a:lnTo>
                    <a:pt x="1025" y="1224"/>
                  </a:lnTo>
                  <a:lnTo>
                    <a:pt x="1018" y="1203"/>
                  </a:lnTo>
                  <a:lnTo>
                    <a:pt x="1022" y="1201"/>
                  </a:lnTo>
                  <a:lnTo>
                    <a:pt x="1041" y="1199"/>
                  </a:lnTo>
                  <a:lnTo>
                    <a:pt x="1068" y="1187"/>
                  </a:lnTo>
                  <a:lnTo>
                    <a:pt x="1097" y="1163"/>
                  </a:lnTo>
                  <a:lnTo>
                    <a:pt x="1111" y="1135"/>
                  </a:lnTo>
                  <a:lnTo>
                    <a:pt x="1100" y="1115"/>
                  </a:lnTo>
                  <a:lnTo>
                    <a:pt x="1079" y="1090"/>
                  </a:lnTo>
                  <a:lnTo>
                    <a:pt x="1075" y="1058"/>
                  </a:lnTo>
                  <a:lnTo>
                    <a:pt x="1084" y="1036"/>
                  </a:lnTo>
                  <a:lnTo>
                    <a:pt x="1102" y="1011"/>
                  </a:lnTo>
                  <a:lnTo>
                    <a:pt x="1129" y="988"/>
                  </a:lnTo>
                  <a:lnTo>
                    <a:pt x="1163" y="963"/>
                  </a:lnTo>
                  <a:lnTo>
                    <a:pt x="1206" y="943"/>
                  </a:lnTo>
                  <a:lnTo>
                    <a:pt x="1254" y="922"/>
                  </a:lnTo>
                  <a:lnTo>
                    <a:pt x="1308" y="913"/>
                  </a:lnTo>
                  <a:lnTo>
                    <a:pt x="1367" y="911"/>
                  </a:lnTo>
                  <a:lnTo>
                    <a:pt x="1422" y="916"/>
                  </a:lnTo>
                  <a:lnTo>
                    <a:pt x="1469" y="925"/>
                  </a:lnTo>
                  <a:lnTo>
                    <a:pt x="1505" y="936"/>
                  </a:lnTo>
                  <a:lnTo>
                    <a:pt x="1535" y="952"/>
                  </a:lnTo>
                  <a:lnTo>
                    <a:pt x="1555" y="963"/>
                  </a:lnTo>
                  <a:lnTo>
                    <a:pt x="1569" y="974"/>
                  </a:lnTo>
                  <a:lnTo>
                    <a:pt x="1578" y="981"/>
                  </a:lnTo>
                  <a:lnTo>
                    <a:pt x="1580" y="984"/>
                  </a:lnTo>
                  <a:lnTo>
                    <a:pt x="1589" y="1049"/>
                  </a:lnTo>
                  <a:lnTo>
                    <a:pt x="1616" y="1095"/>
                  </a:lnTo>
                  <a:lnTo>
                    <a:pt x="1653" y="1119"/>
                  </a:lnTo>
                  <a:lnTo>
                    <a:pt x="1687" y="1129"/>
                  </a:lnTo>
                  <a:lnTo>
                    <a:pt x="1689" y="1138"/>
                  </a:lnTo>
                  <a:lnTo>
                    <a:pt x="1703" y="1160"/>
                  </a:lnTo>
                  <a:lnTo>
                    <a:pt x="1739" y="1183"/>
                  </a:lnTo>
                  <a:lnTo>
                    <a:pt x="1805" y="1192"/>
                  </a:lnTo>
                  <a:lnTo>
                    <a:pt x="1805" y="1185"/>
                  </a:lnTo>
                  <a:lnTo>
                    <a:pt x="1811" y="1169"/>
                  </a:lnTo>
                  <a:lnTo>
                    <a:pt x="1827" y="1156"/>
                  </a:lnTo>
                  <a:lnTo>
                    <a:pt x="1859" y="1153"/>
                  </a:lnTo>
                  <a:lnTo>
                    <a:pt x="1873" y="1149"/>
                  </a:lnTo>
                  <a:lnTo>
                    <a:pt x="1900" y="1147"/>
                  </a:lnTo>
                  <a:lnTo>
                    <a:pt x="1932" y="1153"/>
                  </a:lnTo>
                  <a:lnTo>
                    <a:pt x="1959" y="1187"/>
                  </a:lnTo>
                  <a:lnTo>
                    <a:pt x="1966" y="1185"/>
                  </a:lnTo>
                  <a:lnTo>
                    <a:pt x="1975" y="1187"/>
                  </a:lnTo>
                  <a:lnTo>
                    <a:pt x="1991" y="1190"/>
                  </a:lnTo>
                  <a:lnTo>
                    <a:pt x="1995" y="1203"/>
                  </a:lnTo>
                  <a:lnTo>
                    <a:pt x="2000" y="1203"/>
                  </a:lnTo>
                  <a:lnTo>
                    <a:pt x="2011" y="1208"/>
                  </a:lnTo>
                  <a:lnTo>
                    <a:pt x="2022" y="1215"/>
                  </a:lnTo>
                  <a:lnTo>
                    <a:pt x="2031" y="1231"/>
                  </a:lnTo>
                  <a:lnTo>
                    <a:pt x="2038" y="1235"/>
                  </a:lnTo>
                  <a:lnTo>
                    <a:pt x="2056" y="1249"/>
                  </a:lnTo>
                  <a:lnTo>
                    <a:pt x="2074" y="1267"/>
                  </a:lnTo>
                  <a:lnTo>
                    <a:pt x="2084" y="1287"/>
                  </a:lnTo>
                  <a:lnTo>
                    <a:pt x="2154" y="1342"/>
                  </a:lnTo>
                  <a:lnTo>
                    <a:pt x="2167" y="1351"/>
                  </a:lnTo>
                  <a:lnTo>
                    <a:pt x="2201" y="1378"/>
                  </a:lnTo>
                  <a:lnTo>
                    <a:pt x="2256" y="1414"/>
                  </a:lnTo>
                  <a:lnTo>
                    <a:pt x="2317" y="1455"/>
                  </a:lnTo>
                  <a:lnTo>
                    <a:pt x="2390" y="1496"/>
                  </a:lnTo>
                  <a:lnTo>
                    <a:pt x="2458" y="1534"/>
                  </a:lnTo>
                  <a:lnTo>
                    <a:pt x="2521" y="1561"/>
                  </a:lnTo>
                  <a:lnTo>
                    <a:pt x="2573" y="1577"/>
                  </a:lnTo>
                  <a:lnTo>
                    <a:pt x="2609" y="1577"/>
                  </a:lnTo>
                  <a:lnTo>
                    <a:pt x="2639" y="1568"/>
                  </a:lnTo>
                  <a:lnTo>
                    <a:pt x="2662" y="1552"/>
                  </a:lnTo>
                  <a:lnTo>
                    <a:pt x="2678" y="1536"/>
                  </a:lnTo>
                  <a:lnTo>
                    <a:pt x="2684" y="1516"/>
                  </a:lnTo>
                  <a:lnTo>
                    <a:pt x="2691" y="1498"/>
                  </a:lnTo>
                  <a:lnTo>
                    <a:pt x="2684" y="1480"/>
                  </a:lnTo>
                  <a:lnTo>
                    <a:pt x="2678" y="1466"/>
                  </a:lnTo>
                  <a:lnTo>
                    <a:pt x="2714" y="1464"/>
                  </a:lnTo>
                  <a:lnTo>
                    <a:pt x="2752" y="1441"/>
                  </a:lnTo>
                  <a:lnTo>
                    <a:pt x="2775" y="1405"/>
                  </a:lnTo>
                  <a:lnTo>
                    <a:pt x="2782" y="1371"/>
                  </a:lnTo>
                  <a:lnTo>
                    <a:pt x="2798" y="1333"/>
                  </a:lnTo>
                  <a:lnTo>
                    <a:pt x="2807" y="1251"/>
                  </a:lnTo>
                  <a:lnTo>
                    <a:pt x="2793" y="1163"/>
                  </a:lnTo>
                  <a:lnTo>
                    <a:pt x="2759" y="1113"/>
                  </a:lnTo>
                  <a:lnTo>
                    <a:pt x="2757" y="1083"/>
                  </a:lnTo>
                  <a:lnTo>
                    <a:pt x="2748" y="1011"/>
                  </a:lnTo>
                  <a:lnTo>
                    <a:pt x="2721" y="922"/>
                  </a:lnTo>
                  <a:lnTo>
                    <a:pt x="2659" y="843"/>
                  </a:lnTo>
                  <a:lnTo>
                    <a:pt x="2657" y="811"/>
                  </a:lnTo>
                  <a:lnTo>
                    <a:pt x="2639" y="786"/>
                  </a:lnTo>
                  <a:lnTo>
                    <a:pt x="2616" y="764"/>
                  </a:lnTo>
                  <a:lnTo>
                    <a:pt x="2596" y="732"/>
                  </a:lnTo>
                  <a:lnTo>
                    <a:pt x="2585" y="712"/>
                  </a:lnTo>
                  <a:lnTo>
                    <a:pt x="2569" y="684"/>
                  </a:lnTo>
                  <a:lnTo>
                    <a:pt x="2553" y="655"/>
                  </a:lnTo>
                  <a:lnTo>
                    <a:pt x="2532" y="628"/>
                  </a:lnTo>
                  <a:lnTo>
                    <a:pt x="2507" y="603"/>
                  </a:lnTo>
                  <a:lnTo>
                    <a:pt x="2480" y="580"/>
                  </a:lnTo>
                  <a:lnTo>
                    <a:pt x="2446" y="564"/>
                  </a:lnTo>
                  <a:lnTo>
                    <a:pt x="2412" y="560"/>
                  </a:lnTo>
                  <a:lnTo>
                    <a:pt x="2410" y="539"/>
                  </a:lnTo>
                  <a:lnTo>
                    <a:pt x="2403" y="514"/>
                  </a:lnTo>
                  <a:lnTo>
                    <a:pt x="2390" y="487"/>
                  </a:lnTo>
                  <a:lnTo>
                    <a:pt x="2371" y="458"/>
                  </a:lnTo>
                  <a:lnTo>
                    <a:pt x="2353" y="433"/>
                  </a:lnTo>
                  <a:lnTo>
                    <a:pt x="2331" y="410"/>
                  </a:lnTo>
                  <a:lnTo>
                    <a:pt x="2310" y="392"/>
                  </a:lnTo>
                  <a:lnTo>
                    <a:pt x="2290" y="378"/>
                  </a:lnTo>
                  <a:lnTo>
                    <a:pt x="2276" y="369"/>
                  </a:lnTo>
                  <a:lnTo>
                    <a:pt x="2267" y="351"/>
                  </a:lnTo>
                  <a:lnTo>
                    <a:pt x="2256" y="326"/>
                  </a:lnTo>
                  <a:lnTo>
                    <a:pt x="2247" y="306"/>
                  </a:lnTo>
                  <a:lnTo>
                    <a:pt x="2229" y="279"/>
                  </a:lnTo>
                  <a:lnTo>
                    <a:pt x="2201" y="258"/>
                  </a:lnTo>
                  <a:lnTo>
                    <a:pt x="2165" y="242"/>
                  </a:lnTo>
                  <a:lnTo>
                    <a:pt x="2115" y="227"/>
                  </a:lnTo>
                  <a:lnTo>
                    <a:pt x="2113" y="222"/>
                  </a:lnTo>
                  <a:lnTo>
                    <a:pt x="2102" y="213"/>
                  </a:lnTo>
                  <a:lnTo>
                    <a:pt x="2090" y="199"/>
                  </a:lnTo>
                  <a:lnTo>
                    <a:pt x="2070" y="184"/>
                  </a:lnTo>
                  <a:lnTo>
                    <a:pt x="2043" y="168"/>
                  </a:lnTo>
                  <a:lnTo>
                    <a:pt x="2013" y="154"/>
                  </a:lnTo>
                  <a:lnTo>
                    <a:pt x="1972" y="145"/>
                  </a:lnTo>
                  <a:lnTo>
                    <a:pt x="1927" y="141"/>
                  </a:lnTo>
                  <a:lnTo>
                    <a:pt x="1925" y="138"/>
                  </a:lnTo>
                  <a:lnTo>
                    <a:pt x="1918" y="131"/>
                  </a:lnTo>
                  <a:lnTo>
                    <a:pt x="1904" y="120"/>
                  </a:lnTo>
                  <a:lnTo>
                    <a:pt x="1886" y="107"/>
                  </a:lnTo>
                  <a:lnTo>
                    <a:pt x="1857" y="95"/>
                  </a:lnTo>
                  <a:lnTo>
                    <a:pt x="1823" y="84"/>
                  </a:lnTo>
                  <a:lnTo>
                    <a:pt x="1777" y="79"/>
                  </a:lnTo>
                  <a:lnTo>
                    <a:pt x="1725" y="77"/>
                  </a:lnTo>
                  <a:lnTo>
                    <a:pt x="1725" y="77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84640" y="3468600"/>
              <a:ext cx="1889280" cy="217008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84640" y="3468600"/>
              <a:ext cx="1889280" cy="217008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lnTo>
                    <a:pt x="812" y="1786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590920" y="3952800"/>
              <a:ext cx="874440" cy="874800"/>
              <a:chOff x="2590920" y="3952800"/>
              <a:chExt cx="874440" cy="874800"/>
            </a:xfrm>
          </p:grpSpPr>
          <p:sp>
            <p:nvSpPr>
              <p:cNvPr id="128" name=""/>
              <p:cNvSpPr/>
              <p:nvPr/>
            </p:nvSpPr>
            <p:spPr>
              <a:xfrm>
                <a:off x="2590920" y="3952800"/>
                <a:ext cx="874440" cy="8748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49240" y="4186080"/>
                <a:ext cx="174600" cy="40824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465360" y="3311640"/>
              <a:ext cx="874800" cy="1108080"/>
            </a:xfrm>
            <a:custGeom>
              <a:avLst/>
              <a:gdLst/>
              <a:ahLst/>
              <a:rect l="l" t="t" r="r" b="b"/>
              <a:pathLst>
                <a:path w="720" h="912">
                  <a:moveTo>
                    <a:pt x="0" y="912"/>
                  </a:moveTo>
                  <a:cubicBezTo>
                    <a:pt x="62" y="852"/>
                    <a:pt x="287" y="670"/>
                    <a:pt x="373" y="550"/>
                  </a:cubicBezTo>
                  <a:cubicBezTo>
                    <a:pt x="459" y="430"/>
                    <a:pt x="460" y="281"/>
                    <a:pt x="518" y="189"/>
                  </a:cubicBezTo>
                  <a:cubicBezTo>
                    <a:pt x="576" y="97"/>
                    <a:pt x="678" y="39"/>
                    <a:pt x="720" y="0"/>
                  </a:cubicBezTo>
                </a:path>
              </a:pathLst>
            </a:custGeom>
            <a:noFill/>
            <a:ln w="5724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81480" y="3135240"/>
              <a:ext cx="700200" cy="233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23000" y="3247920"/>
              <a:ext cx="1108080" cy="587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92" y="20"/>
                    <a:pt x="184" y="40"/>
                    <a:pt x="288" y="96"/>
                  </a:cubicBezTo>
                  <a:cubicBezTo>
                    <a:pt x="392" y="152"/>
                    <a:pt x="528" y="272"/>
                    <a:pt x="624" y="336"/>
                  </a:cubicBezTo>
                  <a:cubicBezTo>
                    <a:pt x="720" y="400"/>
                    <a:pt x="792" y="440"/>
                    <a:pt x="864" y="480"/>
                  </a:cubicBezTo>
                </a:path>
              </a:pathLst>
            </a:custGeom>
            <a:noFill/>
            <a:ln w="5724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61240" y="3252960"/>
              <a:ext cx="438120" cy="1020600"/>
            </a:xfrm>
            <a:custGeom>
              <a:avLst/>
              <a:gdLst/>
              <a:ahLst/>
              <a:rect l="l" t="t" r="r" b="b"/>
              <a:pathLst>
                <a:path w="361" h="840">
                  <a:moveTo>
                    <a:pt x="154" y="48"/>
                  </a:moveTo>
                  <a:cubicBezTo>
                    <a:pt x="181" y="0"/>
                    <a:pt x="232" y="151"/>
                    <a:pt x="264" y="207"/>
                  </a:cubicBezTo>
                  <a:cubicBezTo>
                    <a:pt x="296" y="263"/>
                    <a:pt x="331" y="324"/>
                    <a:pt x="346" y="384"/>
                  </a:cubicBezTo>
                  <a:cubicBezTo>
                    <a:pt x="361" y="444"/>
                    <a:pt x="360" y="513"/>
                    <a:pt x="352" y="569"/>
                  </a:cubicBezTo>
                  <a:cubicBezTo>
                    <a:pt x="344" y="625"/>
                    <a:pt x="329" y="676"/>
                    <a:pt x="298" y="720"/>
                  </a:cubicBezTo>
                  <a:cubicBezTo>
                    <a:pt x="267" y="764"/>
                    <a:pt x="212" y="824"/>
                    <a:pt x="164" y="832"/>
                  </a:cubicBezTo>
                  <a:cubicBezTo>
                    <a:pt x="116" y="840"/>
                    <a:pt x="20" y="824"/>
                    <a:pt x="10" y="768"/>
                  </a:cubicBezTo>
                  <a:cubicBezTo>
                    <a:pt x="0" y="712"/>
                    <a:pt x="78" y="614"/>
                    <a:pt x="102" y="494"/>
                  </a:cubicBezTo>
                  <a:cubicBezTo>
                    <a:pt x="126" y="374"/>
                    <a:pt x="126" y="95"/>
                    <a:pt x="154" y="48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64840" y="2514600"/>
              <a:ext cx="977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LG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96160" y="444672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ri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248520" y="3962520"/>
            <a:ext cx="23619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4114800"/>
            <a:ext cx="2514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38080" y="4267080"/>
            <a:ext cx="2590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ate corte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imary visual cent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 are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edge detector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s when an edge of a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particular ori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2590920" y="2362320"/>
            <a:ext cx="4532400" cy="3276360"/>
            <a:chOff x="2590920" y="2362320"/>
            <a:chExt cx="4532400" cy="3276360"/>
          </a:xfrm>
        </p:grpSpPr>
        <p:sp>
          <p:nvSpPr>
            <p:cNvPr id="142" name=""/>
            <p:cNvSpPr/>
            <p:nvPr/>
          </p:nvSpPr>
          <p:spPr>
            <a:xfrm>
              <a:off x="3019320" y="2362320"/>
              <a:ext cx="3409920" cy="1915920"/>
            </a:xfrm>
            <a:custGeom>
              <a:avLst/>
              <a:gdLst/>
              <a:ahLst/>
              <a:rect l="l" t="t" r="r" b="b"/>
              <a:pathLst>
                <a:path w="2807" h="1577">
                  <a:moveTo>
                    <a:pt x="1725" y="77"/>
                  </a:moveTo>
                  <a:lnTo>
                    <a:pt x="1709" y="70"/>
                  </a:lnTo>
                  <a:lnTo>
                    <a:pt x="1694" y="61"/>
                  </a:lnTo>
                  <a:lnTo>
                    <a:pt x="1675" y="50"/>
                  </a:lnTo>
                  <a:lnTo>
                    <a:pt x="1655" y="36"/>
                  </a:lnTo>
                  <a:lnTo>
                    <a:pt x="1628" y="23"/>
                  </a:lnTo>
                  <a:lnTo>
                    <a:pt x="1598" y="11"/>
                  </a:lnTo>
                  <a:lnTo>
                    <a:pt x="1564" y="5"/>
                  </a:lnTo>
                  <a:lnTo>
                    <a:pt x="1524" y="0"/>
                  </a:lnTo>
                  <a:lnTo>
                    <a:pt x="1483" y="0"/>
                  </a:lnTo>
                  <a:lnTo>
                    <a:pt x="1449" y="5"/>
                  </a:lnTo>
                  <a:lnTo>
                    <a:pt x="1419" y="11"/>
                  </a:lnTo>
                  <a:lnTo>
                    <a:pt x="1392" y="20"/>
                  </a:lnTo>
                  <a:lnTo>
                    <a:pt x="1369" y="29"/>
                  </a:lnTo>
                  <a:lnTo>
                    <a:pt x="1347" y="39"/>
                  </a:lnTo>
                  <a:lnTo>
                    <a:pt x="1322" y="45"/>
                  </a:lnTo>
                  <a:lnTo>
                    <a:pt x="1295" y="50"/>
                  </a:lnTo>
                  <a:lnTo>
                    <a:pt x="1265" y="50"/>
                  </a:lnTo>
                  <a:lnTo>
                    <a:pt x="1238" y="48"/>
                  </a:lnTo>
                  <a:lnTo>
                    <a:pt x="1213" y="41"/>
                  </a:lnTo>
                  <a:lnTo>
                    <a:pt x="1188" y="34"/>
                  </a:lnTo>
                  <a:lnTo>
                    <a:pt x="1161" y="29"/>
                  </a:lnTo>
                  <a:lnTo>
                    <a:pt x="1136" y="25"/>
                  </a:lnTo>
                  <a:lnTo>
                    <a:pt x="1109" y="27"/>
                  </a:lnTo>
                  <a:lnTo>
                    <a:pt x="1081" y="32"/>
                  </a:lnTo>
                  <a:lnTo>
                    <a:pt x="1054" y="39"/>
                  </a:lnTo>
                  <a:lnTo>
                    <a:pt x="1029" y="41"/>
                  </a:lnTo>
                  <a:lnTo>
                    <a:pt x="1009" y="41"/>
                  </a:lnTo>
                  <a:lnTo>
                    <a:pt x="988" y="41"/>
                  </a:lnTo>
                  <a:lnTo>
                    <a:pt x="966" y="41"/>
                  </a:lnTo>
                  <a:lnTo>
                    <a:pt x="941" y="43"/>
                  </a:lnTo>
                  <a:lnTo>
                    <a:pt x="907" y="50"/>
                  </a:lnTo>
                  <a:lnTo>
                    <a:pt x="868" y="61"/>
                  </a:lnTo>
                  <a:lnTo>
                    <a:pt x="803" y="86"/>
                  </a:lnTo>
                  <a:lnTo>
                    <a:pt x="775" y="109"/>
                  </a:lnTo>
                  <a:lnTo>
                    <a:pt x="762" y="127"/>
                  </a:lnTo>
                  <a:lnTo>
                    <a:pt x="744" y="138"/>
                  </a:lnTo>
                  <a:lnTo>
                    <a:pt x="732" y="138"/>
                  </a:lnTo>
                  <a:lnTo>
                    <a:pt x="716" y="138"/>
                  </a:lnTo>
                  <a:lnTo>
                    <a:pt x="698" y="136"/>
                  </a:lnTo>
                  <a:lnTo>
                    <a:pt x="678" y="131"/>
                  </a:lnTo>
                  <a:lnTo>
                    <a:pt x="655" y="134"/>
                  </a:lnTo>
                  <a:lnTo>
                    <a:pt x="628" y="138"/>
                  </a:lnTo>
                  <a:lnTo>
                    <a:pt x="594" y="152"/>
                  </a:lnTo>
                  <a:lnTo>
                    <a:pt x="553" y="177"/>
                  </a:lnTo>
                  <a:lnTo>
                    <a:pt x="515" y="206"/>
                  </a:lnTo>
                  <a:lnTo>
                    <a:pt x="485" y="236"/>
                  </a:lnTo>
                  <a:lnTo>
                    <a:pt x="460" y="261"/>
                  </a:lnTo>
                  <a:lnTo>
                    <a:pt x="440" y="281"/>
                  </a:lnTo>
                  <a:lnTo>
                    <a:pt x="426" y="301"/>
                  </a:lnTo>
                  <a:lnTo>
                    <a:pt x="419" y="315"/>
                  </a:lnTo>
                  <a:lnTo>
                    <a:pt x="415" y="324"/>
                  </a:lnTo>
                  <a:lnTo>
                    <a:pt x="413" y="326"/>
                  </a:lnTo>
                  <a:lnTo>
                    <a:pt x="408" y="329"/>
                  </a:lnTo>
                  <a:lnTo>
                    <a:pt x="399" y="331"/>
                  </a:lnTo>
                  <a:lnTo>
                    <a:pt x="381" y="335"/>
                  </a:lnTo>
                  <a:lnTo>
                    <a:pt x="360" y="342"/>
                  </a:lnTo>
                  <a:lnTo>
                    <a:pt x="338" y="351"/>
                  </a:lnTo>
                  <a:lnTo>
                    <a:pt x="315" y="365"/>
                  </a:lnTo>
                  <a:lnTo>
                    <a:pt x="295" y="378"/>
                  </a:lnTo>
                  <a:lnTo>
                    <a:pt x="279" y="394"/>
                  </a:lnTo>
                  <a:lnTo>
                    <a:pt x="263" y="412"/>
                  </a:lnTo>
                  <a:lnTo>
                    <a:pt x="243" y="433"/>
                  </a:lnTo>
                  <a:lnTo>
                    <a:pt x="222" y="449"/>
                  </a:lnTo>
                  <a:lnTo>
                    <a:pt x="202" y="465"/>
                  </a:lnTo>
                  <a:lnTo>
                    <a:pt x="184" y="487"/>
                  </a:lnTo>
                  <a:lnTo>
                    <a:pt x="166" y="510"/>
                  </a:lnTo>
                  <a:lnTo>
                    <a:pt x="152" y="535"/>
                  </a:lnTo>
                  <a:lnTo>
                    <a:pt x="145" y="562"/>
                  </a:lnTo>
                  <a:lnTo>
                    <a:pt x="134" y="589"/>
                  </a:lnTo>
                  <a:lnTo>
                    <a:pt x="120" y="612"/>
                  </a:lnTo>
                  <a:lnTo>
                    <a:pt x="107" y="644"/>
                  </a:lnTo>
                  <a:lnTo>
                    <a:pt x="118" y="684"/>
                  </a:lnTo>
                  <a:lnTo>
                    <a:pt x="104" y="691"/>
                  </a:lnTo>
                  <a:lnTo>
                    <a:pt x="79" y="714"/>
                  </a:lnTo>
                  <a:lnTo>
                    <a:pt x="52" y="746"/>
                  </a:lnTo>
                  <a:lnTo>
                    <a:pt x="32" y="793"/>
                  </a:lnTo>
                  <a:lnTo>
                    <a:pt x="29" y="879"/>
                  </a:lnTo>
                  <a:lnTo>
                    <a:pt x="32" y="940"/>
                  </a:lnTo>
                  <a:lnTo>
                    <a:pt x="23" y="965"/>
                  </a:lnTo>
                  <a:lnTo>
                    <a:pt x="9" y="990"/>
                  </a:lnTo>
                  <a:lnTo>
                    <a:pt x="0" y="1029"/>
                  </a:lnTo>
                  <a:lnTo>
                    <a:pt x="5" y="1101"/>
                  </a:lnTo>
                  <a:lnTo>
                    <a:pt x="23" y="1181"/>
                  </a:lnTo>
                  <a:lnTo>
                    <a:pt x="45" y="1235"/>
                  </a:lnTo>
                  <a:lnTo>
                    <a:pt x="73" y="1267"/>
                  </a:lnTo>
                  <a:lnTo>
                    <a:pt x="109" y="1280"/>
                  </a:lnTo>
                  <a:lnTo>
                    <a:pt x="107" y="1305"/>
                  </a:lnTo>
                  <a:lnTo>
                    <a:pt x="118" y="1328"/>
                  </a:lnTo>
                  <a:lnTo>
                    <a:pt x="134" y="1348"/>
                  </a:lnTo>
                  <a:lnTo>
                    <a:pt x="156" y="1364"/>
                  </a:lnTo>
                  <a:lnTo>
                    <a:pt x="184" y="1382"/>
                  </a:lnTo>
                  <a:lnTo>
                    <a:pt x="213" y="1394"/>
                  </a:lnTo>
                  <a:lnTo>
                    <a:pt x="245" y="1405"/>
                  </a:lnTo>
                  <a:lnTo>
                    <a:pt x="274" y="1412"/>
                  </a:lnTo>
                  <a:lnTo>
                    <a:pt x="299" y="1416"/>
                  </a:lnTo>
                  <a:lnTo>
                    <a:pt x="320" y="1423"/>
                  </a:lnTo>
                  <a:lnTo>
                    <a:pt x="342" y="1430"/>
                  </a:lnTo>
                  <a:lnTo>
                    <a:pt x="363" y="1437"/>
                  </a:lnTo>
                  <a:lnTo>
                    <a:pt x="385" y="1446"/>
                  </a:lnTo>
                  <a:lnTo>
                    <a:pt x="408" y="1450"/>
                  </a:lnTo>
                  <a:lnTo>
                    <a:pt x="435" y="1453"/>
                  </a:lnTo>
                  <a:lnTo>
                    <a:pt x="469" y="1455"/>
                  </a:lnTo>
                  <a:lnTo>
                    <a:pt x="503" y="1455"/>
                  </a:lnTo>
                  <a:lnTo>
                    <a:pt x="531" y="1455"/>
                  </a:lnTo>
                  <a:lnTo>
                    <a:pt x="558" y="1455"/>
                  </a:lnTo>
                  <a:lnTo>
                    <a:pt x="587" y="1457"/>
                  </a:lnTo>
                  <a:lnTo>
                    <a:pt x="610" y="1459"/>
                  </a:lnTo>
                  <a:lnTo>
                    <a:pt x="633" y="1462"/>
                  </a:lnTo>
                  <a:lnTo>
                    <a:pt x="657" y="1466"/>
                  </a:lnTo>
                  <a:lnTo>
                    <a:pt x="682" y="1471"/>
                  </a:lnTo>
                  <a:lnTo>
                    <a:pt x="712" y="1478"/>
                  </a:lnTo>
                  <a:lnTo>
                    <a:pt x="741" y="1480"/>
                  </a:lnTo>
                  <a:lnTo>
                    <a:pt x="769" y="1478"/>
                  </a:lnTo>
                  <a:lnTo>
                    <a:pt x="796" y="1475"/>
                  </a:lnTo>
                  <a:lnTo>
                    <a:pt x="823" y="1468"/>
                  </a:lnTo>
                  <a:lnTo>
                    <a:pt x="848" y="1455"/>
                  </a:lnTo>
                  <a:lnTo>
                    <a:pt x="866" y="1439"/>
                  </a:lnTo>
                  <a:lnTo>
                    <a:pt x="877" y="1416"/>
                  </a:lnTo>
                  <a:lnTo>
                    <a:pt x="920" y="1410"/>
                  </a:lnTo>
                  <a:lnTo>
                    <a:pt x="959" y="1380"/>
                  </a:lnTo>
                  <a:lnTo>
                    <a:pt x="986" y="1339"/>
                  </a:lnTo>
                  <a:lnTo>
                    <a:pt x="998" y="1299"/>
                  </a:lnTo>
                  <a:lnTo>
                    <a:pt x="1022" y="1283"/>
                  </a:lnTo>
                  <a:lnTo>
                    <a:pt x="1029" y="1255"/>
                  </a:lnTo>
                  <a:lnTo>
                    <a:pt x="1025" y="1224"/>
                  </a:lnTo>
                  <a:lnTo>
                    <a:pt x="1018" y="1203"/>
                  </a:lnTo>
                  <a:lnTo>
                    <a:pt x="1022" y="1201"/>
                  </a:lnTo>
                  <a:lnTo>
                    <a:pt x="1041" y="1199"/>
                  </a:lnTo>
                  <a:lnTo>
                    <a:pt x="1068" y="1187"/>
                  </a:lnTo>
                  <a:lnTo>
                    <a:pt x="1097" y="1163"/>
                  </a:lnTo>
                  <a:lnTo>
                    <a:pt x="1111" y="1135"/>
                  </a:lnTo>
                  <a:lnTo>
                    <a:pt x="1100" y="1115"/>
                  </a:lnTo>
                  <a:lnTo>
                    <a:pt x="1079" y="1090"/>
                  </a:lnTo>
                  <a:lnTo>
                    <a:pt x="1075" y="1058"/>
                  </a:lnTo>
                  <a:lnTo>
                    <a:pt x="1084" y="1036"/>
                  </a:lnTo>
                  <a:lnTo>
                    <a:pt x="1102" y="1011"/>
                  </a:lnTo>
                  <a:lnTo>
                    <a:pt x="1129" y="988"/>
                  </a:lnTo>
                  <a:lnTo>
                    <a:pt x="1163" y="963"/>
                  </a:lnTo>
                  <a:lnTo>
                    <a:pt x="1206" y="943"/>
                  </a:lnTo>
                  <a:lnTo>
                    <a:pt x="1254" y="922"/>
                  </a:lnTo>
                  <a:lnTo>
                    <a:pt x="1308" y="913"/>
                  </a:lnTo>
                  <a:lnTo>
                    <a:pt x="1367" y="911"/>
                  </a:lnTo>
                  <a:lnTo>
                    <a:pt x="1422" y="916"/>
                  </a:lnTo>
                  <a:lnTo>
                    <a:pt x="1469" y="925"/>
                  </a:lnTo>
                  <a:lnTo>
                    <a:pt x="1505" y="936"/>
                  </a:lnTo>
                  <a:lnTo>
                    <a:pt x="1535" y="952"/>
                  </a:lnTo>
                  <a:lnTo>
                    <a:pt x="1555" y="963"/>
                  </a:lnTo>
                  <a:lnTo>
                    <a:pt x="1569" y="974"/>
                  </a:lnTo>
                  <a:lnTo>
                    <a:pt x="1578" y="981"/>
                  </a:lnTo>
                  <a:lnTo>
                    <a:pt x="1580" y="984"/>
                  </a:lnTo>
                  <a:lnTo>
                    <a:pt x="1589" y="1049"/>
                  </a:lnTo>
                  <a:lnTo>
                    <a:pt x="1616" y="1095"/>
                  </a:lnTo>
                  <a:lnTo>
                    <a:pt x="1653" y="1119"/>
                  </a:lnTo>
                  <a:lnTo>
                    <a:pt x="1687" y="1129"/>
                  </a:lnTo>
                  <a:lnTo>
                    <a:pt x="1689" y="1138"/>
                  </a:lnTo>
                  <a:lnTo>
                    <a:pt x="1703" y="1160"/>
                  </a:lnTo>
                  <a:lnTo>
                    <a:pt x="1739" y="1183"/>
                  </a:lnTo>
                  <a:lnTo>
                    <a:pt x="1805" y="1192"/>
                  </a:lnTo>
                  <a:lnTo>
                    <a:pt x="1805" y="1185"/>
                  </a:lnTo>
                  <a:lnTo>
                    <a:pt x="1811" y="1169"/>
                  </a:lnTo>
                  <a:lnTo>
                    <a:pt x="1827" y="1156"/>
                  </a:lnTo>
                  <a:lnTo>
                    <a:pt x="1859" y="1153"/>
                  </a:lnTo>
                  <a:lnTo>
                    <a:pt x="1873" y="1149"/>
                  </a:lnTo>
                  <a:lnTo>
                    <a:pt x="1900" y="1147"/>
                  </a:lnTo>
                  <a:lnTo>
                    <a:pt x="1932" y="1153"/>
                  </a:lnTo>
                  <a:lnTo>
                    <a:pt x="1959" y="1187"/>
                  </a:lnTo>
                  <a:lnTo>
                    <a:pt x="1966" y="1185"/>
                  </a:lnTo>
                  <a:lnTo>
                    <a:pt x="1975" y="1187"/>
                  </a:lnTo>
                  <a:lnTo>
                    <a:pt x="1991" y="1190"/>
                  </a:lnTo>
                  <a:lnTo>
                    <a:pt x="1995" y="1203"/>
                  </a:lnTo>
                  <a:lnTo>
                    <a:pt x="2000" y="1203"/>
                  </a:lnTo>
                  <a:lnTo>
                    <a:pt x="2011" y="1208"/>
                  </a:lnTo>
                  <a:lnTo>
                    <a:pt x="2022" y="1215"/>
                  </a:lnTo>
                  <a:lnTo>
                    <a:pt x="2031" y="1231"/>
                  </a:lnTo>
                  <a:lnTo>
                    <a:pt x="2038" y="1235"/>
                  </a:lnTo>
                  <a:lnTo>
                    <a:pt x="2056" y="1249"/>
                  </a:lnTo>
                  <a:lnTo>
                    <a:pt x="2074" y="1267"/>
                  </a:lnTo>
                  <a:lnTo>
                    <a:pt x="2084" y="1287"/>
                  </a:lnTo>
                  <a:lnTo>
                    <a:pt x="2154" y="1342"/>
                  </a:lnTo>
                  <a:lnTo>
                    <a:pt x="2167" y="1351"/>
                  </a:lnTo>
                  <a:lnTo>
                    <a:pt x="2201" y="1378"/>
                  </a:lnTo>
                  <a:lnTo>
                    <a:pt x="2256" y="1414"/>
                  </a:lnTo>
                  <a:lnTo>
                    <a:pt x="2317" y="1455"/>
                  </a:lnTo>
                  <a:lnTo>
                    <a:pt x="2390" y="1496"/>
                  </a:lnTo>
                  <a:lnTo>
                    <a:pt x="2458" y="1534"/>
                  </a:lnTo>
                  <a:lnTo>
                    <a:pt x="2521" y="1561"/>
                  </a:lnTo>
                  <a:lnTo>
                    <a:pt x="2573" y="1577"/>
                  </a:lnTo>
                  <a:lnTo>
                    <a:pt x="2609" y="1577"/>
                  </a:lnTo>
                  <a:lnTo>
                    <a:pt x="2639" y="1568"/>
                  </a:lnTo>
                  <a:lnTo>
                    <a:pt x="2662" y="1552"/>
                  </a:lnTo>
                  <a:lnTo>
                    <a:pt x="2678" y="1536"/>
                  </a:lnTo>
                  <a:lnTo>
                    <a:pt x="2684" y="1516"/>
                  </a:lnTo>
                  <a:lnTo>
                    <a:pt x="2691" y="1498"/>
                  </a:lnTo>
                  <a:lnTo>
                    <a:pt x="2684" y="1480"/>
                  </a:lnTo>
                  <a:lnTo>
                    <a:pt x="2678" y="1466"/>
                  </a:lnTo>
                  <a:lnTo>
                    <a:pt x="2714" y="1464"/>
                  </a:lnTo>
                  <a:lnTo>
                    <a:pt x="2752" y="1441"/>
                  </a:lnTo>
                  <a:lnTo>
                    <a:pt x="2775" y="1405"/>
                  </a:lnTo>
                  <a:lnTo>
                    <a:pt x="2782" y="1371"/>
                  </a:lnTo>
                  <a:lnTo>
                    <a:pt x="2798" y="1333"/>
                  </a:lnTo>
                  <a:lnTo>
                    <a:pt x="2807" y="1251"/>
                  </a:lnTo>
                  <a:lnTo>
                    <a:pt x="2793" y="1163"/>
                  </a:lnTo>
                  <a:lnTo>
                    <a:pt x="2759" y="1113"/>
                  </a:lnTo>
                  <a:lnTo>
                    <a:pt x="2757" y="1083"/>
                  </a:lnTo>
                  <a:lnTo>
                    <a:pt x="2748" y="1011"/>
                  </a:lnTo>
                  <a:lnTo>
                    <a:pt x="2721" y="922"/>
                  </a:lnTo>
                  <a:lnTo>
                    <a:pt x="2659" y="843"/>
                  </a:lnTo>
                  <a:lnTo>
                    <a:pt x="2657" y="811"/>
                  </a:lnTo>
                  <a:lnTo>
                    <a:pt x="2639" y="786"/>
                  </a:lnTo>
                  <a:lnTo>
                    <a:pt x="2616" y="764"/>
                  </a:lnTo>
                  <a:lnTo>
                    <a:pt x="2596" y="732"/>
                  </a:lnTo>
                  <a:lnTo>
                    <a:pt x="2585" y="712"/>
                  </a:lnTo>
                  <a:lnTo>
                    <a:pt x="2569" y="684"/>
                  </a:lnTo>
                  <a:lnTo>
                    <a:pt x="2553" y="655"/>
                  </a:lnTo>
                  <a:lnTo>
                    <a:pt x="2532" y="628"/>
                  </a:lnTo>
                  <a:lnTo>
                    <a:pt x="2507" y="603"/>
                  </a:lnTo>
                  <a:lnTo>
                    <a:pt x="2480" y="580"/>
                  </a:lnTo>
                  <a:lnTo>
                    <a:pt x="2446" y="564"/>
                  </a:lnTo>
                  <a:lnTo>
                    <a:pt x="2412" y="560"/>
                  </a:lnTo>
                  <a:lnTo>
                    <a:pt x="2410" y="539"/>
                  </a:lnTo>
                  <a:lnTo>
                    <a:pt x="2403" y="514"/>
                  </a:lnTo>
                  <a:lnTo>
                    <a:pt x="2390" y="487"/>
                  </a:lnTo>
                  <a:lnTo>
                    <a:pt x="2371" y="458"/>
                  </a:lnTo>
                  <a:lnTo>
                    <a:pt x="2353" y="433"/>
                  </a:lnTo>
                  <a:lnTo>
                    <a:pt x="2331" y="410"/>
                  </a:lnTo>
                  <a:lnTo>
                    <a:pt x="2310" y="392"/>
                  </a:lnTo>
                  <a:lnTo>
                    <a:pt x="2290" y="378"/>
                  </a:lnTo>
                  <a:lnTo>
                    <a:pt x="2276" y="369"/>
                  </a:lnTo>
                  <a:lnTo>
                    <a:pt x="2267" y="351"/>
                  </a:lnTo>
                  <a:lnTo>
                    <a:pt x="2256" y="326"/>
                  </a:lnTo>
                  <a:lnTo>
                    <a:pt x="2247" y="306"/>
                  </a:lnTo>
                  <a:lnTo>
                    <a:pt x="2229" y="279"/>
                  </a:lnTo>
                  <a:lnTo>
                    <a:pt x="2201" y="258"/>
                  </a:lnTo>
                  <a:lnTo>
                    <a:pt x="2165" y="242"/>
                  </a:lnTo>
                  <a:lnTo>
                    <a:pt x="2115" y="227"/>
                  </a:lnTo>
                  <a:lnTo>
                    <a:pt x="2113" y="222"/>
                  </a:lnTo>
                  <a:lnTo>
                    <a:pt x="2102" y="213"/>
                  </a:lnTo>
                  <a:lnTo>
                    <a:pt x="2090" y="199"/>
                  </a:lnTo>
                  <a:lnTo>
                    <a:pt x="2070" y="184"/>
                  </a:lnTo>
                  <a:lnTo>
                    <a:pt x="2043" y="168"/>
                  </a:lnTo>
                  <a:lnTo>
                    <a:pt x="2013" y="154"/>
                  </a:lnTo>
                  <a:lnTo>
                    <a:pt x="1972" y="145"/>
                  </a:lnTo>
                  <a:lnTo>
                    <a:pt x="1927" y="141"/>
                  </a:lnTo>
                  <a:lnTo>
                    <a:pt x="1925" y="138"/>
                  </a:lnTo>
                  <a:lnTo>
                    <a:pt x="1918" y="131"/>
                  </a:lnTo>
                  <a:lnTo>
                    <a:pt x="1904" y="120"/>
                  </a:lnTo>
                  <a:lnTo>
                    <a:pt x="1886" y="107"/>
                  </a:lnTo>
                  <a:lnTo>
                    <a:pt x="1857" y="95"/>
                  </a:lnTo>
                  <a:lnTo>
                    <a:pt x="1823" y="84"/>
                  </a:lnTo>
                  <a:lnTo>
                    <a:pt x="1777" y="79"/>
                  </a:lnTo>
                  <a:lnTo>
                    <a:pt x="1725" y="77"/>
                  </a:lnTo>
                  <a:lnTo>
                    <a:pt x="1725" y="77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4640" y="3468600"/>
              <a:ext cx="1889280" cy="217008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84640" y="3468600"/>
              <a:ext cx="1889280" cy="217008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lnTo>
                    <a:pt x="812" y="1786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590920" y="3952800"/>
              <a:ext cx="874440" cy="874800"/>
              <a:chOff x="2590920" y="3952800"/>
              <a:chExt cx="874440" cy="874800"/>
            </a:xfrm>
          </p:grpSpPr>
          <p:sp>
            <p:nvSpPr>
              <p:cNvPr id="146" name=""/>
              <p:cNvSpPr/>
              <p:nvPr/>
            </p:nvSpPr>
            <p:spPr>
              <a:xfrm>
                <a:off x="2590920" y="3952800"/>
                <a:ext cx="874440" cy="8748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49240" y="4186080"/>
                <a:ext cx="174600" cy="40824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465360" y="3311640"/>
              <a:ext cx="874800" cy="1108080"/>
            </a:xfrm>
            <a:custGeom>
              <a:avLst/>
              <a:gdLst/>
              <a:ahLst/>
              <a:rect l="l" t="t" r="r" b="b"/>
              <a:pathLst>
                <a:path w="720" h="912">
                  <a:moveTo>
                    <a:pt x="0" y="912"/>
                  </a:moveTo>
                  <a:cubicBezTo>
                    <a:pt x="62" y="852"/>
                    <a:pt x="287" y="670"/>
                    <a:pt x="373" y="550"/>
                  </a:cubicBezTo>
                  <a:cubicBezTo>
                    <a:pt x="459" y="430"/>
                    <a:pt x="460" y="281"/>
                    <a:pt x="518" y="189"/>
                  </a:cubicBezTo>
                  <a:cubicBezTo>
                    <a:pt x="576" y="97"/>
                    <a:pt x="678" y="39"/>
                    <a:pt x="720" y="0"/>
                  </a:cubicBezTo>
                </a:path>
              </a:pathLst>
            </a:custGeom>
            <a:noFill/>
            <a:ln w="5724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81480" y="3135240"/>
              <a:ext cx="700200" cy="233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23000" y="3247920"/>
              <a:ext cx="1108080" cy="587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92" y="20"/>
                    <a:pt x="184" y="40"/>
                    <a:pt x="288" y="96"/>
                  </a:cubicBezTo>
                  <a:cubicBezTo>
                    <a:pt x="392" y="152"/>
                    <a:pt x="528" y="272"/>
                    <a:pt x="624" y="336"/>
                  </a:cubicBezTo>
                  <a:cubicBezTo>
                    <a:pt x="720" y="400"/>
                    <a:pt x="792" y="440"/>
                    <a:pt x="864" y="480"/>
                  </a:cubicBezTo>
                </a:path>
              </a:pathLst>
            </a:custGeom>
            <a:noFill/>
            <a:ln w="5724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61240" y="3252960"/>
              <a:ext cx="438120" cy="1020600"/>
            </a:xfrm>
            <a:custGeom>
              <a:avLst/>
              <a:gdLst/>
              <a:ahLst/>
              <a:rect l="l" t="t" r="r" b="b"/>
              <a:pathLst>
                <a:path w="361" h="840">
                  <a:moveTo>
                    <a:pt x="154" y="48"/>
                  </a:moveTo>
                  <a:cubicBezTo>
                    <a:pt x="181" y="0"/>
                    <a:pt x="232" y="151"/>
                    <a:pt x="264" y="207"/>
                  </a:cubicBezTo>
                  <a:cubicBezTo>
                    <a:pt x="296" y="263"/>
                    <a:pt x="331" y="324"/>
                    <a:pt x="346" y="384"/>
                  </a:cubicBezTo>
                  <a:cubicBezTo>
                    <a:pt x="361" y="444"/>
                    <a:pt x="360" y="513"/>
                    <a:pt x="352" y="569"/>
                  </a:cubicBezTo>
                  <a:cubicBezTo>
                    <a:pt x="344" y="625"/>
                    <a:pt x="329" y="676"/>
                    <a:pt x="298" y="720"/>
                  </a:cubicBezTo>
                  <a:cubicBezTo>
                    <a:pt x="267" y="764"/>
                    <a:pt x="212" y="824"/>
                    <a:pt x="164" y="832"/>
                  </a:cubicBezTo>
                  <a:cubicBezTo>
                    <a:pt x="116" y="840"/>
                    <a:pt x="20" y="824"/>
                    <a:pt x="10" y="768"/>
                  </a:cubicBezTo>
                  <a:cubicBezTo>
                    <a:pt x="0" y="712"/>
                    <a:pt x="78" y="614"/>
                    <a:pt x="102" y="494"/>
                  </a:cubicBezTo>
                  <a:cubicBezTo>
                    <a:pt x="126" y="374"/>
                    <a:pt x="126" y="95"/>
                    <a:pt x="154" y="48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64840" y="2514600"/>
              <a:ext cx="977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LG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6160" y="444672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ri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3962520"/>
            <a:ext cx="23619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4114800"/>
            <a:ext cx="2514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38080" y="4267080"/>
            <a:ext cx="2590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ate corte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imary visual cent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 are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edge detector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s when an edge of a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particular ori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267080"/>
            <a:ext cx="0" cy="53352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8332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3404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196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5640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2956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88688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2476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0392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7852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9136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3436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6444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412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52920" y="297180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0880" y="52372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vertic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2590920" y="2362320"/>
            <a:ext cx="4532400" cy="3276360"/>
            <a:chOff x="2590920" y="2362320"/>
            <a:chExt cx="4532400" cy="3276360"/>
          </a:xfrm>
        </p:grpSpPr>
        <p:sp>
          <p:nvSpPr>
            <p:cNvPr id="176" name=""/>
            <p:cNvSpPr/>
            <p:nvPr/>
          </p:nvSpPr>
          <p:spPr>
            <a:xfrm>
              <a:off x="3019320" y="2362320"/>
              <a:ext cx="3409920" cy="1915920"/>
            </a:xfrm>
            <a:custGeom>
              <a:avLst/>
              <a:gdLst/>
              <a:ahLst/>
              <a:rect l="l" t="t" r="r" b="b"/>
              <a:pathLst>
                <a:path w="2807" h="1577">
                  <a:moveTo>
                    <a:pt x="1725" y="77"/>
                  </a:moveTo>
                  <a:lnTo>
                    <a:pt x="1709" y="70"/>
                  </a:lnTo>
                  <a:lnTo>
                    <a:pt x="1694" y="61"/>
                  </a:lnTo>
                  <a:lnTo>
                    <a:pt x="1675" y="50"/>
                  </a:lnTo>
                  <a:lnTo>
                    <a:pt x="1655" y="36"/>
                  </a:lnTo>
                  <a:lnTo>
                    <a:pt x="1628" y="23"/>
                  </a:lnTo>
                  <a:lnTo>
                    <a:pt x="1598" y="11"/>
                  </a:lnTo>
                  <a:lnTo>
                    <a:pt x="1564" y="5"/>
                  </a:lnTo>
                  <a:lnTo>
                    <a:pt x="1524" y="0"/>
                  </a:lnTo>
                  <a:lnTo>
                    <a:pt x="1483" y="0"/>
                  </a:lnTo>
                  <a:lnTo>
                    <a:pt x="1449" y="5"/>
                  </a:lnTo>
                  <a:lnTo>
                    <a:pt x="1419" y="11"/>
                  </a:lnTo>
                  <a:lnTo>
                    <a:pt x="1392" y="20"/>
                  </a:lnTo>
                  <a:lnTo>
                    <a:pt x="1369" y="29"/>
                  </a:lnTo>
                  <a:lnTo>
                    <a:pt x="1347" y="39"/>
                  </a:lnTo>
                  <a:lnTo>
                    <a:pt x="1322" y="45"/>
                  </a:lnTo>
                  <a:lnTo>
                    <a:pt x="1295" y="50"/>
                  </a:lnTo>
                  <a:lnTo>
                    <a:pt x="1265" y="50"/>
                  </a:lnTo>
                  <a:lnTo>
                    <a:pt x="1238" y="48"/>
                  </a:lnTo>
                  <a:lnTo>
                    <a:pt x="1213" y="41"/>
                  </a:lnTo>
                  <a:lnTo>
                    <a:pt x="1188" y="34"/>
                  </a:lnTo>
                  <a:lnTo>
                    <a:pt x="1161" y="29"/>
                  </a:lnTo>
                  <a:lnTo>
                    <a:pt x="1136" y="25"/>
                  </a:lnTo>
                  <a:lnTo>
                    <a:pt x="1109" y="27"/>
                  </a:lnTo>
                  <a:lnTo>
                    <a:pt x="1081" y="32"/>
                  </a:lnTo>
                  <a:lnTo>
                    <a:pt x="1054" y="39"/>
                  </a:lnTo>
                  <a:lnTo>
                    <a:pt x="1029" y="41"/>
                  </a:lnTo>
                  <a:lnTo>
                    <a:pt x="1009" y="41"/>
                  </a:lnTo>
                  <a:lnTo>
                    <a:pt x="988" y="41"/>
                  </a:lnTo>
                  <a:lnTo>
                    <a:pt x="966" y="41"/>
                  </a:lnTo>
                  <a:lnTo>
                    <a:pt x="941" y="43"/>
                  </a:lnTo>
                  <a:lnTo>
                    <a:pt x="907" y="50"/>
                  </a:lnTo>
                  <a:lnTo>
                    <a:pt x="868" y="61"/>
                  </a:lnTo>
                  <a:lnTo>
                    <a:pt x="803" y="86"/>
                  </a:lnTo>
                  <a:lnTo>
                    <a:pt x="775" y="109"/>
                  </a:lnTo>
                  <a:lnTo>
                    <a:pt x="762" y="127"/>
                  </a:lnTo>
                  <a:lnTo>
                    <a:pt x="744" y="138"/>
                  </a:lnTo>
                  <a:lnTo>
                    <a:pt x="732" y="138"/>
                  </a:lnTo>
                  <a:lnTo>
                    <a:pt x="716" y="138"/>
                  </a:lnTo>
                  <a:lnTo>
                    <a:pt x="698" y="136"/>
                  </a:lnTo>
                  <a:lnTo>
                    <a:pt x="678" y="131"/>
                  </a:lnTo>
                  <a:lnTo>
                    <a:pt x="655" y="134"/>
                  </a:lnTo>
                  <a:lnTo>
                    <a:pt x="628" y="138"/>
                  </a:lnTo>
                  <a:lnTo>
                    <a:pt x="594" y="152"/>
                  </a:lnTo>
                  <a:lnTo>
                    <a:pt x="553" y="177"/>
                  </a:lnTo>
                  <a:lnTo>
                    <a:pt x="515" y="206"/>
                  </a:lnTo>
                  <a:lnTo>
                    <a:pt x="485" y="236"/>
                  </a:lnTo>
                  <a:lnTo>
                    <a:pt x="460" y="261"/>
                  </a:lnTo>
                  <a:lnTo>
                    <a:pt x="440" y="281"/>
                  </a:lnTo>
                  <a:lnTo>
                    <a:pt x="426" y="301"/>
                  </a:lnTo>
                  <a:lnTo>
                    <a:pt x="419" y="315"/>
                  </a:lnTo>
                  <a:lnTo>
                    <a:pt x="415" y="324"/>
                  </a:lnTo>
                  <a:lnTo>
                    <a:pt x="413" y="326"/>
                  </a:lnTo>
                  <a:lnTo>
                    <a:pt x="408" y="329"/>
                  </a:lnTo>
                  <a:lnTo>
                    <a:pt x="399" y="331"/>
                  </a:lnTo>
                  <a:lnTo>
                    <a:pt x="381" y="335"/>
                  </a:lnTo>
                  <a:lnTo>
                    <a:pt x="360" y="342"/>
                  </a:lnTo>
                  <a:lnTo>
                    <a:pt x="338" y="351"/>
                  </a:lnTo>
                  <a:lnTo>
                    <a:pt x="315" y="365"/>
                  </a:lnTo>
                  <a:lnTo>
                    <a:pt x="295" y="378"/>
                  </a:lnTo>
                  <a:lnTo>
                    <a:pt x="279" y="394"/>
                  </a:lnTo>
                  <a:lnTo>
                    <a:pt x="263" y="412"/>
                  </a:lnTo>
                  <a:lnTo>
                    <a:pt x="243" y="433"/>
                  </a:lnTo>
                  <a:lnTo>
                    <a:pt x="222" y="449"/>
                  </a:lnTo>
                  <a:lnTo>
                    <a:pt x="202" y="465"/>
                  </a:lnTo>
                  <a:lnTo>
                    <a:pt x="184" y="487"/>
                  </a:lnTo>
                  <a:lnTo>
                    <a:pt x="166" y="510"/>
                  </a:lnTo>
                  <a:lnTo>
                    <a:pt x="152" y="535"/>
                  </a:lnTo>
                  <a:lnTo>
                    <a:pt x="145" y="562"/>
                  </a:lnTo>
                  <a:lnTo>
                    <a:pt x="134" y="589"/>
                  </a:lnTo>
                  <a:lnTo>
                    <a:pt x="120" y="612"/>
                  </a:lnTo>
                  <a:lnTo>
                    <a:pt x="107" y="644"/>
                  </a:lnTo>
                  <a:lnTo>
                    <a:pt x="118" y="684"/>
                  </a:lnTo>
                  <a:lnTo>
                    <a:pt x="104" y="691"/>
                  </a:lnTo>
                  <a:lnTo>
                    <a:pt x="79" y="714"/>
                  </a:lnTo>
                  <a:lnTo>
                    <a:pt x="52" y="746"/>
                  </a:lnTo>
                  <a:lnTo>
                    <a:pt x="32" y="793"/>
                  </a:lnTo>
                  <a:lnTo>
                    <a:pt x="29" y="879"/>
                  </a:lnTo>
                  <a:lnTo>
                    <a:pt x="32" y="940"/>
                  </a:lnTo>
                  <a:lnTo>
                    <a:pt x="23" y="965"/>
                  </a:lnTo>
                  <a:lnTo>
                    <a:pt x="9" y="990"/>
                  </a:lnTo>
                  <a:lnTo>
                    <a:pt x="0" y="1029"/>
                  </a:lnTo>
                  <a:lnTo>
                    <a:pt x="5" y="1101"/>
                  </a:lnTo>
                  <a:lnTo>
                    <a:pt x="23" y="1181"/>
                  </a:lnTo>
                  <a:lnTo>
                    <a:pt x="45" y="1235"/>
                  </a:lnTo>
                  <a:lnTo>
                    <a:pt x="73" y="1267"/>
                  </a:lnTo>
                  <a:lnTo>
                    <a:pt x="109" y="1280"/>
                  </a:lnTo>
                  <a:lnTo>
                    <a:pt x="107" y="1305"/>
                  </a:lnTo>
                  <a:lnTo>
                    <a:pt x="118" y="1328"/>
                  </a:lnTo>
                  <a:lnTo>
                    <a:pt x="134" y="1348"/>
                  </a:lnTo>
                  <a:lnTo>
                    <a:pt x="156" y="1364"/>
                  </a:lnTo>
                  <a:lnTo>
                    <a:pt x="184" y="1382"/>
                  </a:lnTo>
                  <a:lnTo>
                    <a:pt x="213" y="1394"/>
                  </a:lnTo>
                  <a:lnTo>
                    <a:pt x="245" y="1405"/>
                  </a:lnTo>
                  <a:lnTo>
                    <a:pt x="274" y="1412"/>
                  </a:lnTo>
                  <a:lnTo>
                    <a:pt x="299" y="1416"/>
                  </a:lnTo>
                  <a:lnTo>
                    <a:pt x="320" y="1423"/>
                  </a:lnTo>
                  <a:lnTo>
                    <a:pt x="342" y="1430"/>
                  </a:lnTo>
                  <a:lnTo>
                    <a:pt x="363" y="1437"/>
                  </a:lnTo>
                  <a:lnTo>
                    <a:pt x="385" y="1446"/>
                  </a:lnTo>
                  <a:lnTo>
                    <a:pt x="408" y="1450"/>
                  </a:lnTo>
                  <a:lnTo>
                    <a:pt x="435" y="1453"/>
                  </a:lnTo>
                  <a:lnTo>
                    <a:pt x="469" y="1455"/>
                  </a:lnTo>
                  <a:lnTo>
                    <a:pt x="503" y="1455"/>
                  </a:lnTo>
                  <a:lnTo>
                    <a:pt x="531" y="1455"/>
                  </a:lnTo>
                  <a:lnTo>
                    <a:pt x="558" y="1455"/>
                  </a:lnTo>
                  <a:lnTo>
                    <a:pt x="587" y="1457"/>
                  </a:lnTo>
                  <a:lnTo>
                    <a:pt x="610" y="1459"/>
                  </a:lnTo>
                  <a:lnTo>
                    <a:pt x="633" y="1462"/>
                  </a:lnTo>
                  <a:lnTo>
                    <a:pt x="657" y="1466"/>
                  </a:lnTo>
                  <a:lnTo>
                    <a:pt x="682" y="1471"/>
                  </a:lnTo>
                  <a:lnTo>
                    <a:pt x="712" y="1478"/>
                  </a:lnTo>
                  <a:lnTo>
                    <a:pt x="741" y="1480"/>
                  </a:lnTo>
                  <a:lnTo>
                    <a:pt x="769" y="1478"/>
                  </a:lnTo>
                  <a:lnTo>
                    <a:pt x="796" y="1475"/>
                  </a:lnTo>
                  <a:lnTo>
                    <a:pt x="823" y="1468"/>
                  </a:lnTo>
                  <a:lnTo>
                    <a:pt x="848" y="1455"/>
                  </a:lnTo>
                  <a:lnTo>
                    <a:pt x="866" y="1439"/>
                  </a:lnTo>
                  <a:lnTo>
                    <a:pt x="877" y="1416"/>
                  </a:lnTo>
                  <a:lnTo>
                    <a:pt x="920" y="1410"/>
                  </a:lnTo>
                  <a:lnTo>
                    <a:pt x="959" y="1380"/>
                  </a:lnTo>
                  <a:lnTo>
                    <a:pt x="986" y="1339"/>
                  </a:lnTo>
                  <a:lnTo>
                    <a:pt x="998" y="1299"/>
                  </a:lnTo>
                  <a:lnTo>
                    <a:pt x="1022" y="1283"/>
                  </a:lnTo>
                  <a:lnTo>
                    <a:pt x="1029" y="1255"/>
                  </a:lnTo>
                  <a:lnTo>
                    <a:pt x="1025" y="1224"/>
                  </a:lnTo>
                  <a:lnTo>
                    <a:pt x="1018" y="1203"/>
                  </a:lnTo>
                  <a:lnTo>
                    <a:pt x="1022" y="1201"/>
                  </a:lnTo>
                  <a:lnTo>
                    <a:pt x="1041" y="1199"/>
                  </a:lnTo>
                  <a:lnTo>
                    <a:pt x="1068" y="1187"/>
                  </a:lnTo>
                  <a:lnTo>
                    <a:pt x="1097" y="1163"/>
                  </a:lnTo>
                  <a:lnTo>
                    <a:pt x="1111" y="1135"/>
                  </a:lnTo>
                  <a:lnTo>
                    <a:pt x="1100" y="1115"/>
                  </a:lnTo>
                  <a:lnTo>
                    <a:pt x="1079" y="1090"/>
                  </a:lnTo>
                  <a:lnTo>
                    <a:pt x="1075" y="1058"/>
                  </a:lnTo>
                  <a:lnTo>
                    <a:pt x="1084" y="1036"/>
                  </a:lnTo>
                  <a:lnTo>
                    <a:pt x="1102" y="1011"/>
                  </a:lnTo>
                  <a:lnTo>
                    <a:pt x="1129" y="988"/>
                  </a:lnTo>
                  <a:lnTo>
                    <a:pt x="1163" y="963"/>
                  </a:lnTo>
                  <a:lnTo>
                    <a:pt x="1206" y="943"/>
                  </a:lnTo>
                  <a:lnTo>
                    <a:pt x="1254" y="922"/>
                  </a:lnTo>
                  <a:lnTo>
                    <a:pt x="1308" y="913"/>
                  </a:lnTo>
                  <a:lnTo>
                    <a:pt x="1367" y="911"/>
                  </a:lnTo>
                  <a:lnTo>
                    <a:pt x="1422" y="916"/>
                  </a:lnTo>
                  <a:lnTo>
                    <a:pt x="1469" y="925"/>
                  </a:lnTo>
                  <a:lnTo>
                    <a:pt x="1505" y="936"/>
                  </a:lnTo>
                  <a:lnTo>
                    <a:pt x="1535" y="952"/>
                  </a:lnTo>
                  <a:lnTo>
                    <a:pt x="1555" y="963"/>
                  </a:lnTo>
                  <a:lnTo>
                    <a:pt x="1569" y="974"/>
                  </a:lnTo>
                  <a:lnTo>
                    <a:pt x="1578" y="981"/>
                  </a:lnTo>
                  <a:lnTo>
                    <a:pt x="1580" y="984"/>
                  </a:lnTo>
                  <a:lnTo>
                    <a:pt x="1589" y="1049"/>
                  </a:lnTo>
                  <a:lnTo>
                    <a:pt x="1616" y="1095"/>
                  </a:lnTo>
                  <a:lnTo>
                    <a:pt x="1653" y="1119"/>
                  </a:lnTo>
                  <a:lnTo>
                    <a:pt x="1687" y="1129"/>
                  </a:lnTo>
                  <a:lnTo>
                    <a:pt x="1689" y="1138"/>
                  </a:lnTo>
                  <a:lnTo>
                    <a:pt x="1703" y="1160"/>
                  </a:lnTo>
                  <a:lnTo>
                    <a:pt x="1739" y="1183"/>
                  </a:lnTo>
                  <a:lnTo>
                    <a:pt x="1805" y="1192"/>
                  </a:lnTo>
                  <a:lnTo>
                    <a:pt x="1805" y="1185"/>
                  </a:lnTo>
                  <a:lnTo>
                    <a:pt x="1811" y="1169"/>
                  </a:lnTo>
                  <a:lnTo>
                    <a:pt x="1827" y="1156"/>
                  </a:lnTo>
                  <a:lnTo>
                    <a:pt x="1859" y="1153"/>
                  </a:lnTo>
                  <a:lnTo>
                    <a:pt x="1873" y="1149"/>
                  </a:lnTo>
                  <a:lnTo>
                    <a:pt x="1900" y="1147"/>
                  </a:lnTo>
                  <a:lnTo>
                    <a:pt x="1932" y="1153"/>
                  </a:lnTo>
                  <a:lnTo>
                    <a:pt x="1959" y="1187"/>
                  </a:lnTo>
                  <a:lnTo>
                    <a:pt x="1966" y="1185"/>
                  </a:lnTo>
                  <a:lnTo>
                    <a:pt x="1975" y="1187"/>
                  </a:lnTo>
                  <a:lnTo>
                    <a:pt x="1991" y="1190"/>
                  </a:lnTo>
                  <a:lnTo>
                    <a:pt x="1995" y="1203"/>
                  </a:lnTo>
                  <a:lnTo>
                    <a:pt x="2000" y="1203"/>
                  </a:lnTo>
                  <a:lnTo>
                    <a:pt x="2011" y="1208"/>
                  </a:lnTo>
                  <a:lnTo>
                    <a:pt x="2022" y="1215"/>
                  </a:lnTo>
                  <a:lnTo>
                    <a:pt x="2031" y="1231"/>
                  </a:lnTo>
                  <a:lnTo>
                    <a:pt x="2038" y="1235"/>
                  </a:lnTo>
                  <a:lnTo>
                    <a:pt x="2056" y="1249"/>
                  </a:lnTo>
                  <a:lnTo>
                    <a:pt x="2074" y="1267"/>
                  </a:lnTo>
                  <a:lnTo>
                    <a:pt x="2084" y="1287"/>
                  </a:lnTo>
                  <a:lnTo>
                    <a:pt x="2154" y="1342"/>
                  </a:lnTo>
                  <a:lnTo>
                    <a:pt x="2167" y="1351"/>
                  </a:lnTo>
                  <a:lnTo>
                    <a:pt x="2201" y="1378"/>
                  </a:lnTo>
                  <a:lnTo>
                    <a:pt x="2256" y="1414"/>
                  </a:lnTo>
                  <a:lnTo>
                    <a:pt x="2317" y="1455"/>
                  </a:lnTo>
                  <a:lnTo>
                    <a:pt x="2390" y="1496"/>
                  </a:lnTo>
                  <a:lnTo>
                    <a:pt x="2458" y="1534"/>
                  </a:lnTo>
                  <a:lnTo>
                    <a:pt x="2521" y="1561"/>
                  </a:lnTo>
                  <a:lnTo>
                    <a:pt x="2573" y="1577"/>
                  </a:lnTo>
                  <a:lnTo>
                    <a:pt x="2609" y="1577"/>
                  </a:lnTo>
                  <a:lnTo>
                    <a:pt x="2639" y="1568"/>
                  </a:lnTo>
                  <a:lnTo>
                    <a:pt x="2662" y="1552"/>
                  </a:lnTo>
                  <a:lnTo>
                    <a:pt x="2678" y="1536"/>
                  </a:lnTo>
                  <a:lnTo>
                    <a:pt x="2684" y="1516"/>
                  </a:lnTo>
                  <a:lnTo>
                    <a:pt x="2691" y="1498"/>
                  </a:lnTo>
                  <a:lnTo>
                    <a:pt x="2684" y="1480"/>
                  </a:lnTo>
                  <a:lnTo>
                    <a:pt x="2678" y="1466"/>
                  </a:lnTo>
                  <a:lnTo>
                    <a:pt x="2714" y="1464"/>
                  </a:lnTo>
                  <a:lnTo>
                    <a:pt x="2752" y="1441"/>
                  </a:lnTo>
                  <a:lnTo>
                    <a:pt x="2775" y="1405"/>
                  </a:lnTo>
                  <a:lnTo>
                    <a:pt x="2782" y="1371"/>
                  </a:lnTo>
                  <a:lnTo>
                    <a:pt x="2798" y="1333"/>
                  </a:lnTo>
                  <a:lnTo>
                    <a:pt x="2807" y="1251"/>
                  </a:lnTo>
                  <a:lnTo>
                    <a:pt x="2793" y="1163"/>
                  </a:lnTo>
                  <a:lnTo>
                    <a:pt x="2759" y="1113"/>
                  </a:lnTo>
                  <a:lnTo>
                    <a:pt x="2757" y="1083"/>
                  </a:lnTo>
                  <a:lnTo>
                    <a:pt x="2748" y="1011"/>
                  </a:lnTo>
                  <a:lnTo>
                    <a:pt x="2721" y="922"/>
                  </a:lnTo>
                  <a:lnTo>
                    <a:pt x="2659" y="843"/>
                  </a:lnTo>
                  <a:lnTo>
                    <a:pt x="2657" y="811"/>
                  </a:lnTo>
                  <a:lnTo>
                    <a:pt x="2639" y="786"/>
                  </a:lnTo>
                  <a:lnTo>
                    <a:pt x="2616" y="764"/>
                  </a:lnTo>
                  <a:lnTo>
                    <a:pt x="2596" y="732"/>
                  </a:lnTo>
                  <a:lnTo>
                    <a:pt x="2585" y="712"/>
                  </a:lnTo>
                  <a:lnTo>
                    <a:pt x="2569" y="684"/>
                  </a:lnTo>
                  <a:lnTo>
                    <a:pt x="2553" y="655"/>
                  </a:lnTo>
                  <a:lnTo>
                    <a:pt x="2532" y="628"/>
                  </a:lnTo>
                  <a:lnTo>
                    <a:pt x="2507" y="603"/>
                  </a:lnTo>
                  <a:lnTo>
                    <a:pt x="2480" y="580"/>
                  </a:lnTo>
                  <a:lnTo>
                    <a:pt x="2446" y="564"/>
                  </a:lnTo>
                  <a:lnTo>
                    <a:pt x="2412" y="560"/>
                  </a:lnTo>
                  <a:lnTo>
                    <a:pt x="2410" y="539"/>
                  </a:lnTo>
                  <a:lnTo>
                    <a:pt x="2403" y="514"/>
                  </a:lnTo>
                  <a:lnTo>
                    <a:pt x="2390" y="487"/>
                  </a:lnTo>
                  <a:lnTo>
                    <a:pt x="2371" y="458"/>
                  </a:lnTo>
                  <a:lnTo>
                    <a:pt x="2353" y="433"/>
                  </a:lnTo>
                  <a:lnTo>
                    <a:pt x="2331" y="410"/>
                  </a:lnTo>
                  <a:lnTo>
                    <a:pt x="2310" y="392"/>
                  </a:lnTo>
                  <a:lnTo>
                    <a:pt x="2290" y="378"/>
                  </a:lnTo>
                  <a:lnTo>
                    <a:pt x="2276" y="369"/>
                  </a:lnTo>
                  <a:lnTo>
                    <a:pt x="2267" y="351"/>
                  </a:lnTo>
                  <a:lnTo>
                    <a:pt x="2256" y="326"/>
                  </a:lnTo>
                  <a:lnTo>
                    <a:pt x="2247" y="306"/>
                  </a:lnTo>
                  <a:lnTo>
                    <a:pt x="2229" y="279"/>
                  </a:lnTo>
                  <a:lnTo>
                    <a:pt x="2201" y="258"/>
                  </a:lnTo>
                  <a:lnTo>
                    <a:pt x="2165" y="242"/>
                  </a:lnTo>
                  <a:lnTo>
                    <a:pt x="2115" y="227"/>
                  </a:lnTo>
                  <a:lnTo>
                    <a:pt x="2113" y="222"/>
                  </a:lnTo>
                  <a:lnTo>
                    <a:pt x="2102" y="213"/>
                  </a:lnTo>
                  <a:lnTo>
                    <a:pt x="2090" y="199"/>
                  </a:lnTo>
                  <a:lnTo>
                    <a:pt x="2070" y="184"/>
                  </a:lnTo>
                  <a:lnTo>
                    <a:pt x="2043" y="168"/>
                  </a:lnTo>
                  <a:lnTo>
                    <a:pt x="2013" y="154"/>
                  </a:lnTo>
                  <a:lnTo>
                    <a:pt x="1972" y="145"/>
                  </a:lnTo>
                  <a:lnTo>
                    <a:pt x="1927" y="141"/>
                  </a:lnTo>
                  <a:lnTo>
                    <a:pt x="1925" y="138"/>
                  </a:lnTo>
                  <a:lnTo>
                    <a:pt x="1918" y="131"/>
                  </a:lnTo>
                  <a:lnTo>
                    <a:pt x="1904" y="120"/>
                  </a:lnTo>
                  <a:lnTo>
                    <a:pt x="1886" y="107"/>
                  </a:lnTo>
                  <a:lnTo>
                    <a:pt x="1857" y="95"/>
                  </a:lnTo>
                  <a:lnTo>
                    <a:pt x="1823" y="84"/>
                  </a:lnTo>
                  <a:lnTo>
                    <a:pt x="1777" y="79"/>
                  </a:lnTo>
                  <a:lnTo>
                    <a:pt x="1725" y="77"/>
                  </a:lnTo>
                  <a:lnTo>
                    <a:pt x="1725" y="77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84640" y="3468600"/>
              <a:ext cx="1889280" cy="217008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84640" y="3468600"/>
              <a:ext cx="1889280" cy="217008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lnTo>
                    <a:pt x="812" y="1786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90920" y="3952800"/>
              <a:ext cx="874440" cy="874800"/>
              <a:chOff x="2590920" y="3952800"/>
              <a:chExt cx="874440" cy="874800"/>
            </a:xfrm>
          </p:grpSpPr>
          <p:sp>
            <p:nvSpPr>
              <p:cNvPr id="180" name=""/>
              <p:cNvSpPr/>
              <p:nvPr/>
            </p:nvSpPr>
            <p:spPr>
              <a:xfrm>
                <a:off x="2590920" y="3952800"/>
                <a:ext cx="874440" cy="8748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649240" y="4186080"/>
                <a:ext cx="174600" cy="40824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3465360" y="3311640"/>
              <a:ext cx="874800" cy="1108080"/>
            </a:xfrm>
            <a:custGeom>
              <a:avLst/>
              <a:gdLst/>
              <a:ahLst/>
              <a:rect l="l" t="t" r="r" b="b"/>
              <a:pathLst>
                <a:path w="720" h="912">
                  <a:moveTo>
                    <a:pt x="0" y="912"/>
                  </a:moveTo>
                  <a:cubicBezTo>
                    <a:pt x="62" y="852"/>
                    <a:pt x="287" y="670"/>
                    <a:pt x="373" y="550"/>
                  </a:cubicBezTo>
                  <a:cubicBezTo>
                    <a:pt x="459" y="430"/>
                    <a:pt x="460" y="281"/>
                    <a:pt x="518" y="189"/>
                  </a:cubicBezTo>
                  <a:cubicBezTo>
                    <a:pt x="576" y="97"/>
                    <a:pt x="678" y="39"/>
                    <a:pt x="720" y="0"/>
                  </a:cubicBezTo>
                </a:path>
              </a:pathLst>
            </a:custGeom>
            <a:noFill/>
            <a:ln w="5724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81480" y="3135240"/>
              <a:ext cx="700200" cy="233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23000" y="3247920"/>
              <a:ext cx="1108080" cy="587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92" y="20"/>
                    <a:pt x="184" y="40"/>
                    <a:pt x="288" y="96"/>
                  </a:cubicBezTo>
                  <a:cubicBezTo>
                    <a:pt x="392" y="152"/>
                    <a:pt x="528" y="272"/>
                    <a:pt x="624" y="336"/>
                  </a:cubicBezTo>
                  <a:cubicBezTo>
                    <a:pt x="720" y="400"/>
                    <a:pt x="792" y="440"/>
                    <a:pt x="864" y="480"/>
                  </a:cubicBezTo>
                </a:path>
              </a:pathLst>
            </a:custGeom>
            <a:noFill/>
            <a:ln w="5724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61240" y="3252960"/>
              <a:ext cx="438120" cy="1020600"/>
            </a:xfrm>
            <a:custGeom>
              <a:avLst/>
              <a:gdLst/>
              <a:ahLst/>
              <a:rect l="l" t="t" r="r" b="b"/>
              <a:pathLst>
                <a:path w="361" h="840">
                  <a:moveTo>
                    <a:pt x="154" y="48"/>
                  </a:moveTo>
                  <a:cubicBezTo>
                    <a:pt x="181" y="0"/>
                    <a:pt x="232" y="151"/>
                    <a:pt x="264" y="207"/>
                  </a:cubicBezTo>
                  <a:cubicBezTo>
                    <a:pt x="296" y="263"/>
                    <a:pt x="331" y="324"/>
                    <a:pt x="346" y="384"/>
                  </a:cubicBezTo>
                  <a:cubicBezTo>
                    <a:pt x="361" y="444"/>
                    <a:pt x="360" y="513"/>
                    <a:pt x="352" y="569"/>
                  </a:cubicBezTo>
                  <a:cubicBezTo>
                    <a:pt x="344" y="625"/>
                    <a:pt x="329" y="676"/>
                    <a:pt x="298" y="720"/>
                  </a:cubicBezTo>
                  <a:cubicBezTo>
                    <a:pt x="267" y="764"/>
                    <a:pt x="212" y="824"/>
                    <a:pt x="164" y="832"/>
                  </a:cubicBezTo>
                  <a:cubicBezTo>
                    <a:pt x="116" y="840"/>
                    <a:pt x="20" y="824"/>
                    <a:pt x="10" y="768"/>
                  </a:cubicBezTo>
                  <a:cubicBezTo>
                    <a:pt x="0" y="712"/>
                    <a:pt x="78" y="614"/>
                    <a:pt x="102" y="494"/>
                  </a:cubicBezTo>
                  <a:cubicBezTo>
                    <a:pt x="126" y="374"/>
                    <a:pt x="126" y="95"/>
                    <a:pt x="154" y="48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64840" y="2514600"/>
              <a:ext cx="977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LG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96160" y="444672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ri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rte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6248520" y="3962520"/>
            <a:ext cx="23619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4114800"/>
            <a:ext cx="2514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38080" y="4267080"/>
            <a:ext cx="25909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ate corte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imary visual cent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 are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edge detector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s when an edge of a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particular ori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09120" y="4317840"/>
            <a:ext cx="373320" cy="432000"/>
          </a:xfrm>
          <a:prstGeom prst="line">
            <a:avLst/>
          </a:prstGeom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3588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84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17000" y="3581280"/>
            <a:ext cx="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38520" y="297180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0360" y="52372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diagona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ge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ell “tuned” to particular ori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s: only horizontal and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: 10 degree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s at particular orientations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and pos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triate corte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beyond the striate corte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94760" y="36957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590920" y="2362320"/>
            <a:ext cx="3838320" cy="3276360"/>
            <a:chOff x="2590920" y="2362320"/>
            <a:chExt cx="3838320" cy="3276360"/>
          </a:xfrm>
        </p:grpSpPr>
        <p:sp>
          <p:nvSpPr>
            <p:cNvPr id="205" name=""/>
            <p:cNvSpPr/>
            <p:nvPr/>
          </p:nvSpPr>
          <p:spPr>
            <a:xfrm>
              <a:off x="3019320" y="2362320"/>
              <a:ext cx="3409920" cy="1915920"/>
            </a:xfrm>
            <a:custGeom>
              <a:avLst/>
              <a:gdLst/>
              <a:ahLst/>
              <a:rect l="l" t="t" r="r" b="b"/>
              <a:pathLst>
                <a:path w="2807" h="1577">
                  <a:moveTo>
                    <a:pt x="1725" y="77"/>
                  </a:moveTo>
                  <a:lnTo>
                    <a:pt x="1709" y="70"/>
                  </a:lnTo>
                  <a:lnTo>
                    <a:pt x="1694" y="61"/>
                  </a:lnTo>
                  <a:lnTo>
                    <a:pt x="1675" y="50"/>
                  </a:lnTo>
                  <a:lnTo>
                    <a:pt x="1655" y="36"/>
                  </a:lnTo>
                  <a:lnTo>
                    <a:pt x="1628" y="23"/>
                  </a:lnTo>
                  <a:lnTo>
                    <a:pt x="1598" y="11"/>
                  </a:lnTo>
                  <a:lnTo>
                    <a:pt x="1564" y="5"/>
                  </a:lnTo>
                  <a:lnTo>
                    <a:pt x="1524" y="0"/>
                  </a:lnTo>
                  <a:lnTo>
                    <a:pt x="1483" y="0"/>
                  </a:lnTo>
                  <a:lnTo>
                    <a:pt x="1449" y="5"/>
                  </a:lnTo>
                  <a:lnTo>
                    <a:pt x="1419" y="11"/>
                  </a:lnTo>
                  <a:lnTo>
                    <a:pt x="1392" y="20"/>
                  </a:lnTo>
                  <a:lnTo>
                    <a:pt x="1369" y="29"/>
                  </a:lnTo>
                  <a:lnTo>
                    <a:pt x="1347" y="39"/>
                  </a:lnTo>
                  <a:lnTo>
                    <a:pt x="1322" y="45"/>
                  </a:lnTo>
                  <a:lnTo>
                    <a:pt x="1295" y="50"/>
                  </a:lnTo>
                  <a:lnTo>
                    <a:pt x="1265" y="50"/>
                  </a:lnTo>
                  <a:lnTo>
                    <a:pt x="1238" y="48"/>
                  </a:lnTo>
                  <a:lnTo>
                    <a:pt x="1213" y="41"/>
                  </a:lnTo>
                  <a:lnTo>
                    <a:pt x="1188" y="34"/>
                  </a:lnTo>
                  <a:lnTo>
                    <a:pt x="1161" y="29"/>
                  </a:lnTo>
                  <a:lnTo>
                    <a:pt x="1136" y="25"/>
                  </a:lnTo>
                  <a:lnTo>
                    <a:pt x="1109" y="27"/>
                  </a:lnTo>
                  <a:lnTo>
                    <a:pt x="1081" y="32"/>
                  </a:lnTo>
                  <a:lnTo>
                    <a:pt x="1054" y="39"/>
                  </a:lnTo>
                  <a:lnTo>
                    <a:pt x="1029" y="41"/>
                  </a:lnTo>
                  <a:lnTo>
                    <a:pt x="1009" y="41"/>
                  </a:lnTo>
                  <a:lnTo>
                    <a:pt x="988" y="41"/>
                  </a:lnTo>
                  <a:lnTo>
                    <a:pt x="966" y="41"/>
                  </a:lnTo>
                  <a:lnTo>
                    <a:pt x="941" y="43"/>
                  </a:lnTo>
                  <a:lnTo>
                    <a:pt x="907" y="50"/>
                  </a:lnTo>
                  <a:lnTo>
                    <a:pt x="868" y="61"/>
                  </a:lnTo>
                  <a:lnTo>
                    <a:pt x="803" y="86"/>
                  </a:lnTo>
                  <a:lnTo>
                    <a:pt x="775" y="109"/>
                  </a:lnTo>
                  <a:lnTo>
                    <a:pt x="762" y="127"/>
                  </a:lnTo>
                  <a:lnTo>
                    <a:pt x="744" y="138"/>
                  </a:lnTo>
                  <a:lnTo>
                    <a:pt x="732" y="138"/>
                  </a:lnTo>
                  <a:lnTo>
                    <a:pt x="716" y="138"/>
                  </a:lnTo>
                  <a:lnTo>
                    <a:pt x="698" y="136"/>
                  </a:lnTo>
                  <a:lnTo>
                    <a:pt x="678" y="131"/>
                  </a:lnTo>
                  <a:lnTo>
                    <a:pt x="655" y="134"/>
                  </a:lnTo>
                  <a:lnTo>
                    <a:pt x="628" y="138"/>
                  </a:lnTo>
                  <a:lnTo>
                    <a:pt x="594" y="152"/>
                  </a:lnTo>
                  <a:lnTo>
                    <a:pt x="553" y="177"/>
                  </a:lnTo>
                  <a:lnTo>
                    <a:pt x="515" y="206"/>
                  </a:lnTo>
                  <a:lnTo>
                    <a:pt x="485" y="236"/>
                  </a:lnTo>
                  <a:lnTo>
                    <a:pt x="460" y="261"/>
                  </a:lnTo>
                  <a:lnTo>
                    <a:pt x="440" y="281"/>
                  </a:lnTo>
                  <a:lnTo>
                    <a:pt x="426" y="301"/>
                  </a:lnTo>
                  <a:lnTo>
                    <a:pt x="419" y="315"/>
                  </a:lnTo>
                  <a:lnTo>
                    <a:pt x="415" y="324"/>
                  </a:lnTo>
                  <a:lnTo>
                    <a:pt x="413" y="326"/>
                  </a:lnTo>
                  <a:lnTo>
                    <a:pt x="408" y="329"/>
                  </a:lnTo>
                  <a:lnTo>
                    <a:pt x="399" y="331"/>
                  </a:lnTo>
                  <a:lnTo>
                    <a:pt x="381" y="335"/>
                  </a:lnTo>
                  <a:lnTo>
                    <a:pt x="360" y="342"/>
                  </a:lnTo>
                  <a:lnTo>
                    <a:pt x="338" y="351"/>
                  </a:lnTo>
                  <a:lnTo>
                    <a:pt x="315" y="365"/>
                  </a:lnTo>
                  <a:lnTo>
                    <a:pt x="295" y="378"/>
                  </a:lnTo>
                  <a:lnTo>
                    <a:pt x="279" y="394"/>
                  </a:lnTo>
                  <a:lnTo>
                    <a:pt x="263" y="412"/>
                  </a:lnTo>
                  <a:lnTo>
                    <a:pt x="243" y="433"/>
                  </a:lnTo>
                  <a:lnTo>
                    <a:pt x="222" y="449"/>
                  </a:lnTo>
                  <a:lnTo>
                    <a:pt x="202" y="465"/>
                  </a:lnTo>
                  <a:lnTo>
                    <a:pt x="184" y="487"/>
                  </a:lnTo>
                  <a:lnTo>
                    <a:pt x="166" y="510"/>
                  </a:lnTo>
                  <a:lnTo>
                    <a:pt x="152" y="535"/>
                  </a:lnTo>
                  <a:lnTo>
                    <a:pt x="145" y="562"/>
                  </a:lnTo>
                  <a:lnTo>
                    <a:pt x="134" y="589"/>
                  </a:lnTo>
                  <a:lnTo>
                    <a:pt x="120" y="612"/>
                  </a:lnTo>
                  <a:lnTo>
                    <a:pt x="107" y="644"/>
                  </a:lnTo>
                  <a:lnTo>
                    <a:pt x="118" y="684"/>
                  </a:lnTo>
                  <a:lnTo>
                    <a:pt x="104" y="691"/>
                  </a:lnTo>
                  <a:lnTo>
                    <a:pt x="79" y="714"/>
                  </a:lnTo>
                  <a:lnTo>
                    <a:pt x="52" y="746"/>
                  </a:lnTo>
                  <a:lnTo>
                    <a:pt x="32" y="793"/>
                  </a:lnTo>
                  <a:lnTo>
                    <a:pt x="29" y="879"/>
                  </a:lnTo>
                  <a:lnTo>
                    <a:pt x="32" y="940"/>
                  </a:lnTo>
                  <a:lnTo>
                    <a:pt x="23" y="965"/>
                  </a:lnTo>
                  <a:lnTo>
                    <a:pt x="9" y="990"/>
                  </a:lnTo>
                  <a:lnTo>
                    <a:pt x="0" y="1029"/>
                  </a:lnTo>
                  <a:lnTo>
                    <a:pt x="5" y="1101"/>
                  </a:lnTo>
                  <a:lnTo>
                    <a:pt x="23" y="1181"/>
                  </a:lnTo>
                  <a:lnTo>
                    <a:pt x="45" y="1235"/>
                  </a:lnTo>
                  <a:lnTo>
                    <a:pt x="73" y="1267"/>
                  </a:lnTo>
                  <a:lnTo>
                    <a:pt x="109" y="1280"/>
                  </a:lnTo>
                  <a:lnTo>
                    <a:pt x="107" y="1305"/>
                  </a:lnTo>
                  <a:lnTo>
                    <a:pt x="118" y="1328"/>
                  </a:lnTo>
                  <a:lnTo>
                    <a:pt x="134" y="1348"/>
                  </a:lnTo>
                  <a:lnTo>
                    <a:pt x="156" y="1364"/>
                  </a:lnTo>
                  <a:lnTo>
                    <a:pt x="184" y="1382"/>
                  </a:lnTo>
                  <a:lnTo>
                    <a:pt x="213" y="1394"/>
                  </a:lnTo>
                  <a:lnTo>
                    <a:pt x="245" y="1405"/>
                  </a:lnTo>
                  <a:lnTo>
                    <a:pt x="274" y="1412"/>
                  </a:lnTo>
                  <a:lnTo>
                    <a:pt x="299" y="1416"/>
                  </a:lnTo>
                  <a:lnTo>
                    <a:pt x="320" y="1423"/>
                  </a:lnTo>
                  <a:lnTo>
                    <a:pt x="342" y="1430"/>
                  </a:lnTo>
                  <a:lnTo>
                    <a:pt x="363" y="1437"/>
                  </a:lnTo>
                  <a:lnTo>
                    <a:pt x="385" y="1446"/>
                  </a:lnTo>
                  <a:lnTo>
                    <a:pt x="408" y="1450"/>
                  </a:lnTo>
                  <a:lnTo>
                    <a:pt x="435" y="1453"/>
                  </a:lnTo>
                  <a:lnTo>
                    <a:pt x="469" y="1455"/>
                  </a:lnTo>
                  <a:lnTo>
                    <a:pt x="503" y="1455"/>
                  </a:lnTo>
                  <a:lnTo>
                    <a:pt x="531" y="1455"/>
                  </a:lnTo>
                  <a:lnTo>
                    <a:pt x="558" y="1455"/>
                  </a:lnTo>
                  <a:lnTo>
                    <a:pt x="587" y="1457"/>
                  </a:lnTo>
                  <a:lnTo>
                    <a:pt x="610" y="1459"/>
                  </a:lnTo>
                  <a:lnTo>
                    <a:pt x="633" y="1462"/>
                  </a:lnTo>
                  <a:lnTo>
                    <a:pt x="657" y="1466"/>
                  </a:lnTo>
                  <a:lnTo>
                    <a:pt x="682" y="1471"/>
                  </a:lnTo>
                  <a:lnTo>
                    <a:pt x="712" y="1478"/>
                  </a:lnTo>
                  <a:lnTo>
                    <a:pt x="741" y="1480"/>
                  </a:lnTo>
                  <a:lnTo>
                    <a:pt x="769" y="1478"/>
                  </a:lnTo>
                  <a:lnTo>
                    <a:pt x="796" y="1475"/>
                  </a:lnTo>
                  <a:lnTo>
                    <a:pt x="823" y="1468"/>
                  </a:lnTo>
                  <a:lnTo>
                    <a:pt x="848" y="1455"/>
                  </a:lnTo>
                  <a:lnTo>
                    <a:pt x="866" y="1439"/>
                  </a:lnTo>
                  <a:lnTo>
                    <a:pt x="877" y="1416"/>
                  </a:lnTo>
                  <a:lnTo>
                    <a:pt x="920" y="1410"/>
                  </a:lnTo>
                  <a:lnTo>
                    <a:pt x="959" y="1380"/>
                  </a:lnTo>
                  <a:lnTo>
                    <a:pt x="986" y="1339"/>
                  </a:lnTo>
                  <a:lnTo>
                    <a:pt x="998" y="1299"/>
                  </a:lnTo>
                  <a:lnTo>
                    <a:pt x="1022" y="1283"/>
                  </a:lnTo>
                  <a:lnTo>
                    <a:pt x="1029" y="1255"/>
                  </a:lnTo>
                  <a:lnTo>
                    <a:pt x="1025" y="1224"/>
                  </a:lnTo>
                  <a:lnTo>
                    <a:pt x="1018" y="1203"/>
                  </a:lnTo>
                  <a:lnTo>
                    <a:pt x="1022" y="1201"/>
                  </a:lnTo>
                  <a:lnTo>
                    <a:pt x="1041" y="1199"/>
                  </a:lnTo>
                  <a:lnTo>
                    <a:pt x="1068" y="1187"/>
                  </a:lnTo>
                  <a:lnTo>
                    <a:pt x="1097" y="1163"/>
                  </a:lnTo>
                  <a:lnTo>
                    <a:pt x="1111" y="1135"/>
                  </a:lnTo>
                  <a:lnTo>
                    <a:pt x="1100" y="1115"/>
                  </a:lnTo>
                  <a:lnTo>
                    <a:pt x="1079" y="1090"/>
                  </a:lnTo>
                  <a:lnTo>
                    <a:pt x="1075" y="1058"/>
                  </a:lnTo>
                  <a:lnTo>
                    <a:pt x="1084" y="1036"/>
                  </a:lnTo>
                  <a:lnTo>
                    <a:pt x="1102" y="1011"/>
                  </a:lnTo>
                  <a:lnTo>
                    <a:pt x="1129" y="988"/>
                  </a:lnTo>
                  <a:lnTo>
                    <a:pt x="1163" y="963"/>
                  </a:lnTo>
                  <a:lnTo>
                    <a:pt x="1206" y="943"/>
                  </a:lnTo>
                  <a:lnTo>
                    <a:pt x="1254" y="922"/>
                  </a:lnTo>
                  <a:lnTo>
                    <a:pt x="1308" y="913"/>
                  </a:lnTo>
                  <a:lnTo>
                    <a:pt x="1367" y="911"/>
                  </a:lnTo>
                  <a:lnTo>
                    <a:pt x="1422" y="916"/>
                  </a:lnTo>
                  <a:lnTo>
                    <a:pt x="1469" y="925"/>
                  </a:lnTo>
                  <a:lnTo>
                    <a:pt x="1505" y="936"/>
                  </a:lnTo>
                  <a:lnTo>
                    <a:pt x="1535" y="952"/>
                  </a:lnTo>
                  <a:lnTo>
                    <a:pt x="1555" y="963"/>
                  </a:lnTo>
                  <a:lnTo>
                    <a:pt x="1569" y="974"/>
                  </a:lnTo>
                  <a:lnTo>
                    <a:pt x="1578" y="981"/>
                  </a:lnTo>
                  <a:lnTo>
                    <a:pt x="1580" y="984"/>
                  </a:lnTo>
                  <a:lnTo>
                    <a:pt x="1589" y="1049"/>
                  </a:lnTo>
                  <a:lnTo>
                    <a:pt x="1616" y="1095"/>
                  </a:lnTo>
                  <a:lnTo>
                    <a:pt x="1653" y="1119"/>
                  </a:lnTo>
                  <a:lnTo>
                    <a:pt x="1687" y="1129"/>
                  </a:lnTo>
                  <a:lnTo>
                    <a:pt x="1689" y="1138"/>
                  </a:lnTo>
                  <a:lnTo>
                    <a:pt x="1703" y="1160"/>
                  </a:lnTo>
                  <a:lnTo>
                    <a:pt x="1739" y="1183"/>
                  </a:lnTo>
                  <a:lnTo>
                    <a:pt x="1805" y="1192"/>
                  </a:lnTo>
                  <a:lnTo>
                    <a:pt x="1805" y="1185"/>
                  </a:lnTo>
                  <a:lnTo>
                    <a:pt x="1811" y="1169"/>
                  </a:lnTo>
                  <a:lnTo>
                    <a:pt x="1827" y="1156"/>
                  </a:lnTo>
                  <a:lnTo>
                    <a:pt x="1859" y="1153"/>
                  </a:lnTo>
                  <a:lnTo>
                    <a:pt x="1873" y="1149"/>
                  </a:lnTo>
                  <a:lnTo>
                    <a:pt x="1900" y="1147"/>
                  </a:lnTo>
                  <a:lnTo>
                    <a:pt x="1932" y="1153"/>
                  </a:lnTo>
                  <a:lnTo>
                    <a:pt x="1959" y="1187"/>
                  </a:lnTo>
                  <a:lnTo>
                    <a:pt x="1966" y="1185"/>
                  </a:lnTo>
                  <a:lnTo>
                    <a:pt x="1975" y="1187"/>
                  </a:lnTo>
                  <a:lnTo>
                    <a:pt x="1991" y="1190"/>
                  </a:lnTo>
                  <a:lnTo>
                    <a:pt x="1995" y="1203"/>
                  </a:lnTo>
                  <a:lnTo>
                    <a:pt x="2000" y="1203"/>
                  </a:lnTo>
                  <a:lnTo>
                    <a:pt x="2011" y="1208"/>
                  </a:lnTo>
                  <a:lnTo>
                    <a:pt x="2022" y="1215"/>
                  </a:lnTo>
                  <a:lnTo>
                    <a:pt x="2031" y="1231"/>
                  </a:lnTo>
                  <a:lnTo>
                    <a:pt x="2038" y="1235"/>
                  </a:lnTo>
                  <a:lnTo>
                    <a:pt x="2056" y="1249"/>
                  </a:lnTo>
                  <a:lnTo>
                    <a:pt x="2074" y="1267"/>
                  </a:lnTo>
                  <a:lnTo>
                    <a:pt x="2084" y="1287"/>
                  </a:lnTo>
                  <a:lnTo>
                    <a:pt x="2154" y="1342"/>
                  </a:lnTo>
                  <a:lnTo>
                    <a:pt x="2167" y="1351"/>
                  </a:lnTo>
                  <a:lnTo>
                    <a:pt x="2201" y="1378"/>
                  </a:lnTo>
                  <a:lnTo>
                    <a:pt x="2256" y="1414"/>
                  </a:lnTo>
                  <a:lnTo>
                    <a:pt x="2317" y="1455"/>
                  </a:lnTo>
                  <a:lnTo>
                    <a:pt x="2390" y="1496"/>
                  </a:lnTo>
                  <a:lnTo>
                    <a:pt x="2458" y="1534"/>
                  </a:lnTo>
                  <a:lnTo>
                    <a:pt x="2521" y="1561"/>
                  </a:lnTo>
                  <a:lnTo>
                    <a:pt x="2573" y="1577"/>
                  </a:lnTo>
                  <a:lnTo>
                    <a:pt x="2609" y="1577"/>
                  </a:lnTo>
                  <a:lnTo>
                    <a:pt x="2639" y="1568"/>
                  </a:lnTo>
                  <a:lnTo>
                    <a:pt x="2662" y="1552"/>
                  </a:lnTo>
                  <a:lnTo>
                    <a:pt x="2678" y="1536"/>
                  </a:lnTo>
                  <a:lnTo>
                    <a:pt x="2684" y="1516"/>
                  </a:lnTo>
                  <a:lnTo>
                    <a:pt x="2691" y="1498"/>
                  </a:lnTo>
                  <a:lnTo>
                    <a:pt x="2684" y="1480"/>
                  </a:lnTo>
                  <a:lnTo>
                    <a:pt x="2678" y="1466"/>
                  </a:lnTo>
                  <a:lnTo>
                    <a:pt x="2714" y="1464"/>
                  </a:lnTo>
                  <a:lnTo>
                    <a:pt x="2752" y="1441"/>
                  </a:lnTo>
                  <a:lnTo>
                    <a:pt x="2775" y="1405"/>
                  </a:lnTo>
                  <a:lnTo>
                    <a:pt x="2782" y="1371"/>
                  </a:lnTo>
                  <a:lnTo>
                    <a:pt x="2798" y="1333"/>
                  </a:lnTo>
                  <a:lnTo>
                    <a:pt x="2807" y="1251"/>
                  </a:lnTo>
                  <a:lnTo>
                    <a:pt x="2793" y="1163"/>
                  </a:lnTo>
                  <a:lnTo>
                    <a:pt x="2759" y="1113"/>
                  </a:lnTo>
                  <a:lnTo>
                    <a:pt x="2757" y="1083"/>
                  </a:lnTo>
                  <a:lnTo>
                    <a:pt x="2748" y="1011"/>
                  </a:lnTo>
                  <a:lnTo>
                    <a:pt x="2721" y="922"/>
                  </a:lnTo>
                  <a:lnTo>
                    <a:pt x="2659" y="843"/>
                  </a:lnTo>
                  <a:lnTo>
                    <a:pt x="2657" y="811"/>
                  </a:lnTo>
                  <a:lnTo>
                    <a:pt x="2639" y="786"/>
                  </a:lnTo>
                  <a:lnTo>
                    <a:pt x="2616" y="764"/>
                  </a:lnTo>
                  <a:lnTo>
                    <a:pt x="2596" y="732"/>
                  </a:lnTo>
                  <a:lnTo>
                    <a:pt x="2585" y="712"/>
                  </a:lnTo>
                  <a:lnTo>
                    <a:pt x="2569" y="684"/>
                  </a:lnTo>
                  <a:lnTo>
                    <a:pt x="2553" y="655"/>
                  </a:lnTo>
                  <a:lnTo>
                    <a:pt x="2532" y="628"/>
                  </a:lnTo>
                  <a:lnTo>
                    <a:pt x="2507" y="603"/>
                  </a:lnTo>
                  <a:lnTo>
                    <a:pt x="2480" y="580"/>
                  </a:lnTo>
                  <a:lnTo>
                    <a:pt x="2446" y="564"/>
                  </a:lnTo>
                  <a:lnTo>
                    <a:pt x="2412" y="560"/>
                  </a:lnTo>
                  <a:lnTo>
                    <a:pt x="2410" y="539"/>
                  </a:lnTo>
                  <a:lnTo>
                    <a:pt x="2403" y="514"/>
                  </a:lnTo>
                  <a:lnTo>
                    <a:pt x="2390" y="487"/>
                  </a:lnTo>
                  <a:lnTo>
                    <a:pt x="2371" y="458"/>
                  </a:lnTo>
                  <a:lnTo>
                    <a:pt x="2353" y="433"/>
                  </a:lnTo>
                  <a:lnTo>
                    <a:pt x="2331" y="410"/>
                  </a:lnTo>
                  <a:lnTo>
                    <a:pt x="2310" y="392"/>
                  </a:lnTo>
                  <a:lnTo>
                    <a:pt x="2290" y="378"/>
                  </a:lnTo>
                  <a:lnTo>
                    <a:pt x="2276" y="369"/>
                  </a:lnTo>
                  <a:lnTo>
                    <a:pt x="2267" y="351"/>
                  </a:lnTo>
                  <a:lnTo>
                    <a:pt x="2256" y="326"/>
                  </a:lnTo>
                  <a:lnTo>
                    <a:pt x="2247" y="306"/>
                  </a:lnTo>
                  <a:lnTo>
                    <a:pt x="2229" y="279"/>
                  </a:lnTo>
                  <a:lnTo>
                    <a:pt x="2201" y="258"/>
                  </a:lnTo>
                  <a:lnTo>
                    <a:pt x="2165" y="242"/>
                  </a:lnTo>
                  <a:lnTo>
                    <a:pt x="2115" y="227"/>
                  </a:lnTo>
                  <a:lnTo>
                    <a:pt x="2113" y="222"/>
                  </a:lnTo>
                  <a:lnTo>
                    <a:pt x="2102" y="213"/>
                  </a:lnTo>
                  <a:lnTo>
                    <a:pt x="2090" y="199"/>
                  </a:lnTo>
                  <a:lnTo>
                    <a:pt x="2070" y="184"/>
                  </a:lnTo>
                  <a:lnTo>
                    <a:pt x="2043" y="168"/>
                  </a:lnTo>
                  <a:lnTo>
                    <a:pt x="2013" y="154"/>
                  </a:lnTo>
                  <a:lnTo>
                    <a:pt x="1972" y="145"/>
                  </a:lnTo>
                  <a:lnTo>
                    <a:pt x="1927" y="141"/>
                  </a:lnTo>
                  <a:lnTo>
                    <a:pt x="1925" y="138"/>
                  </a:lnTo>
                  <a:lnTo>
                    <a:pt x="1918" y="131"/>
                  </a:lnTo>
                  <a:lnTo>
                    <a:pt x="1904" y="120"/>
                  </a:lnTo>
                  <a:lnTo>
                    <a:pt x="1886" y="107"/>
                  </a:lnTo>
                  <a:lnTo>
                    <a:pt x="1857" y="95"/>
                  </a:lnTo>
                  <a:lnTo>
                    <a:pt x="1823" y="84"/>
                  </a:lnTo>
                  <a:lnTo>
                    <a:pt x="1777" y="79"/>
                  </a:lnTo>
                  <a:lnTo>
                    <a:pt x="1725" y="77"/>
                  </a:lnTo>
                  <a:lnTo>
                    <a:pt x="1725" y="77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4640" y="3468600"/>
              <a:ext cx="1889280" cy="217008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84640" y="3468600"/>
              <a:ext cx="1889280" cy="217008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lnTo>
                    <a:pt x="812" y="1786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590920" y="3952800"/>
              <a:ext cx="874440" cy="874800"/>
              <a:chOff x="2590920" y="3952800"/>
              <a:chExt cx="874440" cy="874800"/>
            </a:xfrm>
          </p:grpSpPr>
          <p:sp>
            <p:nvSpPr>
              <p:cNvPr id="209" name=""/>
              <p:cNvSpPr/>
              <p:nvPr/>
            </p:nvSpPr>
            <p:spPr>
              <a:xfrm>
                <a:off x="2590920" y="3952800"/>
                <a:ext cx="874440" cy="8748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9240" y="4186080"/>
                <a:ext cx="174600" cy="40824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281480" y="3135240"/>
              <a:ext cx="700200" cy="23328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61240" y="3252960"/>
              <a:ext cx="438120" cy="1020600"/>
            </a:xfrm>
            <a:custGeom>
              <a:avLst/>
              <a:gdLst/>
              <a:ahLst/>
              <a:rect l="l" t="t" r="r" b="b"/>
              <a:pathLst>
                <a:path w="361" h="840">
                  <a:moveTo>
                    <a:pt x="154" y="48"/>
                  </a:moveTo>
                  <a:cubicBezTo>
                    <a:pt x="181" y="0"/>
                    <a:pt x="232" y="151"/>
                    <a:pt x="264" y="207"/>
                  </a:cubicBezTo>
                  <a:cubicBezTo>
                    <a:pt x="296" y="263"/>
                    <a:pt x="331" y="324"/>
                    <a:pt x="346" y="384"/>
                  </a:cubicBezTo>
                  <a:cubicBezTo>
                    <a:pt x="361" y="444"/>
                    <a:pt x="360" y="513"/>
                    <a:pt x="352" y="569"/>
                  </a:cubicBezTo>
                  <a:cubicBezTo>
                    <a:pt x="344" y="625"/>
                    <a:pt x="329" y="676"/>
                    <a:pt x="298" y="720"/>
                  </a:cubicBezTo>
                  <a:cubicBezTo>
                    <a:pt x="267" y="764"/>
                    <a:pt x="212" y="824"/>
                    <a:pt x="164" y="832"/>
                  </a:cubicBezTo>
                  <a:cubicBezTo>
                    <a:pt x="116" y="840"/>
                    <a:pt x="20" y="824"/>
                    <a:pt x="10" y="768"/>
                  </a:cubicBezTo>
                  <a:cubicBezTo>
                    <a:pt x="0" y="712"/>
                    <a:pt x="78" y="614"/>
                    <a:pt x="102" y="494"/>
                  </a:cubicBezTo>
                  <a:cubicBezTo>
                    <a:pt x="126" y="374"/>
                    <a:pt x="126" y="95"/>
                    <a:pt x="154" y="48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99160" y="3065400"/>
              <a:ext cx="349200" cy="1106640"/>
            </a:xfrm>
            <a:custGeom>
              <a:avLst/>
              <a:gdLst/>
              <a:ahLst/>
              <a:rect l="l" t="t" r="r" b="b"/>
              <a:pathLst>
                <a:path w="220" h="697">
                  <a:moveTo>
                    <a:pt x="165" y="0"/>
                  </a:moveTo>
                  <a:cubicBezTo>
                    <a:pt x="176" y="3"/>
                    <a:pt x="190" y="85"/>
                    <a:pt x="197" y="117"/>
                  </a:cubicBezTo>
                  <a:cubicBezTo>
                    <a:pt x="204" y="149"/>
                    <a:pt x="204" y="160"/>
                    <a:pt x="207" y="192"/>
                  </a:cubicBezTo>
                  <a:cubicBezTo>
                    <a:pt x="210" y="224"/>
                    <a:pt x="220" y="274"/>
                    <a:pt x="218" y="309"/>
                  </a:cubicBezTo>
                  <a:cubicBezTo>
                    <a:pt x="216" y="344"/>
                    <a:pt x="210" y="361"/>
                    <a:pt x="197" y="405"/>
                  </a:cubicBezTo>
                  <a:cubicBezTo>
                    <a:pt x="184" y="449"/>
                    <a:pt x="163" y="528"/>
                    <a:pt x="140" y="575"/>
                  </a:cubicBezTo>
                  <a:cubicBezTo>
                    <a:pt x="117" y="622"/>
                    <a:pt x="82" y="681"/>
                    <a:pt x="59" y="689"/>
                  </a:cubicBezTo>
                  <a:cubicBezTo>
                    <a:pt x="36" y="697"/>
                    <a:pt x="4" y="662"/>
                    <a:pt x="2" y="624"/>
                  </a:cubicBezTo>
                  <a:cubicBezTo>
                    <a:pt x="0" y="586"/>
                    <a:pt x="31" y="503"/>
                    <a:pt x="47" y="458"/>
                  </a:cubicBezTo>
                  <a:cubicBezTo>
                    <a:pt x="63" y="413"/>
                    <a:pt x="90" y="398"/>
                    <a:pt x="101" y="352"/>
                  </a:cubicBezTo>
                  <a:cubicBezTo>
                    <a:pt x="112" y="306"/>
                    <a:pt x="109" y="227"/>
                    <a:pt x="111" y="181"/>
                  </a:cubicBezTo>
                  <a:cubicBezTo>
                    <a:pt x="113" y="135"/>
                    <a:pt x="107" y="107"/>
                    <a:pt x="116" y="77"/>
                  </a:cubicBezTo>
                  <a:cubicBezTo>
                    <a:pt x="125" y="47"/>
                    <a:pt x="155" y="16"/>
                    <a:pt x="165" y="0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11720" y="3321000"/>
              <a:ext cx="426960" cy="500040"/>
            </a:xfrm>
            <a:custGeom>
              <a:avLst/>
              <a:gdLst/>
              <a:ahLst/>
              <a:rect l="l" t="t" r="r" b="b"/>
              <a:pathLst>
                <a:path w="269" h="315">
                  <a:moveTo>
                    <a:pt x="269" y="159"/>
                  </a:moveTo>
                  <a:cubicBezTo>
                    <a:pt x="235" y="99"/>
                    <a:pt x="201" y="40"/>
                    <a:pt x="173" y="20"/>
                  </a:cubicBezTo>
                  <a:cubicBezTo>
                    <a:pt x="145" y="0"/>
                    <a:pt x="123" y="34"/>
                    <a:pt x="98" y="41"/>
                  </a:cubicBezTo>
                  <a:cubicBezTo>
                    <a:pt x="73" y="48"/>
                    <a:pt x="40" y="43"/>
                    <a:pt x="24" y="63"/>
                  </a:cubicBezTo>
                  <a:cubicBezTo>
                    <a:pt x="8" y="83"/>
                    <a:pt x="0" y="127"/>
                    <a:pt x="2" y="159"/>
                  </a:cubicBezTo>
                  <a:cubicBezTo>
                    <a:pt x="4" y="191"/>
                    <a:pt x="11" y="230"/>
                    <a:pt x="34" y="255"/>
                  </a:cubicBezTo>
                  <a:cubicBezTo>
                    <a:pt x="57" y="280"/>
                    <a:pt x="111" y="301"/>
                    <a:pt x="141" y="308"/>
                  </a:cubicBezTo>
                  <a:cubicBezTo>
                    <a:pt x="171" y="315"/>
                    <a:pt x="198" y="304"/>
                    <a:pt x="216" y="2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86200" y="2935440"/>
              <a:ext cx="990720" cy="374400"/>
            </a:xfrm>
            <a:custGeom>
              <a:avLst/>
              <a:gdLst/>
              <a:ahLst/>
              <a:rect l="l" t="t" r="r" b="b"/>
              <a:pathLst>
                <a:path w="624" h="236">
                  <a:moveTo>
                    <a:pt x="153" y="231"/>
                  </a:moveTo>
                  <a:cubicBezTo>
                    <a:pt x="243" y="236"/>
                    <a:pt x="466" y="185"/>
                    <a:pt x="544" y="167"/>
                  </a:cubicBezTo>
                  <a:cubicBezTo>
                    <a:pt x="622" y="149"/>
                    <a:pt x="620" y="143"/>
                    <a:pt x="622" y="124"/>
                  </a:cubicBezTo>
                  <a:cubicBezTo>
                    <a:pt x="624" y="105"/>
                    <a:pt x="583" y="69"/>
                    <a:pt x="558" y="50"/>
                  </a:cubicBezTo>
                  <a:cubicBezTo>
                    <a:pt x="533" y="31"/>
                    <a:pt x="508" y="19"/>
                    <a:pt x="471" y="12"/>
                  </a:cubicBezTo>
                  <a:cubicBezTo>
                    <a:pt x="434" y="5"/>
                    <a:pt x="391" y="0"/>
                    <a:pt x="334" y="7"/>
                  </a:cubicBezTo>
                  <a:cubicBezTo>
                    <a:pt x="277" y="14"/>
                    <a:pt x="183" y="32"/>
                    <a:pt x="128" y="53"/>
                  </a:cubicBezTo>
                  <a:cubicBezTo>
                    <a:pt x="73" y="74"/>
                    <a:pt x="0" y="105"/>
                    <a:pt x="4" y="135"/>
                  </a:cubicBezTo>
                  <a:cubicBezTo>
                    <a:pt x="8" y="165"/>
                    <a:pt x="63" y="226"/>
                    <a:pt x="153" y="231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05560" y="284472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0" y="0"/>
                  </a:moveTo>
                  <a:cubicBezTo>
                    <a:pt x="30" y="14"/>
                    <a:pt x="60" y="29"/>
                    <a:pt x="85" y="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51400" y="2678040"/>
              <a:ext cx="511200" cy="297000"/>
            </a:xfrm>
            <a:custGeom>
              <a:avLst/>
              <a:gdLst/>
              <a:ahLst/>
              <a:rect l="l" t="t" r="r" b="b"/>
              <a:pathLst>
                <a:path w="322" h="187">
                  <a:moveTo>
                    <a:pt x="213" y="30"/>
                  </a:moveTo>
                  <a:cubicBezTo>
                    <a:pt x="185" y="12"/>
                    <a:pt x="163" y="12"/>
                    <a:pt x="138" y="9"/>
                  </a:cubicBezTo>
                  <a:cubicBezTo>
                    <a:pt x="113" y="6"/>
                    <a:pt x="87" y="0"/>
                    <a:pt x="64" y="9"/>
                  </a:cubicBezTo>
                  <a:cubicBezTo>
                    <a:pt x="41" y="18"/>
                    <a:pt x="0" y="50"/>
                    <a:pt x="0" y="62"/>
                  </a:cubicBezTo>
                  <a:cubicBezTo>
                    <a:pt x="0" y="74"/>
                    <a:pt x="39" y="77"/>
                    <a:pt x="64" y="84"/>
                  </a:cubicBezTo>
                  <a:cubicBezTo>
                    <a:pt x="89" y="91"/>
                    <a:pt x="119" y="93"/>
                    <a:pt x="149" y="105"/>
                  </a:cubicBezTo>
                  <a:cubicBezTo>
                    <a:pt x="179" y="117"/>
                    <a:pt x="218" y="145"/>
                    <a:pt x="245" y="158"/>
                  </a:cubicBezTo>
                  <a:cubicBezTo>
                    <a:pt x="272" y="171"/>
                    <a:pt x="298" y="187"/>
                    <a:pt x="309" y="180"/>
                  </a:cubicBezTo>
                  <a:cubicBezTo>
                    <a:pt x="320" y="173"/>
                    <a:pt x="322" y="139"/>
                    <a:pt x="309" y="116"/>
                  </a:cubicBezTo>
                  <a:cubicBezTo>
                    <a:pt x="296" y="93"/>
                    <a:pt x="241" y="48"/>
                    <a:pt x="213" y="30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59520" y="3333600"/>
              <a:ext cx="536400" cy="514440"/>
            </a:xfrm>
            <a:custGeom>
              <a:avLst/>
              <a:gdLst/>
              <a:ahLst/>
              <a:rect l="l" t="t" r="r" b="b"/>
              <a:pathLst>
                <a:path w="338" h="324">
                  <a:moveTo>
                    <a:pt x="162" y="324"/>
                  </a:moveTo>
                  <a:cubicBezTo>
                    <a:pt x="203" y="317"/>
                    <a:pt x="308" y="272"/>
                    <a:pt x="323" y="225"/>
                  </a:cubicBezTo>
                  <a:cubicBezTo>
                    <a:pt x="338" y="178"/>
                    <a:pt x="274" y="80"/>
                    <a:pt x="249" y="44"/>
                  </a:cubicBezTo>
                  <a:cubicBezTo>
                    <a:pt x="224" y="8"/>
                    <a:pt x="209" y="0"/>
                    <a:pt x="170" y="6"/>
                  </a:cubicBezTo>
                  <a:cubicBezTo>
                    <a:pt x="131" y="12"/>
                    <a:pt x="30" y="35"/>
                    <a:pt x="15" y="79"/>
                  </a:cubicBezTo>
                  <a:cubicBezTo>
                    <a:pt x="0" y="123"/>
                    <a:pt x="54" y="227"/>
                    <a:pt x="78" y="268"/>
                  </a:cubicBezTo>
                  <a:lnTo>
                    <a:pt x="162" y="32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triate cort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rea handles separate aspect of visu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-V2 complex”: Map for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3: Map for form and local m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4: Map for col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5: Map for global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is a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visual mo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s to other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largely independ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752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las A. Lyon, Ph.D.</a:t>
            </a:r>
            <a:br>
              <a:rPr sz="28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ir, Computer Engineering Dept. Fairfield University, CT, US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yon@DocJava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DocJava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658332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02 © DocJava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4572000"/>
            <a:ext cx="1644480" cy="2286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066680" y="1219320"/>
            <a:ext cx="7010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Interactive Heuristic Edge Detec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3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easy to find a bad ed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know a good edge when we see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613404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 expert + an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rt places markers on a good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way to connect the mark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ts find/define good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is hard to en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al processing responsible for 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polar and horizontal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glion cells (optic ner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 ner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 chiasma 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geniculat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ate 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striate 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 an important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xels=graph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 in pixel space using a heur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* is faster than 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s a domain exp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ledge rep=heuristics+mar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 interpr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h planning (source+destin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im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324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to Interpre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819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hocardi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060720" cy="3098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3022560" cy="30477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066680" y="4572000"/>
            <a:ext cx="1776600" cy="1828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121560" y="5105520"/>
            <a:ext cx="423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D-multi-scale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 Plans, the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191120" y="2286000"/>
            <a:ext cx="23241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 Planning-pre pro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362320" cy="1447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2361960" cy="1436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42900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720" y="1219320"/>
            <a:ext cx="21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+thre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95680" y="4114800"/>
            <a:ext cx="2362320" cy="15778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5627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715000" y="3429000"/>
            <a:ext cx="876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extile"/>
              </a:rPr>
              <a:t>Ero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extile"/>
              <a:ea typeface="Textile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1143000" y="4191120"/>
            <a:ext cx="2146320" cy="1473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 flipH="1">
            <a:off x="335232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3840" y="5715000"/>
            <a:ext cx="172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l+Sk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h Planning -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2514600" cy="1725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2502000" cy="17780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05320" y="2743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76720" y="3581280"/>
            <a:ext cx="180324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rkers+A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800600" y="4343400"/>
            <a:ext cx="2324160" cy="12193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94360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d selects from filter 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d tunes the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bor filter w/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ong edge is the wrong ed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3435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5371920" cy="31366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ral inhib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ge detection and contrast enhan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polar, Horizontal and </a:t>
            </a:r>
            <a:r>
              <a:rPr b="0" lang="en-US" sz="3200" spc="-1" strike="noStrike">
                <a:solidFill>
                  <a:srgbClr val="bbe0e3"/>
                </a:solidFill>
                <a:latin typeface="Times New Roman"/>
              </a:rPr>
              <a:t>Gangl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ny Edge Det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hrotra and Zha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096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962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 bands for 3x3 Robin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8120" y="6019920"/>
            <a:ext cx="3187440" cy="44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The Edges are too stra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903320" y="2440080"/>
            <a:ext cx="5337360" cy="19778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3200400" y="4419720"/>
            <a:ext cx="246852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 Bands 7x7 Ga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925040" cy="2954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205740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bor-biologically motiv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104160" cy="1428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048120" y="3276720"/>
            <a:ext cx="3063600" cy="21034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3809880" y="1523880"/>
            <a:ext cx="1629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2 SubBan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 filters=prefilter+lapla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5931000" cy="1357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3657600"/>
            <a:ext cx="4371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xican Hat (LoG Kern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487600" y="1860480"/>
            <a:ext cx="3468600" cy="39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g ker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035080" y="2063880"/>
            <a:ext cx="50738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289320" cy="3137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ral inhib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o activity in neighboring photorecepto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= output of photo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iented Filters are steer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035080" y="2063880"/>
            <a:ext cx="50738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Scale at 0 Deg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035080" y="2063880"/>
            <a:ext cx="50738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ing Phase at 0 deg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2035080" y="2063880"/>
            <a:ext cx="507384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uristics+markers=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-level image processing still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optimization is not appropriate for all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e only want a single, good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289320" cy="3137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ral inhib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ctivity in neighboring photorecepto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is decreased, possibly ab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692360"/>
            <a:ext cx="4572000" cy="4467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1692360"/>
            <a:ext cx="4572000" cy="4467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ral inhibition via addition and negative we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90920" y="3116160"/>
            <a:ext cx="5790960" cy="3284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ons of the ganglion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million optic ner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0 million photo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362320" y="76320"/>
            <a:ext cx="2133360" cy="205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76320"/>
            <a:ext cx="1868400" cy="179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8240" t="12386" r="10730" b="7415"/>
          <a:stretch/>
        </p:blipFill>
        <p:spPr>
          <a:xfrm>
            <a:off x="3505320" y="2317680"/>
            <a:ext cx="5486400" cy="3625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11080" y="5943600"/>
            <a:ext cx="76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http://www.marymt.edu/~psychol/cort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629400" y="76320"/>
            <a:ext cx="2475000" cy="2377800"/>
            <a:chOff x="6629400" y="76320"/>
            <a:chExt cx="2475000" cy="2377800"/>
          </a:xfrm>
        </p:grpSpPr>
        <p:sp>
          <p:nvSpPr>
            <p:cNvPr id="74" name=""/>
            <p:cNvSpPr/>
            <p:nvPr/>
          </p:nvSpPr>
          <p:spPr>
            <a:xfrm>
              <a:off x="6629400" y="76320"/>
              <a:ext cx="2475000" cy="1390320"/>
            </a:xfrm>
            <a:custGeom>
              <a:avLst/>
              <a:gdLst/>
              <a:ahLst/>
              <a:rect l="l" t="t" r="r" b="b"/>
              <a:pathLst>
                <a:path w="2807" h="1577">
                  <a:moveTo>
                    <a:pt x="1725" y="77"/>
                  </a:moveTo>
                  <a:lnTo>
                    <a:pt x="1709" y="70"/>
                  </a:lnTo>
                  <a:lnTo>
                    <a:pt x="1694" y="61"/>
                  </a:lnTo>
                  <a:lnTo>
                    <a:pt x="1675" y="50"/>
                  </a:lnTo>
                  <a:lnTo>
                    <a:pt x="1655" y="36"/>
                  </a:lnTo>
                  <a:lnTo>
                    <a:pt x="1628" y="23"/>
                  </a:lnTo>
                  <a:lnTo>
                    <a:pt x="1598" y="11"/>
                  </a:lnTo>
                  <a:lnTo>
                    <a:pt x="1564" y="5"/>
                  </a:lnTo>
                  <a:lnTo>
                    <a:pt x="1524" y="0"/>
                  </a:lnTo>
                  <a:lnTo>
                    <a:pt x="1483" y="0"/>
                  </a:lnTo>
                  <a:lnTo>
                    <a:pt x="1449" y="5"/>
                  </a:lnTo>
                  <a:lnTo>
                    <a:pt x="1419" y="11"/>
                  </a:lnTo>
                  <a:lnTo>
                    <a:pt x="1392" y="20"/>
                  </a:lnTo>
                  <a:lnTo>
                    <a:pt x="1369" y="29"/>
                  </a:lnTo>
                  <a:lnTo>
                    <a:pt x="1347" y="39"/>
                  </a:lnTo>
                  <a:lnTo>
                    <a:pt x="1322" y="45"/>
                  </a:lnTo>
                  <a:lnTo>
                    <a:pt x="1295" y="50"/>
                  </a:lnTo>
                  <a:lnTo>
                    <a:pt x="1265" y="50"/>
                  </a:lnTo>
                  <a:lnTo>
                    <a:pt x="1238" y="48"/>
                  </a:lnTo>
                  <a:lnTo>
                    <a:pt x="1213" y="41"/>
                  </a:lnTo>
                  <a:lnTo>
                    <a:pt x="1188" y="34"/>
                  </a:lnTo>
                  <a:lnTo>
                    <a:pt x="1161" y="29"/>
                  </a:lnTo>
                  <a:lnTo>
                    <a:pt x="1136" y="25"/>
                  </a:lnTo>
                  <a:lnTo>
                    <a:pt x="1109" y="27"/>
                  </a:lnTo>
                  <a:lnTo>
                    <a:pt x="1081" y="32"/>
                  </a:lnTo>
                  <a:lnTo>
                    <a:pt x="1054" y="39"/>
                  </a:lnTo>
                  <a:lnTo>
                    <a:pt x="1029" y="41"/>
                  </a:lnTo>
                  <a:lnTo>
                    <a:pt x="1009" y="41"/>
                  </a:lnTo>
                  <a:lnTo>
                    <a:pt x="988" y="41"/>
                  </a:lnTo>
                  <a:lnTo>
                    <a:pt x="966" y="41"/>
                  </a:lnTo>
                  <a:lnTo>
                    <a:pt x="941" y="43"/>
                  </a:lnTo>
                  <a:lnTo>
                    <a:pt x="907" y="50"/>
                  </a:lnTo>
                  <a:lnTo>
                    <a:pt x="868" y="61"/>
                  </a:lnTo>
                  <a:lnTo>
                    <a:pt x="803" y="86"/>
                  </a:lnTo>
                  <a:lnTo>
                    <a:pt x="775" y="109"/>
                  </a:lnTo>
                  <a:lnTo>
                    <a:pt x="762" y="127"/>
                  </a:lnTo>
                  <a:lnTo>
                    <a:pt x="744" y="138"/>
                  </a:lnTo>
                  <a:lnTo>
                    <a:pt x="732" y="138"/>
                  </a:lnTo>
                  <a:lnTo>
                    <a:pt x="716" y="138"/>
                  </a:lnTo>
                  <a:lnTo>
                    <a:pt x="698" y="136"/>
                  </a:lnTo>
                  <a:lnTo>
                    <a:pt x="678" y="131"/>
                  </a:lnTo>
                  <a:lnTo>
                    <a:pt x="655" y="134"/>
                  </a:lnTo>
                  <a:lnTo>
                    <a:pt x="628" y="138"/>
                  </a:lnTo>
                  <a:lnTo>
                    <a:pt x="594" y="152"/>
                  </a:lnTo>
                  <a:lnTo>
                    <a:pt x="553" y="177"/>
                  </a:lnTo>
                  <a:lnTo>
                    <a:pt x="515" y="206"/>
                  </a:lnTo>
                  <a:lnTo>
                    <a:pt x="485" y="236"/>
                  </a:lnTo>
                  <a:lnTo>
                    <a:pt x="460" y="261"/>
                  </a:lnTo>
                  <a:lnTo>
                    <a:pt x="440" y="281"/>
                  </a:lnTo>
                  <a:lnTo>
                    <a:pt x="426" y="301"/>
                  </a:lnTo>
                  <a:lnTo>
                    <a:pt x="419" y="315"/>
                  </a:lnTo>
                  <a:lnTo>
                    <a:pt x="415" y="324"/>
                  </a:lnTo>
                  <a:lnTo>
                    <a:pt x="413" y="326"/>
                  </a:lnTo>
                  <a:lnTo>
                    <a:pt x="408" y="329"/>
                  </a:lnTo>
                  <a:lnTo>
                    <a:pt x="399" y="331"/>
                  </a:lnTo>
                  <a:lnTo>
                    <a:pt x="381" y="335"/>
                  </a:lnTo>
                  <a:lnTo>
                    <a:pt x="360" y="342"/>
                  </a:lnTo>
                  <a:lnTo>
                    <a:pt x="338" y="351"/>
                  </a:lnTo>
                  <a:lnTo>
                    <a:pt x="315" y="365"/>
                  </a:lnTo>
                  <a:lnTo>
                    <a:pt x="295" y="378"/>
                  </a:lnTo>
                  <a:lnTo>
                    <a:pt x="279" y="394"/>
                  </a:lnTo>
                  <a:lnTo>
                    <a:pt x="263" y="412"/>
                  </a:lnTo>
                  <a:lnTo>
                    <a:pt x="243" y="433"/>
                  </a:lnTo>
                  <a:lnTo>
                    <a:pt x="222" y="449"/>
                  </a:lnTo>
                  <a:lnTo>
                    <a:pt x="202" y="465"/>
                  </a:lnTo>
                  <a:lnTo>
                    <a:pt x="184" y="487"/>
                  </a:lnTo>
                  <a:lnTo>
                    <a:pt x="166" y="510"/>
                  </a:lnTo>
                  <a:lnTo>
                    <a:pt x="152" y="535"/>
                  </a:lnTo>
                  <a:lnTo>
                    <a:pt x="145" y="562"/>
                  </a:lnTo>
                  <a:lnTo>
                    <a:pt x="134" y="589"/>
                  </a:lnTo>
                  <a:lnTo>
                    <a:pt x="120" y="612"/>
                  </a:lnTo>
                  <a:lnTo>
                    <a:pt x="107" y="644"/>
                  </a:lnTo>
                  <a:lnTo>
                    <a:pt x="118" y="684"/>
                  </a:lnTo>
                  <a:lnTo>
                    <a:pt x="104" y="691"/>
                  </a:lnTo>
                  <a:lnTo>
                    <a:pt x="79" y="714"/>
                  </a:lnTo>
                  <a:lnTo>
                    <a:pt x="52" y="746"/>
                  </a:lnTo>
                  <a:lnTo>
                    <a:pt x="32" y="793"/>
                  </a:lnTo>
                  <a:lnTo>
                    <a:pt x="29" y="879"/>
                  </a:lnTo>
                  <a:lnTo>
                    <a:pt x="32" y="940"/>
                  </a:lnTo>
                  <a:lnTo>
                    <a:pt x="23" y="965"/>
                  </a:lnTo>
                  <a:lnTo>
                    <a:pt x="9" y="990"/>
                  </a:lnTo>
                  <a:lnTo>
                    <a:pt x="0" y="1029"/>
                  </a:lnTo>
                  <a:lnTo>
                    <a:pt x="5" y="1101"/>
                  </a:lnTo>
                  <a:lnTo>
                    <a:pt x="23" y="1181"/>
                  </a:lnTo>
                  <a:lnTo>
                    <a:pt x="45" y="1235"/>
                  </a:lnTo>
                  <a:lnTo>
                    <a:pt x="73" y="1267"/>
                  </a:lnTo>
                  <a:lnTo>
                    <a:pt x="109" y="1280"/>
                  </a:lnTo>
                  <a:lnTo>
                    <a:pt x="107" y="1305"/>
                  </a:lnTo>
                  <a:lnTo>
                    <a:pt x="118" y="1328"/>
                  </a:lnTo>
                  <a:lnTo>
                    <a:pt x="134" y="1348"/>
                  </a:lnTo>
                  <a:lnTo>
                    <a:pt x="156" y="1364"/>
                  </a:lnTo>
                  <a:lnTo>
                    <a:pt x="184" y="1382"/>
                  </a:lnTo>
                  <a:lnTo>
                    <a:pt x="213" y="1394"/>
                  </a:lnTo>
                  <a:lnTo>
                    <a:pt x="245" y="1405"/>
                  </a:lnTo>
                  <a:lnTo>
                    <a:pt x="274" y="1412"/>
                  </a:lnTo>
                  <a:lnTo>
                    <a:pt x="299" y="1416"/>
                  </a:lnTo>
                  <a:lnTo>
                    <a:pt x="320" y="1423"/>
                  </a:lnTo>
                  <a:lnTo>
                    <a:pt x="342" y="1430"/>
                  </a:lnTo>
                  <a:lnTo>
                    <a:pt x="363" y="1437"/>
                  </a:lnTo>
                  <a:lnTo>
                    <a:pt x="385" y="1446"/>
                  </a:lnTo>
                  <a:lnTo>
                    <a:pt x="408" y="1450"/>
                  </a:lnTo>
                  <a:lnTo>
                    <a:pt x="435" y="1453"/>
                  </a:lnTo>
                  <a:lnTo>
                    <a:pt x="469" y="1455"/>
                  </a:lnTo>
                  <a:lnTo>
                    <a:pt x="503" y="1455"/>
                  </a:lnTo>
                  <a:lnTo>
                    <a:pt x="531" y="1455"/>
                  </a:lnTo>
                  <a:lnTo>
                    <a:pt x="558" y="1455"/>
                  </a:lnTo>
                  <a:lnTo>
                    <a:pt x="587" y="1457"/>
                  </a:lnTo>
                  <a:lnTo>
                    <a:pt x="610" y="1459"/>
                  </a:lnTo>
                  <a:lnTo>
                    <a:pt x="633" y="1462"/>
                  </a:lnTo>
                  <a:lnTo>
                    <a:pt x="657" y="1466"/>
                  </a:lnTo>
                  <a:lnTo>
                    <a:pt x="682" y="1471"/>
                  </a:lnTo>
                  <a:lnTo>
                    <a:pt x="712" y="1478"/>
                  </a:lnTo>
                  <a:lnTo>
                    <a:pt x="741" y="1480"/>
                  </a:lnTo>
                  <a:lnTo>
                    <a:pt x="769" y="1478"/>
                  </a:lnTo>
                  <a:lnTo>
                    <a:pt x="796" y="1475"/>
                  </a:lnTo>
                  <a:lnTo>
                    <a:pt x="823" y="1468"/>
                  </a:lnTo>
                  <a:lnTo>
                    <a:pt x="848" y="1455"/>
                  </a:lnTo>
                  <a:lnTo>
                    <a:pt x="866" y="1439"/>
                  </a:lnTo>
                  <a:lnTo>
                    <a:pt x="877" y="1416"/>
                  </a:lnTo>
                  <a:lnTo>
                    <a:pt x="920" y="1410"/>
                  </a:lnTo>
                  <a:lnTo>
                    <a:pt x="959" y="1380"/>
                  </a:lnTo>
                  <a:lnTo>
                    <a:pt x="986" y="1339"/>
                  </a:lnTo>
                  <a:lnTo>
                    <a:pt x="998" y="1299"/>
                  </a:lnTo>
                  <a:lnTo>
                    <a:pt x="1022" y="1283"/>
                  </a:lnTo>
                  <a:lnTo>
                    <a:pt x="1029" y="1255"/>
                  </a:lnTo>
                  <a:lnTo>
                    <a:pt x="1025" y="1224"/>
                  </a:lnTo>
                  <a:lnTo>
                    <a:pt x="1018" y="1203"/>
                  </a:lnTo>
                  <a:lnTo>
                    <a:pt x="1022" y="1201"/>
                  </a:lnTo>
                  <a:lnTo>
                    <a:pt x="1041" y="1199"/>
                  </a:lnTo>
                  <a:lnTo>
                    <a:pt x="1068" y="1187"/>
                  </a:lnTo>
                  <a:lnTo>
                    <a:pt x="1097" y="1163"/>
                  </a:lnTo>
                  <a:lnTo>
                    <a:pt x="1111" y="1135"/>
                  </a:lnTo>
                  <a:lnTo>
                    <a:pt x="1100" y="1115"/>
                  </a:lnTo>
                  <a:lnTo>
                    <a:pt x="1079" y="1090"/>
                  </a:lnTo>
                  <a:lnTo>
                    <a:pt x="1075" y="1058"/>
                  </a:lnTo>
                  <a:lnTo>
                    <a:pt x="1084" y="1036"/>
                  </a:lnTo>
                  <a:lnTo>
                    <a:pt x="1102" y="1011"/>
                  </a:lnTo>
                  <a:lnTo>
                    <a:pt x="1129" y="988"/>
                  </a:lnTo>
                  <a:lnTo>
                    <a:pt x="1163" y="963"/>
                  </a:lnTo>
                  <a:lnTo>
                    <a:pt x="1206" y="943"/>
                  </a:lnTo>
                  <a:lnTo>
                    <a:pt x="1254" y="922"/>
                  </a:lnTo>
                  <a:lnTo>
                    <a:pt x="1308" y="913"/>
                  </a:lnTo>
                  <a:lnTo>
                    <a:pt x="1367" y="911"/>
                  </a:lnTo>
                  <a:lnTo>
                    <a:pt x="1422" y="916"/>
                  </a:lnTo>
                  <a:lnTo>
                    <a:pt x="1469" y="925"/>
                  </a:lnTo>
                  <a:lnTo>
                    <a:pt x="1505" y="936"/>
                  </a:lnTo>
                  <a:lnTo>
                    <a:pt x="1535" y="952"/>
                  </a:lnTo>
                  <a:lnTo>
                    <a:pt x="1555" y="963"/>
                  </a:lnTo>
                  <a:lnTo>
                    <a:pt x="1569" y="974"/>
                  </a:lnTo>
                  <a:lnTo>
                    <a:pt x="1578" y="981"/>
                  </a:lnTo>
                  <a:lnTo>
                    <a:pt x="1580" y="984"/>
                  </a:lnTo>
                  <a:lnTo>
                    <a:pt x="1589" y="1049"/>
                  </a:lnTo>
                  <a:lnTo>
                    <a:pt x="1616" y="1095"/>
                  </a:lnTo>
                  <a:lnTo>
                    <a:pt x="1653" y="1119"/>
                  </a:lnTo>
                  <a:lnTo>
                    <a:pt x="1687" y="1129"/>
                  </a:lnTo>
                  <a:lnTo>
                    <a:pt x="1689" y="1138"/>
                  </a:lnTo>
                  <a:lnTo>
                    <a:pt x="1703" y="1160"/>
                  </a:lnTo>
                  <a:lnTo>
                    <a:pt x="1739" y="1183"/>
                  </a:lnTo>
                  <a:lnTo>
                    <a:pt x="1805" y="1192"/>
                  </a:lnTo>
                  <a:lnTo>
                    <a:pt x="1805" y="1185"/>
                  </a:lnTo>
                  <a:lnTo>
                    <a:pt x="1811" y="1169"/>
                  </a:lnTo>
                  <a:lnTo>
                    <a:pt x="1827" y="1156"/>
                  </a:lnTo>
                  <a:lnTo>
                    <a:pt x="1859" y="1153"/>
                  </a:lnTo>
                  <a:lnTo>
                    <a:pt x="1873" y="1149"/>
                  </a:lnTo>
                  <a:lnTo>
                    <a:pt x="1900" y="1147"/>
                  </a:lnTo>
                  <a:lnTo>
                    <a:pt x="1932" y="1153"/>
                  </a:lnTo>
                  <a:lnTo>
                    <a:pt x="1959" y="1187"/>
                  </a:lnTo>
                  <a:lnTo>
                    <a:pt x="1966" y="1185"/>
                  </a:lnTo>
                  <a:lnTo>
                    <a:pt x="1975" y="1187"/>
                  </a:lnTo>
                  <a:lnTo>
                    <a:pt x="1991" y="1190"/>
                  </a:lnTo>
                  <a:lnTo>
                    <a:pt x="1995" y="1203"/>
                  </a:lnTo>
                  <a:lnTo>
                    <a:pt x="2000" y="1203"/>
                  </a:lnTo>
                  <a:lnTo>
                    <a:pt x="2011" y="1208"/>
                  </a:lnTo>
                  <a:lnTo>
                    <a:pt x="2022" y="1215"/>
                  </a:lnTo>
                  <a:lnTo>
                    <a:pt x="2031" y="1231"/>
                  </a:lnTo>
                  <a:lnTo>
                    <a:pt x="2038" y="1235"/>
                  </a:lnTo>
                  <a:lnTo>
                    <a:pt x="2056" y="1249"/>
                  </a:lnTo>
                  <a:lnTo>
                    <a:pt x="2074" y="1267"/>
                  </a:lnTo>
                  <a:lnTo>
                    <a:pt x="2084" y="1287"/>
                  </a:lnTo>
                  <a:lnTo>
                    <a:pt x="2154" y="1342"/>
                  </a:lnTo>
                  <a:lnTo>
                    <a:pt x="2167" y="1351"/>
                  </a:lnTo>
                  <a:lnTo>
                    <a:pt x="2201" y="1378"/>
                  </a:lnTo>
                  <a:lnTo>
                    <a:pt x="2256" y="1414"/>
                  </a:lnTo>
                  <a:lnTo>
                    <a:pt x="2317" y="1455"/>
                  </a:lnTo>
                  <a:lnTo>
                    <a:pt x="2390" y="1496"/>
                  </a:lnTo>
                  <a:lnTo>
                    <a:pt x="2458" y="1534"/>
                  </a:lnTo>
                  <a:lnTo>
                    <a:pt x="2521" y="1561"/>
                  </a:lnTo>
                  <a:lnTo>
                    <a:pt x="2573" y="1577"/>
                  </a:lnTo>
                  <a:lnTo>
                    <a:pt x="2609" y="1577"/>
                  </a:lnTo>
                  <a:lnTo>
                    <a:pt x="2639" y="1568"/>
                  </a:lnTo>
                  <a:lnTo>
                    <a:pt x="2662" y="1552"/>
                  </a:lnTo>
                  <a:lnTo>
                    <a:pt x="2678" y="1536"/>
                  </a:lnTo>
                  <a:lnTo>
                    <a:pt x="2684" y="1516"/>
                  </a:lnTo>
                  <a:lnTo>
                    <a:pt x="2691" y="1498"/>
                  </a:lnTo>
                  <a:lnTo>
                    <a:pt x="2684" y="1480"/>
                  </a:lnTo>
                  <a:lnTo>
                    <a:pt x="2678" y="1466"/>
                  </a:lnTo>
                  <a:lnTo>
                    <a:pt x="2714" y="1464"/>
                  </a:lnTo>
                  <a:lnTo>
                    <a:pt x="2752" y="1441"/>
                  </a:lnTo>
                  <a:lnTo>
                    <a:pt x="2775" y="1405"/>
                  </a:lnTo>
                  <a:lnTo>
                    <a:pt x="2782" y="1371"/>
                  </a:lnTo>
                  <a:lnTo>
                    <a:pt x="2798" y="1333"/>
                  </a:lnTo>
                  <a:lnTo>
                    <a:pt x="2807" y="1251"/>
                  </a:lnTo>
                  <a:lnTo>
                    <a:pt x="2793" y="1163"/>
                  </a:lnTo>
                  <a:lnTo>
                    <a:pt x="2759" y="1113"/>
                  </a:lnTo>
                  <a:lnTo>
                    <a:pt x="2757" y="1083"/>
                  </a:lnTo>
                  <a:lnTo>
                    <a:pt x="2748" y="1011"/>
                  </a:lnTo>
                  <a:lnTo>
                    <a:pt x="2721" y="922"/>
                  </a:lnTo>
                  <a:lnTo>
                    <a:pt x="2659" y="843"/>
                  </a:lnTo>
                  <a:lnTo>
                    <a:pt x="2657" y="811"/>
                  </a:lnTo>
                  <a:lnTo>
                    <a:pt x="2639" y="786"/>
                  </a:lnTo>
                  <a:lnTo>
                    <a:pt x="2616" y="764"/>
                  </a:lnTo>
                  <a:lnTo>
                    <a:pt x="2596" y="732"/>
                  </a:lnTo>
                  <a:lnTo>
                    <a:pt x="2585" y="712"/>
                  </a:lnTo>
                  <a:lnTo>
                    <a:pt x="2569" y="684"/>
                  </a:lnTo>
                  <a:lnTo>
                    <a:pt x="2553" y="655"/>
                  </a:lnTo>
                  <a:lnTo>
                    <a:pt x="2532" y="628"/>
                  </a:lnTo>
                  <a:lnTo>
                    <a:pt x="2507" y="603"/>
                  </a:lnTo>
                  <a:lnTo>
                    <a:pt x="2480" y="580"/>
                  </a:lnTo>
                  <a:lnTo>
                    <a:pt x="2446" y="564"/>
                  </a:lnTo>
                  <a:lnTo>
                    <a:pt x="2412" y="560"/>
                  </a:lnTo>
                  <a:lnTo>
                    <a:pt x="2410" y="539"/>
                  </a:lnTo>
                  <a:lnTo>
                    <a:pt x="2403" y="514"/>
                  </a:lnTo>
                  <a:lnTo>
                    <a:pt x="2390" y="487"/>
                  </a:lnTo>
                  <a:lnTo>
                    <a:pt x="2371" y="458"/>
                  </a:lnTo>
                  <a:lnTo>
                    <a:pt x="2353" y="433"/>
                  </a:lnTo>
                  <a:lnTo>
                    <a:pt x="2331" y="410"/>
                  </a:lnTo>
                  <a:lnTo>
                    <a:pt x="2310" y="392"/>
                  </a:lnTo>
                  <a:lnTo>
                    <a:pt x="2290" y="378"/>
                  </a:lnTo>
                  <a:lnTo>
                    <a:pt x="2276" y="369"/>
                  </a:lnTo>
                  <a:lnTo>
                    <a:pt x="2267" y="351"/>
                  </a:lnTo>
                  <a:lnTo>
                    <a:pt x="2256" y="326"/>
                  </a:lnTo>
                  <a:lnTo>
                    <a:pt x="2247" y="306"/>
                  </a:lnTo>
                  <a:lnTo>
                    <a:pt x="2229" y="279"/>
                  </a:lnTo>
                  <a:lnTo>
                    <a:pt x="2201" y="258"/>
                  </a:lnTo>
                  <a:lnTo>
                    <a:pt x="2165" y="242"/>
                  </a:lnTo>
                  <a:lnTo>
                    <a:pt x="2115" y="227"/>
                  </a:lnTo>
                  <a:lnTo>
                    <a:pt x="2113" y="222"/>
                  </a:lnTo>
                  <a:lnTo>
                    <a:pt x="2102" y="213"/>
                  </a:lnTo>
                  <a:lnTo>
                    <a:pt x="2090" y="199"/>
                  </a:lnTo>
                  <a:lnTo>
                    <a:pt x="2070" y="184"/>
                  </a:lnTo>
                  <a:lnTo>
                    <a:pt x="2043" y="168"/>
                  </a:lnTo>
                  <a:lnTo>
                    <a:pt x="2013" y="154"/>
                  </a:lnTo>
                  <a:lnTo>
                    <a:pt x="1972" y="145"/>
                  </a:lnTo>
                  <a:lnTo>
                    <a:pt x="1927" y="141"/>
                  </a:lnTo>
                  <a:lnTo>
                    <a:pt x="1925" y="138"/>
                  </a:lnTo>
                  <a:lnTo>
                    <a:pt x="1918" y="131"/>
                  </a:lnTo>
                  <a:lnTo>
                    <a:pt x="1904" y="120"/>
                  </a:lnTo>
                  <a:lnTo>
                    <a:pt x="1886" y="107"/>
                  </a:lnTo>
                  <a:lnTo>
                    <a:pt x="1857" y="95"/>
                  </a:lnTo>
                  <a:lnTo>
                    <a:pt x="1823" y="84"/>
                  </a:lnTo>
                  <a:lnTo>
                    <a:pt x="1777" y="79"/>
                  </a:lnTo>
                  <a:lnTo>
                    <a:pt x="1725" y="77"/>
                  </a:lnTo>
                  <a:lnTo>
                    <a:pt x="1725" y="77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75040" y="879480"/>
              <a:ext cx="1370880" cy="157464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75040" y="879480"/>
              <a:ext cx="1370880" cy="1574640"/>
            </a:xfrm>
            <a:custGeom>
              <a:avLst/>
              <a:gdLst/>
              <a:ahLst/>
              <a:rect l="l" t="t" r="r" b="b"/>
              <a:pathLst>
                <a:path w="1555" h="1786">
                  <a:moveTo>
                    <a:pt x="812" y="1786"/>
                  </a:moveTo>
                  <a:lnTo>
                    <a:pt x="812" y="1704"/>
                  </a:lnTo>
                  <a:lnTo>
                    <a:pt x="812" y="1521"/>
                  </a:lnTo>
                  <a:lnTo>
                    <a:pt x="803" y="1323"/>
                  </a:lnTo>
                  <a:lnTo>
                    <a:pt x="782" y="1187"/>
                  </a:lnTo>
                  <a:lnTo>
                    <a:pt x="787" y="1190"/>
                  </a:lnTo>
                  <a:lnTo>
                    <a:pt x="803" y="1199"/>
                  </a:lnTo>
                  <a:lnTo>
                    <a:pt x="825" y="1208"/>
                  </a:lnTo>
                  <a:lnTo>
                    <a:pt x="850" y="1215"/>
                  </a:lnTo>
                  <a:lnTo>
                    <a:pt x="882" y="1221"/>
                  </a:lnTo>
                  <a:lnTo>
                    <a:pt x="914" y="1224"/>
                  </a:lnTo>
                  <a:lnTo>
                    <a:pt x="948" y="1219"/>
                  </a:lnTo>
                  <a:lnTo>
                    <a:pt x="979" y="1208"/>
                  </a:lnTo>
                  <a:lnTo>
                    <a:pt x="1013" y="1221"/>
                  </a:lnTo>
                  <a:lnTo>
                    <a:pt x="1054" y="1228"/>
                  </a:lnTo>
                  <a:lnTo>
                    <a:pt x="1091" y="1231"/>
                  </a:lnTo>
                  <a:lnTo>
                    <a:pt x="1125" y="1226"/>
                  </a:lnTo>
                  <a:lnTo>
                    <a:pt x="1161" y="1217"/>
                  </a:lnTo>
                  <a:lnTo>
                    <a:pt x="1193" y="1203"/>
                  </a:lnTo>
                  <a:lnTo>
                    <a:pt x="1220" y="1181"/>
                  </a:lnTo>
                  <a:lnTo>
                    <a:pt x="1242" y="1163"/>
                  </a:lnTo>
                  <a:lnTo>
                    <a:pt x="1247" y="1160"/>
                  </a:lnTo>
                  <a:lnTo>
                    <a:pt x="1256" y="1156"/>
                  </a:lnTo>
                  <a:lnTo>
                    <a:pt x="1279" y="1149"/>
                  </a:lnTo>
                  <a:lnTo>
                    <a:pt x="1299" y="1140"/>
                  </a:lnTo>
                  <a:lnTo>
                    <a:pt x="1322" y="1126"/>
                  </a:lnTo>
                  <a:lnTo>
                    <a:pt x="1347" y="1108"/>
                  </a:lnTo>
                  <a:lnTo>
                    <a:pt x="1367" y="1090"/>
                  </a:lnTo>
                  <a:lnTo>
                    <a:pt x="1390" y="1065"/>
                  </a:lnTo>
                  <a:lnTo>
                    <a:pt x="1397" y="1058"/>
                  </a:lnTo>
                  <a:lnTo>
                    <a:pt x="1417" y="1045"/>
                  </a:lnTo>
                  <a:lnTo>
                    <a:pt x="1444" y="1020"/>
                  </a:lnTo>
                  <a:lnTo>
                    <a:pt x="1474" y="988"/>
                  </a:lnTo>
                  <a:lnTo>
                    <a:pt x="1508" y="950"/>
                  </a:lnTo>
                  <a:lnTo>
                    <a:pt x="1533" y="902"/>
                  </a:lnTo>
                  <a:lnTo>
                    <a:pt x="1551" y="852"/>
                  </a:lnTo>
                  <a:lnTo>
                    <a:pt x="1555" y="795"/>
                  </a:lnTo>
                  <a:lnTo>
                    <a:pt x="1548" y="746"/>
                  </a:lnTo>
                  <a:lnTo>
                    <a:pt x="1533" y="705"/>
                  </a:lnTo>
                  <a:lnTo>
                    <a:pt x="1510" y="673"/>
                  </a:lnTo>
                  <a:lnTo>
                    <a:pt x="1480" y="650"/>
                  </a:lnTo>
                  <a:lnTo>
                    <a:pt x="1449" y="639"/>
                  </a:lnTo>
                  <a:lnTo>
                    <a:pt x="1419" y="632"/>
                  </a:lnTo>
                  <a:lnTo>
                    <a:pt x="1390" y="632"/>
                  </a:lnTo>
                  <a:lnTo>
                    <a:pt x="1365" y="641"/>
                  </a:lnTo>
                  <a:lnTo>
                    <a:pt x="1356" y="628"/>
                  </a:lnTo>
                  <a:lnTo>
                    <a:pt x="1333" y="596"/>
                  </a:lnTo>
                  <a:lnTo>
                    <a:pt x="1295" y="567"/>
                  </a:lnTo>
                  <a:lnTo>
                    <a:pt x="1247" y="551"/>
                  </a:lnTo>
                  <a:lnTo>
                    <a:pt x="1242" y="539"/>
                  </a:lnTo>
                  <a:lnTo>
                    <a:pt x="1227" y="512"/>
                  </a:lnTo>
                  <a:lnTo>
                    <a:pt x="1193" y="483"/>
                  </a:lnTo>
                  <a:lnTo>
                    <a:pt x="1134" y="467"/>
                  </a:lnTo>
                  <a:lnTo>
                    <a:pt x="1138" y="453"/>
                  </a:lnTo>
                  <a:lnTo>
                    <a:pt x="1143" y="428"/>
                  </a:lnTo>
                  <a:lnTo>
                    <a:pt x="1138" y="399"/>
                  </a:lnTo>
                  <a:lnTo>
                    <a:pt x="1125" y="376"/>
                  </a:lnTo>
                  <a:lnTo>
                    <a:pt x="1122" y="369"/>
                  </a:lnTo>
                  <a:lnTo>
                    <a:pt x="1115" y="358"/>
                  </a:lnTo>
                  <a:lnTo>
                    <a:pt x="1100" y="342"/>
                  </a:lnTo>
                  <a:lnTo>
                    <a:pt x="1077" y="322"/>
                  </a:lnTo>
                  <a:lnTo>
                    <a:pt x="1075" y="317"/>
                  </a:lnTo>
                  <a:lnTo>
                    <a:pt x="1068" y="308"/>
                  </a:lnTo>
                  <a:lnTo>
                    <a:pt x="1054" y="297"/>
                  </a:lnTo>
                  <a:lnTo>
                    <a:pt x="1036" y="292"/>
                  </a:lnTo>
                  <a:lnTo>
                    <a:pt x="1036" y="290"/>
                  </a:lnTo>
                  <a:lnTo>
                    <a:pt x="1034" y="283"/>
                  </a:lnTo>
                  <a:lnTo>
                    <a:pt x="1022" y="276"/>
                  </a:lnTo>
                  <a:lnTo>
                    <a:pt x="1002" y="276"/>
                  </a:lnTo>
                  <a:lnTo>
                    <a:pt x="991" y="252"/>
                  </a:lnTo>
                  <a:lnTo>
                    <a:pt x="959" y="240"/>
                  </a:lnTo>
                  <a:lnTo>
                    <a:pt x="927" y="236"/>
                  </a:lnTo>
                  <a:lnTo>
                    <a:pt x="900" y="245"/>
                  </a:lnTo>
                  <a:lnTo>
                    <a:pt x="884" y="240"/>
                  </a:lnTo>
                  <a:lnTo>
                    <a:pt x="868" y="249"/>
                  </a:lnTo>
                  <a:lnTo>
                    <a:pt x="852" y="265"/>
                  </a:lnTo>
                  <a:lnTo>
                    <a:pt x="846" y="281"/>
                  </a:lnTo>
                  <a:lnTo>
                    <a:pt x="832" y="281"/>
                  </a:lnTo>
                  <a:lnTo>
                    <a:pt x="807" y="288"/>
                  </a:lnTo>
                  <a:lnTo>
                    <a:pt x="784" y="306"/>
                  </a:lnTo>
                  <a:lnTo>
                    <a:pt x="789" y="347"/>
                  </a:lnTo>
                  <a:lnTo>
                    <a:pt x="782" y="347"/>
                  </a:lnTo>
                  <a:lnTo>
                    <a:pt x="773" y="347"/>
                  </a:lnTo>
                  <a:lnTo>
                    <a:pt x="762" y="354"/>
                  </a:lnTo>
                  <a:lnTo>
                    <a:pt x="760" y="369"/>
                  </a:lnTo>
                  <a:lnTo>
                    <a:pt x="748" y="376"/>
                  </a:lnTo>
                  <a:lnTo>
                    <a:pt x="721" y="394"/>
                  </a:lnTo>
                  <a:lnTo>
                    <a:pt x="698" y="428"/>
                  </a:lnTo>
                  <a:lnTo>
                    <a:pt x="696" y="485"/>
                  </a:lnTo>
                  <a:lnTo>
                    <a:pt x="705" y="519"/>
                  </a:lnTo>
                  <a:lnTo>
                    <a:pt x="716" y="548"/>
                  </a:lnTo>
                  <a:lnTo>
                    <a:pt x="728" y="573"/>
                  </a:lnTo>
                  <a:lnTo>
                    <a:pt x="744" y="601"/>
                  </a:lnTo>
                  <a:lnTo>
                    <a:pt x="762" y="623"/>
                  </a:lnTo>
                  <a:lnTo>
                    <a:pt x="784" y="646"/>
                  </a:lnTo>
                  <a:lnTo>
                    <a:pt x="814" y="666"/>
                  </a:lnTo>
                  <a:lnTo>
                    <a:pt x="846" y="689"/>
                  </a:lnTo>
                  <a:lnTo>
                    <a:pt x="828" y="689"/>
                  </a:lnTo>
                  <a:lnTo>
                    <a:pt x="789" y="700"/>
                  </a:lnTo>
                  <a:lnTo>
                    <a:pt x="748" y="723"/>
                  </a:lnTo>
                  <a:lnTo>
                    <a:pt x="716" y="770"/>
                  </a:lnTo>
                  <a:lnTo>
                    <a:pt x="705" y="818"/>
                  </a:lnTo>
                  <a:lnTo>
                    <a:pt x="707" y="852"/>
                  </a:lnTo>
                  <a:lnTo>
                    <a:pt x="719" y="877"/>
                  </a:lnTo>
                  <a:lnTo>
                    <a:pt x="739" y="897"/>
                  </a:lnTo>
                  <a:lnTo>
                    <a:pt x="744" y="920"/>
                  </a:lnTo>
                  <a:lnTo>
                    <a:pt x="728" y="943"/>
                  </a:lnTo>
                  <a:lnTo>
                    <a:pt x="716" y="972"/>
                  </a:lnTo>
                  <a:lnTo>
                    <a:pt x="735" y="1011"/>
                  </a:lnTo>
                  <a:lnTo>
                    <a:pt x="730" y="1013"/>
                  </a:lnTo>
                  <a:lnTo>
                    <a:pt x="725" y="1022"/>
                  </a:lnTo>
                  <a:lnTo>
                    <a:pt x="728" y="1040"/>
                  </a:lnTo>
                  <a:lnTo>
                    <a:pt x="744" y="1065"/>
                  </a:lnTo>
                  <a:lnTo>
                    <a:pt x="753" y="1085"/>
                  </a:lnTo>
                  <a:lnTo>
                    <a:pt x="746" y="1095"/>
                  </a:lnTo>
                  <a:lnTo>
                    <a:pt x="737" y="1101"/>
                  </a:lnTo>
                  <a:lnTo>
                    <a:pt x="744" y="1122"/>
                  </a:lnTo>
                  <a:lnTo>
                    <a:pt x="737" y="1167"/>
                  </a:lnTo>
                  <a:lnTo>
                    <a:pt x="744" y="1269"/>
                  </a:lnTo>
                  <a:lnTo>
                    <a:pt x="737" y="1237"/>
                  </a:lnTo>
                  <a:lnTo>
                    <a:pt x="716" y="1144"/>
                  </a:lnTo>
                  <a:lnTo>
                    <a:pt x="696" y="999"/>
                  </a:lnTo>
                  <a:lnTo>
                    <a:pt x="676" y="802"/>
                  </a:lnTo>
                  <a:lnTo>
                    <a:pt x="673" y="628"/>
                  </a:lnTo>
                  <a:lnTo>
                    <a:pt x="685" y="521"/>
                  </a:lnTo>
                  <a:lnTo>
                    <a:pt x="687" y="440"/>
                  </a:lnTo>
                  <a:lnTo>
                    <a:pt x="671" y="347"/>
                  </a:lnTo>
                  <a:lnTo>
                    <a:pt x="642" y="279"/>
                  </a:lnTo>
                  <a:lnTo>
                    <a:pt x="619" y="265"/>
                  </a:lnTo>
                  <a:lnTo>
                    <a:pt x="603" y="254"/>
                  </a:lnTo>
                  <a:lnTo>
                    <a:pt x="605" y="208"/>
                  </a:lnTo>
                  <a:lnTo>
                    <a:pt x="612" y="172"/>
                  </a:lnTo>
                  <a:lnTo>
                    <a:pt x="621" y="156"/>
                  </a:lnTo>
                  <a:lnTo>
                    <a:pt x="630" y="154"/>
                  </a:lnTo>
                  <a:lnTo>
                    <a:pt x="635" y="154"/>
                  </a:lnTo>
                  <a:lnTo>
                    <a:pt x="628" y="129"/>
                  </a:lnTo>
                  <a:lnTo>
                    <a:pt x="621" y="79"/>
                  </a:lnTo>
                  <a:lnTo>
                    <a:pt x="621" y="77"/>
                  </a:lnTo>
                  <a:lnTo>
                    <a:pt x="614" y="68"/>
                  </a:lnTo>
                  <a:lnTo>
                    <a:pt x="601" y="57"/>
                  </a:lnTo>
                  <a:lnTo>
                    <a:pt x="583" y="41"/>
                  </a:lnTo>
                  <a:lnTo>
                    <a:pt x="551" y="27"/>
                  </a:lnTo>
                  <a:lnTo>
                    <a:pt x="510" y="14"/>
                  </a:lnTo>
                  <a:lnTo>
                    <a:pt x="458" y="5"/>
                  </a:lnTo>
                  <a:lnTo>
                    <a:pt x="392" y="0"/>
                  </a:lnTo>
                  <a:lnTo>
                    <a:pt x="331" y="5"/>
                  </a:lnTo>
                  <a:lnTo>
                    <a:pt x="277" y="18"/>
                  </a:lnTo>
                  <a:lnTo>
                    <a:pt x="229" y="41"/>
                  </a:lnTo>
                  <a:lnTo>
                    <a:pt x="186" y="66"/>
                  </a:lnTo>
                  <a:lnTo>
                    <a:pt x="156" y="91"/>
                  </a:lnTo>
                  <a:lnTo>
                    <a:pt x="134" y="118"/>
                  </a:lnTo>
                  <a:lnTo>
                    <a:pt x="120" y="143"/>
                  </a:lnTo>
                  <a:lnTo>
                    <a:pt x="116" y="156"/>
                  </a:lnTo>
                  <a:lnTo>
                    <a:pt x="125" y="179"/>
                  </a:lnTo>
                  <a:lnTo>
                    <a:pt x="136" y="197"/>
                  </a:lnTo>
                  <a:lnTo>
                    <a:pt x="147" y="213"/>
                  </a:lnTo>
                  <a:lnTo>
                    <a:pt x="154" y="227"/>
                  </a:lnTo>
                  <a:lnTo>
                    <a:pt x="147" y="240"/>
                  </a:lnTo>
                  <a:lnTo>
                    <a:pt x="129" y="261"/>
                  </a:lnTo>
                  <a:lnTo>
                    <a:pt x="113" y="288"/>
                  </a:lnTo>
                  <a:lnTo>
                    <a:pt x="107" y="320"/>
                  </a:lnTo>
                  <a:lnTo>
                    <a:pt x="107" y="358"/>
                  </a:lnTo>
                  <a:lnTo>
                    <a:pt x="100" y="394"/>
                  </a:lnTo>
                  <a:lnTo>
                    <a:pt x="86" y="422"/>
                  </a:lnTo>
                  <a:lnTo>
                    <a:pt x="70" y="433"/>
                  </a:lnTo>
                  <a:lnTo>
                    <a:pt x="48" y="444"/>
                  </a:lnTo>
                  <a:lnTo>
                    <a:pt x="18" y="469"/>
                  </a:lnTo>
                  <a:lnTo>
                    <a:pt x="0" y="501"/>
                  </a:lnTo>
                  <a:lnTo>
                    <a:pt x="14" y="530"/>
                  </a:lnTo>
                  <a:lnTo>
                    <a:pt x="41" y="539"/>
                  </a:lnTo>
                  <a:lnTo>
                    <a:pt x="59" y="523"/>
                  </a:lnTo>
                  <a:lnTo>
                    <a:pt x="75" y="496"/>
                  </a:lnTo>
                  <a:lnTo>
                    <a:pt x="95" y="471"/>
                  </a:lnTo>
                  <a:lnTo>
                    <a:pt x="111" y="460"/>
                  </a:lnTo>
                  <a:lnTo>
                    <a:pt x="118" y="458"/>
                  </a:lnTo>
                  <a:lnTo>
                    <a:pt x="118" y="465"/>
                  </a:lnTo>
                  <a:lnTo>
                    <a:pt x="111" y="476"/>
                  </a:lnTo>
                  <a:lnTo>
                    <a:pt x="104" y="501"/>
                  </a:lnTo>
                  <a:lnTo>
                    <a:pt x="95" y="533"/>
                  </a:lnTo>
                  <a:lnTo>
                    <a:pt x="95" y="562"/>
                  </a:lnTo>
                  <a:lnTo>
                    <a:pt x="104" y="587"/>
                  </a:lnTo>
                  <a:lnTo>
                    <a:pt x="77" y="635"/>
                  </a:lnTo>
                  <a:lnTo>
                    <a:pt x="57" y="646"/>
                  </a:lnTo>
                  <a:lnTo>
                    <a:pt x="43" y="669"/>
                  </a:lnTo>
                  <a:lnTo>
                    <a:pt x="41" y="696"/>
                  </a:lnTo>
                  <a:lnTo>
                    <a:pt x="54" y="721"/>
                  </a:lnTo>
                  <a:lnTo>
                    <a:pt x="82" y="730"/>
                  </a:lnTo>
                  <a:lnTo>
                    <a:pt x="111" y="718"/>
                  </a:lnTo>
                  <a:lnTo>
                    <a:pt x="129" y="698"/>
                  </a:lnTo>
                  <a:lnTo>
                    <a:pt x="134" y="673"/>
                  </a:lnTo>
                  <a:lnTo>
                    <a:pt x="129" y="632"/>
                  </a:lnTo>
                  <a:lnTo>
                    <a:pt x="143" y="612"/>
                  </a:lnTo>
                  <a:lnTo>
                    <a:pt x="147" y="605"/>
                  </a:lnTo>
                  <a:lnTo>
                    <a:pt x="145" y="603"/>
                  </a:lnTo>
                  <a:lnTo>
                    <a:pt x="145" y="589"/>
                  </a:lnTo>
                  <a:lnTo>
                    <a:pt x="150" y="557"/>
                  </a:lnTo>
                  <a:lnTo>
                    <a:pt x="168" y="519"/>
                  </a:lnTo>
                  <a:lnTo>
                    <a:pt x="197" y="480"/>
                  </a:lnTo>
                  <a:lnTo>
                    <a:pt x="206" y="474"/>
                  </a:lnTo>
                  <a:lnTo>
                    <a:pt x="218" y="449"/>
                  </a:lnTo>
                  <a:lnTo>
                    <a:pt x="224" y="451"/>
                  </a:lnTo>
                  <a:lnTo>
                    <a:pt x="243" y="458"/>
                  </a:lnTo>
                  <a:lnTo>
                    <a:pt x="263" y="455"/>
                  </a:lnTo>
                  <a:lnTo>
                    <a:pt x="281" y="440"/>
                  </a:lnTo>
                  <a:lnTo>
                    <a:pt x="288" y="433"/>
                  </a:lnTo>
                  <a:lnTo>
                    <a:pt x="302" y="412"/>
                  </a:lnTo>
                  <a:lnTo>
                    <a:pt x="311" y="385"/>
                  </a:lnTo>
                  <a:lnTo>
                    <a:pt x="308" y="356"/>
                  </a:lnTo>
                  <a:lnTo>
                    <a:pt x="304" y="335"/>
                  </a:lnTo>
                  <a:lnTo>
                    <a:pt x="311" y="326"/>
                  </a:lnTo>
                  <a:lnTo>
                    <a:pt x="322" y="326"/>
                  </a:lnTo>
                  <a:lnTo>
                    <a:pt x="342" y="335"/>
                  </a:lnTo>
                  <a:lnTo>
                    <a:pt x="358" y="349"/>
                  </a:lnTo>
                  <a:lnTo>
                    <a:pt x="372" y="360"/>
                  </a:lnTo>
                  <a:lnTo>
                    <a:pt x="385" y="381"/>
                  </a:lnTo>
                  <a:lnTo>
                    <a:pt x="392" y="410"/>
                  </a:lnTo>
                  <a:lnTo>
                    <a:pt x="404" y="435"/>
                  </a:lnTo>
                  <a:lnTo>
                    <a:pt x="419" y="451"/>
                  </a:lnTo>
                  <a:lnTo>
                    <a:pt x="433" y="458"/>
                  </a:lnTo>
                  <a:lnTo>
                    <a:pt x="438" y="460"/>
                  </a:lnTo>
                  <a:lnTo>
                    <a:pt x="424" y="458"/>
                  </a:lnTo>
                  <a:lnTo>
                    <a:pt x="392" y="458"/>
                  </a:lnTo>
                  <a:lnTo>
                    <a:pt x="351" y="471"/>
                  </a:lnTo>
                  <a:lnTo>
                    <a:pt x="311" y="508"/>
                  </a:lnTo>
                  <a:lnTo>
                    <a:pt x="270" y="596"/>
                  </a:lnTo>
                  <a:lnTo>
                    <a:pt x="256" y="684"/>
                  </a:lnTo>
                  <a:lnTo>
                    <a:pt x="268" y="766"/>
                  </a:lnTo>
                  <a:lnTo>
                    <a:pt x="295" y="832"/>
                  </a:lnTo>
                  <a:lnTo>
                    <a:pt x="336" y="888"/>
                  </a:lnTo>
                  <a:lnTo>
                    <a:pt x="374" y="925"/>
                  </a:lnTo>
                  <a:lnTo>
                    <a:pt x="413" y="940"/>
                  </a:lnTo>
                  <a:lnTo>
                    <a:pt x="440" y="931"/>
                  </a:lnTo>
                  <a:lnTo>
                    <a:pt x="426" y="1008"/>
                  </a:lnTo>
                  <a:lnTo>
                    <a:pt x="453" y="1106"/>
                  </a:lnTo>
                  <a:lnTo>
                    <a:pt x="487" y="1187"/>
                  </a:lnTo>
                  <a:lnTo>
                    <a:pt x="506" y="1226"/>
                  </a:lnTo>
                  <a:lnTo>
                    <a:pt x="512" y="1260"/>
                  </a:lnTo>
                  <a:lnTo>
                    <a:pt x="531" y="1364"/>
                  </a:lnTo>
                  <a:lnTo>
                    <a:pt x="551" y="1536"/>
                  </a:lnTo>
                  <a:lnTo>
                    <a:pt x="565" y="1786"/>
                  </a:lnTo>
                  <a:lnTo>
                    <a:pt x="812" y="1786"/>
                  </a:lnTo>
                  <a:lnTo>
                    <a:pt x="812" y="1786"/>
                  </a:lnTo>
                  <a:close/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06840" y="637920"/>
              <a:ext cx="1009440" cy="498960"/>
            </a:xfrm>
            <a:custGeom>
              <a:avLst/>
              <a:gdLst/>
              <a:ahLst/>
              <a:rect l="l" t="t" r="r" b="b"/>
              <a:pathLst>
                <a:path w="1145" h="566">
                  <a:moveTo>
                    <a:pt x="844" y="226"/>
                  </a:moveTo>
                  <a:lnTo>
                    <a:pt x="841" y="226"/>
                  </a:lnTo>
                  <a:lnTo>
                    <a:pt x="825" y="220"/>
                  </a:lnTo>
                  <a:lnTo>
                    <a:pt x="803" y="213"/>
                  </a:lnTo>
                  <a:lnTo>
                    <a:pt x="773" y="206"/>
                  </a:lnTo>
                  <a:lnTo>
                    <a:pt x="735" y="197"/>
                  </a:lnTo>
                  <a:lnTo>
                    <a:pt x="694" y="186"/>
                  </a:lnTo>
                  <a:lnTo>
                    <a:pt x="649" y="177"/>
                  </a:lnTo>
                  <a:lnTo>
                    <a:pt x="596" y="167"/>
                  </a:lnTo>
                  <a:lnTo>
                    <a:pt x="547" y="163"/>
                  </a:lnTo>
                  <a:lnTo>
                    <a:pt x="492" y="158"/>
                  </a:lnTo>
                  <a:lnTo>
                    <a:pt x="440" y="158"/>
                  </a:lnTo>
                  <a:lnTo>
                    <a:pt x="386" y="163"/>
                  </a:lnTo>
                  <a:lnTo>
                    <a:pt x="336" y="170"/>
                  </a:lnTo>
                  <a:lnTo>
                    <a:pt x="288" y="183"/>
                  </a:lnTo>
                  <a:lnTo>
                    <a:pt x="245" y="204"/>
                  </a:lnTo>
                  <a:lnTo>
                    <a:pt x="207" y="229"/>
                  </a:lnTo>
                  <a:lnTo>
                    <a:pt x="182" y="263"/>
                  </a:lnTo>
                  <a:lnTo>
                    <a:pt x="186" y="299"/>
                  </a:lnTo>
                  <a:lnTo>
                    <a:pt x="209" y="335"/>
                  </a:lnTo>
                  <a:lnTo>
                    <a:pt x="245" y="369"/>
                  </a:lnTo>
                  <a:lnTo>
                    <a:pt x="290" y="405"/>
                  </a:lnTo>
                  <a:lnTo>
                    <a:pt x="329" y="444"/>
                  </a:lnTo>
                  <a:lnTo>
                    <a:pt x="358" y="478"/>
                  </a:lnTo>
                  <a:lnTo>
                    <a:pt x="372" y="514"/>
                  </a:lnTo>
                  <a:lnTo>
                    <a:pt x="370" y="507"/>
                  </a:lnTo>
                  <a:lnTo>
                    <a:pt x="374" y="492"/>
                  </a:lnTo>
                  <a:lnTo>
                    <a:pt x="386" y="476"/>
                  </a:lnTo>
                  <a:lnTo>
                    <a:pt x="417" y="469"/>
                  </a:lnTo>
                  <a:lnTo>
                    <a:pt x="390" y="444"/>
                  </a:lnTo>
                  <a:lnTo>
                    <a:pt x="383" y="405"/>
                  </a:lnTo>
                  <a:lnTo>
                    <a:pt x="399" y="365"/>
                  </a:lnTo>
                  <a:lnTo>
                    <a:pt x="433" y="324"/>
                  </a:lnTo>
                  <a:lnTo>
                    <a:pt x="492" y="285"/>
                  </a:lnTo>
                  <a:lnTo>
                    <a:pt x="581" y="254"/>
                  </a:lnTo>
                  <a:lnTo>
                    <a:pt x="696" y="231"/>
                  </a:lnTo>
                  <a:lnTo>
                    <a:pt x="844" y="226"/>
                  </a:lnTo>
                  <a:lnTo>
                    <a:pt x="844" y="226"/>
                  </a:lnTo>
                  <a:lnTo>
                    <a:pt x="905" y="279"/>
                  </a:lnTo>
                  <a:lnTo>
                    <a:pt x="923" y="335"/>
                  </a:lnTo>
                  <a:lnTo>
                    <a:pt x="925" y="381"/>
                  </a:lnTo>
                  <a:lnTo>
                    <a:pt x="941" y="428"/>
                  </a:lnTo>
                  <a:lnTo>
                    <a:pt x="952" y="444"/>
                  </a:lnTo>
                  <a:lnTo>
                    <a:pt x="966" y="460"/>
                  </a:lnTo>
                  <a:lnTo>
                    <a:pt x="980" y="471"/>
                  </a:lnTo>
                  <a:lnTo>
                    <a:pt x="1000" y="482"/>
                  </a:lnTo>
                  <a:lnTo>
                    <a:pt x="1020" y="489"/>
                  </a:lnTo>
                  <a:lnTo>
                    <a:pt x="1041" y="492"/>
                  </a:lnTo>
                  <a:lnTo>
                    <a:pt x="1068" y="489"/>
                  </a:lnTo>
                  <a:lnTo>
                    <a:pt x="1100" y="480"/>
                  </a:lnTo>
                  <a:lnTo>
                    <a:pt x="1141" y="435"/>
                  </a:lnTo>
                  <a:lnTo>
                    <a:pt x="1145" y="360"/>
                  </a:lnTo>
                  <a:lnTo>
                    <a:pt x="1129" y="283"/>
                  </a:lnTo>
                  <a:lnTo>
                    <a:pt x="1104" y="229"/>
                  </a:lnTo>
                  <a:lnTo>
                    <a:pt x="1093" y="220"/>
                  </a:lnTo>
                  <a:lnTo>
                    <a:pt x="1084" y="206"/>
                  </a:lnTo>
                  <a:lnTo>
                    <a:pt x="1066" y="190"/>
                  </a:lnTo>
                  <a:lnTo>
                    <a:pt x="1048" y="170"/>
                  </a:lnTo>
                  <a:lnTo>
                    <a:pt x="1025" y="154"/>
                  </a:lnTo>
                  <a:lnTo>
                    <a:pt x="1000" y="133"/>
                  </a:lnTo>
                  <a:lnTo>
                    <a:pt x="968" y="115"/>
                  </a:lnTo>
                  <a:lnTo>
                    <a:pt x="934" y="97"/>
                  </a:lnTo>
                  <a:lnTo>
                    <a:pt x="900" y="79"/>
                  </a:lnTo>
                  <a:lnTo>
                    <a:pt x="859" y="59"/>
                  </a:lnTo>
                  <a:lnTo>
                    <a:pt x="819" y="43"/>
                  </a:lnTo>
                  <a:lnTo>
                    <a:pt x="773" y="29"/>
                  </a:lnTo>
                  <a:lnTo>
                    <a:pt x="723" y="16"/>
                  </a:lnTo>
                  <a:lnTo>
                    <a:pt x="671" y="7"/>
                  </a:lnTo>
                  <a:lnTo>
                    <a:pt x="617" y="2"/>
                  </a:lnTo>
                  <a:lnTo>
                    <a:pt x="560" y="0"/>
                  </a:lnTo>
                  <a:lnTo>
                    <a:pt x="501" y="2"/>
                  </a:lnTo>
                  <a:lnTo>
                    <a:pt x="447" y="7"/>
                  </a:lnTo>
                  <a:lnTo>
                    <a:pt x="390" y="16"/>
                  </a:lnTo>
                  <a:lnTo>
                    <a:pt x="340" y="27"/>
                  </a:lnTo>
                  <a:lnTo>
                    <a:pt x="290" y="43"/>
                  </a:lnTo>
                  <a:lnTo>
                    <a:pt x="243" y="59"/>
                  </a:lnTo>
                  <a:lnTo>
                    <a:pt x="202" y="79"/>
                  </a:lnTo>
                  <a:lnTo>
                    <a:pt x="159" y="100"/>
                  </a:lnTo>
                  <a:lnTo>
                    <a:pt x="127" y="120"/>
                  </a:lnTo>
                  <a:lnTo>
                    <a:pt x="93" y="145"/>
                  </a:lnTo>
                  <a:lnTo>
                    <a:pt x="68" y="165"/>
                  </a:lnTo>
                  <a:lnTo>
                    <a:pt x="41" y="192"/>
                  </a:lnTo>
                  <a:lnTo>
                    <a:pt x="23" y="215"/>
                  </a:lnTo>
                  <a:lnTo>
                    <a:pt x="9" y="240"/>
                  </a:lnTo>
                  <a:lnTo>
                    <a:pt x="2" y="263"/>
                  </a:lnTo>
                  <a:lnTo>
                    <a:pt x="0" y="283"/>
                  </a:lnTo>
                  <a:lnTo>
                    <a:pt x="5" y="324"/>
                  </a:lnTo>
                  <a:lnTo>
                    <a:pt x="16" y="353"/>
                  </a:lnTo>
                  <a:lnTo>
                    <a:pt x="36" y="374"/>
                  </a:lnTo>
                  <a:lnTo>
                    <a:pt x="61" y="390"/>
                  </a:lnTo>
                  <a:lnTo>
                    <a:pt x="89" y="399"/>
                  </a:lnTo>
                  <a:lnTo>
                    <a:pt x="116" y="410"/>
                  </a:lnTo>
                  <a:lnTo>
                    <a:pt x="148" y="419"/>
                  </a:lnTo>
                  <a:lnTo>
                    <a:pt x="179" y="426"/>
                  </a:lnTo>
                  <a:lnTo>
                    <a:pt x="209" y="435"/>
                  </a:lnTo>
                  <a:lnTo>
                    <a:pt x="238" y="446"/>
                  </a:lnTo>
                  <a:lnTo>
                    <a:pt x="265" y="460"/>
                  </a:lnTo>
                  <a:lnTo>
                    <a:pt x="295" y="476"/>
                  </a:lnTo>
                  <a:lnTo>
                    <a:pt x="318" y="494"/>
                  </a:lnTo>
                  <a:lnTo>
                    <a:pt x="338" y="514"/>
                  </a:lnTo>
                  <a:lnTo>
                    <a:pt x="354" y="541"/>
                  </a:lnTo>
                  <a:lnTo>
                    <a:pt x="363" y="566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235000" y="677520"/>
              <a:ext cx="149760" cy="407160"/>
            </a:xfrm>
            <a:custGeom>
              <a:avLst/>
              <a:gdLst/>
              <a:ahLst/>
              <a:rect l="l" t="t" r="r" b="b"/>
              <a:pathLst>
                <a:path w="170" h="462">
                  <a:moveTo>
                    <a:pt x="129" y="0"/>
                  </a:moveTo>
                  <a:lnTo>
                    <a:pt x="131" y="36"/>
                  </a:lnTo>
                  <a:lnTo>
                    <a:pt x="145" y="64"/>
                  </a:lnTo>
                  <a:lnTo>
                    <a:pt x="160" y="107"/>
                  </a:lnTo>
                  <a:lnTo>
                    <a:pt x="170" y="195"/>
                  </a:lnTo>
                  <a:lnTo>
                    <a:pt x="156" y="281"/>
                  </a:lnTo>
                  <a:lnTo>
                    <a:pt x="138" y="320"/>
                  </a:lnTo>
                  <a:lnTo>
                    <a:pt x="117" y="345"/>
                  </a:lnTo>
                  <a:lnTo>
                    <a:pt x="111" y="388"/>
                  </a:lnTo>
                  <a:lnTo>
                    <a:pt x="104" y="437"/>
                  </a:lnTo>
                  <a:lnTo>
                    <a:pt x="77" y="462"/>
                  </a:lnTo>
                  <a:lnTo>
                    <a:pt x="36" y="458"/>
                  </a:lnTo>
                  <a:lnTo>
                    <a:pt x="0" y="415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08080" y="328320"/>
              <a:ext cx="208080" cy="393120"/>
            </a:xfrm>
            <a:custGeom>
              <a:avLst/>
              <a:gdLst/>
              <a:ahLst/>
              <a:rect l="l" t="t" r="r" b="b"/>
              <a:pathLst>
                <a:path w="236" h="446">
                  <a:moveTo>
                    <a:pt x="0" y="446"/>
                  </a:moveTo>
                  <a:lnTo>
                    <a:pt x="5" y="412"/>
                  </a:lnTo>
                  <a:lnTo>
                    <a:pt x="19" y="401"/>
                  </a:lnTo>
                  <a:lnTo>
                    <a:pt x="37" y="396"/>
                  </a:lnTo>
                  <a:lnTo>
                    <a:pt x="55" y="373"/>
                  </a:lnTo>
                  <a:lnTo>
                    <a:pt x="64" y="333"/>
                  </a:lnTo>
                  <a:lnTo>
                    <a:pt x="64" y="283"/>
                  </a:lnTo>
                  <a:lnTo>
                    <a:pt x="73" y="233"/>
                  </a:lnTo>
                  <a:lnTo>
                    <a:pt x="102" y="176"/>
                  </a:lnTo>
                  <a:lnTo>
                    <a:pt x="123" y="151"/>
                  </a:lnTo>
                  <a:lnTo>
                    <a:pt x="150" y="133"/>
                  </a:lnTo>
                  <a:lnTo>
                    <a:pt x="175" y="115"/>
                  </a:lnTo>
                  <a:lnTo>
                    <a:pt x="198" y="99"/>
                  </a:lnTo>
                  <a:lnTo>
                    <a:pt x="218" y="81"/>
                  </a:lnTo>
                  <a:lnTo>
                    <a:pt x="232" y="58"/>
                  </a:lnTo>
                  <a:lnTo>
                    <a:pt x="236" y="31"/>
                  </a:lnTo>
                  <a:lnTo>
                    <a:pt x="229" y="0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32480" y="200520"/>
              <a:ext cx="96120" cy="356760"/>
            </a:xfrm>
            <a:custGeom>
              <a:avLst/>
              <a:gdLst/>
              <a:ahLst/>
              <a:rect l="l" t="t" r="r" b="b"/>
              <a:pathLst>
                <a:path w="109" h="405">
                  <a:moveTo>
                    <a:pt x="109" y="0"/>
                  </a:moveTo>
                  <a:lnTo>
                    <a:pt x="64" y="24"/>
                  </a:lnTo>
                  <a:lnTo>
                    <a:pt x="55" y="65"/>
                  </a:lnTo>
                  <a:lnTo>
                    <a:pt x="55" y="117"/>
                  </a:lnTo>
                  <a:lnTo>
                    <a:pt x="37" y="174"/>
                  </a:lnTo>
                  <a:lnTo>
                    <a:pt x="9" y="244"/>
                  </a:lnTo>
                  <a:lnTo>
                    <a:pt x="0" y="317"/>
                  </a:lnTo>
                  <a:lnTo>
                    <a:pt x="3" y="380"/>
                  </a:lnTo>
                  <a:lnTo>
                    <a:pt x="3" y="405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904160" y="491400"/>
              <a:ext cx="364320" cy="89640"/>
            </a:xfrm>
            <a:custGeom>
              <a:avLst/>
              <a:gdLst/>
              <a:ahLst/>
              <a:rect l="l" t="t" r="r" b="b"/>
              <a:pathLst>
                <a:path w="413" h="102">
                  <a:moveTo>
                    <a:pt x="413" y="102"/>
                  </a:moveTo>
                  <a:lnTo>
                    <a:pt x="393" y="75"/>
                  </a:lnTo>
                  <a:lnTo>
                    <a:pt x="370" y="57"/>
                  </a:lnTo>
                  <a:lnTo>
                    <a:pt x="343" y="43"/>
                  </a:lnTo>
                  <a:lnTo>
                    <a:pt x="316" y="34"/>
                  </a:lnTo>
                  <a:lnTo>
                    <a:pt x="286" y="30"/>
                  </a:lnTo>
                  <a:lnTo>
                    <a:pt x="259" y="30"/>
                  </a:lnTo>
                  <a:lnTo>
                    <a:pt x="232" y="30"/>
                  </a:lnTo>
                  <a:lnTo>
                    <a:pt x="207" y="32"/>
                  </a:lnTo>
                  <a:lnTo>
                    <a:pt x="182" y="32"/>
                  </a:lnTo>
                  <a:lnTo>
                    <a:pt x="150" y="32"/>
                  </a:lnTo>
                  <a:lnTo>
                    <a:pt x="121" y="32"/>
                  </a:lnTo>
                  <a:lnTo>
                    <a:pt x="89" y="30"/>
                  </a:lnTo>
                  <a:lnTo>
                    <a:pt x="57" y="28"/>
                  </a:lnTo>
                  <a:lnTo>
                    <a:pt x="34" y="21"/>
                  </a:lnTo>
                  <a:lnTo>
                    <a:pt x="12" y="9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28800" y="661680"/>
              <a:ext cx="37440" cy="5004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0" y="0"/>
                  </a:moveTo>
                  <a:lnTo>
                    <a:pt x="9" y="5"/>
                  </a:lnTo>
                  <a:lnTo>
                    <a:pt x="30" y="16"/>
                  </a:lnTo>
                  <a:lnTo>
                    <a:pt x="43" y="32"/>
                  </a:lnTo>
                  <a:lnTo>
                    <a:pt x="43" y="57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60480" y="339840"/>
              <a:ext cx="649800" cy="337320"/>
            </a:xfrm>
            <a:custGeom>
              <a:avLst/>
              <a:gdLst/>
              <a:ahLst/>
              <a:rect l="l" t="t" r="r" b="b"/>
              <a:pathLst>
                <a:path w="737" h="383">
                  <a:moveTo>
                    <a:pt x="0" y="383"/>
                  </a:moveTo>
                  <a:lnTo>
                    <a:pt x="7" y="376"/>
                  </a:lnTo>
                  <a:lnTo>
                    <a:pt x="21" y="365"/>
                  </a:lnTo>
                  <a:lnTo>
                    <a:pt x="41" y="345"/>
                  </a:lnTo>
                  <a:lnTo>
                    <a:pt x="71" y="324"/>
                  </a:lnTo>
                  <a:lnTo>
                    <a:pt x="107" y="302"/>
                  </a:lnTo>
                  <a:lnTo>
                    <a:pt x="143" y="281"/>
                  </a:lnTo>
                  <a:lnTo>
                    <a:pt x="182" y="265"/>
                  </a:lnTo>
                  <a:lnTo>
                    <a:pt x="225" y="258"/>
                  </a:lnTo>
                  <a:lnTo>
                    <a:pt x="266" y="258"/>
                  </a:lnTo>
                  <a:lnTo>
                    <a:pt x="313" y="256"/>
                  </a:lnTo>
                  <a:lnTo>
                    <a:pt x="361" y="256"/>
                  </a:lnTo>
                  <a:lnTo>
                    <a:pt x="411" y="254"/>
                  </a:lnTo>
                  <a:lnTo>
                    <a:pt x="456" y="249"/>
                  </a:lnTo>
                  <a:lnTo>
                    <a:pt x="497" y="243"/>
                  </a:lnTo>
                  <a:lnTo>
                    <a:pt x="529" y="231"/>
                  </a:lnTo>
                  <a:lnTo>
                    <a:pt x="554" y="215"/>
                  </a:lnTo>
                  <a:lnTo>
                    <a:pt x="579" y="202"/>
                  </a:lnTo>
                  <a:lnTo>
                    <a:pt x="603" y="200"/>
                  </a:lnTo>
                  <a:lnTo>
                    <a:pt x="631" y="202"/>
                  </a:lnTo>
                  <a:lnTo>
                    <a:pt x="658" y="204"/>
                  </a:lnTo>
                  <a:lnTo>
                    <a:pt x="687" y="204"/>
                  </a:lnTo>
                  <a:lnTo>
                    <a:pt x="710" y="200"/>
                  </a:lnTo>
                  <a:lnTo>
                    <a:pt x="730" y="181"/>
                  </a:lnTo>
                  <a:lnTo>
                    <a:pt x="737" y="147"/>
                  </a:lnTo>
                  <a:lnTo>
                    <a:pt x="737" y="113"/>
                  </a:lnTo>
                  <a:lnTo>
                    <a:pt x="726" y="91"/>
                  </a:lnTo>
                  <a:lnTo>
                    <a:pt x="701" y="77"/>
                  </a:lnTo>
                  <a:lnTo>
                    <a:pt x="674" y="73"/>
                  </a:lnTo>
                  <a:lnTo>
                    <a:pt x="642" y="68"/>
                  </a:lnTo>
                  <a:lnTo>
                    <a:pt x="610" y="64"/>
                  </a:lnTo>
                  <a:lnTo>
                    <a:pt x="583" y="57"/>
                  </a:lnTo>
                  <a:lnTo>
                    <a:pt x="558" y="41"/>
                  </a:lnTo>
                  <a:lnTo>
                    <a:pt x="538" y="23"/>
                  </a:lnTo>
                  <a:lnTo>
                    <a:pt x="506" y="9"/>
                  </a:lnTo>
                  <a:lnTo>
                    <a:pt x="470" y="0"/>
                  </a:lnTo>
                  <a:lnTo>
                    <a:pt x="429" y="0"/>
                  </a:lnTo>
                  <a:lnTo>
                    <a:pt x="390" y="9"/>
                  </a:lnTo>
                  <a:lnTo>
                    <a:pt x="361" y="32"/>
                  </a:lnTo>
                  <a:lnTo>
                    <a:pt x="338" y="70"/>
                  </a:lnTo>
                  <a:lnTo>
                    <a:pt x="322" y="120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25680" y="379440"/>
              <a:ext cx="632880" cy="795240"/>
            </a:xfrm>
            <a:custGeom>
              <a:avLst/>
              <a:gdLst/>
              <a:ahLst/>
              <a:rect l="l" t="t" r="r" b="b"/>
              <a:pathLst>
                <a:path w="718" h="902">
                  <a:moveTo>
                    <a:pt x="718" y="34"/>
                  </a:moveTo>
                  <a:lnTo>
                    <a:pt x="702" y="28"/>
                  </a:lnTo>
                  <a:lnTo>
                    <a:pt x="677" y="10"/>
                  </a:lnTo>
                  <a:lnTo>
                    <a:pt x="643" y="0"/>
                  </a:lnTo>
                  <a:lnTo>
                    <a:pt x="616" y="14"/>
                  </a:lnTo>
                  <a:lnTo>
                    <a:pt x="605" y="28"/>
                  </a:lnTo>
                  <a:lnTo>
                    <a:pt x="587" y="44"/>
                  </a:lnTo>
                  <a:lnTo>
                    <a:pt x="569" y="57"/>
                  </a:lnTo>
                  <a:lnTo>
                    <a:pt x="548" y="73"/>
                  </a:lnTo>
                  <a:lnTo>
                    <a:pt x="528" y="89"/>
                  </a:lnTo>
                  <a:lnTo>
                    <a:pt x="507" y="107"/>
                  </a:lnTo>
                  <a:lnTo>
                    <a:pt x="492" y="127"/>
                  </a:lnTo>
                  <a:lnTo>
                    <a:pt x="476" y="148"/>
                  </a:lnTo>
                  <a:lnTo>
                    <a:pt x="455" y="175"/>
                  </a:lnTo>
                  <a:lnTo>
                    <a:pt x="444" y="177"/>
                  </a:lnTo>
                  <a:lnTo>
                    <a:pt x="428" y="175"/>
                  </a:lnTo>
                  <a:lnTo>
                    <a:pt x="403" y="175"/>
                  </a:lnTo>
                  <a:lnTo>
                    <a:pt x="385" y="184"/>
                  </a:lnTo>
                  <a:lnTo>
                    <a:pt x="360" y="198"/>
                  </a:lnTo>
                  <a:lnTo>
                    <a:pt x="335" y="216"/>
                  </a:lnTo>
                  <a:lnTo>
                    <a:pt x="308" y="245"/>
                  </a:lnTo>
                  <a:lnTo>
                    <a:pt x="285" y="275"/>
                  </a:lnTo>
                  <a:lnTo>
                    <a:pt x="265" y="309"/>
                  </a:lnTo>
                  <a:lnTo>
                    <a:pt x="249" y="345"/>
                  </a:lnTo>
                  <a:lnTo>
                    <a:pt x="240" y="388"/>
                  </a:lnTo>
                  <a:lnTo>
                    <a:pt x="195" y="399"/>
                  </a:lnTo>
                  <a:lnTo>
                    <a:pt x="161" y="431"/>
                  </a:lnTo>
                  <a:lnTo>
                    <a:pt x="129" y="472"/>
                  </a:lnTo>
                  <a:lnTo>
                    <a:pt x="113" y="522"/>
                  </a:lnTo>
                  <a:lnTo>
                    <a:pt x="106" y="574"/>
                  </a:lnTo>
                  <a:lnTo>
                    <a:pt x="115" y="628"/>
                  </a:lnTo>
                  <a:lnTo>
                    <a:pt x="138" y="671"/>
                  </a:lnTo>
                  <a:lnTo>
                    <a:pt x="174" y="710"/>
                  </a:lnTo>
                  <a:lnTo>
                    <a:pt x="120" y="669"/>
                  </a:lnTo>
                  <a:lnTo>
                    <a:pt x="74" y="655"/>
                  </a:lnTo>
                  <a:lnTo>
                    <a:pt x="38" y="655"/>
                  </a:lnTo>
                  <a:lnTo>
                    <a:pt x="11" y="667"/>
                  </a:lnTo>
                  <a:lnTo>
                    <a:pt x="0" y="689"/>
                  </a:lnTo>
                  <a:lnTo>
                    <a:pt x="0" y="717"/>
                  </a:lnTo>
                  <a:lnTo>
                    <a:pt x="18" y="741"/>
                  </a:lnTo>
                  <a:lnTo>
                    <a:pt x="49" y="762"/>
                  </a:lnTo>
                  <a:lnTo>
                    <a:pt x="88" y="780"/>
                  </a:lnTo>
                  <a:lnTo>
                    <a:pt x="122" y="796"/>
                  </a:lnTo>
                  <a:lnTo>
                    <a:pt x="154" y="807"/>
                  </a:lnTo>
                  <a:lnTo>
                    <a:pt x="181" y="819"/>
                  </a:lnTo>
                  <a:lnTo>
                    <a:pt x="206" y="834"/>
                  </a:lnTo>
                  <a:lnTo>
                    <a:pt x="229" y="846"/>
                  </a:lnTo>
                  <a:lnTo>
                    <a:pt x="251" y="859"/>
                  </a:lnTo>
                  <a:lnTo>
                    <a:pt x="274" y="875"/>
                  </a:lnTo>
                  <a:lnTo>
                    <a:pt x="299" y="889"/>
                  </a:lnTo>
                  <a:lnTo>
                    <a:pt x="326" y="898"/>
                  </a:lnTo>
                  <a:lnTo>
                    <a:pt x="353" y="902"/>
                  </a:lnTo>
                  <a:lnTo>
                    <a:pt x="383" y="902"/>
                  </a:lnTo>
                  <a:lnTo>
                    <a:pt x="405" y="902"/>
                  </a:lnTo>
                  <a:lnTo>
                    <a:pt x="423" y="900"/>
                  </a:lnTo>
                  <a:lnTo>
                    <a:pt x="437" y="898"/>
                  </a:lnTo>
                  <a:lnTo>
                    <a:pt x="442" y="898"/>
                  </a:lnTo>
                  <a:lnTo>
                    <a:pt x="492" y="889"/>
                  </a:lnTo>
                  <a:lnTo>
                    <a:pt x="521" y="868"/>
                  </a:lnTo>
                  <a:lnTo>
                    <a:pt x="521" y="843"/>
                  </a:lnTo>
                  <a:lnTo>
                    <a:pt x="480" y="819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85040" y="1149120"/>
              <a:ext cx="121680" cy="72000"/>
            </a:xfrm>
            <a:custGeom>
              <a:avLst/>
              <a:gdLst/>
              <a:ahLst/>
              <a:rect l="l" t="t" r="r" b="b"/>
              <a:pathLst>
                <a:path w="138" h="82">
                  <a:moveTo>
                    <a:pt x="0" y="2"/>
                  </a:moveTo>
                  <a:lnTo>
                    <a:pt x="23" y="0"/>
                  </a:lnTo>
                  <a:lnTo>
                    <a:pt x="41" y="4"/>
                  </a:lnTo>
                  <a:lnTo>
                    <a:pt x="54" y="16"/>
                  </a:lnTo>
                  <a:lnTo>
                    <a:pt x="63" y="32"/>
                  </a:lnTo>
                  <a:lnTo>
                    <a:pt x="75" y="50"/>
                  </a:lnTo>
                  <a:lnTo>
                    <a:pt x="93" y="63"/>
                  </a:lnTo>
                  <a:lnTo>
                    <a:pt x="111" y="77"/>
                  </a:lnTo>
                  <a:lnTo>
                    <a:pt x="138" y="82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85000" y="1095480"/>
              <a:ext cx="447840" cy="207000"/>
            </a:xfrm>
            <a:custGeom>
              <a:avLst/>
              <a:gdLst/>
              <a:ahLst/>
              <a:rect l="l" t="t" r="r" b="b"/>
              <a:pathLst>
                <a:path w="508" h="235">
                  <a:moveTo>
                    <a:pt x="508" y="235"/>
                  </a:moveTo>
                  <a:lnTo>
                    <a:pt x="479" y="233"/>
                  </a:lnTo>
                  <a:lnTo>
                    <a:pt x="458" y="229"/>
                  </a:lnTo>
                  <a:lnTo>
                    <a:pt x="440" y="220"/>
                  </a:lnTo>
                  <a:lnTo>
                    <a:pt x="429" y="208"/>
                  </a:lnTo>
                  <a:lnTo>
                    <a:pt x="415" y="199"/>
                  </a:lnTo>
                  <a:lnTo>
                    <a:pt x="399" y="190"/>
                  </a:lnTo>
                  <a:lnTo>
                    <a:pt x="379" y="183"/>
                  </a:lnTo>
                  <a:lnTo>
                    <a:pt x="354" y="183"/>
                  </a:lnTo>
                  <a:lnTo>
                    <a:pt x="324" y="181"/>
                  </a:lnTo>
                  <a:lnTo>
                    <a:pt x="297" y="179"/>
                  </a:lnTo>
                  <a:lnTo>
                    <a:pt x="275" y="177"/>
                  </a:lnTo>
                  <a:lnTo>
                    <a:pt x="254" y="172"/>
                  </a:lnTo>
                  <a:lnTo>
                    <a:pt x="236" y="165"/>
                  </a:lnTo>
                  <a:lnTo>
                    <a:pt x="218" y="154"/>
                  </a:lnTo>
                  <a:lnTo>
                    <a:pt x="202" y="143"/>
                  </a:lnTo>
                  <a:lnTo>
                    <a:pt x="186" y="124"/>
                  </a:lnTo>
                  <a:lnTo>
                    <a:pt x="166" y="106"/>
                  </a:lnTo>
                  <a:lnTo>
                    <a:pt x="143" y="84"/>
                  </a:lnTo>
                  <a:lnTo>
                    <a:pt x="118" y="59"/>
                  </a:lnTo>
                  <a:lnTo>
                    <a:pt x="93" y="36"/>
                  </a:lnTo>
                  <a:lnTo>
                    <a:pt x="66" y="18"/>
                  </a:lnTo>
                  <a:lnTo>
                    <a:pt x="41" y="4"/>
                  </a:lnTo>
                  <a:lnTo>
                    <a:pt x="18" y="0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25520" y="1166760"/>
              <a:ext cx="217440" cy="50040"/>
            </a:xfrm>
            <a:custGeom>
              <a:avLst/>
              <a:gdLst/>
              <a:ahLst/>
              <a:rect l="l" t="t" r="r" b="b"/>
              <a:pathLst>
                <a:path w="247" h="57">
                  <a:moveTo>
                    <a:pt x="0" y="43"/>
                  </a:moveTo>
                  <a:lnTo>
                    <a:pt x="43" y="21"/>
                  </a:lnTo>
                  <a:lnTo>
                    <a:pt x="81" y="7"/>
                  </a:lnTo>
                  <a:lnTo>
                    <a:pt x="118" y="0"/>
                  </a:lnTo>
                  <a:lnTo>
                    <a:pt x="152" y="3"/>
                  </a:lnTo>
                  <a:lnTo>
                    <a:pt x="181" y="12"/>
                  </a:lnTo>
                  <a:lnTo>
                    <a:pt x="206" y="23"/>
                  </a:lnTo>
                  <a:lnTo>
                    <a:pt x="227" y="37"/>
                  </a:lnTo>
                  <a:lnTo>
                    <a:pt x="247" y="57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56840" y="1029240"/>
              <a:ext cx="211680" cy="28080"/>
            </a:xfrm>
            <a:custGeom>
              <a:avLst/>
              <a:gdLst/>
              <a:ahLst/>
              <a:rect l="l" t="t" r="r" b="b"/>
              <a:pathLst>
                <a:path w="240" h="32">
                  <a:moveTo>
                    <a:pt x="240" y="25"/>
                  </a:moveTo>
                  <a:lnTo>
                    <a:pt x="234" y="23"/>
                  </a:lnTo>
                  <a:lnTo>
                    <a:pt x="220" y="18"/>
                  </a:lnTo>
                  <a:lnTo>
                    <a:pt x="195" y="11"/>
                  </a:lnTo>
                  <a:lnTo>
                    <a:pt x="166" y="4"/>
                  </a:lnTo>
                  <a:lnTo>
                    <a:pt x="129" y="0"/>
                  </a:lnTo>
                  <a:lnTo>
                    <a:pt x="91" y="2"/>
                  </a:lnTo>
                  <a:lnTo>
                    <a:pt x="45" y="11"/>
                  </a:lnTo>
                  <a:lnTo>
                    <a:pt x="0" y="32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33080" y="667800"/>
              <a:ext cx="200160" cy="61560"/>
            </a:xfrm>
            <a:custGeom>
              <a:avLst/>
              <a:gdLst/>
              <a:ahLst/>
              <a:rect l="l" t="t" r="r" b="b"/>
              <a:pathLst>
                <a:path w="227" h="70">
                  <a:moveTo>
                    <a:pt x="0" y="16"/>
                  </a:moveTo>
                  <a:lnTo>
                    <a:pt x="7" y="47"/>
                  </a:lnTo>
                  <a:lnTo>
                    <a:pt x="29" y="63"/>
                  </a:lnTo>
                  <a:lnTo>
                    <a:pt x="61" y="70"/>
                  </a:lnTo>
                  <a:lnTo>
                    <a:pt x="100" y="66"/>
                  </a:lnTo>
                  <a:lnTo>
                    <a:pt x="140" y="56"/>
                  </a:lnTo>
                  <a:lnTo>
                    <a:pt x="177" y="43"/>
                  </a:lnTo>
                  <a:lnTo>
                    <a:pt x="206" y="20"/>
                  </a:lnTo>
                  <a:lnTo>
                    <a:pt x="227" y="0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18760" y="726120"/>
              <a:ext cx="89640" cy="113760"/>
            </a:xfrm>
            <a:custGeom>
              <a:avLst/>
              <a:gdLst/>
              <a:ahLst/>
              <a:rect l="l" t="t" r="r" b="b"/>
              <a:pathLst>
                <a:path w="102" h="129">
                  <a:moveTo>
                    <a:pt x="0" y="0"/>
                  </a:moveTo>
                  <a:lnTo>
                    <a:pt x="21" y="6"/>
                  </a:lnTo>
                  <a:lnTo>
                    <a:pt x="59" y="24"/>
                  </a:lnTo>
                  <a:lnTo>
                    <a:pt x="96" y="63"/>
                  </a:lnTo>
                  <a:lnTo>
                    <a:pt x="102" y="129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8800" y="363600"/>
              <a:ext cx="34200" cy="135720"/>
            </a:xfrm>
            <a:custGeom>
              <a:avLst/>
              <a:gdLst/>
              <a:ahLst/>
              <a:rect l="l" t="t" r="r" b="b"/>
              <a:pathLst>
                <a:path w="39" h="154">
                  <a:moveTo>
                    <a:pt x="39" y="0"/>
                  </a:moveTo>
                  <a:lnTo>
                    <a:pt x="32" y="12"/>
                  </a:lnTo>
                  <a:lnTo>
                    <a:pt x="16" y="46"/>
                  </a:lnTo>
                  <a:lnTo>
                    <a:pt x="2" y="91"/>
                  </a:lnTo>
                  <a:lnTo>
                    <a:pt x="0" y="154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2560" y="344160"/>
              <a:ext cx="119880" cy="189360"/>
            </a:xfrm>
            <a:custGeom>
              <a:avLst/>
              <a:gdLst/>
              <a:ahLst/>
              <a:rect l="l" t="t" r="r" b="b"/>
              <a:pathLst>
                <a:path w="136" h="215">
                  <a:moveTo>
                    <a:pt x="134" y="215"/>
                  </a:moveTo>
                  <a:lnTo>
                    <a:pt x="118" y="199"/>
                  </a:lnTo>
                  <a:lnTo>
                    <a:pt x="123" y="174"/>
                  </a:lnTo>
                  <a:lnTo>
                    <a:pt x="136" y="133"/>
                  </a:lnTo>
                  <a:lnTo>
                    <a:pt x="134" y="81"/>
                  </a:lnTo>
                  <a:lnTo>
                    <a:pt x="123" y="56"/>
                  </a:lnTo>
                  <a:lnTo>
                    <a:pt x="109" y="31"/>
                  </a:lnTo>
                  <a:lnTo>
                    <a:pt x="89" y="18"/>
                  </a:lnTo>
                  <a:lnTo>
                    <a:pt x="68" y="6"/>
                  </a:lnTo>
                  <a:lnTo>
                    <a:pt x="50" y="2"/>
                  </a:lnTo>
                  <a:lnTo>
                    <a:pt x="30" y="0"/>
                  </a:lnTo>
                  <a:lnTo>
                    <a:pt x="12" y="2"/>
                  </a:lnTo>
                  <a:lnTo>
                    <a:pt x="0" y="6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81000" y="322200"/>
              <a:ext cx="48240" cy="93240"/>
            </a:xfrm>
            <a:custGeom>
              <a:avLst/>
              <a:gdLst/>
              <a:ahLst/>
              <a:rect l="l" t="t" r="r" b="b"/>
              <a:pathLst>
                <a:path w="55" h="106">
                  <a:moveTo>
                    <a:pt x="0" y="106"/>
                  </a:moveTo>
                  <a:lnTo>
                    <a:pt x="0" y="90"/>
                  </a:lnTo>
                  <a:lnTo>
                    <a:pt x="5" y="50"/>
                  </a:lnTo>
                  <a:lnTo>
                    <a:pt x="20" y="16"/>
                  </a:lnTo>
                  <a:lnTo>
                    <a:pt x="55" y="0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76920" y="144000"/>
              <a:ext cx="231840" cy="19548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65" y="222"/>
                  </a:moveTo>
                  <a:lnTo>
                    <a:pt x="27" y="211"/>
                  </a:lnTo>
                  <a:lnTo>
                    <a:pt x="4" y="188"/>
                  </a:lnTo>
                  <a:lnTo>
                    <a:pt x="0" y="161"/>
                  </a:lnTo>
                  <a:lnTo>
                    <a:pt x="9" y="129"/>
                  </a:lnTo>
                  <a:lnTo>
                    <a:pt x="27" y="100"/>
                  </a:lnTo>
                  <a:lnTo>
                    <a:pt x="56" y="73"/>
                  </a:lnTo>
                  <a:lnTo>
                    <a:pt x="88" y="52"/>
                  </a:lnTo>
                  <a:lnTo>
                    <a:pt x="129" y="36"/>
                  </a:lnTo>
                  <a:lnTo>
                    <a:pt x="165" y="32"/>
                  </a:lnTo>
                  <a:lnTo>
                    <a:pt x="192" y="25"/>
                  </a:lnTo>
                  <a:lnTo>
                    <a:pt x="220" y="18"/>
                  </a:lnTo>
                  <a:lnTo>
                    <a:pt x="235" y="11"/>
                  </a:lnTo>
                  <a:lnTo>
                    <a:pt x="249" y="7"/>
                  </a:lnTo>
                  <a:lnTo>
                    <a:pt x="256" y="2"/>
                  </a:lnTo>
                  <a:lnTo>
                    <a:pt x="263" y="0"/>
                  </a:lnTo>
                  <a:lnTo>
                    <a:pt x="263" y="0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839000" y="349560"/>
              <a:ext cx="197280" cy="51840"/>
            </a:xfrm>
            <a:custGeom>
              <a:avLst/>
              <a:gdLst/>
              <a:ahLst/>
              <a:rect l="l" t="t" r="r" b="b"/>
              <a:pathLst>
                <a:path w="224" h="59">
                  <a:moveTo>
                    <a:pt x="0" y="59"/>
                  </a:moveTo>
                  <a:lnTo>
                    <a:pt x="34" y="59"/>
                  </a:lnTo>
                  <a:lnTo>
                    <a:pt x="65" y="59"/>
                  </a:lnTo>
                  <a:lnTo>
                    <a:pt x="102" y="59"/>
                  </a:lnTo>
                  <a:lnTo>
                    <a:pt x="133" y="59"/>
                  </a:lnTo>
                  <a:lnTo>
                    <a:pt x="167" y="53"/>
                  </a:lnTo>
                  <a:lnTo>
                    <a:pt x="192" y="44"/>
                  </a:lnTo>
                  <a:lnTo>
                    <a:pt x="210" y="25"/>
                  </a:lnTo>
                  <a:lnTo>
                    <a:pt x="224" y="0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2880" y="587520"/>
              <a:ext cx="111960" cy="230040"/>
            </a:xfrm>
            <a:custGeom>
              <a:avLst/>
              <a:gdLst/>
              <a:ahLst/>
              <a:rect l="l" t="t" r="r" b="b"/>
              <a:pathLst>
                <a:path w="127" h="261">
                  <a:moveTo>
                    <a:pt x="13" y="213"/>
                  </a:moveTo>
                  <a:lnTo>
                    <a:pt x="66" y="261"/>
                  </a:lnTo>
                  <a:lnTo>
                    <a:pt x="86" y="243"/>
                  </a:lnTo>
                  <a:lnTo>
                    <a:pt x="84" y="200"/>
                  </a:lnTo>
                  <a:lnTo>
                    <a:pt x="63" y="163"/>
                  </a:lnTo>
                  <a:lnTo>
                    <a:pt x="36" y="138"/>
                  </a:lnTo>
                  <a:lnTo>
                    <a:pt x="9" y="100"/>
                  </a:lnTo>
                  <a:lnTo>
                    <a:pt x="0" y="59"/>
                  </a:lnTo>
                  <a:lnTo>
                    <a:pt x="25" y="23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20" y="7"/>
                  </a:lnTo>
                  <a:lnTo>
                    <a:pt x="127" y="14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412120" y="761040"/>
              <a:ext cx="157680" cy="403560"/>
            </a:xfrm>
            <a:custGeom>
              <a:avLst/>
              <a:gdLst/>
              <a:ahLst/>
              <a:rect l="l" t="t" r="r" b="b"/>
              <a:pathLst>
                <a:path w="179" h="458">
                  <a:moveTo>
                    <a:pt x="114" y="0"/>
                  </a:moveTo>
                  <a:lnTo>
                    <a:pt x="150" y="37"/>
                  </a:lnTo>
                  <a:lnTo>
                    <a:pt x="173" y="82"/>
                  </a:lnTo>
                  <a:lnTo>
                    <a:pt x="179" y="129"/>
                  </a:lnTo>
                  <a:lnTo>
                    <a:pt x="175" y="179"/>
                  </a:lnTo>
                  <a:lnTo>
                    <a:pt x="159" y="225"/>
                  </a:lnTo>
                  <a:lnTo>
                    <a:pt x="132" y="265"/>
                  </a:lnTo>
                  <a:lnTo>
                    <a:pt x="98" y="299"/>
                  </a:lnTo>
                  <a:lnTo>
                    <a:pt x="50" y="320"/>
                  </a:lnTo>
                  <a:lnTo>
                    <a:pt x="16" y="336"/>
                  </a:lnTo>
                  <a:lnTo>
                    <a:pt x="0" y="356"/>
                  </a:lnTo>
                  <a:lnTo>
                    <a:pt x="5" y="381"/>
                  </a:lnTo>
                  <a:lnTo>
                    <a:pt x="16" y="404"/>
                  </a:lnTo>
                  <a:lnTo>
                    <a:pt x="34" y="426"/>
                  </a:lnTo>
                  <a:lnTo>
                    <a:pt x="55" y="444"/>
                  </a:lnTo>
                  <a:lnTo>
                    <a:pt x="71" y="454"/>
                  </a:lnTo>
                  <a:lnTo>
                    <a:pt x="80" y="458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44760" y="1275120"/>
              <a:ext cx="245880" cy="93240"/>
            </a:xfrm>
            <a:custGeom>
              <a:avLst/>
              <a:gdLst/>
              <a:ahLst/>
              <a:rect l="l" t="t" r="r" b="b"/>
              <a:pathLst>
                <a:path w="279" h="106">
                  <a:moveTo>
                    <a:pt x="279" y="106"/>
                  </a:moveTo>
                  <a:lnTo>
                    <a:pt x="226" y="104"/>
                  </a:lnTo>
                  <a:lnTo>
                    <a:pt x="179" y="93"/>
                  </a:lnTo>
                  <a:lnTo>
                    <a:pt x="129" y="77"/>
                  </a:lnTo>
                  <a:lnTo>
                    <a:pt x="88" y="59"/>
                  </a:lnTo>
                  <a:lnTo>
                    <a:pt x="50" y="36"/>
                  </a:lnTo>
                  <a:lnTo>
                    <a:pt x="25" y="18"/>
                  </a:lnTo>
                  <a:lnTo>
                    <a:pt x="6" y="4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78520" y="1226880"/>
              <a:ext cx="69480" cy="4572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28"/>
                  </a:moveTo>
                  <a:lnTo>
                    <a:pt x="20" y="37"/>
                  </a:lnTo>
                  <a:lnTo>
                    <a:pt x="57" y="52"/>
                  </a:lnTo>
                  <a:lnTo>
                    <a:pt x="79" y="50"/>
                  </a:lnTo>
                  <a:lnTo>
                    <a:pt x="57" y="0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46400" y="1032840"/>
              <a:ext cx="515520" cy="136440"/>
            </a:xfrm>
            <a:custGeom>
              <a:avLst/>
              <a:gdLst/>
              <a:ahLst/>
              <a:rect l="l" t="t" r="r" b="b"/>
              <a:pathLst>
                <a:path w="585" h="155">
                  <a:moveTo>
                    <a:pt x="585" y="28"/>
                  </a:moveTo>
                  <a:lnTo>
                    <a:pt x="569" y="75"/>
                  </a:lnTo>
                  <a:lnTo>
                    <a:pt x="538" y="114"/>
                  </a:lnTo>
                  <a:lnTo>
                    <a:pt x="494" y="139"/>
                  </a:lnTo>
                  <a:lnTo>
                    <a:pt x="445" y="152"/>
                  </a:lnTo>
                  <a:lnTo>
                    <a:pt x="392" y="155"/>
                  </a:lnTo>
                  <a:lnTo>
                    <a:pt x="340" y="146"/>
                  </a:lnTo>
                  <a:lnTo>
                    <a:pt x="297" y="130"/>
                  </a:lnTo>
                  <a:lnTo>
                    <a:pt x="256" y="100"/>
                  </a:lnTo>
                  <a:lnTo>
                    <a:pt x="225" y="71"/>
                  </a:lnTo>
                  <a:lnTo>
                    <a:pt x="193" y="46"/>
                  </a:lnTo>
                  <a:lnTo>
                    <a:pt x="159" y="28"/>
                  </a:lnTo>
                  <a:lnTo>
                    <a:pt x="127" y="14"/>
                  </a:lnTo>
                  <a:lnTo>
                    <a:pt x="93" y="5"/>
                  </a:lnTo>
                  <a:lnTo>
                    <a:pt x="61" y="0"/>
                  </a:lnTo>
                  <a:lnTo>
                    <a:pt x="30" y="0"/>
                  </a:lnTo>
                  <a:lnTo>
                    <a:pt x="0" y="7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60440" y="569880"/>
              <a:ext cx="195480" cy="239760"/>
            </a:xfrm>
            <a:custGeom>
              <a:avLst/>
              <a:gdLst/>
              <a:ahLst/>
              <a:rect l="l" t="t" r="r" b="b"/>
              <a:pathLst>
                <a:path w="222" h="272">
                  <a:moveTo>
                    <a:pt x="222" y="0"/>
                  </a:moveTo>
                  <a:lnTo>
                    <a:pt x="172" y="4"/>
                  </a:lnTo>
                  <a:lnTo>
                    <a:pt x="136" y="20"/>
                  </a:lnTo>
                  <a:lnTo>
                    <a:pt x="113" y="43"/>
                  </a:lnTo>
                  <a:lnTo>
                    <a:pt x="100" y="68"/>
                  </a:lnTo>
                  <a:lnTo>
                    <a:pt x="93" y="97"/>
                  </a:lnTo>
                  <a:lnTo>
                    <a:pt x="91" y="122"/>
                  </a:lnTo>
                  <a:lnTo>
                    <a:pt x="88" y="147"/>
                  </a:lnTo>
                  <a:lnTo>
                    <a:pt x="86" y="161"/>
                  </a:lnTo>
                  <a:lnTo>
                    <a:pt x="66" y="190"/>
                  </a:lnTo>
                  <a:lnTo>
                    <a:pt x="41" y="226"/>
                  </a:lnTo>
                  <a:lnTo>
                    <a:pt x="11" y="256"/>
                  </a:lnTo>
                  <a:lnTo>
                    <a:pt x="0" y="272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06600" y="759600"/>
              <a:ext cx="269640" cy="235080"/>
            </a:xfrm>
            <a:custGeom>
              <a:avLst/>
              <a:gdLst/>
              <a:ahLst/>
              <a:rect l="l" t="t" r="r" b="b"/>
              <a:pathLst>
                <a:path w="306" h="267">
                  <a:moveTo>
                    <a:pt x="306" y="68"/>
                  </a:moveTo>
                  <a:lnTo>
                    <a:pt x="272" y="41"/>
                  </a:lnTo>
                  <a:lnTo>
                    <a:pt x="244" y="23"/>
                  </a:lnTo>
                  <a:lnTo>
                    <a:pt x="219" y="9"/>
                  </a:lnTo>
                  <a:lnTo>
                    <a:pt x="192" y="2"/>
                  </a:lnTo>
                  <a:lnTo>
                    <a:pt x="174" y="0"/>
                  </a:lnTo>
                  <a:lnTo>
                    <a:pt x="156" y="7"/>
                  </a:lnTo>
                  <a:lnTo>
                    <a:pt x="142" y="25"/>
                  </a:lnTo>
                  <a:lnTo>
                    <a:pt x="133" y="52"/>
                  </a:lnTo>
                  <a:lnTo>
                    <a:pt x="133" y="88"/>
                  </a:lnTo>
                  <a:lnTo>
                    <a:pt x="145" y="122"/>
                  </a:lnTo>
                  <a:lnTo>
                    <a:pt x="165" y="156"/>
                  </a:lnTo>
                  <a:lnTo>
                    <a:pt x="185" y="193"/>
                  </a:lnTo>
                  <a:lnTo>
                    <a:pt x="204" y="222"/>
                  </a:lnTo>
                  <a:lnTo>
                    <a:pt x="213" y="245"/>
                  </a:lnTo>
                  <a:lnTo>
                    <a:pt x="208" y="261"/>
                  </a:lnTo>
                  <a:lnTo>
                    <a:pt x="181" y="267"/>
                  </a:lnTo>
                  <a:lnTo>
                    <a:pt x="145" y="265"/>
                  </a:lnTo>
                  <a:lnTo>
                    <a:pt x="113" y="254"/>
                  </a:lnTo>
                  <a:lnTo>
                    <a:pt x="79" y="236"/>
                  </a:lnTo>
                  <a:lnTo>
                    <a:pt x="52" y="215"/>
                  </a:lnTo>
                  <a:lnTo>
                    <a:pt x="29" y="197"/>
                  </a:lnTo>
                  <a:lnTo>
                    <a:pt x="13" y="177"/>
                  </a:lnTo>
                  <a:lnTo>
                    <a:pt x="4" y="163"/>
                  </a:lnTo>
                  <a:lnTo>
                    <a:pt x="0" y="156"/>
                  </a:lnTo>
                </a:path>
              </a:pathLst>
            </a:custGeom>
            <a:solidFill>
              <a:srgbClr val="808080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light to 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70400" y="1357200"/>
            <a:ext cx="4456080" cy="2503440"/>
          </a:xfrm>
          <a:custGeom>
            <a:avLst/>
            <a:gdLst/>
            <a:ahLst/>
            <a:rect l="l" t="t" r="r" b="b"/>
            <a:pathLst>
              <a:path w="2807" h="1577">
                <a:moveTo>
                  <a:pt x="1725" y="77"/>
                </a:moveTo>
                <a:lnTo>
                  <a:pt x="1709" y="70"/>
                </a:lnTo>
                <a:lnTo>
                  <a:pt x="1694" y="61"/>
                </a:lnTo>
                <a:lnTo>
                  <a:pt x="1675" y="50"/>
                </a:lnTo>
                <a:lnTo>
                  <a:pt x="1655" y="36"/>
                </a:lnTo>
                <a:lnTo>
                  <a:pt x="1628" y="23"/>
                </a:lnTo>
                <a:lnTo>
                  <a:pt x="1598" y="11"/>
                </a:lnTo>
                <a:lnTo>
                  <a:pt x="1564" y="5"/>
                </a:lnTo>
                <a:lnTo>
                  <a:pt x="1524" y="0"/>
                </a:lnTo>
                <a:lnTo>
                  <a:pt x="1483" y="0"/>
                </a:lnTo>
                <a:lnTo>
                  <a:pt x="1449" y="5"/>
                </a:lnTo>
                <a:lnTo>
                  <a:pt x="1419" y="11"/>
                </a:lnTo>
                <a:lnTo>
                  <a:pt x="1392" y="20"/>
                </a:lnTo>
                <a:lnTo>
                  <a:pt x="1369" y="29"/>
                </a:lnTo>
                <a:lnTo>
                  <a:pt x="1347" y="39"/>
                </a:lnTo>
                <a:lnTo>
                  <a:pt x="1322" y="45"/>
                </a:lnTo>
                <a:lnTo>
                  <a:pt x="1295" y="50"/>
                </a:lnTo>
                <a:lnTo>
                  <a:pt x="1265" y="50"/>
                </a:lnTo>
                <a:lnTo>
                  <a:pt x="1238" y="48"/>
                </a:lnTo>
                <a:lnTo>
                  <a:pt x="1213" y="41"/>
                </a:lnTo>
                <a:lnTo>
                  <a:pt x="1188" y="34"/>
                </a:lnTo>
                <a:lnTo>
                  <a:pt x="1161" y="29"/>
                </a:lnTo>
                <a:lnTo>
                  <a:pt x="1136" y="25"/>
                </a:lnTo>
                <a:lnTo>
                  <a:pt x="1109" y="27"/>
                </a:lnTo>
                <a:lnTo>
                  <a:pt x="1081" y="32"/>
                </a:lnTo>
                <a:lnTo>
                  <a:pt x="1054" y="39"/>
                </a:lnTo>
                <a:lnTo>
                  <a:pt x="1029" y="41"/>
                </a:lnTo>
                <a:lnTo>
                  <a:pt x="1009" y="41"/>
                </a:lnTo>
                <a:lnTo>
                  <a:pt x="988" y="41"/>
                </a:lnTo>
                <a:lnTo>
                  <a:pt x="966" y="41"/>
                </a:lnTo>
                <a:lnTo>
                  <a:pt x="941" y="43"/>
                </a:lnTo>
                <a:lnTo>
                  <a:pt x="907" y="50"/>
                </a:lnTo>
                <a:lnTo>
                  <a:pt x="868" y="61"/>
                </a:lnTo>
                <a:lnTo>
                  <a:pt x="803" y="86"/>
                </a:lnTo>
                <a:lnTo>
                  <a:pt x="775" y="109"/>
                </a:lnTo>
                <a:lnTo>
                  <a:pt x="762" y="127"/>
                </a:lnTo>
                <a:lnTo>
                  <a:pt x="744" y="138"/>
                </a:lnTo>
                <a:lnTo>
                  <a:pt x="732" y="138"/>
                </a:lnTo>
                <a:lnTo>
                  <a:pt x="716" y="138"/>
                </a:lnTo>
                <a:lnTo>
                  <a:pt x="698" y="136"/>
                </a:lnTo>
                <a:lnTo>
                  <a:pt x="678" y="131"/>
                </a:lnTo>
                <a:lnTo>
                  <a:pt x="655" y="134"/>
                </a:lnTo>
                <a:lnTo>
                  <a:pt x="628" y="138"/>
                </a:lnTo>
                <a:lnTo>
                  <a:pt x="594" y="152"/>
                </a:lnTo>
                <a:lnTo>
                  <a:pt x="553" y="177"/>
                </a:lnTo>
                <a:lnTo>
                  <a:pt x="515" y="206"/>
                </a:lnTo>
                <a:lnTo>
                  <a:pt x="485" y="236"/>
                </a:lnTo>
                <a:lnTo>
                  <a:pt x="460" y="261"/>
                </a:lnTo>
                <a:lnTo>
                  <a:pt x="440" y="281"/>
                </a:lnTo>
                <a:lnTo>
                  <a:pt x="426" y="301"/>
                </a:lnTo>
                <a:lnTo>
                  <a:pt x="419" y="315"/>
                </a:lnTo>
                <a:lnTo>
                  <a:pt x="415" y="324"/>
                </a:lnTo>
                <a:lnTo>
                  <a:pt x="413" y="326"/>
                </a:lnTo>
                <a:lnTo>
                  <a:pt x="408" y="329"/>
                </a:lnTo>
                <a:lnTo>
                  <a:pt x="399" y="331"/>
                </a:lnTo>
                <a:lnTo>
                  <a:pt x="381" y="335"/>
                </a:lnTo>
                <a:lnTo>
                  <a:pt x="360" y="342"/>
                </a:lnTo>
                <a:lnTo>
                  <a:pt x="338" y="351"/>
                </a:lnTo>
                <a:lnTo>
                  <a:pt x="315" y="365"/>
                </a:lnTo>
                <a:lnTo>
                  <a:pt x="295" y="378"/>
                </a:lnTo>
                <a:lnTo>
                  <a:pt x="279" y="394"/>
                </a:lnTo>
                <a:lnTo>
                  <a:pt x="263" y="412"/>
                </a:lnTo>
                <a:lnTo>
                  <a:pt x="243" y="433"/>
                </a:lnTo>
                <a:lnTo>
                  <a:pt x="222" y="449"/>
                </a:lnTo>
                <a:lnTo>
                  <a:pt x="202" y="465"/>
                </a:lnTo>
                <a:lnTo>
                  <a:pt x="184" y="487"/>
                </a:lnTo>
                <a:lnTo>
                  <a:pt x="166" y="510"/>
                </a:lnTo>
                <a:lnTo>
                  <a:pt x="152" y="535"/>
                </a:lnTo>
                <a:lnTo>
                  <a:pt x="145" y="562"/>
                </a:lnTo>
                <a:lnTo>
                  <a:pt x="134" y="589"/>
                </a:lnTo>
                <a:lnTo>
                  <a:pt x="120" y="612"/>
                </a:lnTo>
                <a:lnTo>
                  <a:pt x="107" y="644"/>
                </a:lnTo>
                <a:lnTo>
                  <a:pt x="118" y="684"/>
                </a:lnTo>
                <a:lnTo>
                  <a:pt x="104" y="691"/>
                </a:lnTo>
                <a:lnTo>
                  <a:pt x="79" y="714"/>
                </a:lnTo>
                <a:lnTo>
                  <a:pt x="52" y="746"/>
                </a:lnTo>
                <a:lnTo>
                  <a:pt x="32" y="793"/>
                </a:lnTo>
                <a:lnTo>
                  <a:pt x="29" y="879"/>
                </a:lnTo>
                <a:lnTo>
                  <a:pt x="32" y="940"/>
                </a:lnTo>
                <a:lnTo>
                  <a:pt x="23" y="965"/>
                </a:lnTo>
                <a:lnTo>
                  <a:pt x="9" y="990"/>
                </a:lnTo>
                <a:lnTo>
                  <a:pt x="0" y="1029"/>
                </a:lnTo>
                <a:lnTo>
                  <a:pt x="5" y="1101"/>
                </a:lnTo>
                <a:lnTo>
                  <a:pt x="23" y="1181"/>
                </a:lnTo>
                <a:lnTo>
                  <a:pt x="45" y="1235"/>
                </a:lnTo>
                <a:lnTo>
                  <a:pt x="73" y="1267"/>
                </a:lnTo>
                <a:lnTo>
                  <a:pt x="109" y="1280"/>
                </a:lnTo>
                <a:lnTo>
                  <a:pt x="107" y="1305"/>
                </a:lnTo>
                <a:lnTo>
                  <a:pt x="118" y="1328"/>
                </a:lnTo>
                <a:lnTo>
                  <a:pt x="134" y="1348"/>
                </a:lnTo>
                <a:lnTo>
                  <a:pt x="156" y="1364"/>
                </a:lnTo>
                <a:lnTo>
                  <a:pt x="184" y="1382"/>
                </a:lnTo>
                <a:lnTo>
                  <a:pt x="213" y="1394"/>
                </a:lnTo>
                <a:lnTo>
                  <a:pt x="245" y="1405"/>
                </a:lnTo>
                <a:lnTo>
                  <a:pt x="274" y="1412"/>
                </a:lnTo>
                <a:lnTo>
                  <a:pt x="299" y="1416"/>
                </a:lnTo>
                <a:lnTo>
                  <a:pt x="320" y="1423"/>
                </a:lnTo>
                <a:lnTo>
                  <a:pt x="342" y="1430"/>
                </a:lnTo>
                <a:lnTo>
                  <a:pt x="363" y="1437"/>
                </a:lnTo>
                <a:lnTo>
                  <a:pt x="385" y="1446"/>
                </a:lnTo>
                <a:lnTo>
                  <a:pt x="408" y="1450"/>
                </a:lnTo>
                <a:lnTo>
                  <a:pt x="435" y="1453"/>
                </a:lnTo>
                <a:lnTo>
                  <a:pt x="469" y="1455"/>
                </a:lnTo>
                <a:lnTo>
                  <a:pt x="503" y="1455"/>
                </a:lnTo>
                <a:lnTo>
                  <a:pt x="531" y="1455"/>
                </a:lnTo>
                <a:lnTo>
                  <a:pt x="558" y="1455"/>
                </a:lnTo>
                <a:lnTo>
                  <a:pt x="587" y="1457"/>
                </a:lnTo>
                <a:lnTo>
                  <a:pt x="610" y="1459"/>
                </a:lnTo>
                <a:lnTo>
                  <a:pt x="633" y="1462"/>
                </a:lnTo>
                <a:lnTo>
                  <a:pt x="657" y="1466"/>
                </a:lnTo>
                <a:lnTo>
                  <a:pt x="682" y="1471"/>
                </a:lnTo>
                <a:lnTo>
                  <a:pt x="712" y="1478"/>
                </a:lnTo>
                <a:lnTo>
                  <a:pt x="741" y="1480"/>
                </a:lnTo>
                <a:lnTo>
                  <a:pt x="769" y="1478"/>
                </a:lnTo>
                <a:lnTo>
                  <a:pt x="796" y="1475"/>
                </a:lnTo>
                <a:lnTo>
                  <a:pt x="823" y="1468"/>
                </a:lnTo>
                <a:lnTo>
                  <a:pt x="848" y="1455"/>
                </a:lnTo>
                <a:lnTo>
                  <a:pt x="866" y="1439"/>
                </a:lnTo>
                <a:lnTo>
                  <a:pt x="877" y="1416"/>
                </a:lnTo>
                <a:lnTo>
                  <a:pt x="920" y="1410"/>
                </a:lnTo>
                <a:lnTo>
                  <a:pt x="959" y="1380"/>
                </a:lnTo>
                <a:lnTo>
                  <a:pt x="986" y="1339"/>
                </a:lnTo>
                <a:lnTo>
                  <a:pt x="998" y="1299"/>
                </a:lnTo>
                <a:lnTo>
                  <a:pt x="1022" y="1283"/>
                </a:lnTo>
                <a:lnTo>
                  <a:pt x="1029" y="1255"/>
                </a:lnTo>
                <a:lnTo>
                  <a:pt x="1025" y="1224"/>
                </a:lnTo>
                <a:lnTo>
                  <a:pt x="1018" y="1203"/>
                </a:lnTo>
                <a:lnTo>
                  <a:pt x="1022" y="1201"/>
                </a:lnTo>
                <a:lnTo>
                  <a:pt x="1041" y="1199"/>
                </a:lnTo>
                <a:lnTo>
                  <a:pt x="1068" y="1187"/>
                </a:lnTo>
                <a:lnTo>
                  <a:pt x="1097" y="1163"/>
                </a:lnTo>
                <a:lnTo>
                  <a:pt x="1111" y="1135"/>
                </a:lnTo>
                <a:lnTo>
                  <a:pt x="1100" y="1115"/>
                </a:lnTo>
                <a:lnTo>
                  <a:pt x="1079" y="1090"/>
                </a:lnTo>
                <a:lnTo>
                  <a:pt x="1075" y="1058"/>
                </a:lnTo>
                <a:lnTo>
                  <a:pt x="1084" y="1036"/>
                </a:lnTo>
                <a:lnTo>
                  <a:pt x="1102" y="1011"/>
                </a:lnTo>
                <a:lnTo>
                  <a:pt x="1129" y="988"/>
                </a:lnTo>
                <a:lnTo>
                  <a:pt x="1163" y="963"/>
                </a:lnTo>
                <a:lnTo>
                  <a:pt x="1206" y="943"/>
                </a:lnTo>
                <a:lnTo>
                  <a:pt x="1254" y="922"/>
                </a:lnTo>
                <a:lnTo>
                  <a:pt x="1308" y="913"/>
                </a:lnTo>
                <a:lnTo>
                  <a:pt x="1367" y="911"/>
                </a:lnTo>
                <a:lnTo>
                  <a:pt x="1422" y="916"/>
                </a:lnTo>
                <a:lnTo>
                  <a:pt x="1469" y="925"/>
                </a:lnTo>
                <a:lnTo>
                  <a:pt x="1505" y="936"/>
                </a:lnTo>
                <a:lnTo>
                  <a:pt x="1535" y="952"/>
                </a:lnTo>
                <a:lnTo>
                  <a:pt x="1555" y="963"/>
                </a:lnTo>
                <a:lnTo>
                  <a:pt x="1569" y="974"/>
                </a:lnTo>
                <a:lnTo>
                  <a:pt x="1578" y="981"/>
                </a:lnTo>
                <a:lnTo>
                  <a:pt x="1580" y="984"/>
                </a:lnTo>
                <a:lnTo>
                  <a:pt x="1589" y="1049"/>
                </a:lnTo>
                <a:lnTo>
                  <a:pt x="1616" y="1095"/>
                </a:lnTo>
                <a:lnTo>
                  <a:pt x="1653" y="1119"/>
                </a:lnTo>
                <a:lnTo>
                  <a:pt x="1687" y="1129"/>
                </a:lnTo>
                <a:lnTo>
                  <a:pt x="1689" y="1138"/>
                </a:lnTo>
                <a:lnTo>
                  <a:pt x="1703" y="1160"/>
                </a:lnTo>
                <a:lnTo>
                  <a:pt x="1739" y="1183"/>
                </a:lnTo>
                <a:lnTo>
                  <a:pt x="1805" y="1192"/>
                </a:lnTo>
                <a:lnTo>
                  <a:pt x="1805" y="1185"/>
                </a:lnTo>
                <a:lnTo>
                  <a:pt x="1811" y="1169"/>
                </a:lnTo>
                <a:lnTo>
                  <a:pt x="1827" y="1156"/>
                </a:lnTo>
                <a:lnTo>
                  <a:pt x="1859" y="1153"/>
                </a:lnTo>
                <a:lnTo>
                  <a:pt x="1873" y="1149"/>
                </a:lnTo>
                <a:lnTo>
                  <a:pt x="1900" y="1147"/>
                </a:lnTo>
                <a:lnTo>
                  <a:pt x="1932" y="1153"/>
                </a:lnTo>
                <a:lnTo>
                  <a:pt x="1959" y="1187"/>
                </a:lnTo>
                <a:lnTo>
                  <a:pt x="1966" y="1185"/>
                </a:lnTo>
                <a:lnTo>
                  <a:pt x="1975" y="1187"/>
                </a:lnTo>
                <a:lnTo>
                  <a:pt x="1991" y="1190"/>
                </a:lnTo>
                <a:lnTo>
                  <a:pt x="1995" y="1203"/>
                </a:lnTo>
                <a:lnTo>
                  <a:pt x="2000" y="1203"/>
                </a:lnTo>
                <a:lnTo>
                  <a:pt x="2011" y="1208"/>
                </a:lnTo>
                <a:lnTo>
                  <a:pt x="2022" y="1215"/>
                </a:lnTo>
                <a:lnTo>
                  <a:pt x="2031" y="1231"/>
                </a:lnTo>
                <a:lnTo>
                  <a:pt x="2038" y="1235"/>
                </a:lnTo>
                <a:lnTo>
                  <a:pt x="2056" y="1249"/>
                </a:lnTo>
                <a:lnTo>
                  <a:pt x="2074" y="1267"/>
                </a:lnTo>
                <a:lnTo>
                  <a:pt x="2084" y="1287"/>
                </a:lnTo>
                <a:lnTo>
                  <a:pt x="2154" y="1342"/>
                </a:lnTo>
                <a:lnTo>
                  <a:pt x="2167" y="1351"/>
                </a:lnTo>
                <a:lnTo>
                  <a:pt x="2201" y="1378"/>
                </a:lnTo>
                <a:lnTo>
                  <a:pt x="2256" y="1414"/>
                </a:lnTo>
                <a:lnTo>
                  <a:pt x="2317" y="1455"/>
                </a:lnTo>
                <a:lnTo>
                  <a:pt x="2390" y="1496"/>
                </a:lnTo>
                <a:lnTo>
                  <a:pt x="2458" y="1534"/>
                </a:lnTo>
                <a:lnTo>
                  <a:pt x="2521" y="1561"/>
                </a:lnTo>
                <a:lnTo>
                  <a:pt x="2573" y="1577"/>
                </a:lnTo>
                <a:lnTo>
                  <a:pt x="2609" y="1577"/>
                </a:lnTo>
                <a:lnTo>
                  <a:pt x="2639" y="1568"/>
                </a:lnTo>
                <a:lnTo>
                  <a:pt x="2662" y="1552"/>
                </a:lnTo>
                <a:lnTo>
                  <a:pt x="2678" y="1536"/>
                </a:lnTo>
                <a:lnTo>
                  <a:pt x="2684" y="1516"/>
                </a:lnTo>
                <a:lnTo>
                  <a:pt x="2691" y="1498"/>
                </a:lnTo>
                <a:lnTo>
                  <a:pt x="2684" y="1480"/>
                </a:lnTo>
                <a:lnTo>
                  <a:pt x="2678" y="1466"/>
                </a:lnTo>
                <a:lnTo>
                  <a:pt x="2714" y="1464"/>
                </a:lnTo>
                <a:lnTo>
                  <a:pt x="2752" y="1441"/>
                </a:lnTo>
                <a:lnTo>
                  <a:pt x="2775" y="1405"/>
                </a:lnTo>
                <a:lnTo>
                  <a:pt x="2782" y="1371"/>
                </a:lnTo>
                <a:lnTo>
                  <a:pt x="2798" y="1333"/>
                </a:lnTo>
                <a:lnTo>
                  <a:pt x="2807" y="1251"/>
                </a:lnTo>
                <a:lnTo>
                  <a:pt x="2793" y="1163"/>
                </a:lnTo>
                <a:lnTo>
                  <a:pt x="2759" y="1113"/>
                </a:lnTo>
                <a:lnTo>
                  <a:pt x="2757" y="1083"/>
                </a:lnTo>
                <a:lnTo>
                  <a:pt x="2748" y="1011"/>
                </a:lnTo>
                <a:lnTo>
                  <a:pt x="2721" y="922"/>
                </a:lnTo>
                <a:lnTo>
                  <a:pt x="2659" y="843"/>
                </a:lnTo>
                <a:lnTo>
                  <a:pt x="2657" y="811"/>
                </a:lnTo>
                <a:lnTo>
                  <a:pt x="2639" y="786"/>
                </a:lnTo>
                <a:lnTo>
                  <a:pt x="2616" y="764"/>
                </a:lnTo>
                <a:lnTo>
                  <a:pt x="2596" y="732"/>
                </a:lnTo>
                <a:lnTo>
                  <a:pt x="2585" y="712"/>
                </a:lnTo>
                <a:lnTo>
                  <a:pt x="2569" y="684"/>
                </a:lnTo>
                <a:lnTo>
                  <a:pt x="2553" y="655"/>
                </a:lnTo>
                <a:lnTo>
                  <a:pt x="2532" y="628"/>
                </a:lnTo>
                <a:lnTo>
                  <a:pt x="2507" y="603"/>
                </a:lnTo>
                <a:lnTo>
                  <a:pt x="2480" y="580"/>
                </a:lnTo>
                <a:lnTo>
                  <a:pt x="2446" y="564"/>
                </a:lnTo>
                <a:lnTo>
                  <a:pt x="2412" y="560"/>
                </a:lnTo>
                <a:lnTo>
                  <a:pt x="2410" y="539"/>
                </a:lnTo>
                <a:lnTo>
                  <a:pt x="2403" y="514"/>
                </a:lnTo>
                <a:lnTo>
                  <a:pt x="2390" y="487"/>
                </a:lnTo>
                <a:lnTo>
                  <a:pt x="2371" y="458"/>
                </a:lnTo>
                <a:lnTo>
                  <a:pt x="2353" y="433"/>
                </a:lnTo>
                <a:lnTo>
                  <a:pt x="2331" y="410"/>
                </a:lnTo>
                <a:lnTo>
                  <a:pt x="2310" y="392"/>
                </a:lnTo>
                <a:lnTo>
                  <a:pt x="2290" y="378"/>
                </a:lnTo>
                <a:lnTo>
                  <a:pt x="2276" y="369"/>
                </a:lnTo>
                <a:lnTo>
                  <a:pt x="2267" y="351"/>
                </a:lnTo>
                <a:lnTo>
                  <a:pt x="2256" y="326"/>
                </a:lnTo>
                <a:lnTo>
                  <a:pt x="2247" y="306"/>
                </a:lnTo>
                <a:lnTo>
                  <a:pt x="2229" y="279"/>
                </a:lnTo>
                <a:lnTo>
                  <a:pt x="2201" y="258"/>
                </a:lnTo>
                <a:lnTo>
                  <a:pt x="2165" y="242"/>
                </a:lnTo>
                <a:lnTo>
                  <a:pt x="2115" y="227"/>
                </a:lnTo>
                <a:lnTo>
                  <a:pt x="2113" y="222"/>
                </a:lnTo>
                <a:lnTo>
                  <a:pt x="2102" y="213"/>
                </a:lnTo>
                <a:lnTo>
                  <a:pt x="2090" y="199"/>
                </a:lnTo>
                <a:lnTo>
                  <a:pt x="2070" y="184"/>
                </a:lnTo>
                <a:lnTo>
                  <a:pt x="2043" y="168"/>
                </a:lnTo>
                <a:lnTo>
                  <a:pt x="2013" y="154"/>
                </a:lnTo>
                <a:lnTo>
                  <a:pt x="1972" y="145"/>
                </a:lnTo>
                <a:lnTo>
                  <a:pt x="1927" y="141"/>
                </a:lnTo>
                <a:lnTo>
                  <a:pt x="1925" y="138"/>
                </a:lnTo>
                <a:lnTo>
                  <a:pt x="1918" y="131"/>
                </a:lnTo>
                <a:lnTo>
                  <a:pt x="1904" y="120"/>
                </a:lnTo>
                <a:lnTo>
                  <a:pt x="1886" y="107"/>
                </a:lnTo>
                <a:lnTo>
                  <a:pt x="1857" y="95"/>
                </a:lnTo>
                <a:lnTo>
                  <a:pt x="1823" y="84"/>
                </a:lnTo>
                <a:lnTo>
                  <a:pt x="1777" y="79"/>
                </a:lnTo>
                <a:lnTo>
                  <a:pt x="1725" y="77"/>
                </a:lnTo>
                <a:lnTo>
                  <a:pt x="1725" y="77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92840" y="2803680"/>
            <a:ext cx="2468520" cy="2835000"/>
          </a:xfrm>
          <a:custGeom>
            <a:avLst/>
            <a:gdLst/>
            <a:ahLst/>
            <a:rect l="l" t="t" r="r" b="b"/>
            <a:pathLst>
              <a:path w="1555" h="1786">
                <a:moveTo>
                  <a:pt x="812" y="1786"/>
                </a:moveTo>
                <a:lnTo>
                  <a:pt x="812" y="1704"/>
                </a:lnTo>
                <a:lnTo>
                  <a:pt x="812" y="1521"/>
                </a:lnTo>
                <a:lnTo>
                  <a:pt x="803" y="1323"/>
                </a:lnTo>
                <a:lnTo>
                  <a:pt x="782" y="1187"/>
                </a:lnTo>
                <a:lnTo>
                  <a:pt x="787" y="1190"/>
                </a:lnTo>
                <a:lnTo>
                  <a:pt x="803" y="1199"/>
                </a:lnTo>
                <a:lnTo>
                  <a:pt x="825" y="1208"/>
                </a:lnTo>
                <a:lnTo>
                  <a:pt x="850" y="1215"/>
                </a:lnTo>
                <a:lnTo>
                  <a:pt x="882" y="1221"/>
                </a:lnTo>
                <a:lnTo>
                  <a:pt x="914" y="1224"/>
                </a:lnTo>
                <a:lnTo>
                  <a:pt x="948" y="1219"/>
                </a:lnTo>
                <a:lnTo>
                  <a:pt x="979" y="1208"/>
                </a:lnTo>
                <a:lnTo>
                  <a:pt x="1013" y="1221"/>
                </a:lnTo>
                <a:lnTo>
                  <a:pt x="1054" y="1228"/>
                </a:lnTo>
                <a:lnTo>
                  <a:pt x="1091" y="1231"/>
                </a:lnTo>
                <a:lnTo>
                  <a:pt x="1125" y="1226"/>
                </a:lnTo>
                <a:lnTo>
                  <a:pt x="1161" y="1217"/>
                </a:lnTo>
                <a:lnTo>
                  <a:pt x="1193" y="1203"/>
                </a:lnTo>
                <a:lnTo>
                  <a:pt x="1220" y="1181"/>
                </a:lnTo>
                <a:lnTo>
                  <a:pt x="1242" y="1163"/>
                </a:lnTo>
                <a:lnTo>
                  <a:pt x="1247" y="1160"/>
                </a:lnTo>
                <a:lnTo>
                  <a:pt x="1256" y="1156"/>
                </a:lnTo>
                <a:lnTo>
                  <a:pt x="1279" y="1149"/>
                </a:lnTo>
                <a:lnTo>
                  <a:pt x="1299" y="1140"/>
                </a:lnTo>
                <a:lnTo>
                  <a:pt x="1322" y="1126"/>
                </a:lnTo>
                <a:lnTo>
                  <a:pt x="1347" y="1108"/>
                </a:lnTo>
                <a:lnTo>
                  <a:pt x="1367" y="1090"/>
                </a:lnTo>
                <a:lnTo>
                  <a:pt x="1390" y="1065"/>
                </a:lnTo>
                <a:lnTo>
                  <a:pt x="1397" y="1058"/>
                </a:lnTo>
                <a:lnTo>
                  <a:pt x="1417" y="1045"/>
                </a:lnTo>
                <a:lnTo>
                  <a:pt x="1444" y="1020"/>
                </a:lnTo>
                <a:lnTo>
                  <a:pt x="1474" y="988"/>
                </a:lnTo>
                <a:lnTo>
                  <a:pt x="1508" y="950"/>
                </a:lnTo>
                <a:lnTo>
                  <a:pt x="1533" y="902"/>
                </a:lnTo>
                <a:lnTo>
                  <a:pt x="1551" y="852"/>
                </a:lnTo>
                <a:lnTo>
                  <a:pt x="1555" y="795"/>
                </a:lnTo>
                <a:lnTo>
                  <a:pt x="1548" y="746"/>
                </a:lnTo>
                <a:lnTo>
                  <a:pt x="1533" y="705"/>
                </a:lnTo>
                <a:lnTo>
                  <a:pt x="1510" y="673"/>
                </a:lnTo>
                <a:lnTo>
                  <a:pt x="1480" y="650"/>
                </a:lnTo>
                <a:lnTo>
                  <a:pt x="1449" y="639"/>
                </a:lnTo>
                <a:lnTo>
                  <a:pt x="1419" y="632"/>
                </a:lnTo>
                <a:lnTo>
                  <a:pt x="1390" y="632"/>
                </a:lnTo>
                <a:lnTo>
                  <a:pt x="1365" y="641"/>
                </a:lnTo>
                <a:lnTo>
                  <a:pt x="1356" y="628"/>
                </a:lnTo>
                <a:lnTo>
                  <a:pt x="1333" y="596"/>
                </a:lnTo>
                <a:lnTo>
                  <a:pt x="1295" y="567"/>
                </a:lnTo>
                <a:lnTo>
                  <a:pt x="1247" y="551"/>
                </a:lnTo>
                <a:lnTo>
                  <a:pt x="1242" y="539"/>
                </a:lnTo>
                <a:lnTo>
                  <a:pt x="1227" y="512"/>
                </a:lnTo>
                <a:lnTo>
                  <a:pt x="1193" y="483"/>
                </a:lnTo>
                <a:lnTo>
                  <a:pt x="1134" y="467"/>
                </a:lnTo>
                <a:lnTo>
                  <a:pt x="1138" y="453"/>
                </a:lnTo>
                <a:lnTo>
                  <a:pt x="1143" y="428"/>
                </a:lnTo>
                <a:lnTo>
                  <a:pt x="1138" y="399"/>
                </a:lnTo>
                <a:lnTo>
                  <a:pt x="1125" y="376"/>
                </a:lnTo>
                <a:lnTo>
                  <a:pt x="1122" y="369"/>
                </a:lnTo>
                <a:lnTo>
                  <a:pt x="1115" y="358"/>
                </a:lnTo>
                <a:lnTo>
                  <a:pt x="1100" y="342"/>
                </a:lnTo>
                <a:lnTo>
                  <a:pt x="1077" y="322"/>
                </a:lnTo>
                <a:lnTo>
                  <a:pt x="1075" y="317"/>
                </a:lnTo>
                <a:lnTo>
                  <a:pt x="1068" y="308"/>
                </a:lnTo>
                <a:lnTo>
                  <a:pt x="1054" y="297"/>
                </a:lnTo>
                <a:lnTo>
                  <a:pt x="1036" y="292"/>
                </a:lnTo>
                <a:lnTo>
                  <a:pt x="1036" y="290"/>
                </a:lnTo>
                <a:lnTo>
                  <a:pt x="1034" y="283"/>
                </a:lnTo>
                <a:lnTo>
                  <a:pt x="1022" y="276"/>
                </a:lnTo>
                <a:lnTo>
                  <a:pt x="1002" y="276"/>
                </a:lnTo>
                <a:lnTo>
                  <a:pt x="991" y="252"/>
                </a:lnTo>
                <a:lnTo>
                  <a:pt x="959" y="240"/>
                </a:lnTo>
                <a:lnTo>
                  <a:pt x="927" y="236"/>
                </a:lnTo>
                <a:lnTo>
                  <a:pt x="900" y="245"/>
                </a:lnTo>
                <a:lnTo>
                  <a:pt x="884" y="240"/>
                </a:lnTo>
                <a:lnTo>
                  <a:pt x="868" y="249"/>
                </a:lnTo>
                <a:lnTo>
                  <a:pt x="852" y="265"/>
                </a:lnTo>
                <a:lnTo>
                  <a:pt x="846" y="281"/>
                </a:lnTo>
                <a:lnTo>
                  <a:pt x="832" y="281"/>
                </a:lnTo>
                <a:lnTo>
                  <a:pt x="807" y="288"/>
                </a:lnTo>
                <a:lnTo>
                  <a:pt x="784" y="306"/>
                </a:lnTo>
                <a:lnTo>
                  <a:pt x="789" y="347"/>
                </a:lnTo>
                <a:lnTo>
                  <a:pt x="782" y="347"/>
                </a:lnTo>
                <a:lnTo>
                  <a:pt x="773" y="347"/>
                </a:lnTo>
                <a:lnTo>
                  <a:pt x="762" y="354"/>
                </a:lnTo>
                <a:lnTo>
                  <a:pt x="760" y="369"/>
                </a:lnTo>
                <a:lnTo>
                  <a:pt x="748" y="376"/>
                </a:lnTo>
                <a:lnTo>
                  <a:pt x="721" y="394"/>
                </a:lnTo>
                <a:lnTo>
                  <a:pt x="698" y="428"/>
                </a:lnTo>
                <a:lnTo>
                  <a:pt x="696" y="485"/>
                </a:lnTo>
                <a:lnTo>
                  <a:pt x="705" y="519"/>
                </a:lnTo>
                <a:lnTo>
                  <a:pt x="716" y="548"/>
                </a:lnTo>
                <a:lnTo>
                  <a:pt x="728" y="573"/>
                </a:lnTo>
                <a:lnTo>
                  <a:pt x="744" y="601"/>
                </a:lnTo>
                <a:lnTo>
                  <a:pt x="762" y="623"/>
                </a:lnTo>
                <a:lnTo>
                  <a:pt x="784" y="646"/>
                </a:lnTo>
                <a:lnTo>
                  <a:pt x="814" y="666"/>
                </a:lnTo>
                <a:lnTo>
                  <a:pt x="846" y="689"/>
                </a:lnTo>
                <a:lnTo>
                  <a:pt x="828" y="689"/>
                </a:lnTo>
                <a:lnTo>
                  <a:pt x="789" y="700"/>
                </a:lnTo>
                <a:lnTo>
                  <a:pt x="748" y="723"/>
                </a:lnTo>
                <a:lnTo>
                  <a:pt x="716" y="770"/>
                </a:lnTo>
                <a:lnTo>
                  <a:pt x="705" y="818"/>
                </a:lnTo>
                <a:lnTo>
                  <a:pt x="707" y="852"/>
                </a:lnTo>
                <a:lnTo>
                  <a:pt x="719" y="877"/>
                </a:lnTo>
                <a:lnTo>
                  <a:pt x="739" y="897"/>
                </a:lnTo>
                <a:lnTo>
                  <a:pt x="744" y="920"/>
                </a:lnTo>
                <a:lnTo>
                  <a:pt x="728" y="943"/>
                </a:lnTo>
                <a:lnTo>
                  <a:pt x="716" y="972"/>
                </a:lnTo>
                <a:lnTo>
                  <a:pt x="735" y="1011"/>
                </a:lnTo>
                <a:lnTo>
                  <a:pt x="730" y="1013"/>
                </a:lnTo>
                <a:lnTo>
                  <a:pt x="725" y="1022"/>
                </a:lnTo>
                <a:lnTo>
                  <a:pt x="728" y="1040"/>
                </a:lnTo>
                <a:lnTo>
                  <a:pt x="744" y="1065"/>
                </a:lnTo>
                <a:lnTo>
                  <a:pt x="753" y="1085"/>
                </a:lnTo>
                <a:lnTo>
                  <a:pt x="746" y="1095"/>
                </a:lnTo>
                <a:lnTo>
                  <a:pt x="737" y="1101"/>
                </a:lnTo>
                <a:lnTo>
                  <a:pt x="744" y="1122"/>
                </a:lnTo>
                <a:lnTo>
                  <a:pt x="737" y="1167"/>
                </a:lnTo>
                <a:lnTo>
                  <a:pt x="744" y="1269"/>
                </a:lnTo>
                <a:lnTo>
                  <a:pt x="737" y="1237"/>
                </a:lnTo>
                <a:lnTo>
                  <a:pt x="716" y="1144"/>
                </a:lnTo>
                <a:lnTo>
                  <a:pt x="696" y="999"/>
                </a:lnTo>
                <a:lnTo>
                  <a:pt x="676" y="802"/>
                </a:lnTo>
                <a:lnTo>
                  <a:pt x="673" y="628"/>
                </a:lnTo>
                <a:lnTo>
                  <a:pt x="685" y="521"/>
                </a:lnTo>
                <a:lnTo>
                  <a:pt x="687" y="440"/>
                </a:lnTo>
                <a:lnTo>
                  <a:pt x="671" y="347"/>
                </a:lnTo>
                <a:lnTo>
                  <a:pt x="642" y="279"/>
                </a:lnTo>
                <a:lnTo>
                  <a:pt x="619" y="265"/>
                </a:lnTo>
                <a:lnTo>
                  <a:pt x="603" y="254"/>
                </a:lnTo>
                <a:lnTo>
                  <a:pt x="605" y="208"/>
                </a:lnTo>
                <a:lnTo>
                  <a:pt x="612" y="172"/>
                </a:lnTo>
                <a:lnTo>
                  <a:pt x="621" y="156"/>
                </a:lnTo>
                <a:lnTo>
                  <a:pt x="630" y="154"/>
                </a:lnTo>
                <a:lnTo>
                  <a:pt x="635" y="154"/>
                </a:lnTo>
                <a:lnTo>
                  <a:pt x="628" y="129"/>
                </a:lnTo>
                <a:lnTo>
                  <a:pt x="621" y="79"/>
                </a:lnTo>
                <a:lnTo>
                  <a:pt x="621" y="77"/>
                </a:lnTo>
                <a:lnTo>
                  <a:pt x="614" y="68"/>
                </a:lnTo>
                <a:lnTo>
                  <a:pt x="601" y="57"/>
                </a:lnTo>
                <a:lnTo>
                  <a:pt x="583" y="41"/>
                </a:lnTo>
                <a:lnTo>
                  <a:pt x="551" y="27"/>
                </a:lnTo>
                <a:lnTo>
                  <a:pt x="510" y="14"/>
                </a:lnTo>
                <a:lnTo>
                  <a:pt x="458" y="5"/>
                </a:lnTo>
                <a:lnTo>
                  <a:pt x="392" y="0"/>
                </a:lnTo>
                <a:lnTo>
                  <a:pt x="331" y="5"/>
                </a:lnTo>
                <a:lnTo>
                  <a:pt x="277" y="18"/>
                </a:lnTo>
                <a:lnTo>
                  <a:pt x="229" y="41"/>
                </a:lnTo>
                <a:lnTo>
                  <a:pt x="186" y="66"/>
                </a:lnTo>
                <a:lnTo>
                  <a:pt x="156" y="91"/>
                </a:lnTo>
                <a:lnTo>
                  <a:pt x="134" y="118"/>
                </a:lnTo>
                <a:lnTo>
                  <a:pt x="120" y="143"/>
                </a:lnTo>
                <a:lnTo>
                  <a:pt x="116" y="156"/>
                </a:lnTo>
                <a:lnTo>
                  <a:pt x="125" y="179"/>
                </a:lnTo>
                <a:lnTo>
                  <a:pt x="136" y="197"/>
                </a:lnTo>
                <a:lnTo>
                  <a:pt x="147" y="213"/>
                </a:lnTo>
                <a:lnTo>
                  <a:pt x="154" y="227"/>
                </a:lnTo>
                <a:lnTo>
                  <a:pt x="147" y="240"/>
                </a:lnTo>
                <a:lnTo>
                  <a:pt x="129" y="261"/>
                </a:lnTo>
                <a:lnTo>
                  <a:pt x="113" y="288"/>
                </a:lnTo>
                <a:lnTo>
                  <a:pt x="107" y="320"/>
                </a:lnTo>
                <a:lnTo>
                  <a:pt x="107" y="358"/>
                </a:lnTo>
                <a:lnTo>
                  <a:pt x="100" y="394"/>
                </a:lnTo>
                <a:lnTo>
                  <a:pt x="86" y="422"/>
                </a:lnTo>
                <a:lnTo>
                  <a:pt x="70" y="433"/>
                </a:lnTo>
                <a:lnTo>
                  <a:pt x="48" y="444"/>
                </a:lnTo>
                <a:lnTo>
                  <a:pt x="18" y="469"/>
                </a:lnTo>
                <a:lnTo>
                  <a:pt x="0" y="501"/>
                </a:lnTo>
                <a:lnTo>
                  <a:pt x="14" y="530"/>
                </a:lnTo>
                <a:lnTo>
                  <a:pt x="41" y="539"/>
                </a:lnTo>
                <a:lnTo>
                  <a:pt x="59" y="523"/>
                </a:lnTo>
                <a:lnTo>
                  <a:pt x="75" y="496"/>
                </a:lnTo>
                <a:lnTo>
                  <a:pt x="95" y="471"/>
                </a:lnTo>
                <a:lnTo>
                  <a:pt x="111" y="460"/>
                </a:lnTo>
                <a:lnTo>
                  <a:pt x="118" y="458"/>
                </a:lnTo>
                <a:lnTo>
                  <a:pt x="118" y="465"/>
                </a:lnTo>
                <a:lnTo>
                  <a:pt x="111" y="476"/>
                </a:lnTo>
                <a:lnTo>
                  <a:pt x="104" y="501"/>
                </a:lnTo>
                <a:lnTo>
                  <a:pt x="95" y="533"/>
                </a:lnTo>
                <a:lnTo>
                  <a:pt x="95" y="562"/>
                </a:lnTo>
                <a:lnTo>
                  <a:pt x="104" y="587"/>
                </a:lnTo>
                <a:lnTo>
                  <a:pt x="77" y="635"/>
                </a:lnTo>
                <a:lnTo>
                  <a:pt x="57" y="646"/>
                </a:lnTo>
                <a:lnTo>
                  <a:pt x="43" y="669"/>
                </a:lnTo>
                <a:lnTo>
                  <a:pt x="41" y="696"/>
                </a:lnTo>
                <a:lnTo>
                  <a:pt x="54" y="721"/>
                </a:lnTo>
                <a:lnTo>
                  <a:pt x="82" y="730"/>
                </a:lnTo>
                <a:lnTo>
                  <a:pt x="111" y="718"/>
                </a:lnTo>
                <a:lnTo>
                  <a:pt x="129" y="698"/>
                </a:lnTo>
                <a:lnTo>
                  <a:pt x="134" y="673"/>
                </a:lnTo>
                <a:lnTo>
                  <a:pt x="129" y="632"/>
                </a:lnTo>
                <a:lnTo>
                  <a:pt x="143" y="612"/>
                </a:lnTo>
                <a:lnTo>
                  <a:pt x="147" y="605"/>
                </a:lnTo>
                <a:lnTo>
                  <a:pt x="145" y="603"/>
                </a:lnTo>
                <a:lnTo>
                  <a:pt x="145" y="589"/>
                </a:lnTo>
                <a:lnTo>
                  <a:pt x="150" y="557"/>
                </a:lnTo>
                <a:lnTo>
                  <a:pt x="168" y="519"/>
                </a:lnTo>
                <a:lnTo>
                  <a:pt x="197" y="480"/>
                </a:lnTo>
                <a:lnTo>
                  <a:pt x="206" y="474"/>
                </a:lnTo>
                <a:lnTo>
                  <a:pt x="218" y="449"/>
                </a:lnTo>
                <a:lnTo>
                  <a:pt x="224" y="451"/>
                </a:lnTo>
                <a:lnTo>
                  <a:pt x="243" y="458"/>
                </a:lnTo>
                <a:lnTo>
                  <a:pt x="263" y="455"/>
                </a:lnTo>
                <a:lnTo>
                  <a:pt x="281" y="440"/>
                </a:lnTo>
                <a:lnTo>
                  <a:pt x="288" y="433"/>
                </a:lnTo>
                <a:lnTo>
                  <a:pt x="302" y="412"/>
                </a:lnTo>
                <a:lnTo>
                  <a:pt x="311" y="385"/>
                </a:lnTo>
                <a:lnTo>
                  <a:pt x="308" y="356"/>
                </a:lnTo>
                <a:lnTo>
                  <a:pt x="304" y="335"/>
                </a:lnTo>
                <a:lnTo>
                  <a:pt x="311" y="326"/>
                </a:lnTo>
                <a:lnTo>
                  <a:pt x="322" y="326"/>
                </a:lnTo>
                <a:lnTo>
                  <a:pt x="342" y="335"/>
                </a:lnTo>
                <a:lnTo>
                  <a:pt x="358" y="349"/>
                </a:lnTo>
                <a:lnTo>
                  <a:pt x="372" y="360"/>
                </a:lnTo>
                <a:lnTo>
                  <a:pt x="385" y="381"/>
                </a:lnTo>
                <a:lnTo>
                  <a:pt x="392" y="410"/>
                </a:lnTo>
                <a:lnTo>
                  <a:pt x="404" y="435"/>
                </a:lnTo>
                <a:lnTo>
                  <a:pt x="419" y="451"/>
                </a:lnTo>
                <a:lnTo>
                  <a:pt x="433" y="458"/>
                </a:lnTo>
                <a:lnTo>
                  <a:pt x="438" y="460"/>
                </a:lnTo>
                <a:lnTo>
                  <a:pt x="424" y="458"/>
                </a:lnTo>
                <a:lnTo>
                  <a:pt x="392" y="458"/>
                </a:lnTo>
                <a:lnTo>
                  <a:pt x="351" y="471"/>
                </a:lnTo>
                <a:lnTo>
                  <a:pt x="311" y="508"/>
                </a:lnTo>
                <a:lnTo>
                  <a:pt x="270" y="596"/>
                </a:lnTo>
                <a:lnTo>
                  <a:pt x="256" y="684"/>
                </a:lnTo>
                <a:lnTo>
                  <a:pt x="268" y="766"/>
                </a:lnTo>
                <a:lnTo>
                  <a:pt x="295" y="832"/>
                </a:lnTo>
                <a:lnTo>
                  <a:pt x="336" y="888"/>
                </a:lnTo>
                <a:lnTo>
                  <a:pt x="374" y="925"/>
                </a:lnTo>
                <a:lnTo>
                  <a:pt x="413" y="940"/>
                </a:lnTo>
                <a:lnTo>
                  <a:pt x="440" y="931"/>
                </a:lnTo>
                <a:lnTo>
                  <a:pt x="426" y="1008"/>
                </a:lnTo>
                <a:lnTo>
                  <a:pt x="453" y="1106"/>
                </a:lnTo>
                <a:lnTo>
                  <a:pt x="487" y="1187"/>
                </a:lnTo>
                <a:lnTo>
                  <a:pt x="506" y="1226"/>
                </a:lnTo>
                <a:lnTo>
                  <a:pt x="512" y="1260"/>
                </a:lnTo>
                <a:lnTo>
                  <a:pt x="531" y="1364"/>
                </a:lnTo>
                <a:lnTo>
                  <a:pt x="551" y="1536"/>
                </a:lnTo>
                <a:lnTo>
                  <a:pt x="565" y="1786"/>
                </a:lnTo>
                <a:lnTo>
                  <a:pt x="812" y="1786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92840" y="2803680"/>
            <a:ext cx="2468520" cy="2835000"/>
          </a:xfrm>
          <a:custGeom>
            <a:avLst/>
            <a:gdLst/>
            <a:ahLst/>
            <a:rect l="l" t="t" r="r" b="b"/>
            <a:pathLst>
              <a:path w="1555" h="1786">
                <a:moveTo>
                  <a:pt x="812" y="1786"/>
                </a:moveTo>
                <a:lnTo>
                  <a:pt x="812" y="1704"/>
                </a:lnTo>
                <a:lnTo>
                  <a:pt x="812" y="1521"/>
                </a:lnTo>
                <a:lnTo>
                  <a:pt x="803" y="1323"/>
                </a:lnTo>
                <a:lnTo>
                  <a:pt x="782" y="1187"/>
                </a:lnTo>
                <a:lnTo>
                  <a:pt x="787" y="1190"/>
                </a:lnTo>
                <a:lnTo>
                  <a:pt x="803" y="1199"/>
                </a:lnTo>
                <a:lnTo>
                  <a:pt x="825" y="1208"/>
                </a:lnTo>
                <a:lnTo>
                  <a:pt x="850" y="1215"/>
                </a:lnTo>
                <a:lnTo>
                  <a:pt x="882" y="1221"/>
                </a:lnTo>
                <a:lnTo>
                  <a:pt x="914" y="1224"/>
                </a:lnTo>
                <a:lnTo>
                  <a:pt x="948" y="1219"/>
                </a:lnTo>
                <a:lnTo>
                  <a:pt x="979" y="1208"/>
                </a:lnTo>
                <a:lnTo>
                  <a:pt x="1013" y="1221"/>
                </a:lnTo>
                <a:lnTo>
                  <a:pt x="1054" y="1228"/>
                </a:lnTo>
                <a:lnTo>
                  <a:pt x="1091" y="1231"/>
                </a:lnTo>
                <a:lnTo>
                  <a:pt x="1125" y="1226"/>
                </a:lnTo>
                <a:lnTo>
                  <a:pt x="1161" y="1217"/>
                </a:lnTo>
                <a:lnTo>
                  <a:pt x="1193" y="1203"/>
                </a:lnTo>
                <a:lnTo>
                  <a:pt x="1220" y="1181"/>
                </a:lnTo>
                <a:lnTo>
                  <a:pt x="1242" y="1163"/>
                </a:lnTo>
                <a:lnTo>
                  <a:pt x="1247" y="1160"/>
                </a:lnTo>
                <a:lnTo>
                  <a:pt x="1256" y="1156"/>
                </a:lnTo>
                <a:lnTo>
                  <a:pt x="1279" y="1149"/>
                </a:lnTo>
                <a:lnTo>
                  <a:pt x="1299" y="1140"/>
                </a:lnTo>
                <a:lnTo>
                  <a:pt x="1322" y="1126"/>
                </a:lnTo>
                <a:lnTo>
                  <a:pt x="1347" y="1108"/>
                </a:lnTo>
                <a:lnTo>
                  <a:pt x="1367" y="1090"/>
                </a:lnTo>
                <a:lnTo>
                  <a:pt x="1390" y="1065"/>
                </a:lnTo>
                <a:lnTo>
                  <a:pt x="1397" y="1058"/>
                </a:lnTo>
                <a:lnTo>
                  <a:pt x="1417" y="1045"/>
                </a:lnTo>
                <a:lnTo>
                  <a:pt x="1444" y="1020"/>
                </a:lnTo>
                <a:lnTo>
                  <a:pt x="1474" y="988"/>
                </a:lnTo>
                <a:lnTo>
                  <a:pt x="1508" y="950"/>
                </a:lnTo>
                <a:lnTo>
                  <a:pt x="1533" y="902"/>
                </a:lnTo>
                <a:lnTo>
                  <a:pt x="1551" y="852"/>
                </a:lnTo>
                <a:lnTo>
                  <a:pt x="1555" y="795"/>
                </a:lnTo>
                <a:lnTo>
                  <a:pt x="1548" y="746"/>
                </a:lnTo>
                <a:lnTo>
                  <a:pt x="1533" y="705"/>
                </a:lnTo>
                <a:lnTo>
                  <a:pt x="1510" y="673"/>
                </a:lnTo>
                <a:lnTo>
                  <a:pt x="1480" y="650"/>
                </a:lnTo>
                <a:lnTo>
                  <a:pt x="1449" y="639"/>
                </a:lnTo>
                <a:lnTo>
                  <a:pt x="1419" y="632"/>
                </a:lnTo>
                <a:lnTo>
                  <a:pt x="1390" y="632"/>
                </a:lnTo>
                <a:lnTo>
                  <a:pt x="1365" y="641"/>
                </a:lnTo>
                <a:lnTo>
                  <a:pt x="1356" y="628"/>
                </a:lnTo>
                <a:lnTo>
                  <a:pt x="1333" y="596"/>
                </a:lnTo>
                <a:lnTo>
                  <a:pt x="1295" y="567"/>
                </a:lnTo>
                <a:lnTo>
                  <a:pt x="1247" y="551"/>
                </a:lnTo>
                <a:lnTo>
                  <a:pt x="1242" y="539"/>
                </a:lnTo>
                <a:lnTo>
                  <a:pt x="1227" y="512"/>
                </a:lnTo>
                <a:lnTo>
                  <a:pt x="1193" y="483"/>
                </a:lnTo>
                <a:lnTo>
                  <a:pt x="1134" y="467"/>
                </a:lnTo>
                <a:lnTo>
                  <a:pt x="1138" y="453"/>
                </a:lnTo>
                <a:lnTo>
                  <a:pt x="1143" y="428"/>
                </a:lnTo>
                <a:lnTo>
                  <a:pt x="1138" y="399"/>
                </a:lnTo>
                <a:lnTo>
                  <a:pt x="1125" y="376"/>
                </a:lnTo>
                <a:lnTo>
                  <a:pt x="1122" y="369"/>
                </a:lnTo>
                <a:lnTo>
                  <a:pt x="1115" y="358"/>
                </a:lnTo>
                <a:lnTo>
                  <a:pt x="1100" y="342"/>
                </a:lnTo>
                <a:lnTo>
                  <a:pt x="1077" y="322"/>
                </a:lnTo>
                <a:lnTo>
                  <a:pt x="1075" y="317"/>
                </a:lnTo>
                <a:lnTo>
                  <a:pt x="1068" y="308"/>
                </a:lnTo>
                <a:lnTo>
                  <a:pt x="1054" y="297"/>
                </a:lnTo>
                <a:lnTo>
                  <a:pt x="1036" y="292"/>
                </a:lnTo>
                <a:lnTo>
                  <a:pt x="1036" y="290"/>
                </a:lnTo>
                <a:lnTo>
                  <a:pt x="1034" y="283"/>
                </a:lnTo>
                <a:lnTo>
                  <a:pt x="1022" y="276"/>
                </a:lnTo>
                <a:lnTo>
                  <a:pt x="1002" y="276"/>
                </a:lnTo>
                <a:lnTo>
                  <a:pt x="991" y="252"/>
                </a:lnTo>
                <a:lnTo>
                  <a:pt x="959" y="240"/>
                </a:lnTo>
                <a:lnTo>
                  <a:pt x="927" y="236"/>
                </a:lnTo>
                <a:lnTo>
                  <a:pt x="900" y="245"/>
                </a:lnTo>
                <a:lnTo>
                  <a:pt x="884" y="240"/>
                </a:lnTo>
                <a:lnTo>
                  <a:pt x="868" y="249"/>
                </a:lnTo>
                <a:lnTo>
                  <a:pt x="852" y="265"/>
                </a:lnTo>
                <a:lnTo>
                  <a:pt x="846" y="281"/>
                </a:lnTo>
                <a:lnTo>
                  <a:pt x="832" y="281"/>
                </a:lnTo>
                <a:lnTo>
                  <a:pt x="807" y="288"/>
                </a:lnTo>
                <a:lnTo>
                  <a:pt x="784" y="306"/>
                </a:lnTo>
                <a:lnTo>
                  <a:pt x="789" y="347"/>
                </a:lnTo>
                <a:lnTo>
                  <a:pt x="782" y="347"/>
                </a:lnTo>
                <a:lnTo>
                  <a:pt x="773" y="347"/>
                </a:lnTo>
                <a:lnTo>
                  <a:pt x="762" y="354"/>
                </a:lnTo>
                <a:lnTo>
                  <a:pt x="760" y="369"/>
                </a:lnTo>
                <a:lnTo>
                  <a:pt x="748" y="376"/>
                </a:lnTo>
                <a:lnTo>
                  <a:pt x="721" y="394"/>
                </a:lnTo>
                <a:lnTo>
                  <a:pt x="698" y="428"/>
                </a:lnTo>
                <a:lnTo>
                  <a:pt x="696" y="485"/>
                </a:lnTo>
                <a:lnTo>
                  <a:pt x="705" y="519"/>
                </a:lnTo>
                <a:lnTo>
                  <a:pt x="716" y="548"/>
                </a:lnTo>
                <a:lnTo>
                  <a:pt x="728" y="573"/>
                </a:lnTo>
                <a:lnTo>
                  <a:pt x="744" y="601"/>
                </a:lnTo>
                <a:lnTo>
                  <a:pt x="762" y="623"/>
                </a:lnTo>
                <a:lnTo>
                  <a:pt x="784" y="646"/>
                </a:lnTo>
                <a:lnTo>
                  <a:pt x="814" y="666"/>
                </a:lnTo>
                <a:lnTo>
                  <a:pt x="846" y="689"/>
                </a:lnTo>
                <a:lnTo>
                  <a:pt x="828" y="689"/>
                </a:lnTo>
                <a:lnTo>
                  <a:pt x="789" y="700"/>
                </a:lnTo>
                <a:lnTo>
                  <a:pt x="748" y="723"/>
                </a:lnTo>
                <a:lnTo>
                  <a:pt x="716" y="770"/>
                </a:lnTo>
                <a:lnTo>
                  <a:pt x="705" y="818"/>
                </a:lnTo>
                <a:lnTo>
                  <a:pt x="707" y="852"/>
                </a:lnTo>
                <a:lnTo>
                  <a:pt x="719" y="877"/>
                </a:lnTo>
                <a:lnTo>
                  <a:pt x="739" y="897"/>
                </a:lnTo>
                <a:lnTo>
                  <a:pt x="744" y="920"/>
                </a:lnTo>
                <a:lnTo>
                  <a:pt x="728" y="943"/>
                </a:lnTo>
                <a:lnTo>
                  <a:pt x="716" y="972"/>
                </a:lnTo>
                <a:lnTo>
                  <a:pt x="735" y="1011"/>
                </a:lnTo>
                <a:lnTo>
                  <a:pt x="730" y="1013"/>
                </a:lnTo>
                <a:lnTo>
                  <a:pt x="725" y="1022"/>
                </a:lnTo>
                <a:lnTo>
                  <a:pt x="728" y="1040"/>
                </a:lnTo>
                <a:lnTo>
                  <a:pt x="744" y="1065"/>
                </a:lnTo>
                <a:lnTo>
                  <a:pt x="753" y="1085"/>
                </a:lnTo>
                <a:lnTo>
                  <a:pt x="746" y="1095"/>
                </a:lnTo>
                <a:lnTo>
                  <a:pt x="737" y="1101"/>
                </a:lnTo>
                <a:lnTo>
                  <a:pt x="744" y="1122"/>
                </a:lnTo>
                <a:lnTo>
                  <a:pt x="737" y="1167"/>
                </a:lnTo>
                <a:lnTo>
                  <a:pt x="744" y="1269"/>
                </a:lnTo>
                <a:lnTo>
                  <a:pt x="737" y="1237"/>
                </a:lnTo>
                <a:lnTo>
                  <a:pt x="716" y="1144"/>
                </a:lnTo>
                <a:lnTo>
                  <a:pt x="696" y="999"/>
                </a:lnTo>
                <a:lnTo>
                  <a:pt x="676" y="802"/>
                </a:lnTo>
                <a:lnTo>
                  <a:pt x="673" y="628"/>
                </a:lnTo>
                <a:lnTo>
                  <a:pt x="685" y="521"/>
                </a:lnTo>
                <a:lnTo>
                  <a:pt x="687" y="440"/>
                </a:lnTo>
                <a:lnTo>
                  <a:pt x="671" y="347"/>
                </a:lnTo>
                <a:lnTo>
                  <a:pt x="642" y="279"/>
                </a:lnTo>
                <a:lnTo>
                  <a:pt x="619" y="265"/>
                </a:lnTo>
                <a:lnTo>
                  <a:pt x="603" y="254"/>
                </a:lnTo>
                <a:lnTo>
                  <a:pt x="605" y="208"/>
                </a:lnTo>
                <a:lnTo>
                  <a:pt x="612" y="172"/>
                </a:lnTo>
                <a:lnTo>
                  <a:pt x="621" y="156"/>
                </a:lnTo>
                <a:lnTo>
                  <a:pt x="630" y="154"/>
                </a:lnTo>
                <a:lnTo>
                  <a:pt x="635" y="154"/>
                </a:lnTo>
                <a:lnTo>
                  <a:pt x="628" y="129"/>
                </a:lnTo>
                <a:lnTo>
                  <a:pt x="621" y="79"/>
                </a:lnTo>
                <a:lnTo>
                  <a:pt x="621" y="77"/>
                </a:lnTo>
                <a:lnTo>
                  <a:pt x="614" y="68"/>
                </a:lnTo>
                <a:lnTo>
                  <a:pt x="601" y="57"/>
                </a:lnTo>
                <a:lnTo>
                  <a:pt x="583" y="41"/>
                </a:lnTo>
                <a:lnTo>
                  <a:pt x="551" y="27"/>
                </a:lnTo>
                <a:lnTo>
                  <a:pt x="510" y="14"/>
                </a:lnTo>
                <a:lnTo>
                  <a:pt x="458" y="5"/>
                </a:lnTo>
                <a:lnTo>
                  <a:pt x="392" y="0"/>
                </a:lnTo>
                <a:lnTo>
                  <a:pt x="331" y="5"/>
                </a:lnTo>
                <a:lnTo>
                  <a:pt x="277" y="18"/>
                </a:lnTo>
                <a:lnTo>
                  <a:pt x="229" y="41"/>
                </a:lnTo>
                <a:lnTo>
                  <a:pt x="186" y="66"/>
                </a:lnTo>
                <a:lnTo>
                  <a:pt x="156" y="91"/>
                </a:lnTo>
                <a:lnTo>
                  <a:pt x="134" y="118"/>
                </a:lnTo>
                <a:lnTo>
                  <a:pt x="120" y="143"/>
                </a:lnTo>
                <a:lnTo>
                  <a:pt x="116" y="156"/>
                </a:lnTo>
                <a:lnTo>
                  <a:pt x="125" y="179"/>
                </a:lnTo>
                <a:lnTo>
                  <a:pt x="136" y="197"/>
                </a:lnTo>
                <a:lnTo>
                  <a:pt x="147" y="213"/>
                </a:lnTo>
                <a:lnTo>
                  <a:pt x="154" y="227"/>
                </a:lnTo>
                <a:lnTo>
                  <a:pt x="147" y="240"/>
                </a:lnTo>
                <a:lnTo>
                  <a:pt x="129" y="261"/>
                </a:lnTo>
                <a:lnTo>
                  <a:pt x="113" y="288"/>
                </a:lnTo>
                <a:lnTo>
                  <a:pt x="107" y="320"/>
                </a:lnTo>
                <a:lnTo>
                  <a:pt x="107" y="358"/>
                </a:lnTo>
                <a:lnTo>
                  <a:pt x="100" y="394"/>
                </a:lnTo>
                <a:lnTo>
                  <a:pt x="86" y="422"/>
                </a:lnTo>
                <a:lnTo>
                  <a:pt x="70" y="433"/>
                </a:lnTo>
                <a:lnTo>
                  <a:pt x="48" y="444"/>
                </a:lnTo>
                <a:lnTo>
                  <a:pt x="18" y="469"/>
                </a:lnTo>
                <a:lnTo>
                  <a:pt x="0" y="501"/>
                </a:lnTo>
                <a:lnTo>
                  <a:pt x="14" y="530"/>
                </a:lnTo>
                <a:lnTo>
                  <a:pt x="41" y="539"/>
                </a:lnTo>
                <a:lnTo>
                  <a:pt x="59" y="523"/>
                </a:lnTo>
                <a:lnTo>
                  <a:pt x="75" y="496"/>
                </a:lnTo>
                <a:lnTo>
                  <a:pt x="95" y="471"/>
                </a:lnTo>
                <a:lnTo>
                  <a:pt x="111" y="460"/>
                </a:lnTo>
                <a:lnTo>
                  <a:pt x="118" y="458"/>
                </a:lnTo>
                <a:lnTo>
                  <a:pt x="118" y="465"/>
                </a:lnTo>
                <a:lnTo>
                  <a:pt x="111" y="476"/>
                </a:lnTo>
                <a:lnTo>
                  <a:pt x="104" y="501"/>
                </a:lnTo>
                <a:lnTo>
                  <a:pt x="95" y="533"/>
                </a:lnTo>
                <a:lnTo>
                  <a:pt x="95" y="562"/>
                </a:lnTo>
                <a:lnTo>
                  <a:pt x="104" y="587"/>
                </a:lnTo>
                <a:lnTo>
                  <a:pt x="77" y="635"/>
                </a:lnTo>
                <a:lnTo>
                  <a:pt x="57" y="646"/>
                </a:lnTo>
                <a:lnTo>
                  <a:pt x="43" y="669"/>
                </a:lnTo>
                <a:lnTo>
                  <a:pt x="41" y="696"/>
                </a:lnTo>
                <a:lnTo>
                  <a:pt x="54" y="721"/>
                </a:lnTo>
                <a:lnTo>
                  <a:pt x="82" y="730"/>
                </a:lnTo>
                <a:lnTo>
                  <a:pt x="111" y="718"/>
                </a:lnTo>
                <a:lnTo>
                  <a:pt x="129" y="698"/>
                </a:lnTo>
                <a:lnTo>
                  <a:pt x="134" y="673"/>
                </a:lnTo>
                <a:lnTo>
                  <a:pt x="129" y="632"/>
                </a:lnTo>
                <a:lnTo>
                  <a:pt x="143" y="612"/>
                </a:lnTo>
                <a:lnTo>
                  <a:pt x="147" y="605"/>
                </a:lnTo>
                <a:lnTo>
                  <a:pt x="145" y="603"/>
                </a:lnTo>
                <a:lnTo>
                  <a:pt x="145" y="589"/>
                </a:lnTo>
                <a:lnTo>
                  <a:pt x="150" y="557"/>
                </a:lnTo>
                <a:lnTo>
                  <a:pt x="168" y="519"/>
                </a:lnTo>
                <a:lnTo>
                  <a:pt x="197" y="480"/>
                </a:lnTo>
                <a:lnTo>
                  <a:pt x="206" y="474"/>
                </a:lnTo>
                <a:lnTo>
                  <a:pt x="218" y="449"/>
                </a:lnTo>
                <a:lnTo>
                  <a:pt x="224" y="451"/>
                </a:lnTo>
                <a:lnTo>
                  <a:pt x="243" y="458"/>
                </a:lnTo>
                <a:lnTo>
                  <a:pt x="263" y="455"/>
                </a:lnTo>
                <a:lnTo>
                  <a:pt x="281" y="440"/>
                </a:lnTo>
                <a:lnTo>
                  <a:pt x="288" y="433"/>
                </a:lnTo>
                <a:lnTo>
                  <a:pt x="302" y="412"/>
                </a:lnTo>
                <a:lnTo>
                  <a:pt x="311" y="385"/>
                </a:lnTo>
                <a:lnTo>
                  <a:pt x="308" y="356"/>
                </a:lnTo>
                <a:lnTo>
                  <a:pt x="304" y="335"/>
                </a:lnTo>
                <a:lnTo>
                  <a:pt x="311" y="326"/>
                </a:lnTo>
                <a:lnTo>
                  <a:pt x="322" y="326"/>
                </a:lnTo>
                <a:lnTo>
                  <a:pt x="342" y="335"/>
                </a:lnTo>
                <a:lnTo>
                  <a:pt x="358" y="349"/>
                </a:lnTo>
                <a:lnTo>
                  <a:pt x="372" y="360"/>
                </a:lnTo>
                <a:lnTo>
                  <a:pt x="385" y="381"/>
                </a:lnTo>
                <a:lnTo>
                  <a:pt x="392" y="410"/>
                </a:lnTo>
                <a:lnTo>
                  <a:pt x="404" y="435"/>
                </a:lnTo>
                <a:lnTo>
                  <a:pt x="419" y="451"/>
                </a:lnTo>
                <a:lnTo>
                  <a:pt x="433" y="458"/>
                </a:lnTo>
                <a:lnTo>
                  <a:pt x="438" y="460"/>
                </a:lnTo>
                <a:lnTo>
                  <a:pt x="424" y="458"/>
                </a:lnTo>
                <a:lnTo>
                  <a:pt x="392" y="458"/>
                </a:lnTo>
                <a:lnTo>
                  <a:pt x="351" y="471"/>
                </a:lnTo>
                <a:lnTo>
                  <a:pt x="311" y="508"/>
                </a:lnTo>
                <a:lnTo>
                  <a:pt x="270" y="596"/>
                </a:lnTo>
                <a:lnTo>
                  <a:pt x="256" y="684"/>
                </a:lnTo>
                <a:lnTo>
                  <a:pt x="268" y="766"/>
                </a:lnTo>
                <a:lnTo>
                  <a:pt x="295" y="832"/>
                </a:lnTo>
                <a:lnTo>
                  <a:pt x="336" y="888"/>
                </a:lnTo>
                <a:lnTo>
                  <a:pt x="374" y="925"/>
                </a:lnTo>
                <a:lnTo>
                  <a:pt x="413" y="940"/>
                </a:lnTo>
                <a:lnTo>
                  <a:pt x="440" y="931"/>
                </a:lnTo>
                <a:lnTo>
                  <a:pt x="426" y="1008"/>
                </a:lnTo>
                <a:lnTo>
                  <a:pt x="453" y="1106"/>
                </a:lnTo>
                <a:lnTo>
                  <a:pt x="487" y="1187"/>
                </a:lnTo>
                <a:lnTo>
                  <a:pt x="506" y="1226"/>
                </a:lnTo>
                <a:lnTo>
                  <a:pt x="512" y="1260"/>
                </a:lnTo>
                <a:lnTo>
                  <a:pt x="531" y="1364"/>
                </a:lnTo>
                <a:lnTo>
                  <a:pt x="551" y="1536"/>
                </a:lnTo>
                <a:lnTo>
                  <a:pt x="565" y="1786"/>
                </a:lnTo>
                <a:lnTo>
                  <a:pt x="812" y="1786"/>
                </a:lnTo>
                <a:lnTo>
                  <a:pt x="812" y="1786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9880" y="3435480"/>
            <a:ext cx="1143000" cy="1143000"/>
            <a:chOff x="3809880" y="3435480"/>
            <a:chExt cx="1143000" cy="1143000"/>
          </a:xfrm>
        </p:grpSpPr>
        <p:sp>
          <p:nvSpPr>
            <p:cNvPr id="108" name=""/>
            <p:cNvSpPr/>
            <p:nvPr/>
          </p:nvSpPr>
          <p:spPr>
            <a:xfrm>
              <a:off x="3809880" y="3435480"/>
              <a:ext cx="1143000" cy="114300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740400"/>
              <a:ext cx="228600" cy="53352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8600" y="3282840"/>
            <a:ext cx="1523880" cy="1524240"/>
          </a:xfrm>
          <a:prstGeom prst="smileyFace">
            <a:avLst>
              <a:gd name="adj" fmla="val 9282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66680" y="3282840"/>
            <a:ext cx="3886200" cy="1523520"/>
            <a:chOff x="1066680" y="3282840"/>
            <a:chExt cx="3886200" cy="1523520"/>
          </a:xfrm>
        </p:grpSpPr>
        <p:sp>
          <p:nvSpPr>
            <p:cNvPr id="112" name=""/>
            <p:cNvSpPr/>
            <p:nvPr/>
          </p:nvSpPr>
          <p:spPr>
            <a:xfrm>
              <a:off x="1066680" y="3282840"/>
              <a:ext cx="38102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66680" y="404496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066680" y="3816000"/>
              <a:ext cx="3810240" cy="99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952880" y="2597040"/>
            <a:ext cx="1143000" cy="1447920"/>
          </a:xfrm>
          <a:custGeom>
            <a:avLst/>
            <a:gdLst/>
            <a:ahLst/>
            <a:rect l="l" t="t" r="r" b="b"/>
            <a:pathLst>
              <a:path w="720" h="912">
                <a:moveTo>
                  <a:pt x="0" y="912"/>
                </a:moveTo>
                <a:cubicBezTo>
                  <a:pt x="62" y="852"/>
                  <a:pt x="287" y="670"/>
                  <a:pt x="373" y="550"/>
                </a:cubicBezTo>
                <a:cubicBezTo>
                  <a:pt x="459" y="430"/>
                  <a:pt x="460" y="281"/>
                  <a:pt x="518" y="189"/>
                </a:cubicBezTo>
                <a:cubicBezTo>
                  <a:pt x="576" y="97"/>
                  <a:pt x="678" y="39"/>
                  <a:pt x="720" y="0"/>
                </a:cubicBezTo>
              </a:path>
            </a:pathLst>
          </a:custGeom>
          <a:noFill/>
          <a:ln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368440"/>
            <a:ext cx="914400" cy="3049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2514600"/>
            <a:ext cx="1447920" cy="768240"/>
          </a:xfrm>
          <a:custGeom>
            <a:avLst/>
            <a:gdLst/>
            <a:ahLst/>
            <a:rect l="l" t="t" r="r" b="b"/>
            <a:pathLst>
              <a:path w="864" h="480">
                <a:moveTo>
                  <a:pt x="0" y="0"/>
                </a:moveTo>
                <a:cubicBezTo>
                  <a:pt x="92" y="20"/>
                  <a:pt x="184" y="40"/>
                  <a:pt x="288" y="96"/>
                </a:cubicBezTo>
                <a:cubicBezTo>
                  <a:pt x="392" y="152"/>
                  <a:pt x="528" y="272"/>
                  <a:pt x="624" y="336"/>
                </a:cubicBezTo>
                <a:cubicBezTo>
                  <a:pt x="720" y="400"/>
                  <a:pt x="792" y="440"/>
                  <a:pt x="864" y="480"/>
                </a:cubicBezTo>
              </a:path>
            </a:pathLst>
          </a:custGeom>
          <a:noFill/>
          <a:ln w="57240">
            <a:solidFill>
              <a:srgbClr val="bbe0e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13760" y="2521080"/>
            <a:ext cx="573120" cy="1333440"/>
          </a:xfrm>
          <a:custGeom>
            <a:avLst/>
            <a:gdLst/>
            <a:ahLst/>
            <a:rect l="l" t="t" r="r" b="b"/>
            <a:pathLst>
              <a:path w="361" h="840">
                <a:moveTo>
                  <a:pt x="154" y="48"/>
                </a:moveTo>
                <a:cubicBezTo>
                  <a:pt x="181" y="0"/>
                  <a:pt x="232" y="151"/>
                  <a:pt x="264" y="207"/>
                </a:cubicBezTo>
                <a:cubicBezTo>
                  <a:pt x="296" y="263"/>
                  <a:pt x="331" y="324"/>
                  <a:pt x="346" y="384"/>
                </a:cubicBezTo>
                <a:cubicBezTo>
                  <a:pt x="361" y="444"/>
                  <a:pt x="360" y="513"/>
                  <a:pt x="352" y="569"/>
                </a:cubicBezTo>
                <a:cubicBezTo>
                  <a:pt x="344" y="625"/>
                  <a:pt x="329" y="676"/>
                  <a:pt x="298" y="720"/>
                </a:cubicBezTo>
                <a:cubicBezTo>
                  <a:pt x="267" y="764"/>
                  <a:pt x="212" y="824"/>
                  <a:pt x="164" y="832"/>
                </a:cubicBezTo>
                <a:cubicBezTo>
                  <a:pt x="116" y="840"/>
                  <a:pt x="20" y="824"/>
                  <a:pt x="10" y="768"/>
                </a:cubicBezTo>
                <a:cubicBezTo>
                  <a:pt x="0" y="712"/>
                  <a:pt x="78" y="614"/>
                  <a:pt x="102" y="494"/>
                </a:cubicBezTo>
                <a:cubicBezTo>
                  <a:pt x="126" y="374"/>
                  <a:pt x="126" y="95"/>
                  <a:pt x="154" y="4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1160" y="1523880"/>
            <a:ext cx="6455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ral Geniculate Nucleus (LG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25240" y="5029200"/>
            <a:ext cx="14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8240" y="5719680"/>
            <a:ext cx="497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iculo-Striate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1360" y="1515960"/>
            <a:ext cx="1360440" cy="1455840"/>
          </a:xfrm>
          <a:prstGeom prst="su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5:02:46Z</dcterms:created>
  <dc:creator>D L</dc:creator>
  <dc:description/>
  <dc:language>en-US</dc:language>
  <cp:lastModifiedBy>dlyon</cp:lastModifiedBy>
  <dcterms:modified xsi:type="dcterms:W3CDTF">2005-03-21T18:33:26Z</dcterms:modified>
  <cp:revision>33</cp:revision>
  <dc:subject/>
  <dc:title>Chapter 5</dc:title>
</cp:coreProperties>
</file>