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16C-8004-43E5-9CE6-CE3D2A1D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6F1-442D-44A3-BB46-B2AE677D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70C-2D37-47AC-A2E5-2FF667CD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406-5473-44AD-B2D4-3E6E68E3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D4C-8E3D-4EE7-922C-DAB6F668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AC2-4B96-410E-8039-A47378FD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978-C63E-46AF-8663-8EFE6FFE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1F4-72D8-4532-B4BE-C736903E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A92-2078-451E-A4AB-9FA4A2DF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AF3-6C8C-4133-976F-D602BA91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F4C-7241-4C2C-9766-E484846A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022-1AF8-4775-8337-D6B7B5F4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DF53-CA08-4413-A943-F09019768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tial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r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n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-pass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tialFilterFrame and J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rger Kernels=more bl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95600" y="1981080"/>
            <a:ext cx="3951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n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dle of a list of samples listed in ascending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samples, return n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median fil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ard out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85, 90, 87 and 100. The mean is 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an is 8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0, 85, 87, 90, and 100}=8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implement the medi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772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t and Pepp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13040" y="1981080"/>
            <a:ext cx="531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n 3x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000160"/>
            <a:ext cx="7772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n on any kern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0960" y="1981080"/>
            <a:ext cx="7642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n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49160" y="1981080"/>
            <a:ext cx="764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n Octagon, less aggress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76160" y="1981080"/>
            <a:ext cx="759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n Octagon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79400" y="1981080"/>
            <a:ext cx="758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rring=Low-pass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17920" y="1981080"/>
            <a:ext cx="390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n Filtering is not FRE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degra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 median filte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know when to apply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Sample Var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8120" y="1981080"/>
            <a:ext cx="2873160" cy="1390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2353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efficient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2435400" cy="1827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71480" y="3429000"/>
            <a:ext cx="594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boolean outlierHere(int a[]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( coefficientOfVariation(a) &gt; .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and After 3x3 Median Filtering with Outlier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1530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-pass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210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HP Ker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2133720"/>
            <a:ext cx="517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hp1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 k[][]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0, -1,  0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-1, 10, -1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0, -1, 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.normalize(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ve(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wer Center Number, GREATER edge enhancemen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3548160" cy="3941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98400" y="2133720"/>
            <a:ext cx="3587760" cy="3925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853240" y="173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47920" y="1812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Blur an Im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id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=low-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52760" y="1981080"/>
            <a:ext cx="583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nt Unity G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2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variations on LP fil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16120" y="1981080"/>
            <a:ext cx="571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ussian Bl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72400" cy="1753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429000" y="3886200"/>
            <a:ext cx="20955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Gaussian Blu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he ey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c bell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46200" y="1981080"/>
            <a:ext cx="425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5:02:46Z</dcterms:created>
  <dc:creator>D L</dc:creator>
  <dc:description/>
  <dc:language>en-US</dc:language>
  <cp:lastModifiedBy>douglas lyon</cp:lastModifiedBy>
  <dcterms:modified xsi:type="dcterms:W3CDTF">2005-10-03T19:52:32Z</dcterms:modified>
  <cp:revision>30</cp:revision>
  <dc:subject/>
  <dc:title>Chapter 5</dc:title>
</cp:coreProperties>
</file>