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AA7-64B9-471A-B5E7-F40B728B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5F6F-AEF4-445A-B923-BF44037A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BAE-9D8E-45FB-9896-25453493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CAF-84AA-4958-8546-32A2C5E96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EA6-71A8-4CEA-BC71-88DD98FD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BDA-A143-463C-93EB-8AF39E78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92A-63CC-470C-A75B-22E6F446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BAB-7B4D-47E7-93EE-F99ABB75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796-22D5-491D-9798-26CA5B7F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0FB-1981-469E-A281-43EDC23C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498-3B6C-4BE1-9724-53257A8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10E-7FEE-453E-B329-CED18169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8A31-E3F2-4FA7-9B40-CF27CD136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D and 2D signal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e-cos R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348600" cy="1349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6919920" cy="7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moni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294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olution=time-shift&amp;mul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46465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olution 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5307120" cy="1384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3886200"/>
            <a:ext cx="971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 in the time domain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olution in the 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08680" cy="1281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133720" y="3276720"/>
            <a:ext cx="4487760" cy="1311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362320" y="4419720"/>
            <a:ext cx="42796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um reproduc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280040" cy="1592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70040" y="45720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 to be reproduced at  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57800" y="4267080"/>
            <a:ext cx="297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2038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286000" y="4114800"/>
            <a:ext cx="45403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1D convol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772400" cy="221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638680" y="35812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3657600"/>
            <a:ext cx="761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D Con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1630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66423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 the delt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468600" cy="98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20433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D Con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772400" cy="163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066680" y="3733920"/>
            <a:ext cx="66423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 of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gion of support is defined as that area of the .kernel which is non-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convolution:=signal has infinite extent but kernel has finit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function has finite region of support we have compact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images have finite region of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e treat them as periodic and infin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repeat kernels so that they have the same period as the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ll this cyclic conv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olution in 2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5999400" cy="1258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3429000"/>
            <a:ext cx="6068880" cy="1187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4724280"/>
            <a:ext cx="28195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oid the Mod 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577692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avoiding the mod o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find the center of the kern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ic Con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79600" y="1870200"/>
            <a:ext cx="43941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Conv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9720" y="1752480"/>
            <a:ext cx="704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y = 0; y &lt; height; y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x = 0; x &lt; width; x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= 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v = -vc; v &lt;= vc; v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u = -uc; u &lt;= uc; u++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+= f[cx(x-u) ][cy(y-v)] * k[ u+uc][v+vc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sum &lt; 0) sum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sum &gt; 255) sum = 25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[x][y] = (short)s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s to the image if you ignore the wr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1790640" cy="2336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17906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yclic Convolution keeps the ed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30440" y="25718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1791000" cy="2336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17906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-shift del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76720" y="2209680"/>
                <a:ext cx="2133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3124080" y="3200400"/>
                <a:ext cx="23655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48148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you think of a better way to implement conv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 ed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use the mod op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growing the image by the size of the kernel*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olution is slow, how can I speed it u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FT!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id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JAI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ts my ed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sed j2d B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that using MD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the BorderFrame in j2d.border into the MDI interface so that you can apply the BorderPanel to the input i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RunSpinnerSlider to dynamic alter the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image dynam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the change with an apply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the input (it’s a convolution!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057400" y="2743200"/>
                <a:ext cx="49068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x</m:t>
                        </m:r>
                        <m:r>
                          <m:t xml:space="preserve">[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2658960" cy="112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3880" y="4952880"/>
            <a:ext cx="569448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sampling do to spectru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pectru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91992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urier Coeffici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545000" cy="172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6919920" cy="7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T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891400" cy="1923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4437360" cy="131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666880" y="4876920"/>
            <a:ext cx="32497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ler’s ident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249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8T11:41:40Z</dcterms:created>
  <dc:creator>D L</dc:creator>
  <dc:description/>
  <dc:language>en-US</dc:language>
  <cp:lastModifiedBy>dlyon</cp:lastModifiedBy>
  <dcterms:modified xsi:type="dcterms:W3CDTF">2005-03-21T20:48:12Z</dcterms:modified>
  <cp:revision>9</cp:revision>
  <dc:subject/>
  <dc:title>Convolution</dc:title>
</cp:coreProperties>
</file>