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F48-47FB-4AC1-ACD7-A99BF970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DA0-5B4B-4EDF-8D97-A206B59F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EA76-5410-4DEE-AA7F-B748FB3F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B84-EC63-4140-9D8E-9CF51F59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F3BC-BF80-4681-AB59-1B7878A1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9571-70E9-406D-B834-E6F4097D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AB5D-101E-4E19-8FD3-45F2F05C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39AC-5794-49F4-933D-526F2EEC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A65D-5BF5-4D29-AA5E-3DF163D5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66DF-CA9C-4A80-8C13-96312141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6859-E8B3-41D1-BC7E-658F9A18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15A-C575-43A0-8CE1-2901CC69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7792-148D-4187-B52C-55F764F1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4F8A-1C5E-45DE-A983-DE9A22B5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0236-7FCC-419F-9AFE-677E294B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510F-5C71-45D0-8854-A6A5918A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4940-6D71-435A-8EA2-C2D60785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AE2-3A13-42AF-91E2-6BDEB528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0B4-74B8-4D87-8B8A-9FBEED81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706-F380-4289-84FA-78CC7E43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0F6-2FBF-40E2-8C21-0BD303AB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9C2-FC75-48D8-B5A5-0FD1ADFA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DDA-901D-4028-9CAA-B889951E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345-6EB2-4C27-9E26-AE60E9A5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297B-2FC0-4857-9DE3-3270DDAA5F2B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56EF-BBFD-4751-BBAE-9017C3601EBB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egmenting an Image: Region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79240" y="2133720"/>
            <a:ext cx="46162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“meaningful” regions of 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often differ in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hange representation from pixels to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here be quality segmentation without recogn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f03_a00_i04_face" descr=""/>
          <p:cNvPicPr/>
          <p:nvPr/>
        </p:nvPicPr>
        <p:blipFill>
          <a:blip r:embed="rId2"/>
          <a:stretch/>
        </p:blipFill>
        <p:spPr>
          <a:xfrm>
            <a:off x="6172200" y="2666880"/>
            <a:ext cx="2971800" cy="27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terative K-means cluster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3" name="alg10.1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7315200" cy="38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terative K-means cluster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k clusters C1, C2, …, 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least squares error 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search through range of k to find a good number of clusters (adds to expen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K-means result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fb11117clus.color" descr=""/>
          <p:cNvPicPr/>
          <p:nvPr/>
        </p:nvPicPr>
        <p:blipFill>
          <a:blip r:embed="rId2"/>
          <a:stretch/>
        </p:blipFill>
        <p:spPr>
          <a:xfrm>
            <a:off x="5257800" y="2743200"/>
            <a:ext cx="3733920" cy="3408480"/>
          </a:xfrm>
          <a:prstGeom prst="rect">
            <a:avLst/>
          </a:prstGeom>
          <a:ln w="0">
            <a:noFill/>
          </a:ln>
        </p:spPr>
      </p:pic>
      <p:pic>
        <p:nvPicPr>
          <p:cNvPr id="139" name="fb11117" descr=""/>
          <p:cNvPicPr/>
          <p:nvPr/>
        </p:nvPicPr>
        <p:blipFill>
          <a:blip r:embed="rId3"/>
          <a:stretch/>
        </p:blipFill>
        <p:spPr>
          <a:xfrm>
            <a:off x="1523880" y="2057400"/>
            <a:ext cx="366876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lice through soil microvolum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57440" y="4800600"/>
            <a:ext cx="384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regions identified: intensity represents material density (similar to an X-ray i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dirtimage" descr=""/>
          <p:cNvPicPr/>
          <p:nvPr/>
        </p:nvPicPr>
        <p:blipFill>
          <a:blip r:embed="rId2"/>
          <a:stretch/>
        </p:blipFill>
        <p:spPr>
          <a:xfrm>
            <a:off x="1523880" y="3886200"/>
            <a:ext cx="3962520" cy="2428920"/>
          </a:xfrm>
          <a:prstGeom prst="rect">
            <a:avLst/>
          </a:prstGeom>
          <a:ln w="0">
            <a:noFill/>
          </a:ln>
        </p:spPr>
      </p:pic>
      <p:pic>
        <p:nvPicPr>
          <p:cNvPr id="143" name="dirtimageClusters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4267080" cy="27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Histogram-based method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71840" y="1981080"/>
            <a:ext cx="293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: intensity range 31-100 made 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TOM: intensity range 101-179 made 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locks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47" name="lo" descr=""/>
          <p:cNvPicPr/>
          <p:nvPr/>
        </p:nvPicPr>
        <p:blipFill>
          <a:blip r:embed="rId3"/>
          <a:stretch/>
        </p:blipFill>
        <p:spPr>
          <a:xfrm>
            <a:off x="3962520" y="1828800"/>
            <a:ext cx="2154240" cy="2154240"/>
          </a:xfrm>
          <a:prstGeom prst="rect">
            <a:avLst/>
          </a:prstGeom>
          <a:ln w="0">
            <a:noFill/>
          </a:ln>
        </p:spPr>
      </p:pic>
      <p:pic>
        <p:nvPicPr>
          <p:cNvPr id="148" name="hi" descr=""/>
          <p:cNvPicPr/>
          <p:nvPr/>
        </p:nvPicPr>
        <p:blipFill>
          <a:blip r:embed="rId4"/>
          <a:stretch/>
        </p:blipFill>
        <p:spPr>
          <a:xfrm>
            <a:off x="3962520" y="4191120"/>
            <a:ext cx="212400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tsu’s automatic threshold method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69040" y="6095880"/>
            <a:ext cx="373680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clusterhist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3276720" cy="3038400"/>
          </a:xfrm>
          <a:prstGeom prst="rect">
            <a:avLst/>
          </a:prstGeom>
          <a:ln w="0">
            <a:noFill/>
          </a:ln>
        </p:spPr>
      </p:pic>
      <p:pic>
        <p:nvPicPr>
          <p:cNvPr id="152" name="slides2A" descr=""/>
          <p:cNvPicPr/>
          <p:nvPr/>
        </p:nvPicPr>
        <p:blipFill>
          <a:blip r:embed="rId3"/>
          <a:stretch/>
        </p:blipFill>
        <p:spPr>
          <a:xfrm>
            <a:off x="3668760" y="1828800"/>
            <a:ext cx="5475240" cy="1177920"/>
          </a:xfrm>
          <a:prstGeom prst="rect">
            <a:avLst/>
          </a:prstGeom>
          <a:ln w="0">
            <a:noFill/>
          </a:ln>
        </p:spPr>
      </p:pic>
      <p:pic>
        <p:nvPicPr>
          <p:cNvPr id="153" name="slides2B" descr=""/>
          <p:cNvPicPr/>
          <p:nvPr/>
        </p:nvPicPr>
        <p:blipFill>
          <a:blip r:embed="rId4"/>
          <a:stretch/>
        </p:blipFill>
        <p:spPr>
          <a:xfrm>
            <a:off x="3532320" y="5257800"/>
            <a:ext cx="5611680" cy="10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hlander’s recursive histogram directed spatial segment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 color hist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best mode in hist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binary image (mask) of all pixels in that 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nnected components and morphology to get good reg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sh this mask on stack for later recursiv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hlander’s algorithm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52720" y="1981080"/>
            <a:ext cx="2552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 recursing when only one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 new region mask fo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e when stack emp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ohlander" descr=""/>
          <p:cNvPicPr/>
          <p:nvPr/>
        </p:nvPicPr>
        <p:blipFill>
          <a:blip r:embed="rId2"/>
          <a:stretch/>
        </p:blipFill>
        <p:spPr>
          <a:xfrm>
            <a:off x="1600200" y="1824120"/>
            <a:ext cx="5029200" cy="427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egion-growing (painting)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is a population with similar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tatistical test to see if neighbor on border fits into the region population, if so, update region and st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eighbor doesn’t fit, start another region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growing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3030480" cy="3444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Deciding to grow and updat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3" name="growingMathA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2765160" cy="1817640"/>
          </a:xfrm>
          <a:prstGeom prst="rect">
            <a:avLst/>
          </a:prstGeom>
          <a:ln w="0">
            <a:noFill/>
          </a:ln>
        </p:spPr>
      </p:pic>
      <p:pic>
        <p:nvPicPr>
          <p:cNvPr id="164" name="growingMathB" descr=""/>
          <p:cNvPicPr/>
          <p:nvPr/>
        </p:nvPicPr>
        <p:blipFill>
          <a:blip r:embed="rId3"/>
          <a:stretch/>
        </p:blipFill>
        <p:spPr>
          <a:xfrm>
            <a:off x="3429000" y="3809880"/>
            <a:ext cx="3475080" cy="789120"/>
          </a:xfrm>
          <a:prstGeom prst="rect">
            <a:avLst/>
          </a:prstGeom>
          <a:ln w="0">
            <a:noFill/>
          </a:ln>
        </p:spPr>
      </p:pic>
      <p:pic>
        <p:nvPicPr>
          <p:cNvPr id="165" name="growingMathC" descr=""/>
          <p:cNvPicPr/>
          <p:nvPr/>
        </p:nvPicPr>
        <p:blipFill>
          <a:blip r:embed="rId4"/>
          <a:stretch/>
        </p:blipFill>
        <p:spPr>
          <a:xfrm>
            <a:off x="2895480" y="4876920"/>
            <a:ext cx="483552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egion versus Border Segment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segmentations of blocks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lockslines" descr=""/>
          <p:cNvPicPr/>
          <p:nvPr/>
        </p:nvPicPr>
        <p:blipFill>
          <a:blip r:embed="rId2"/>
          <a:stretch/>
        </p:blipFill>
        <p:spPr>
          <a:xfrm>
            <a:off x="5638680" y="2895480"/>
            <a:ext cx="3341880" cy="3341880"/>
          </a:xfrm>
          <a:prstGeom prst="rect">
            <a:avLst/>
          </a:prstGeom>
          <a:ln w="0">
            <a:noFill/>
          </a:ln>
        </p:spPr>
      </p:pic>
      <p:pic>
        <p:nvPicPr>
          <p:cNvPr id="116" name="blockseg" descr=""/>
          <p:cNvPicPr/>
          <p:nvPr/>
        </p:nvPicPr>
        <p:blipFill>
          <a:blip r:embed="rId3"/>
          <a:stretch/>
        </p:blipFill>
        <p:spPr>
          <a:xfrm>
            <a:off x="1523880" y="2895480"/>
            <a:ext cx="3878280" cy="330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epresentation of regions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ay” or “mask”: binary image for each defined re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ed image”: each integer label represents region or region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ary coding”: use perimeter set,  chain code, or polygonal r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d tree”: hierarchical spatial partition using white, black, gray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Quad tree recursively partitions the 2D plan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828800"/>
            <a:ext cx="7283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empty, all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full, all fore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: mixed, some background and some fore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quadtree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7086600" cy="33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egmentation via motion coherenc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09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neighboring pixels with the same motion are part of the sam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, B translate, C ro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coherence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4275000" cy="32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American Sign Languag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hands and face using color and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skin-colored pixels; find connected regions of appropriate size (hand versus 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motion to decode message; decode motion of each hand, eventually use face expression al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ompute motion of regions across two video fram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cheerleader014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514600" cy="1897200"/>
          </a:xfrm>
          <a:prstGeom prst="rect">
            <a:avLst/>
          </a:prstGeom>
          <a:ln w="0">
            <a:noFill/>
          </a:ln>
        </p:spPr>
      </p:pic>
      <p:pic>
        <p:nvPicPr>
          <p:cNvPr id="179" name="cheerleader016" descr=""/>
          <p:cNvPicPr/>
          <p:nvPr/>
        </p:nvPicPr>
        <p:blipFill>
          <a:blip r:embed="rId3"/>
          <a:stretch/>
        </p:blipFill>
        <p:spPr>
          <a:xfrm>
            <a:off x="4038480" y="1981080"/>
            <a:ext cx="2536920" cy="1874880"/>
          </a:xfrm>
          <a:prstGeom prst="rect">
            <a:avLst/>
          </a:prstGeom>
          <a:ln w="0">
            <a:noFill/>
          </a:ln>
        </p:spPr>
      </p:pic>
      <p:pic>
        <p:nvPicPr>
          <p:cNvPr id="180" name="cheerleader019" descr=""/>
          <p:cNvPicPr/>
          <p:nvPr/>
        </p:nvPicPr>
        <p:blipFill>
          <a:blip r:embed="rId4"/>
          <a:stretch/>
        </p:blipFill>
        <p:spPr>
          <a:xfrm>
            <a:off x="6629400" y="1981080"/>
            <a:ext cx="2514600" cy="1903680"/>
          </a:xfrm>
          <a:prstGeom prst="rect">
            <a:avLst/>
          </a:prstGeom>
          <a:ln w="0">
            <a:noFill/>
          </a:ln>
        </p:spPr>
      </p:pic>
      <p:pic>
        <p:nvPicPr>
          <p:cNvPr id="181" name="cheerleader015.reg" descr=""/>
          <p:cNvPicPr/>
          <p:nvPr/>
        </p:nvPicPr>
        <p:blipFill>
          <a:blip r:embed="rId5"/>
          <a:stretch/>
        </p:blipFill>
        <p:spPr>
          <a:xfrm>
            <a:off x="2743200" y="3962520"/>
            <a:ext cx="2560680" cy="1896840"/>
          </a:xfrm>
          <a:prstGeom prst="rect">
            <a:avLst/>
          </a:prstGeom>
          <a:ln w="0">
            <a:noFill/>
          </a:ln>
        </p:spPr>
      </p:pic>
      <p:pic>
        <p:nvPicPr>
          <p:cNvPr id="182" name="cheerleader020.reg" descr=""/>
          <p:cNvPicPr/>
          <p:nvPr/>
        </p:nvPicPr>
        <p:blipFill>
          <a:blip r:embed="rId6"/>
          <a:stretch/>
        </p:blipFill>
        <p:spPr>
          <a:xfrm>
            <a:off x="5486400" y="3962520"/>
            <a:ext cx="2536920" cy="189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Find face and hand regions using skin color model and siz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84" name="cheerleader015.reg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2560680" cy="1896840"/>
          </a:xfrm>
          <a:prstGeom prst="rect">
            <a:avLst/>
          </a:prstGeom>
          <a:ln w="0">
            <a:noFill/>
          </a:ln>
        </p:spPr>
      </p:pic>
      <p:pic>
        <p:nvPicPr>
          <p:cNvPr id="185" name="cheerleader020.reg" descr=""/>
          <p:cNvPicPr/>
          <p:nvPr/>
        </p:nvPicPr>
        <p:blipFill>
          <a:blip r:embed="rId3"/>
          <a:stretch/>
        </p:blipFill>
        <p:spPr>
          <a:xfrm>
            <a:off x="5181480" y="2133720"/>
            <a:ext cx="2536920" cy="1896840"/>
          </a:xfrm>
          <a:prstGeom prst="rect">
            <a:avLst/>
          </a:prstGeom>
          <a:ln w="0">
            <a:noFill/>
          </a:ln>
        </p:spPr>
      </p:pic>
      <p:pic>
        <p:nvPicPr>
          <p:cNvPr id="186" name="cheerleader014.skin" descr=""/>
          <p:cNvPicPr/>
          <p:nvPr/>
        </p:nvPicPr>
        <p:blipFill>
          <a:blip r:embed="rId4"/>
          <a:stretch/>
        </p:blipFill>
        <p:spPr>
          <a:xfrm>
            <a:off x="2514600" y="4343400"/>
            <a:ext cx="1943280" cy="1874880"/>
          </a:xfrm>
          <a:prstGeom prst="rect">
            <a:avLst/>
          </a:prstGeom>
          <a:ln w="0">
            <a:noFill/>
          </a:ln>
        </p:spPr>
      </p:pic>
      <p:pic>
        <p:nvPicPr>
          <p:cNvPr id="187" name="cheerleader016.skin" descr=""/>
          <p:cNvPicPr/>
          <p:nvPr/>
        </p:nvPicPr>
        <p:blipFill>
          <a:blip r:embed="rId5"/>
          <a:stretch/>
        </p:blipFill>
        <p:spPr>
          <a:xfrm>
            <a:off x="5486400" y="4267080"/>
            <a:ext cx="1920960" cy="185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ompute trajectory of hand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89" name="trajectory14-16" descr=""/>
          <p:cNvPicPr/>
          <p:nvPr/>
        </p:nvPicPr>
        <p:blipFill>
          <a:blip r:embed="rId2"/>
          <a:stretch/>
        </p:blipFill>
        <p:spPr>
          <a:xfrm>
            <a:off x="1600200" y="1824120"/>
            <a:ext cx="4915080" cy="47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General segmentation algorithm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pixels into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y adjacency in space (neighb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y similarity in color/tex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y adjacency and similarity of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lgorithms can be tested quickly in applications (e.g. generic Project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lgorithms should not be expected to work well in all cases.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egmentation by boundari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regions by differe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edges result between different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useful when boundaries have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sue boundary computation in separate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ustering versus Region grow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on growing: adjacency is major control, pixel similarity is seco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start at some location[s] (see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only add adjacent pixels that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(~ painting algorith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can grow multiple regions in para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in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ustering versus region grow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ity of features is primary control, adjacency is second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each pixel represented by n-D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clustering partitions all M x N pix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K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connected components performed 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ing (as in Project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egion forming concepts also apply to boundary segmentat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undary following uses adjacency as majo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ugh transform uses spatial similarity as majo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imple Example of Clusters in Feature Spac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features that can be separated into 3 clu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luster contains pixels that are in some sense sim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 space can have many dimen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ointplot" descr=""/>
          <p:cNvPicPr/>
          <p:nvPr/>
        </p:nvPicPr>
        <p:blipFill>
          <a:blip r:embed="rId2"/>
          <a:stretch/>
        </p:blipFill>
        <p:spPr>
          <a:xfrm>
            <a:off x="5369040" y="2374920"/>
            <a:ext cx="3736800" cy="332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btaining meaningful k-D vectors representing pixel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olor / intensity values at [r,c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et histogram of neighborhood co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LOG filter values on neighbor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FT on neighbor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neighborhood onto Laws texture basis (mas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orge Stockman MSU CS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00:50:02Z</dcterms:created>
  <dc:creator>George Stockman</dc:creator>
  <dc:description/>
  <dc:language>en-US</dc:language>
  <cp:lastModifiedBy>George Stockman</cp:lastModifiedBy>
  <dcterms:modified xsi:type="dcterms:W3CDTF">2001-10-22T14:48:42Z</dcterms:modified>
  <cp:revision>13</cp:revision>
  <dc:subject/>
  <dc:title>Segmenting an Image: Regions</dc:title>
</cp:coreProperties>
</file>