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4.jpeg" ContentType="image/jpeg"/>
  <Override PartName="/ppt/media/image31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678-D2E3-43E6-B4BD-BAB941BD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9F64-FE00-4B84-9AA7-2EB7348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97D-6D03-432F-B67A-9626111C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8A2-005C-4CF3-B6BE-197F0764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C4A-1787-4227-8092-0F267C5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5A3A-F2EA-4139-AF04-BE6B571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384-9FBD-4981-A30C-1BDFB023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6E4B-95CC-4B04-85E8-DFFCB7B5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0EB5-4FB3-4EA1-9C2D-9D9BAC26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DFE8-FED6-43AB-9F7D-D049097A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0C77-2B3F-4DE6-9EF2-36832BC1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81A-4B3B-45A9-BB2D-FD79352E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549-FB4F-4EAF-9AF1-E38759B7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7DA-B03D-4A8C-BF2D-27C37F84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5A69-B216-4388-BB0C-2DD2D5E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71FD-DDA1-46E5-ABD2-2BC75C9F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800-4C77-407D-B128-8CB7D499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F61-27EC-4F87-B452-D36C08A5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5C8-66E0-4729-9E6A-5DFB6376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7D-76C9-4B76-AB3B-83105084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AC4-7439-4D79-A095-23D0BD4C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122-9ACA-41B5-9DF3-675DA817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DA35-C48D-4DE6-B1A1-78EEE952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E21-7DAC-47AC-8076-736A0446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2DDA-D4B1-4444-AF49-945B28F009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CB6B-E184-4C9B-B0FC-3E58167BBA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9880" y="2017800"/>
            <a:ext cx="514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heavily in human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r is a pixel property, making some recognition problems ea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spectrum for humans is 400nm (blue) to 700 nm (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hines can “see” much more; ex. X-rays, infrared, 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cardsHW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27636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zebras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3276720" cy="1447560"/>
          </a:xfrm>
          <a:prstGeom prst="rect">
            <a:avLst/>
          </a:prstGeom>
          <a:ln w="0">
            <a:noFill/>
          </a:ln>
        </p:spPr>
      </p:pic>
      <p:pic>
        <p:nvPicPr>
          <p:cNvPr id="102" name="dog.MSU" descr=""/>
          <p:cNvPicPr/>
          <p:nvPr/>
        </p:nvPicPr>
        <p:blipFill>
          <a:blip r:embed="rId3"/>
          <a:stretch/>
        </p:blipFill>
        <p:spPr>
          <a:xfrm>
            <a:off x="380880" y="5029200"/>
            <a:ext cx="3276720" cy="16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38D-F15B-4342-A6C6-618DEADD2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saturation of col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food.colors.org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2922840" cy="2359080"/>
          </a:xfrm>
          <a:prstGeom prst="rect">
            <a:avLst/>
          </a:prstGeom>
          <a:ln w="0">
            <a:noFill/>
          </a:ln>
        </p:spPr>
      </p:pic>
      <p:pic>
        <p:nvPicPr>
          <p:cNvPr id="143" name="food.colors.lesssat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857680" cy="2309760"/>
          </a:xfrm>
          <a:prstGeom prst="rect">
            <a:avLst/>
          </a:prstGeom>
          <a:ln w="0">
            <a:noFill/>
          </a:ln>
        </p:spPr>
      </p:pic>
      <p:pic>
        <p:nvPicPr>
          <p:cNvPr id="144" name="food.colors.moresat" descr=""/>
          <p:cNvPicPr/>
          <p:nvPr/>
        </p:nvPicPr>
        <p:blipFill>
          <a:blip r:embed="rId3"/>
          <a:stretch/>
        </p:blipFill>
        <p:spPr>
          <a:xfrm>
            <a:off x="6172200" y="2286000"/>
            <a:ext cx="2819520" cy="226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280" y="5029200"/>
            <a:ext cx="8839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eft) Image of food originating from a digital camer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enter) saturation value of each pixel decreased 20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ight) saturation value of each pixel increased 4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78E-2AAA-4236-BFA7-34AD45805F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erties of HSI (HS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s out intensity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the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values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enc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romat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nient for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esign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ue H is defined by an a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aturation S models th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purit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f the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=1 for a completely pure or saturated co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=0 for a shade of “gra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B96-5BA9-4AE1-86DF-EEE1781F9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IQ and YUV for TV 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better compression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uminance Y encoded using more bits than chrominance values I and Q; humans more sensitive to Y than I,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TSC TV uses luminance Y; chrominance values I and 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uminance used by black/white T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90bd9"/>
                </a:solidFill>
                <a:latin typeface="Tahoma"/>
              </a:rPr>
              <a:t>All 3 values used by color TV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UV encoding used in some digital video and JPEG and MPEG com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4D1-8AC2-4F04-A627-982307943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version from RGB to YIQ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RGBtoYIQ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234640" cy="20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39040" y="4876920"/>
            <a:ext cx="87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e often use this for color to gray-tone co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435-3092-4A20-A2EB-2BC2071C9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s can be used for image segmentation into reg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luster on color values and pixel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connected components and an approximate color criteria to find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in an algorithm to look for certain colored regions – for example, skin co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2C50-F02B-4540-87D2-9ECABB6E5C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lor Clustering by K-mean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811080" y="2368440"/>
            <a:ext cx="7594920" cy="375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K-means clusters from a set of n-dimensional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Set ic (iteration count)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Choose randomly a set of K means m1(1), …, mK(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or each vector xi, compute D(xi,mk(ic)), k=1,…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nd assign xi to the cluster Cj with nearest me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Increment ic by 1, update the means to get m1(ic),…,mK(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Repeat steps 3 and 4 until Ck(ic) = Ck(ic+1) for all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E96-5BAF-42AD-B4F0-5DACE31DC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-means Clustering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9" name="fb11117kmclus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971800" cy="22176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rcRect l="35659" t="50386" r="34885" b="21518"/>
          <a:stretch/>
        </p:blipFill>
        <p:spPr>
          <a:xfrm>
            <a:off x="1219320" y="2743200"/>
            <a:ext cx="28954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35760" y="51055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iginal RGB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9800" y="5105520"/>
            <a:ext cx="29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or Clusters by K-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51C6-AA21-44DD-8001-66526AA7FF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tracting “white regions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earns white from training set of sample pixe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similar neighbors to form reg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might be classified as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Work contributed by David Moore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sign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2257200" cy="2475000"/>
          </a:xfrm>
          <a:prstGeom prst="rect">
            <a:avLst/>
          </a:prstGeom>
          <a:ln w="0">
            <a:noFill/>
          </a:ln>
        </p:spPr>
      </p:pic>
      <p:pic>
        <p:nvPicPr>
          <p:cNvPr id="166" name="signcomponents" descr=""/>
          <p:cNvPicPr/>
          <p:nvPr/>
        </p:nvPicPr>
        <p:blipFill>
          <a:blip r:embed="rId2"/>
          <a:stretch/>
        </p:blipFill>
        <p:spPr>
          <a:xfrm>
            <a:off x="6477120" y="4365720"/>
            <a:ext cx="2263680" cy="249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53080" y="213372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Left) input RGB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457524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ight) output is a labele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19E-EFF0-4C9B-B108-3BE5AFB900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in color in RGB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0" name="skin_color_distribution_1" descr=""/>
          <p:cNvPicPr/>
          <p:nvPr/>
        </p:nvPicPr>
        <p:blipFill>
          <a:blip r:embed="rId1"/>
          <a:stretch/>
        </p:blipFill>
        <p:spPr>
          <a:xfrm>
            <a:off x="533520" y="1994040"/>
            <a:ext cx="6107040" cy="4863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705720" y="2133720"/>
            <a:ext cx="2438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ple region shows skin color samples from several people. Blue and yellow regions show skin in shadow or behind a be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051-4905-4B04-BA60-449F17ABC7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a face in video fra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4191120"/>
            <a:ext cx="8497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eft) input video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enter) pixels classified according to RGB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right) largest connected component with aspect similar to a face (all work contributed by Vera Baki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f00_i01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289584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0960" y="38858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f00_i01_clas" descr=""/>
          <p:cNvPicPr/>
          <p:nvPr/>
        </p:nvPicPr>
        <p:blipFill>
          <a:blip r:embed="rId3"/>
          <a:stretch/>
        </p:blipFill>
        <p:spPr>
          <a:xfrm>
            <a:off x="3352680" y="1981080"/>
            <a:ext cx="2514600" cy="1884600"/>
          </a:xfrm>
          <a:prstGeom prst="rect">
            <a:avLst/>
          </a:prstGeom>
          <a:ln w="0">
            <a:noFill/>
          </a:ln>
        </p:spPr>
      </p:pic>
      <p:pic>
        <p:nvPicPr>
          <p:cNvPr id="177" name="f00_i01_face" descr=""/>
          <p:cNvPicPr/>
          <p:nvPr/>
        </p:nvPicPr>
        <p:blipFill>
          <a:blip r:embed="rId4"/>
          <a:stretch/>
        </p:blipFill>
        <p:spPr>
          <a:xfrm>
            <a:off x="6019920" y="1981080"/>
            <a:ext cx="2514600" cy="18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5B1-A975-4F23-853E-6FACCC83F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aging Process (review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reflection2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333760" cy="40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8946-6A31-4101-B0BD-C26BABB7B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histograms can represent an im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7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gram is fast and easy to compu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can easily be normalized so that different image histograms can be compar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match color histograms for database query or classific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BFF-F4A3-4E13-A6D3-8C55035F83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stograms of two color im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1" name="pigsCorbis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2619360" cy="2325600"/>
          </a:xfrm>
          <a:prstGeom prst="rect">
            <a:avLst/>
          </a:prstGeom>
          <a:ln w="0">
            <a:noFill/>
          </a:ln>
        </p:spPr>
      </p:pic>
      <p:pic>
        <p:nvPicPr>
          <p:cNvPr id="182" name="pigs1.hist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3276720" cy="2389320"/>
          </a:xfrm>
          <a:prstGeom prst="rect">
            <a:avLst/>
          </a:prstGeom>
          <a:ln w="0">
            <a:noFill/>
          </a:ln>
        </p:spPr>
      </p:pic>
      <p:pic>
        <p:nvPicPr>
          <p:cNvPr id="183" name="tiger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2011320" cy="1989000"/>
          </a:xfrm>
          <a:prstGeom prst="rect">
            <a:avLst/>
          </a:prstGeom>
          <a:ln w="0">
            <a:noFill/>
          </a:ln>
        </p:spPr>
      </p:pic>
      <p:pic>
        <p:nvPicPr>
          <p:cNvPr id="184" name="tiger.hist" descr=""/>
          <p:cNvPicPr/>
          <p:nvPr/>
        </p:nvPicPr>
        <p:blipFill>
          <a:blip r:embed="rId4"/>
          <a:stretch/>
        </p:blipFill>
        <p:spPr>
          <a:xfrm>
            <a:off x="5029200" y="4114800"/>
            <a:ext cx="3195720" cy="24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044-265E-4F34-8257-EE62DEF725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trieval from image datab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skiers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6400800" cy="4632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934320" y="2209680"/>
            <a:ext cx="1904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left image is query image. The others are retrieved by having similar color histogram (See Ch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34C-E955-4338-8C7B-4D7CDF5AE8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make a color hist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3 histograms and concatenat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single pseudo color between 0 and 255 by using 3 bits of R, 3 bits of G and 2 bits of B (which bit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normalize histogram to hold frequencies so that bins total 1.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C80-AD8A-4648-91A7-08A0F6751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ples versus orang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" name="VVhists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001000" cy="2154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33520" y="464832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HSI histograms for apples (left) and oranges (right) used by IBM’s VeggieVision for recognizing produce at the grocery store checkout station (see Ch 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A3FD-A7DD-4879-80D8-6FE29A82A4C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wain and Ballard’s Histogram Matching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r Color Object Recogni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48720" y="1981080"/>
            <a:ext cx="806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nent En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grams: 8 x 16 x 16 = 2048 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section of image histogram and model hist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ch score is the normalized inters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15000" y="1981080"/>
            <a:ext cx="20412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wb = R + G +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g = R -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by = 2B - R - 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11120" y="4495680"/>
            <a:ext cx="64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tersection(h(I),h(M)) =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min{h(I)[j],h(M)[j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7680" y="6021360"/>
            <a:ext cx="73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ch(h(I),h(M)) = intersection(h(I),h(M)) /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h(M)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1920" y="48322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34840" y="429912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num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72520" y="632448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j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39960" y="5823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numb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6BE-3522-4EC6-A178-5A2C2E8B1F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s of Reflect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209680"/>
            <a:ext cx="59436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to look at models for the physics of illumination and reflection that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 help computer vision algorithms extract information about the 3D worl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2.  help computer graphics algorithms render realistic images of model sc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" y="5367240"/>
            <a:ext cx="84668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s-based vision is the subarea of computer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uses physical models to understand imag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better analyze real-world im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780-EEAF-41F5-98BB-306D9E4BD8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Lambertian Model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use Surface 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6" name="reflect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040" y="2133720"/>
            <a:ext cx="382932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 diffuse ref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face reflec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niformly in all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000" y="3581280"/>
            <a:ext cx="375300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iform brightnes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viewpoints of a pla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FA3-5AD8-4121-8919-B092F9460E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matte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eggAndVase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6629400" cy="4456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62320" y="3657600"/>
            <a:ext cx="2743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762-6881-425A-B110-0BEEA8D6DDA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cular reflection is highly directional and mirrorlik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reflect6" descr=""/>
          <p:cNvPicPr/>
          <p:nvPr/>
        </p:nvPicPr>
        <p:blipFill>
          <a:blip r:embed="rId1"/>
          <a:stretch/>
        </p:blipFill>
        <p:spPr>
          <a:xfrm>
            <a:off x="1447920" y="1833480"/>
            <a:ext cx="7696080" cy="502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1480" y="2133720"/>
            <a:ext cx="3352320" cy="265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 is the ray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 is direction from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rface toward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iew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s the shin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111-85E5-499B-BA23-BA803318B99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ctors that Affect Perce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18920" y="1981080"/>
            <a:ext cx="807948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ght:            the spectrum of energy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luminates the objec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ance:   ratio of reflected light to incoming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ularity:    highly specular (shiny) vs. matte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ance:        distance to the ligh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gle:            angle between surface normal an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sitivity       how sensitive is the se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202D-4059-4438-989F-51E76A17A3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l specular obj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11800" y="2017800"/>
            <a:ext cx="45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rome car parts are very shiny/mirrorli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are glass or ceramic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waxey plant le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carParts" descr=""/>
          <p:cNvPicPr/>
          <p:nvPr/>
        </p:nvPicPr>
        <p:blipFill>
          <a:blip r:embed="rId1"/>
          <a:stretch/>
        </p:blipFill>
        <p:spPr>
          <a:xfrm>
            <a:off x="1870200" y="2017800"/>
            <a:ext cx="24318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69A-8295-46E2-9821-953BC9F104F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g reflection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onable realism, reasonable comp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he following compon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)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mbient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b)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ffuse reflection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c )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specular reflection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d)  </a:t>
            </a:r>
            <a:r>
              <a:rPr b="0" lang="en-US" sz="2800" spc="-1" strike="noStrike">
                <a:solidFill>
                  <a:srgbClr val="d90bd9"/>
                </a:solidFill>
                <a:latin typeface="Tahoma"/>
              </a:rPr>
              <a:t>darkening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(b), (c ), (d) are summed over    all light sour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computer games use more complicated mode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00E-326A-4011-A7E7-3C3E3BCD1E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hong shading model u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1" name="reflect11" descr=""/>
          <p:cNvPicPr/>
          <p:nvPr/>
        </p:nvPicPr>
        <p:blipFill>
          <a:blip r:embed="rId1"/>
          <a:stretch/>
        </p:blipFill>
        <p:spPr>
          <a:xfrm>
            <a:off x="1600200" y="2514600"/>
            <a:ext cx="7543800" cy="38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26D-BE22-49B2-825B-D72B166EB9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Phong model  for intensity at wavelength lambda at pixel [x,y]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reflect12" descr=""/>
          <p:cNvPicPr/>
          <p:nvPr/>
        </p:nvPicPr>
        <p:blipFill>
          <a:blip r:embed="rId1"/>
          <a:stretch/>
        </p:blipFill>
        <p:spPr>
          <a:xfrm>
            <a:off x="1504800" y="2438280"/>
            <a:ext cx="7639200" cy="3886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004920" y="2413080"/>
            <a:ext cx="117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mb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99560" y="24382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iff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50120" y="24382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2B7-6C5D-48E3-9FE1-7C0C889664B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lor Image Analysis with an Intrinsic Reflection Model*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596520" y="624852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*Klinker, Shafer, and Kanade, ICCV, 19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74880" y="224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440" y="2362320"/>
            <a:ext cx="90792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the reflection properties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electr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e.g. plastic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m to separate highlights from true color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this to image se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706-595B-4AC0-9040-577B7D4565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Dichromatic Reflection Mode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5334120"/>
            <a:ext cx="1600200" cy="7617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5638680"/>
            <a:ext cx="45720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057400"/>
            <a:ext cx="73404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ght reflected from a point on a dielectric non-uniform material is a mixture of the light reflected from the material </a:t>
            </a:r>
            <a:r>
              <a:rPr b="0" lang="en-US" sz="2400" spc="-1" strike="noStrike">
                <a:solidFill>
                  <a:srgbClr val="d90bd9"/>
                </a:solidFill>
                <a:latin typeface="Tahoma"/>
              </a:rPr>
              <a:t>su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at from the material </a:t>
            </a:r>
            <a:r>
              <a:rPr b="0" lang="en-US" sz="2400" spc="-1" strike="noStrike">
                <a:solidFill>
                  <a:srgbClr val="d90bd9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72000" y="53341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3428640" y="44953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572000" y="50288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572000" y="434340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8520" y="480708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ing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96560" y="4038480"/>
            <a:ext cx="193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ting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31000" y="38926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ident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85600" y="49528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D7A-4F7C-4981-B3C7-F89FE9DCB8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et L(</a:t>
            </a:r>
            <a:r>
              <a:rPr b="0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,i,e,g) be the total reflected light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526040" y="1905120"/>
            <a:ext cx="3699720" cy="1557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ave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    angle of incident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   angle of emitt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g   phase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3960" y="4419720"/>
            <a:ext cx="780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rface reflection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,e,g) app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highlight or gl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ody reflection compon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i,e,g) gives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istic object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9240" y="3657600"/>
            <a:ext cx="55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n L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= L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 + L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70400" y="46483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62960" y="57913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98600" y="38862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3080" y="403056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24880" y="3886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5D1-4BDA-4125-8A93-5F2826BFEB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Dichromatic Reflection Equ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1273680" y="2549520"/>
            <a:ext cx="58917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i,e,g) = m  (i,e,g)c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 + m  (i,e,g)c  (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7432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89320" y="27432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05760" y="2743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48760" y="2743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47320" y="3462480"/>
            <a:ext cx="6887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 and c   are the spectral power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  and m   are the geometric scale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34840" y="363708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23040" y="363708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51640" y="43988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11160" y="439884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92360" y="5105520"/>
            <a:ext cx="7407360" cy="11912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r RGB images, this reduces to the pixe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 = [R,G,B] = m  C   + m 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79480" y="601992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44880" y="599904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96280" y="60199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1320" y="59990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DFE-E5AE-4727-8128-1645C93333E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bject Shape and Color Vari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375480" y="216684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ption: all points on one object depend o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color vectors c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 c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5520" y="3352680"/>
            <a:ext cx="6841800" cy="19227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ght mixtures all fall into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chromatic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color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ight mixtures form a dens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or clu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this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348000" y="27432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98440" y="26668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0C61-C18F-4424-A925-0DE5FB59D8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chromatic Pla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142640" y="3276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2971440" y="2133360"/>
            <a:ext cx="1143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1371600" y="2362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28800" y="3276720"/>
            <a:ext cx="2286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1599840" y="2590560"/>
            <a:ext cx="685800" cy="685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26320" y="33526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matt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10240" y="251460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igh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55400" y="2133720"/>
            <a:ext cx="263880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 linear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att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ighlight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7880" y="3962520"/>
            <a:ext cx="78796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bined color cluster looks like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kewed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ewing angle depends on color difference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nd surface refl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 heuristic, the highlight starts in the upper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matt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8680" y="1938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9160" y="30812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4920" y="2057400"/>
            <a:ext cx="27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2880" y="3276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CAB-AB55-4737-AA4B-A0F1CA9446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physics of co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 rot="10800000">
            <a:off x="8954280" y="6132600"/>
            <a:ext cx="1890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"/>
          </a:bodyPr>
          <a:p>
            <a:pPr marL="20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spectrum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867280" cy="2554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95480" y="2362320"/>
            <a:ext cx="1752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9960" y="6553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55760" y="513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242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hite light is composed of all visible frequencies (400-7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Ultraviolet and X-rays are of much smaller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rared and radio waves are of much longer wave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49FF-5DC0-4C5C-A4AE-5F254BF521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Imag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701640" y="2166840"/>
            <a:ext cx="733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segmentation based on RGB will often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undaries along highlights and sha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RM can be used to better seg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560" y="3691080"/>
            <a:ext cx="568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. compute initial rough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1680" y="4452840"/>
            <a:ext cx="787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ute principal compon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l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small, nonoverlapping image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bine neighboring window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similar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s into larger regions of locally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2B9-0C13-440B-855D-586789347BD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066320" y="190512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.   For regions with linea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83080" y="2362320"/>
            <a:ext cx="6726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pproximate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the first eigenvector of 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uct a color cylin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c  as axi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a multiple of estimated camera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use the cylinder to dec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pixel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in the imag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 is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lor seg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ou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atte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094280" y="2546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56600" y="3613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193E-10B9-40C4-9050-7D4FBCAAB6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64680" y="2514600"/>
            <a:ext cx="868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.  Use the skewed T idea to find highlight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lated to the matte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4.  Use matte plus highlights to form the planar hypo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.  Use the planar hypothesis to grow the matte lin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bject area into the highlight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56760" y="5562720"/>
            <a:ext cx="627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transparency for experimental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F6A-7D4A-42A8-BDC1-82CA167FA47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methods for hum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362320"/>
            <a:ext cx="7467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GB is an additive system (add colors to black) used for displ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9933"/>
                </a:solidFill>
                <a:latin typeface="Tahoma"/>
              </a:rPr>
              <a:t>CMY[K] is a subtractive system for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SV is good a good perceptual space for    art, psychology,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Q used for TV is good for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133-60D5-432D-A4C8-270FB30A20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742840"/>
            <a:ext cx="2895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ng color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colorCodes" descr=""/>
          <p:cNvPicPr/>
          <p:nvPr/>
        </p:nvPicPr>
        <p:blipFill>
          <a:blip r:embed="rId1"/>
          <a:stretch/>
        </p:blipFill>
        <p:spPr>
          <a:xfrm>
            <a:off x="2971800" y="182520"/>
            <a:ext cx="6172200" cy="667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1397-0EE2-497E-8C6F-62EC410EC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GB color cub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ube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5605560" cy="4469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172200" y="2209680"/>
            <a:ext cx="2666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G, B values normalized to (0, 1)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perceives gray for triples on the diag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e colors” on co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990720" y="4952880"/>
            <a:ext cx="137160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2666520"/>
            <a:ext cx="0" cy="22100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4876920"/>
            <a:ext cx="259056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FAA2-6CC4-4534-BC15-CD8002FFED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palette and normalized RG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54640" y="6132240"/>
            <a:ext cx="189000" cy="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7720" bIns="27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triangle" descr=""/>
          <p:cNvPicPr/>
          <p:nvPr/>
        </p:nvPicPr>
        <p:blipFill>
          <a:blip r:embed="rId1"/>
          <a:stretch/>
        </p:blipFill>
        <p:spPr>
          <a:xfrm>
            <a:off x="0" y="2036880"/>
            <a:ext cx="5105520" cy="4821120"/>
          </a:xfrm>
          <a:prstGeom prst="rect">
            <a:avLst/>
          </a:prstGeom>
          <a:ln w="0">
            <a:noFill/>
          </a:ln>
        </p:spPr>
      </p:pic>
      <p:pic>
        <p:nvPicPr>
          <p:cNvPr id="127" name="normalizedRGB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612612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291-209B-4BEE-8697-48CC580DC4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lor hexagon for HSI (HSV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cubeandcone" descr=""/>
          <p:cNvPicPr/>
          <p:nvPr/>
        </p:nvPicPr>
        <p:blipFill>
          <a:blip r:embed="rId1"/>
          <a:stretch/>
        </p:blipFill>
        <p:spPr>
          <a:xfrm>
            <a:off x="160200" y="3178080"/>
            <a:ext cx="8983800" cy="3679920"/>
          </a:xfrm>
          <a:prstGeom prst="rect">
            <a:avLst/>
          </a:prstGeom>
          <a:ln w="9360">
            <a:solidFill>
              <a:srgbClr val="1c1c1c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572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9051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lor is coded relative to the diagonal of the color cube. Hue is encoded as an angle, saturation is the relative distance from the diagonal, and intensity is h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05720" y="3504960"/>
            <a:ext cx="0" cy="2057400"/>
          </a:xfrm>
          <a:prstGeom prst="line">
            <a:avLst/>
          </a:prstGeom>
          <a:ln w="572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0520" y="4648320"/>
            <a:ext cx="76212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36200" y="31240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d9"/>
                </a:solidFill>
                <a:latin typeface="Tahoma"/>
              </a:rPr>
              <a:t>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05720" y="3429000"/>
            <a:ext cx="121896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48920" y="35053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a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6080" y="3963960"/>
            <a:ext cx="761040" cy="60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20277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202773"/>
              </a:path>
            </a:pathLst>
          </a:cu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97920" y="380988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h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114300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143000" y="3428640"/>
            <a:ext cx="0" cy="12193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6ED-9F8E-459A-B904-1A995779EE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23:27:15Z</dcterms:created>
  <dc:creator>uw</dc:creator>
  <dc:description/>
  <dc:language>en-US</dc:language>
  <cp:lastModifiedBy>stockman</cp:lastModifiedBy>
  <dcterms:modified xsi:type="dcterms:W3CDTF">2003-09-01T17:32:57Z</dcterms:modified>
  <cp:revision>36</cp:revision>
  <dc:subject/>
  <dc:title>Color</dc:title>
</cp:coreProperties>
</file>