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0.png" ContentType="image/png"/>
  <Override PartName="/ppt/media/image11.wmf" ContentType="image/x-wmf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64.wmf" ContentType="image/x-wmf"/>
  <Override PartName="/ppt/media/image56.jpeg" ContentType="image/jpeg"/>
  <Override PartName="/ppt/media/image10.wmf" ContentType="image/x-wmf"/>
  <Override PartName="/ppt/media/image62.png" ContentType="image/png"/>
  <Override PartName="/ppt/media/image51.jpeg" ContentType="image/jpeg"/>
  <Override PartName="/ppt/media/image25.wmf" ContentType="image/x-wmf"/>
  <Override PartName="/ppt/media/image60.png" ContentType="image/png"/>
  <Override PartName="/ppt/media/image24.wmf" ContentType="image/x-wmf"/>
  <Override PartName="/ppt/media/image22.png" ContentType="image/png"/>
  <Override PartName="/ppt/media/image59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65.png" ContentType="image/png"/>
  <Override PartName="/ppt/media/image28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8.wmf" ContentType="image/x-wmf"/>
  <Override PartName="/ppt/media/image40.png" ContentType="image/png"/>
  <Override PartName="/ppt/media/image33.png" ContentType="image/png"/>
  <Override PartName="/ppt/media/image54.jpeg" ContentType="image/jpeg"/>
  <Override PartName="/ppt/media/image30.png" ContentType="image/png"/>
  <Override PartName="/ppt/media/image36.wmf" ContentType="image/x-wmf"/>
  <Override PartName="/ppt/media/image37.wmf" ContentType="image/x-wmf"/>
  <Override PartName="/ppt/media/image38.png" ContentType="image/png"/>
  <Override PartName="/ppt/media/image39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6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03DF-D003-4D60-899A-35C37404A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can go wrong with EM, too -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is figure 16.2 - story in the cap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ry in figure 16.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gure 16.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ry in fig 16.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general principle here; it’s usually a good idea to accept some fitting error, because yo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tted object may then reflect the behaviour of data points that you haven’t seen rather bett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valently, if you fit a “simple” object to a lot of points, your estimate of that object’s parame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accurate, even though it may not represent those points as well as a “complex” object does;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se of the complex object, your estimate of the object’s parameters may be very unreliable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 new data points are poorly represented.  This is sometimes thought of as a tradeoff betwee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ias --- the model doesn’t represent the data perfectly --- and variance --- but I can estimate its parame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rately, meaning that it will handle future data points w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expect a picture that looks like this; more flexible things fit better (but usually predict wors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(comes from noise)=(1-P(comes from line)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1144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1144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2336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248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02336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248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1144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23880" y="41144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31144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2336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22480" y="144756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2388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02336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22480" y="4114440"/>
            <a:ext cx="23799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380520"/>
            <a:ext cx="73915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11440" y="411444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11440" y="1447560"/>
            <a:ext cx="360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114440"/>
            <a:ext cx="73915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48960" y="18720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6440" y="2130120"/>
            <a:ext cx="7469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152388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48960" y="187200"/>
            <a:ext cx="138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63760" y="2130120"/>
            <a:ext cx="7680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EM and model selec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1542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rc Pollefey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 2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522440" y="6046920"/>
            <a:ext cx="76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me slides and illustrations from D. Forsyth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Substituting for delta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shall substitute the expected value of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for a given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all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=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c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_i)=1. P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_i=1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+0.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ice that if kn is small and positive, then if distance is small, this value is close to 1 and if it is large, close to z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70040" y="4038480"/>
            <a:ext cx="7434360" cy="1866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71920" y="6647040"/>
            <a:ext cx="5811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681280" y="6545160"/>
            <a:ext cx="5811840" cy="0"/>
          </a:xfrm>
          <a:prstGeom prst="line">
            <a:avLst/>
          </a:prstGeom>
          <a:ln w="9360">
            <a:solidFill>
              <a:srgbClr val="e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798640" y="6186600"/>
            <a:ext cx="5535720" cy="453960"/>
            <a:chOff x="2798640" y="6186600"/>
            <a:chExt cx="5535720" cy="453960"/>
          </a:xfrm>
        </p:grpSpPr>
        <p:sp>
          <p:nvSpPr>
            <p:cNvPr id="129" name=""/>
            <p:cNvSpPr/>
            <p:nvPr/>
          </p:nvSpPr>
          <p:spPr>
            <a:xfrm>
              <a:off x="2798640" y="6186600"/>
              <a:ext cx="2766960" cy="452160"/>
            </a:xfrm>
            <a:custGeom>
              <a:avLst/>
              <a:gdLst/>
              <a:ahLst/>
              <a:rect l="l" t="t" r="r" b="b"/>
              <a:pathLst>
                <a:path w="1743" h="285">
                  <a:moveTo>
                    <a:pt x="0" y="285"/>
                  </a:moveTo>
                  <a:cubicBezTo>
                    <a:pt x="264" y="283"/>
                    <a:pt x="529" y="281"/>
                    <a:pt x="761" y="275"/>
                  </a:cubicBezTo>
                  <a:cubicBezTo>
                    <a:pt x="993" y="269"/>
                    <a:pt x="1243" y="283"/>
                    <a:pt x="1392" y="244"/>
                  </a:cubicBezTo>
                  <a:cubicBezTo>
                    <a:pt x="1541" y="205"/>
                    <a:pt x="1594" y="78"/>
                    <a:pt x="1653" y="39"/>
                  </a:cubicBezTo>
                  <a:cubicBezTo>
                    <a:pt x="1712" y="0"/>
                    <a:pt x="1724" y="16"/>
                    <a:pt x="1743" y="1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5567400" y="6188040"/>
              <a:ext cx="2766960" cy="452520"/>
            </a:xfrm>
            <a:custGeom>
              <a:avLst/>
              <a:gdLst/>
              <a:ahLst/>
              <a:rect l="l" t="t" r="r" b="b"/>
              <a:pathLst>
                <a:path w="1743" h="285">
                  <a:moveTo>
                    <a:pt x="0" y="285"/>
                  </a:moveTo>
                  <a:cubicBezTo>
                    <a:pt x="264" y="283"/>
                    <a:pt x="529" y="281"/>
                    <a:pt x="761" y="275"/>
                  </a:cubicBezTo>
                  <a:cubicBezTo>
                    <a:pt x="993" y="269"/>
                    <a:pt x="1243" y="283"/>
                    <a:pt x="1392" y="244"/>
                  </a:cubicBezTo>
                  <a:cubicBezTo>
                    <a:pt x="1541" y="205"/>
                    <a:pt x="1594" y="78"/>
                    <a:pt x="1653" y="39"/>
                  </a:cubicBezTo>
                  <a:cubicBezTo>
                    <a:pt x="1712" y="0"/>
                    <a:pt x="1724" y="16"/>
                    <a:pt x="1743" y="1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419640" y="5375160"/>
            <a:ext cx="3863880" cy="612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442280" y="5375160"/>
            <a:ext cx="1677960" cy="573120"/>
          </a:xfrm>
          <a:prstGeom prst="rect">
            <a:avLst/>
          </a:prstGeom>
          <a:noFill/>
          <a:ln w="9360">
            <a:solidFill>
              <a:srgbClr val="e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Algorithm for line fitting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some start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comput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’s using formula abov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compute maximum likelihood estimate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 come from fitting to weighted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s by counti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erate to convergenc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97080" y="1952640"/>
            <a:ext cx="2438280" cy="444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48160" y="4027320"/>
            <a:ext cx="40644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4120" y="1022400"/>
            <a:ext cx="6033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35040" y="1022400"/>
            <a:ext cx="6072120" cy="4813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74640" y="365040"/>
            <a:ext cx="630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pected values of the deltas at the max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tice the one value close to zero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96880" y="1022400"/>
            <a:ext cx="6148440" cy="481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82920" y="28908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up of the f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hoosing parameter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about the noise parameter, and the sigma for the li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ral method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first principles knowledge of the problem (seldom really possi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y around with a few examples and choose (usually quite effective, as precise choice doesn’t matter mu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ice that if kn is large, this says that points very seldom come from noise, however far from the line they l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biases the fit, by pushing outliers into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le of thumb; its better to fit to the better fitting points, within reason; if this is hard to do, then the model could be a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Other exampl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egment is a gaussian that emits feature vectors (which could contain colour; or colour and position; or colour, texture and positio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gment parameters are mean and (perhaps) covari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we knew which segment each point belonged to, estimating these parameters would be eas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t is on same lines as fitting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multipl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her like fitting one line, except there are more hidden vari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siest is to encode as an array of hidden variables, which represent a table with a one where the i’th point comes from the j’th line, zeros otherw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t is on same lines as abo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Issues with EM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cal maxi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a serious nuisance in some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guarantee that we have reached the “right” maxi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r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 means to cluster the points is often a good id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4120" y="1022400"/>
            <a:ext cx="6033960" cy="4813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039040" y="59364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max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96880" y="1022400"/>
            <a:ext cx="6148440" cy="481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58760" y="59364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an excellent fit to some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60400" y="914400"/>
          <a:ext cx="7293240" cy="5842080"/>
        </p:xfrm>
        <a:graphic>
          <a:graphicData uri="http://schemas.openxmlformats.org/drawingml/2006/table">
            <a:tbl>
              <a:tblPr/>
              <a:tblGrid>
                <a:gridCol w="1781280"/>
                <a:gridCol w="2627280"/>
                <a:gridCol w="288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g 26/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 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o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 9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urces &amp; Shad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 16/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ar filters &amp; ed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hurricane Isab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 23/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yramids &amp; Tex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View Geome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30/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r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propos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t 7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ing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l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cal f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t 14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t 21/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lhouettes/car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all br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t 28/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cture from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 up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. Sf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 11/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era calib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m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 18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Prob. segm.&amp;f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 25/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ing tem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hanksgiv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 2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ching re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g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2b00"/>
                          </a:solidFill>
                          <a:latin typeface="Verdana"/>
                        </a:rPr>
                        <a:t>Dec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2b00"/>
                          </a:solidFill>
                          <a:latin typeface="Verdana"/>
                        </a:rPr>
                        <a:t>Final proj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4772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Tentative class schedule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35040" y="1022400"/>
            <a:ext cx="6072120" cy="4813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64400" y="365040"/>
            <a:ext cx="41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deltas for this max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66720" y="1022400"/>
            <a:ext cx="6008760" cy="4813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91560" y="51768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set that is well fitted by four 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66720" y="1244520"/>
            <a:ext cx="6008760" cy="4813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728720" y="441360"/>
            <a:ext cx="59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EM fitting, with one line (or at leas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vailable local maximu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66720" y="1212840"/>
            <a:ext cx="6008760" cy="4813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29080" y="44136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 of EM fitting, with two lines (or at least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vailable local maximu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66720" y="1022400"/>
            <a:ext cx="6008760" cy="4813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263680" y="365040"/>
            <a:ext cx="59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lines can produce a rather logical ans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30360" y="990720"/>
            <a:ext cx="7613640" cy="25416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1554120" y="5213520"/>
            <a:ext cx="758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ure from “Color and Texture Based Image Segmentation Using EM and Its Application to Content Based Image Retrieval”,S.J. Belongie et al., Proc. Int. Conf. Computer Vision, 1998, c1998, IEE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1506240" y="28908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ation with 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otion segmentation with EM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 image pair (or video sequence) as consisting of regions of parametric mo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fine motion is popul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we need 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which pixels belong to which reg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para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lih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ightforward missing variable problem, rest is calcul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71560" y="3716280"/>
            <a:ext cx="3073320" cy="851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435640" y="2278080"/>
            <a:ext cx="370836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1171440"/>
            <a:ext cx="7435800" cy="1650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75160" y="3003480"/>
            <a:ext cx="70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frames from the MPEG “flower garden”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625760" y="5359320"/>
            <a:ext cx="75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“Representing Images with layers,”, by J. Wang and E.H. Adelson, IEEE Transactions on Image Processing, 1994, c 1994, IE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565280" y="1612800"/>
            <a:ext cx="7578720" cy="335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734480" y="406440"/>
            <a:ext cx="66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y level shows region no. with highest prob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699200" y="5311800"/>
            <a:ext cx="62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s and motion fields associated with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1625760" y="5897520"/>
            <a:ext cx="75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“Representing Images with layers,”, by J. Wang and E.H. Adelson, IEEE Transactions on Image Processing, 1994, c 1994, IE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2560" y="955800"/>
            <a:ext cx="7513920" cy="1801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62960" y="3641760"/>
            <a:ext cx="67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use multiple frames to estimate the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segment, we can fill in occlusions; so we c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render the sequence with some segments remo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625760" y="5572080"/>
            <a:ext cx="751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“Representing Images with layers,”, by J. Wang and E.H. Adelson, IEEE Transactions on Image Processing, 1994, c 1994, IEE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Final project presenta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ation and/or Dem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your choice, but let me know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rt paper (Due Dec.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preferably Latex IEEE proceedingssty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al presentation/de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esday 9, 2-5p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Structure from motion without correspondence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35040" y="1660680"/>
            <a:ext cx="5343480" cy="1790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799680" y="1101600"/>
            <a:ext cx="205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laert et al.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446120" y="3394080"/>
            <a:ext cx="4738680" cy="3362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54760" y="2079720"/>
            <a:ext cx="22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CM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in Flipp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291360" y="3833640"/>
            <a:ext cx="274464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Some generaliti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, but not all problems that can be attacked with EM can also be attacked with RANS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ed to be able to get a parameter estimate with a manageably small number of random cho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NSAC is usually be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n’t present in the most general 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general form, the likelihood may not be a linear function of the missing vari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is case, one takes an expectation of the likelihood, rather than substituting expected values of missing vari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sue doesn’t seem to arise in vision applic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odel Selec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 wish to choose a model to fit to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is it a line or a circ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 is this a perspective or orthographic came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is there an aeroplane there or is it noi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general, models with more parameters will fit a dataset better, but are poorer at predi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means we can’t simply look at the negative log-likelihood (or fitting err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719360" y="927000"/>
            <a:ext cx="3657600" cy="2641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562720" y="3675240"/>
            <a:ext cx="3332160" cy="236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933080" y="1203480"/>
            <a:ext cx="404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is not necessarily a 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than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ually, almost always wors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784520" y="828720"/>
            <a:ext cx="707364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09720" y="380880"/>
            <a:ext cx="6718320" cy="4991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633680" y="539424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discount the fitting error with some term in the number of parameters in the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Discount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IC (an information criter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model with smallest value of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 is the number of para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C (Bayes information criter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model with smallest value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is the number of data po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inimum description leng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criterion as BIC, but derived in a completely different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94520" y="3021120"/>
            <a:ext cx="2552760" cy="444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44840" y="2955960"/>
            <a:ext cx="20066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50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Example: Dominant planes in USfM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4895280" y="124776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Pollefeys et al., ECCV’200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3520" y="1879560"/>
            <a:ext cx="7620120" cy="23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wo or three views only sharing points in a plane cause problem for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Verdana"/>
              </a:rPr>
              <a:t>uncalibrate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structure from 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4986" r="0" b="0"/>
          <a:stretch/>
        </p:blipFill>
        <p:spPr>
          <a:xfrm>
            <a:off x="2049480" y="2722680"/>
            <a:ext cx="1400040" cy="151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235400" y="2735280"/>
            <a:ext cx="4407120" cy="1509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23880" y="4465800"/>
            <a:ext cx="76201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olution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tect problem through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model se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lay computation of ambiguous parameters until more information is avail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rcRect l="0" t="50061" r="0" b="0"/>
          <a:stretch/>
        </p:blipFill>
        <p:spPr>
          <a:xfrm>
            <a:off x="1668600" y="2778120"/>
            <a:ext cx="3757320" cy="6984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GRIC: Geometric Robust Information Criterion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6254280" y="119844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(Torr et al., ICCV’9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0" r="0" b="67774"/>
          <a:stretch/>
        </p:blipFill>
        <p:spPr>
          <a:xfrm>
            <a:off x="1773360" y="1800360"/>
            <a:ext cx="3757320" cy="45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448080" y="4351320"/>
            <a:ext cx="2793960" cy="2444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3448080" y="3711600"/>
            <a:ext cx="1235160" cy="243000"/>
            <a:chOff x="3448080" y="3711600"/>
            <a:chExt cx="1235160" cy="243000"/>
          </a:xfrm>
        </p:grpSpPr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3448080" y="3719520"/>
              <a:ext cx="792000" cy="21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5"/>
            <a:stretch/>
          </p:blipFill>
          <p:spPr>
            <a:xfrm>
              <a:off x="4221000" y="3711600"/>
              <a:ext cx="462240" cy="243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" descr=""/>
          <p:cNvPicPr/>
          <p:nvPr/>
        </p:nvPicPr>
        <p:blipFill>
          <a:blip r:embed="rId6"/>
          <a:stretch/>
        </p:blipFill>
        <p:spPr>
          <a:xfrm>
            <a:off x="3448080" y="3997440"/>
            <a:ext cx="4021200" cy="250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3448080" y="5052960"/>
            <a:ext cx="2205000" cy="24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8"/>
          <a:stretch/>
        </p:blipFill>
        <p:spPr>
          <a:xfrm>
            <a:off x="3448080" y="5397480"/>
            <a:ext cx="3110040" cy="223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3448080" y="4727520"/>
            <a:ext cx="2265480" cy="2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971240" y="2638440"/>
            <a:ext cx="3475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bust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(otherwise outliers will make you g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the most expensive model every time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i.e. the model is never good enough for th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968440" y="46720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2b00"/>
                </a:solidFill>
                <a:latin typeface="Verdana"/>
              </a:rPr>
              <a:t>(2D or 3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6021000" y="5021280"/>
            <a:ext cx="21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2b00"/>
                </a:solidFill>
                <a:latin typeface="Verdana"/>
              </a:rPr>
              <a:t>(6 for points in 3 view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640200" y="5330880"/>
            <a:ext cx="237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2b00"/>
                </a:solidFill>
                <a:latin typeface="Verdana"/>
              </a:rPr>
              <a:t>(11x3-15 (PPP) or 8x2(HH)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974920" y="1565280"/>
            <a:ext cx="30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inspired from Kanatani’s G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3987720" y="1911240"/>
            <a:ext cx="88560" cy="609480"/>
          </a:xfrm>
          <a:custGeom>
            <a:avLst/>
            <a:gdLst>
              <a:gd name="textAreaLeft" fmla="*/ 56520 w 88560"/>
              <a:gd name="textAreaRight" fmla="*/ 88920 w 88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4938480" y="1882080"/>
            <a:ext cx="88920" cy="609840"/>
          </a:xfrm>
          <a:custGeom>
            <a:avLst/>
            <a:gdLst>
              <a:gd name="textAreaLeft" fmla="*/ 56880 w 88920"/>
              <a:gd name="textAreaRight" fmla="*/ 89280 w 88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4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3573000" y="220500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2b00"/>
                </a:solidFill>
                <a:latin typeface="Verdana"/>
              </a:rPr>
              <a:t>structur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2b00"/>
                </a:solidFill>
                <a:latin typeface="Verdana"/>
              </a:rPr>
              <a:t>complex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4559040" y="22017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2b00"/>
                </a:solidFill>
                <a:latin typeface="Verdana"/>
              </a:rPr>
              <a:t>mode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2b00"/>
                </a:solidFill>
                <a:latin typeface="Verdana"/>
              </a:rPr>
              <a:t>complex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3733560" y="3263760"/>
            <a:ext cx="11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2b00"/>
                </a:solidFill>
                <a:latin typeface="Verdana"/>
              </a:rPr>
              <a:t>co-dimen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598760" y="258840"/>
            <a:ext cx="6313320" cy="3406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57520" y="3865680"/>
            <a:ext cx="7259400" cy="2825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880080" y="397836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 vs.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7432920" y="404820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PP vs.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H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Last tuesday: Fitting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41320" y="1706400"/>
            <a:ext cx="1036800" cy="1393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24360" y="1706400"/>
            <a:ext cx="1468440" cy="1468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184040"/>
            <a:ext cx="324036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ugh trans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-means fit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-estima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rcRect l="17979" t="30593" r="14603" b="21111"/>
          <a:stretch/>
        </p:blipFill>
        <p:spPr>
          <a:xfrm>
            <a:off x="1623960" y="3724200"/>
            <a:ext cx="2206800" cy="1182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18302" t="28557" r="14820" b="21691"/>
          <a:stretch/>
        </p:blipFill>
        <p:spPr>
          <a:xfrm>
            <a:off x="4033800" y="3691080"/>
            <a:ext cx="2122560" cy="118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9583" t="34199" r="53012" b="29344"/>
          <a:stretch/>
        </p:blipFill>
        <p:spPr>
          <a:xfrm>
            <a:off x="2025720" y="5337000"/>
            <a:ext cx="1684440" cy="1192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rcRect l="60615" t="48224" r="0" b="18628"/>
          <a:stretch/>
        </p:blipFill>
        <p:spPr>
          <a:xfrm>
            <a:off x="3809880" y="5234040"/>
            <a:ext cx="2055960" cy="1257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695920" y="1287360"/>
            <a:ext cx="3332160" cy="53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SA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te hypothe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from minimal dat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rify hypothe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on all the rest of dat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til good enoug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102920" y="5049720"/>
            <a:ext cx="14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fluenc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6684840" y="5210280"/>
            <a:ext cx="1914480" cy="1436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6692760" y="3710160"/>
            <a:ext cx="191484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893960" y="1407960"/>
            <a:ext cx="6975360" cy="51325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174800" y="45244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Hg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7383960" y="3097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Pg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27080" y="165240"/>
            <a:ext cx="1058760" cy="896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225440" y="165240"/>
            <a:ext cx="1059120" cy="896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7821720" y="166680"/>
            <a:ext cx="1058760" cy="897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624640" y="166680"/>
            <a:ext cx="1058760" cy="897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2324160" y="165240"/>
            <a:ext cx="1058760" cy="896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525920" y="166680"/>
            <a:ext cx="1058760" cy="897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6723000" y="166680"/>
            <a:ext cx="1058760" cy="897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9"/>
          <a:stretch/>
        </p:blipFill>
        <p:spPr>
          <a:xfrm>
            <a:off x="3422520" y="165240"/>
            <a:ext cx="10591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Farmhouse 3D model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743120" y="5148360"/>
            <a:ext cx="7176960" cy="15285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986440" y="3960720"/>
            <a:ext cx="2981520" cy="1101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335640" y="1339920"/>
            <a:ext cx="2557440" cy="1131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6033960" y="2817720"/>
            <a:ext cx="2895840" cy="10159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7560" y="1568160"/>
            <a:ext cx="7620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Strateg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tect problem using model se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construct planes and 3D separat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erform self-calib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ssemble reconstruc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ompute poses (for planar p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fine complete reconstr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(bundle adjustm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Key-frame selection in video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gorith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e models for F and H using G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nue tracking as long as #inliers&gt;90%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944800" y="3838680"/>
            <a:ext cx="3200400" cy="24890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846320" y="39258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-G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076360" y="4286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-GRI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4390920" y="4865760"/>
            <a:ext cx="6620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124520" y="49118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4809600" y="49118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rebuchet MS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Cross-valida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plit data set into two pieces, fit to one, and compute negative log-likelihood on the o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verage over multiple different spl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oose the model with the smallest value of this ave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ifference in averages for two different models is an estimate of the difference in KL divergence of the models from the source of the 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odel averaging  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often, it is smarter to use multiple models for prediction than just 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motion capture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 are a small number of schemes that are used to put markers on the bo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iven we know the scheme S and the measurements D, we can estimate the configuration of the body 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 obvious what the scheme is from the data, then averaging makes little differ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n’t, then not averaging underestimates the variance of X --- we think we have a more precise estimate than we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403960" y="1927080"/>
            <a:ext cx="3740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Next class: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finding templates and recognition 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138400" y="6264360"/>
            <a:ext cx="30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: Chapter 22, 2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352680" y="1787400"/>
            <a:ext cx="341784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issing variable problem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many vision problems, if some variables were known the maximum likelihood inference problem would be eas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; if we knew which line each token came from, it would be easy to determine line para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gmentation; if we knew the segment each pixel came from, it would be easy to determine the segment para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damental matrix estimation; if we knew which feature corresponded to which, it would be easy to determine the fundamental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ort of thing happens in statistics, to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issing variable problem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imate appropriate values for the missing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g these in, now estimate parame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estimate appropriate values for missing variables, conti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ess which line gets which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fit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reallocate points to lines, using our knowledge of the 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refit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’ve seen this line of thought before (k-mea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Missing variables - strategy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have a problem with parameters, missing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suggest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erate until converg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 missing variable with expected values, given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x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values of para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 missing variables, choose  parameters to maximise likelihood given fixed values of missing vari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iterate till converg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cate each point to a line with a weight, which is the probability of the point given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it lines to the weighted set of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verges to local extrem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what more general form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Lines and robustnes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have one line, and n po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me from the line, some from “nois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 mixture mod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sh to determ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ne parame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(comes from line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56185" b="0"/>
          <a:stretch/>
        </p:blipFill>
        <p:spPr>
          <a:xfrm>
            <a:off x="2282760" y="4011480"/>
            <a:ext cx="4130640" cy="1354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43629" t="-702" r="0" b="0"/>
          <a:stretch/>
        </p:blipFill>
        <p:spPr>
          <a:xfrm>
            <a:off x="2587680" y="4475160"/>
            <a:ext cx="531180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Estimating the mixture model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e a set of hidden variables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ne for each point.  They are one when the point is on the line, and zero when of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se are known, the negative log-likelihood becomes (the line’s parameters ar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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92360" y="1447560"/>
            <a:ext cx="36226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re K is a normalising constant, kn is the noise intensity (we’ll choose this later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389320" y="4765680"/>
            <a:ext cx="59180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ollefey</cp:lastModifiedBy>
  <dcterms:modified xsi:type="dcterms:W3CDTF">2003-11-20T17:04:39Z</dcterms:modified>
  <cp:revision>98</cp:revision>
  <dc:subject/>
  <dc:title>PowerPoint Presentation</dc:title>
</cp:coreProperties>
</file>