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680" y="3848040"/>
            <a:ext cx="81626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0680" y="384804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160" y="384804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262800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440" y="952200"/>
            <a:ext cx="262800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0200" y="952200"/>
            <a:ext cx="262800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680" y="3848040"/>
            <a:ext cx="262800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440" y="3848040"/>
            <a:ext cx="262800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0200" y="3848040"/>
            <a:ext cx="262800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39830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830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4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830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0680" y="384804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39830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160" y="384804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830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680" y="3848040"/>
            <a:ext cx="8162640" cy="264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9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29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29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29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2600" y="6642000"/>
            <a:ext cx="704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9AA2-4B1D-4DD2-A252-29FD54174F0D}" type="slidenum">
              <a:rPr b="0" i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6642000"/>
            <a:ext cx="955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Ellen L. Walk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Computer Vis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“meaning” in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’s Wald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any cells are on this sli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re a brain tumor her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me some pictures of hor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is the roa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re a safe path to the refrigerat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re is the “widget” on the conveyor bel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there a flaw in the "widget"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is at the do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imina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ed vs. lear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ural network for class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supervised classification via clus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iminat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ed vs. lear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gh Trans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e "parameter space" (also called Hough 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pixel "votes" for "parameter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line = angle, distance from ori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ks in Hough space correspond to objects (e.g. lines) in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ny "space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 space  (x, y) -&gt; inten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gram intensity -&gt; 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gh space {parameters of object} -&gt; 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ature space  (each point is a vector of featur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ari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ib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(error fun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representation &amp; matching for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Recog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b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ature-b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metric Has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calib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model-feature corresponden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 feature focus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e clus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&amp; Pose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pretation tree 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 From 2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e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angles are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ing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pe from Sh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pe from Tex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stal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 Information for 3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S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ge (laser, sona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ed l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ib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alib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polar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D from tou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D from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(non-moving camera or backgro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cal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information from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camera &amp; object 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differently-moving a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roblem solving" rather than mem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ibly some short ans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 is compreh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east 50% "new material" since the mid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s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-7, 9-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starred sections omitted, unless covered in 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ore detail will be on the we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papers - SCARF &amp; UNSCARF, ALVINN and n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 of Computer 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(image 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no assumptions about image 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imilar algorithms for all im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arly always required as preprocessing for HL 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rom signal processing, “linear system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(image understan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s models or other knowledge about image cont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specialized for particular types of im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ques from artificial intelligence (especially non-symbolic A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 Repres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vs. Grayscale vs.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Y (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y vs. loss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M (ppm, pgm, pbm)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ing Phys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mbertian reflection (mat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rtional to angle between light and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from pi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ular reflection (highligh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All or nothing", depending on where camera is, relative to light and su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from illu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pective projection (3D to 2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mogeneous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rix operations for rotation, translation, scale, shear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-level Image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tern matching (binary imag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vs. external corners; object 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y Morph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osion &amp; D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 &amp; Clo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components (recursive &amp; 2-pass algorith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-level Image Processing (Segment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-based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gram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"thresholds" (Ot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image hist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means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on Split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-based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olution operators (e.g. Sobe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ny edge detector (including multiple threshol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-level Image Processing (Segment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istical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re element = te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 - High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ification (not necessarily "object" as we know 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ugh transform (simple "objects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680" y="952200"/>
            <a:ext cx="81626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shape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pace (vector of features is a po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Classific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e/false positive/negative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jection r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d vs. unsuper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8T17:20:15Z</dcterms:created>
  <dc:creator/>
  <dc:description/>
  <dc:language>en-US</dc:language>
  <cp:lastModifiedBy>Ellen Walker</cp:lastModifiedBy>
  <cp:lastPrinted>1999-01-20T20:27:44Z</cp:lastPrinted>
  <dcterms:modified xsi:type="dcterms:W3CDTF">2004-11-16T18:53:20Z</dcterms:modified>
  <cp:revision>37</cp:revision>
  <dc:subject/>
  <dc:title>General</dc:title>
</cp:coreProperties>
</file>