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635-ACED-42A7-88AD-C08591E4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34E-2F5E-4849-B2F3-2F2BDCAC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4D95-146D-4DB5-AB2E-9C79CF6A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5AB-AA89-4CC8-8571-1EB66178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548E-924E-41DB-AE81-F1C34721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5528-730B-4EFA-8536-14539E55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2C63-C064-4404-9767-4A5FB885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3515-883C-43FF-A6BA-DE284AEB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1BD1-38E1-4A60-AD36-56C8C3FF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3137-0F68-4F72-A44D-7E2664AC4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B73B-01D6-4BF2-9AC0-DB5ED2D9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5E7-64F7-4D37-8C20-BE9C915C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F9B2-2F52-469C-B073-08B7564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4958-15AA-42B7-BB5A-E729FC5E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CAE3-D463-44AB-983B-23AA53A6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36F7-2F4C-46F4-A91F-D5A21789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9D45-1C17-4E61-9977-EA14DAD9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FAE7-2412-4F92-920D-8A73A997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582-8C7E-4CA8-8D6F-2AB4AA82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ACF-11B7-47B9-8481-00EB0961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1B3-8081-4511-935D-C2A7FB30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7F0-2FAA-4288-813C-67B07F1C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ED8-4464-4836-97CF-C0181002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515-9CFA-4528-85D0-64584B7A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BB84-D4F5-4349-96A6-25A3A2D9C50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F292-8F54-44C7-9527-77C2E31CAE3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age Segmentation for Digital Camer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580920" y="41907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rishikesh Deshpand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hrishi@cs.stanford.edu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60958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nks: Feng Xiao, Brian Wand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rmalized Cu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19560" y="1828800"/>
            <a:ext cx="2592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atersh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ge-ba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ple threshol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-me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edy graph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lized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85440" y="1905120"/>
            <a:ext cx="3979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resent each pixel as a node in a graph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ges between nodes are assigned weights proportional to their ‘similarity’. Similarity may be based on [luminance,x,y] valu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raph created (should) can be quite sparse [M = O(N)] by removing low-weight edg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raph created can (should) be quite spars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d best 2-way segmentation by finding eigenvectors as proposed in [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</a:rPr>
              <a:t>Shi97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ine a stability criterion and itera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7619760" y="2209680"/>
            <a:ext cx="152640" cy="228600"/>
            <a:chOff x="7619760" y="2209680"/>
            <a:chExt cx="152640" cy="228600"/>
          </a:xfrm>
        </p:grpSpPr>
        <p:sp>
          <p:nvSpPr>
            <p:cNvPr id="294" name=""/>
            <p:cNvSpPr/>
            <p:nvPr/>
          </p:nvSpPr>
          <p:spPr>
            <a:xfrm>
              <a:off x="7620120" y="22096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619760" y="22096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772040" y="2438280"/>
            <a:ext cx="152640" cy="228600"/>
            <a:chOff x="7772040" y="2438280"/>
            <a:chExt cx="152640" cy="228600"/>
          </a:xfrm>
        </p:grpSpPr>
        <p:sp>
          <p:nvSpPr>
            <p:cNvPr id="297" name=""/>
            <p:cNvSpPr/>
            <p:nvPr/>
          </p:nvSpPr>
          <p:spPr>
            <a:xfrm>
              <a:off x="7772400" y="24382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772040" y="24382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8534520" y="274320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381880" y="365760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304812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3352680"/>
            <a:ext cx="371520" cy="19080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81880" y="388620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hdri19_a" descr=""/>
          <p:cNvPicPr/>
          <p:nvPr/>
        </p:nvPicPr>
        <p:blipFill>
          <a:blip r:embed="rId1"/>
          <a:stretch/>
        </p:blipFill>
        <p:spPr>
          <a:xfrm>
            <a:off x="5867280" y="4267080"/>
            <a:ext cx="29876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sul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scuss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arent trade-off between flexibility of segment borders against number/scatter of seg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6400800" y="2819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80880" y="2895120"/>
            <a:ext cx="6096240" cy="3614400"/>
            <a:chOff x="380880" y="2895120"/>
            <a:chExt cx="6096240" cy="3614400"/>
          </a:xfrm>
        </p:grpSpPr>
        <p:sp>
          <p:nvSpPr>
            <p:cNvPr id="311" name=""/>
            <p:cNvSpPr/>
            <p:nvPr/>
          </p:nvSpPr>
          <p:spPr>
            <a:xfrm>
              <a:off x="1676520" y="6019920"/>
              <a:ext cx="480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676520" y="28951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6172200"/>
              <a:ext cx="32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Flexibility of segment bor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0880" y="304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Scatter of se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48320" y="304812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Thresho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57400" y="4952880"/>
              <a:ext cx="190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[l,x,y] Kme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86200" y="34290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[l] Kme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24280" y="4038480"/>
              <a:ext cx="6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81280" y="54864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NCu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6920" y="47242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Greed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scussion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imple de-scatter filt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gment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e({for all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 j=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br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i)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gment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}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: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Verdana"/>
              </a:rPr>
              <a:t>h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7434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tection of skin-reg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-of-art: Probability distribution in color space. P(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kin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s. P(~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ki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ice of color space: RGB, HSV, HcHsSV,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ametric (multivariate Gaussian) vs. Non-parametric (histogram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xelwise decisions – can we leverage segmenta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qu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8109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-mea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edy graph cu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rmalized cu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429000" y="1981080"/>
                <a:ext cx="152388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1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2286000" y="3048120"/>
                <a:ext cx="16383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4191120" y="3048120"/>
                <a:ext cx="23749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um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um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|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371600" y="4876920"/>
                <a:ext cx="166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um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um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371600" y="6019920"/>
                <a:ext cx="13334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u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u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048120" y="6019920"/>
                <a:ext cx="19047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sSubSup>
                      <m:e>
                        <m:r>
                          <m:t xml:space="preserve">f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00400" y="4648320"/>
                <a:ext cx="2692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ue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ue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aturatio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alue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ue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ue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aturation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alue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724280" y="5715000"/>
                <a:ext cx="4229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kin</m:t>
                    </m:r>
                    <m:r>
                      <m:t xml:space="preserve">|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egmen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ix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gmen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i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ix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ix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gmen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i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ix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ix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gment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kin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ixe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mage segment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gmentation = splitting an image into regions based on some criteria (intensity, color, texture, orientation energy, …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enguin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216" name="girl" descr=""/>
          <p:cNvPicPr/>
          <p:nvPr/>
        </p:nvPicPr>
        <p:blipFill>
          <a:blip r:embed="rId2"/>
          <a:stretch/>
        </p:blipFill>
        <p:spPr>
          <a:xfrm>
            <a:off x="3657600" y="31240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217" name="pillars" descr=""/>
          <p:cNvPicPr/>
          <p:nvPr/>
        </p:nvPicPr>
        <p:blipFill>
          <a:blip r:embed="rId3"/>
          <a:stretch/>
        </p:blipFill>
        <p:spPr>
          <a:xfrm>
            <a:off x="6248520" y="312408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y segment images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in for exposure control available for each individual C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5562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about separating the image into regions of differing luminance to capture higher dynamic ra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it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us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of art == multiple global exposures+post-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hdri18_a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00400" cy="2562480"/>
          </a:xfrm>
          <a:prstGeom prst="rect">
            <a:avLst/>
          </a:prstGeom>
          <a:ln w="0">
            <a:noFill/>
          </a:ln>
        </p:spPr>
      </p:pic>
      <p:pic>
        <p:nvPicPr>
          <p:cNvPr id="223" name="hdri18_a.l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20040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etho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lobal Metho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means clust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ctation Maxim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ized Graph C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dy Graph C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981080"/>
            <a:ext cx="6172200" cy="20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ca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tershed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dge-based methds followed by region gr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thresho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didn’t wor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3887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tershed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hdri30_a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3216240" cy="2577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029200" y="19051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1905120"/>
            <a:ext cx="3887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ge-based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hdri30_a" descr=""/>
          <p:cNvPicPr/>
          <p:nvPr/>
        </p:nvPicPr>
        <p:blipFill>
          <a:blip r:embed="rId2"/>
          <a:stretch/>
        </p:blipFill>
        <p:spPr>
          <a:xfrm>
            <a:off x="5105520" y="2362320"/>
            <a:ext cx="3295440" cy="25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imple Threshol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790960" y="1828800"/>
            <a:ext cx="2896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atersh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ge-ba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mple threshol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-me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edy graph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rmalized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979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iformly quantize luminance values into about 8 bi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467120" y="2057400"/>
            <a:ext cx="152640" cy="228600"/>
            <a:chOff x="7467120" y="2057400"/>
            <a:chExt cx="152640" cy="228600"/>
          </a:xfrm>
        </p:grpSpPr>
        <p:sp>
          <p:nvSpPr>
            <p:cNvPr id="237" name=""/>
            <p:cNvSpPr/>
            <p:nvPr/>
          </p:nvSpPr>
          <p:spPr>
            <a:xfrm>
              <a:off x="7467480" y="205740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67120" y="205740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619760" y="2438280"/>
            <a:ext cx="152640" cy="228600"/>
            <a:chOff x="7619760" y="2438280"/>
            <a:chExt cx="152640" cy="228600"/>
          </a:xfrm>
        </p:grpSpPr>
        <p:sp>
          <p:nvSpPr>
            <p:cNvPr id="240" name=""/>
            <p:cNvSpPr/>
            <p:nvPr/>
          </p:nvSpPr>
          <p:spPr>
            <a:xfrm>
              <a:off x="7620120" y="24382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619760" y="24382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8610480" y="2666880"/>
            <a:ext cx="371520" cy="19080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hdri19_a" descr=""/>
          <p:cNvPicPr/>
          <p:nvPr/>
        </p:nvPicPr>
        <p:blipFill>
          <a:blip r:embed="rId1"/>
          <a:stretch/>
        </p:blipFill>
        <p:spPr>
          <a:xfrm>
            <a:off x="5562720" y="4038480"/>
            <a:ext cx="3292200" cy="2640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907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remely scattered segment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1828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K-means Cluster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71840" y="1752480"/>
            <a:ext cx="259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atersh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ge-ba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ple threshol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-me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edy graph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rmalized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37720" y="1981080"/>
            <a:ext cx="44960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resent each pixel in a 1D [luminance] or 3D [luminance,x,y] vector spac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e a fixed number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f segments/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um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itial centers (means) of clusters in this vector spac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ign each pixel to the cluster with the closest mean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-estimate the mean of the cluster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op steps 4, 5. Rule of thumb: K-means converges in 6 iterations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7848360" y="2057400"/>
            <a:ext cx="152640" cy="228600"/>
            <a:chOff x="7848360" y="2057400"/>
            <a:chExt cx="152640" cy="228600"/>
          </a:xfrm>
        </p:grpSpPr>
        <p:sp>
          <p:nvSpPr>
            <p:cNvPr id="250" name=""/>
            <p:cNvSpPr/>
            <p:nvPr/>
          </p:nvSpPr>
          <p:spPr>
            <a:xfrm>
              <a:off x="7848720" y="205740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848360" y="205740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924320" y="2362320"/>
            <a:ext cx="152640" cy="228600"/>
            <a:chOff x="7924320" y="2362320"/>
            <a:chExt cx="152640" cy="228600"/>
          </a:xfrm>
        </p:grpSpPr>
        <p:sp>
          <p:nvSpPr>
            <p:cNvPr id="253" name=""/>
            <p:cNvSpPr/>
            <p:nvPr/>
          </p:nvSpPr>
          <p:spPr>
            <a:xfrm>
              <a:off x="7924680" y="236232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7924320" y="236232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8686800" y="259092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2895480"/>
            <a:ext cx="371520" cy="19080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hdri19_a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368880" cy="2700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14400" y="6172200"/>
            <a:ext cx="259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</a:rPr>
              <a:t>K-means 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72200" y="1828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ectation Maximiz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5520" y="1828440"/>
            <a:ext cx="259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atersh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ge-ba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ple threshol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-mean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edy graph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rmalized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990360" y="182844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resent each pixel in a 1D [luminance] or 3D [luminance,x,y] vector spac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a fixed numbe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segments. Each segment is assumed to be a Gaussian cluster in this vector spac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itial centers and covariances of clusters in this spac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ign pixel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cluster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ith weights corresponding to p(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-estimate the mean, covariances of the cluster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p steps 4, 5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97520" y="2209680"/>
            <a:ext cx="152640" cy="228600"/>
            <a:chOff x="7697520" y="2209680"/>
            <a:chExt cx="152640" cy="228600"/>
          </a:xfrm>
        </p:grpSpPr>
        <p:sp>
          <p:nvSpPr>
            <p:cNvPr id="264" name=""/>
            <p:cNvSpPr/>
            <p:nvPr/>
          </p:nvSpPr>
          <p:spPr>
            <a:xfrm>
              <a:off x="7697880" y="22096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97520" y="22096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849800" y="2514600"/>
            <a:ext cx="152640" cy="228600"/>
            <a:chOff x="7849800" y="2514600"/>
            <a:chExt cx="152640" cy="228600"/>
          </a:xfrm>
        </p:grpSpPr>
        <p:sp>
          <p:nvSpPr>
            <p:cNvPr id="267" name=""/>
            <p:cNvSpPr/>
            <p:nvPr/>
          </p:nvSpPr>
          <p:spPr>
            <a:xfrm>
              <a:off x="7850160" y="251460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849800" y="251460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697960" y="2895480"/>
            <a:ext cx="371520" cy="19080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467480" y="3124080"/>
            <a:ext cx="371520" cy="19080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342900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hdri19_a" descr=""/>
          <p:cNvPicPr/>
          <p:nvPr/>
        </p:nvPicPr>
        <p:blipFill>
          <a:blip r:embed="rId1"/>
          <a:stretch/>
        </p:blipFill>
        <p:spPr>
          <a:xfrm>
            <a:off x="5867280" y="4359240"/>
            <a:ext cx="3056040" cy="24494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90720" y="6400800"/>
            <a:ext cx="2590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</a:rPr>
              <a:t>EM-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1905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reedy Graph Cu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5520" y="1828440"/>
            <a:ext cx="2592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atershe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ge-ba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ple threshold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-me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reedy graph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rmalized cu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761760" y="18284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resent each pixel as a node in a graph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dges between nodes are assigned weights inversely proportional to their ‘similarity’. Similarity may be based on [luminance,x,y] value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graph created (should) can be quite sparse [M = O(N)] by removing high-weight edg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so define criteria for the ‘evidence-of-boundary’ func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o fine’ / ‘Too coarse’ segmentation definitions follow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llow the greedy algorithm [O(M log M) given in [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Verdana"/>
              </a:rPr>
              <a:t>Felz2002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848360" y="2133720"/>
            <a:ext cx="152640" cy="228600"/>
            <a:chOff x="7848360" y="2133720"/>
            <a:chExt cx="152640" cy="228600"/>
          </a:xfrm>
        </p:grpSpPr>
        <p:sp>
          <p:nvSpPr>
            <p:cNvPr id="279" name=""/>
            <p:cNvSpPr/>
            <p:nvPr/>
          </p:nvSpPr>
          <p:spPr>
            <a:xfrm>
              <a:off x="7848720" y="213372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848360" y="213372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8000640" y="2438280"/>
            <a:ext cx="152640" cy="228600"/>
            <a:chOff x="8000640" y="2438280"/>
            <a:chExt cx="152640" cy="228600"/>
          </a:xfrm>
        </p:grpSpPr>
        <p:sp>
          <p:nvSpPr>
            <p:cNvPr id="282" name=""/>
            <p:cNvSpPr/>
            <p:nvPr/>
          </p:nvSpPr>
          <p:spPr>
            <a:xfrm>
              <a:off x="8001000" y="24382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000640" y="2438280"/>
              <a:ext cx="152280" cy="22860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8610480" y="2666880"/>
            <a:ext cx="371520" cy="19080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34320" y="320040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3160" y="293364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20200" y="3657600"/>
            <a:ext cx="371520" cy="190440"/>
          </a:xfrm>
          <a:custGeom>
            <a:avLst/>
            <a:gdLst/>
            <a:ahLst/>
            <a:rect l="l" t="t" r="r" b="b"/>
            <a:pathLst>
              <a:path w="234" h="120">
                <a:moveTo>
                  <a:pt x="0" y="39"/>
                </a:moveTo>
                <a:lnTo>
                  <a:pt x="27" y="120"/>
                </a:lnTo>
                <a:lnTo>
                  <a:pt x="234" y="0"/>
                </a:lnTo>
              </a:path>
            </a:pathLst>
          </a:custGeom>
          <a:noFill/>
          <a:ln w="442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hdri19_a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3139920" cy="2516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095880" y="1828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7T23:23:23Z</dcterms:created>
  <dc:creator>Hrishikesh Deshpande</dc:creator>
  <dc:description/>
  <dc:language>en-US</dc:language>
  <cp:lastModifiedBy>Hrishikesh Deshpande</cp:lastModifiedBy>
  <dcterms:modified xsi:type="dcterms:W3CDTF">2002-03-20T10:34:36Z</dcterms:modified>
  <cp:revision>34</cp:revision>
  <dc:subject/>
  <dc:title>Image Segmentation for Digital Cameras</dc:title>
</cp:coreProperties>
</file>