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9960" y="6172200"/>
            <a:ext cx="200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Perceptual color segm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93480" y="6172200"/>
            <a:ext cx="11167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Slide </a:t>
            </a:r>
            <a:fld id="{F16FDCD4-AFCC-4B6D-B5F7-CF10026D8A34}" type="slidenum">
              <a:rPr b="0" lang="en-US" sz="10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620120" y="3049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304920"/>
            <a:ext cx="861048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ceptual Color Image Seg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gi Chau &amp; Jeff Wal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nter 200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2743200" cy="1828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(x | 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Θ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ing membership of a pixel in clust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i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probability that that pixel takes on its color (position in the color space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knowledge of the color PDF for each cluster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DFs are estimated using histogram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that these are three dimensional PDF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Q Fun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d for every pixel, every seg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icult to calculate exactly: requires summation over all possible combinations of labels of all other pixe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simplifying assumptions to make the problem trac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 only at the 3x3 neighborhood surrounding the pixel in ques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ider a small subset of possible label patterns within that 3x3 squa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48320" y="1447920"/>
          <a:ext cx="1981080" cy="1366560"/>
        </p:xfrm>
        <a:graphic>
          <a:graphicData uri="http://schemas.openxmlformats.org/drawingml/2006/table">
            <a:tbl>
              <a:tblPr/>
              <a:tblGrid>
                <a:gridCol w="660240"/>
                <a:gridCol w="660600"/>
                <a:gridCol w="660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553080" y="3048120"/>
          <a:ext cx="2209680" cy="136656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724280" y="4724280"/>
          <a:ext cx="2209680" cy="1366560"/>
        </p:xfrm>
        <a:graphic>
          <a:graphicData uri="http://schemas.openxmlformats.org/drawingml/2006/table">
            <a:tbl>
              <a:tblPr/>
              <a:tblGrid>
                <a:gridCol w="736560"/>
                <a:gridCol w="736560"/>
                <a:gridCol w="736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3962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iginal pi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n from the Berkeley Segmentation datas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8120" y="154944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arsest level of the perceptual t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tered at a distance of 300in (~7.6 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197160" y="1676520"/>
            <a:ext cx="282276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962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-means clustering with an initial K of 10000 and a threshold of 0.0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e in [x y L a b] 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359160" y="1503360"/>
            <a:ext cx="242568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rged clusters using a LAB difference threshold of 8 and removing clusters occupying less than 5% of the total i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184560" y="1698480"/>
            <a:ext cx="283536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ation of core clusters by associating a pixel with a cluster if its confidence for that cluster is &gt;= 8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put into the multiscale probabilistic relaxation algorith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362400" y="1590840"/>
            <a:ext cx="241776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ain heuristic parameters within the algorithm can influence resul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Number of Clusters for k-Means (more is bet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or PDF’s for each cluster estimated using 3D histograms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al number of bins in histogram hard to predic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rmehdi-Petrou is good at finding the middle of clusters – isn’t confused by texture (see Bag of Grain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ough sometimes we don’t find clean segment boundar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uitive justification of some steps makes setting algorithm parameters difficul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many levels should we u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as for further evalu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compared M&amp;P against another method (Edge Flow) -&gt; but what elements of M&amp;P are actually importan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es SCIELAB-style filtering actually effect the resul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effect of the number of levels us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 effect of the level of blurring of the coarsest imag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n a color image with textures, segment it into regions that would be close to how a person would segment 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 of “color texture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19920" y="3657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9880" y="3657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3657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gorithm (Mirmehdi-Petrou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es how human visual system might process an image by fove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 main step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ceptual tow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-means cluste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ation of initial core clu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scale probabilistic relax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pass information between levels of the tow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32440" y="3098880"/>
            <a:ext cx="162576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ceptual t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6781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man visual system response to colors is dependent on spatial 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tering done in opponent color space: Luminance, Red-Green, Blue-Yellow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ters are weighted sum of Gaussi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-CIELAB (Zhang and Wandel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388280" y="228600"/>
            <a:ext cx="1222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-Means Cluste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5791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uess initial set of means for each clu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ociate each pixel with the cluster closest to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alculate the means for the clu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ration stops when the changes in means is below a certain thresho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629400" y="4038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629400" y="1519200"/>
            <a:ext cx="1828800" cy="1833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620120" y="3429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rge Clust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5791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every cluster, look at its neighboring clu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neighbor’s mean is close enough, merge the two clusters into a bigger clus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ration stops when we cannot find any more clusters to mer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ove insignificant clu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629400" y="4038480"/>
            <a:ext cx="182232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629400" y="15238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20120" y="3429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re Clust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5791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confidences for each pixel-cluster pai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e clusters formed from pixels that have confidences &gt;=80% for that clu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629400" y="4038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629400" y="1523880"/>
            <a:ext cx="1822320" cy="1828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620120" y="34290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914400" y="2362320"/>
                <a:ext cx="541008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num>
                      <m:den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den>
                    </m:f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ltiscale Probabilistic Relax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oose most probable cluster label given all available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Bayes’ Rule and make simplifying assump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vel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L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pends only on level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L+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pixel’s measurement is independent of all oth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 correct, but iteration hel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133720" y="2209680"/>
                <a:ext cx="4651200" cy="154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rg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lim>
                                <m:r>
                                  <m:t xml:space="preserve">k</m:t>
                                </m:r>
                              </m:lim>
                            </m:limLow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r>
                              <m:t xml:space="preserve">∀</m:t>
                            </m:r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∀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 the cluster label for pixel i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14440" y="2606760"/>
                <a:ext cx="8324640" cy="21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</m:sup>
                            </m:sSubSup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l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bSup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|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  <m:r>
                          <m:t xml:space="preserve">,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ℜ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ℑ</m:t>
                                </m:r>
                              </m:sub>
                              <m:sup/>
                              <m:e>
                                <m:nary>
                                  <m:naryPr>
                                    <m:chr m:val="∏"/>
                                    <m:supHide m:val="1"/>
                                  </m:naryPr>
                                  <m:sub>
                                    <m:r>
                                      <m:t xml:space="preserve">ℵ</m:t>
                                    </m:r>
                                  </m:sub>
                                  <m:sup/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(</m:t>
                                        </m:r>
                                        <m:sSub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l</m:t>
                                            </m:r>
                                          </m:sup>
                                        </m:sSubSup>
                                        <m:r>
                                          <m:t xml:space="preserve">|</m:t>
                                        </m:r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=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sSub>
                                              <m:e>
                                                <m:r>
                                                  <m:t xml:space="preserve">θ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=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sSub>
                                              <m:e>
                                                <m:r>
                                                  <m:t xml:space="preserve">θ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</m:sub>
                                        </m:sSub>
                                        <m:r>
                                          <m:t xml:space="preserve">|</m:t>
                                        </m:r>
                                        <m:sSubSup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l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  <m:r>
                                          <m:t xml:space="preserve">)</m:t>
                                        </m:r>
                                      </m:num>
                                      <m:den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</m:acc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</m:sSub>
                                        <m:r>
                                          <m:t xml:space="preserve">=</m:t>
                                        </m:r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sSub>
                                              <m:e>
                                                <m:r>
                                                  <m:t xml:space="preserve">θ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</m:sub>
                                        </m:sSub>
                                        <m:r>
                                          <m:t xml:space="preserve">)</m:t>
                                        </m:r>
                                      </m:den>
                                    </m:f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ltiscale Probabilistic Relax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943600" y="2286000"/>
            <a:ext cx="30492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137160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Probability assignments from previous level. At last level, this is calculated during core cluster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5257800"/>
            <a:ext cx="259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Prior probability of 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(calculated by relative siz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167652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Probability of this pixel occurring in this cluster (calculated using 3D color histogra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5943600" y="4724280"/>
            <a:ext cx="45720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3809880" y="2286000"/>
            <a:ext cx="53352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01:15:23Z</dcterms:created>
  <dc:creator>t</dc:creator>
  <dc:description/>
  <dc:language>en-US</dc:language>
  <cp:lastModifiedBy>Jeffrey Walters</cp:lastModifiedBy>
  <dcterms:modified xsi:type="dcterms:W3CDTF">2003-03-14T00:33:08Z</dcterms:modified>
  <cp:revision>52</cp:revision>
  <dc:subject/>
  <dc:title>Perceptual Color Image Seg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88354545</vt:r8>
  </property>
  <property fmtid="{D5CDD505-2E9C-101B-9397-08002B2CF9AE}" pid="3" name="_AuthorEmail">
    <vt:lpwstr>jwalt@stanford.edu</vt:lpwstr>
  </property>
  <property fmtid="{D5CDD505-2E9C-101B-9397-08002B2CF9AE}" pid="4" name="_AuthorEmailDisplayName">
    <vt:lpwstr>Jeffrey Walters</vt:lpwstr>
  </property>
  <property fmtid="{D5CDD505-2E9C-101B-9397-08002B2CF9AE}" pid="5" name="_EmailSubject">
    <vt:lpwstr/>
  </property>
</Properties>
</file>