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F6C-6E8A-467A-8314-E18F8728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F96-3630-41B5-A8C5-3A4F8FEB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FA5-54AE-4E70-946E-5D8F9F93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F9D-869B-4255-9CDD-4128B53E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52F5-3F91-4301-BD7F-31AFF34F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2088-449E-464B-A4E3-9257C6FD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5503-5892-43B0-BEFF-27714256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2F60-5496-4DCF-B635-CBA0E025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C464-78A9-4BEE-8D6A-C6751CD8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A281-7DD5-4F6F-90E9-705BB1F0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6ED0-BBA2-416E-9C00-35366690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9F2-DF4A-4920-AF11-CCE06C6E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C523-6123-42FF-9015-7D0B814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7007-B4F3-428A-96B2-94918C46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F701-09F9-41DC-BE6C-ED35BCF9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5A81-C8F9-496C-A6A6-CAB9018F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ED03-FB82-4F88-97DC-4D589DB6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ACB-A1DA-4C92-81AB-D0068173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12A-4D27-44A1-A2B7-8F00AAD0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60E5-E398-4E6D-9AB4-5C89D961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DBC9-8FF3-4181-9896-B4442532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DF9-2400-4FC3-ADBD-29CDB0A6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E3A-D081-4A27-B4E7-CE43D6C6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A25-DE6A-433C-B83C-E9C96A3B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6448-E879-42A7-B0AE-4A8F45395713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88F1-D646-4E16-B738-E2C900FBCC1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0400" y="1142640"/>
            <a:ext cx="5151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Image segmentation by clustering in the color spa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IS581 Final Projec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Student: Qifang Xu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Advisor: Dr. Longin Jan Lateck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Project program </a:t>
            </a:r>
            <a:r>
              <a:rPr b="0" lang="en-US" sz="3200" spc="-1" strike="noStrike">
                <a:solidFill>
                  <a:srgbClr val="007572"/>
                </a:solidFill>
                <a:latin typeface="Arial"/>
              </a:rPr>
              <a:t>(3)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92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Mean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meanR =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meanG =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meanB =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981080" y="2514600"/>
                <a:ext cx="1739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r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eights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057400" y="3505320"/>
                <a:ext cx="1752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eights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057400" y="4572000"/>
                <a:ext cx="19051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b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eights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304920"/>
            <a:ext cx="6324480" cy="52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odes for find rgb mean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function [mn] = find_mean(data)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[row, col] = size(data)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sumR = 0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sumG = 0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sumB = 0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count = 0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for i = 1:row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sumR = sumR + data(i, 1) * data(i, col)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sumG = sumG + data(i, 2) * data(i, col)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sumB = sumB + data(i, 3) * data(i, col)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count = count + data(i, col)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thisMean(1) = sumR / count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thisMean(2) = sumG / count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thisMean(3) = sumB / count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mn = thisMean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85406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Project program </a:t>
            </a:r>
            <a:r>
              <a:rPr b="0" lang="en-US" sz="3200" spc="-1" strike="noStrike">
                <a:solidFill>
                  <a:srgbClr val="007572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istance: Euclidean distance between two poin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d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unction [dist] = dist2pt(x, y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ist = sqrt((x(1)-y(1))^2 + (x(2)-y(2))^2 + (x(3)-y(3))^2);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return;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Project program 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(5)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Split2.m 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(provided by Dr. Latecki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[lmainindex,rmainindex,ldata,ldist,rdata,rdist,cluster,no,centroid] = </a:t>
            </a:r>
            <a:r>
              <a:rPr b="0" lang="zh-CN" sz="1400" spc="-1" strike="noStrike">
                <a:solidFill>
                  <a:srgbClr val="cc0066"/>
                </a:solidFill>
                <a:latin typeface="Arial"/>
              </a:rPr>
              <a:t>split2</a:t>
            </a: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(data,dist,a,mainindex,scale,mnp,percentage,cluster,no,centroid)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3200400"/>
          <a:ext cx="4572000" cy="294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200400"/>
                    <a:ext cx="457200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Project program 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(6)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40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recurauto1.m: recursively split data into clusters 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(provided by Dr. Latecki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1. distance histogram (myhist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2. threshold (evo2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3. split (split2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4. find left distance, go to left branch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5. find right distance, go to right branch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6. no new split, stop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Unclustered points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assigned to the clusters with closest distance to the centroids.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Experiments and results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20570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Rgb pictur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Cherry flower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Hous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tige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airplan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ca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people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Resluts 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76520" y="1523880"/>
          <a:ext cx="2743200" cy="19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2743200" cy="19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3276720" cy="266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569960" y="4075200"/>
            <a:ext cx="2689200" cy="1676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495680" y="3733920"/>
            <a:ext cx="3429000" cy="2573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00600" y="342900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Mnp: 30, percent 0.05, cluster number 4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609588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Mnp : 20, percent 0.05, cluster number 7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0666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Original pictures                             segmented picture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Results 2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2743200" cy="1827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343400" y="914400"/>
            <a:ext cx="3581280" cy="2687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295280" y="3962520"/>
            <a:ext cx="2819520" cy="1877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4343400" y="3429000"/>
            <a:ext cx="3809880" cy="2859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0" y="32004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Mnp: 10, percent 0.05, cluster number: 9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Mnp: 50, percent 0.05, cluster number: 3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9144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Original pictures                             Segmented picture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Results 3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14800" y="1295280"/>
            <a:ext cx="3124080" cy="2287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048120" y="348624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62320" y="3733920"/>
            <a:ext cx="1218960" cy="2743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52480" y="10666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Original pictures                  segmented picture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32767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Mnp: 10, percent: 0.05, cluster number: 11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5638680"/>
            <a:ext cx="2057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Mnp: 30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Percent: 0.05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Cluster number: 4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3962160" cy="2685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886200" y="1676520"/>
            <a:ext cx="4648320" cy="34891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91120" y="48769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Image size: 2MB, mnp: 30, cluster number: 5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854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ject Algorith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Project progra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xperiments and result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2895480" cy="1928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038480" y="83808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09480" y="3352680"/>
            <a:ext cx="3657600" cy="274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666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Mnp: 30, Cluster number: 4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32767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Mnp:10, cluster number: 15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2004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Original picture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Results movies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1676520" cy="11383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800600" y="2209680"/>
            <a:ext cx="2590920" cy="19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o predefined cluster numbe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ser interactiv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mputation time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patial information los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annot deal with noise or outliers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age segmentation is to find objects or meaningful part of objects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 types of segmentation method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omogeneity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ontrast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mage segmentation techniqu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egion growing and shrinkin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lustering method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Boundary detecti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ustering Techniques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Segment an image by grouping each elements based on some measure of similarity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Domain spa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spatial domain (row-column (rc) space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color spac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istogram spaces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3399ff"/>
              </a:buClr>
              <a:buSzPct val="85000"/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other complex feature space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ustering Algorithms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asic ide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1. Iteratively divide the space of interest into regions by median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2. stop when the specific criteria is reached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k-means clustering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Recursive region splitting algorithm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standard technique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1. compute histograms for each component of interest (red, green,     blue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2. select a best threshold to split the image into two region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3. Repeat 1 and 2, until no new regions can be created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Project Algorithm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 combination of the k-medoid algorithm and classification tree’s technique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eature space: RGB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mputation time is linear to the number of feature vector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low chart for the projec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85800" y="573120"/>
          <a:ext cx="8001000" cy="587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573120"/>
                    <a:ext cx="80010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Project program 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(1)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ain file: rgbcluster.m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firstauto3(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inputFileName,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</a:rPr>
              <a:t> mnp, </a:t>
            </a:r>
            <a:r>
              <a:rPr b="0" lang="zh-CN" sz="2000" spc="-1" strike="noStrike">
                <a:solidFill>
                  <a:srgbClr val="33cc33"/>
                </a:solidFill>
                <a:latin typeface="Arial"/>
              </a:rPr>
              <a:t>percent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inputFileName: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image for segmentation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</a:rPr>
              <a:t>mnp: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Minimal number of points in each cluste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33cc33"/>
                </a:solidFill>
                <a:latin typeface="Arial"/>
              </a:rPr>
              <a:t>percent: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parameter that delays clustering of points in a margin region. Value: 0.01-- 0.1. Normal value: 0.05.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cc0066"/>
                </a:solidFill>
                <a:latin typeface="Arial"/>
              </a:rPr>
              <a:t>output: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a set of cluster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Project program </a:t>
            </a:r>
            <a:r>
              <a:rPr b="0" lang="en-US" sz="3200" spc="-1" strike="noStrike">
                <a:solidFill>
                  <a:srgbClr val="007572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7829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Color index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each entry: R G B weights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weight is the number of pixels for this color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function [colorWeights] = getStat(data, map)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colorWeights = map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[row, col] = size(map)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for i = 1:row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tmp = find(data==i);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colorWeights(i, col+1) = length(tmp)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return;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42:19Z</dcterms:created>
  <dc:creator>Robbinson</dc:creator>
  <dc:description/>
  <dc:language>en-US</dc:language>
  <cp:lastModifiedBy>Robbinson</cp:lastModifiedBy>
  <dcterms:modified xsi:type="dcterms:W3CDTF">2002-12-04T05:00:57Z</dcterms:modified>
  <cp:revision>51</cp:revision>
  <dc:subject/>
  <dc:title>Image segmentation by clustering in the color space</dc:title>
</cp:coreProperties>
</file>