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886C-82C4-47AB-BA13-FCE94DC8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5734-EC8D-403F-89DB-6D0A4342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C5D0-D824-469B-A897-4260820D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47EC-9F17-43D5-ACB8-A5EE058D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9D78-AE87-49CC-979E-D451C6BD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6FB-44B7-4C3F-AFB9-62B8B2CF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7B6C-8E0D-437D-898E-8026F747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2129-2E1B-4C2C-BAAD-EA51631E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CBFA-F286-4701-9BFA-E0CFA4C9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3F2-79E9-47AE-9B8E-B3056075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C302-7DD9-4A53-AC03-A976B837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4777-EC7A-4639-92F5-24BBC60B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3CFB-87D8-4A81-AE07-0639D1A37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image into seg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eg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oks 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longs to a single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ve some uniform attrib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 the pixel related to it are conn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 merging and spli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129528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gion merging we start with small regions (it can be pixels), and iteratively merge regions which are simi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gion splitting, we start with the whole image, and split regions which are not uni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ethods can be combined. Form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oose a predicate 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lit into disjoint regions any region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 wh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rge any adjacent regions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d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 whi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op when no further merging and splitting i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629400" y="4500720"/>
                <a:ext cx="175104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477120" y="5181480"/>
                <a:ext cx="23637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u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d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286000"/>
            <a:ext cx="28195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22860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352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43200" y="2286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281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82080" y="262728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74240" y="36576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22160" y="36576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46680" y="2362320"/>
            <a:ext cx="4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32480" y="2362320"/>
            <a:ext cx="4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46680" y="2819520"/>
            <a:ext cx="4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48320" y="2833560"/>
            <a:ext cx="4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668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280" y="28195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27200" y="28195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17840" y="28195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32680" y="3657600"/>
            <a:ext cx="4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34320" y="3672000"/>
            <a:ext cx="4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10480" y="3657600"/>
            <a:ext cx="4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65360" y="281952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48720" y="3657600"/>
            <a:ext cx="49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18288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360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26668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505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50532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50532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3505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3120" y="201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800240" y="22860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4382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24382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2209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724280" y="3200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33526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32767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4724280"/>
            <a:ext cx="8048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quadtree, one can use a variation of the split &amp; merge sche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 with splitting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at the final stage: merge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gmentation as 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the image as a set of points in the n-dimensional sp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y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ges: p=(x,y,I(x,y)) in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ges: p =(x,y,R(x,y),G(x,y),B(x,y)) in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= (x,y,vector_of_fe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 Histo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=(R(x,y),G(x,y),B(x,y)) in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ignore the spatial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is stage, we forget the meaning of each coordinate. We deal with arbitrary set of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we first need to “normalize” the featur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 example - convert a color image to the appropriate linear space represent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Again, we can use splitting &amp; mer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149480"/>
            <a:ext cx="8076960" cy="5251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41360" y="5602320"/>
            <a:ext cx="51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, we merge each time the closest neighbo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104940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 the number of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cluster centers and point-cluster correspondences to minimiz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xhaustive search is too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use instead an iterative search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Recall the ideal quantization procedure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038480"/>
            <a:ext cx="76201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cluster centers; allocate points to closest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allocation; compute best cluster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08960" y="96840"/>
            <a:ext cx="241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K-m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05120" y="5029200"/>
            <a:ext cx="6933960" cy="1616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93640" y="548640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function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– clustering with K-means using gray-level and color histograms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rom slides by D.A. forsy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1998720"/>
            <a:ext cx="85345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Sh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-means is a powerful and popular method for clustering. Howe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ssumes a pre-determined number of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“likes” compact clusters. Sometimes, we are looking for long but continues clus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Shif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a window size (usually smal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point 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a weighted mean of the shift in the wind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p := p +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until converg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, use a more standard clustering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191120" y="4933800"/>
                <a:ext cx="23191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window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0" y="34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781680" y="4886280"/>
                <a:ext cx="19814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Shift (cont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28195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3429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3581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3429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3581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3733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3429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3581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3733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3048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3352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66880" y="3048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19520" y="3200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718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4320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200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3828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3429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3429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0968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2971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3048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38280" y="2895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3048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90920" y="3124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5480" y="3429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668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429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3048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19520" y="32004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3048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7180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6688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8195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195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4320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3429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3276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3429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81080" y="2514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81080" y="2438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2362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81080" y="2286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22096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1752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3962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4114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19520" y="4038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3886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6688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3733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909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3581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2209680"/>
            <a:ext cx="4572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method is based on the assumption that points are more and more dense as we are getting near the cluster “central mas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182880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3276360" y="32004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362320" y="35049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3733920"/>
            <a:ext cx="685800" cy="609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71800" y="2895480"/>
            <a:ext cx="685800" cy="6098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1905120"/>
            <a:ext cx="685800" cy="609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81080" y="3276720"/>
            <a:ext cx="685800" cy="609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7400" y="3733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on 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subtr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s the existence of a dominant back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cal flow (use the motion vectors as feat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model mo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the image to layers such that in each layer, there exist a parametric motion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-based 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-based 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dg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ion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ion splitting and mer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-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an sh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&amp;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we are given an image of a paper, and we would like to extract the text from the 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shol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define a threshold T such that each pixel x,y where I(x,y)&lt;T is “tex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etermine the threshold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st choose 128 as a thresho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roblematic for dark image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the median/me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both are not good, as most of the paper is 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-based threshol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the gray level histogram of the im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wo “clusters”: black and wh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ing the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rr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 initial estimate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gment the image using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 the average gray level of each segmen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 a new threshold value: T = ½ (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 until converg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already familiar with this algorithm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with this appro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holes and discontinuities in the segmen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the illu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o not use spatial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 problems can be solved using image processing techniques. For example, we can enhance the result using morphological 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t – How can we overcome the changes in the illumina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ptive Threshold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the image into sub-imag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that the illumination in each sub-images is cons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different threshold for each sub-im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 – use a running window (and use the threshold of the window only for the central pixel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illumination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s without text: we can try to recognize that these regions is unimod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-based 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ould like to use spatial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ssume that neighboring pixels tend to belong to the same segment (not always tru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ge det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oking for the boundaries of the seg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dges usually do not determine close contours. We can try to do it with edge linking (as in Canny’s edge detec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-based 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sic For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R represent the entire image re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: Partitioning R into n subgroups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.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      is a connected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is the partition pred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600200" y="3124080"/>
                <a:ext cx="12193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/>
                      <m:lim>
                        <m:r>
                          <m:t xml:space="preserve">i</m:t>
                        </m:r>
                      </m:lim>
                    </m:limLow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0" y="3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600200" y="3657600"/>
                <a:ext cx="4222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600200" y="4140360"/>
                <a:ext cx="15238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intersect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00200" y="5105520"/>
                <a:ext cx="167652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u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600200" y="4572000"/>
                <a:ext cx="27432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als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group of points as initial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the regions to neighboring pixels using a heuris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or distance from the neighb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otal error in the region (till a certain threshol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m of the differences between neighb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ximal difference from a central pix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some cases, we can also use structural information: the region size and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way we can handle regions with a smoothly varying gray level or co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: How do we choose the starting points ? It is less important if we also can merge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14:50:47Z</dcterms:created>
  <dc:creator>admin</dc:creator>
  <dc:description/>
  <dc:language>en-US</dc:language>
  <cp:lastModifiedBy>admin</cp:lastModifiedBy>
  <dcterms:modified xsi:type="dcterms:W3CDTF">2004-01-25T08:10:34Z</dcterms:modified>
  <cp:revision>32</cp:revision>
  <dc:subject/>
  <dc:title>Segmentation</dc:title>
</cp:coreProperties>
</file>