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ana.lbl.gov/EisenSoftware.htm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mputational Biology, Part 12</a:t>
            </a:r>
            <a:br>
              <a:rPr sz="4400"/>
            </a:br>
            <a:r>
              <a:rPr b="0" lang="en-US" sz="4400" spc="-1" strike="noStrike">
                <a:solidFill>
                  <a:srgbClr val="fc0128"/>
                </a:solidFill>
                <a:latin typeface="Times New Roman"/>
              </a:rPr>
              <a:t>Expression array cluster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F. Mur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004-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rights reser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General Multivariate Datase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given value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ariables for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dependent obser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ct 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trix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isting of vector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roug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ach of leng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ultivariate Sample Mea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mean vect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eng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62120" y="2895480"/>
                <a:ext cx="37335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775480" y="2971800"/>
                <a:ext cx="201276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95288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105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x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5029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ctor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ultivariate Vari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variance vecto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eng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76520" y="2971800"/>
                <a:ext cx="573408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2971800" y="5105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x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ultivariate Vari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30600" y="2971800"/>
                <a:ext cx="362592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971800" y="5105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ctor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variance Matrix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rix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called the </a:t>
            </a:r>
            <a:r>
              <a:rPr b="0" lang="en-US" sz="2800" spc="-1" strike="noStrike">
                <a:solidFill>
                  <a:srgbClr val="d49fff"/>
                </a:solidFill>
                <a:latin typeface="Times New Roman"/>
              </a:rPr>
              <a:t>covariance matri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analogous to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90720" y="2971800"/>
                <a:ext cx="815328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ovariance Matrix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the covariance of a variable with itself is simply the variance of that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819520" y="3962520"/>
                <a:ext cx="36176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nivariate Dis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mple distance between the values of a single variabl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or two observation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922480" y="4021200"/>
                <a:ext cx="3411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Univariate z-score Dis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measure distanc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 units of standard devia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ween the values of a single variabl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two observation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e define the </a:t>
            </a:r>
            <a:r>
              <a:rPr b="0" lang="en-US" sz="3200" spc="-1" strike="noStrike">
                <a:solidFill>
                  <a:srgbClr val="d49fff"/>
                </a:solidFill>
                <a:latin typeface="Times New Roman"/>
              </a:rPr>
              <a:t>z-score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919240" y="4343400"/>
                <a:ext cx="34722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Bivariate Euclidean Dis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ost commonly used measure of distance between two observation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wo variabl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r>
              <a:rPr b="0" lang="en-US" sz="2800" spc="-1" strike="noStrike">
                <a:solidFill>
                  <a:srgbClr val="d49fff"/>
                </a:solidFill>
                <a:latin typeface="Times New Roman"/>
              </a:rPr>
              <a:t>Euclidean d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14200" y="4362480"/>
                <a:ext cx="8883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ultivariate Euclidean Dis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can be extended to more than two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133720" y="3657600"/>
                <a:ext cx="49114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icroarray raw dat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el mRNA from one sample with a red fluorescing probe (Cy5) and mRNA from another sample with a green fluorescene probe (Cy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bridize to a chip with specific DNAs fixed to each w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 amounts of green and red fluoresc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27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ffects of variance and covariance on Euclidean dis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0416200">
            <a:off x="3885840" y="3200400"/>
            <a:ext cx="2895480" cy="9144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81480" y="3581280"/>
            <a:ext cx="152640" cy="152640"/>
          </a:xfrm>
          <a:prstGeom prst="smileyFace">
            <a:avLst>
              <a:gd name="adj" fmla="val 9282"/>
            </a:avLst>
          </a:prstGeom>
          <a:solidFill>
            <a:srgbClr val="00b7a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200400"/>
            <a:ext cx="76320" cy="76320"/>
          </a:xfrm>
          <a:prstGeom prst="donut">
            <a:avLst>
              <a:gd name="adj" fmla="val 50000"/>
            </a:avLst>
          </a:prstGeom>
          <a:solidFill>
            <a:srgbClr val="00b7a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15000" y="3429000"/>
            <a:ext cx="76320" cy="76320"/>
          </a:xfrm>
          <a:prstGeom prst="donut">
            <a:avLst>
              <a:gd name="adj" fmla="val 0"/>
            </a:avLst>
          </a:prstGeom>
          <a:solidFill>
            <a:srgbClr val="00b7a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105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A and B have similar Euclidean distances from the mean, but point B is clearly “more different” from the population than point 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23623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llipse shows the 50% contour of a hypothetical popul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Mahalanobis Distanc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ccount for differences in variance between the variables, and to account for correlations between variables, we use the </a:t>
            </a:r>
            <a:r>
              <a:rPr b="0" lang="en-US" sz="3200" spc="-1" strike="noStrike">
                <a:solidFill>
                  <a:srgbClr val="d49fff"/>
                </a:solidFill>
                <a:latin typeface="Times New Roman"/>
              </a:rPr>
              <a:t>Mahalanobis d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66680" y="4386240"/>
                <a:ext cx="76168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Other distance func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other distance functions, including ones in which the weights on each variable are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ster analysis tools for microarray data most commonly use Pearson correlation coef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Pearson correlation coefficien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57200" y="2743200"/>
                <a:ext cx="8229600" cy="28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</m:e>
                        </m:nary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ffse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ffset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offset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Software for performing microarray cluster analysi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b00e4"/>
                </a:solidFill>
                <a:uFillTx/>
                <a:latin typeface="Times New Roman"/>
                <a:hlinkClick r:id="rId1"/>
              </a:rPr>
              <a:t>http://rana.lbl.gov/EisenSoftware.ht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hael Eisen’s Cluster (Windows on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. de Hoon’s Cluster 3.0 (all O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e viewing (links on same sit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va Tre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le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Input data for cluster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s in rows, conditions in colum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4920" y="2654280"/>
          <a:ext cx="853128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54280"/>
                    <a:ext cx="853128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Hierarchical vs. </a:t>
            </a:r>
            <a:r>
              <a:rPr b="0" i="1" lang="en-US" sz="4400" spc="-1" strike="noStrike">
                <a:solidFill>
                  <a:srgbClr val="8cf4ea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-means clustering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ical builds tree sequentially from the closest pair of points (either genes or condi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means start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andomly chosen seed points, assigns each remaining point to the nearest seed, and repeats this until no point m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ustering genes and condition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s and columns can be clustered independently - hierarchical is preferred for visualizing th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rcRect l="8439" t="9376" r="56258" b="37506"/>
          <a:stretch/>
        </p:blipFill>
        <p:spPr>
          <a:xfrm>
            <a:off x="3886200" y="1676520"/>
            <a:ext cx="4592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Example microarray imag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Data extractio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just fluorescent intensities using standards (as necess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culate ratio of red to green fluoresc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to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round to integ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saturated green=-3 to black = 0 to saturated red = +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1360" y="0"/>
            <a:ext cx="131436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819520" y="762120"/>
            <a:ext cx="5486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NA expression microarray data for 9800 genes (gene number shown vertically) for 0 to 24 h (time shown horizontally) after addition of serum to a human cell line that had been deprived of serum (from http://genome-www.stanford.edu/seru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304920"/>
            <a:ext cx="61862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supervised clustering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y different typ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ierarchical clust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k – means clust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Self-organising m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ill Climb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ulated Annea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84360" y="3657600"/>
            <a:ext cx="755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ll have the same three basic tasks o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Pattern representa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– patterns or features in th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Pattern proximi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– a measure of the distance or similarity defined on pairs of patte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Pattern grouping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– methods and rules used in grouping the patter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52200"/>
            <a:ext cx="7659720" cy="14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cf4ea"/>
                </a:solidFill>
                <a:latin typeface="Times New Roman"/>
              </a:rPr>
              <a:t>Distance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igh dimens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ased on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vector geometr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how close are two data poin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410080" y="3824280"/>
            <a:ext cx="2819160" cy="2272680"/>
            <a:chOff x="5410080" y="3824280"/>
            <a:chExt cx="2819160" cy="2272680"/>
          </a:xfrm>
        </p:grpSpPr>
        <p:grpSp>
          <p:nvGrpSpPr>
            <p:cNvPr id="85" name=""/>
            <p:cNvGrpSpPr/>
            <p:nvPr/>
          </p:nvGrpSpPr>
          <p:grpSpPr>
            <a:xfrm>
              <a:off x="5943240" y="3824280"/>
              <a:ext cx="2133360" cy="1981080"/>
              <a:chOff x="5943240" y="3824280"/>
              <a:chExt cx="2133360" cy="1981080"/>
            </a:xfrm>
          </p:grpSpPr>
          <p:sp>
            <p:nvSpPr>
              <p:cNvPr id="86" name=""/>
              <p:cNvSpPr/>
              <p:nvPr/>
            </p:nvSpPr>
            <p:spPr>
              <a:xfrm>
                <a:off x="5943240" y="3824280"/>
                <a:ext cx="0" cy="198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943240" y="5805360"/>
                <a:ext cx="2133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194160" y="4522680"/>
                <a:ext cx="125640" cy="117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821640" y="4290840"/>
                <a:ext cx="12528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94160" y="4755960"/>
                <a:ext cx="125640" cy="117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96000" y="4057560"/>
                <a:ext cx="125640" cy="115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98200" y="4173480"/>
                <a:ext cx="125640" cy="117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72920" y="5338800"/>
                <a:ext cx="125280" cy="117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281720" y="5182920"/>
                <a:ext cx="125640" cy="117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700040" y="5456160"/>
                <a:ext cx="125640" cy="115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68880" y="4406760"/>
                <a:ext cx="376200" cy="5824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445080" y="3940200"/>
                <a:ext cx="1087560" cy="5824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821640" y="5106960"/>
                <a:ext cx="1254960" cy="5824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5410080" y="3900240"/>
              <a:ext cx="609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imes New Roman"/>
                </a:rPr>
                <a:t>Array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96080" y="5881320"/>
              <a:ext cx="533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imes New Roman"/>
                </a:rPr>
                <a:t>Array 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943600" y="1676520"/>
            <a:ext cx="2514240" cy="1828800"/>
            <a:chOff x="5943600" y="1676520"/>
            <a:chExt cx="2514240" cy="1828800"/>
          </a:xfrm>
        </p:grpSpPr>
        <p:grpSp>
          <p:nvGrpSpPr>
            <p:cNvPr id="102" name=""/>
            <p:cNvGrpSpPr/>
            <p:nvPr/>
          </p:nvGrpSpPr>
          <p:grpSpPr>
            <a:xfrm>
              <a:off x="5948280" y="1679760"/>
              <a:ext cx="2504160" cy="1821600"/>
              <a:chOff x="5948280" y="1679760"/>
              <a:chExt cx="2504160" cy="182160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5948280" y="1679760"/>
                <a:ext cx="811440" cy="455400"/>
                <a:chOff x="5948280" y="1679760"/>
                <a:chExt cx="811440" cy="4554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018840" y="1679760"/>
                  <a:ext cx="670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948280" y="1679760"/>
                  <a:ext cx="8114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760080" y="1679760"/>
                <a:ext cx="845640" cy="455400"/>
                <a:chOff x="6760080" y="1679760"/>
                <a:chExt cx="845640" cy="4554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830280" y="1679760"/>
                  <a:ext cx="70524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ray 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760080" y="1679760"/>
                  <a:ext cx="8456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606440" y="1679760"/>
                <a:ext cx="846000" cy="455400"/>
                <a:chOff x="7606440" y="1679760"/>
                <a:chExt cx="846000" cy="455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677000" y="1679760"/>
                  <a:ext cx="70488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rray 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606440" y="1679760"/>
                  <a:ext cx="84600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948280" y="2135160"/>
                <a:ext cx="811440" cy="455400"/>
                <a:chOff x="5948280" y="2135160"/>
                <a:chExt cx="811440" cy="4554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6018840" y="2135160"/>
                  <a:ext cx="670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ene 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948280" y="2135160"/>
                  <a:ext cx="8114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760080" y="2135160"/>
                <a:ext cx="845640" cy="455400"/>
                <a:chOff x="6760080" y="2135160"/>
                <a:chExt cx="845640" cy="4554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830280" y="2135160"/>
                  <a:ext cx="70524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760080" y="2135160"/>
                  <a:ext cx="8456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606440" y="2135160"/>
                <a:ext cx="846000" cy="455400"/>
                <a:chOff x="7606440" y="2135160"/>
                <a:chExt cx="846000" cy="455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677000" y="2135160"/>
                  <a:ext cx="70488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606440" y="2135160"/>
                  <a:ext cx="84600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5948280" y="2590560"/>
                <a:ext cx="811440" cy="455400"/>
                <a:chOff x="5948280" y="2590560"/>
                <a:chExt cx="811440" cy="455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018840" y="2590560"/>
                  <a:ext cx="670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ene 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48280" y="2590560"/>
                  <a:ext cx="8114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760080" y="2590560"/>
                <a:ext cx="845640" cy="455400"/>
                <a:chOff x="6760080" y="2590560"/>
                <a:chExt cx="845640" cy="455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830280" y="2590560"/>
                  <a:ext cx="70524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760080" y="2590560"/>
                  <a:ext cx="8456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7606440" y="2590560"/>
                <a:ext cx="846000" cy="455400"/>
                <a:chOff x="7606440" y="2590560"/>
                <a:chExt cx="846000" cy="4554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677000" y="2590560"/>
                  <a:ext cx="70488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06440" y="2590560"/>
                  <a:ext cx="84600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948280" y="3045960"/>
                <a:ext cx="811440" cy="455400"/>
                <a:chOff x="5948280" y="3045960"/>
                <a:chExt cx="811440" cy="4554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018840" y="3045960"/>
                  <a:ext cx="670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948280" y="3045960"/>
                  <a:ext cx="8114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760080" y="3045960"/>
                <a:ext cx="845640" cy="455400"/>
                <a:chOff x="6760080" y="3045960"/>
                <a:chExt cx="845640" cy="455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830280" y="3045960"/>
                  <a:ext cx="70524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760080" y="3045960"/>
                  <a:ext cx="84564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606440" y="3045960"/>
                <a:ext cx="846000" cy="455400"/>
                <a:chOff x="7606440" y="3045960"/>
                <a:chExt cx="846000" cy="4554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677000" y="3045960"/>
                  <a:ext cx="70488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06440" y="3045960"/>
                  <a:ext cx="846000" cy="455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" name=""/>
            <p:cNvSpPr/>
            <p:nvPr/>
          </p:nvSpPr>
          <p:spPr>
            <a:xfrm>
              <a:off x="5943600" y="1676520"/>
              <a:ext cx="2514240" cy="1828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105520" y="443880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Gene 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14880" y="469116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Gene 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5720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834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cf4ea"/>
                </a:solidFill>
                <a:latin typeface="Times New Roman"/>
              </a:rPr>
              <a:t>Gene expression vector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23814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41338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2762280"/>
            <a:ext cx="152640" cy="228600"/>
          </a:xfrm>
          <a:prstGeom prst="rect">
            <a:avLst/>
          </a:prstGeom>
          <a:solidFill>
            <a:srgbClr val="00b7a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657600" y="28702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99088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9360" y="261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152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1520" y="5029200"/>
            <a:ext cx="46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- dimensional space: vector is [a,b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313080" y="2212920"/>
            <a:ext cx="0" cy="2925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13080" y="5138640"/>
            <a:ext cx="2129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30800" y="2849400"/>
            <a:ext cx="185760" cy="381240"/>
          </a:xfrm>
          <a:prstGeom prst="rect">
            <a:avLst/>
          </a:prstGeom>
          <a:solidFill>
            <a:srgbClr val="00b7a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13080" y="3835440"/>
            <a:ext cx="1573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4400" y="3230640"/>
            <a:ext cx="0" cy="1908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7720" y="26100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0080" y="510696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6280" y="3579840"/>
            <a:ext cx="185760" cy="382680"/>
          </a:xfrm>
          <a:prstGeom prst="rect">
            <a:avLst/>
          </a:prstGeom>
          <a:solidFill>
            <a:srgbClr val="00b7a5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312720" y="3029040"/>
            <a:ext cx="1017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78440" y="3962520"/>
            <a:ext cx="0" cy="1144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5960" y="5106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59040" y="3452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49600" y="3006720"/>
            <a:ext cx="555840" cy="763560"/>
          </a:xfrm>
          <a:prstGeom prst="line">
            <a:avLst/>
          </a:prstGeom>
          <a:ln w="2844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18680" y="2746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08080" y="510696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ampl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85120" y="3071880"/>
            <a:ext cx="13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ampl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63360" y="990720"/>
            <a:ext cx="119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 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e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07800" y="228600"/>
            <a:ext cx="33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mple 1      sampl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69600" y="990720"/>
            <a:ext cx="236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10:22:39Z</dcterms:created>
  <dc:creator/>
  <dc:description/>
  <dc:language>en-US</dc:language>
  <cp:lastModifiedBy>Robert Murphy</cp:lastModifiedBy>
  <cp:lastPrinted>1996-01-29T15:00:18Z</cp:lastPrinted>
  <dcterms:modified xsi:type="dcterms:W3CDTF">2005-02-25T08:17:52Z</dcterms:modified>
  <cp:revision>24</cp:revision>
  <dc:subject/>
  <dc:title>General</dc:title>
</cp:coreProperties>
</file>