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7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11.wmf" ContentType="image/x-wmf"/>
  <Override PartName="/ppt/media/image26.png" ContentType="image/png"/>
  <Override PartName="/ppt/media/image3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xlsx" ContentType="application/vnd.openxmlformats-officedocument.spreadsheetml.sheet"/>
  <Override PartName="/ppt/embeddings/oleObject6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6047D-679A-4CE8-BC1A-54F4DC147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440" y="387216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83223-494D-4061-BED3-E940F4995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62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4C60B-58F9-4F63-9A79-008127B87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44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6492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4476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DE826-069E-4249-99A2-EAF7AA69A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01C5E-5015-47FB-A8F3-BF7CB919A0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98B87-0C9B-4725-90FF-3621F927EB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3C5B1-5142-42A5-8142-D5CAC702EF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9CCD6-32FB-469F-A20F-B86B09C913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D2A2B-5015-4E82-B76E-87BEE3FC3B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14BA0-7BB4-4130-B772-887F170E55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DB6BB-FEE1-42F3-B922-0077B159F1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F5673-7C5C-4450-A58F-60D3C81D0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462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4EF66-C7FA-4A13-8529-C3673CB779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C1230-3383-456B-86EE-2046C1306A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440" y="387216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E8B44-C663-43E3-8009-0CA9BD217C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462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91EEB-F4ED-4E0F-92F7-B7EEF93963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44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6492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4476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FCA4D-8E58-45D8-B5EC-99673F2F35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B7059-E512-44FC-B426-0E9A4935D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E7669-F162-4F27-89CB-47ECD279D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437E2-A06C-41C7-8A21-22960EEBC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6EA01-2400-4A2E-ACCB-5B18F3B86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E14CA-EDD9-43AC-ABBD-38E07B894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62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DAA90-B529-44A9-AAAC-FAEC646E1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1A59C-5A55-4063-AFC1-867B5832B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1"/>
          </p:nvPr>
        </p:nvSpPr>
        <p:spPr>
          <a:xfrm>
            <a:off x="1371240" y="6476760"/>
            <a:ext cx="6248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2"/>
          </p:nvPr>
        </p:nvSpPr>
        <p:spPr>
          <a:xfrm>
            <a:off x="7696080" y="647676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D0A6-D78D-482D-9734-38ACB3B79C3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3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8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3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3"/>
          </p:nvPr>
        </p:nvSpPr>
        <p:spPr>
          <a:xfrm>
            <a:off x="1371240" y="6476760"/>
            <a:ext cx="6248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4"/>
          </p:nvPr>
        </p:nvSpPr>
        <p:spPr>
          <a:xfrm>
            <a:off x="7696080" y="647676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7F42-F072-4CAA-8DEA-939111DDBFF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6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2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3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4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package" Target="../embeddings/oleObject1.xlsx"/><Relationship Id="rId8" Type="http://schemas.openxmlformats.org/officeDocument/2006/relationships/image" Target="../media/image16.wmf"/><Relationship Id="rId9" Type="http://schemas.openxmlformats.org/officeDocument/2006/relationships/package" Target="../embeddings/oleObject2.xlsx"/><Relationship Id="rId10" Type="http://schemas.openxmlformats.org/officeDocument/2006/relationships/image" Target="../media/image16.wmf"/><Relationship Id="rId11" Type="http://schemas.openxmlformats.org/officeDocument/2006/relationships/package" Target="../embeddings/oleObject3.xlsx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package" Target="../embeddings/oleObject1.xlsx"/><Relationship Id="rId6" Type="http://schemas.openxmlformats.org/officeDocument/2006/relationships/image" Target="../media/image16.wmf"/><Relationship Id="rId7" Type="http://schemas.openxmlformats.org/officeDocument/2006/relationships/package" Target="../embeddings/oleObject2.xlsx"/><Relationship Id="rId8" Type="http://schemas.openxmlformats.org/officeDocument/2006/relationships/image" Target="../media/image16.wmf"/><Relationship Id="rId9" Type="http://schemas.openxmlformats.org/officeDocument/2006/relationships/package" Target="../embeddings/oleObject3.xlsx"/><Relationship Id="rId10" Type="http://schemas.openxmlformats.org/officeDocument/2006/relationships/image" Target="../media/image16.wmf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T4727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ata Mining &amp;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Knowledge Discove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40458c"/>
                </a:solidFill>
                <a:latin typeface="Tahoma"/>
              </a:rPr>
              <a:t>Lecture 9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40458c"/>
                </a:solidFill>
                <a:latin typeface="Tahoma"/>
              </a:rPr>
              <a:t>Lecturer: Dr. Robert Gy</a:t>
            </a: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ő</a:t>
            </a:r>
            <a:r>
              <a:rPr b="0" lang="en-IE" sz="3200" spc="-1" strike="noStrike">
                <a:solidFill>
                  <a:srgbClr val="40458c"/>
                </a:solidFill>
                <a:latin typeface="Tahoma"/>
              </a:rPr>
              <a:t>r</a:t>
            </a:r>
            <a:r>
              <a:rPr b="0" lang="hu-HU" sz="3200" spc="-1" strike="noStrike">
                <a:solidFill>
                  <a:srgbClr val="40458c"/>
                </a:solidFill>
                <a:latin typeface="Tahoma"/>
              </a:rPr>
              <a:t>ö</a:t>
            </a:r>
            <a:r>
              <a:rPr b="0" lang="en-IE" sz="3200" spc="-1" strike="noStrike">
                <a:solidFill>
                  <a:srgbClr val="40458c"/>
                </a:solidFill>
                <a:latin typeface="Tahoma"/>
              </a:rPr>
              <a:t>d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C6644-97BF-4082-A8B5-9FBCE3EA7E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ype of data in clustering analysi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Interval-scaled variabl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Binary variabl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Nominal, ordinal, and ratio variabl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Variables of mixed typ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A8EE6-87CB-47D3-AAA2-81900CA4AB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nterval-valued variabl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andardize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lculate the mean absolute deviatio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alculate the standardized measurement (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z-scor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ing mean absolute deviation is more robust than using standard devi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438280" y="3276720"/>
                <a:ext cx="24512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057400" y="2514600"/>
                <a:ext cx="43434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(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429000" y="4343400"/>
                <a:ext cx="14097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0ECB5-F6ED-413D-BFAA-93E9D9003A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imilarity and Dissimilarity Between Objects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1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istanc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re normally used to measure the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similarity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r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dissimilarity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between two data objec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ome popular ones include: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Minkowski distanc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= (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i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i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…,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ip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 and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 j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= (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j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j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…,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jp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 are two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dimensional data objects, and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s a positive integ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s Manhattan dist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905120" y="2971800"/>
                <a:ext cx="5181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q</m:t>
                        </m:r>
                      </m:deg>
                      <m:e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p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q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514600" y="5016600"/>
                <a:ext cx="4521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11D67-0378-4ED8-BD7D-1E6285EB4B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imilarity and Dissimilarity Between Objects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2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If q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 d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s Euclidean distanc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perti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d(i,j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d(i,i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= 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d(i,j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d(j,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d(i,j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d(i,k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+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d(k,j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so one can use weighted distance, parametric Pearson product moment correlation, or other disimilarity measur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981080" y="1981080"/>
                <a:ext cx="517068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p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C4319-206D-4ED4-B623-0FCB990D76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Binary Variabl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contingency table for binary da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mple matching coefficient (invariant, if the binary variable is </a:t>
            </a:r>
            <a:r>
              <a:rPr b="0" i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symmetric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accard coefficient (noninvariant if the binary variable is </a:t>
            </a:r>
            <a:r>
              <a:rPr b="0" i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asymmetric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352680" y="4699080"/>
                <a:ext cx="3067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352680" y="5689440"/>
                <a:ext cx="2552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8" name=""/>
          <p:cNvGrpSpPr/>
          <p:nvPr/>
        </p:nvGrpSpPr>
        <p:grpSpPr>
          <a:xfrm>
            <a:off x="1523880" y="1981080"/>
            <a:ext cx="5257800" cy="2286000"/>
            <a:chOff x="1523880" y="1981080"/>
            <a:chExt cx="5257800" cy="2286000"/>
          </a:xfrm>
        </p:grpSpPr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2743200" y="2438280"/>
                  <a:ext cx="2895480" cy="16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/>
                          <m:e>
                            <m:r>
                              <m:t xml:space="preserve">1</m:t>
                            </m:r>
                          </m:e>
                          <m:e>
                            <m:r>
                              <m:t xml:space="preserve">0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um</m:t>
                            </m:r>
                          </m:e>
                        </m:mr>
                        <m:mr>
                          <m:e>
                            <m:r>
                              <m:t xml:space="preserve">1</m:t>
                            </m:r>
                          </m:e>
                          <m:e>
                            <m:r>
                              <m:t xml:space="preserve">a</m:t>
                            </m:r>
                          </m:e>
                          <m:e>
                            <m:r>
                              <m:t xml:space="preserve">b</m:t>
                            </m:r>
                          </m:e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mr>
                        <m:mr>
                          <m:e>
                            <m:r>
                              <m:t xml:space="preserve">0</m:t>
                            </m:r>
                          </m:e>
                          <m:e>
                            <m:r>
                              <m:t xml:space="preserve">c</m:t>
                            </m:r>
                          </m:e>
                          <m:e>
                            <m:r>
                              <m:t xml:space="preserve">d</m:t>
                            </m:r>
                          </m:e>
                          <m:e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mr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um</m:t>
                            </m:r>
                          </m:e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  <m:e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  <m:e>
                            <m:r>
                              <m:t xml:space="preserve">p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"/>
            <p:cNvSpPr/>
            <p:nvPr/>
          </p:nvSpPr>
          <p:spPr>
            <a:xfrm>
              <a:off x="1905120" y="2743200"/>
              <a:ext cx="4876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29000" y="2286000"/>
              <a:ext cx="0" cy="19810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23880" y="3276360"/>
              <a:ext cx="106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imes New Roman"/>
                </a:rPr>
                <a:t>Object </a:t>
              </a:r>
              <a:r>
                <a:rPr b="1" i="1" lang="en-US" sz="2000" spc="-1" strike="noStrike">
                  <a:solidFill>
                    <a:srgbClr val="40458c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38480" y="19810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imes New Roman"/>
                </a:rPr>
                <a:t>Object  </a:t>
              </a:r>
              <a:r>
                <a:rPr b="1" i="1" lang="en-US" sz="2000" spc="-1" strike="noStrike">
                  <a:solidFill>
                    <a:srgbClr val="40458c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50E07-21C5-4408-9148-C82389EB82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issimilarity between Binary Variable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gender is a symmetric attribut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e remaining attributes are asymmetric binar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et the values Y and P be set to 1, and the value N be set to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143000" y="2057400"/>
          <a:ext cx="6932520" cy="1600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057400"/>
                    <a:ext cx="69325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828800" y="4724280"/>
                <a:ext cx="41911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ack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ar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ack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ji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ji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ar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3EE3D-DE74-46C1-9CF2-70CA758A63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Nominal Variabl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generalization of the binary variable in that it can take more than 2 states, e.g., red, yellow, blue, gre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thod 1: Simple match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: # of matches,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 p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: total # of variab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thod 2: use a large number of binary variab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reating a new binary variable for each of the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nominal stat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3124080" y="3733920"/>
                <a:ext cx="2133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0220A-7936-4E05-872F-616E0E4E4D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rdinal Variabl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 ordinal variable can be discrete or continuo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rder is important, e.g., ran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n be treated like interval-scaled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placing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40458c"/>
                </a:solidFill>
                <a:latin typeface="Tahoma"/>
              </a:rPr>
              <a:t>if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by their rank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p the range of each variable onto [0, 1] by replacing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 i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th object in the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th variable b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mpute the dissimilarity using methods for interval-scaled variab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276720" y="4191120"/>
                <a:ext cx="243828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5257800" y="2997360"/>
                <a:ext cx="2209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E05F8-8024-4B9E-A398-0D14CF7BCF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Ratio-Scaled Variabl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Ratio-scaled variabl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a positive measurement on a nonlinear scale, approximately at exponential scale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uch a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Ae</a:t>
            </a:r>
            <a:r>
              <a:rPr b="0" i="1" lang="en-US" sz="2400" spc="-1" strike="noStrike" baseline="30000">
                <a:solidFill>
                  <a:srgbClr val="40458c"/>
                </a:solidFill>
                <a:latin typeface="Tahoma"/>
              </a:rPr>
              <a:t>B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r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Ae</a:t>
            </a:r>
            <a:r>
              <a:rPr b="0" i="1" lang="en-US" sz="2400" spc="-1" strike="noStrike" baseline="30000">
                <a:solidFill>
                  <a:srgbClr val="40458c"/>
                </a:solidFill>
                <a:latin typeface="Tahoma"/>
              </a:rPr>
              <a:t>-B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thod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reat them like interval-scaled variables — </a:t>
            </a:r>
            <a:r>
              <a:rPr b="0" i="1" lang="en-US" sz="2000" spc="-1" strike="noStrike">
                <a:solidFill>
                  <a:srgbClr val="6f89f7"/>
                </a:solidFill>
                <a:latin typeface="Tahoma"/>
              </a:rPr>
              <a:t>not a good choice! (why?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pply logarithmic transform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40458c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 log(x</a:t>
            </a:r>
            <a:r>
              <a:rPr b="0" i="1" lang="en-US" sz="2400" spc="-1" strike="noStrike" baseline="-25000">
                <a:solidFill>
                  <a:srgbClr val="40458c"/>
                </a:solidFill>
                <a:latin typeface="Tahoma"/>
              </a:rPr>
              <a:t>if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reat them as continuous ordinal data treat their rank as interval-scale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E8AD8-9CBA-4EF3-8030-89D9583893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Variables of Mixed Typ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database may contain all the six types of variab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ymmetric binary, asymmetric binary, nominal, ordinal, interval and rat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e may use a weighted formula to combine their effect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is binary or nominal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ahoma"/>
              </a:rPr>
              <a:t>(f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= 0  if x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= x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jf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, or d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ij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ahoma"/>
              </a:rPr>
              <a:t>(f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= 1 o.w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is interval-based: use the normalized distan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is ordinal or ratio-scal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mpute ranks r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if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nd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d treat z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if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s interval-scal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362320" y="3048120"/>
                <a:ext cx="41749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sup>
                        </m:sSubSup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</m:sSubSup>
                        <m:sSubSup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724280" y="5670720"/>
                <a:ext cx="162252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86C9D-A170-4F39-BD42-216AD8BFF2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is Cluster Analysi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ypes of Data in Cluster Analy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Categorization of Major Clustering Metho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titioning Metho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erarchical Metho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ity-Based Metho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rid-Based Metho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del-Based Clustering Metho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utlier Analy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blems and Challeng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EA297-0FBF-45AF-97B2-8824A61C68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ajor Clustering Approach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Partitioning algorithm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: Construct various partitions and then evaluate them by some criter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Hierarchy algorithm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: Create a hierarchical decomposition of the set of data (or objects) using some criter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Density-based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: based on connectivity and density functio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Grid-based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: based on a multiple-level granularity structur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Model-based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: A model is hypothesized for each of the clusters and the idea is to find the best fit of that model to each oth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1AA2A-A23C-4E63-BF6C-443EA0580C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Partitioning Algorithms: Basic Concep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Partitioning method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Construct a partition of a databas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f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bjects into a set of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clust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iven a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find a partition of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k cluster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at optimizes the chosen partitioning criter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lobal optimal: exhaustively enumerate all partitio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euristic methods: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k-mean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k-medoid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lgorithm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k-mean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(MacQueen’67): Each cluster is represented by the center of the clust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k-medoid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or PAM (Partition around medoids) (Kaufman &amp; Rousseeuw’87): Each cluster is represented by one of the objects in the clust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4D7A-CC5C-42A5-9F0F-961FCC9F80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K-Means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Clustering Method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iven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the </a:t>
            </a:r>
            <a:r>
              <a:rPr b="0" i="1" lang="en-US" sz="2800" spc="-1" strike="noStrike">
                <a:solidFill>
                  <a:srgbClr val="40458c"/>
                </a:solidFill>
                <a:latin typeface="Tahoma"/>
              </a:rPr>
              <a:t>k-mean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algorithm is implemented in 4 step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tition objects into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nonempty subs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pute seed points as the centroids of the clusters of the current partition.  The centroid is the center (mean point) of the clu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sign each object to the cluster with the nearest seed point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o back to Step 2, stop when no more new assignmen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FD035-E33E-4AA3-B515-2658AA549E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 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K-Means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Clustering Method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743200" y="1905120"/>
            <a:ext cx="2286000" cy="2057400"/>
            <a:chOff x="2743200" y="1905120"/>
            <a:chExt cx="2286000" cy="2057400"/>
          </a:xfrm>
        </p:grpSpPr>
        <p:graphicFrame>
          <p:nvGraphicFramePr>
            <p:cNvPr id="300" name=""/>
            <p:cNvGraphicFramePr/>
            <p:nvPr/>
          </p:nvGraphicFramePr>
          <p:xfrm>
            <a:off x="2743200" y="1905120"/>
            <a:ext cx="2286000" cy="20574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43200" y="1905120"/>
                      <a:ext cx="228600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>
              <a:off x="3255480" y="2253240"/>
              <a:ext cx="909000" cy="1384560"/>
            </a:xfrm>
            <a:custGeom>
              <a:avLst/>
              <a:gdLst/>
              <a:ahLst/>
              <a:rect l="l" t="t" r="r" b="b"/>
              <a:pathLst>
                <a:path w="852" h="1260">
                  <a:moveTo>
                    <a:pt x="518" y="280"/>
                  </a:moveTo>
                  <a:cubicBezTo>
                    <a:pt x="509" y="187"/>
                    <a:pt x="497" y="69"/>
                    <a:pt x="392" y="36"/>
                  </a:cubicBezTo>
                  <a:cubicBezTo>
                    <a:pt x="339" y="0"/>
                    <a:pt x="309" y="15"/>
                    <a:pt x="237" y="21"/>
                  </a:cubicBezTo>
                  <a:cubicBezTo>
                    <a:pt x="194" y="31"/>
                    <a:pt x="168" y="45"/>
                    <a:pt x="133" y="73"/>
                  </a:cubicBezTo>
                  <a:cubicBezTo>
                    <a:pt x="84" y="168"/>
                    <a:pt x="20" y="262"/>
                    <a:pt x="0" y="369"/>
                  </a:cubicBezTo>
                  <a:cubicBezTo>
                    <a:pt x="5" y="481"/>
                    <a:pt x="3" y="584"/>
                    <a:pt x="44" y="688"/>
                  </a:cubicBezTo>
                  <a:cubicBezTo>
                    <a:pt x="78" y="870"/>
                    <a:pt x="173" y="1057"/>
                    <a:pt x="362" y="1117"/>
                  </a:cubicBezTo>
                  <a:cubicBezTo>
                    <a:pt x="415" y="1152"/>
                    <a:pt x="347" y="1112"/>
                    <a:pt x="429" y="1139"/>
                  </a:cubicBezTo>
                  <a:cubicBezTo>
                    <a:pt x="437" y="1142"/>
                    <a:pt x="443" y="1150"/>
                    <a:pt x="451" y="1154"/>
                  </a:cubicBezTo>
                  <a:cubicBezTo>
                    <a:pt x="473" y="1165"/>
                    <a:pt x="501" y="1168"/>
                    <a:pt x="525" y="1176"/>
                  </a:cubicBezTo>
                  <a:cubicBezTo>
                    <a:pt x="562" y="1201"/>
                    <a:pt x="581" y="1218"/>
                    <a:pt x="622" y="1228"/>
                  </a:cubicBezTo>
                  <a:cubicBezTo>
                    <a:pt x="684" y="1260"/>
                    <a:pt x="714" y="1249"/>
                    <a:pt x="792" y="1243"/>
                  </a:cubicBezTo>
                  <a:cubicBezTo>
                    <a:pt x="852" y="1183"/>
                    <a:pt x="819" y="1088"/>
                    <a:pt x="785" y="1021"/>
                  </a:cubicBezTo>
                  <a:cubicBezTo>
                    <a:pt x="770" y="992"/>
                    <a:pt x="773" y="979"/>
                    <a:pt x="748" y="954"/>
                  </a:cubicBezTo>
                  <a:cubicBezTo>
                    <a:pt x="735" y="917"/>
                    <a:pt x="711" y="888"/>
                    <a:pt x="688" y="858"/>
                  </a:cubicBezTo>
                  <a:cubicBezTo>
                    <a:pt x="676" y="821"/>
                    <a:pt x="643" y="795"/>
                    <a:pt x="622" y="762"/>
                  </a:cubicBezTo>
                  <a:cubicBezTo>
                    <a:pt x="616" y="753"/>
                    <a:pt x="613" y="742"/>
                    <a:pt x="607" y="732"/>
                  </a:cubicBezTo>
                  <a:cubicBezTo>
                    <a:pt x="603" y="724"/>
                    <a:pt x="597" y="717"/>
                    <a:pt x="592" y="710"/>
                  </a:cubicBezTo>
                  <a:cubicBezTo>
                    <a:pt x="580" y="671"/>
                    <a:pt x="589" y="694"/>
                    <a:pt x="555" y="643"/>
                  </a:cubicBezTo>
                  <a:cubicBezTo>
                    <a:pt x="550" y="636"/>
                    <a:pt x="540" y="621"/>
                    <a:pt x="540" y="621"/>
                  </a:cubicBezTo>
                  <a:cubicBezTo>
                    <a:pt x="519" y="510"/>
                    <a:pt x="518" y="392"/>
                    <a:pt x="518" y="280"/>
                  </a:cubicBezTo>
                  <a:close/>
                </a:path>
              </a:pathLst>
            </a:custGeom>
            <a:noFill/>
            <a:ln w="1908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73240" y="2618280"/>
              <a:ext cx="819720" cy="692280"/>
            </a:xfrm>
            <a:custGeom>
              <a:avLst/>
              <a:gdLst/>
              <a:ahLst/>
              <a:rect l="l" t="t" r="r" b="b"/>
              <a:pathLst>
                <a:path w="768" h="630">
                  <a:moveTo>
                    <a:pt x="183" y="67"/>
                  </a:moveTo>
                  <a:cubicBezTo>
                    <a:pt x="146" y="41"/>
                    <a:pt x="112" y="61"/>
                    <a:pt x="72" y="74"/>
                  </a:cubicBezTo>
                  <a:cubicBezTo>
                    <a:pt x="13" y="114"/>
                    <a:pt x="28" y="107"/>
                    <a:pt x="5" y="170"/>
                  </a:cubicBezTo>
                  <a:cubicBezTo>
                    <a:pt x="8" y="217"/>
                    <a:pt x="0" y="266"/>
                    <a:pt x="13" y="311"/>
                  </a:cubicBezTo>
                  <a:cubicBezTo>
                    <a:pt x="19" y="331"/>
                    <a:pt x="45" y="339"/>
                    <a:pt x="57" y="356"/>
                  </a:cubicBezTo>
                  <a:cubicBezTo>
                    <a:pt x="92" y="407"/>
                    <a:pt x="72" y="390"/>
                    <a:pt x="109" y="415"/>
                  </a:cubicBezTo>
                  <a:cubicBezTo>
                    <a:pt x="145" y="467"/>
                    <a:pt x="187" y="508"/>
                    <a:pt x="235" y="548"/>
                  </a:cubicBezTo>
                  <a:cubicBezTo>
                    <a:pt x="243" y="555"/>
                    <a:pt x="248" y="565"/>
                    <a:pt x="257" y="570"/>
                  </a:cubicBezTo>
                  <a:cubicBezTo>
                    <a:pt x="283" y="584"/>
                    <a:pt x="305" y="583"/>
                    <a:pt x="331" y="593"/>
                  </a:cubicBezTo>
                  <a:cubicBezTo>
                    <a:pt x="371" y="608"/>
                    <a:pt x="408" y="621"/>
                    <a:pt x="450" y="630"/>
                  </a:cubicBezTo>
                  <a:cubicBezTo>
                    <a:pt x="498" y="625"/>
                    <a:pt x="551" y="623"/>
                    <a:pt x="598" y="607"/>
                  </a:cubicBezTo>
                  <a:cubicBezTo>
                    <a:pt x="618" y="600"/>
                    <a:pt x="657" y="585"/>
                    <a:pt x="657" y="585"/>
                  </a:cubicBezTo>
                  <a:cubicBezTo>
                    <a:pt x="675" y="536"/>
                    <a:pt x="651" y="594"/>
                    <a:pt x="687" y="533"/>
                  </a:cubicBezTo>
                  <a:cubicBezTo>
                    <a:pt x="698" y="514"/>
                    <a:pt x="717" y="474"/>
                    <a:pt x="717" y="474"/>
                  </a:cubicBezTo>
                  <a:cubicBezTo>
                    <a:pt x="719" y="462"/>
                    <a:pt x="720" y="449"/>
                    <a:pt x="724" y="437"/>
                  </a:cubicBezTo>
                  <a:cubicBezTo>
                    <a:pt x="727" y="429"/>
                    <a:pt x="736" y="423"/>
                    <a:pt x="739" y="415"/>
                  </a:cubicBezTo>
                  <a:cubicBezTo>
                    <a:pt x="750" y="382"/>
                    <a:pt x="760" y="332"/>
                    <a:pt x="768" y="296"/>
                  </a:cubicBezTo>
                  <a:cubicBezTo>
                    <a:pt x="766" y="257"/>
                    <a:pt x="766" y="217"/>
                    <a:pt x="761" y="178"/>
                  </a:cubicBezTo>
                  <a:cubicBezTo>
                    <a:pt x="754" y="127"/>
                    <a:pt x="750" y="142"/>
                    <a:pt x="724" y="111"/>
                  </a:cubicBezTo>
                  <a:cubicBezTo>
                    <a:pt x="653" y="27"/>
                    <a:pt x="566" y="24"/>
                    <a:pt x="465" y="0"/>
                  </a:cubicBezTo>
                  <a:cubicBezTo>
                    <a:pt x="370" y="4"/>
                    <a:pt x="294" y="6"/>
                    <a:pt x="205" y="30"/>
                  </a:cubicBezTo>
                  <a:cubicBezTo>
                    <a:pt x="154" y="63"/>
                    <a:pt x="144" y="53"/>
                    <a:pt x="183" y="67"/>
                  </a:cubicBezTo>
                  <a:close/>
                </a:path>
              </a:pathLst>
            </a:custGeom>
            <a:noFill/>
            <a:ln w="1908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181480" y="1905120"/>
            <a:ext cx="3200400" cy="2057400"/>
            <a:chOff x="5181480" y="1905120"/>
            <a:chExt cx="3200400" cy="2057400"/>
          </a:xfrm>
        </p:grpSpPr>
        <p:grpSp>
          <p:nvGrpSpPr>
            <p:cNvPr id="305" name=""/>
            <p:cNvGrpSpPr/>
            <p:nvPr/>
          </p:nvGrpSpPr>
          <p:grpSpPr>
            <a:xfrm>
              <a:off x="6095880" y="1905120"/>
              <a:ext cx="2286000" cy="2057400"/>
              <a:chOff x="6095880" y="1905120"/>
              <a:chExt cx="2286000" cy="2057400"/>
            </a:xfrm>
          </p:grpSpPr>
          <p:graphicFrame>
            <p:nvGraphicFramePr>
              <p:cNvPr id="306" name=""/>
              <p:cNvGraphicFramePr/>
              <p:nvPr/>
            </p:nvGraphicFramePr>
            <p:xfrm>
              <a:off x="6095880" y="1905120"/>
              <a:ext cx="2286000" cy="2057400"/>
            </p:xfrm>
            <a:graphic>
              <a:graphicData uri="http://schemas.openxmlformats.org/presentationml/2006/ole">
                <p:oleObj progId="Excel.Sheet.12" r:id="rId4" spid="">
                  <p:embed/>
                  <p:pic>
                    <p:nvPicPr>
                      <p:cNvPr id="307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095880" y="1905120"/>
                        <a:ext cx="2286000" cy="205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8" name=""/>
              <p:cNvSpPr/>
              <p:nvPr/>
            </p:nvSpPr>
            <p:spPr>
              <a:xfrm>
                <a:off x="6569640" y="2221560"/>
                <a:ext cx="909000" cy="1384920"/>
              </a:xfrm>
              <a:custGeom>
                <a:avLst/>
                <a:gdLst/>
                <a:ahLst/>
                <a:rect l="l" t="t" r="r" b="b"/>
                <a:pathLst>
                  <a:path w="852" h="1260">
                    <a:moveTo>
                      <a:pt x="518" y="280"/>
                    </a:moveTo>
                    <a:cubicBezTo>
                      <a:pt x="509" y="187"/>
                      <a:pt x="497" y="69"/>
                      <a:pt x="392" y="36"/>
                    </a:cubicBezTo>
                    <a:cubicBezTo>
                      <a:pt x="339" y="0"/>
                      <a:pt x="309" y="15"/>
                      <a:pt x="237" y="21"/>
                    </a:cubicBezTo>
                    <a:cubicBezTo>
                      <a:pt x="194" y="31"/>
                      <a:pt x="168" y="45"/>
                      <a:pt x="133" y="73"/>
                    </a:cubicBezTo>
                    <a:cubicBezTo>
                      <a:pt x="84" y="168"/>
                      <a:pt x="20" y="262"/>
                      <a:pt x="0" y="369"/>
                    </a:cubicBezTo>
                    <a:cubicBezTo>
                      <a:pt x="5" y="481"/>
                      <a:pt x="3" y="584"/>
                      <a:pt x="44" y="688"/>
                    </a:cubicBezTo>
                    <a:cubicBezTo>
                      <a:pt x="78" y="870"/>
                      <a:pt x="173" y="1057"/>
                      <a:pt x="362" y="1117"/>
                    </a:cubicBezTo>
                    <a:cubicBezTo>
                      <a:pt x="415" y="1152"/>
                      <a:pt x="347" y="1112"/>
                      <a:pt x="429" y="1139"/>
                    </a:cubicBezTo>
                    <a:cubicBezTo>
                      <a:pt x="437" y="1142"/>
                      <a:pt x="443" y="1150"/>
                      <a:pt x="451" y="1154"/>
                    </a:cubicBezTo>
                    <a:cubicBezTo>
                      <a:pt x="473" y="1165"/>
                      <a:pt x="501" y="1168"/>
                      <a:pt x="525" y="1176"/>
                    </a:cubicBezTo>
                    <a:cubicBezTo>
                      <a:pt x="562" y="1201"/>
                      <a:pt x="581" y="1218"/>
                      <a:pt x="622" y="1228"/>
                    </a:cubicBezTo>
                    <a:cubicBezTo>
                      <a:pt x="684" y="1260"/>
                      <a:pt x="714" y="1249"/>
                      <a:pt x="792" y="1243"/>
                    </a:cubicBezTo>
                    <a:cubicBezTo>
                      <a:pt x="852" y="1183"/>
                      <a:pt x="819" y="1088"/>
                      <a:pt x="785" y="1021"/>
                    </a:cubicBezTo>
                    <a:cubicBezTo>
                      <a:pt x="770" y="992"/>
                      <a:pt x="773" y="979"/>
                      <a:pt x="748" y="954"/>
                    </a:cubicBezTo>
                    <a:cubicBezTo>
                      <a:pt x="735" y="917"/>
                      <a:pt x="711" y="888"/>
                      <a:pt x="688" y="858"/>
                    </a:cubicBezTo>
                    <a:cubicBezTo>
                      <a:pt x="676" y="821"/>
                      <a:pt x="643" y="795"/>
                      <a:pt x="622" y="762"/>
                    </a:cubicBezTo>
                    <a:cubicBezTo>
                      <a:pt x="616" y="753"/>
                      <a:pt x="613" y="742"/>
                      <a:pt x="607" y="732"/>
                    </a:cubicBezTo>
                    <a:cubicBezTo>
                      <a:pt x="603" y="724"/>
                      <a:pt x="597" y="717"/>
                      <a:pt x="592" y="710"/>
                    </a:cubicBezTo>
                    <a:cubicBezTo>
                      <a:pt x="580" y="671"/>
                      <a:pt x="589" y="694"/>
                      <a:pt x="555" y="643"/>
                    </a:cubicBezTo>
                    <a:cubicBezTo>
                      <a:pt x="550" y="636"/>
                      <a:pt x="540" y="621"/>
                      <a:pt x="540" y="621"/>
                    </a:cubicBezTo>
                    <a:cubicBezTo>
                      <a:pt x="519" y="510"/>
                      <a:pt x="518" y="392"/>
                      <a:pt x="518" y="280"/>
                    </a:cubicBezTo>
                    <a:close/>
                  </a:path>
                </a:pathLst>
              </a:custGeom>
              <a:noFill/>
              <a:ln w="1908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235640" y="2643840"/>
                <a:ext cx="819720" cy="692280"/>
              </a:xfrm>
              <a:custGeom>
                <a:avLst/>
                <a:gdLst/>
                <a:ahLst/>
                <a:rect l="l" t="t" r="r" b="b"/>
                <a:pathLst>
                  <a:path w="768" h="630">
                    <a:moveTo>
                      <a:pt x="183" y="67"/>
                    </a:moveTo>
                    <a:cubicBezTo>
                      <a:pt x="146" y="41"/>
                      <a:pt x="112" y="61"/>
                      <a:pt x="72" y="74"/>
                    </a:cubicBezTo>
                    <a:cubicBezTo>
                      <a:pt x="13" y="114"/>
                      <a:pt x="28" y="107"/>
                      <a:pt x="5" y="170"/>
                    </a:cubicBezTo>
                    <a:cubicBezTo>
                      <a:pt x="8" y="217"/>
                      <a:pt x="0" y="266"/>
                      <a:pt x="13" y="311"/>
                    </a:cubicBezTo>
                    <a:cubicBezTo>
                      <a:pt x="19" y="331"/>
                      <a:pt x="45" y="339"/>
                      <a:pt x="57" y="356"/>
                    </a:cubicBezTo>
                    <a:cubicBezTo>
                      <a:pt x="92" y="407"/>
                      <a:pt x="72" y="390"/>
                      <a:pt x="109" y="415"/>
                    </a:cubicBezTo>
                    <a:cubicBezTo>
                      <a:pt x="145" y="467"/>
                      <a:pt x="187" y="508"/>
                      <a:pt x="235" y="548"/>
                    </a:cubicBezTo>
                    <a:cubicBezTo>
                      <a:pt x="243" y="555"/>
                      <a:pt x="248" y="565"/>
                      <a:pt x="257" y="570"/>
                    </a:cubicBezTo>
                    <a:cubicBezTo>
                      <a:pt x="283" y="584"/>
                      <a:pt x="305" y="583"/>
                      <a:pt x="331" y="593"/>
                    </a:cubicBezTo>
                    <a:cubicBezTo>
                      <a:pt x="371" y="608"/>
                      <a:pt x="408" y="621"/>
                      <a:pt x="450" y="630"/>
                    </a:cubicBezTo>
                    <a:cubicBezTo>
                      <a:pt x="498" y="625"/>
                      <a:pt x="551" y="623"/>
                      <a:pt x="598" y="607"/>
                    </a:cubicBezTo>
                    <a:cubicBezTo>
                      <a:pt x="618" y="600"/>
                      <a:pt x="657" y="585"/>
                      <a:pt x="657" y="585"/>
                    </a:cubicBezTo>
                    <a:cubicBezTo>
                      <a:pt x="675" y="536"/>
                      <a:pt x="651" y="594"/>
                      <a:pt x="687" y="533"/>
                    </a:cubicBezTo>
                    <a:cubicBezTo>
                      <a:pt x="698" y="514"/>
                      <a:pt x="717" y="474"/>
                      <a:pt x="717" y="474"/>
                    </a:cubicBezTo>
                    <a:cubicBezTo>
                      <a:pt x="719" y="462"/>
                      <a:pt x="720" y="449"/>
                      <a:pt x="724" y="437"/>
                    </a:cubicBezTo>
                    <a:cubicBezTo>
                      <a:pt x="727" y="429"/>
                      <a:pt x="736" y="423"/>
                      <a:pt x="739" y="415"/>
                    </a:cubicBezTo>
                    <a:cubicBezTo>
                      <a:pt x="750" y="382"/>
                      <a:pt x="760" y="332"/>
                      <a:pt x="768" y="296"/>
                    </a:cubicBezTo>
                    <a:cubicBezTo>
                      <a:pt x="766" y="257"/>
                      <a:pt x="766" y="217"/>
                      <a:pt x="761" y="178"/>
                    </a:cubicBezTo>
                    <a:cubicBezTo>
                      <a:pt x="754" y="127"/>
                      <a:pt x="750" y="142"/>
                      <a:pt x="724" y="111"/>
                    </a:cubicBezTo>
                    <a:cubicBezTo>
                      <a:pt x="653" y="27"/>
                      <a:pt x="566" y="24"/>
                      <a:pt x="465" y="0"/>
                    </a:cubicBezTo>
                    <a:cubicBezTo>
                      <a:pt x="370" y="4"/>
                      <a:pt x="294" y="6"/>
                      <a:pt x="205" y="30"/>
                    </a:cubicBezTo>
                    <a:cubicBezTo>
                      <a:pt x="154" y="63"/>
                      <a:pt x="144" y="53"/>
                      <a:pt x="183" y="67"/>
                    </a:cubicBezTo>
                    <a:close/>
                  </a:path>
                </a:pathLst>
              </a:custGeom>
              <a:noFill/>
              <a:ln w="1908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181480" y="2895840"/>
              <a:ext cx="6858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172200" y="4038480"/>
            <a:ext cx="2286000" cy="2286000"/>
            <a:chOff x="6172200" y="4038480"/>
            <a:chExt cx="2286000" cy="2286000"/>
          </a:xfrm>
        </p:grpSpPr>
        <p:graphicFrame>
          <p:nvGraphicFramePr>
            <p:cNvPr id="312" name=""/>
            <p:cNvGraphicFramePr/>
            <p:nvPr/>
          </p:nvGraphicFramePr>
          <p:xfrm>
            <a:off x="6172200" y="4343040"/>
            <a:ext cx="2286000" cy="198144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172200" y="4343040"/>
                      <a:ext cx="228600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4" name=""/>
            <p:cNvSpPr/>
            <p:nvPr/>
          </p:nvSpPr>
          <p:spPr>
            <a:xfrm>
              <a:off x="7238880" y="4038480"/>
              <a:ext cx="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2819520" y="4343400"/>
            <a:ext cx="3200040" cy="1981080"/>
            <a:chOff x="2819520" y="4343400"/>
            <a:chExt cx="3200040" cy="1981080"/>
          </a:xfrm>
        </p:grpSpPr>
        <p:grpSp>
          <p:nvGrpSpPr>
            <p:cNvPr id="316" name=""/>
            <p:cNvGrpSpPr/>
            <p:nvPr/>
          </p:nvGrpSpPr>
          <p:grpSpPr>
            <a:xfrm>
              <a:off x="2819520" y="4343400"/>
              <a:ext cx="2286000" cy="1981080"/>
              <a:chOff x="2819520" y="4343400"/>
              <a:chExt cx="2286000" cy="1981080"/>
            </a:xfrm>
          </p:grpSpPr>
          <p:graphicFrame>
            <p:nvGraphicFramePr>
              <p:cNvPr id="317" name=""/>
              <p:cNvGraphicFramePr/>
              <p:nvPr/>
            </p:nvGraphicFramePr>
            <p:xfrm>
              <a:off x="2819520" y="4343400"/>
              <a:ext cx="2286000" cy="1981080"/>
            </p:xfrm>
            <a:graphic>
              <a:graphicData uri="http://schemas.openxmlformats.org/presentationml/2006/ole">
                <p:oleObj progId="Excel.Sheet.12" r:id="rId8" spid="">
                  <p:embed/>
                  <p:pic>
                    <p:nvPicPr>
                      <p:cNvPr id="318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2819520" y="4343400"/>
                        <a:ext cx="2286000" cy="198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9" name=""/>
              <p:cNvSpPr/>
              <p:nvPr/>
            </p:nvSpPr>
            <p:spPr>
              <a:xfrm>
                <a:off x="3383640" y="4676760"/>
                <a:ext cx="774360" cy="948240"/>
              </a:xfrm>
              <a:custGeom>
                <a:avLst/>
                <a:gdLst/>
                <a:ahLst/>
                <a:rect l="l" t="t" r="r" b="b"/>
                <a:pathLst>
                  <a:path w="728" h="896">
                    <a:moveTo>
                      <a:pt x="199" y="7"/>
                    </a:moveTo>
                    <a:cubicBezTo>
                      <a:pt x="148" y="19"/>
                      <a:pt x="135" y="54"/>
                      <a:pt x="110" y="96"/>
                    </a:cubicBezTo>
                    <a:cubicBezTo>
                      <a:pt x="101" y="111"/>
                      <a:pt x="90" y="125"/>
                      <a:pt x="80" y="140"/>
                    </a:cubicBezTo>
                    <a:cubicBezTo>
                      <a:pt x="75" y="147"/>
                      <a:pt x="65" y="162"/>
                      <a:pt x="65" y="162"/>
                    </a:cubicBezTo>
                    <a:cubicBezTo>
                      <a:pt x="50" y="210"/>
                      <a:pt x="33" y="254"/>
                      <a:pt x="21" y="303"/>
                    </a:cubicBezTo>
                    <a:cubicBezTo>
                      <a:pt x="4" y="446"/>
                      <a:pt x="0" y="574"/>
                      <a:pt x="65" y="703"/>
                    </a:cubicBezTo>
                    <a:cubicBezTo>
                      <a:pt x="79" y="731"/>
                      <a:pt x="83" y="744"/>
                      <a:pt x="110" y="763"/>
                    </a:cubicBezTo>
                    <a:cubicBezTo>
                      <a:pt x="159" y="835"/>
                      <a:pt x="250" y="874"/>
                      <a:pt x="332" y="896"/>
                    </a:cubicBezTo>
                    <a:cubicBezTo>
                      <a:pt x="394" y="889"/>
                      <a:pt x="441" y="878"/>
                      <a:pt x="495" y="851"/>
                    </a:cubicBezTo>
                    <a:cubicBezTo>
                      <a:pt x="537" y="789"/>
                      <a:pt x="571" y="751"/>
                      <a:pt x="636" y="711"/>
                    </a:cubicBezTo>
                    <a:cubicBezTo>
                      <a:pt x="660" y="674"/>
                      <a:pt x="672" y="647"/>
                      <a:pt x="688" y="607"/>
                    </a:cubicBezTo>
                    <a:cubicBezTo>
                      <a:pt x="694" y="593"/>
                      <a:pt x="697" y="578"/>
                      <a:pt x="702" y="563"/>
                    </a:cubicBezTo>
                    <a:cubicBezTo>
                      <a:pt x="705" y="555"/>
                      <a:pt x="710" y="540"/>
                      <a:pt x="710" y="540"/>
                    </a:cubicBezTo>
                    <a:cubicBezTo>
                      <a:pt x="720" y="459"/>
                      <a:pt x="728" y="366"/>
                      <a:pt x="680" y="296"/>
                    </a:cubicBezTo>
                    <a:cubicBezTo>
                      <a:pt x="659" y="231"/>
                      <a:pt x="621" y="176"/>
                      <a:pt x="569" y="133"/>
                    </a:cubicBezTo>
                    <a:cubicBezTo>
                      <a:pt x="550" y="117"/>
                      <a:pt x="530" y="103"/>
                      <a:pt x="510" y="88"/>
                    </a:cubicBezTo>
                    <a:cubicBezTo>
                      <a:pt x="496" y="77"/>
                      <a:pt x="465" y="59"/>
                      <a:pt x="465" y="59"/>
                    </a:cubicBezTo>
                    <a:cubicBezTo>
                      <a:pt x="428" y="0"/>
                      <a:pt x="358" y="5"/>
                      <a:pt x="295" y="0"/>
                    </a:cubicBezTo>
                    <a:cubicBezTo>
                      <a:pt x="265" y="2"/>
                      <a:pt x="236" y="3"/>
                      <a:pt x="206" y="7"/>
                    </a:cubicBezTo>
                    <a:cubicBezTo>
                      <a:pt x="198" y="8"/>
                      <a:pt x="192" y="14"/>
                      <a:pt x="184" y="14"/>
                    </a:cubicBezTo>
                    <a:cubicBezTo>
                      <a:pt x="178" y="14"/>
                      <a:pt x="194" y="9"/>
                      <a:pt x="199" y="7"/>
                    </a:cubicBezTo>
                    <a:close/>
                  </a:path>
                </a:pathLst>
              </a:custGeom>
              <a:noFill/>
              <a:ln w="1908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864600" y="5060880"/>
                <a:ext cx="853200" cy="940680"/>
              </a:xfrm>
              <a:custGeom>
                <a:avLst/>
                <a:gdLst/>
                <a:ahLst/>
                <a:rect l="l" t="t" r="r" b="b"/>
                <a:pathLst>
                  <a:path w="802" h="889">
                    <a:moveTo>
                      <a:pt x="510" y="44"/>
                    </a:moveTo>
                    <a:cubicBezTo>
                      <a:pt x="455" y="80"/>
                      <a:pt x="422" y="133"/>
                      <a:pt x="376" y="177"/>
                    </a:cubicBezTo>
                    <a:cubicBezTo>
                      <a:pt x="346" y="236"/>
                      <a:pt x="298" y="273"/>
                      <a:pt x="236" y="296"/>
                    </a:cubicBezTo>
                    <a:cubicBezTo>
                      <a:pt x="231" y="303"/>
                      <a:pt x="227" y="312"/>
                      <a:pt x="221" y="318"/>
                    </a:cubicBezTo>
                    <a:cubicBezTo>
                      <a:pt x="215" y="324"/>
                      <a:pt x="205" y="326"/>
                      <a:pt x="199" y="333"/>
                    </a:cubicBezTo>
                    <a:cubicBezTo>
                      <a:pt x="194" y="339"/>
                      <a:pt x="195" y="348"/>
                      <a:pt x="191" y="355"/>
                    </a:cubicBezTo>
                    <a:cubicBezTo>
                      <a:pt x="185" y="366"/>
                      <a:pt x="176" y="375"/>
                      <a:pt x="169" y="385"/>
                    </a:cubicBezTo>
                    <a:cubicBezTo>
                      <a:pt x="156" y="422"/>
                      <a:pt x="155" y="463"/>
                      <a:pt x="132" y="496"/>
                    </a:cubicBezTo>
                    <a:cubicBezTo>
                      <a:pt x="126" y="504"/>
                      <a:pt x="116" y="510"/>
                      <a:pt x="110" y="518"/>
                    </a:cubicBezTo>
                    <a:cubicBezTo>
                      <a:pt x="99" y="532"/>
                      <a:pt x="80" y="562"/>
                      <a:pt x="80" y="562"/>
                    </a:cubicBezTo>
                    <a:cubicBezTo>
                      <a:pt x="68" y="602"/>
                      <a:pt x="78" y="578"/>
                      <a:pt x="43" y="629"/>
                    </a:cubicBezTo>
                    <a:cubicBezTo>
                      <a:pt x="28" y="651"/>
                      <a:pt x="22" y="678"/>
                      <a:pt x="13" y="703"/>
                    </a:cubicBezTo>
                    <a:cubicBezTo>
                      <a:pt x="15" y="727"/>
                      <a:pt x="0" y="812"/>
                      <a:pt x="36" y="844"/>
                    </a:cubicBezTo>
                    <a:cubicBezTo>
                      <a:pt x="49" y="856"/>
                      <a:pt x="65" y="864"/>
                      <a:pt x="80" y="874"/>
                    </a:cubicBezTo>
                    <a:cubicBezTo>
                      <a:pt x="93" y="883"/>
                      <a:pt x="124" y="888"/>
                      <a:pt x="124" y="888"/>
                    </a:cubicBezTo>
                    <a:cubicBezTo>
                      <a:pt x="167" y="886"/>
                      <a:pt x="287" y="889"/>
                      <a:pt x="354" y="874"/>
                    </a:cubicBezTo>
                    <a:cubicBezTo>
                      <a:pt x="410" y="861"/>
                      <a:pt x="461" y="835"/>
                      <a:pt x="517" y="822"/>
                    </a:cubicBezTo>
                    <a:cubicBezTo>
                      <a:pt x="534" y="811"/>
                      <a:pt x="553" y="804"/>
                      <a:pt x="569" y="792"/>
                    </a:cubicBezTo>
                    <a:cubicBezTo>
                      <a:pt x="613" y="757"/>
                      <a:pt x="651" y="702"/>
                      <a:pt x="673" y="651"/>
                    </a:cubicBezTo>
                    <a:cubicBezTo>
                      <a:pt x="680" y="634"/>
                      <a:pt x="685" y="615"/>
                      <a:pt x="695" y="600"/>
                    </a:cubicBezTo>
                    <a:cubicBezTo>
                      <a:pt x="711" y="577"/>
                      <a:pt x="747" y="533"/>
                      <a:pt x="747" y="533"/>
                    </a:cubicBezTo>
                    <a:cubicBezTo>
                      <a:pt x="756" y="504"/>
                      <a:pt x="784" y="451"/>
                      <a:pt x="784" y="451"/>
                    </a:cubicBezTo>
                    <a:cubicBezTo>
                      <a:pt x="787" y="439"/>
                      <a:pt x="798" y="395"/>
                      <a:pt x="798" y="385"/>
                    </a:cubicBezTo>
                    <a:cubicBezTo>
                      <a:pt x="798" y="264"/>
                      <a:pt x="802" y="46"/>
                      <a:pt x="650" y="0"/>
                    </a:cubicBezTo>
                    <a:cubicBezTo>
                      <a:pt x="598" y="5"/>
                      <a:pt x="575" y="6"/>
                      <a:pt x="532" y="22"/>
                    </a:cubicBezTo>
                    <a:cubicBezTo>
                      <a:pt x="516" y="46"/>
                      <a:pt x="526" y="44"/>
                      <a:pt x="510" y="44"/>
                    </a:cubicBezTo>
                    <a:close/>
                  </a:path>
                </a:pathLst>
              </a:custGeom>
              <a:noFill/>
              <a:ln w="1908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H="1">
              <a:off x="5333760" y="5028840"/>
              <a:ext cx="6858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6BC03-505A-4EE6-9C1B-54F38A45B6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omments on the </a:t>
            </a:r>
            <a:r>
              <a:rPr b="0" i="1" lang="en-US" sz="3600" spc="-1" strike="noStrike">
                <a:solidFill>
                  <a:srgbClr val="660066"/>
                </a:solidFill>
                <a:latin typeface="Tahoma"/>
              </a:rPr>
              <a:t>K-Means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Method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Strength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Relatively efficient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tk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), where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s # objects,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s # clusters, and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t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s # iterations. Normally,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&lt;&lt;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ften terminates at a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local optimum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. The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global optimum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may be found using techniques such as: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deterministic annealing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genetic algorithm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Weaknes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pplicable only when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mea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s defined, then what about categorical data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eed to specify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k,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number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of clusters, in advan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nable to handle noisy data and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outlie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t suitable to discover clusters with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non-convex shap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2A3AA-B721-4249-8B93-DD4A8C7EA9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Variations of the 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K-Means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Method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few variants of the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k-mean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which differ 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lection of the initial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mea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issimilarity calculatio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rategies to calculate cluster mea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ndling categorical data: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k-mod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Huang’98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placing means of clusters with </a:t>
            </a: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mod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ing new dissimilarity measures to deal with categorical objec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ing a </a:t>
            </a: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frequency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based method to update modes of cluste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mixture of categorical and numerical data: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k-prototyp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metho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42ED6-5105-4B04-A82E-25DCA50BAA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he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 K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-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Medoid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lustering Method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nd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representativ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bjects, called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medoid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in clust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PA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Partitioning Around Medoids, 1987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arts from an initial set of medoids and iteratively replaces one of the medoids by one of the non-medoids if it improves the total distance of the resulting cluster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M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works effectively for small data sets, but does not scale well for large data se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LAR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Kaufmann &amp; Rousseeuw, 1990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CLARAN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Ng &amp; Han, 1994): Randomized sampl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cusing + spatial data structure (Ester et al., 1995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2234-029E-428B-9352-DB599196C6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PAM (Partitioning Around Medoids) (1987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M (Kaufman and Rousseeuw, 1987), built in Spl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e real object to represent the clust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lect 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representative objects arbitraril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r each pair of non-selected object 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nd selected object 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calculate the total swapping cost 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TC</a:t>
            </a:r>
            <a:r>
              <a:rPr b="1" i="1" lang="en-US" sz="2000" spc="-1" strike="noStrike" baseline="-25000">
                <a:solidFill>
                  <a:srgbClr val="40458c"/>
                </a:solidFill>
                <a:latin typeface="Tahoma"/>
              </a:rPr>
              <a:t>i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r each pair of 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12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TC</a:t>
            </a:r>
            <a:r>
              <a:rPr b="0" i="1" lang="en-US" sz="2000" spc="-1" strike="noStrike" baseline="-25000">
                <a:solidFill>
                  <a:srgbClr val="40458c"/>
                </a:solidFill>
                <a:latin typeface="Tahoma"/>
              </a:rPr>
              <a:t>ih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&lt; 0, 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s replaced by 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</a:rPr>
              <a:t>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12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n assign each non-selected object to the most similar representative objec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peat steps 2-3 until there is no chang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D4CE3-3BD4-4012-BA28-D249508BFD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PAM Clustering: </a:t>
            </a:r>
            <a:r>
              <a:rPr b="0" lang="en-US" sz="2800" spc="-1" strike="noStrike">
                <a:solidFill>
                  <a:srgbClr val="170981"/>
                </a:solidFill>
                <a:latin typeface="Tahoma"/>
              </a:rPr>
              <a:t>Total swapping cost </a:t>
            </a:r>
            <a:r>
              <a:rPr b="0" i="1" lang="en-US" sz="2800" spc="-1" strike="noStrike">
                <a:solidFill>
                  <a:srgbClr val="170981"/>
                </a:solidFill>
                <a:latin typeface="Tahoma"/>
              </a:rPr>
              <a:t> TC</a:t>
            </a:r>
            <a:r>
              <a:rPr b="0" i="1" lang="en-US" sz="2800" spc="-1" strike="noStrike" baseline="-25000">
                <a:solidFill>
                  <a:srgbClr val="170981"/>
                </a:solidFill>
                <a:latin typeface="Tahoma"/>
              </a:rPr>
              <a:t>ih</a:t>
            </a:r>
            <a:r>
              <a:rPr b="0" i="1" lang="en-US" sz="2800" spc="-1" strike="noStrike">
                <a:solidFill>
                  <a:srgbClr val="170981"/>
                </a:solidFill>
                <a:latin typeface="Tahoma"/>
              </a:rPr>
              <a:t>=</a:t>
            </a:r>
            <a:r>
              <a:rPr b="0" i="1" lang="en-US" sz="2800" spc="-1" strike="noStrike">
                <a:solidFill>
                  <a:srgbClr val="170981"/>
                </a:solidFill>
                <a:latin typeface="Symbol"/>
                <a:ea typeface="Symbol"/>
              </a:rPr>
              <a:t></a:t>
            </a:r>
            <a:r>
              <a:rPr b="0" i="1" lang="en-US" sz="2800" spc="-1" strike="noStrike" baseline="-25000">
                <a:solidFill>
                  <a:srgbClr val="170981"/>
                </a:solidFill>
                <a:latin typeface="Tahoma"/>
              </a:rPr>
              <a:t>j</a:t>
            </a:r>
            <a:r>
              <a:rPr b="0" i="1" lang="en-US" sz="2800" spc="-1" strike="noStrike">
                <a:solidFill>
                  <a:srgbClr val="170981"/>
                </a:solidFill>
                <a:latin typeface="Tahoma"/>
              </a:rPr>
              <a:t>C</a:t>
            </a:r>
            <a:r>
              <a:rPr b="0" i="1" lang="en-US" sz="2800" spc="-1" strike="noStrike" baseline="-25000">
                <a:solidFill>
                  <a:srgbClr val="170981"/>
                </a:solidFill>
                <a:latin typeface="Tahoma"/>
              </a:rPr>
              <a:t>jih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600200" y="1523880"/>
            <a:ext cx="6171480" cy="4952520"/>
            <a:chOff x="1600200" y="1523880"/>
            <a:chExt cx="6171480" cy="4952520"/>
          </a:xfrm>
        </p:grpSpPr>
        <p:grpSp>
          <p:nvGrpSpPr>
            <p:cNvPr id="337" name=""/>
            <p:cNvGrpSpPr/>
            <p:nvPr/>
          </p:nvGrpSpPr>
          <p:grpSpPr>
            <a:xfrm>
              <a:off x="5157360" y="1523880"/>
              <a:ext cx="2540520" cy="2358000"/>
              <a:chOff x="5157360" y="1523880"/>
              <a:chExt cx="2540520" cy="235800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5157360" y="1523880"/>
                <a:ext cx="2540520" cy="2103480"/>
                <a:chOff x="5157360" y="1523880"/>
                <a:chExt cx="2540520" cy="2103480"/>
              </a:xfrm>
            </p:grpSpPr>
            <p:graphicFrame>
              <p:nvGraphicFramePr>
                <p:cNvPr id="339" name=""/>
                <p:cNvGraphicFramePr/>
                <p:nvPr/>
              </p:nvGraphicFramePr>
              <p:xfrm>
                <a:off x="5157360" y="1523880"/>
                <a:ext cx="2540520" cy="21034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340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157360" y="1523880"/>
                          <a:ext cx="2540520" cy="2103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41" name=""/>
                <p:cNvSpPr/>
                <p:nvPr/>
              </p:nvSpPr>
              <p:spPr>
                <a:xfrm>
                  <a:off x="6306480" y="1755360"/>
                  <a:ext cx="352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40458c"/>
                      </a:solidFill>
                      <a:latin typeface="Times New Roman"/>
                    </a:rPr>
                    <a:t>j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775840" y="1857240"/>
                  <a:ext cx="350640" cy="45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652800" y="2685600"/>
                  <a:ext cx="438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40458c"/>
                      </a:solidFill>
                      <a:latin typeface="Times New Roman"/>
                    </a:rPr>
                    <a:t>i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621120" y="2530440"/>
                  <a:ext cx="350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40458c"/>
                      </a:solidFill>
                      <a:latin typeface="Times New Roman"/>
                    </a:rPr>
                    <a:t>h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821200" y="1857240"/>
                  <a:ext cx="241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40458c"/>
                      </a:solidFill>
                      <a:latin typeface="Times New Roman"/>
                    </a:rPr>
                    <a:t>t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701680" y="1689120"/>
                  <a:ext cx="786240" cy="1108080"/>
                </a:xfrm>
                <a:prstGeom prst="ellipse">
                  <a:avLst/>
                </a:prstGeom>
                <a:noFill/>
                <a:ln w="9360">
                  <a:solidFill>
                    <a:srgbClr val="40458c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548400" y="2298600"/>
                  <a:ext cx="786240" cy="774360"/>
                </a:xfrm>
                <a:prstGeom prst="ellipse">
                  <a:avLst/>
                </a:prstGeom>
                <a:noFill/>
                <a:ln w="9360">
                  <a:solidFill>
                    <a:srgbClr val="40458c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348" name=""/>
              <p:cNvGraphicFramePr/>
              <p:nvPr/>
            </p:nvGraphicFramePr>
            <p:xfrm>
              <a:off x="5229720" y="3559680"/>
              <a:ext cx="1052280" cy="322200"/>
            </p:xfrm>
            <a:graphic>
              <a:graphicData uri="http://schemas.openxmlformats.org/presentationml/2006/ole">
                <p:oleObj progId="Word.Document.12" r:id="rId3" spid="">
                  <p:embed/>
                  <p:pic>
                    <p:nvPicPr>
                      <p:cNvPr id="34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29720" y="3559680"/>
                        <a:ext cx="1052280" cy="322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50" name=""/>
            <p:cNvGrpSpPr/>
            <p:nvPr/>
          </p:nvGrpSpPr>
          <p:grpSpPr>
            <a:xfrm>
              <a:off x="1672560" y="1523880"/>
              <a:ext cx="2395440" cy="2713680"/>
              <a:chOff x="1672560" y="1523880"/>
              <a:chExt cx="2395440" cy="271368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1672560" y="1523880"/>
                <a:ext cx="2395440" cy="2103120"/>
                <a:chOff x="1672560" y="1523880"/>
                <a:chExt cx="2395440" cy="2103120"/>
              </a:xfrm>
            </p:grpSpPr>
            <p:graphicFrame>
              <p:nvGraphicFramePr>
                <p:cNvPr id="352" name=""/>
                <p:cNvGraphicFramePr/>
                <p:nvPr/>
              </p:nvGraphicFramePr>
              <p:xfrm>
                <a:off x="1672560" y="1523880"/>
                <a:ext cx="2395440" cy="2103120"/>
              </p:xfrm>
              <a:graphic>
                <a:graphicData uri="http://schemas.openxmlformats.org/presentationml/2006/ole">
                  <p:oleObj progId="Excel.Sheet.12" r:id="rId5" spid="">
                    <p:embed/>
                    <p:pic>
                      <p:nvPicPr>
                        <p:cNvPr id="353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672560" y="1523880"/>
                          <a:ext cx="2395440" cy="2103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54" name=""/>
                <p:cNvSpPr/>
                <p:nvPr/>
              </p:nvSpPr>
              <p:spPr>
                <a:xfrm>
                  <a:off x="2266560" y="1905480"/>
                  <a:ext cx="34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40458c"/>
                      </a:solidFill>
                      <a:latin typeface="Times New Roman"/>
                    </a:rPr>
                    <a:t>t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867040" y="2557080"/>
                  <a:ext cx="42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40458c"/>
                      </a:solidFill>
                      <a:latin typeface="Times New Roman"/>
                    </a:rPr>
                    <a:t>i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308400" y="2557080"/>
                  <a:ext cx="340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40458c"/>
                      </a:solidFill>
                      <a:latin typeface="Times New Roman"/>
                    </a:rPr>
                    <a:t>h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308400" y="2230560"/>
                  <a:ext cx="340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40458c"/>
                      </a:solidFill>
                      <a:latin typeface="Times New Roman"/>
                    </a:rPr>
                    <a:t>j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290400" y="2425320"/>
                  <a:ext cx="0" cy="179280"/>
                </a:xfrm>
                <a:prstGeom prst="line">
                  <a:avLst/>
                </a:prstGeom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>
                  <a:off x="3096720" y="2364840"/>
                  <a:ext cx="128520" cy="239760"/>
                </a:xfrm>
                <a:prstGeom prst="line">
                  <a:avLst/>
                </a:prstGeom>
                <a:ln w="2844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126160" y="1764000"/>
                  <a:ext cx="775440" cy="1080720"/>
                </a:xfrm>
                <a:prstGeom prst="ellipse">
                  <a:avLst/>
                </a:prstGeom>
                <a:noFill/>
                <a:ln w="9360">
                  <a:solidFill>
                    <a:srgbClr val="40458c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2901960" y="2244600"/>
                  <a:ext cx="777240" cy="901440"/>
                </a:xfrm>
                <a:prstGeom prst="ellipse">
                  <a:avLst/>
                </a:prstGeom>
                <a:noFill/>
                <a:ln w="9360">
                  <a:solidFill>
                    <a:srgbClr val="40458c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362" name=""/>
              <p:cNvGraphicFramePr/>
              <p:nvPr/>
            </p:nvGraphicFramePr>
            <p:xfrm>
              <a:off x="1835640" y="3627000"/>
              <a:ext cx="2159280" cy="610560"/>
            </p:xfrm>
            <a:graphic>
              <a:graphicData uri="http://schemas.openxmlformats.org/presentationml/2006/ole">
                <p:oleObj progId="Word.Document.12" r:id="rId7" spid="">
                  <p:embed/>
                  <p:pic>
                    <p:nvPicPr>
                      <p:cNvPr id="363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835640" y="3627000"/>
                        <a:ext cx="2159280" cy="61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64" name=""/>
            <p:cNvGrpSpPr/>
            <p:nvPr/>
          </p:nvGrpSpPr>
          <p:grpSpPr>
            <a:xfrm>
              <a:off x="1600200" y="4119120"/>
              <a:ext cx="2464920" cy="2357280"/>
              <a:chOff x="1600200" y="4119120"/>
              <a:chExt cx="2464920" cy="235728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1669680" y="4119120"/>
                <a:ext cx="2395440" cy="2103120"/>
                <a:chOff x="1669680" y="4119120"/>
                <a:chExt cx="2395440" cy="2103120"/>
              </a:xfrm>
            </p:grpSpPr>
            <p:graphicFrame>
              <p:nvGraphicFramePr>
                <p:cNvPr id="366" name=""/>
                <p:cNvGraphicFramePr/>
                <p:nvPr/>
              </p:nvGraphicFramePr>
              <p:xfrm>
                <a:off x="1669680" y="4119120"/>
                <a:ext cx="2395440" cy="2103120"/>
              </p:xfrm>
              <a:graphic>
                <a:graphicData uri="http://schemas.openxmlformats.org/presentationml/2006/ole">
                  <p:oleObj progId="Excel.Sheet.12" r:id="rId9" spid="">
                    <p:embed/>
                    <p:pic>
                      <p:nvPicPr>
                        <p:cNvPr id="367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1669680" y="4119120"/>
                          <a:ext cx="2395440" cy="2103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68" name=""/>
                <p:cNvSpPr/>
                <p:nvPr/>
              </p:nvSpPr>
              <p:spPr>
                <a:xfrm>
                  <a:off x="2251800" y="4479120"/>
                  <a:ext cx="261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40458c"/>
                      </a:solidFill>
                      <a:latin typeface="Times New Roman"/>
                    </a:rPr>
                    <a:t>h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705400" y="5031720"/>
                  <a:ext cx="258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40458c"/>
                      </a:solidFill>
                      <a:latin typeface="Times New Roman"/>
                    </a:rPr>
                    <a:t>i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3030480" y="5140800"/>
                  <a:ext cx="256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40458c"/>
                      </a:solidFill>
                      <a:latin typeface="Times New Roman"/>
                    </a:rPr>
                    <a:t>t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900520" y="4660200"/>
                  <a:ext cx="258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40458c"/>
                      </a:solidFill>
                      <a:latin typeface="Times New Roman"/>
                    </a:rPr>
                    <a:t>j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575080" y="4660200"/>
                  <a:ext cx="260280" cy="299160"/>
                </a:xfrm>
                <a:prstGeom prst="line">
                  <a:avLst/>
                </a:prstGeom>
                <a:ln w="1908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>
                  <a:off x="2769840" y="5020560"/>
                  <a:ext cx="128520" cy="119880"/>
                </a:xfrm>
                <a:prstGeom prst="line">
                  <a:avLst/>
                </a:prstGeom>
                <a:ln w="1908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186640" y="4420080"/>
                  <a:ext cx="907200" cy="1020600"/>
                </a:xfrm>
                <a:prstGeom prst="ellipse">
                  <a:avLst/>
                </a:prstGeom>
                <a:noFill/>
                <a:ln w="9360">
                  <a:solidFill>
                    <a:srgbClr val="40458c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029040" y="4959720"/>
                  <a:ext cx="647280" cy="781560"/>
                </a:xfrm>
                <a:prstGeom prst="ellipse">
                  <a:avLst/>
                </a:prstGeom>
                <a:noFill/>
                <a:ln w="9360">
                  <a:solidFill>
                    <a:srgbClr val="40458c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376" name=""/>
              <p:cNvGraphicFramePr/>
              <p:nvPr/>
            </p:nvGraphicFramePr>
            <p:xfrm>
              <a:off x="1600200" y="6154560"/>
              <a:ext cx="2158200" cy="321840"/>
            </p:xfrm>
            <a:graphic>
              <a:graphicData uri="http://schemas.openxmlformats.org/presentationml/2006/ole">
                <p:oleObj progId="Word.Document.12" r:id="rId11" spid="">
                  <p:embed/>
                  <p:pic>
                    <p:nvPicPr>
                      <p:cNvPr id="377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600200" y="6154560"/>
                        <a:ext cx="2158200" cy="321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78" name=""/>
            <p:cNvGrpSpPr/>
            <p:nvPr/>
          </p:nvGrpSpPr>
          <p:grpSpPr>
            <a:xfrm>
              <a:off x="5084640" y="4078080"/>
              <a:ext cx="2687040" cy="2398320"/>
              <a:chOff x="5084640" y="4078080"/>
              <a:chExt cx="2687040" cy="239832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5158440" y="4078080"/>
                <a:ext cx="2613240" cy="2103120"/>
                <a:chOff x="5158440" y="4078080"/>
                <a:chExt cx="2613240" cy="2103120"/>
              </a:xfrm>
            </p:grpSpPr>
            <p:graphicFrame>
              <p:nvGraphicFramePr>
                <p:cNvPr id="380" name=""/>
                <p:cNvGraphicFramePr/>
                <p:nvPr/>
              </p:nvGraphicFramePr>
              <p:xfrm>
                <a:off x="5158440" y="4078080"/>
                <a:ext cx="2613240" cy="2103120"/>
              </p:xfrm>
              <a:graphic>
                <a:graphicData uri="http://schemas.openxmlformats.org/presentationml/2006/ole">
                  <p:oleObj progId="Excel.Sheet.12" r:id="rId13" spid="">
                    <p:embed/>
                    <p:pic>
                      <p:nvPicPr>
                        <p:cNvPr id="381" name="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5158440" y="4078080"/>
                          <a:ext cx="2613240" cy="21031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82" name=""/>
                <p:cNvSpPr/>
                <p:nvPr/>
              </p:nvSpPr>
              <p:spPr>
                <a:xfrm>
                  <a:off x="6685920" y="5402520"/>
                  <a:ext cx="23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40458c"/>
                      </a:solidFill>
                      <a:latin typeface="Times New Roman"/>
                    </a:rPr>
                    <a:t>t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073200" y="4885200"/>
                  <a:ext cx="23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40458c"/>
                      </a:solidFill>
                      <a:latin typeface="Times New Roman"/>
                    </a:rPr>
                    <a:t>i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643080" y="5091120"/>
                  <a:ext cx="237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40458c"/>
                      </a:solidFill>
                      <a:latin typeface="Times New Roman"/>
                    </a:rPr>
                    <a:t>h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178400" y="5091120"/>
                  <a:ext cx="23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40458c"/>
                      </a:solidFill>
                      <a:latin typeface="Times New Roman"/>
                    </a:rPr>
                    <a:t>j</a:t>
                  </a:r>
                  <a:endParaRPr b="0" lang="en-US" sz="18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988320" y="5230080"/>
                  <a:ext cx="64800" cy="0"/>
                </a:xfrm>
                <a:prstGeom prst="line">
                  <a:avLst/>
                </a:prstGeom>
                <a:ln w="2844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334920" y="5057640"/>
                  <a:ext cx="783000" cy="114120"/>
                </a:xfrm>
                <a:prstGeom prst="line">
                  <a:avLst/>
                </a:prstGeom>
                <a:ln w="1908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614920" y="4308120"/>
                  <a:ext cx="979560" cy="1209960"/>
                </a:xfrm>
                <a:prstGeom prst="ellipse">
                  <a:avLst/>
                </a:prstGeom>
                <a:noFill/>
                <a:ln w="9360">
                  <a:solidFill>
                    <a:srgbClr val="40458c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594840" y="4883400"/>
                  <a:ext cx="849960" cy="807120"/>
                </a:xfrm>
                <a:prstGeom prst="ellipse">
                  <a:avLst/>
                </a:prstGeom>
                <a:noFill/>
                <a:ln w="9360">
                  <a:solidFill>
                    <a:srgbClr val="40458c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390" name=""/>
              <p:cNvGraphicFramePr/>
              <p:nvPr/>
            </p:nvGraphicFramePr>
            <p:xfrm>
              <a:off x="5084640" y="6108840"/>
              <a:ext cx="2519640" cy="367560"/>
            </p:xfrm>
            <a:graphic>
              <a:graphicData uri="http://schemas.openxmlformats.org/presentationml/2006/ole">
                <p:oleObj progId="Word.Document.12" r:id="rId15" spid="">
                  <p:embed/>
                  <p:pic>
                    <p:nvPicPr>
                      <p:cNvPr id="391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5084640" y="6108840"/>
                        <a:ext cx="2519640" cy="367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392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A3DC-47B9-47A1-BAFF-D1CFD74B9D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66"/>
                </a:solidFill>
                <a:latin typeface="Tahoma"/>
              </a:rPr>
              <a:t>CLARA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 (Clustering Large Applications) (1990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CLARA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(Kaufmann and Rousseeuw in 1990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112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uilt in statistical analysis packages, such as S+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t draws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multiple sample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of the data set, applies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M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on each sample, and gives the best clustering as the outpu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Strength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: deals with larger data sets than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Weaknes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fficiency depends on the sample siz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good clustering based on samples will not necessarily represent a good clustering of the whole data set if the sample is biase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40E79-33E9-41A8-A19E-B743867DCB6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Cluster Analysi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uster: a collection of data obj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milar to one another within the same clust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similar to the objects in other clust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uster analy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rouping a set of data objects into clust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ustering is </a:t>
            </a:r>
            <a:r>
              <a:rPr b="0" lang="en-US" sz="2800" spc="-1" strike="noStrike">
                <a:solidFill>
                  <a:srgbClr val="6f89f7"/>
                </a:solidFill>
                <a:latin typeface="Tahoma"/>
              </a:rPr>
              <a:t>unsupervised classification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no predefined clas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ypical applicatio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 a </a:t>
            </a:r>
            <a:r>
              <a:rPr b="0" lang="en-US" sz="2400" spc="-1" strike="noStrike">
                <a:solidFill>
                  <a:srgbClr val="6f89f7"/>
                </a:solidFill>
                <a:latin typeface="Tahoma"/>
              </a:rPr>
              <a:t>stand-alone tool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o get insight into data distribution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 a </a:t>
            </a:r>
            <a:r>
              <a:rPr b="0" lang="en-US" sz="2400" spc="-1" strike="noStrike">
                <a:solidFill>
                  <a:srgbClr val="6f89f7"/>
                </a:solidFill>
                <a:latin typeface="Tahoma"/>
              </a:rPr>
              <a:t>preprocessing ste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for other algorith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1D8E1-FB1C-4B37-8540-96EB893EF6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Tahoma"/>
              </a:rPr>
              <a:t>CLARANS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“Randomized” CLARA)</a:t>
            </a:r>
            <a:r>
              <a:rPr b="0" i="1" lang="en-US" sz="3200" spc="-1" strike="noStrike">
                <a:solidFill>
                  <a:srgbClr val="660066"/>
                </a:solidFill>
                <a:latin typeface="Tahoma"/>
              </a:rPr>
              <a:t> (1994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CLARAN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(A Clustering Algorithm based on Randomized Search)  (Ng and Han’94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ARANS draws sample of neighbors dynamicall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clustering process can be presented as searching a graph where every node is a potential solution, that is, a set of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medoid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f the local optimum is found,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CLARAN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starts with new randomly selected node in search for a new local optimu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t is more efficient and scalable than both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M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CLA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cusing techniques and spatial access structures may further improve its performance (Ester et al.’9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3FC57-4D76-42E1-9586-31760E298F1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宋体"/>
              </a:rPr>
              <a:t>Hierarchical Cluste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Use distance matrix as clustering criteria.  This method does not require the number of clusters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k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 as an input, but needs a termination condi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990720" y="2743200"/>
            <a:ext cx="6957360" cy="3644640"/>
            <a:chOff x="990720" y="2743200"/>
            <a:chExt cx="6957360" cy="3644640"/>
          </a:xfrm>
        </p:grpSpPr>
        <p:sp>
          <p:nvSpPr>
            <p:cNvPr id="402" name=""/>
            <p:cNvSpPr/>
            <p:nvPr/>
          </p:nvSpPr>
          <p:spPr>
            <a:xfrm>
              <a:off x="990720" y="3276360"/>
              <a:ext cx="5105160" cy="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1371600" y="2757240"/>
              <a:ext cx="762120" cy="519120"/>
              <a:chOff x="1371600" y="2757240"/>
              <a:chExt cx="762120" cy="519120"/>
            </a:xfrm>
          </p:grpSpPr>
          <p:sp>
            <p:nvSpPr>
              <p:cNvPr id="404" name=""/>
              <p:cNvSpPr/>
              <p:nvPr/>
            </p:nvSpPr>
            <p:spPr>
              <a:xfrm>
                <a:off x="1524240" y="3124080"/>
                <a:ext cx="0" cy="15228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371600" y="275724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  <a:ea typeface="宋体"/>
                  </a:rPr>
                  <a:t>Step 0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2209680" y="2743200"/>
              <a:ext cx="762120" cy="519120"/>
              <a:chOff x="2209680" y="2743200"/>
              <a:chExt cx="762120" cy="519120"/>
            </a:xfrm>
          </p:grpSpPr>
          <p:sp>
            <p:nvSpPr>
              <p:cNvPr id="407" name=""/>
              <p:cNvSpPr/>
              <p:nvPr/>
            </p:nvSpPr>
            <p:spPr>
              <a:xfrm>
                <a:off x="2362320" y="3110040"/>
                <a:ext cx="0" cy="15228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209680" y="274320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  <a:ea typeface="宋体"/>
                  </a:rPr>
                  <a:t>Step 1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3048120" y="2743200"/>
              <a:ext cx="761760" cy="519120"/>
              <a:chOff x="3048120" y="2743200"/>
              <a:chExt cx="761760" cy="519120"/>
            </a:xfrm>
          </p:grpSpPr>
          <p:sp>
            <p:nvSpPr>
              <p:cNvPr id="410" name=""/>
              <p:cNvSpPr/>
              <p:nvPr/>
            </p:nvSpPr>
            <p:spPr>
              <a:xfrm>
                <a:off x="3200400" y="3110040"/>
                <a:ext cx="0" cy="15228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048120" y="274320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  <a:ea typeface="宋体"/>
                  </a:rPr>
                  <a:t>Step 2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3809880" y="2743200"/>
              <a:ext cx="762120" cy="519120"/>
              <a:chOff x="3809880" y="2743200"/>
              <a:chExt cx="762120" cy="519120"/>
            </a:xfrm>
          </p:grpSpPr>
          <p:sp>
            <p:nvSpPr>
              <p:cNvPr id="413" name=""/>
              <p:cNvSpPr/>
              <p:nvPr/>
            </p:nvSpPr>
            <p:spPr>
              <a:xfrm>
                <a:off x="3962520" y="3110040"/>
                <a:ext cx="0" cy="15228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809880" y="274320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  <a:ea typeface="宋体"/>
                  </a:rPr>
                  <a:t>Step 3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4572000" y="2743200"/>
              <a:ext cx="762120" cy="519120"/>
              <a:chOff x="4572000" y="2743200"/>
              <a:chExt cx="762120" cy="519120"/>
            </a:xfrm>
          </p:grpSpPr>
          <p:sp>
            <p:nvSpPr>
              <p:cNvPr id="416" name=""/>
              <p:cNvSpPr/>
              <p:nvPr/>
            </p:nvSpPr>
            <p:spPr>
              <a:xfrm>
                <a:off x="4724640" y="3110040"/>
                <a:ext cx="0" cy="15228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572000" y="274320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  <a:ea typeface="宋体"/>
                  </a:rPr>
                  <a:t>Step 4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1373400" y="3905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b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3400" y="4857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d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72680" y="43815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c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72680" y="5333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72680" y="342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95280" y="3504960"/>
              <a:ext cx="457200" cy="38124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295280" y="3962160"/>
              <a:ext cx="457200" cy="38124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95280" y="4419360"/>
              <a:ext cx="457200" cy="38124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95280" y="4876560"/>
              <a:ext cx="457200" cy="38124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95280" y="5333760"/>
              <a:ext cx="457200" cy="38124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11120" y="358128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a b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57400" y="3657600"/>
              <a:ext cx="838080" cy="38088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49200" y="5029200"/>
              <a:ext cx="54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d 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95480" y="5105160"/>
              <a:ext cx="838440" cy="38124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58680" y="457200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c d 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05320" y="4572000"/>
              <a:ext cx="990360" cy="4572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91480" y="403848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a b c d 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38480" y="4038480"/>
              <a:ext cx="1600200" cy="4572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990720" y="5881680"/>
              <a:ext cx="5105160" cy="0"/>
            </a:xfrm>
            <a:prstGeom prst="line">
              <a:avLst/>
            </a:prstGeom>
            <a:ln w="1908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23880" y="588168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71600" y="597204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Step 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62320" y="586728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09680" y="595764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Step 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00400" y="586728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48120" y="59576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Step 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62520" y="586728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9880" y="595764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Step 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24280" y="5867280"/>
              <a:ext cx="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572000" y="595764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Step 0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52480" y="3657600"/>
              <a:ext cx="30492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1752480" y="3809520"/>
              <a:ext cx="304920" cy="304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52480" y="5029200"/>
              <a:ext cx="11430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1752480" y="5257440"/>
              <a:ext cx="11430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52480" y="4647960"/>
              <a:ext cx="1752840" cy="152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3352680" y="4800600"/>
              <a:ext cx="15264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95480" y="3886200"/>
              <a:ext cx="1143000" cy="380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3962520" y="4266720"/>
              <a:ext cx="75960" cy="304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18760" y="2819160"/>
              <a:ext cx="202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agglomerativ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(AGNES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75720" y="5562360"/>
              <a:ext cx="138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divisiv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(DIANA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E9151-1771-496E-AF50-E2E77F7935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  <a:ea typeface="宋体"/>
              </a:rPr>
              <a:t>AGNES (Agglomerative Nesting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Introduced in Kaufmann and Rousseeuw (1990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Implemented in statistical analysis packages, e.g., Splu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Use the Single-Link method and the dissimilarity matrix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Merge nodes that have the least dissimilari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Go on in a non-descending fash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Eventually all nodes belong to the same clust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33520" y="4191120"/>
            <a:ext cx="2209680" cy="2017440"/>
            <a:chOff x="533520" y="4191120"/>
            <a:chExt cx="2209680" cy="2017440"/>
          </a:xfrm>
        </p:grpSpPr>
        <p:graphicFrame>
          <p:nvGraphicFramePr>
            <p:cNvPr id="461" name=""/>
            <p:cNvGraphicFramePr/>
            <p:nvPr/>
          </p:nvGraphicFramePr>
          <p:xfrm>
            <a:off x="533520" y="4191120"/>
            <a:ext cx="2209680" cy="201744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3520" y="4191120"/>
                      <a:ext cx="2209680" cy="20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"/>
            <p:cNvSpPr/>
            <p:nvPr/>
          </p:nvSpPr>
          <p:spPr>
            <a:xfrm>
              <a:off x="1218960" y="4572000"/>
              <a:ext cx="456840" cy="45720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18960" y="5029200"/>
              <a:ext cx="456840" cy="45720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33360" y="5029200"/>
              <a:ext cx="228240" cy="45720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3505320" y="4191120"/>
            <a:ext cx="2209680" cy="2017440"/>
            <a:chOff x="3505320" y="4191120"/>
            <a:chExt cx="2209680" cy="2017440"/>
          </a:xfrm>
        </p:grpSpPr>
        <p:graphicFrame>
          <p:nvGraphicFramePr>
            <p:cNvPr id="467" name=""/>
            <p:cNvGraphicFramePr/>
            <p:nvPr/>
          </p:nvGraphicFramePr>
          <p:xfrm>
            <a:off x="3505320" y="4191120"/>
            <a:ext cx="2209680" cy="201744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505320" y="4191120"/>
                      <a:ext cx="2209680" cy="20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9" name=""/>
            <p:cNvSpPr/>
            <p:nvPr/>
          </p:nvSpPr>
          <p:spPr>
            <a:xfrm>
              <a:off x="4724280" y="5486400"/>
              <a:ext cx="456840" cy="30492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62160" y="4495680"/>
              <a:ext cx="609480" cy="60984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14800" y="5029200"/>
              <a:ext cx="609120" cy="38088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876560" y="5029200"/>
              <a:ext cx="456840" cy="45720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6553080" y="4191120"/>
            <a:ext cx="2210040" cy="2017440"/>
            <a:chOff x="6553080" y="4191120"/>
            <a:chExt cx="2210040" cy="2017440"/>
          </a:xfrm>
        </p:grpSpPr>
        <p:graphicFrame>
          <p:nvGraphicFramePr>
            <p:cNvPr id="474" name=""/>
            <p:cNvGraphicFramePr/>
            <p:nvPr/>
          </p:nvGraphicFramePr>
          <p:xfrm>
            <a:off x="6553080" y="4191120"/>
            <a:ext cx="2210040" cy="2017440"/>
          </p:xfrm>
          <a:graphic>
            <a:graphicData uri="http://schemas.openxmlformats.org/presentationml/2006/ole">
              <p:oleObj progId="Excel.Sheet.12" r:id="rId11" spid="">
                <p:embed/>
                <p:pic>
                  <p:nvPicPr>
                    <p:cNvPr id="47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553080" y="4191120"/>
                      <a:ext cx="2210040" cy="20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6" name=""/>
            <p:cNvSpPr/>
            <p:nvPr/>
          </p:nvSpPr>
          <p:spPr>
            <a:xfrm>
              <a:off x="7086600" y="4495680"/>
              <a:ext cx="609480" cy="99072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96080" y="5029200"/>
              <a:ext cx="762120" cy="76212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2971800" y="5105520"/>
            <a:ext cx="30492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943600" y="5029200"/>
            <a:ext cx="30492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249FE-6F96-4EB4-A046-D9E8F4AEB6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0981"/>
                </a:solidFill>
                <a:latin typeface="Tahoma"/>
                <a:ea typeface="宋体"/>
              </a:rPr>
              <a:t>A </a:t>
            </a:r>
            <a:r>
              <a:rPr b="0" i="1" lang="en-US" sz="3200" spc="-1" strike="noStrike">
                <a:solidFill>
                  <a:srgbClr val="170981"/>
                </a:solidFill>
                <a:latin typeface="Tahoma"/>
                <a:ea typeface="宋体"/>
              </a:rPr>
              <a:t>Dendrogram</a:t>
            </a:r>
            <a:r>
              <a:rPr b="0" lang="en-US" sz="3200" spc="-1" strike="noStrike">
                <a:solidFill>
                  <a:srgbClr val="170981"/>
                </a:solidFill>
                <a:latin typeface="Tahoma"/>
                <a:ea typeface="宋体"/>
              </a:rPr>
              <a:t> Shows How the Clusters are Merged Hierarchically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Decompose data objects into a several levels of nested partitioning (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Times New Roman"/>
                <a:ea typeface="宋体"/>
              </a:rPr>
              <a:t>tree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 of clusters), called a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Times New Roman"/>
                <a:ea typeface="宋体"/>
              </a:rPr>
              <a:t>dendrogram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A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Times New Roman"/>
                <a:ea typeface="宋体"/>
              </a:rPr>
              <a:t>clustering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 of the data objects is obtained by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Times New Roman"/>
                <a:ea typeface="宋体"/>
              </a:rPr>
              <a:t>cutting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 the dendrogram at the desired level, then each </a:t>
            </a:r>
            <a:r>
              <a:rPr b="1" lang="en-US" sz="2000" spc="-1" strike="noStrike" u="sng">
                <a:solidFill>
                  <a:srgbClr val="40458c"/>
                </a:solidFill>
                <a:uFillTx/>
                <a:latin typeface="Times New Roman"/>
                <a:ea typeface="宋体"/>
              </a:rPr>
              <a:t>connected component</a:t>
            </a:r>
            <a:r>
              <a:rPr b="1" lang="en-US" sz="2000" spc="-1" strike="noStrike">
                <a:solidFill>
                  <a:srgbClr val="40458c"/>
                </a:solidFill>
                <a:latin typeface="Times New Roman"/>
                <a:ea typeface="宋体"/>
              </a:rPr>
              <a:t> forms a cluste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85800" y="1066680"/>
            <a:ext cx="7924680" cy="4876920"/>
            <a:chOff x="685800" y="1066680"/>
            <a:chExt cx="7924680" cy="4876920"/>
          </a:xfrm>
        </p:grpSpPr>
        <p:sp>
          <p:nvSpPr>
            <p:cNvPr id="484" name=""/>
            <p:cNvSpPr/>
            <p:nvPr/>
          </p:nvSpPr>
          <p:spPr>
            <a:xfrm>
              <a:off x="8458200" y="5791320"/>
              <a:ext cx="152280" cy="1522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391520" y="5791320"/>
              <a:ext cx="152280" cy="1522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00800" y="5791320"/>
              <a:ext cx="152280" cy="1522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5680" y="5791320"/>
              <a:ext cx="152640" cy="1522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05320" y="5791320"/>
              <a:ext cx="152280" cy="1522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00200" y="5791320"/>
              <a:ext cx="152280" cy="1522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5800" y="5791320"/>
              <a:ext cx="152280" cy="1522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2120" y="4952880"/>
              <a:ext cx="91440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6520" y="4952880"/>
              <a:ext cx="0" cy="91440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81280" y="4952880"/>
              <a:ext cx="0" cy="91440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581280" y="4952880"/>
              <a:ext cx="9907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72000" y="4952880"/>
              <a:ext cx="0" cy="91440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67480" y="5029200"/>
              <a:ext cx="0" cy="8380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67480" y="5029200"/>
              <a:ext cx="106704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534520" y="5029200"/>
              <a:ext cx="0" cy="8380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19320" y="4191120"/>
              <a:ext cx="0" cy="76176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19320" y="4191120"/>
              <a:ext cx="144756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66880" y="4191120"/>
              <a:ext cx="0" cy="167616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62520" y="4191120"/>
              <a:ext cx="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038480" y="4191120"/>
              <a:ext cx="0" cy="76176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114800" y="4191120"/>
              <a:ext cx="14479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62720" y="4191120"/>
              <a:ext cx="0" cy="167616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38480" y="4191120"/>
              <a:ext cx="15264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800600" y="3352680"/>
              <a:ext cx="0" cy="8384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477120" y="3352320"/>
              <a:ext cx="0" cy="251460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800600" y="3352680"/>
              <a:ext cx="16765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38680" y="2514600"/>
              <a:ext cx="0" cy="8380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8001000" y="2437920"/>
              <a:ext cx="0" cy="259092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5638680" y="2438280"/>
              <a:ext cx="23623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638680" y="2437920"/>
              <a:ext cx="0" cy="22860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781680" y="1523880"/>
              <a:ext cx="0" cy="91440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2057040" y="1523880"/>
              <a:ext cx="472428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905120" y="1523520"/>
              <a:ext cx="0" cy="26672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38280" y="1523880"/>
              <a:ext cx="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1905120" y="1523880"/>
              <a:ext cx="38088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343400" y="1066680"/>
              <a:ext cx="0" cy="45720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62120" y="4952880"/>
              <a:ext cx="0" cy="91440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23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27E07-D2E7-4501-9305-DEAF956D74F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  <a:ea typeface="宋体"/>
              </a:rPr>
              <a:t>DIANA (Divisive Analysis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0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Introduced in Kaufmann and Rousseeuw (1990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Implemented in statistical analysis packages, e.g., Splu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Inverse order of AG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Eventually each node forms a cluster on its ow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914400" y="3962520"/>
            <a:ext cx="2209680" cy="2017440"/>
            <a:chOff x="914400" y="3962520"/>
            <a:chExt cx="2209680" cy="2017440"/>
          </a:xfrm>
        </p:grpSpPr>
        <p:graphicFrame>
          <p:nvGraphicFramePr>
            <p:cNvPr id="527" name=""/>
            <p:cNvGraphicFramePr/>
            <p:nvPr/>
          </p:nvGraphicFramePr>
          <p:xfrm>
            <a:off x="914400" y="3962520"/>
            <a:ext cx="2209680" cy="201744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52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14400" y="3962520"/>
                      <a:ext cx="2209680" cy="20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9" name=""/>
            <p:cNvSpPr/>
            <p:nvPr/>
          </p:nvSpPr>
          <p:spPr>
            <a:xfrm>
              <a:off x="1447560" y="4267080"/>
              <a:ext cx="609120" cy="99072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57040" y="4800600"/>
              <a:ext cx="761760" cy="76212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581280" y="3998880"/>
            <a:ext cx="2210040" cy="2017440"/>
            <a:chOff x="3581280" y="3998880"/>
            <a:chExt cx="2210040" cy="2017440"/>
          </a:xfrm>
        </p:grpSpPr>
        <p:graphicFrame>
          <p:nvGraphicFramePr>
            <p:cNvPr id="532" name=""/>
            <p:cNvGraphicFramePr/>
            <p:nvPr/>
          </p:nvGraphicFramePr>
          <p:xfrm>
            <a:off x="3581280" y="3998880"/>
            <a:ext cx="2210040" cy="201744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53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81280" y="3998880"/>
                      <a:ext cx="2210040" cy="20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4" name=""/>
            <p:cNvSpPr/>
            <p:nvPr/>
          </p:nvSpPr>
          <p:spPr>
            <a:xfrm>
              <a:off x="4800600" y="5294160"/>
              <a:ext cx="457200" cy="30492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38480" y="4303440"/>
              <a:ext cx="609840" cy="60984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91120" y="4836960"/>
              <a:ext cx="609480" cy="38088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952880" y="4836960"/>
              <a:ext cx="457200" cy="45720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324480" y="3962520"/>
            <a:ext cx="2209680" cy="2017440"/>
            <a:chOff x="6324480" y="3962520"/>
            <a:chExt cx="2209680" cy="2017440"/>
          </a:xfrm>
        </p:grpSpPr>
        <p:graphicFrame>
          <p:nvGraphicFramePr>
            <p:cNvPr id="539" name=""/>
            <p:cNvGraphicFramePr/>
            <p:nvPr/>
          </p:nvGraphicFramePr>
          <p:xfrm>
            <a:off x="6324480" y="3962520"/>
            <a:ext cx="2209680" cy="201744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24480" y="3962520"/>
                      <a:ext cx="2209680" cy="201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1" name=""/>
            <p:cNvSpPr/>
            <p:nvPr/>
          </p:nvSpPr>
          <p:spPr>
            <a:xfrm>
              <a:off x="7010280" y="4343400"/>
              <a:ext cx="457200" cy="45684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10280" y="4800600"/>
              <a:ext cx="457200" cy="45684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924680" y="4800600"/>
              <a:ext cx="228600" cy="45684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57640" y="4608360"/>
              <a:ext cx="152640" cy="30456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6200000">
              <a:off x="7620120" y="5141520"/>
              <a:ext cx="228240" cy="45720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16200000">
              <a:off x="7772040" y="4912560"/>
              <a:ext cx="152280" cy="304560"/>
            </a:xfrm>
            <a:prstGeom prst="ellipse">
              <a:avLst/>
            </a:prstGeom>
            <a:noFill/>
            <a:ln w="2844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3200400" y="4913280"/>
            <a:ext cx="30492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943600" y="4989600"/>
            <a:ext cx="30492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9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3CFC6-FE3F-44DC-BE31-B21D3B08866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  <a:ea typeface="宋体"/>
              </a:rPr>
              <a:t>More on Hierarchical Clustering Metho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Major weakness of agglomerative clustering metho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  <a:ea typeface="宋体"/>
              </a:rPr>
              <a:t>do not scal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well: time complexity of at least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(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n</a:t>
            </a:r>
            <a:r>
              <a:rPr b="0" i="1" lang="en-US" sz="2000" spc="-1" strike="noStrike" baseline="30000">
                <a:solidFill>
                  <a:srgbClr val="40458c"/>
                </a:solidFill>
                <a:latin typeface="Tahoma"/>
                <a:ea typeface="宋体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), where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is the number of total objec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can never undo what was done previousl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Integration of hierarchical with distance-based cluster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  <a:ea typeface="宋体"/>
              </a:rPr>
              <a:t>BIRCH (1996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: uses CF-tree and incrementally adjusts the quality of sub-cluste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  <a:ea typeface="宋体"/>
              </a:rPr>
              <a:t>CURE (1998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): selects well-scattered points from the cluster and then shrinks them towards the center of the cluster by a specified frac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  <a:ea typeface="宋体"/>
              </a:rPr>
              <a:t>CHAMELEON (1999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: hierarchical clustering using dynamic model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4EB4F-24BB-4A74-A056-53925792A41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宋体"/>
              </a:rPr>
              <a:t>BIRCH (1996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Birch: Balanced Iterative Reducing and Clustering using Hierarchies,  by Zhang, Ramakrishnan, Livny (SIGMOD’96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Incrementally construct a CF (Clustering Feature) tree, a hierarchical data structure for multiphase cluster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宋体"/>
              </a:rPr>
              <a:t>Phase 1: scan DB to build an initial in-memory CF tree (a multi-level compression of the data that tries to preserve the inherent clustering structure of the data)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  <a:ea typeface="宋体"/>
              </a:rPr>
              <a:t>Phase 2: use an arbitrary clustering algorithm to cluster the leaf nodes of the CF-tree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Scales linearly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: finds a good clustering with a single scan and improves the quality with a few additional sca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Weakness: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handles only numeric data, and sensitive to the order of the data recor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5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90E02-6250-4857-9D63-41798C53D45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  <a:ea typeface="宋体"/>
              </a:rPr>
              <a:t>Clustering Feature Vector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Clustering Feature: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  </a:t>
            </a:r>
            <a:r>
              <a:rPr b="1" i="1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CF = (N, LS, S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N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: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Number of data poi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LS: </a:t>
            </a:r>
            <a:r>
              <a:rPr b="0" i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</a:t>
            </a:r>
            <a:r>
              <a:rPr b="0" i="1" lang="en-US" sz="2400" spc="-1" strike="noStrike" baseline="30000">
                <a:solidFill>
                  <a:srgbClr val="40458c"/>
                </a:solidFill>
                <a:latin typeface="Times New Roman"/>
                <a:ea typeface="宋体"/>
              </a:rPr>
              <a:t>N</a:t>
            </a:r>
            <a:r>
              <a:rPr b="0" i="1" lang="en-US" sz="2400" spc="-1" strike="noStrike" baseline="-25000">
                <a:solidFill>
                  <a:srgbClr val="40458c"/>
                </a:solidFill>
                <a:latin typeface="Times New Roman"/>
                <a:ea typeface="宋体"/>
              </a:rPr>
              <a:t>i=1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=X</a:t>
            </a:r>
            <a:r>
              <a:rPr b="0" i="1" lang="en-US" sz="2400" spc="-1" strike="noStrike" baseline="-25000">
                <a:solidFill>
                  <a:srgbClr val="40458c"/>
                </a:solidFill>
                <a:latin typeface="Times New Roman"/>
                <a:ea typeface="宋体"/>
              </a:rPr>
              <a:t>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SS: </a:t>
            </a:r>
            <a:r>
              <a:rPr b="0" i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</a:t>
            </a:r>
            <a:r>
              <a:rPr b="0" i="1" lang="en-US" sz="2400" spc="-1" strike="noStrike" baseline="30000">
                <a:solidFill>
                  <a:srgbClr val="40458c"/>
                </a:solidFill>
                <a:latin typeface="Times New Roman"/>
                <a:ea typeface="宋体"/>
              </a:rPr>
              <a:t>N</a:t>
            </a:r>
            <a:r>
              <a:rPr b="0" i="1" lang="en-US" sz="2400" spc="-1" strike="noStrike" baseline="-25000">
                <a:solidFill>
                  <a:srgbClr val="40458c"/>
                </a:solidFill>
                <a:latin typeface="Times New Roman"/>
                <a:ea typeface="宋体"/>
              </a:rPr>
              <a:t>i=1</a:t>
            </a:r>
            <a:r>
              <a:rPr b="0" i="1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=X</a:t>
            </a:r>
            <a:r>
              <a:rPr b="0" i="1" lang="en-US" sz="2400" spc="-1" strike="noStrike" baseline="-25000">
                <a:solidFill>
                  <a:srgbClr val="40458c"/>
                </a:solidFill>
                <a:latin typeface="Times New Roman"/>
                <a:ea typeface="宋体"/>
              </a:rPr>
              <a:t>i</a:t>
            </a:r>
            <a:r>
              <a:rPr b="0" i="1" lang="en-US" sz="2400" spc="-1" strike="noStrike" baseline="30000">
                <a:solidFill>
                  <a:srgbClr val="40458c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2743200" y="3835440"/>
          <a:ext cx="2209680" cy="20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835440"/>
                    <a:ext cx="220968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4952880" y="3124080"/>
            <a:ext cx="3429000" cy="459720"/>
          </a:xfrm>
          <a:prstGeom prst="borderCallout2">
            <a:avLst>
              <a:gd name="adj1" fmla="val 18750"/>
              <a:gd name="adj2" fmla="val -8333"/>
              <a:gd name="adj3" fmla="val 23527"/>
              <a:gd name="adj4" fmla="val -20416"/>
              <a:gd name="adj5" fmla="val 224569"/>
              <a:gd name="adj6" fmla="val -39300"/>
            </a:avLst>
          </a:prstGeom>
          <a:noFill/>
          <a:ln w="28440">
            <a:solidFill>
              <a:srgbClr val="40458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CF = (5, (16,30),(54,190)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3935520"/>
            <a:ext cx="9907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(3,4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(2,6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(4,5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(4,7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(3,8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30FA2-B2EE-400E-A236-F4071B4C1B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  <a:ea typeface="宋体"/>
              </a:rPr>
              <a:t>CF Tre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04920" y="533520"/>
            <a:ext cx="8610480" cy="5937120"/>
            <a:chOff x="304920" y="533520"/>
            <a:chExt cx="8610480" cy="5937120"/>
          </a:xfrm>
        </p:grpSpPr>
        <p:grpSp>
          <p:nvGrpSpPr>
            <p:cNvPr id="565" name=""/>
            <p:cNvGrpSpPr/>
            <p:nvPr/>
          </p:nvGrpSpPr>
          <p:grpSpPr>
            <a:xfrm>
              <a:off x="1828800" y="1066680"/>
              <a:ext cx="4952880" cy="1042200"/>
              <a:chOff x="1828800" y="1066680"/>
              <a:chExt cx="4952880" cy="1042200"/>
            </a:xfrm>
          </p:grpSpPr>
          <p:sp>
            <p:nvSpPr>
              <p:cNvPr id="566" name=""/>
              <p:cNvSpPr/>
              <p:nvPr/>
            </p:nvSpPr>
            <p:spPr>
              <a:xfrm>
                <a:off x="3471840" y="1066680"/>
                <a:ext cx="0" cy="91440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835280" y="1073160"/>
                <a:ext cx="4787640" cy="901800"/>
              </a:xfrm>
              <a:prstGeom prst="rect">
                <a:avLst/>
              </a:prstGeom>
              <a:noFill/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651040" y="1066680"/>
                <a:ext cx="0" cy="91440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667480" y="1066680"/>
                <a:ext cx="0" cy="91440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299120" y="1066680"/>
                <a:ext cx="0" cy="91440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828800" y="1523880"/>
                <a:ext cx="274320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10080" y="1523880"/>
                <a:ext cx="12193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05120" y="1066680"/>
                <a:ext cx="6858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  <a:ea typeface="宋体"/>
                  </a:rPr>
                  <a:t>CF</a:t>
                </a:r>
                <a:r>
                  <a:rPr b="0" lang="en-US" sz="2400" spc="-1" strike="noStrike" baseline="-25000">
                    <a:solidFill>
                      <a:srgbClr val="40458c"/>
                    </a:solidFill>
                    <a:latin typeface="Times New Roman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05120" y="1600200"/>
                <a:ext cx="9144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  <a:ea typeface="宋体"/>
                  </a:rPr>
                  <a:t>child</a:t>
                </a:r>
                <a:r>
                  <a:rPr b="0" lang="en-US" sz="2400" spc="-1" strike="noStrike" baseline="-25000">
                    <a:solidFill>
                      <a:srgbClr val="40458c"/>
                    </a:solidFill>
                    <a:latin typeface="Times New Roman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505320" y="1066680"/>
                <a:ext cx="6858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  <a:ea typeface="宋体"/>
                  </a:rPr>
                  <a:t>CF</a:t>
                </a:r>
                <a:r>
                  <a:rPr b="0" lang="en-US" sz="2400" spc="-1" strike="noStrike" baseline="-25000">
                    <a:solidFill>
                      <a:srgbClr val="40458c"/>
                    </a:solidFill>
                    <a:latin typeface="Times New Roman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505320" y="1600200"/>
                <a:ext cx="9144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  <a:ea typeface="宋体"/>
                  </a:rPr>
                  <a:t>child</a:t>
                </a:r>
                <a:r>
                  <a:rPr b="0" lang="en-US" sz="2400" spc="-1" strike="noStrike" baseline="-25000">
                    <a:solidFill>
                      <a:srgbClr val="40458c"/>
                    </a:solidFill>
                    <a:latin typeface="Times New Roman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743200" y="1066680"/>
                <a:ext cx="6858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  <a:ea typeface="宋体"/>
                  </a:rPr>
                  <a:t>CF</a:t>
                </a:r>
                <a:r>
                  <a:rPr b="0" lang="en-US" sz="2400" spc="-1" strike="noStrike" baseline="-25000">
                    <a:solidFill>
                      <a:srgbClr val="40458c"/>
                    </a:solidFill>
                    <a:latin typeface="Times New Roman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743200" y="1600200"/>
                <a:ext cx="9144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  <a:ea typeface="宋体"/>
                  </a:rPr>
                  <a:t>child</a:t>
                </a:r>
                <a:r>
                  <a:rPr b="0" lang="en-US" sz="2400" spc="-1" strike="noStrike" baseline="-25000">
                    <a:solidFill>
                      <a:srgbClr val="40458c"/>
                    </a:solidFill>
                    <a:latin typeface="Times New Roman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867280" y="1066680"/>
                <a:ext cx="6858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  <a:ea typeface="宋体"/>
                  </a:rPr>
                  <a:t>CF</a:t>
                </a:r>
                <a:r>
                  <a:rPr b="0" lang="en-US" sz="2400" spc="-1" strike="noStrike" baseline="-25000">
                    <a:solidFill>
                      <a:srgbClr val="40458c"/>
                    </a:solidFill>
                    <a:latin typeface="Times New Roman"/>
                    <a:ea typeface="宋体"/>
                  </a:rPr>
                  <a:t>6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867280" y="1600200"/>
                <a:ext cx="91440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  <a:ea typeface="宋体"/>
                  </a:rPr>
                  <a:t>child</a:t>
                </a:r>
                <a:r>
                  <a:rPr b="0" lang="en-US" sz="2400" spc="-1" strike="noStrike" baseline="-25000">
                    <a:solidFill>
                      <a:srgbClr val="40458c"/>
                    </a:solidFill>
                    <a:latin typeface="Times New Roman"/>
                    <a:ea typeface="宋体"/>
                  </a:rPr>
                  <a:t>6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2557440" y="3048120"/>
              <a:ext cx="0" cy="91440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20880" y="3054240"/>
              <a:ext cx="4787640" cy="901800"/>
            </a:xfrm>
            <a:prstGeom prst="rect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36640" y="3048120"/>
              <a:ext cx="0" cy="91440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753080" y="3048120"/>
              <a:ext cx="0" cy="91440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384720" y="3048120"/>
              <a:ext cx="0" cy="91440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914400" y="3505320"/>
              <a:ext cx="2743200" cy="0"/>
            </a:xfrm>
            <a:prstGeom prst="line">
              <a:avLst/>
            </a:prstGeom>
            <a:ln w="1260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3505320"/>
              <a:ext cx="1219320" cy="0"/>
            </a:xfrm>
            <a:prstGeom prst="line">
              <a:avLst/>
            </a:prstGeom>
            <a:ln w="12600">
              <a:solidFill>
                <a:srgbClr val="40458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990720" y="3048120"/>
              <a:ext cx="685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CF</a:t>
              </a:r>
              <a:r>
                <a:rPr b="0" lang="en-US" sz="2400" spc="-1" strike="noStrike" baseline="-25000">
                  <a:solidFill>
                    <a:srgbClr val="40458c"/>
                  </a:solidFill>
                  <a:latin typeface="Times New Roman"/>
                  <a:ea typeface="宋体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990720" y="358128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child</a:t>
              </a:r>
              <a:r>
                <a:rPr b="0" lang="en-US" sz="2400" spc="-1" strike="noStrike" baseline="-25000">
                  <a:solidFill>
                    <a:srgbClr val="40458c"/>
                  </a:solidFill>
                  <a:latin typeface="Times New Roman"/>
                  <a:ea typeface="宋体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590920" y="3048120"/>
              <a:ext cx="685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CF</a:t>
              </a:r>
              <a:r>
                <a:rPr b="0" lang="en-US" sz="2400" spc="-1" strike="noStrike" baseline="-25000">
                  <a:solidFill>
                    <a:srgbClr val="40458c"/>
                  </a:solidFill>
                  <a:latin typeface="Times New Roman"/>
                  <a:ea typeface="宋体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90920" y="358128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child</a:t>
              </a:r>
              <a:r>
                <a:rPr b="0" lang="en-US" sz="2400" spc="-1" strike="noStrike" baseline="-25000">
                  <a:solidFill>
                    <a:srgbClr val="40458c"/>
                  </a:solidFill>
                  <a:latin typeface="Times New Roman"/>
                  <a:ea typeface="宋体"/>
                </a:rPr>
                <a:t>3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28800" y="3048120"/>
              <a:ext cx="685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CF</a:t>
              </a:r>
              <a:r>
                <a:rPr b="0" lang="en-US" sz="2400" spc="-1" strike="noStrike" baseline="-25000">
                  <a:solidFill>
                    <a:srgbClr val="40458c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828800" y="358128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child</a:t>
              </a:r>
              <a:r>
                <a:rPr b="0" lang="en-US" sz="2400" spc="-1" strike="noStrike" baseline="-25000">
                  <a:solidFill>
                    <a:srgbClr val="40458c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52880" y="3048120"/>
              <a:ext cx="685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CF</a:t>
              </a:r>
              <a:r>
                <a:rPr b="0" lang="en-US" sz="2400" spc="-1" strike="noStrike" baseline="-25000">
                  <a:solidFill>
                    <a:srgbClr val="40458c"/>
                  </a:solidFill>
                  <a:latin typeface="Times New Roman"/>
                  <a:ea typeface="宋体"/>
                </a:rPr>
                <a:t>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952880" y="3581280"/>
              <a:ext cx="9144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child</a:t>
              </a:r>
              <a:r>
                <a:rPr b="0" lang="en-US" sz="2400" spc="-1" strike="noStrike" baseline="-25000">
                  <a:solidFill>
                    <a:srgbClr val="40458c"/>
                  </a:solidFill>
                  <a:latin typeface="Times New Roman"/>
                  <a:ea typeface="宋体"/>
                </a:rPr>
                <a:t>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1295280" y="1981080"/>
              <a:ext cx="990720" cy="106704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048120" y="1981080"/>
              <a:ext cx="4190760" cy="9907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733920" y="1981080"/>
              <a:ext cx="5029200" cy="9907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11040" y="4807080"/>
              <a:ext cx="3797280" cy="596880"/>
            </a:xfrm>
            <a:prstGeom prst="rect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90720" y="4876920"/>
              <a:ext cx="685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CF</a:t>
              </a:r>
              <a:r>
                <a:rPr b="0" lang="en-US" sz="2400" spc="-1" strike="noStrike" baseline="-25000">
                  <a:solidFill>
                    <a:srgbClr val="40458c"/>
                  </a:solidFill>
                  <a:latin typeface="Times New Roman"/>
                  <a:ea typeface="宋体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90720" y="4800600"/>
              <a:ext cx="0" cy="6094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600200" y="4876920"/>
              <a:ext cx="685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CF</a:t>
              </a:r>
              <a:r>
                <a:rPr b="0" lang="en-US" sz="2400" spc="-1" strike="noStrike" baseline="-25000">
                  <a:solidFill>
                    <a:srgbClr val="40458c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600200" y="4800600"/>
              <a:ext cx="0" cy="6094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19520" y="4876920"/>
              <a:ext cx="685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CF</a:t>
              </a:r>
              <a:r>
                <a:rPr b="0" lang="en-US" sz="2400" spc="-1" strike="noStrike" baseline="-25000">
                  <a:solidFill>
                    <a:srgbClr val="40458c"/>
                  </a:solidFill>
                  <a:latin typeface="Times New Roman"/>
                  <a:ea typeface="宋体"/>
                </a:rPr>
                <a:t>6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19520" y="4800600"/>
              <a:ext cx="0" cy="6094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209680" y="4800600"/>
              <a:ext cx="0" cy="6094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429000" y="4800600"/>
              <a:ext cx="0" cy="6094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362320" y="5105520"/>
              <a:ext cx="304560" cy="0"/>
            </a:xfrm>
            <a:prstGeom prst="line">
              <a:avLst/>
            </a:prstGeom>
            <a:ln w="2556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880" y="4876920"/>
              <a:ext cx="685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prev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429000" y="4876920"/>
              <a:ext cx="685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nex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914400" y="3962520"/>
              <a:ext cx="380880" cy="83808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730760" y="4807080"/>
              <a:ext cx="3797280" cy="596880"/>
            </a:xfrm>
            <a:prstGeom prst="rect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410080" y="4876920"/>
              <a:ext cx="685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CF</a:t>
              </a:r>
              <a:r>
                <a:rPr b="0" lang="en-US" sz="2400" spc="-1" strike="noStrike" baseline="-25000">
                  <a:solidFill>
                    <a:srgbClr val="40458c"/>
                  </a:solidFill>
                  <a:latin typeface="Times New Roman"/>
                  <a:ea typeface="宋体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410080" y="4800600"/>
              <a:ext cx="0" cy="6094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876920"/>
              <a:ext cx="685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CF</a:t>
              </a:r>
              <a:r>
                <a:rPr b="0" lang="en-US" sz="2400" spc="-1" strike="noStrike" baseline="-25000">
                  <a:solidFill>
                    <a:srgbClr val="40458c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19920" y="4800600"/>
              <a:ext cx="0" cy="6094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38880" y="4876920"/>
              <a:ext cx="6858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CF</a:t>
              </a:r>
              <a:r>
                <a:rPr b="0" lang="en-US" sz="2400" spc="-1" strike="noStrike" baseline="-25000">
                  <a:solidFill>
                    <a:srgbClr val="40458c"/>
                  </a:solidFill>
                  <a:latin typeface="Times New Roman"/>
                  <a:ea typeface="宋体"/>
                </a:rPr>
                <a:t>4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238880" y="4800600"/>
              <a:ext cx="0" cy="6094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629400" y="4800600"/>
              <a:ext cx="0" cy="6094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48720" y="4800600"/>
              <a:ext cx="0" cy="6094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781680" y="5105520"/>
              <a:ext cx="304920" cy="0"/>
            </a:xfrm>
            <a:prstGeom prst="line">
              <a:avLst/>
            </a:prstGeom>
            <a:ln w="2556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800600" y="4876920"/>
              <a:ext cx="685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prev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848720" y="4876920"/>
              <a:ext cx="685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nex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33720" y="3962520"/>
              <a:ext cx="4800600" cy="83808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4114440" y="4952880"/>
              <a:ext cx="60948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114800" y="5257800"/>
              <a:ext cx="60948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534520" y="5334120"/>
              <a:ext cx="38088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8534520" y="5105520"/>
              <a:ext cx="380880" cy="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4920" y="1143000"/>
              <a:ext cx="106668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B = 7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L = 6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962520" y="3505320"/>
              <a:ext cx="304560" cy="0"/>
            </a:xfrm>
            <a:prstGeom prst="line">
              <a:avLst/>
            </a:prstGeom>
            <a:ln w="2556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76920" y="1523880"/>
              <a:ext cx="304560" cy="0"/>
            </a:xfrm>
            <a:prstGeom prst="line">
              <a:avLst/>
            </a:prstGeom>
            <a:ln w="2556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391520" y="3505320"/>
              <a:ext cx="838080" cy="0"/>
            </a:xfrm>
            <a:prstGeom prst="line">
              <a:avLst/>
            </a:prstGeom>
            <a:ln w="2556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733920" y="533520"/>
              <a:ext cx="99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Root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438280" y="2590920"/>
              <a:ext cx="1981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Non-leaf nod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362320" y="4343400"/>
              <a:ext cx="1447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Leaf nod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10280" y="4343400"/>
              <a:ext cx="1447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Leaf nod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920880" y="5721480"/>
              <a:ext cx="749160" cy="749160"/>
              <a:chOff x="920880" y="5721480"/>
              <a:chExt cx="749160" cy="749160"/>
            </a:xfrm>
          </p:grpSpPr>
          <p:sp>
            <p:nvSpPr>
              <p:cNvPr id="638" name=""/>
              <p:cNvSpPr/>
              <p:nvPr/>
            </p:nvSpPr>
            <p:spPr>
              <a:xfrm>
                <a:off x="1149480" y="5950080"/>
                <a:ext cx="63360" cy="6336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301760" y="6102360"/>
                <a:ext cx="63360" cy="6336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301760" y="5950080"/>
                <a:ext cx="63360" cy="6336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73160" y="6254640"/>
                <a:ext cx="63360" cy="6372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073160" y="6102360"/>
                <a:ext cx="63360" cy="6336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225440" y="6178680"/>
                <a:ext cx="63720" cy="6336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454040" y="6254640"/>
                <a:ext cx="63720" cy="6372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20880" y="5721480"/>
                <a:ext cx="749160" cy="749160"/>
              </a:xfrm>
              <a:prstGeom prst="ellipse">
                <a:avLst/>
              </a:prstGeom>
              <a:noFill/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1295280" y="5486400"/>
              <a:ext cx="0" cy="1522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47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178E1-C7A2-4748-80DE-316649AD40A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  <a:ea typeface="宋体"/>
              </a:rPr>
              <a:t>CURE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宋体"/>
              </a:rPr>
              <a:t>(Clustering Using REpresentatives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CURE: proposed by Guha, Rastogi &amp; Shim, 199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2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Stops the creation of a cluster hierarchy if a level consists of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k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cluste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12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Uses multiple representative points to evaluate the distance between clusters, adjusts well to arbitrary shaped clusters and avoids single-link effec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650" name="cure1" descr=""/>
          <p:cNvPicPr/>
          <p:nvPr/>
        </p:nvPicPr>
        <p:blipFill>
          <a:blip r:embed="rId2"/>
          <a:stretch/>
        </p:blipFill>
        <p:spPr>
          <a:xfrm>
            <a:off x="1523880" y="3962520"/>
            <a:ext cx="6172200" cy="2179440"/>
          </a:xfrm>
          <a:prstGeom prst="rect">
            <a:avLst/>
          </a:prstGeom>
          <a:ln w="0">
            <a:noFill/>
          </a:ln>
        </p:spPr>
      </p:pic>
      <p:sp>
        <p:nvSpPr>
          <p:cNvPr id="651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3CE66-DD68-4692-A560-852B806A732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General Applications of Clustering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ttern Recogni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patial Data Analysi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reate thematic maps in GIS by clustering feature spac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tect spatial clusters and explain them in spatial data min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mage Process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conomic Science (especially market research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WW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cument classific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uster Weblog data to discover groups of similar access patter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01948-BD54-41F8-B1B2-924746F25A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宋体"/>
              </a:rPr>
              <a:t>Drawbacks of Distance-Based Metho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Drawbacks of square-error based clustering method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Consider only one point as representative of a clust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Good only for convex shaped, similar size and density, and if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can be reasonably estimat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654" name="cure2" descr=""/>
          <p:cNvPicPr/>
          <p:nvPr/>
        </p:nvPicPr>
        <p:blipFill>
          <a:blip r:embed="rId2"/>
          <a:stretch/>
        </p:blipFill>
        <p:spPr>
          <a:xfrm>
            <a:off x="2286000" y="3124080"/>
            <a:ext cx="4429080" cy="2810160"/>
          </a:xfrm>
          <a:prstGeom prst="rect">
            <a:avLst/>
          </a:prstGeom>
          <a:ln w="0">
            <a:noFill/>
          </a:ln>
        </p:spPr>
      </p:pic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79712-C177-4D66-9F54-BA31F87E545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宋体"/>
              </a:rPr>
              <a:t>Cure: The Algorith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Draw random sample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Partition sample to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 partitions with size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s/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Partially cluster partitions into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s/pq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 clust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Eliminate outli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14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By random sampl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14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If a cluster grows too slow, eliminate i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Cluster partial cluste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14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Label data in dis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8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8D5DB-2A06-42E2-9C13-1B879E70AF9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  <a:ea typeface="宋体"/>
              </a:rPr>
              <a:t>Data Partitioning and Clustering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235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7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s = 5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7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p = 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7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s/p = 2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057040" y="5943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038120" y="59436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04560" y="2895480"/>
            <a:ext cx="3733560" cy="3216240"/>
            <a:chOff x="304560" y="2895480"/>
            <a:chExt cx="3733560" cy="3216240"/>
          </a:xfrm>
        </p:grpSpPr>
        <p:sp>
          <p:nvSpPr>
            <p:cNvPr id="664" name=""/>
            <p:cNvSpPr/>
            <p:nvPr/>
          </p:nvSpPr>
          <p:spPr>
            <a:xfrm flipH="1">
              <a:off x="1121760" y="4435200"/>
              <a:ext cx="363240" cy="30816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394000" y="4497120"/>
              <a:ext cx="363240" cy="3078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58560" y="3018600"/>
              <a:ext cx="0" cy="12934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58560" y="4312080"/>
              <a:ext cx="158940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492920" y="3639600"/>
              <a:ext cx="37800" cy="5148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402200" y="3819600"/>
              <a:ext cx="3744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92920" y="3757680"/>
              <a:ext cx="3780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3960" y="3578040"/>
              <a:ext cx="3744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98600" y="3886200"/>
              <a:ext cx="3780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89320" y="3824280"/>
              <a:ext cx="37440" cy="5148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580040" y="3763080"/>
              <a:ext cx="3744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534680" y="3578040"/>
              <a:ext cx="3780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349280" y="3891240"/>
              <a:ext cx="3744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25760" y="3516480"/>
              <a:ext cx="3744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16480" y="3454560"/>
              <a:ext cx="37440" cy="5148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629360" y="3459960"/>
              <a:ext cx="3780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98600" y="4009320"/>
              <a:ext cx="37800" cy="5148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671120" y="3639600"/>
              <a:ext cx="37800" cy="5148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671120" y="3763080"/>
              <a:ext cx="3780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16480" y="3393360"/>
              <a:ext cx="3744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79720" y="4070880"/>
              <a:ext cx="3780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25080" y="4070880"/>
              <a:ext cx="3744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125080" y="4009320"/>
              <a:ext cx="37440" cy="5148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079720" y="4132800"/>
              <a:ext cx="3780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70800" y="4132800"/>
              <a:ext cx="3744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25080" y="4194000"/>
              <a:ext cx="37440" cy="5148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534680" y="3886200"/>
              <a:ext cx="3780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580040" y="3639600"/>
              <a:ext cx="37440" cy="5148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534680" y="3824280"/>
              <a:ext cx="37800" cy="5148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534680" y="3701160"/>
              <a:ext cx="3780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89320" y="4009320"/>
              <a:ext cx="37440" cy="5148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85720" y="3891240"/>
              <a:ext cx="3744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584000" y="3696120"/>
              <a:ext cx="37440" cy="5148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25760" y="3701160"/>
              <a:ext cx="3744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440000" y="4014360"/>
              <a:ext cx="3780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16480" y="3639600"/>
              <a:ext cx="37440" cy="5148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07200" y="3578040"/>
              <a:ext cx="3780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71120" y="3516480"/>
              <a:ext cx="3780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489320" y="4132800"/>
              <a:ext cx="3744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674720" y="3573000"/>
              <a:ext cx="3744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74720" y="3696120"/>
              <a:ext cx="37440" cy="5148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58240" y="3387960"/>
              <a:ext cx="3744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538640" y="3819600"/>
              <a:ext cx="3744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671120" y="3763080"/>
              <a:ext cx="3780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34360" y="3886200"/>
              <a:ext cx="3744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79720" y="3886200"/>
              <a:ext cx="3780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079720" y="3824280"/>
              <a:ext cx="37800" cy="5148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34360" y="3947760"/>
              <a:ext cx="3744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125080" y="3947760"/>
              <a:ext cx="3744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079720" y="4009320"/>
              <a:ext cx="37800" cy="5148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02200" y="3696120"/>
              <a:ext cx="37440" cy="5148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43960" y="3578040"/>
              <a:ext cx="3744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92920" y="3511080"/>
              <a:ext cx="37800" cy="5148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98600" y="3763080"/>
              <a:ext cx="3780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29360" y="3336840"/>
              <a:ext cx="3780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447920" y="3942720"/>
              <a:ext cx="3744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580040" y="3516480"/>
              <a:ext cx="3744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837880" y="4176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x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76040" y="2895480"/>
              <a:ext cx="1418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y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306880" y="3454560"/>
              <a:ext cx="37440" cy="5148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43320" y="3947760"/>
              <a:ext cx="37440" cy="511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440000" y="2956680"/>
              <a:ext cx="37800" cy="5148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95720" y="4817880"/>
              <a:ext cx="0" cy="12934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5720" y="6111720"/>
              <a:ext cx="158976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0440" y="5439240"/>
              <a:ext cx="37440" cy="51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39720" y="5618880"/>
              <a:ext cx="37440" cy="51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0440" y="5556960"/>
              <a:ext cx="37440" cy="514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1480" y="5377680"/>
              <a:ext cx="37440" cy="51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5760" y="5685480"/>
              <a:ext cx="37440" cy="514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6480" y="5623920"/>
              <a:ext cx="37800" cy="51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17560" y="5562360"/>
              <a:ext cx="37440" cy="51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72200" y="5377680"/>
              <a:ext cx="37440" cy="51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86800" y="5690880"/>
              <a:ext cx="37440" cy="51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62920" y="5315760"/>
              <a:ext cx="37800" cy="514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66880" y="5259240"/>
              <a:ext cx="37440" cy="514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760" y="5808960"/>
              <a:ext cx="37440" cy="51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2200" y="5685480"/>
              <a:ext cx="37440" cy="514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17560" y="5439240"/>
              <a:ext cx="37440" cy="51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2200" y="5623920"/>
              <a:ext cx="37440" cy="51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72200" y="5500800"/>
              <a:ext cx="37440" cy="514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6480" y="5808960"/>
              <a:ext cx="37800" cy="51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2880" y="5690880"/>
              <a:ext cx="37440" cy="51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21160" y="5495760"/>
              <a:ext cx="37800" cy="51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62920" y="5500800"/>
              <a:ext cx="37800" cy="514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7520" y="5814000"/>
              <a:ext cx="37440" cy="514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6480" y="5932080"/>
              <a:ext cx="37800" cy="51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75800" y="5618880"/>
              <a:ext cx="37440" cy="51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39720" y="5495760"/>
              <a:ext cx="37440" cy="51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1480" y="5377680"/>
              <a:ext cx="37440" cy="51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0440" y="5310720"/>
              <a:ext cx="37440" cy="51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35760" y="5562360"/>
              <a:ext cx="37440" cy="51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66880" y="5136120"/>
              <a:ext cx="37440" cy="51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5080" y="5742000"/>
              <a:ext cx="37800" cy="514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17560" y="5315760"/>
              <a:ext cx="37440" cy="514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04560" y="47437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y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77520" y="4756320"/>
              <a:ext cx="37440" cy="511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448720" y="4817880"/>
              <a:ext cx="0" cy="12934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448720" y="6111720"/>
              <a:ext cx="158940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906640" y="5254560"/>
              <a:ext cx="37800" cy="5112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61640" y="5439240"/>
              <a:ext cx="37440" cy="5112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61640" y="5562360"/>
              <a:ext cx="37440" cy="5112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906640" y="5192640"/>
              <a:ext cx="37800" cy="5112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70240" y="5870160"/>
              <a:ext cx="37440" cy="5148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15600" y="5870160"/>
              <a:ext cx="37800" cy="5148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5600" y="5808960"/>
              <a:ext cx="37800" cy="5112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70240" y="5932080"/>
              <a:ext cx="37440" cy="5112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60960" y="5932080"/>
              <a:ext cx="37440" cy="5112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315600" y="5993640"/>
              <a:ext cx="37800" cy="5112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06640" y="5439240"/>
              <a:ext cx="37800" cy="5112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997720" y="5377680"/>
              <a:ext cx="37440" cy="5112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61640" y="5315760"/>
              <a:ext cx="37440" cy="5148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65240" y="5372280"/>
              <a:ext cx="37800" cy="5148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865240" y="5495760"/>
              <a:ext cx="37800" cy="5112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48400" y="5187600"/>
              <a:ext cx="37800" cy="5148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61640" y="5562360"/>
              <a:ext cx="37440" cy="5112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224880" y="5685480"/>
              <a:ext cx="37440" cy="5148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270240" y="5685480"/>
              <a:ext cx="37440" cy="5148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270240" y="5623920"/>
              <a:ext cx="37440" cy="5112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24880" y="5747040"/>
              <a:ext cx="37440" cy="5112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15600" y="5747040"/>
              <a:ext cx="37800" cy="5112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270240" y="5808960"/>
              <a:ext cx="37440" cy="5112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256840" y="47437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y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497400" y="5254560"/>
              <a:ext cx="37440" cy="5112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633480" y="5747040"/>
              <a:ext cx="37440" cy="51120"/>
            </a:xfrm>
            <a:prstGeom prst="ellipse">
              <a:avLst/>
            </a:prstGeom>
            <a:solidFill>
              <a:srgbClr val="33c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038120" y="3276720"/>
            <a:ext cx="4511880" cy="2687400"/>
            <a:chOff x="4038120" y="3276720"/>
            <a:chExt cx="4511880" cy="2687400"/>
          </a:xfrm>
        </p:grpSpPr>
        <p:sp>
          <p:nvSpPr>
            <p:cNvPr id="789" name=""/>
            <p:cNvSpPr/>
            <p:nvPr/>
          </p:nvSpPr>
          <p:spPr>
            <a:xfrm>
              <a:off x="5896440" y="4541760"/>
              <a:ext cx="20376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339800" y="3457440"/>
              <a:ext cx="0" cy="22640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39800" y="5721480"/>
              <a:ext cx="155628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99080" y="4727520"/>
              <a:ext cx="57960" cy="748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559760" y="4992120"/>
              <a:ext cx="58320" cy="763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699080" y="4902120"/>
              <a:ext cx="57960" cy="748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623840" y="4636080"/>
              <a:ext cx="57960" cy="748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554720" y="5091480"/>
              <a:ext cx="57240" cy="752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693680" y="5000040"/>
              <a:ext cx="57240" cy="763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3000" y="4909320"/>
              <a:ext cx="57240" cy="752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762800" y="4636080"/>
              <a:ext cx="58320" cy="748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79120" y="5099040"/>
              <a:ext cx="57240" cy="752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902120" y="4544280"/>
              <a:ext cx="58320" cy="763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908600" y="4461480"/>
              <a:ext cx="57240" cy="748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54720" y="5273640"/>
              <a:ext cx="57240" cy="763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762800" y="5091480"/>
              <a:ext cx="58320" cy="752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833000" y="4727520"/>
              <a:ext cx="57240" cy="748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762800" y="5000040"/>
              <a:ext cx="58320" cy="763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762800" y="4817880"/>
              <a:ext cx="58320" cy="763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93680" y="5273640"/>
              <a:ext cx="57240" cy="763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87200" y="5099040"/>
              <a:ext cx="58320" cy="752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838400" y="4810320"/>
              <a:ext cx="57960" cy="763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902120" y="4817880"/>
              <a:ext cx="58320" cy="763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618440" y="5280840"/>
              <a:ext cx="57240" cy="763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3680" y="5455440"/>
              <a:ext cx="57240" cy="763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769280" y="4992120"/>
              <a:ext cx="57240" cy="763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559760" y="4810320"/>
              <a:ext cx="58320" cy="763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623840" y="4636080"/>
              <a:ext cx="57960" cy="7488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699080" y="4536720"/>
              <a:ext cx="57960" cy="763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554720" y="4909320"/>
              <a:ext cx="57240" cy="752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908600" y="4279320"/>
              <a:ext cx="57240" cy="7524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629960" y="5174280"/>
              <a:ext cx="57240" cy="7596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833000" y="4544280"/>
              <a:ext cx="57240" cy="763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038120" y="32767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y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618440" y="3717000"/>
              <a:ext cx="57240" cy="7632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989320" y="5505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x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6262200" y="3276720"/>
              <a:ext cx="2287800" cy="2687400"/>
              <a:chOff x="6262200" y="3276720"/>
              <a:chExt cx="2287800" cy="2687400"/>
            </a:xfrm>
          </p:grpSpPr>
          <p:sp>
            <p:nvSpPr>
              <p:cNvPr id="826" name=""/>
              <p:cNvSpPr/>
              <p:nvPr/>
            </p:nvSpPr>
            <p:spPr>
              <a:xfrm>
                <a:off x="6562440" y="3457440"/>
                <a:ext cx="0" cy="226404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562440" y="5721480"/>
                <a:ext cx="15559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921360" y="4727520"/>
                <a:ext cx="58320" cy="748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782040" y="4992120"/>
                <a:ext cx="58320" cy="763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921360" y="4902120"/>
                <a:ext cx="58320" cy="748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846120" y="4636080"/>
                <a:ext cx="57960" cy="748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777000" y="5091480"/>
                <a:ext cx="57240" cy="7524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915960" y="5000040"/>
                <a:ext cx="57240" cy="763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055280" y="4909320"/>
                <a:ext cx="57240" cy="7524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985080" y="4636080"/>
                <a:ext cx="57960" cy="748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701400" y="5099040"/>
                <a:ext cx="57240" cy="7524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124400" y="4544280"/>
                <a:ext cx="58320" cy="763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130880" y="4461480"/>
                <a:ext cx="57240" cy="748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777000" y="5273640"/>
                <a:ext cx="57240" cy="763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985080" y="5091480"/>
                <a:ext cx="57960" cy="7524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055280" y="4727520"/>
                <a:ext cx="57240" cy="748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985080" y="5000040"/>
                <a:ext cx="57960" cy="763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985080" y="4817880"/>
                <a:ext cx="57960" cy="763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915960" y="5273640"/>
                <a:ext cx="57240" cy="763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864840" y="5068800"/>
                <a:ext cx="58320" cy="75240"/>
              </a:xfrm>
              <a:prstGeom prst="ellipse">
                <a:avLst/>
              </a:prstGeom>
              <a:solidFill>
                <a:srgbClr val="80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60680" y="4810320"/>
                <a:ext cx="57960" cy="76320"/>
              </a:xfrm>
              <a:prstGeom prst="ellipse">
                <a:avLst/>
              </a:prstGeom>
              <a:solidFill>
                <a:srgbClr val="80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124400" y="4817880"/>
                <a:ext cx="58320" cy="763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40720" y="5280840"/>
                <a:ext cx="57240" cy="76320"/>
              </a:xfrm>
              <a:prstGeom prst="ellipse">
                <a:avLst/>
              </a:prstGeom>
              <a:solidFill>
                <a:srgbClr val="80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915960" y="5455440"/>
                <a:ext cx="57240" cy="763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991560" y="4992120"/>
                <a:ext cx="57240" cy="763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814080" y="4766400"/>
                <a:ext cx="57960" cy="763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846120" y="4636080"/>
                <a:ext cx="57960" cy="7488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921360" y="4536720"/>
                <a:ext cx="58320" cy="7632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777000" y="4909320"/>
                <a:ext cx="57240" cy="7524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130880" y="4279320"/>
                <a:ext cx="57240" cy="7524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852240" y="5174280"/>
                <a:ext cx="57240" cy="75960"/>
              </a:xfrm>
              <a:prstGeom prst="ellipse">
                <a:avLst/>
              </a:prstGeom>
              <a:solidFill>
                <a:srgbClr val="80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055280" y="4544280"/>
                <a:ext cx="57240" cy="76320"/>
              </a:xfrm>
              <a:prstGeom prst="ellipse">
                <a:avLst/>
              </a:prstGeom>
              <a:solidFill>
                <a:srgbClr val="80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262200" y="327672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  <a:ea typeface="宋体"/>
                  </a:rPr>
                  <a:t>y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840720" y="3717000"/>
                <a:ext cx="57240" cy="76320"/>
              </a:xfrm>
              <a:prstGeom prst="ellipse">
                <a:avLst/>
              </a:prstGeom>
              <a:solidFill>
                <a:srgbClr val="80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212680" y="550584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  <a:ea typeface="宋体"/>
                  </a:rPr>
                  <a:t>x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703560" y="3580200"/>
                <a:ext cx="302760" cy="339840"/>
              </a:xfrm>
              <a:custGeom>
                <a:avLst/>
                <a:gdLst/>
                <a:ahLst/>
                <a:rect l="l" t="t" r="r" b="b"/>
                <a:pathLst>
                  <a:path w="285" h="271">
                    <a:moveTo>
                      <a:pt x="225" y="34"/>
                    </a:moveTo>
                    <a:cubicBezTo>
                      <a:pt x="175" y="0"/>
                      <a:pt x="201" y="11"/>
                      <a:pt x="92" y="27"/>
                    </a:cubicBezTo>
                    <a:cubicBezTo>
                      <a:pt x="76" y="29"/>
                      <a:pt x="47" y="42"/>
                      <a:pt x="47" y="42"/>
                    </a:cubicBezTo>
                    <a:cubicBezTo>
                      <a:pt x="0" y="116"/>
                      <a:pt x="20" y="225"/>
                      <a:pt x="92" y="271"/>
                    </a:cubicBezTo>
                    <a:cubicBezTo>
                      <a:pt x="136" y="269"/>
                      <a:pt x="181" y="270"/>
                      <a:pt x="225" y="264"/>
                    </a:cubicBezTo>
                    <a:cubicBezTo>
                      <a:pt x="266" y="258"/>
                      <a:pt x="277" y="183"/>
                      <a:pt x="284" y="153"/>
                    </a:cubicBezTo>
                    <a:cubicBezTo>
                      <a:pt x="282" y="131"/>
                      <a:pt x="285" y="107"/>
                      <a:pt x="277" y="86"/>
                    </a:cubicBezTo>
                    <a:cubicBezTo>
                      <a:pt x="274" y="79"/>
                      <a:pt x="259" y="85"/>
                      <a:pt x="255" y="79"/>
                    </a:cubicBezTo>
                    <a:cubicBezTo>
                      <a:pt x="220" y="29"/>
                      <a:pt x="262" y="34"/>
                      <a:pt x="225" y="34"/>
                    </a:cubicBezTo>
                    <a:close/>
                  </a:path>
                </a:pathLst>
              </a:custGeom>
              <a:noFill/>
              <a:ln w="1908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871680" y="4219200"/>
                <a:ext cx="449280" cy="520560"/>
              </a:xfrm>
              <a:custGeom>
                <a:avLst/>
                <a:gdLst/>
                <a:ahLst/>
                <a:rect l="l" t="t" r="r" b="b"/>
                <a:pathLst>
                  <a:path w="423" h="415">
                    <a:moveTo>
                      <a:pt x="289" y="14"/>
                    </a:moveTo>
                    <a:cubicBezTo>
                      <a:pt x="245" y="0"/>
                      <a:pt x="200" y="12"/>
                      <a:pt x="156" y="22"/>
                    </a:cubicBezTo>
                    <a:cubicBezTo>
                      <a:pt x="142" y="31"/>
                      <a:pt x="126" y="35"/>
                      <a:pt x="112" y="44"/>
                    </a:cubicBezTo>
                    <a:cubicBezTo>
                      <a:pt x="96" y="55"/>
                      <a:pt x="83" y="70"/>
                      <a:pt x="67" y="81"/>
                    </a:cubicBezTo>
                    <a:cubicBezTo>
                      <a:pt x="47" y="111"/>
                      <a:pt x="35" y="141"/>
                      <a:pt x="15" y="170"/>
                    </a:cubicBezTo>
                    <a:cubicBezTo>
                      <a:pt x="0" y="219"/>
                      <a:pt x="15" y="265"/>
                      <a:pt x="30" y="311"/>
                    </a:cubicBezTo>
                    <a:cubicBezTo>
                      <a:pt x="35" y="326"/>
                      <a:pt x="34" y="344"/>
                      <a:pt x="45" y="355"/>
                    </a:cubicBezTo>
                    <a:cubicBezTo>
                      <a:pt x="80" y="390"/>
                      <a:pt x="133" y="400"/>
                      <a:pt x="178" y="414"/>
                    </a:cubicBezTo>
                    <a:cubicBezTo>
                      <a:pt x="220" y="412"/>
                      <a:pt x="263" y="415"/>
                      <a:pt x="304" y="407"/>
                    </a:cubicBezTo>
                    <a:cubicBezTo>
                      <a:pt x="314" y="405"/>
                      <a:pt x="318" y="391"/>
                      <a:pt x="326" y="385"/>
                    </a:cubicBezTo>
                    <a:cubicBezTo>
                      <a:pt x="347" y="370"/>
                      <a:pt x="362" y="368"/>
                      <a:pt x="386" y="362"/>
                    </a:cubicBezTo>
                    <a:cubicBezTo>
                      <a:pt x="413" y="345"/>
                      <a:pt x="412" y="332"/>
                      <a:pt x="423" y="303"/>
                    </a:cubicBezTo>
                    <a:cubicBezTo>
                      <a:pt x="417" y="221"/>
                      <a:pt x="413" y="156"/>
                      <a:pt x="386" y="81"/>
                    </a:cubicBezTo>
                    <a:cubicBezTo>
                      <a:pt x="382" y="70"/>
                      <a:pt x="374" y="43"/>
                      <a:pt x="363" y="36"/>
                    </a:cubicBezTo>
                    <a:cubicBezTo>
                      <a:pt x="350" y="28"/>
                      <a:pt x="319" y="22"/>
                      <a:pt x="319" y="22"/>
                    </a:cubicBezTo>
                    <a:cubicBezTo>
                      <a:pt x="294" y="5"/>
                      <a:pt x="304" y="1"/>
                      <a:pt x="289" y="14"/>
                    </a:cubicBezTo>
                    <a:close/>
                  </a:path>
                </a:pathLst>
              </a:custGeom>
              <a:noFill/>
              <a:ln w="1908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734520" y="4590720"/>
                <a:ext cx="524520" cy="455400"/>
              </a:xfrm>
              <a:custGeom>
                <a:avLst/>
                <a:gdLst/>
                <a:ahLst/>
                <a:rect l="l" t="t" r="r" b="b"/>
                <a:pathLst>
                  <a:path w="494" h="363">
                    <a:moveTo>
                      <a:pt x="167" y="15"/>
                    </a:moveTo>
                    <a:cubicBezTo>
                      <a:pt x="124" y="0"/>
                      <a:pt x="89" y="31"/>
                      <a:pt x="48" y="44"/>
                    </a:cubicBezTo>
                    <a:cubicBezTo>
                      <a:pt x="0" y="77"/>
                      <a:pt x="8" y="89"/>
                      <a:pt x="18" y="155"/>
                    </a:cubicBezTo>
                    <a:cubicBezTo>
                      <a:pt x="19" y="163"/>
                      <a:pt x="20" y="171"/>
                      <a:pt x="26" y="177"/>
                    </a:cubicBezTo>
                    <a:cubicBezTo>
                      <a:pt x="42" y="193"/>
                      <a:pt x="94" y="201"/>
                      <a:pt x="115" y="207"/>
                    </a:cubicBezTo>
                    <a:cubicBezTo>
                      <a:pt x="160" y="238"/>
                      <a:pt x="199" y="239"/>
                      <a:pt x="255" y="244"/>
                    </a:cubicBezTo>
                    <a:cubicBezTo>
                      <a:pt x="280" y="260"/>
                      <a:pt x="290" y="280"/>
                      <a:pt x="315" y="296"/>
                    </a:cubicBezTo>
                    <a:cubicBezTo>
                      <a:pt x="348" y="344"/>
                      <a:pt x="367" y="345"/>
                      <a:pt x="418" y="363"/>
                    </a:cubicBezTo>
                    <a:cubicBezTo>
                      <a:pt x="424" y="362"/>
                      <a:pt x="476" y="351"/>
                      <a:pt x="478" y="348"/>
                    </a:cubicBezTo>
                    <a:cubicBezTo>
                      <a:pt x="487" y="335"/>
                      <a:pt x="492" y="303"/>
                      <a:pt x="492" y="303"/>
                    </a:cubicBezTo>
                    <a:cubicBezTo>
                      <a:pt x="489" y="271"/>
                      <a:pt x="494" y="235"/>
                      <a:pt x="478" y="207"/>
                    </a:cubicBezTo>
                    <a:cubicBezTo>
                      <a:pt x="461" y="178"/>
                      <a:pt x="456" y="190"/>
                      <a:pt x="433" y="177"/>
                    </a:cubicBezTo>
                    <a:cubicBezTo>
                      <a:pt x="360" y="136"/>
                      <a:pt x="357" y="123"/>
                      <a:pt x="270" y="111"/>
                    </a:cubicBezTo>
                    <a:cubicBezTo>
                      <a:pt x="227" y="95"/>
                      <a:pt x="189" y="73"/>
                      <a:pt x="159" y="37"/>
                    </a:cubicBezTo>
                    <a:cubicBezTo>
                      <a:pt x="153" y="30"/>
                      <a:pt x="141" y="23"/>
                      <a:pt x="144" y="15"/>
                    </a:cubicBezTo>
                    <a:cubicBezTo>
                      <a:pt x="147" y="8"/>
                      <a:pt x="159" y="15"/>
                      <a:pt x="167" y="15"/>
                    </a:cubicBezTo>
                    <a:close/>
                  </a:path>
                </a:pathLst>
              </a:custGeom>
              <a:noFill/>
              <a:ln w="1908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755760" y="5175720"/>
                <a:ext cx="362160" cy="428040"/>
              </a:xfrm>
              <a:custGeom>
                <a:avLst/>
                <a:gdLst/>
                <a:ahLst/>
                <a:rect l="l" t="t" r="r" b="b"/>
                <a:pathLst>
                  <a:path w="341" h="341">
                    <a:moveTo>
                      <a:pt x="6" y="149"/>
                    </a:moveTo>
                    <a:cubicBezTo>
                      <a:pt x="13" y="74"/>
                      <a:pt x="0" y="72"/>
                      <a:pt x="58" y="52"/>
                    </a:cubicBezTo>
                    <a:cubicBezTo>
                      <a:pt x="82" y="15"/>
                      <a:pt x="108" y="14"/>
                      <a:pt x="147" y="0"/>
                    </a:cubicBezTo>
                    <a:cubicBezTo>
                      <a:pt x="179" y="6"/>
                      <a:pt x="204" y="13"/>
                      <a:pt x="235" y="23"/>
                    </a:cubicBezTo>
                    <a:cubicBezTo>
                      <a:pt x="250" y="28"/>
                      <a:pt x="280" y="37"/>
                      <a:pt x="280" y="37"/>
                    </a:cubicBezTo>
                    <a:cubicBezTo>
                      <a:pt x="320" y="97"/>
                      <a:pt x="303" y="63"/>
                      <a:pt x="324" y="126"/>
                    </a:cubicBezTo>
                    <a:cubicBezTo>
                      <a:pt x="327" y="134"/>
                      <a:pt x="332" y="149"/>
                      <a:pt x="332" y="149"/>
                    </a:cubicBezTo>
                    <a:cubicBezTo>
                      <a:pt x="326" y="199"/>
                      <a:pt x="341" y="258"/>
                      <a:pt x="310" y="297"/>
                    </a:cubicBezTo>
                    <a:cubicBezTo>
                      <a:pt x="297" y="314"/>
                      <a:pt x="265" y="341"/>
                      <a:pt x="265" y="341"/>
                    </a:cubicBezTo>
                    <a:cubicBezTo>
                      <a:pt x="228" y="339"/>
                      <a:pt x="191" y="339"/>
                      <a:pt x="154" y="334"/>
                    </a:cubicBezTo>
                    <a:cubicBezTo>
                      <a:pt x="134" y="331"/>
                      <a:pt x="95" y="319"/>
                      <a:pt x="95" y="319"/>
                    </a:cubicBezTo>
                    <a:cubicBezTo>
                      <a:pt x="70" y="303"/>
                      <a:pt x="60" y="283"/>
                      <a:pt x="35" y="267"/>
                    </a:cubicBezTo>
                    <a:cubicBezTo>
                      <a:pt x="18" y="214"/>
                      <a:pt x="29" y="236"/>
                      <a:pt x="6" y="200"/>
                    </a:cubicBezTo>
                    <a:cubicBezTo>
                      <a:pt x="14" y="153"/>
                      <a:pt x="24" y="167"/>
                      <a:pt x="6" y="149"/>
                    </a:cubicBezTo>
                    <a:close/>
                  </a:path>
                </a:pathLst>
              </a:custGeom>
              <a:noFill/>
              <a:ln w="1908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649560" y="4860360"/>
                <a:ext cx="479880" cy="389880"/>
              </a:xfrm>
              <a:custGeom>
                <a:avLst/>
                <a:gdLst/>
                <a:ahLst/>
                <a:rect l="l" t="t" r="r" b="b"/>
                <a:pathLst>
                  <a:path w="452" h="311">
                    <a:moveTo>
                      <a:pt x="424" y="222"/>
                    </a:moveTo>
                    <a:cubicBezTo>
                      <a:pt x="419" y="141"/>
                      <a:pt x="444" y="96"/>
                      <a:pt x="372" y="74"/>
                    </a:cubicBezTo>
                    <a:cubicBezTo>
                      <a:pt x="324" y="41"/>
                      <a:pt x="289" y="31"/>
                      <a:pt x="232" y="14"/>
                    </a:cubicBezTo>
                    <a:cubicBezTo>
                      <a:pt x="212" y="8"/>
                      <a:pt x="172" y="0"/>
                      <a:pt x="172" y="0"/>
                    </a:cubicBezTo>
                    <a:cubicBezTo>
                      <a:pt x="132" y="8"/>
                      <a:pt x="93" y="17"/>
                      <a:pt x="54" y="29"/>
                    </a:cubicBezTo>
                    <a:cubicBezTo>
                      <a:pt x="35" y="56"/>
                      <a:pt x="27" y="86"/>
                      <a:pt x="17" y="118"/>
                    </a:cubicBezTo>
                    <a:cubicBezTo>
                      <a:pt x="20" y="170"/>
                      <a:pt x="0" y="239"/>
                      <a:pt x="54" y="259"/>
                    </a:cubicBezTo>
                    <a:cubicBezTo>
                      <a:pt x="72" y="286"/>
                      <a:pt x="94" y="294"/>
                      <a:pt x="121" y="311"/>
                    </a:cubicBezTo>
                    <a:cubicBezTo>
                      <a:pt x="138" y="308"/>
                      <a:pt x="156" y="309"/>
                      <a:pt x="172" y="303"/>
                    </a:cubicBezTo>
                    <a:cubicBezTo>
                      <a:pt x="189" y="297"/>
                      <a:pt x="202" y="284"/>
                      <a:pt x="217" y="274"/>
                    </a:cubicBezTo>
                    <a:cubicBezTo>
                      <a:pt x="236" y="262"/>
                      <a:pt x="270" y="257"/>
                      <a:pt x="291" y="251"/>
                    </a:cubicBezTo>
                    <a:cubicBezTo>
                      <a:pt x="335" y="263"/>
                      <a:pt x="363" y="281"/>
                      <a:pt x="410" y="288"/>
                    </a:cubicBezTo>
                    <a:cubicBezTo>
                      <a:pt x="452" y="274"/>
                      <a:pt x="441" y="254"/>
                      <a:pt x="424" y="222"/>
                    </a:cubicBezTo>
                    <a:close/>
                  </a:path>
                </a:pathLst>
              </a:custGeom>
              <a:noFill/>
              <a:ln w="1908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6" name=""/>
          <p:cNvSpPr/>
          <p:nvPr/>
        </p:nvSpPr>
        <p:spPr>
          <a:xfrm>
            <a:off x="4892040" y="1828800"/>
            <a:ext cx="21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6f89f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宋体"/>
              </a:rPr>
              <a:t>s/pq = 5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7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9ED81-4EBA-4C89-B46E-016679E7AAA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宋体"/>
              </a:rPr>
              <a:t>Cure: Shrinking Representative Point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Shrink the multiple representative points towards the gravity center by a fraction of 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Multiple representatives capture the shape of the clust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579240" y="2819520"/>
            <a:ext cx="3581640" cy="3696840"/>
            <a:chOff x="579240" y="2819520"/>
            <a:chExt cx="3581640" cy="3696840"/>
          </a:xfrm>
        </p:grpSpPr>
        <p:sp>
          <p:nvSpPr>
            <p:cNvPr id="871" name=""/>
            <p:cNvSpPr/>
            <p:nvPr/>
          </p:nvSpPr>
          <p:spPr>
            <a:xfrm>
              <a:off x="1133640" y="2987640"/>
              <a:ext cx="0" cy="291960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133640" y="5907240"/>
              <a:ext cx="302724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814400" y="4389480"/>
              <a:ext cx="10980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50880" y="4794480"/>
              <a:ext cx="109800" cy="11556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814400" y="4656240"/>
              <a:ext cx="10980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671840" y="424980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540080" y="494496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03600" y="480708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67120" y="466740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35360" y="424980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397160" y="495792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198880" y="411156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62400" y="3971880"/>
              <a:ext cx="109440" cy="115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209680" y="3984840"/>
              <a:ext cx="109800" cy="11556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540080" y="522288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330640" y="4389480"/>
              <a:ext cx="109440" cy="115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30640" y="466740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462400" y="383400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516480" y="536256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648240" y="536256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48240" y="5222880"/>
              <a:ext cx="109440" cy="115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516480" y="550224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80000" y="550224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648240" y="5640480"/>
              <a:ext cx="109440" cy="115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35360" y="494496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67120" y="438948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935360" y="480708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935360" y="452916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803600" y="522288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92440" y="4957920"/>
              <a:ext cx="109440" cy="115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77920" y="4516560"/>
              <a:ext cx="109800" cy="115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198880" y="452916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660680" y="5235480"/>
              <a:ext cx="109440" cy="115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462400" y="438948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725920" y="424980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330640" y="411156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803600" y="550224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41440" y="4238640"/>
              <a:ext cx="10980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341440" y="4516560"/>
              <a:ext cx="10980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583000" y="382104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46160" y="4794480"/>
              <a:ext cx="109800" cy="11556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30640" y="466740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84720" y="4944960"/>
              <a:ext cx="109440" cy="115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16480" y="494496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516480" y="480708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384720" y="5085000"/>
              <a:ext cx="109440" cy="11556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48240" y="5085000"/>
              <a:ext cx="109440" cy="11556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516480" y="522288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550880" y="4516560"/>
              <a:ext cx="10980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671840" y="424980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814400" y="4100400"/>
              <a:ext cx="109800" cy="11448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540080" y="4667400"/>
              <a:ext cx="10944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209680" y="3705120"/>
              <a:ext cx="10980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682640" y="5073840"/>
              <a:ext cx="109800" cy="11592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067120" y="4111560"/>
              <a:ext cx="109440" cy="115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779640" y="6058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x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79240" y="28195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y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673280" y="3818160"/>
              <a:ext cx="671400" cy="658800"/>
            </a:xfrm>
            <a:custGeom>
              <a:avLst/>
              <a:gdLst/>
              <a:ahLst/>
              <a:rect l="l" t="t" r="r" b="b"/>
              <a:pathLst>
                <a:path w="423" h="415">
                  <a:moveTo>
                    <a:pt x="289" y="14"/>
                  </a:moveTo>
                  <a:cubicBezTo>
                    <a:pt x="245" y="0"/>
                    <a:pt x="200" y="12"/>
                    <a:pt x="156" y="22"/>
                  </a:cubicBezTo>
                  <a:cubicBezTo>
                    <a:pt x="142" y="31"/>
                    <a:pt x="126" y="35"/>
                    <a:pt x="112" y="44"/>
                  </a:cubicBezTo>
                  <a:cubicBezTo>
                    <a:pt x="96" y="55"/>
                    <a:pt x="83" y="70"/>
                    <a:pt x="67" y="81"/>
                  </a:cubicBezTo>
                  <a:cubicBezTo>
                    <a:pt x="47" y="111"/>
                    <a:pt x="35" y="141"/>
                    <a:pt x="15" y="170"/>
                  </a:cubicBezTo>
                  <a:cubicBezTo>
                    <a:pt x="0" y="219"/>
                    <a:pt x="15" y="265"/>
                    <a:pt x="30" y="311"/>
                  </a:cubicBezTo>
                  <a:cubicBezTo>
                    <a:pt x="35" y="326"/>
                    <a:pt x="34" y="344"/>
                    <a:pt x="45" y="355"/>
                  </a:cubicBezTo>
                  <a:cubicBezTo>
                    <a:pt x="80" y="390"/>
                    <a:pt x="133" y="400"/>
                    <a:pt x="178" y="414"/>
                  </a:cubicBezTo>
                  <a:cubicBezTo>
                    <a:pt x="220" y="412"/>
                    <a:pt x="263" y="415"/>
                    <a:pt x="304" y="407"/>
                  </a:cubicBezTo>
                  <a:cubicBezTo>
                    <a:pt x="314" y="405"/>
                    <a:pt x="318" y="391"/>
                    <a:pt x="326" y="385"/>
                  </a:cubicBezTo>
                  <a:cubicBezTo>
                    <a:pt x="347" y="370"/>
                    <a:pt x="362" y="368"/>
                    <a:pt x="386" y="362"/>
                  </a:cubicBezTo>
                  <a:cubicBezTo>
                    <a:pt x="413" y="345"/>
                    <a:pt x="412" y="332"/>
                    <a:pt x="423" y="303"/>
                  </a:cubicBezTo>
                  <a:cubicBezTo>
                    <a:pt x="417" y="221"/>
                    <a:pt x="413" y="156"/>
                    <a:pt x="386" y="81"/>
                  </a:cubicBezTo>
                  <a:cubicBezTo>
                    <a:pt x="382" y="70"/>
                    <a:pt x="374" y="43"/>
                    <a:pt x="363" y="36"/>
                  </a:cubicBezTo>
                  <a:cubicBezTo>
                    <a:pt x="350" y="28"/>
                    <a:pt x="319" y="22"/>
                    <a:pt x="319" y="22"/>
                  </a:cubicBezTo>
                  <a:cubicBezTo>
                    <a:pt x="294" y="5"/>
                    <a:pt x="304" y="1"/>
                    <a:pt x="289" y="14"/>
                  </a:cubicBezTo>
                  <a:close/>
                </a:path>
              </a:pathLst>
            </a:custGeom>
            <a:noFill/>
            <a:ln w="190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468440" y="4287960"/>
              <a:ext cx="784440" cy="576360"/>
            </a:xfrm>
            <a:custGeom>
              <a:avLst/>
              <a:gdLst/>
              <a:ahLst/>
              <a:rect l="l" t="t" r="r" b="b"/>
              <a:pathLst>
                <a:path w="494" h="363">
                  <a:moveTo>
                    <a:pt x="167" y="15"/>
                  </a:moveTo>
                  <a:cubicBezTo>
                    <a:pt x="124" y="0"/>
                    <a:pt x="89" y="31"/>
                    <a:pt x="48" y="44"/>
                  </a:cubicBezTo>
                  <a:cubicBezTo>
                    <a:pt x="0" y="77"/>
                    <a:pt x="8" y="89"/>
                    <a:pt x="18" y="155"/>
                  </a:cubicBezTo>
                  <a:cubicBezTo>
                    <a:pt x="19" y="163"/>
                    <a:pt x="20" y="171"/>
                    <a:pt x="26" y="177"/>
                  </a:cubicBezTo>
                  <a:cubicBezTo>
                    <a:pt x="42" y="193"/>
                    <a:pt x="94" y="201"/>
                    <a:pt x="115" y="207"/>
                  </a:cubicBezTo>
                  <a:cubicBezTo>
                    <a:pt x="160" y="238"/>
                    <a:pt x="199" y="239"/>
                    <a:pt x="255" y="244"/>
                  </a:cubicBezTo>
                  <a:cubicBezTo>
                    <a:pt x="280" y="260"/>
                    <a:pt x="290" y="280"/>
                    <a:pt x="315" y="296"/>
                  </a:cubicBezTo>
                  <a:cubicBezTo>
                    <a:pt x="348" y="344"/>
                    <a:pt x="367" y="345"/>
                    <a:pt x="418" y="363"/>
                  </a:cubicBezTo>
                  <a:cubicBezTo>
                    <a:pt x="424" y="362"/>
                    <a:pt x="476" y="351"/>
                    <a:pt x="478" y="348"/>
                  </a:cubicBezTo>
                  <a:cubicBezTo>
                    <a:pt x="487" y="335"/>
                    <a:pt x="492" y="303"/>
                    <a:pt x="492" y="303"/>
                  </a:cubicBezTo>
                  <a:cubicBezTo>
                    <a:pt x="489" y="271"/>
                    <a:pt x="494" y="235"/>
                    <a:pt x="478" y="207"/>
                  </a:cubicBezTo>
                  <a:cubicBezTo>
                    <a:pt x="461" y="178"/>
                    <a:pt x="456" y="190"/>
                    <a:pt x="433" y="177"/>
                  </a:cubicBezTo>
                  <a:cubicBezTo>
                    <a:pt x="360" y="136"/>
                    <a:pt x="357" y="123"/>
                    <a:pt x="270" y="111"/>
                  </a:cubicBezTo>
                  <a:cubicBezTo>
                    <a:pt x="227" y="95"/>
                    <a:pt x="189" y="73"/>
                    <a:pt x="159" y="37"/>
                  </a:cubicBezTo>
                  <a:cubicBezTo>
                    <a:pt x="153" y="30"/>
                    <a:pt x="141" y="23"/>
                    <a:pt x="144" y="15"/>
                  </a:cubicBezTo>
                  <a:cubicBezTo>
                    <a:pt x="147" y="8"/>
                    <a:pt x="159" y="15"/>
                    <a:pt x="167" y="15"/>
                  </a:cubicBezTo>
                  <a:close/>
                </a:path>
              </a:pathLst>
            </a:custGeom>
            <a:noFill/>
            <a:ln w="190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500120" y="5027760"/>
              <a:ext cx="541440" cy="541080"/>
            </a:xfrm>
            <a:custGeom>
              <a:avLst/>
              <a:gdLst/>
              <a:ahLst/>
              <a:rect l="l" t="t" r="r" b="b"/>
              <a:pathLst>
                <a:path w="341" h="341">
                  <a:moveTo>
                    <a:pt x="6" y="149"/>
                  </a:moveTo>
                  <a:cubicBezTo>
                    <a:pt x="13" y="74"/>
                    <a:pt x="0" y="72"/>
                    <a:pt x="58" y="52"/>
                  </a:cubicBezTo>
                  <a:cubicBezTo>
                    <a:pt x="82" y="15"/>
                    <a:pt x="108" y="14"/>
                    <a:pt x="147" y="0"/>
                  </a:cubicBezTo>
                  <a:cubicBezTo>
                    <a:pt x="179" y="6"/>
                    <a:pt x="204" y="13"/>
                    <a:pt x="235" y="23"/>
                  </a:cubicBezTo>
                  <a:cubicBezTo>
                    <a:pt x="250" y="28"/>
                    <a:pt x="280" y="37"/>
                    <a:pt x="280" y="37"/>
                  </a:cubicBezTo>
                  <a:cubicBezTo>
                    <a:pt x="320" y="97"/>
                    <a:pt x="303" y="63"/>
                    <a:pt x="324" y="126"/>
                  </a:cubicBezTo>
                  <a:cubicBezTo>
                    <a:pt x="327" y="134"/>
                    <a:pt x="332" y="149"/>
                    <a:pt x="332" y="149"/>
                  </a:cubicBezTo>
                  <a:cubicBezTo>
                    <a:pt x="326" y="199"/>
                    <a:pt x="341" y="258"/>
                    <a:pt x="310" y="297"/>
                  </a:cubicBezTo>
                  <a:cubicBezTo>
                    <a:pt x="297" y="314"/>
                    <a:pt x="265" y="341"/>
                    <a:pt x="265" y="341"/>
                  </a:cubicBezTo>
                  <a:cubicBezTo>
                    <a:pt x="228" y="339"/>
                    <a:pt x="191" y="339"/>
                    <a:pt x="154" y="334"/>
                  </a:cubicBezTo>
                  <a:cubicBezTo>
                    <a:pt x="134" y="331"/>
                    <a:pt x="95" y="319"/>
                    <a:pt x="95" y="319"/>
                  </a:cubicBezTo>
                  <a:cubicBezTo>
                    <a:pt x="70" y="303"/>
                    <a:pt x="60" y="283"/>
                    <a:pt x="35" y="267"/>
                  </a:cubicBezTo>
                  <a:cubicBezTo>
                    <a:pt x="18" y="214"/>
                    <a:pt x="29" y="236"/>
                    <a:pt x="6" y="200"/>
                  </a:cubicBezTo>
                  <a:cubicBezTo>
                    <a:pt x="14" y="153"/>
                    <a:pt x="24" y="167"/>
                    <a:pt x="6" y="149"/>
                  </a:cubicBezTo>
                  <a:close/>
                </a:path>
              </a:pathLst>
            </a:custGeom>
            <a:noFill/>
            <a:ln w="190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341360" y="4629240"/>
              <a:ext cx="717840" cy="493560"/>
            </a:xfrm>
            <a:custGeom>
              <a:avLst/>
              <a:gdLst/>
              <a:ahLst/>
              <a:rect l="l" t="t" r="r" b="b"/>
              <a:pathLst>
                <a:path w="452" h="311">
                  <a:moveTo>
                    <a:pt x="424" y="222"/>
                  </a:moveTo>
                  <a:cubicBezTo>
                    <a:pt x="419" y="141"/>
                    <a:pt x="444" y="96"/>
                    <a:pt x="372" y="74"/>
                  </a:cubicBezTo>
                  <a:cubicBezTo>
                    <a:pt x="324" y="41"/>
                    <a:pt x="289" y="31"/>
                    <a:pt x="232" y="14"/>
                  </a:cubicBezTo>
                  <a:cubicBezTo>
                    <a:pt x="212" y="8"/>
                    <a:pt x="172" y="0"/>
                    <a:pt x="172" y="0"/>
                  </a:cubicBezTo>
                  <a:cubicBezTo>
                    <a:pt x="132" y="8"/>
                    <a:pt x="93" y="17"/>
                    <a:pt x="54" y="29"/>
                  </a:cubicBezTo>
                  <a:cubicBezTo>
                    <a:pt x="35" y="56"/>
                    <a:pt x="27" y="86"/>
                    <a:pt x="17" y="118"/>
                  </a:cubicBezTo>
                  <a:cubicBezTo>
                    <a:pt x="20" y="170"/>
                    <a:pt x="0" y="239"/>
                    <a:pt x="54" y="259"/>
                  </a:cubicBezTo>
                  <a:cubicBezTo>
                    <a:pt x="72" y="286"/>
                    <a:pt x="94" y="294"/>
                    <a:pt x="121" y="311"/>
                  </a:cubicBezTo>
                  <a:cubicBezTo>
                    <a:pt x="138" y="308"/>
                    <a:pt x="156" y="309"/>
                    <a:pt x="172" y="303"/>
                  </a:cubicBezTo>
                  <a:cubicBezTo>
                    <a:pt x="189" y="297"/>
                    <a:pt x="202" y="284"/>
                    <a:pt x="217" y="274"/>
                  </a:cubicBezTo>
                  <a:cubicBezTo>
                    <a:pt x="236" y="262"/>
                    <a:pt x="270" y="257"/>
                    <a:pt x="291" y="251"/>
                  </a:cubicBezTo>
                  <a:cubicBezTo>
                    <a:pt x="335" y="263"/>
                    <a:pt x="363" y="281"/>
                    <a:pt x="410" y="288"/>
                  </a:cubicBezTo>
                  <a:cubicBezTo>
                    <a:pt x="452" y="274"/>
                    <a:pt x="441" y="254"/>
                    <a:pt x="424" y="222"/>
                  </a:cubicBezTo>
                  <a:close/>
                </a:path>
              </a:pathLst>
            </a:custGeom>
            <a:noFill/>
            <a:ln w="190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58920" y="3562560"/>
              <a:ext cx="900360" cy="814320"/>
            </a:xfrm>
            <a:custGeom>
              <a:avLst/>
              <a:gdLst/>
              <a:ahLst/>
              <a:rect l="l" t="t" r="r" b="b"/>
              <a:pathLst>
                <a:path w="567" h="513">
                  <a:moveTo>
                    <a:pt x="28" y="22"/>
                  </a:moveTo>
                  <a:cubicBezTo>
                    <a:pt x="24" y="80"/>
                    <a:pt x="0" y="168"/>
                    <a:pt x="57" y="207"/>
                  </a:cubicBezTo>
                  <a:cubicBezTo>
                    <a:pt x="75" y="234"/>
                    <a:pt x="99" y="254"/>
                    <a:pt x="117" y="281"/>
                  </a:cubicBezTo>
                  <a:cubicBezTo>
                    <a:pt x="126" y="330"/>
                    <a:pt x="120" y="381"/>
                    <a:pt x="131" y="429"/>
                  </a:cubicBezTo>
                  <a:cubicBezTo>
                    <a:pt x="137" y="454"/>
                    <a:pt x="180" y="446"/>
                    <a:pt x="205" y="452"/>
                  </a:cubicBezTo>
                  <a:cubicBezTo>
                    <a:pt x="220" y="456"/>
                    <a:pt x="250" y="466"/>
                    <a:pt x="250" y="466"/>
                  </a:cubicBezTo>
                  <a:cubicBezTo>
                    <a:pt x="290" y="493"/>
                    <a:pt x="336" y="501"/>
                    <a:pt x="383" y="511"/>
                  </a:cubicBezTo>
                  <a:cubicBezTo>
                    <a:pt x="509" y="502"/>
                    <a:pt x="469" y="513"/>
                    <a:pt x="539" y="466"/>
                  </a:cubicBezTo>
                  <a:cubicBezTo>
                    <a:pt x="546" y="444"/>
                    <a:pt x="554" y="422"/>
                    <a:pt x="561" y="400"/>
                  </a:cubicBezTo>
                  <a:cubicBezTo>
                    <a:pt x="557" y="329"/>
                    <a:pt x="567" y="221"/>
                    <a:pt x="509" y="163"/>
                  </a:cubicBezTo>
                  <a:cubicBezTo>
                    <a:pt x="496" y="121"/>
                    <a:pt x="511" y="155"/>
                    <a:pt x="472" y="111"/>
                  </a:cubicBezTo>
                  <a:cubicBezTo>
                    <a:pt x="464" y="102"/>
                    <a:pt x="459" y="89"/>
                    <a:pt x="450" y="81"/>
                  </a:cubicBezTo>
                  <a:cubicBezTo>
                    <a:pt x="398" y="35"/>
                    <a:pt x="261" y="9"/>
                    <a:pt x="191" y="0"/>
                  </a:cubicBezTo>
                  <a:cubicBezTo>
                    <a:pt x="149" y="2"/>
                    <a:pt x="107" y="3"/>
                    <a:pt x="65" y="7"/>
                  </a:cubicBezTo>
                  <a:cubicBezTo>
                    <a:pt x="39" y="9"/>
                    <a:pt x="28" y="54"/>
                    <a:pt x="28" y="22"/>
                  </a:cubicBezTo>
                  <a:close/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90960" y="4227480"/>
              <a:ext cx="506160" cy="627120"/>
            </a:xfrm>
            <a:custGeom>
              <a:avLst/>
              <a:gdLst/>
              <a:ahLst/>
              <a:rect l="l" t="t" r="r" b="b"/>
              <a:pathLst>
                <a:path w="319" h="395">
                  <a:moveTo>
                    <a:pt x="252" y="366"/>
                  </a:moveTo>
                  <a:cubicBezTo>
                    <a:pt x="301" y="341"/>
                    <a:pt x="301" y="341"/>
                    <a:pt x="319" y="292"/>
                  </a:cubicBezTo>
                  <a:cubicBezTo>
                    <a:pt x="316" y="247"/>
                    <a:pt x="315" y="203"/>
                    <a:pt x="311" y="158"/>
                  </a:cubicBezTo>
                  <a:cubicBezTo>
                    <a:pt x="310" y="143"/>
                    <a:pt x="311" y="127"/>
                    <a:pt x="304" y="114"/>
                  </a:cubicBezTo>
                  <a:cubicBezTo>
                    <a:pt x="300" y="107"/>
                    <a:pt x="289" y="109"/>
                    <a:pt x="282" y="107"/>
                  </a:cubicBezTo>
                  <a:cubicBezTo>
                    <a:pt x="263" y="78"/>
                    <a:pt x="233" y="50"/>
                    <a:pt x="200" y="40"/>
                  </a:cubicBezTo>
                  <a:cubicBezTo>
                    <a:pt x="193" y="33"/>
                    <a:pt x="188" y="20"/>
                    <a:pt x="178" y="18"/>
                  </a:cubicBezTo>
                  <a:cubicBezTo>
                    <a:pt x="70" y="0"/>
                    <a:pt x="120" y="66"/>
                    <a:pt x="60" y="107"/>
                  </a:cubicBezTo>
                  <a:cubicBezTo>
                    <a:pt x="55" y="114"/>
                    <a:pt x="51" y="123"/>
                    <a:pt x="45" y="129"/>
                  </a:cubicBezTo>
                  <a:cubicBezTo>
                    <a:pt x="39" y="135"/>
                    <a:pt x="29" y="137"/>
                    <a:pt x="23" y="144"/>
                  </a:cubicBezTo>
                  <a:cubicBezTo>
                    <a:pt x="13" y="157"/>
                    <a:pt x="9" y="174"/>
                    <a:pt x="0" y="188"/>
                  </a:cubicBezTo>
                  <a:cubicBezTo>
                    <a:pt x="6" y="239"/>
                    <a:pt x="9" y="315"/>
                    <a:pt x="52" y="351"/>
                  </a:cubicBezTo>
                  <a:cubicBezTo>
                    <a:pt x="78" y="373"/>
                    <a:pt x="112" y="377"/>
                    <a:pt x="141" y="395"/>
                  </a:cubicBezTo>
                  <a:cubicBezTo>
                    <a:pt x="178" y="393"/>
                    <a:pt x="215" y="392"/>
                    <a:pt x="252" y="388"/>
                  </a:cubicBezTo>
                  <a:cubicBezTo>
                    <a:pt x="260" y="387"/>
                    <a:pt x="274" y="389"/>
                    <a:pt x="274" y="381"/>
                  </a:cubicBezTo>
                  <a:cubicBezTo>
                    <a:pt x="274" y="372"/>
                    <a:pt x="259" y="371"/>
                    <a:pt x="252" y="366"/>
                  </a:cubicBezTo>
                  <a:close/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195720" y="4665600"/>
              <a:ext cx="550800" cy="588960"/>
            </a:xfrm>
            <a:custGeom>
              <a:avLst/>
              <a:gdLst/>
              <a:ahLst/>
              <a:rect l="l" t="t" r="r" b="b"/>
              <a:pathLst>
                <a:path w="347" h="371">
                  <a:moveTo>
                    <a:pt x="293" y="45"/>
                  </a:moveTo>
                  <a:cubicBezTo>
                    <a:pt x="279" y="0"/>
                    <a:pt x="248" y="18"/>
                    <a:pt x="204" y="23"/>
                  </a:cubicBezTo>
                  <a:cubicBezTo>
                    <a:pt x="177" y="31"/>
                    <a:pt x="156" y="43"/>
                    <a:pt x="130" y="53"/>
                  </a:cubicBezTo>
                  <a:cubicBezTo>
                    <a:pt x="103" y="80"/>
                    <a:pt x="73" y="99"/>
                    <a:pt x="41" y="119"/>
                  </a:cubicBezTo>
                  <a:cubicBezTo>
                    <a:pt x="0" y="186"/>
                    <a:pt x="19" y="306"/>
                    <a:pt x="64" y="371"/>
                  </a:cubicBezTo>
                  <a:cubicBezTo>
                    <a:pt x="120" y="363"/>
                    <a:pt x="170" y="344"/>
                    <a:pt x="226" y="334"/>
                  </a:cubicBezTo>
                  <a:cubicBezTo>
                    <a:pt x="242" y="324"/>
                    <a:pt x="264" y="324"/>
                    <a:pt x="278" y="312"/>
                  </a:cubicBezTo>
                  <a:cubicBezTo>
                    <a:pt x="295" y="297"/>
                    <a:pt x="312" y="260"/>
                    <a:pt x="323" y="238"/>
                  </a:cubicBezTo>
                  <a:cubicBezTo>
                    <a:pt x="338" y="174"/>
                    <a:pt x="347" y="110"/>
                    <a:pt x="308" y="53"/>
                  </a:cubicBezTo>
                  <a:cubicBezTo>
                    <a:pt x="299" y="26"/>
                    <a:pt x="305" y="24"/>
                    <a:pt x="293" y="45"/>
                  </a:cubicBezTo>
                  <a:close/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422520" y="5048280"/>
              <a:ext cx="435240" cy="453960"/>
            </a:xfrm>
            <a:custGeom>
              <a:avLst/>
              <a:gdLst/>
              <a:ahLst/>
              <a:rect l="l" t="t" r="r" b="b"/>
              <a:pathLst>
                <a:path w="274" h="286">
                  <a:moveTo>
                    <a:pt x="246" y="12"/>
                  </a:moveTo>
                  <a:cubicBezTo>
                    <a:pt x="213" y="0"/>
                    <a:pt x="178" y="19"/>
                    <a:pt x="143" y="27"/>
                  </a:cubicBezTo>
                  <a:cubicBezTo>
                    <a:pt x="131" y="60"/>
                    <a:pt x="143" y="74"/>
                    <a:pt x="106" y="86"/>
                  </a:cubicBezTo>
                  <a:cubicBezTo>
                    <a:pt x="55" y="120"/>
                    <a:pt x="78" y="111"/>
                    <a:pt x="39" y="123"/>
                  </a:cubicBezTo>
                  <a:cubicBezTo>
                    <a:pt x="16" y="157"/>
                    <a:pt x="0" y="232"/>
                    <a:pt x="32" y="264"/>
                  </a:cubicBezTo>
                  <a:cubicBezTo>
                    <a:pt x="50" y="282"/>
                    <a:pt x="133" y="285"/>
                    <a:pt x="143" y="286"/>
                  </a:cubicBezTo>
                  <a:cubicBezTo>
                    <a:pt x="198" y="279"/>
                    <a:pt x="211" y="284"/>
                    <a:pt x="239" y="241"/>
                  </a:cubicBezTo>
                  <a:cubicBezTo>
                    <a:pt x="249" y="210"/>
                    <a:pt x="256" y="186"/>
                    <a:pt x="261" y="153"/>
                  </a:cubicBezTo>
                  <a:cubicBezTo>
                    <a:pt x="254" y="21"/>
                    <a:pt x="274" y="64"/>
                    <a:pt x="246" y="12"/>
                  </a:cubicBezTo>
                  <a:close/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460680" y="5481720"/>
              <a:ext cx="517680" cy="303120"/>
            </a:xfrm>
            <a:custGeom>
              <a:avLst/>
              <a:gdLst/>
              <a:ahLst/>
              <a:rect l="l" t="t" r="r" b="b"/>
              <a:pathLst>
                <a:path w="326" h="191">
                  <a:moveTo>
                    <a:pt x="319" y="20"/>
                  </a:moveTo>
                  <a:cubicBezTo>
                    <a:pt x="233" y="0"/>
                    <a:pt x="155" y="13"/>
                    <a:pt x="67" y="20"/>
                  </a:cubicBezTo>
                  <a:cubicBezTo>
                    <a:pt x="33" y="29"/>
                    <a:pt x="20" y="36"/>
                    <a:pt x="0" y="65"/>
                  </a:cubicBezTo>
                  <a:cubicBezTo>
                    <a:pt x="6" y="99"/>
                    <a:pt x="19" y="167"/>
                    <a:pt x="59" y="183"/>
                  </a:cubicBezTo>
                  <a:cubicBezTo>
                    <a:pt x="75" y="190"/>
                    <a:pt x="94" y="188"/>
                    <a:pt x="111" y="191"/>
                  </a:cubicBezTo>
                  <a:cubicBezTo>
                    <a:pt x="153" y="188"/>
                    <a:pt x="195" y="189"/>
                    <a:pt x="237" y="183"/>
                  </a:cubicBezTo>
                  <a:cubicBezTo>
                    <a:pt x="258" y="180"/>
                    <a:pt x="279" y="143"/>
                    <a:pt x="297" y="131"/>
                  </a:cubicBezTo>
                  <a:cubicBezTo>
                    <a:pt x="311" y="109"/>
                    <a:pt x="318" y="90"/>
                    <a:pt x="326" y="65"/>
                  </a:cubicBezTo>
                  <a:cubicBezTo>
                    <a:pt x="318" y="30"/>
                    <a:pt x="319" y="45"/>
                    <a:pt x="319" y="20"/>
                  </a:cubicBezTo>
                  <a:close/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5227200" y="2971800"/>
            <a:ext cx="3674520" cy="3398400"/>
            <a:chOff x="5227200" y="2971800"/>
            <a:chExt cx="3674520" cy="3398400"/>
          </a:xfrm>
        </p:grpSpPr>
        <p:grpSp>
          <p:nvGrpSpPr>
            <p:cNvPr id="938" name=""/>
            <p:cNvGrpSpPr/>
            <p:nvPr/>
          </p:nvGrpSpPr>
          <p:grpSpPr>
            <a:xfrm>
              <a:off x="5227200" y="2971800"/>
              <a:ext cx="3645360" cy="3398400"/>
              <a:chOff x="5227200" y="2971800"/>
              <a:chExt cx="3645360" cy="3398400"/>
            </a:xfrm>
          </p:grpSpPr>
          <p:sp>
            <p:nvSpPr>
              <p:cNvPr id="939" name=""/>
              <p:cNvSpPr/>
              <p:nvPr/>
            </p:nvSpPr>
            <p:spPr>
              <a:xfrm>
                <a:off x="5771520" y="3130200"/>
                <a:ext cx="0" cy="273960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771520" y="5869800"/>
                <a:ext cx="3056760" cy="720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436800" y="4444560"/>
                <a:ext cx="108000" cy="10908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179400" y="4825800"/>
                <a:ext cx="10656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436800" y="4695840"/>
                <a:ext cx="108000" cy="107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296760" y="4314960"/>
                <a:ext cx="1080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168960" y="4966200"/>
                <a:ext cx="1062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426360" y="4836240"/>
                <a:ext cx="108000" cy="109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685200" y="4706280"/>
                <a:ext cx="1062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555960" y="4314960"/>
                <a:ext cx="1080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028560" y="4978080"/>
                <a:ext cx="1080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813000" y="4183560"/>
                <a:ext cx="108000" cy="109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072200" y="4053240"/>
                <a:ext cx="106200" cy="10908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823800" y="4064040"/>
                <a:ext cx="1080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168960" y="5227560"/>
                <a:ext cx="1062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942600" y="4444560"/>
                <a:ext cx="1080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942600" y="4706280"/>
                <a:ext cx="1080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072200" y="3923280"/>
                <a:ext cx="1062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104680" y="5358960"/>
                <a:ext cx="106560" cy="1076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8232840" y="5472360"/>
                <a:ext cx="108000" cy="109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8232840" y="5227560"/>
                <a:ext cx="108000" cy="10908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8104680" y="5489280"/>
                <a:ext cx="10656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362080" y="5489280"/>
                <a:ext cx="1080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8232840" y="5618880"/>
                <a:ext cx="108000" cy="10908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555960" y="4966200"/>
                <a:ext cx="1080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685200" y="4444560"/>
                <a:ext cx="106200" cy="109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555960" y="4836240"/>
                <a:ext cx="1080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555960" y="4574880"/>
                <a:ext cx="108000" cy="1090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426360" y="5227560"/>
                <a:ext cx="1080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415560" y="4978080"/>
                <a:ext cx="108000" cy="10908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695640" y="4564080"/>
                <a:ext cx="106560" cy="10908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813000" y="4574880"/>
                <a:ext cx="1080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285960" y="5238000"/>
                <a:ext cx="108000" cy="10908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072200" y="4444560"/>
                <a:ext cx="1062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329600" y="4314960"/>
                <a:ext cx="1080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942600" y="4183560"/>
                <a:ext cx="1080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426360" y="5489280"/>
                <a:ext cx="1080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953400" y="4304520"/>
                <a:ext cx="108000" cy="1072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953400" y="4564080"/>
                <a:ext cx="1080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189200" y="3912840"/>
                <a:ext cx="108000" cy="10764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566400" y="4825800"/>
                <a:ext cx="1080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942600" y="4706280"/>
                <a:ext cx="1080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975440" y="4966200"/>
                <a:ext cx="106200" cy="10908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104680" y="4966200"/>
                <a:ext cx="10656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104680" y="4836240"/>
                <a:ext cx="10656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975440" y="5097600"/>
                <a:ext cx="1062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232840" y="5097600"/>
                <a:ext cx="1080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8119800" y="5190480"/>
                <a:ext cx="108360" cy="107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179400" y="4564080"/>
                <a:ext cx="10656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296760" y="4314960"/>
                <a:ext cx="1080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436800" y="4173120"/>
                <a:ext cx="1080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168960" y="4706280"/>
                <a:ext cx="106200" cy="1090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823800" y="3804120"/>
                <a:ext cx="108000" cy="10872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309000" y="5087160"/>
                <a:ext cx="106560" cy="107280"/>
              </a:xfrm>
              <a:prstGeom prst="ellipse">
                <a:avLst/>
              </a:prstGeom>
              <a:solidFill>
                <a:srgbClr val="40458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85200" y="4183560"/>
                <a:ext cx="106200" cy="10908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535240" y="591192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  <a:ea typeface="宋体"/>
                  </a:rPr>
                  <a:t>x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227200" y="297180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  <a:ea typeface="宋体"/>
                  </a:rPr>
                  <a:t>y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 rot="1315800">
              <a:off x="6028200" y="3401640"/>
              <a:ext cx="1408680" cy="2396160"/>
            </a:xfrm>
            <a:prstGeom prst="ellipse">
              <a:avLst/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19980000">
              <a:off x="7766280" y="4615200"/>
              <a:ext cx="889200" cy="1296360"/>
            </a:xfrm>
            <a:prstGeom prst="ellipse">
              <a:avLst/>
            </a:prstGeom>
            <a:noFill/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4541760" y="4495680"/>
            <a:ext cx="30492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9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45E7B-6F4D-4ED2-BBB1-83A31643C8A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lustering Categorical Data: ROCK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OCK: Robust Clustering using linKs,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y S. Guha, R. Rastogi, K. Shim (ICDE’99)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e links to measure similarity/proxim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t distance bas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putational complexit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asic idea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milarity function and neighbors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i="1" lang="en-US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= {1,2,3},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i="1" lang="en-US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={3,4,5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6248520" y="4191120"/>
                <a:ext cx="2590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Ç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È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1828800" y="5334120"/>
                <a:ext cx="53341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,2,3,4,5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4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F17ED-847D-485C-8EC8-02F5C6F6ADE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ock: Algorith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s:  The number of common neighbours for the two point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orith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raw random samp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uster with link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abel data in dis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7" name=""/>
          <p:cNvSpPr/>
          <p:nvPr/>
        </p:nvSpPr>
        <p:spPr>
          <a:xfrm>
            <a:off x="1055160" y="2438280"/>
            <a:ext cx="7036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{1,2,3}, {1,2,4}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{1,2,5}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{1,3,4}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, {1,3,5}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{1,4,5}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{2,3,4}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, {2,3,5}, {2,4,5}, {3,4,5}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286000" y="3657600"/>
            <a:ext cx="4267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{1,2,3}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 {1,2,4}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733920" y="3962520"/>
            <a:ext cx="1447560" cy="0"/>
          </a:xfrm>
          <a:prstGeom prst="line">
            <a:avLst/>
          </a:prstGeom>
          <a:ln w="25560">
            <a:solidFill>
              <a:srgbClr val="40458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267080" y="3505320"/>
            <a:ext cx="381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1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A0BB3-51C7-4CFE-BE6C-41F2F2E2BAD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宋体"/>
              </a:rPr>
              <a:t>CHAMELE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CHAMELEON: hierarchical clustering using dynamic modeling, by G. Karypis, E.H. Han and V. Kumar’99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Measures the similarity based on a dynamic mod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Two clusters are merged only if the </a:t>
            </a:r>
            <a:r>
              <a:rPr b="0" i="1" lang="en-US" sz="2000" spc="-1" strike="noStrike">
                <a:solidFill>
                  <a:srgbClr val="6f89f7"/>
                </a:solidFill>
                <a:latin typeface="Tahoma"/>
                <a:ea typeface="宋体"/>
              </a:rPr>
              <a:t>interconnectivity</a:t>
            </a:r>
            <a:r>
              <a:rPr b="0" lang="en-US" sz="2000" spc="-1" strike="noStrike">
                <a:solidFill>
                  <a:srgbClr val="6f89f7"/>
                </a:solidFill>
                <a:latin typeface="Tahoma"/>
                <a:ea typeface="宋体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and </a:t>
            </a:r>
            <a:r>
              <a:rPr b="0" i="1" lang="en-US" sz="2000" spc="-1" strike="noStrike">
                <a:solidFill>
                  <a:srgbClr val="6f89f7"/>
                </a:solidFill>
                <a:latin typeface="Tahoma"/>
                <a:ea typeface="宋体"/>
              </a:rPr>
              <a:t>closeness (proximity)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between two clusters are high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relative t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the internal interconnectivity of the clusters and closeness of items within the cluste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A two phase algorith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1. Use a graph partitioning algorithm: cluster objects into a large number of relatively small sub-cluste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2. Use an agglomerative hierarchical clustering algorithm: find the genuine clusters by repeatedly combining these sub-cluste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4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13558-D149-4384-9823-2419CD7A67C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  <a:ea typeface="宋体"/>
              </a:rPr>
              <a:t>Overall Framework of CHAMELEON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016" name=""/>
          <p:cNvGrpSpPr/>
          <p:nvPr/>
        </p:nvGrpSpPr>
        <p:grpSpPr>
          <a:xfrm>
            <a:off x="228600" y="1460520"/>
            <a:ext cx="8762760" cy="4863600"/>
            <a:chOff x="228600" y="1460520"/>
            <a:chExt cx="8762760" cy="4863600"/>
          </a:xfrm>
        </p:grpSpPr>
        <p:sp>
          <p:nvSpPr>
            <p:cNvPr id="1017" name=""/>
            <p:cNvSpPr/>
            <p:nvPr/>
          </p:nvSpPr>
          <p:spPr>
            <a:xfrm>
              <a:off x="2755800" y="1688760"/>
              <a:ext cx="63360" cy="6336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590560" y="1854000"/>
              <a:ext cx="6372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19160" y="2006280"/>
              <a:ext cx="63720" cy="6336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2590560" y="1688760"/>
              <a:ext cx="22860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603520" y="2158920"/>
              <a:ext cx="6336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286000" y="2222280"/>
              <a:ext cx="6336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2286000" y="1917360"/>
              <a:ext cx="30456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590560" y="1917360"/>
              <a:ext cx="7632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2666520" y="2070000"/>
              <a:ext cx="152280" cy="75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74920" y="2463480"/>
              <a:ext cx="63360" cy="6336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057400" y="2450880"/>
              <a:ext cx="6336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43200" y="2463480"/>
              <a:ext cx="63360" cy="6336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527200" y="2755800"/>
              <a:ext cx="6336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590560" y="3073320"/>
              <a:ext cx="6372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08080" y="2908080"/>
              <a:ext cx="6372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286000" y="2222280"/>
              <a:ext cx="15228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2057040" y="2222280"/>
              <a:ext cx="22860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057400" y="2450880"/>
              <a:ext cx="380880" cy="759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2438280" y="2145960"/>
              <a:ext cx="228600" cy="380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124080" y="2755800"/>
              <a:ext cx="6336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00400" y="3073320"/>
              <a:ext cx="6336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03720" y="1765080"/>
              <a:ext cx="6336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809880" y="2450880"/>
              <a:ext cx="6336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419360" y="1625400"/>
              <a:ext cx="6372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419360" y="1917360"/>
              <a:ext cx="63720" cy="6336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7080" y="1993680"/>
              <a:ext cx="6336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975120" y="2374560"/>
              <a:ext cx="63360" cy="6336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962160" y="2603160"/>
              <a:ext cx="63720" cy="6336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127400" y="2679480"/>
              <a:ext cx="6336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038480" y="2755800"/>
              <a:ext cx="6336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3200400" y="2450880"/>
              <a:ext cx="68580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3886200" y="1765080"/>
              <a:ext cx="380880" cy="685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4267080" y="1688400"/>
              <a:ext cx="152280" cy="759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267080" y="1765080"/>
              <a:ext cx="152280" cy="151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267080" y="1765080"/>
              <a:ext cx="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4267080" y="1917000"/>
              <a:ext cx="152280" cy="759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962160" y="2603160"/>
              <a:ext cx="7632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60920" y="2463480"/>
              <a:ext cx="63360" cy="6336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889520" y="2539800"/>
              <a:ext cx="6336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822480" y="3213000"/>
              <a:ext cx="6372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733560" y="3365280"/>
              <a:ext cx="6372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962160" y="3441600"/>
              <a:ext cx="6372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809880" y="3670200"/>
              <a:ext cx="6336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813200" y="2298600"/>
              <a:ext cx="6336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733560" y="3835080"/>
              <a:ext cx="63720" cy="6336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593880" y="3746160"/>
              <a:ext cx="63720" cy="6336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517920" y="3898800"/>
              <a:ext cx="6336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724280" y="2527200"/>
              <a:ext cx="228600" cy="75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876560" y="2298600"/>
              <a:ext cx="76320" cy="3042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419360" y="1917360"/>
              <a:ext cx="457200" cy="380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267080" y="1993680"/>
              <a:ext cx="60948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3200400" y="2602800"/>
              <a:ext cx="76176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00400" y="3136680"/>
              <a:ext cx="53316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3657240" y="3365280"/>
              <a:ext cx="75960" cy="380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733560" y="3365280"/>
              <a:ext cx="7632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3809520" y="3441600"/>
              <a:ext cx="152280" cy="3042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657600" y="3746160"/>
              <a:ext cx="152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3581280" y="3746160"/>
              <a:ext cx="7632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66880" y="2145960"/>
              <a:ext cx="7632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819160" y="2527200"/>
              <a:ext cx="30492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743200" y="2527200"/>
              <a:ext cx="152280" cy="380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95480" y="2908080"/>
              <a:ext cx="30492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2895480" y="2831400"/>
              <a:ext cx="22860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438280" y="2527200"/>
              <a:ext cx="152280" cy="3042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2590560" y="2527200"/>
              <a:ext cx="152640" cy="3042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590560" y="2831760"/>
              <a:ext cx="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590560" y="3136680"/>
              <a:ext cx="6098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2590560" y="2984400"/>
              <a:ext cx="304920" cy="151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4190760" y="2527200"/>
              <a:ext cx="533520" cy="151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590560" y="2755800"/>
              <a:ext cx="38124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4038120" y="1993680"/>
              <a:ext cx="228600" cy="380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400800" y="2374560"/>
              <a:ext cx="63360" cy="6336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089" name=""/>
            <p:cNvGrpSpPr/>
            <p:nvPr/>
          </p:nvGrpSpPr>
          <p:grpSpPr>
            <a:xfrm>
              <a:off x="6705360" y="1841400"/>
              <a:ext cx="292320" cy="532440"/>
              <a:chOff x="6705360" y="1841400"/>
              <a:chExt cx="292320" cy="532440"/>
            </a:xfrm>
          </p:grpSpPr>
          <p:sp>
            <p:nvSpPr>
              <p:cNvPr id="1090" name=""/>
              <p:cNvSpPr/>
              <p:nvPr/>
            </p:nvSpPr>
            <p:spPr>
              <a:xfrm>
                <a:off x="6858000" y="1841400"/>
                <a:ext cx="63360" cy="630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705360" y="1993320"/>
                <a:ext cx="63720" cy="630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933960" y="2158560"/>
                <a:ext cx="63720" cy="630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6781680" y="1841400"/>
                <a:ext cx="152280" cy="15192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705360" y="2069640"/>
                <a:ext cx="228600" cy="756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933960" y="1917000"/>
                <a:ext cx="0" cy="3045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718320" y="2310840"/>
                <a:ext cx="63360" cy="630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705360" y="2069640"/>
                <a:ext cx="76320" cy="30420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H="1">
                <a:off x="6781320" y="2221920"/>
                <a:ext cx="152280" cy="759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489720" y="2616120"/>
              <a:ext cx="63360" cy="6300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172200" y="2603160"/>
              <a:ext cx="63360" cy="6336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858000" y="2616120"/>
              <a:ext cx="63360" cy="6300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642000" y="2908080"/>
              <a:ext cx="63360" cy="6300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705360" y="3225600"/>
              <a:ext cx="63720" cy="6300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022880" y="3060360"/>
              <a:ext cx="63720" cy="6336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400800" y="2374560"/>
              <a:ext cx="152280" cy="304560"/>
            </a:xfrm>
            <a:prstGeom prst="line">
              <a:avLst/>
            </a:prstGeom>
            <a:ln w="9360">
              <a:solidFill>
                <a:srgbClr val="ecd8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6171840" y="2374560"/>
              <a:ext cx="228600" cy="228240"/>
            </a:xfrm>
            <a:prstGeom prst="line">
              <a:avLst/>
            </a:prstGeom>
            <a:ln w="9360">
              <a:solidFill>
                <a:srgbClr val="ecd8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172200" y="2603160"/>
              <a:ext cx="380880" cy="75960"/>
            </a:xfrm>
            <a:prstGeom prst="line">
              <a:avLst/>
            </a:prstGeom>
            <a:ln w="9360">
              <a:solidFill>
                <a:srgbClr val="ecd8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238880" y="2908080"/>
              <a:ext cx="63360" cy="6300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251480" y="3225600"/>
              <a:ext cx="63720" cy="6300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404120" y="1612800"/>
              <a:ext cx="63360" cy="63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238880" y="2269800"/>
              <a:ext cx="74520" cy="75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619760" y="1473120"/>
              <a:ext cx="63720" cy="63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619760" y="1765080"/>
              <a:ext cx="63720" cy="63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467480" y="1841400"/>
              <a:ext cx="63360" cy="630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467480" y="2193840"/>
              <a:ext cx="74520" cy="75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391160" y="2422440"/>
              <a:ext cx="74880" cy="75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543800" y="2435040"/>
              <a:ext cx="74520" cy="75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467480" y="2574720"/>
              <a:ext cx="74520" cy="759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7467480" y="1536120"/>
              <a:ext cx="152280" cy="75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467480" y="1612800"/>
              <a:ext cx="152280" cy="1519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467480" y="1612800"/>
              <a:ext cx="0" cy="228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7467480" y="1764720"/>
              <a:ext cx="152280" cy="759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440480" y="2435040"/>
              <a:ext cx="114480" cy="1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421400" y="2404800"/>
              <a:ext cx="57240" cy="182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7497720" y="2494800"/>
              <a:ext cx="57240" cy="9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937280" y="2234880"/>
              <a:ext cx="63720" cy="6336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165880" y="2311200"/>
              <a:ext cx="6372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848360" y="2908080"/>
              <a:ext cx="63720" cy="63000"/>
            </a:xfrm>
            <a:prstGeom prst="ellipse">
              <a:avLst/>
            </a:prstGeom>
            <a:solidFill>
              <a:srgbClr val="99cc00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708680" y="3136680"/>
              <a:ext cx="63720" cy="63000"/>
            </a:xfrm>
            <a:prstGeom prst="ellipse">
              <a:avLst/>
            </a:prstGeom>
            <a:solidFill>
              <a:srgbClr val="99cc00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001000" y="3136680"/>
              <a:ext cx="63360" cy="63000"/>
            </a:xfrm>
            <a:prstGeom prst="ellipse">
              <a:avLst/>
            </a:prstGeom>
            <a:solidFill>
              <a:srgbClr val="99cc00"/>
            </a:solidFill>
            <a:ln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848360" y="3377880"/>
              <a:ext cx="63720" cy="633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089920" y="2070000"/>
              <a:ext cx="63360" cy="63000"/>
            </a:xfrm>
            <a:prstGeom prst="ellipse">
              <a:avLst/>
            </a:prstGeom>
            <a:solidFill>
              <a:srgbClr val="40458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772400" y="3530520"/>
              <a:ext cx="63360" cy="63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632720" y="3441600"/>
              <a:ext cx="63360" cy="63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556400" y="3593880"/>
              <a:ext cx="63360" cy="630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8001000" y="2298600"/>
              <a:ext cx="228600" cy="75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153280" y="2070000"/>
              <a:ext cx="76320" cy="3042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7619760" y="3441600"/>
              <a:ext cx="76320" cy="1519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933960" y="2679480"/>
              <a:ext cx="30492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858000" y="2679480"/>
              <a:ext cx="152280" cy="380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010280" y="3060360"/>
              <a:ext cx="30492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7010280" y="2984400"/>
              <a:ext cx="228600" cy="151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6705360" y="2679480"/>
              <a:ext cx="15264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705360" y="2984400"/>
              <a:ext cx="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705360" y="3288960"/>
              <a:ext cx="6098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6705360" y="3136680"/>
              <a:ext cx="304920" cy="151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705360" y="2908080"/>
              <a:ext cx="38124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749840" y="4051080"/>
              <a:ext cx="63360" cy="63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584600" y="4216320"/>
              <a:ext cx="63360" cy="63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813200" y="4368600"/>
              <a:ext cx="63360" cy="63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4584600" y="4051080"/>
              <a:ext cx="228600" cy="228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584600" y="4279680"/>
              <a:ext cx="228600" cy="7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813200" y="40510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597200" y="4520880"/>
              <a:ext cx="63720" cy="633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279680" y="4584600"/>
              <a:ext cx="63720" cy="63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4279320" y="4279680"/>
              <a:ext cx="30492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584600" y="4279680"/>
              <a:ext cx="7632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4660560" y="4431960"/>
              <a:ext cx="152280" cy="7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368600" y="4825800"/>
              <a:ext cx="63720" cy="63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051080" y="4813200"/>
              <a:ext cx="63720" cy="63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736880" y="4825800"/>
              <a:ext cx="63720" cy="63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521240" y="5117760"/>
              <a:ext cx="63360" cy="633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584600" y="5435280"/>
              <a:ext cx="63360" cy="633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902120" y="5270400"/>
              <a:ext cx="63360" cy="63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279680" y="4584600"/>
              <a:ext cx="152640" cy="304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4050720" y="4584600"/>
              <a:ext cx="228600" cy="228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051080" y="4813200"/>
              <a:ext cx="381240" cy="75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432320" y="4507920"/>
              <a:ext cx="228600" cy="380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118120" y="5117760"/>
              <a:ext cx="63360" cy="633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181480" y="5422680"/>
              <a:ext cx="63360" cy="630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184800" y="4127400"/>
              <a:ext cx="63360" cy="6300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790960" y="4813200"/>
              <a:ext cx="63720" cy="6300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400800" y="3987720"/>
              <a:ext cx="63360" cy="6300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400800" y="4279680"/>
              <a:ext cx="63360" cy="6300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248160" y="4356000"/>
              <a:ext cx="63720" cy="6300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019560" y="4736880"/>
              <a:ext cx="63720" cy="6300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43600" y="4965480"/>
              <a:ext cx="63360" cy="6300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095880" y="4978080"/>
              <a:ext cx="63360" cy="6336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56200" y="5117760"/>
              <a:ext cx="63360" cy="6336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5867280" y="4127400"/>
              <a:ext cx="380880" cy="68544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6248160" y="4050720"/>
              <a:ext cx="152640" cy="7596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48160" y="4127400"/>
              <a:ext cx="152640" cy="15192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248160" y="4127400"/>
              <a:ext cx="0" cy="22824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6248160" y="4279320"/>
              <a:ext cx="152640" cy="7596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019560" y="4736880"/>
              <a:ext cx="76320" cy="30456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943600" y="4965480"/>
              <a:ext cx="75960" cy="15192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6019560" y="5041800"/>
              <a:ext cx="76320" cy="756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642000" y="4825800"/>
              <a:ext cx="63360" cy="6300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870600" y="4902120"/>
              <a:ext cx="63360" cy="6300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867280" y="5574960"/>
              <a:ext cx="63360" cy="633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790960" y="5727600"/>
              <a:ext cx="63720" cy="630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019560" y="5803560"/>
              <a:ext cx="63720" cy="633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867280" y="6032160"/>
              <a:ext cx="63360" cy="633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794280" y="4660560"/>
              <a:ext cx="63720" cy="6336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790960" y="6197400"/>
              <a:ext cx="63720" cy="630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651280" y="6108480"/>
              <a:ext cx="63720" cy="630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638680" y="6260760"/>
              <a:ext cx="63360" cy="633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705360" y="4889160"/>
              <a:ext cx="228600" cy="7596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858000" y="4660560"/>
              <a:ext cx="75960" cy="30456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400800" y="4279680"/>
              <a:ext cx="457200" cy="38052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248160" y="4356000"/>
              <a:ext cx="609840" cy="30420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90960" y="5803560"/>
              <a:ext cx="2286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5714640" y="5727600"/>
              <a:ext cx="75960" cy="380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790960" y="5727600"/>
              <a:ext cx="76320" cy="30420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5866920" y="5803560"/>
              <a:ext cx="152280" cy="3045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715000" y="6108480"/>
              <a:ext cx="1522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5638680" y="6108480"/>
              <a:ext cx="76320" cy="1519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5790960" y="6032160"/>
              <a:ext cx="152640" cy="228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638680" y="6260760"/>
              <a:ext cx="2286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660920" y="4508280"/>
              <a:ext cx="7596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813200" y="4889160"/>
              <a:ext cx="304920" cy="228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736880" y="4889160"/>
              <a:ext cx="15264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889520" y="5270400"/>
              <a:ext cx="304560" cy="228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4889520" y="5194080"/>
              <a:ext cx="228600" cy="151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432320" y="4889160"/>
              <a:ext cx="15228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4584240" y="4889160"/>
              <a:ext cx="15228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84600" y="5194080"/>
              <a:ext cx="0" cy="228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84600" y="5499000"/>
              <a:ext cx="609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584600" y="5346000"/>
              <a:ext cx="30492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715000" y="6108480"/>
              <a:ext cx="152280" cy="1519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6172200" y="4888800"/>
              <a:ext cx="533160" cy="15228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584600" y="5117760"/>
              <a:ext cx="380880" cy="228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6019200" y="4356000"/>
              <a:ext cx="228600" cy="38052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28600" y="1765080"/>
              <a:ext cx="685800" cy="106632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990360" y="2298600"/>
              <a:ext cx="9907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914400" y="1460520"/>
              <a:ext cx="17524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Construct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Sparse Graph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105160" y="2374560"/>
              <a:ext cx="9907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876560" y="176508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Partition the Graph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V="1">
              <a:off x="7250040" y="2206080"/>
              <a:ext cx="228600" cy="7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250040" y="2282760"/>
              <a:ext cx="228600" cy="151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238880" y="4203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Merge Partitio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8381880" y="2374560"/>
              <a:ext cx="533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915400" y="2374560"/>
              <a:ext cx="0" cy="2285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6933960" y="4584600"/>
              <a:ext cx="19814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361960" y="473688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Final Cluster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819160" y="1688760"/>
              <a:ext cx="0" cy="380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28600" y="298440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Data Set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666880" y="1917360"/>
              <a:ext cx="15228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2742840" y="2070000"/>
              <a:ext cx="75960" cy="4568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819160" y="1993680"/>
              <a:ext cx="304920" cy="7617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124080" y="2755800"/>
              <a:ext cx="76320" cy="3042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809880" y="2450880"/>
              <a:ext cx="152280" cy="151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>
              <a:off x="3962160" y="2374560"/>
              <a:ext cx="7632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962160" y="2603160"/>
              <a:ext cx="152640" cy="759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038480" y="2374560"/>
              <a:ext cx="76320" cy="304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4038480" y="2679120"/>
              <a:ext cx="152280" cy="759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H="1">
              <a:off x="3885840" y="2755800"/>
              <a:ext cx="152280" cy="4568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3733560" y="3213000"/>
              <a:ext cx="152640" cy="1519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886200" y="3213000"/>
              <a:ext cx="7596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3733560" y="3746160"/>
              <a:ext cx="7632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657600" y="3746160"/>
              <a:ext cx="7596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619760" y="1536480"/>
              <a:ext cx="0" cy="2282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7467480" y="2222280"/>
              <a:ext cx="0" cy="228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467480" y="2222280"/>
              <a:ext cx="76320" cy="228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8001000" y="2070000"/>
              <a:ext cx="15228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238880" y="2908080"/>
              <a:ext cx="76320" cy="380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7772040" y="2908080"/>
              <a:ext cx="75960" cy="228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772400" y="3136680"/>
              <a:ext cx="22860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848360" y="2908080"/>
              <a:ext cx="152640" cy="22824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696080" y="3441600"/>
              <a:ext cx="15228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619760" y="3593880"/>
              <a:ext cx="1526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7772400" y="3441600"/>
              <a:ext cx="75960" cy="1519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400800" y="4051080"/>
              <a:ext cx="0" cy="22824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5867280" y="4736520"/>
              <a:ext cx="152280" cy="7596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943600" y="4965480"/>
              <a:ext cx="152280" cy="7596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0960" y="4813200"/>
              <a:ext cx="152640" cy="15192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5943600" y="4813200"/>
              <a:ext cx="75960" cy="15192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5181480" y="5194080"/>
              <a:ext cx="0" cy="228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 flipV="1">
              <a:off x="7696080" y="3441600"/>
              <a:ext cx="76320" cy="1519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6705360" y="4660560"/>
              <a:ext cx="152640" cy="228240"/>
            </a:xfrm>
            <a:prstGeom prst="line">
              <a:avLst/>
            </a:prstGeom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5790960" y="5574960"/>
              <a:ext cx="76320" cy="228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867280" y="5574960"/>
              <a:ext cx="152280" cy="228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3885840" y="2374560"/>
              <a:ext cx="152280" cy="759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4723920" y="2298600"/>
              <a:ext cx="15228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733560" y="3365280"/>
              <a:ext cx="228600" cy="759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581280" y="3898800"/>
              <a:ext cx="152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4419360" y="1688760"/>
              <a:ext cx="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78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9A02E-1BB0-4701-94DB-0901C731272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  <a:ea typeface="宋体"/>
              </a:rPr>
              <a:t>Density-Based Clustering Metho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Clustering based on density (local cluster criterion), such as density-connected poi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Major featur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50000"/>
              </a:lnSpc>
              <a:spcBef>
                <a:spcPts val="12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Discover clusters of arbitrary shap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50000"/>
              </a:lnSpc>
              <a:spcBef>
                <a:spcPts val="12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Handle nois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50000"/>
              </a:lnSpc>
              <a:spcBef>
                <a:spcPts val="12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One sca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50000"/>
              </a:lnSpc>
              <a:spcBef>
                <a:spcPts val="12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Need density parameters as termination condi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Several interesting studi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  <a:ea typeface="宋体"/>
              </a:rPr>
              <a:t>DBSCAN: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Ester, et al. (KDD’96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  <a:ea typeface="宋体"/>
              </a:rPr>
              <a:t>OPTIC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: Ankerst, et al (SIGMOD’99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  <a:ea typeface="宋体"/>
              </a:rPr>
              <a:t>DENCLU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: Hinneburg &amp; D. Keim  (KDD’98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  <a:ea typeface="宋体"/>
              </a:rPr>
              <a:t>CLIQU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: Agrawal, et al. (SIGMOD’98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1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3175D-65FF-48D8-8FCD-D1D8807B40F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  <a:ea typeface="宋体"/>
              </a:rPr>
              <a:t>Density-Based Clustering: Background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  <a:ea typeface="宋体"/>
              </a:rPr>
              <a:t>(1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500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Two parameters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Ep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: Maximum radius of the neighbourhoo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MinPt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: Minimum number of points in an Eps-neighbourhood of that poi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500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N</a:t>
            </a:r>
            <a:r>
              <a:rPr b="1" i="1" lang="en-US" sz="2400" spc="-1" strike="noStrike" baseline="-25000">
                <a:solidFill>
                  <a:srgbClr val="40458c"/>
                </a:solidFill>
                <a:latin typeface="Tahoma"/>
                <a:ea typeface="宋体"/>
              </a:rPr>
              <a:t>Eps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(p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	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{q belongs to D | dist(p,q) &lt;= Eps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1500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Directly density-reachable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A point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 is directly density-reachable from a point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q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 wrt.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Ep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,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MinPt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 if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1) 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p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belongs to 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N</a:t>
            </a:r>
            <a:r>
              <a:rPr b="1" i="1" lang="en-US" sz="2000" spc="-1" strike="noStrike" baseline="-25000">
                <a:solidFill>
                  <a:srgbClr val="40458c"/>
                </a:solidFill>
                <a:latin typeface="Tahoma"/>
                <a:ea typeface="宋体"/>
              </a:rPr>
              <a:t>Eps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(q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2) core point conditio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             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|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N</a:t>
            </a:r>
            <a:r>
              <a:rPr b="1" i="1" lang="en-US" sz="2000" spc="-1" strike="noStrike" baseline="-25000">
                <a:solidFill>
                  <a:srgbClr val="40458c"/>
                </a:solidFill>
                <a:latin typeface="Tahoma"/>
                <a:ea typeface="宋体"/>
              </a:rPr>
              <a:t>Eps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(q)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|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&gt;= </a:t>
            </a:r>
            <a:r>
              <a:rPr b="1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MinP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5187960" y="4724280"/>
            <a:ext cx="3879720" cy="1663920"/>
            <a:chOff x="5187960" y="4724280"/>
            <a:chExt cx="3879720" cy="1663920"/>
          </a:xfrm>
        </p:grpSpPr>
        <p:grpSp>
          <p:nvGrpSpPr>
            <p:cNvPr id="1285" name=""/>
            <p:cNvGrpSpPr/>
            <p:nvPr/>
          </p:nvGrpSpPr>
          <p:grpSpPr>
            <a:xfrm>
              <a:off x="5187960" y="4724280"/>
              <a:ext cx="1663560" cy="1663920"/>
              <a:chOff x="5187960" y="4724280"/>
              <a:chExt cx="1663560" cy="1663920"/>
            </a:xfrm>
          </p:grpSpPr>
          <p:sp>
            <p:nvSpPr>
              <p:cNvPr id="1286" name=""/>
              <p:cNvSpPr/>
              <p:nvPr/>
            </p:nvSpPr>
            <p:spPr>
              <a:xfrm>
                <a:off x="5298840" y="5506920"/>
                <a:ext cx="100080" cy="9864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635440" y="5618160"/>
                <a:ext cx="98640" cy="10008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635440" y="5283360"/>
                <a:ext cx="98640" cy="9828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187960" y="5952960"/>
                <a:ext cx="98280" cy="10008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411520" y="5730840"/>
                <a:ext cx="98640" cy="9828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411520" y="5952960"/>
                <a:ext cx="98640" cy="10008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746680" y="6066000"/>
                <a:ext cx="98280" cy="9828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746680" y="4724280"/>
                <a:ext cx="1104840" cy="1104840"/>
              </a:xfrm>
              <a:prstGeom prst="ellipse">
                <a:avLst/>
              </a:prstGeom>
              <a:noFill/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746680" y="5059440"/>
                <a:ext cx="98280" cy="10008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416640" y="5730840"/>
                <a:ext cx="100080" cy="9828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194160" y="5283360"/>
                <a:ext cx="98640" cy="9828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635440" y="5842080"/>
                <a:ext cx="98640" cy="9828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857920" y="5618160"/>
                <a:ext cx="99720" cy="10008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081480" y="5952960"/>
                <a:ext cx="100080" cy="10008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640560" y="6066000"/>
                <a:ext cx="99720" cy="98280"/>
              </a:xfrm>
              <a:prstGeom prst="ellipse">
                <a:avLst/>
              </a:prstGeom>
              <a:solidFill>
                <a:srgbClr val="cc3300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411520" y="5283360"/>
                <a:ext cx="1105200" cy="1104840"/>
              </a:xfrm>
              <a:prstGeom prst="ellipse">
                <a:avLst/>
              </a:prstGeom>
              <a:noFill/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248160" y="5022720"/>
                <a:ext cx="381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  <a:ea typeface="宋体"/>
                  </a:rPr>
                  <a:t>p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943600" y="5403960"/>
                <a:ext cx="3808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imes New Roman"/>
                    <a:ea typeface="宋体"/>
                  </a:rPr>
                  <a:t>q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304" name=""/>
            <p:cNvSpPr/>
            <p:nvPr/>
          </p:nvSpPr>
          <p:spPr>
            <a:xfrm>
              <a:off x="7238880" y="5022720"/>
              <a:ext cx="182880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MinPts = 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Eps = 1 cm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305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C957-D717-49CE-B77C-CD2049DAD47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Examples of Clustering Application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Marketing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Help marketers discover distinct groups in their customer bases, and then use this knowledge to develop targeted marketing progra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Land use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dentification of areas of similar land use in an earth observation databa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Insurance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dentifying groups of motor insurance policy holders with a high average claim c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City-planning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dentifying groups of houses according to their house type, value, and geographical loc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Earth-quake studies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bserved earth quake epicenters should be clustered along continent faul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234FC-EAC4-4E3D-8D2E-333FEF1F37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  <a:ea typeface="宋体"/>
              </a:rPr>
              <a:t>Density-Based Clustering: Background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  <a:ea typeface="宋体"/>
              </a:rPr>
              <a:t>(2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4724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Density-reachable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12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A point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p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is density-reachable from a point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q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wrt.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Ep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MinPt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if there is a chain of points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p</a:t>
            </a:r>
            <a:r>
              <a:rPr b="0" i="1" lang="en-US" sz="2000" spc="-1" strike="noStrike" baseline="-25000">
                <a:solidFill>
                  <a:srgbClr val="40458c"/>
                </a:solidFill>
                <a:latin typeface="Tahoma"/>
                <a:ea typeface="宋体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, …,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p</a:t>
            </a:r>
            <a:r>
              <a:rPr b="0" i="1" lang="en-US" sz="2000" spc="-1" strike="noStrike" baseline="-25000">
                <a:solidFill>
                  <a:srgbClr val="40458c"/>
                </a:solidFill>
                <a:latin typeface="Tahoma"/>
                <a:ea typeface="宋体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p</a:t>
            </a:r>
            <a:r>
              <a:rPr b="0" i="1" lang="en-US" sz="2000" spc="-1" strike="noStrike" baseline="-25000">
                <a:solidFill>
                  <a:srgbClr val="40458c"/>
                </a:solidFill>
                <a:latin typeface="Tahoma"/>
                <a:ea typeface="宋体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=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q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p</a:t>
            </a:r>
            <a:r>
              <a:rPr b="0" i="1" lang="en-US" sz="2000" spc="-1" strike="noStrike" baseline="-25000">
                <a:solidFill>
                  <a:srgbClr val="40458c"/>
                </a:solidFill>
                <a:latin typeface="Tahoma"/>
                <a:ea typeface="宋体"/>
              </a:rPr>
              <a:t>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=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p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such that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p</a:t>
            </a:r>
            <a:r>
              <a:rPr b="0" i="1" lang="en-US" sz="2000" spc="-1" strike="noStrike" baseline="-25000">
                <a:solidFill>
                  <a:srgbClr val="40458c"/>
                </a:solidFill>
                <a:latin typeface="Tahoma"/>
                <a:ea typeface="宋体"/>
              </a:rPr>
              <a:t>i+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is directly density-reachable from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p</a:t>
            </a:r>
            <a:r>
              <a:rPr b="0" i="1" lang="en-US" sz="2000" spc="-1" strike="noStrike" baseline="-25000">
                <a:solidFill>
                  <a:srgbClr val="40458c"/>
                </a:solidFill>
                <a:latin typeface="Tahoma"/>
                <a:ea typeface="宋体"/>
              </a:rPr>
              <a:t>i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Density-connect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12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A point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p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is density-connected to a point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q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wrt.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Ep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MinPt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if there is a point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o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such that both,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p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and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q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are density-reachable from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wrt.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Ep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 and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MinPt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5791320" y="4267080"/>
            <a:ext cx="2863800" cy="1638000"/>
            <a:chOff x="5791320" y="4267080"/>
            <a:chExt cx="2863800" cy="1638000"/>
          </a:xfrm>
        </p:grpSpPr>
        <p:sp>
          <p:nvSpPr>
            <p:cNvPr id="1309" name=""/>
            <p:cNvSpPr/>
            <p:nvPr/>
          </p:nvSpPr>
          <p:spPr>
            <a:xfrm>
              <a:off x="6562800" y="4821120"/>
              <a:ext cx="99720" cy="982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899400" y="4932000"/>
              <a:ext cx="98280" cy="1000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899400" y="4597200"/>
              <a:ext cx="98280" cy="982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451560" y="5267160"/>
              <a:ext cx="98280" cy="1000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675480" y="5044680"/>
              <a:ext cx="98280" cy="9864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904080" y="5495760"/>
              <a:ext cx="98280" cy="1000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010280" y="5151240"/>
              <a:ext cx="98640" cy="982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010280" y="4373280"/>
              <a:ext cx="98640" cy="1000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680240" y="5044680"/>
              <a:ext cx="100080" cy="9864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458120" y="4597200"/>
              <a:ext cx="98280" cy="982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213600" y="5079600"/>
              <a:ext cx="98280" cy="9864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121520" y="4932000"/>
              <a:ext cx="100080" cy="1000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345440" y="5267160"/>
              <a:ext cx="99720" cy="1000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904160" y="5379840"/>
              <a:ext cx="100080" cy="982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911920" y="441288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273880" y="4412880"/>
              <a:ext cx="3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q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061120" y="4968720"/>
              <a:ext cx="100080" cy="982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502400" y="5008320"/>
              <a:ext cx="100080" cy="1000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726320" y="5190840"/>
              <a:ext cx="100080" cy="1000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213760" y="4587480"/>
              <a:ext cx="100080" cy="9864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655040" y="4474800"/>
              <a:ext cx="99720" cy="1000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954920" y="4733640"/>
              <a:ext cx="100080" cy="1000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943600" y="4647960"/>
              <a:ext cx="1104840" cy="1104840"/>
            </a:xfrm>
            <a:prstGeom prst="ellipse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477120" y="4800240"/>
              <a:ext cx="1104840" cy="1104840"/>
            </a:xfrm>
            <a:prstGeom prst="ellipse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086600" y="4647960"/>
              <a:ext cx="1104840" cy="1104840"/>
            </a:xfrm>
            <a:prstGeom prst="ellipse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467480" y="4267080"/>
              <a:ext cx="1104840" cy="1104840"/>
            </a:xfrm>
            <a:prstGeom prst="ellipse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6521400" y="5174640"/>
              <a:ext cx="457200" cy="15228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7130520" y="5098680"/>
              <a:ext cx="381240" cy="7632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410160" y="4668480"/>
              <a:ext cx="100080" cy="9864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213600" y="4749480"/>
              <a:ext cx="98280" cy="9864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477120" y="4373280"/>
              <a:ext cx="98280" cy="1000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791320" y="4267080"/>
              <a:ext cx="1104840" cy="1104840"/>
            </a:xfrm>
            <a:prstGeom prst="ellipse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292800" y="4794120"/>
              <a:ext cx="152280" cy="4572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7587720" y="4794120"/>
              <a:ext cx="381240" cy="2286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978600" y="5175000"/>
              <a:ext cx="38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6294600" y="1676520"/>
            <a:ext cx="2090160" cy="1790280"/>
            <a:chOff x="6294600" y="1676520"/>
            <a:chExt cx="2090160" cy="1790280"/>
          </a:xfrm>
        </p:grpSpPr>
        <p:sp>
          <p:nvSpPr>
            <p:cNvPr id="1345" name=""/>
            <p:cNvSpPr/>
            <p:nvPr/>
          </p:nvSpPr>
          <p:spPr>
            <a:xfrm>
              <a:off x="6943680" y="2382840"/>
              <a:ext cx="99720" cy="9792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280280" y="2493720"/>
              <a:ext cx="97920" cy="9972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280280" y="2158920"/>
              <a:ext cx="97920" cy="9792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832440" y="2828880"/>
              <a:ext cx="98280" cy="9972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056360" y="2606400"/>
              <a:ext cx="97920" cy="982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056360" y="2828880"/>
              <a:ext cx="97920" cy="9972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391160" y="2941560"/>
              <a:ext cx="98280" cy="9792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391160" y="1935000"/>
              <a:ext cx="98280" cy="9972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061120" y="2606400"/>
              <a:ext cx="99720" cy="982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839000" y="2158920"/>
              <a:ext cx="97920" cy="9792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280280" y="2717640"/>
              <a:ext cx="97920" cy="982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502400" y="2493720"/>
              <a:ext cx="99720" cy="9972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726320" y="2828880"/>
              <a:ext cx="99720" cy="9972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285040" y="2941560"/>
              <a:ext cx="99720" cy="9792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010280" y="2361960"/>
              <a:ext cx="1104480" cy="1104840"/>
            </a:xfrm>
            <a:prstGeom prst="ellipse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294600" y="2235240"/>
              <a:ext cx="1104480" cy="1104480"/>
            </a:xfrm>
            <a:prstGeom prst="ellipse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893000" y="1974600"/>
              <a:ext cx="380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521400" y="2660400"/>
              <a:ext cx="380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q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238880" y="1676520"/>
              <a:ext cx="1104480" cy="1104840"/>
            </a:xfrm>
            <a:prstGeom prst="ellipse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283160" y="2431800"/>
              <a:ext cx="6094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p</a:t>
              </a:r>
              <a:r>
                <a:rPr b="1" i="1" lang="en-US" sz="2400" spc="-1" strike="noStrike" baseline="-25000">
                  <a:solidFill>
                    <a:srgbClr val="40458c"/>
                  </a:solidFill>
                  <a:latin typeface="Times New Roman"/>
                  <a:ea typeface="宋体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7359120" y="2279520"/>
              <a:ext cx="456840" cy="22824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6858000" y="2590560"/>
              <a:ext cx="456840" cy="30456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367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CDD11-A1F6-4445-8496-D4AA6F3B642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宋体"/>
              </a:rPr>
              <a:t>DBSCAN: Density Based Spatial Clustering of Applications with Nois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Relies on a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density-base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 notion of cluster:  A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cluste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 is defined as a maximal set of density-connected poi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Discovers clusters of arbitrary shape in spatial databases with noi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2057400" y="3505320"/>
            <a:ext cx="6324480" cy="2743200"/>
            <a:chOff x="2057400" y="3505320"/>
            <a:chExt cx="6324480" cy="2743200"/>
          </a:xfrm>
        </p:grpSpPr>
        <p:sp>
          <p:nvSpPr>
            <p:cNvPr id="1371" name=""/>
            <p:cNvSpPr/>
            <p:nvPr/>
          </p:nvSpPr>
          <p:spPr>
            <a:xfrm>
              <a:off x="3704400" y="4377960"/>
              <a:ext cx="197640" cy="1868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638520" y="4689720"/>
              <a:ext cx="197640" cy="1868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967920" y="4752360"/>
              <a:ext cx="197640" cy="1868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099680" y="4377960"/>
              <a:ext cx="197640" cy="1868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231440" y="4939200"/>
              <a:ext cx="197640" cy="1868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704400" y="5001480"/>
              <a:ext cx="197640" cy="1868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967920" y="5188320"/>
              <a:ext cx="197640" cy="1868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836160" y="5500440"/>
              <a:ext cx="197640" cy="1868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165560" y="5687280"/>
              <a:ext cx="197640" cy="1868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297320" y="5936400"/>
              <a:ext cx="197640" cy="1868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231440" y="5375520"/>
              <a:ext cx="197640" cy="1868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087880" y="3629880"/>
              <a:ext cx="197640" cy="1868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219640" y="4377960"/>
              <a:ext cx="197640" cy="1868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022000" y="4627440"/>
              <a:ext cx="197640" cy="1868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83160" y="4752360"/>
              <a:ext cx="197640" cy="1868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614920" y="4440240"/>
              <a:ext cx="197640" cy="1868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219640" y="4876920"/>
              <a:ext cx="197640" cy="1868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045600" y="3505320"/>
              <a:ext cx="3359880" cy="2743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309120" y="4128840"/>
              <a:ext cx="790560" cy="81036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704400" y="4876920"/>
              <a:ext cx="790560" cy="81036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824360" y="3505320"/>
              <a:ext cx="790560" cy="81036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636280" y="5193720"/>
              <a:ext cx="790560" cy="459720"/>
            </a:xfrm>
            <a:prstGeom prst="borderCallout1">
              <a:avLst>
                <a:gd name="adj1" fmla="val 18750"/>
                <a:gd name="adj2" fmla="val -8333"/>
                <a:gd name="adj3" fmla="val 19087"/>
                <a:gd name="adj4" fmla="val 168726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Cor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057400" y="4413240"/>
              <a:ext cx="1121400" cy="459720"/>
            </a:xfrm>
            <a:prstGeom prst="borderCallout1">
              <a:avLst>
                <a:gd name="adj1" fmla="val 18750"/>
                <a:gd name="adj2" fmla="val -8333"/>
                <a:gd name="adj3" fmla="val 14629"/>
                <a:gd name="adj4" fmla="val 148523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Bor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209280" y="3631320"/>
              <a:ext cx="1130400" cy="459720"/>
            </a:xfrm>
            <a:prstGeom prst="borderCallout1">
              <a:avLst>
                <a:gd name="adj1" fmla="val 18750"/>
                <a:gd name="adj2" fmla="val -8333"/>
                <a:gd name="adj3" fmla="val 21671"/>
                <a:gd name="adj4" fmla="val -82805"/>
              </a:avLst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Outli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736320" y="4689720"/>
              <a:ext cx="16455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Eps = 1cm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MinPts = 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429080" y="5625000"/>
              <a:ext cx="197640" cy="18684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397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930A5-BD4B-4B71-AD1B-F3A48916498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宋体"/>
              </a:rPr>
              <a:t>DBSCAN: The Algorith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12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Arbitrary select a point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Retrieve all points density-reachable from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 wrt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Ep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 and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MinPt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If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 is a core point, a cluster is forme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If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 is a border point, no points are density-reachable from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p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 and DBSCAN visits the next point of the databa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15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Continue the process until all of the points have been processe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0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914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E2824-EABF-41C5-9562-24C12BE160C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宋体"/>
              </a:rPr>
              <a:t>OPTICS:  A Cluster-Ordering Method (1999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宋体"/>
              </a:rPr>
              <a:t>OPTICS: Ordering Points To Identify the Clustering Struc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Ankerst, Breunig, Kriegel, and Sander (SIGMOD’99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Produces a special order of the database wrt its density-based clustering structure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This cluster-ordering contains info equiv to the density-based clusterings corresponding to a broad range of parameter setting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Good for both automatic and interactive cluster analysis, including finding intrinsic clustering structu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Can be represented graphically or using visualization techniqu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4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99632-1876-4DBD-AD03-C9CCBE26809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  <a:ea typeface="宋体"/>
              </a:rPr>
              <a:t>OPTICS: Some Extension from DBSCA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Index-based: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宋体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50000"/>
              </a:lnSpc>
              <a:spcBef>
                <a:spcPts val="12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k = number of dimensions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50000"/>
              </a:lnSpc>
              <a:spcBef>
                <a:spcPts val="12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N = 2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50000"/>
              </a:lnSpc>
              <a:spcBef>
                <a:spcPts val="12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p = 75%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50000"/>
              </a:lnSpc>
              <a:spcBef>
                <a:spcPts val="125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M = N(1-p) = 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Complexity:  O(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kN</a:t>
            </a:r>
            <a:r>
              <a:rPr b="0" i="1" lang="en-US" sz="2400" spc="-1" strike="noStrike" baseline="30000">
                <a:solidFill>
                  <a:srgbClr val="40458c"/>
                </a:solidFill>
                <a:latin typeface="Tahoma"/>
                <a:ea typeface="宋体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Core Dist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Reachability Dist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7" name=""/>
          <p:cNvSpPr/>
          <p:nvPr/>
        </p:nvSpPr>
        <p:spPr>
          <a:xfrm>
            <a:off x="533520" y="5410080"/>
            <a:ext cx="43434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Max (core-distance (o), d (o, p)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  <a:ea typeface="宋体"/>
              </a:rPr>
              <a:t>r(p1, o) = 2.8cm.  r(p2,o) = 4c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7086600" y="1670040"/>
            <a:ext cx="1751040" cy="1727280"/>
            <a:chOff x="7086600" y="1670040"/>
            <a:chExt cx="1751040" cy="1727280"/>
          </a:xfrm>
        </p:grpSpPr>
        <p:sp>
          <p:nvSpPr>
            <p:cNvPr id="1409" name=""/>
            <p:cNvSpPr/>
            <p:nvPr/>
          </p:nvSpPr>
          <p:spPr>
            <a:xfrm>
              <a:off x="8229600" y="2051280"/>
              <a:ext cx="237960" cy="23796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391160" y="2737080"/>
              <a:ext cx="238320" cy="23796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848360" y="2508480"/>
              <a:ext cx="238320" cy="23796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086600" y="1670040"/>
              <a:ext cx="1726920" cy="1727280"/>
            </a:xfrm>
            <a:prstGeom prst="ellipse">
              <a:avLst/>
            </a:prstGeom>
            <a:noFill/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8076960" y="2584440"/>
              <a:ext cx="760680" cy="180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8305560" y="2432160"/>
              <a:ext cx="435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D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43800" y="1898640"/>
              <a:ext cx="237960" cy="23832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5165640" y="1295280"/>
            <a:ext cx="1914480" cy="1533240"/>
            <a:chOff x="5165640" y="1295280"/>
            <a:chExt cx="1914480" cy="1533240"/>
          </a:xfrm>
        </p:grpSpPr>
        <p:sp>
          <p:nvSpPr>
            <p:cNvPr id="1417" name=""/>
            <p:cNvSpPr/>
            <p:nvPr/>
          </p:nvSpPr>
          <p:spPr>
            <a:xfrm>
              <a:off x="5622840" y="1447560"/>
              <a:ext cx="237960" cy="23796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699160" y="1828440"/>
              <a:ext cx="237960" cy="23832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003720" y="1752480"/>
              <a:ext cx="238320" cy="23796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470560" y="2209680"/>
              <a:ext cx="237960" cy="23796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308640" y="1828440"/>
              <a:ext cx="237960" cy="23832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003720" y="1447560"/>
              <a:ext cx="238320" cy="23796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775120" y="2514240"/>
              <a:ext cx="238320" cy="23832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613560" y="1599840"/>
              <a:ext cx="237960" cy="23832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384960" y="1295280"/>
              <a:ext cx="237960" cy="23796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613560" y="1981080"/>
              <a:ext cx="237960" cy="23796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460920" y="2285640"/>
              <a:ext cx="238320" cy="23832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003720" y="2057040"/>
              <a:ext cx="238320" cy="23832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241960" y="1828440"/>
              <a:ext cx="237960" cy="23832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232320" y="2590560"/>
              <a:ext cx="238320" cy="23796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842160" y="1295280"/>
              <a:ext cx="237960" cy="23796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165640" y="1371240"/>
              <a:ext cx="237960" cy="23832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33" name=""/>
          <p:cNvGrpSpPr/>
          <p:nvPr/>
        </p:nvGrpSpPr>
        <p:grpSpPr>
          <a:xfrm>
            <a:off x="5410080" y="3886200"/>
            <a:ext cx="3346560" cy="2670480"/>
            <a:chOff x="5410080" y="3886200"/>
            <a:chExt cx="3346560" cy="2670480"/>
          </a:xfrm>
        </p:grpSpPr>
        <p:sp>
          <p:nvSpPr>
            <p:cNvPr id="1434" name=""/>
            <p:cNvSpPr/>
            <p:nvPr/>
          </p:nvSpPr>
          <p:spPr>
            <a:xfrm>
              <a:off x="6559560" y="3886200"/>
              <a:ext cx="2197080" cy="2197080"/>
            </a:xfrm>
            <a:prstGeom prst="ellipse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864120" y="4724640"/>
              <a:ext cx="216000" cy="21564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549920" y="4876920"/>
              <a:ext cx="216000" cy="21600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8312040" y="4800600"/>
              <a:ext cx="216000" cy="21600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854840" y="4038840"/>
              <a:ext cx="216000" cy="21564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410080" y="5542200"/>
              <a:ext cx="175248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MinPts = 5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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  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= 3 cm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238880" y="4946760"/>
              <a:ext cx="533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3733920" y="3422520"/>
            <a:ext cx="2736360" cy="2197080"/>
            <a:chOff x="3733920" y="3422520"/>
            <a:chExt cx="2736360" cy="2197080"/>
          </a:xfrm>
        </p:grpSpPr>
        <p:sp>
          <p:nvSpPr>
            <p:cNvPr id="1442" name=""/>
            <p:cNvSpPr/>
            <p:nvPr/>
          </p:nvSpPr>
          <p:spPr>
            <a:xfrm>
              <a:off x="3733920" y="4794120"/>
              <a:ext cx="533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p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273560" y="3422520"/>
              <a:ext cx="2196720" cy="2197080"/>
            </a:xfrm>
            <a:prstGeom prst="ellipse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111640" y="4032000"/>
              <a:ext cx="215640" cy="21600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578120" y="4260600"/>
              <a:ext cx="215640" cy="21600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263920" y="4412880"/>
              <a:ext cx="215640" cy="21600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416560" y="4946400"/>
              <a:ext cx="215280" cy="21600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026040" y="4336920"/>
              <a:ext cx="215640" cy="21564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568840" y="3574800"/>
              <a:ext cx="215640" cy="21600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952880" y="4406760"/>
              <a:ext cx="533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259240" y="4255920"/>
              <a:ext cx="74160" cy="150840"/>
            </a:xfrm>
            <a:prstGeom prst="line">
              <a:avLst/>
            </a:prstGeom>
            <a:ln w="507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952880" y="3651120"/>
              <a:ext cx="533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p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4115880" y="4643280"/>
              <a:ext cx="1217160" cy="608040"/>
            </a:xfrm>
            <a:prstGeom prst="line">
              <a:avLst/>
            </a:prstGeom>
            <a:ln w="255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962160" y="5187600"/>
              <a:ext cx="215640" cy="21600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455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E85EE-CD21-478C-BC78-8DEE6CE86E2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6" name=""/>
          <p:cNvGrpSpPr/>
          <p:nvPr/>
        </p:nvGrpSpPr>
        <p:grpSpPr>
          <a:xfrm>
            <a:off x="228600" y="380880"/>
            <a:ext cx="8915400" cy="6052680"/>
            <a:chOff x="228600" y="380880"/>
            <a:chExt cx="8915400" cy="6052680"/>
          </a:xfrm>
        </p:grpSpPr>
        <p:sp>
          <p:nvSpPr>
            <p:cNvPr id="1457" name=""/>
            <p:cNvSpPr/>
            <p:nvPr/>
          </p:nvSpPr>
          <p:spPr>
            <a:xfrm>
              <a:off x="2133720" y="2135160"/>
              <a:ext cx="0" cy="3198600"/>
            </a:xfrm>
            <a:prstGeom prst="line">
              <a:avLst/>
            </a:prstGeom>
            <a:ln w="1015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211480" y="5257800"/>
              <a:ext cx="6094440" cy="0"/>
            </a:xfrm>
            <a:prstGeom prst="line">
              <a:avLst/>
            </a:prstGeom>
            <a:ln w="1015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057400" y="2103480"/>
              <a:ext cx="6280200" cy="3247920"/>
            </a:xfrm>
            <a:custGeom>
              <a:avLst/>
              <a:gdLst/>
              <a:ahLst/>
              <a:rect l="l" t="t" r="r" b="b"/>
              <a:pathLst>
                <a:path w="3956" h="2046">
                  <a:moveTo>
                    <a:pt x="0" y="19"/>
                  </a:moveTo>
                  <a:lnTo>
                    <a:pt x="39" y="0"/>
                  </a:lnTo>
                  <a:lnTo>
                    <a:pt x="63" y="0"/>
                  </a:lnTo>
                  <a:lnTo>
                    <a:pt x="79" y="24"/>
                  </a:lnTo>
                  <a:lnTo>
                    <a:pt x="87" y="48"/>
                  </a:lnTo>
                  <a:lnTo>
                    <a:pt x="87" y="71"/>
                  </a:lnTo>
                  <a:lnTo>
                    <a:pt x="87" y="95"/>
                  </a:lnTo>
                  <a:lnTo>
                    <a:pt x="87" y="119"/>
                  </a:lnTo>
                  <a:lnTo>
                    <a:pt x="87" y="142"/>
                  </a:lnTo>
                  <a:lnTo>
                    <a:pt x="95" y="166"/>
                  </a:lnTo>
                  <a:lnTo>
                    <a:pt x="95" y="190"/>
                  </a:lnTo>
                  <a:lnTo>
                    <a:pt x="102" y="213"/>
                  </a:lnTo>
                  <a:lnTo>
                    <a:pt x="110" y="237"/>
                  </a:lnTo>
                  <a:lnTo>
                    <a:pt x="118" y="261"/>
                  </a:lnTo>
                  <a:lnTo>
                    <a:pt x="134" y="284"/>
                  </a:lnTo>
                  <a:lnTo>
                    <a:pt x="150" y="308"/>
                  </a:lnTo>
                  <a:lnTo>
                    <a:pt x="166" y="332"/>
                  </a:lnTo>
                  <a:lnTo>
                    <a:pt x="174" y="355"/>
                  </a:lnTo>
                  <a:lnTo>
                    <a:pt x="197" y="395"/>
                  </a:lnTo>
                  <a:lnTo>
                    <a:pt x="213" y="419"/>
                  </a:lnTo>
                  <a:lnTo>
                    <a:pt x="229" y="450"/>
                  </a:lnTo>
                  <a:lnTo>
                    <a:pt x="245" y="474"/>
                  </a:lnTo>
                  <a:lnTo>
                    <a:pt x="252" y="505"/>
                  </a:lnTo>
                  <a:lnTo>
                    <a:pt x="268" y="529"/>
                  </a:lnTo>
                  <a:lnTo>
                    <a:pt x="268" y="553"/>
                  </a:lnTo>
                  <a:lnTo>
                    <a:pt x="276" y="576"/>
                  </a:lnTo>
                  <a:lnTo>
                    <a:pt x="284" y="600"/>
                  </a:lnTo>
                  <a:lnTo>
                    <a:pt x="292" y="624"/>
                  </a:lnTo>
                  <a:lnTo>
                    <a:pt x="300" y="648"/>
                  </a:lnTo>
                  <a:lnTo>
                    <a:pt x="308" y="679"/>
                  </a:lnTo>
                  <a:lnTo>
                    <a:pt x="316" y="703"/>
                  </a:lnTo>
                  <a:lnTo>
                    <a:pt x="324" y="726"/>
                  </a:lnTo>
                  <a:lnTo>
                    <a:pt x="331" y="758"/>
                  </a:lnTo>
                  <a:lnTo>
                    <a:pt x="339" y="782"/>
                  </a:lnTo>
                  <a:lnTo>
                    <a:pt x="347" y="805"/>
                  </a:lnTo>
                  <a:lnTo>
                    <a:pt x="363" y="829"/>
                  </a:lnTo>
                  <a:lnTo>
                    <a:pt x="371" y="853"/>
                  </a:lnTo>
                  <a:lnTo>
                    <a:pt x="379" y="876"/>
                  </a:lnTo>
                  <a:lnTo>
                    <a:pt x="387" y="900"/>
                  </a:lnTo>
                  <a:lnTo>
                    <a:pt x="395" y="924"/>
                  </a:lnTo>
                  <a:lnTo>
                    <a:pt x="402" y="947"/>
                  </a:lnTo>
                  <a:lnTo>
                    <a:pt x="410" y="971"/>
                  </a:lnTo>
                  <a:lnTo>
                    <a:pt x="410" y="995"/>
                  </a:lnTo>
                  <a:lnTo>
                    <a:pt x="418" y="1018"/>
                  </a:lnTo>
                  <a:lnTo>
                    <a:pt x="418" y="1042"/>
                  </a:lnTo>
                  <a:lnTo>
                    <a:pt x="418" y="1074"/>
                  </a:lnTo>
                  <a:lnTo>
                    <a:pt x="418" y="1105"/>
                  </a:lnTo>
                  <a:lnTo>
                    <a:pt x="418" y="1129"/>
                  </a:lnTo>
                  <a:lnTo>
                    <a:pt x="418" y="1161"/>
                  </a:lnTo>
                  <a:lnTo>
                    <a:pt x="418" y="1184"/>
                  </a:lnTo>
                  <a:lnTo>
                    <a:pt x="418" y="1208"/>
                  </a:lnTo>
                  <a:lnTo>
                    <a:pt x="418" y="1232"/>
                  </a:lnTo>
                  <a:lnTo>
                    <a:pt x="426" y="1255"/>
                  </a:lnTo>
                  <a:lnTo>
                    <a:pt x="426" y="1279"/>
                  </a:lnTo>
                  <a:lnTo>
                    <a:pt x="434" y="1303"/>
                  </a:lnTo>
                  <a:lnTo>
                    <a:pt x="442" y="1326"/>
                  </a:lnTo>
                  <a:lnTo>
                    <a:pt x="458" y="1350"/>
                  </a:lnTo>
                  <a:lnTo>
                    <a:pt x="489" y="1374"/>
                  </a:lnTo>
                  <a:lnTo>
                    <a:pt x="521" y="1389"/>
                  </a:lnTo>
                  <a:lnTo>
                    <a:pt x="545" y="1397"/>
                  </a:lnTo>
                  <a:lnTo>
                    <a:pt x="568" y="1405"/>
                  </a:lnTo>
                  <a:lnTo>
                    <a:pt x="592" y="1421"/>
                  </a:lnTo>
                  <a:lnTo>
                    <a:pt x="623" y="1437"/>
                  </a:lnTo>
                  <a:lnTo>
                    <a:pt x="663" y="1460"/>
                  </a:lnTo>
                  <a:lnTo>
                    <a:pt x="687" y="1476"/>
                  </a:lnTo>
                  <a:lnTo>
                    <a:pt x="718" y="1492"/>
                  </a:lnTo>
                  <a:lnTo>
                    <a:pt x="734" y="1516"/>
                  </a:lnTo>
                  <a:lnTo>
                    <a:pt x="773" y="1524"/>
                  </a:lnTo>
                  <a:lnTo>
                    <a:pt x="797" y="1524"/>
                  </a:lnTo>
                  <a:lnTo>
                    <a:pt x="837" y="1524"/>
                  </a:lnTo>
                  <a:lnTo>
                    <a:pt x="884" y="1524"/>
                  </a:lnTo>
                  <a:lnTo>
                    <a:pt x="923" y="1524"/>
                  </a:lnTo>
                  <a:lnTo>
                    <a:pt x="963" y="1516"/>
                  </a:lnTo>
                  <a:lnTo>
                    <a:pt x="987" y="1516"/>
                  </a:lnTo>
                  <a:lnTo>
                    <a:pt x="1010" y="1508"/>
                  </a:lnTo>
                  <a:lnTo>
                    <a:pt x="1034" y="1484"/>
                  </a:lnTo>
                  <a:lnTo>
                    <a:pt x="1058" y="1460"/>
                  </a:lnTo>
                  <a:lnTo>
                    <a:pt x="1081" y="1437"/>
                  </a:lnTo>
                  <a:lnTo>
                    <a:pt x="1097" y="1413"/>
                  </a:lnTo>
                  <a:lnTo>
                    <a:pt x="1113" y="1389"/>
                  </a:lnTo>
                  <a:lnTo>
                    <a:pt x="1137" y="1366"/>
                  </a:lnTo>
                  <a:lnTo>
                    <a:pt x="1152" y="1342"/>
                  </a:lnTo>
                  <a:lnTo>
                    <a:pt x="1176" y="1318"/>
                  </a:lnTo>
                  <a:lnTo>
                    <a:pt x="1200" y="1295"/>
                  </a:lnTo>
                  <a:lnTo>
                    <a:pt x="1223" y="1271"/>
                  </a:lnTo>
                  <a:lnTo>
                    <a:pt x="1239" y="1247"/>
                  </a:lnTo>
                  <a:lnTo>
                    <a:pt x="1255" y="1224"/>
                  </a:lnTo>
                  <a:lnTo>
                    <a:pt x="1263" y="1200"/>
                  </a:lnTo>
                  <a:lnTo>
                    <a:pt x="1271" y="1176"/>
                  </a:lnTo>
                  <a:lnTo>
                    <a:pt x="1271" y="1153"/>
                  </a:lnTo>
                  <a:lnTo>
                    <a:pt x="1271" y="1129"/>
                  </a:lnTo>
                  <a:lnTo>
                    <a:pt x="1271" y="1105"/>
                  </a:lnTo>
                  <a:lnTo>
                    <a:pt x="1271" y="1082"/>
                  </a:lnTo>
                  <a:lnTo>
                    <a:pt x="1287" y="1058"/>
                  </a:lnTo>
                  <a:lnTo>
                    <a:pt x="1310" y="1034"/>
                  </a:lnTo>
                  <a:lnTo>
                    <a:pt x="1334" y="1018"/>
                  </a:lnTo>
                  <a:lnTo>
                    <a:pt x="1358" y="1003"/>
                  </a:lnTo>
                  <a:lnTo>
                    <a:pt x="1381" y="995"/>
                  </a:lnTo>
                  <a:lnTo>
                    <a:pt x="1405" y="979"/>
                  </a:lnTo>
                  <a:lnTo>
                    <a:pt x="1437" y="1003"/>
                  </a:lnTo>
                  <a:lnTo>
                    <a:pt x="1452" y="1026"/>
                  </a:lnTo>
                  <a:lnTo>
                    <a:pt x="1460" y="1050"/>
                  </a:lnTo>
                  <a:lnTo>
                    <a:pt x="1468" y="1074"/>
                  </a:lnTo>
                  <a:lnTo>
                    <a:pt x="1492" y="1082"/>
                  </a:lnTo>
                  <a:lnTo>
                    <a:pt x="1531" y="1082"/>
                  </a:lnTo>
                  <a:lnTo>
                    <a:pt x="1555" y="1082"/>
                  </a:lnTo>
                  <a:lnTo>
                    <a:pt x="1587" y="1074"/>
                  </a:lnTo>
                  <a:lnTo>
                    <a:pt x="1610" y="1066"/>
                  </a:lnTo>
                  <a:lnTo>
                    <a:pt x="1634" y="1050"/>
                  </a:lnTo>
                  <a:lnTo>
                    <a:pt x="1658" y="1034"/>
                  </a:lnTo>
                  <a:lnTo>
                    <a:pt x="1681" y="1018"/>
                  </a:lnTo>
                  <a:lnTo>
                    <a:pt x="1705" y="1003"/>
                  </a:lnTo>
                  <a:lnTo>
                    <a:pt x="1729" y="995"/>
                  </a:lnTo>
                  <a:lnTo>
                    <a:pt x="1744" y="1018"/>
                  </a:lnTo>
                  <a:lnTo>
                    <a:pt x="1752" y="1042"/>
                  </a:lnTo>
                  <a:lnTo>
                    <a:pt x="1760" y="1066"/>
                  </a:lnTo>
                  <a:lnTo>
                    <a:pt x="1760" y="1089"/>
                  </a:lnTo>
                  <a:lnTo>
                    <a:pt x="1760" y="1113"/>
                  </a:lnTo>
                  <a:lnTo>
                    <a:pt x="1760" y="1137"/>
                  </a:lnTo>
                  <a:lnTo>
                    <a:pt x="1760" y="1161"/>
                  </a:lnTo>
                  <a:lnTo>
                    <a:pt x="1760" y="1184"/>
                  </a:lnTo>
                  <a:lnTo>
                    <a:pt x="1760" y="1208"/>
                  </a:lnTo>
                  <a:lnTo>
                    <a:pt x="1760" y="1232"/>
                  </a:lnTo>
                  <a:lnTo>
                    <a:pt x="1760" y="1255"/>
                  </a:lnTo>
                  <a:lnTo>
                    <a:pt x="1760" y="1279"/>
                  </a:lnTo>
                  <a:lnTo>
                    <a:pt x="1760" y="1303"/>
                  </a:lnTo>
                  <a:lnTo>
                    <a:pt x="1760" y="1326"/>
                  </a:lnTo>
                  <a:lnTo>
                    <a:pt x="1760" y="1350"/>
                  </a:lnTo>
                  <a:lnTo>
                    <a:pt x="1768" y="1374"/>
                  </a:lnTo>
                  <a:lnTo>
                    <a:pt x="1776" y="1397"/>
                  </a:lnTo>
                  <a:lnTo>
                    <a:pt x="1784" y="1421"/>
                  </a:lnTo>
                  <a:lnTo>
                    <a:pt x="1792" y="1445"/>
                  </a:lnTo>
                  <a:lnTo>
                    <a:pt x="1815" y="1476"/>
                  </a:lnTo>
                  <a:lnTo>
                    <a:pt x="1855" y="1500"/>
                  </a:lnTo>
                  <a:lnTo>
                    <a:pt x="1879" y="1524"/>
                  </a:lnTo>
                  <a:lnTo>
                    <a:pt x="1910" y="1539"/>
                  </a:lnTo>
                  <a:lnTo>
                    <a:pt x="1934" y="1547"/>
                  </a:lnTo>
                  <a:lnTo>
                    <a:pt x="1958" y="1555"/>
                  </a:lnTo>
                  <a:lnTo>
                    <a:pt x="1981" y="1555"/>
                  </a:lnTo>
                  <a:lnTo>
                    <a:pt x="2005" y="1555"/>
                  </a:lnTo>
                  <a:lnTo>
                    <a:pt x="2037" y="1555"/>
                  </a:lnTo>
                  <a:lnTo>
                    <a:pt x="2068" y="1555"/>
                  </a:lnTo>
                  <a:lnTo>
                    <a:pt x="2092" y="1555"/>
                  </a:lnTo>
                  <a:lnTo>
                    <a:pt x="2131" y="1555"/>
                  </a:lnTo>
                  <a:lnTo>
                    <a:pt x="2155" y="1547"/>
                  </a:lnTo>
                  <a:lnTo>
                    <a:pt x="2179" y="1539"/>
                  </a:lnTo>
                  <a:lnTo>
                    <a:pt x="2210" y="1531"/>
                  </a:lnTo>
                  <a:lnTo>
                    <a:pt x="2234" y="1508"/>
                  </a:lnTo>
                  <a:lnTo>
                    <a:pt x="2258" y="1492"/>
                  </a:lnTo>
                  <a:lnTo>
                    <a:pt x="2281" y="1468"/>
                  </a:lnTo>
                  <a:lnTo>
                    <a:pt x="2289" y="1445"/>
                  </a:lnTo>
                  <a:lnTo>
                    <a:pt x="2313" y="1405"/>
                  </a:lnTo>
                  <a:lnTo>
                    <a:pt x="2329" y="1374"/>
                  </a:lnTo>
                  <a:lnTo>
                    <a:pt x="2352" y="1342"/>
                  </a:lnTo>
                  <a:lnTo>
                    <a:pt x="2360" y="1318"/>
                  </a:lnTo>
                  <a:lnTo>
                    <a:pt x="2376" y="1287"/>
                  </a:lnTo>
                  <a:lnTo>
                    <a:pt x="2384" y="1263"/>
                  </a:lnTo>
                  <a:lnTo>
                    <a:pt x="2400" y="1232"/>
                  </a:lnTo>
                  <a:lnTo>
                    <a:pt x="2408" y="1208"/>
                  </a:lnTo>
                  <a:lnTo>
                    <a:pt x="2423" y="1176"/>
                  </a:lnTo>
                  <a:lnTo>
                    <a:pt x="2439" y="1145"/>
                  </a:lnTo>
                  <a:lnTo>
                    <a:pt x="2447" y="1121"/>
                  </a:lnTo>
                  <a:lnTo>
                    <a:pt x="2455" y="1097"/>
                  </a:lnTo>
                  <a:lnTo>
                    <a:pt x="2471" y="1074"/>
                  </a:lnTo>
                  <a:lnTo>
                    <a:pt x="2486" y="1050"/>
                  </a:lnTo>
                  <a:lnTo>
                    <a:pt x="2502" y="1026"/>
                  </a:lnTo>
                  <a:lnTo>
                    <a:pt x="2518" y="1003"/>
                  </a:lnTo>
                  <a:lnTo>
                    <a:pt x="2542" y="979"/>
                  </a:lnTo>
                  <a:lnTo>
                    <a:pt x="2565" y="979"/>
                  </a:lnTo>
                  <a:lnTo>
                    <a:pt x="2589" y="987"/>
                  </a:lnTo>
                  <a:lnTo>
                    <a:pt x="2589" y="1011"/>
                  </a:lnTo>
                  <a:lnTo>
                    <a:pt x="2597" y="1034"/>
                  </a:lnTo>
                  <a:lnTo>
                    <a:pt x="2597" y="1058"/>
                  </a:lnTo>
                  <a:lnTo>
                    <a:pt x="2597" y="1082"/>
                  </a:lnTo>
                  <a:lnTo>
                    <a:pt x="2597" y="1113"/>
                  </a:lnTo>
                  <a:lnTo>
                    <a:pt x="2605" y="1145"/>
                  </a:lnTo>
                  <a:lnTo>
                    <a:pt x="2613" y="1176"/>
                  </a:lnTo>
                  <a:lnTo>
                    <a:pt x="2613" y="1200"/>
                  </a:lnTo>
                  <a:lnTo>
                    <a:pt x="2621" y="1224"/>
                  </a:lnTo>
                  <a:lnTo>
                    <a:pt x="2629" y="1255"/>
                  </a:lnTo>
                  <a:lnTo>
                    <a:pt x="2636" y="1279"/>
                  </a:lnTo>
                  <a:lnTo>
                    <a:pt x="2644" y="1310"/>
                  </a:lnTo>
                  <a:lnTo>
                    <a:pt x="2660" y="1342"/>
                  </a:lnTo>
                  <a:lnTo>
                    <a:pt x="2676" y="1366"/>
                  </a:lnTo>
                  <a:lnTo>
                    <a:pt x="2700" y="1389"/>
                  </a:lnTo>
                  <a:lnTo>
                    <a:pt x="2739" y="1429"/>
                  </a:lnTo>
                  <a:lnTo>
                    <a:pt x="2771" y="1460"/>
                  </a:lnTo>
                  <a:lnTo>
                    <a:pt x="2794" y="1476"/>
                  </a:lnTo>
                  <a:lnTo>
                    <a:pt x="2834" y="1508"/>
                  </a:lnTo>
                  <a:lnTo>
                    <a:pt x="2857" y="1531"/>
                  </a:lnTo>
                  <a:lnTo>
                    <a:pt x="2881" y="1547"/>
                  </a:lnTo>
                  <a:lnTo>
                    <a:pt x="2905" y="1547"/>
                  </a:lnTo>
                  <a:lnTo>
                    <a:pt x="2944" y="1563"/>
                  </a:lnTo>
                  <a:lnTo>
                    <a:pt x="2968" y="1563"/>
                  </a:lnTo>
                  <a:lnTo>
                    <a:pt x="2992" y="1571"/>
                  </a:lnTo>
                  <a:lnTo>
                    <a:pt x="3015" y="1571"/>
                  </a:lnTo>
                  <a:lnTo>
                    <a:pt x="3039" y="1571"/>
                  </a:lnTo>
                  <a:lnTo>
                    <a:pt x="3071" y="1571"/>
                  </a:lnTo>
                  <a:lnTo>
                    <a:pt x="3102" y="1571"/>
                  </a:lnTo>
                  <a:lnTo>
                    <a:pt x="3134" y="1555"/>
                  </a:lnTo>
                  <a:lnTo>
                    <a:pt x="3157" y="1539"/>
                  </a:lnTo>
                  <a:lnTo>
                    <a:pt x="3181" y="1524"/>
                  </a:lnTo>
                  <a:lnTo>
                    <a:pt x="3205" y="1500"/>
                  </a:lnTo>
                  <a:lnTo>
                    <a:pt x="3228" y="1484"/>
                  </a:lnTo>
                  <a:lnTo>
                    <a:pt x="3260" y="1453"/>
                  </a:lnTo>
                  <a:lnTo>
                    <a:pt x="3284" y="1429"/>
                  </a:lnTo>
                  <a:lnTo>
                    <a:pt x="3300" y="1405"/>
                  </a:lnTo>
                  <a:lnTo>
                    <a:pt x="3323" y="1382"/>
                  </a:lnTo>
                  <a:lnTo>
                    <a:pt x="3363" y="1350"/>
                  </a:lnTo>
                  <a:lnTo>
                    <a:pt x="3371" y="1326"/>
                  </a:lnTo>
                  <a:lnTo>
                    <a:pt x="3402" y="1295"/>
                  </a:lnTo>
                  <a:lnTo>
                    <a:pt x="3418" y="1271"/>
                  </a:lnTo>
                  <a:lnTo>
                    <a:pt x="3434" y="1239"/>
                  </a:lnTo>
                  <a:lnTo>
                    <a:pt x="3450" y="1216"/>
                  </a:lnTo>
                  <a:lnTo>
                    <a:pt x="3473" y="1192"/>
                  </a:lnTo>
                  <a:lnTo>
                    <a:pt x="3481" y="1168"/>
                  </a:lnTo>
                  <a:lnTo>
                    <a:pt x="3497" y="1145"/>
                  </a:lnTo>
                  <a:lnTo>
                    <a:pt x="3505" y="1121"/>
                  </a:lnTo>
                  <a:lnTo>
                    <a:pt x="3521" y="1082"/>
                  </a:lnTo>
                  <a:lnTo>
                    <a:pt x="3528" y="1050"/>
                  </a:lnTo>
                  <a:lnTo>
                    <a:pt x="3544" y="1011"/>
                  </a:lnTo>
                  <a:lnTo>
                    <a:pt x="3560" y="979"/>
                  </a:lnTo>
                  <a:lnTo>
                    <a:pt x="3568" y="955"/>
                  </a:lnTo>
                  <a:lnTo>
                    <a:pt x="3576" y="924"/>
                  </a:lnTo>
                  <a:lnTo>
                    <a:pt x="3584" y="892"/>
                  </a:lnTo>
                  <a:lnTo>
                    <a:pt x="3592" y="861"/>
                  </a:lnTo>
                  <a:lnTo>
                    <a:pt x="3600" y="829"/>
                  </a:lnTo>
                  <a:lnTo>
                    <a:pt x="3607" y="797"/>
                  </a:lnTo>
                  <a:lnTo>
                    <a:pt x="3615" y="774"/>
                  </a:lnTo>
                  <a:lnTo>
                    <a:pt x="3623" y="750"/>
                  </a:lnTo>
                  <a:lnTo>
                    <a:pt x="3631" y="726"/>
                  </a:lnTo>
                  <a:lnTo>
                    <a:pt x="3639" y="703"/>
                  </a:lnTo>
                  <a:lnTo>
                    <a:pt x="3655" y="671"/>
                  </a:lnTo>
                  <a:lnTo>
                    <a:pt x="3663" y="648"/>
                  </a:lnTo>
                  <a:lnTo>
                    <a:pt x="3678" y="624"/>
                  </a:lnTo>
                  <a:lnTo>
                    <a:pt x="3694" y="600"/>
                  </a:lnTo>
                  <a:lnTo>
                    <a:pt x="3694" y="576"/>
                  </a:lnTo>
                  <a:lnTo>
                    <a:pt x="3726" y="561"/>
                  </a:lnTo>
                  <a:lnTo>
                    <a:pt x="3757" y="561"/>
                  </a:lnTo>
                  <a:lnTo>
                    <a:pt x="3805" y="561"/>
                  </a:lnTo>
                  <a:lnTo>
                    <a:pt x="3852" y="561"/>
                  </a:lnTo>
                  <a:lnTo>
                    <a:pt x="3899" y="561"/>
                  </a:lnTo>
                  <a:lnTo>
                    <a:pt x="3923" y="553"/>
                  </a:lnTo>
                  <a:lnTo>
                    <a:pt x="3931" y="576"/>
                  </a:lnTo>
                  <a:lnTo>
                    <a:pt x="3931" y="600"/>
                  </a:lnTo>
                  <a:lnTo>
                    <a:pt x="3931" y="624"/>
                  </a:lnTo>
                  <a:lnTo>
                    <a:pt x="3931" y="648"/>
                  </a:lnTo>
                  <a:lnTo>
                    <a:pt x="3931" y="671"/>
                  </a:lnTo>
                  <a:lnTo>
                    <a:pt x="3939" y="695"/>
                  </a:lnTo>
                  <a:lnTo>
                    <a:pt x="3939" y="726"/>
                  </a:lnTo>
                  <a:lnTo>
                    <a:pt x="3939" y="750"/>
                  </a:lnTo>
                  <a:lnTo>
                    <a:pt x="3947" y="782"/>
                  </a:lnTo>
                  <a:lnTo>
                    <a:pt x="3947" y="813"/>
                  </a:lnTo>
                  <a:lnTo>
                    <a:pt x="3947" y="837"/>
                  </a:lnTo>
                  <a:lnTo>
                    <a:pt x="3947" y="861"/>
                  </a:lnTo>
                  <a:lnTo>
                    <a:pt x="3947" y="892"/>
                  </a:lnTo>
                  <a:lnTo>
                    <a:pt x="3947" y="924"/>
                  </a:lnTo>
                  <a:lnTo>
                    <a:pt x="3947" y="947"/>
                  </a:lnTo>
                  <a:lnTo>
                    <a:pt x="3947" y="987"/>
                  </a:lnTo>
                  <a:lnTo>
                    <a:pt x="3947" y="1011"/>
                  </a:lnTo>
                  <a:lnTo>
                    <a:pt x="3947" y="1050"/>
                  </a:lnTo>
                  <a:lnTo>
                    <a:pt x="3947" y="1089"/>
                  </a:lnTo>
                  <a:lnTo>
                    <a:pt x="3947" y="1113"/>
                  </a:lnTo>
                  <a:lnTo>
                    <a:pt x="3947" y="1137"/>
                  </a:lnTo>
                  <a:lnTo>
                    <a:pt x="3947" y="1176"/>
                  </a:lnTo>
                  <a:lnTo>
                    <a:pt x="3947" y="1200"/>
                  </a:lnTo>
                  <a:lnTo>
                    <a:pt x="3947" y="1224"/>
                  </a:lnTo>
                  <a:lnTo>
                    <a:pt x="3947" y="1247"/>
                  </a:lnTo>
                  <a:lnTo>
                    <a:pt x="3947" y="1279"/>
                  </a:lnTo>
                  <a:lnTo>
                    <a:pt x="3947" y="1310"/>
                  </a:lnTo>
                  <a:lnTo>
                    <a:pt x="3947" y="1334"/>
                  </a:lnTo>
                  <a:lnTo>
                    <a:pt x="3947" y="1374"/>
                  </a:lnTo>
                  <a:lnTo>
                    <a:pt x="3947" y="1397"/>
                  </a:lnTo>
                  <a:lnTo>
                    <a:pt x="3947" y="1421"/>
                  </a:lnTo>
                  <a:lnTo>
                    <a:pt x="3947" y="1445"/>
                  </a:lnTo>
                  <a:lnTo>
                    <a:pt x="3947" y="1468"/>
                  </a:lnTo>
                  <a:lnTo>
                    <a:pt x="3947" y="1500"/>
                  </a:lnTo>
                  <a:lnTo>
                    <a:pt x="3947" y="1531"/>
                  </a:lnTo>
                  <a:lnTo>
                    <a:pt x="3947" y="1555"/>
                  </a:lnTo>
                  <a:lnTo>
                    <a:pt x="3947" y="1579"/>
                  </a:lnTo>
                  <a:lnTo>
                    <a:pt x="3947" y="1603"/>
                  </a:lnTo>
                  <a:lnTo>
                    <a:pt x="3947" y="1626"/>
                  </a:lnTo>
                  <a:lnTo>
                    <a:pt x="3947" y="1658"/>
                  </a:lnTo>
                  <a:lnTo>
                    <a:pt x="3947" y="1689"/>
                  </a:lnTo>
                  <a:lnTo>
                    <a:pt x="3947" y="1713"/>
                  </a:lnTo>
                  <a:lnTo>
                    <a:pt x="3947" y="1745"/>
                  </a:lnTo>
                  <a:lnTo>
                    <a:pt x="3947" y="1768"/>
                  </a:lnTo>
                  <a:lnTo>
                    <a:pt x="3947" y="1800"/>
                  </a:lnTo>
                  <a:lnTo>
                    <a:pt x="3947" y="1824"/>
                  </a:lnTo>
                  <a:lnTo>
                    <a:pt x="3947" y="1847"/>
                  </a:lnTo>
                  <a:lnTo>
                    <a:pt x="3947" y="1871"/>
                  </a:lnTo>
                  <a:lnTo>
                    <a:pt x="3947" y="1895"/>
                  </a:lnTo>
                  <a:lnTo>
                    <a:pt x="3947" y="1918"/>
                  </a:lnTo>
                  <a:lnTo>
                    <a:pt x="3947" y="1942"/>
                  </a:lnTo>
                  <a:lnTo>
                    <a:pt x="3947" y="1966"/>
                  </a:lnTo>
                  <a:lnTo>
                    <a:pt x="3947" y="1989"/>
                  </a:lnTo>
                  <a:lnTo>
                    <a:pt x="3947" y="2013"/>
                  </a:lnTo>
                  <a:lnTo>
                    <a:pt x="3955" y="2037"/>
                  </a:lnTo>
                  <a:lnTo>
                    <a:pt x="3931" y="2045"/>
                  </a:lnTo>
                  <a:lnTo>
                    <a:pt x="3907" y="2037"/>
                  </a:lnTo>
                  <a:lnTo>
                    <a:pt x="3876" y="2021"/>
                  </a:lnTo>
                  <a:lnTo>
                    <a:pt x="3852" y="2013"/>
                  </a:lnTo>
                  <a:lnTo>
                    <a:pt x="3828" y="2013"/>
                  </a:lnTo>
                  <a:lnTo>
                    <a:pt x="3805" y="2013"/>
                  </a:lnTo>
                  <a:lnTo>
                    <a:pt x="3781" y="2013"/>
                  </a:lnTo>
                  <a:lnTo>
                    <a:pt x="3750" y="2013"/>
                  </a:lnTo>
                  <a:lnTo>
                    <a:pt x="3726" y="2013"/>
                  </a:lnTo>
                  <a:lnTo>
                    <a:pt x="3702" y="2005"/>
                  </a:lnTo>
                  <a:lnTo>
                    <a:pt x="3678" y="2005"/>
                  </a:lnTo>
                  <a:lnTo>
                    <a:pt x="3655" y="1997"/>
                  </a:lnTo>
                  <a:lnTo>
                    <a:pt x="3623" y="1989"/>
                  </a:lnTo>
                  <a:lnTo>
                    <a:pt x="3600" y="1989"/>
                  </a:lnTo>
                  <a:lnTo>
                    <a:pt x="3568" y="1989"/>
                  </a:lnTo>
                  <a:lnTo>
                    <a:pt x="3544" y="1989"/>
                  </a:lnTo>
                  <a:lnTo>
                    <a:pt x="3521" y="1989"/>
                  </a:lnTo>
                  <a:lnTo>
                    <a:pt x="3481" y="1989"/>
                  </a:lnTo>
                  <a:lnTo>
                    <a:pt x="3457" y="1989"/>
                  </a:lnTo>
                  <a:lnTo>
                    <a:pt x="3434" y="1989"/>
                  </a:lnTo>
                  <a:lnTo>
                    <a:pt x="3402" y="1989"/>
                  </a:lnTo>
                  <a:lnTo>
                    <a:pt x="3363" y="1989"/>
                  </a:lnTo>
                  <a:lnTo>
                    <a:pt x="3331" y="1989"/>
                  </a:lnTo>
                  <a:lnTo>
                    <a:pt x="3300" y="1981"/>
                  </a:lnTo>
                  <a:lnTo>
                    <a:pt x="3276" y="1981"/>
                  </a:lnTo>
                  <a:lnTo>
                    <a:pt x="3252" y="1981"/>
                  </a:lnTo>
                  <a:lnTo>
                    <a:pt x="3221" y="1981"/>
                  </a:lnTo>
                  <a:lnTo>
                    <a:pt x="3189" y="1981"/>
                  </a:lnTo>
                  <a:lnTo>
                    <a:pt x="3165" y="1981"/>
                  </a:lnTo>
                  <a:lnTo>
                    <a:pt x="3126" y="1981"/>
                  </a:lnTo>
                  <a:lnTo>
                    <a:pt x="3102" y="1981"/>
                  </a:lnTo>
                  <a:lnTo>
                    <a:pt x="3079" y="1981"/>
                  </a:lnTo>
                  <a:lnTo>
                    <a:pt x="3055" y="1981"/>
                  </a:lnTo>
                  <a:lnTo>
                    <a:pt x="3031" y="1981"/>
                  </a:lnTo>
                  <a:lnTo>
                    <a:pt x="3007" y="1981"/>
                  </a:lnTo>
                  <a:lnTo>
                    <a:pt x="2984" y="1981"/>
                  </a:lnTo>
                  <a:lnTo>
                    <a:pt x="2944" y="1981"/>
                  </a:lnTo>
                  <a:lnTo>
                    <a:pt x="2913" y="1981"/>
                  </a:lnTo>
                  <a:lnTo>
                    <a:pt x="2873" y="1981"/>
                  </a:lnTo>
                  <a:lnTo>
                    <a:pt x="2850" y="1973"/>
                  </a:lnTo>
                  <a:lnTo>
                    <a:pt x="2818" y="1973"/>
                  </a:lnTo>
                  <a:lnTo>
                    <a:pt x="2794" y="1973"/>
                  </a:lnTo>
                  <a:lnTo>
                    <a:pt x="2763" y="1966"/>
                  </a:lnTo>
                  <a:lnTo>
                    <a:pt x="2739" y="1958"/>
                  </a:lnTo>
                  <a:lnTo>
                    <a:pt x="2715" y="1950"/>
                  </a:lnTo>
                  <a:lnTo>
                    <a:pt x="2676" y="1950"/>
                  </a:lnTo>
                  <a:lnTo>
                    <a:pt x="2636" y="1950"/>
                  </a:lnTo>
                  <a:lnTo>
                    <a:pt x="2605" y="1950"/>
                  </a:lnTo>
                  <a:lnTo>
                    <a:pt x="2565" y="1950"/>
                  </a:lnTo>
                  <a:lnTo>
                    <a:pt x="2534" y="1950"/>
                  </a:lnTo>
                  <a:lnTo>
                    <a:pt x="2502" y="1950"/>
                  </a:lnTo>
                  <a:lnTo>
                    <a:pt x="2471" y="1950"/>
                  </a:lnTo>
                  <a:lnTo>
                    <a:pt x="2447" y="1950"/>
                  </a:lnTo>
                  <a:lnTo>
                    <a:pt x="2415" y="1950"/>
                  </a:lnTo>
                  <a:lnTo>
                    <a:pt x="2392" y="1950"/>
                  </a:lnTo>
                  <a:lnTo>
                    <a:pt x="2368" y="1950"/>
                  </a:lnTo>
                  <a:lnTo>
                    <a:pt x="2344" y="1950"/>
                  </a:lnTo>
                  <a:lnTo>
                    <a:pt x="2313" y="1950"/>
                  </a:lnTo>
                  <a:lnTo>
                    <a:pt x="2281" y="1950"/>
                  </a:lnTo>
                  <a:lnTo>
                    <a:pt x="2258" y="1950"/>
                  </a:lnTo>
                  <a:lnTo>
                    <a:pt x="2234" y="1950"/>
                  </a:lnTo>
                  <a:lnTo>
                    <a:pt x="2210" y="1950"/>
                  </a:lnTo>
                  <a:lnTo>
                    <a:pt x="2171" y="1950"/>
                  </a:lnTo>
                  <a:lnTo>
                    <a:pt x="2139" y="1950"/>
                  </a:lnTo>
                  <a:lnTo>
                    <a:pt x="2108" y="1950"/>
                  </a:lnTo>
                  <a:lnTo>
                    <a:pt x="2084" y="1950"/>
                  </a:lnTo>
                  <a:lnTo>
                    <a:pt x="2052" y="1958"/>
                  </a:lnTo>
                  <a:lnTo>
                    <a:pt x="2029" y="1958"/>
                  </a:lnTo>
                  <a:lnTo>
                    <a:pt x="1997" y="1966"/>
                  </a:lnTo>
                  <a:lnTo>
                    <a:pt x="1973" y="1966"/>
                  </a:lnTo>
                  <a:lnTo>
                    <a:pt x="1950" y="1966"/>
                  </a:lnTo>
                  <a:lnTo>
                    <a:pt x="1926" y="1966"/>
                  </a:lnTo>
                  <a:lnTo>
                    <a:pt x="1894" y="1966"/>
                  </a:lnTo>
                  <a:lnTo>
                    <a:pt x="1863" y="1966"/>
                  </a:lnTo>
                  <a:lnTo>
                    <a:pt x="1831" y="1966"/>
                  </a:lnTo>
                  <a:lnTo>
                    <a:pt x="1800" y="1966"/>
                  </a:lnTo>
                  <a:lnTo>
                    <a:pt x="1768" y="1966"/>
                  </a:lnTo>
                  <a:lnTo>
                    <a:pt x="1737" y="1966"/>
                  </a:lnTo>
                  <a:lnTo>
                    <a:pt x="1713" y="1966"/>
                  </a:lnTo>
                  <a:lnTo>
                    <a:pt x="1689" y="1966"/>
                  </a:lnTo>
                  <a:lnTo>
                    <a:pt x="1665" y="1966"/>
                  </a:lnTo>
                  <a:lnTo>
                    <a:pt x="1634" y="1966"/>
                  </a:lnTo>
                  <a:lnTo>
                    <a:pt x="1602" y="1966"/>
                  </a:lnTo>
                  <a:lnTo>
                    <a:pt x="1571" y="1966"/>
                  </a:lnTo>
                  <a:lnTo>
                    <a:pt x="1531" y="1966"/>
                  </a:lnTo>
                  <a:lnTo>
                    <a:pt x="1508" y="1966"/>
                  </a:lnTo>
                  <a:lnTo>
                    <a:pt x="1468" y="1958"/>
                  </a:lnTo>
                  <a:lnTo>
                    <a:pt x="1437" y="1958"/>
                  </a:lnTo>
                  <a:lnTo>
                    <a:pt x="1413" y="1958"/>
                  </a:lnTo>
                  <a:lnTo>
                    <a:pt x="1389" y="1958"/>
                  </a:lnTo>
                  <a:lnTo>
                    <a:pt x="1358" y="1950"/>
                  </a:lnTo>
                  <a:lnTo>
                    <a:pt x="1334" y="1950"/>
                  </a:lnTo>
                  <a:lnTo>
                    <a:pt x="1302" y="1950"/>
                  </a:lnTo>
                  <a:lnTo>
                    <a:pt x="1279" y="1950"/>
                  </a:lnTo>
                  <a:lnTo>
                    <a:pt x="1255" y="1950"/>
                  </a:lnTo>
                  <a:lnTo>
                    <a:pt x="1231" y="1950"/>
                  </a:lnTo>
                  <a:lnTo>
                    <a:pt x="1192" y="1942"/>
                  </a:lnTo>
                  <a:lnTo>
                    <a:pt x="1152" y="1934"/>
                  </a:lnTo>
                  <a:lnTo>
                    <a:pt x="1129" y="1926"/>
                  </a:lnTo>
                  <a:lnTo>
                    <a:pt x="1152" y="1939"/>
                  </a:lnTo>
                  <a:lnTo>
                    <a:pt x="1105" y="1926"/>
                  </a:lnTo>
                  <a:lnTo>
                    <a:pt x="1081" y="1918"/>
                  </a:lnTo>
                  <a:lnTo>
                    <a:pt x="1056" y="1987"/>
                  </a:lnTo>
                  <a:lnTo>
                    <a:pt x="1026" y="1910"/>
                  </a:lnTo>
                  <a:lnTo>
                    <a:pt x="1002" y="1902"/>
                  </a:lnTo>
                  <a:lnTo>
                    <a:pt x="912" y="1939"/>
                  </a:lnTo>
                  <a:lnTo>
                    <a:pt x="960" y="1939"/>
                  </a:lnTo>
                  <a:lnTo>
                    <a:pt x="912" y="1939"/>
                  </a:lnTo>
                  <a:lnTo>
                    <a:pt x="864" y="1939"/>
                  </a:lnTo>
                  <a:lnTo>
                    <a:pt x="912" y="1939"/>
                  </a:lnTo>
                  <a:lnTo>
                    <a:pt x="816" y="1987"/>
                  </a:lnTo>
                  <a:lnTo>
                    <a:pt x="768" y="1939"/>
                  </a:lnTo>
                  <a:lnTo>
                    <a:pt x="720" y="1939"/>
                  </a:lnTo>
                  <a:lnTo>
                    <a:pt x="672" y="1939"/>
                  </a:lnTo>
                  <a:lnTo>
                    <a:pt x="624" y="1939"/>
                  </a:lnTo>
                  <a:lnTo>
                    <a:pt x="624" y="1987"/>
                  </a:lnTo>
                  <a:lnTo>
                    <a:pt x="600" y="1918"/>
                  </a:lnTo>
                  <a:lnTo>
                    <a:pt x="560" y="1926"/>
                  </a:lnTo>
                  <a:lnTo>
                    <a:pt x="528" y="1939"/>
                  </a:lnTo>
                  <a:lnTo>
                    <a:pt x="513" y="1926"/>
                  </a:lnTo>
                  <a:lnTo>
                    <a:pt x="481" y="1934"/>
                  </a:lnTo>
                  <a:lnTo>
                    <a:pt x="458" y="1934"/>
                  </a:lnTo>
                  <a:lnTo>
                    <a:pt x="418" y="1942"/>
                  </a:lnTo>
                  <a:lnTo>
                    <a:pt x="387" y="1942"/>
                  </a:lnTo>
                  <a:lnTo>
                    <a:pt x="363" y="1950"/>
                  </a:lnTo>
                  <a:lnTo>
                    <a:pt x="339" y="1958"/>
                  </a:lnTo>
                  <a:lnTo>
                    <a:pt x="316" y="1958"/>
                  </a:lnTo>
                  <a:lnTo>
                    <a:pt x="292" y="1958"/>
                  </a:lnTo>
                  <a:lnTo>
                    <a:pt x="1296" y="1939"/>
                  </a:lnTo>
                  <a:lnTo>
                    <a:pt x="229" y="1966"/>
                  </a:lnTo>
                  <a:lnTo>
                    <a:pt x="205" y="1966"/>
                  </a:lnTo>
                  <a:lnTo>
                    <a:pt x="181" y="1966"/>
                  </a:lnTo>
                  <a:lnTo>
                    <a:pt x="158" y="1966"/>
                  </a:lnTo>
                  <a:lnTo>
                    <a:pt x="134" y="1966"/>
                  </a:lnTo>
                  <a:lnTo>
                    <a:pt x="102" y="1966"/>
                  </a:lnTo>
                  <a:lnTo>
                    <a:pt x="87" y="1942"/>
                  </a:lnTo>
                  <a:lnTo>
                    <a:pt x="87" y="1918"/>
                  </a:lnTo>
                  <a:lnTo>
                    <a:pt x="87" y="1895"/>
                  </a:lnTo>
                  <a:lnTo>
                    <a:pt x="87" y="1871"/>
                  </a:lnTo>
                  <a:lnTo>
                    <a:pt x="87" y="1839"/>
                  </a:lnTo>
                  <a:lnTo>
                    <a:pt x="87" y="1816"/>
                  </a:lnTo>
                  <a:lnTo>
                    <a:pt x="87" y="1784"/>
                  </a:lnTo>
                  <a:lnTo>
                    <a:pt x="87" y="1760"/>
                  </a:lnTo>
                  <a:lnTo>
                    <a:pt x="87" y="1729"/>
                  </a:lnTo>
                  <a:lnTo>
                    <a:pt x="87" y="1697"/>
                  </a:lnTo>
                  <a:lnTo>
                    <a:pt x="87" y="1666"/>
                  </a:lnTo>
                  <a:lnTo>
                    <a:pt x="87" y="1634"/>
                  </a:lnTo>
                  <a:lnTo>
                    <a:pt x="87" y="1610"/>
                  </a:lnTo>
                  <a:lnTo>
                    <a:pt x="87" y="1579"/>
                  </a:lnTo>
                  <a:lnTo>
                    <a:pt x="79" y="1555"/>
                  </a:lnTo>
                  <a:lnTo>
                    <a:pt x="79" y="1531"/>
                  </a:lnTo>
                  <a:lnTo>
                    <a:pt x="79" y="1508"/>
                  </a:lnTo>
                  <a:lnTo>
                    <a:pt x="79" y="1476"/>
                  </a:lnTo>
                  <a:lnTo>
                    <a:pt x="79" y="1453"/>
                  </a:lnTo>
                  <a:lnTo>
                    <a:pt x="79" y="1421"/>
                  </a:lnTo>
                  <a:lnTo>
                    <a:pt x="79" y="1389"/>
                  </a:lnTo>
                  <a:lnTo>
                    <a:pt x="79" y="1350"/>
                  </a:lnTo>
                  <a:lnTo>
                    <a:pt x="79" y="1318"/>
                  </a:lnTo>
                  <a:lnTo>
                    <a:pt x="79" y="1279"/>
                  </a:lnTo>
                  <a:lnTo>
                    <a:pt x="79" y="1247"/>
                  </a:lnTo>
                  <a:lnTo>
                    <a:pt x="79" y="1208"/>
                  </a:lnTo>
                  <a:lnTo>
                    <a:pt x="79" y="1184"/>
                  </a:lnTo>
                  <a:lnTo>
                    <a:pt x="79" y="1161"/>
                  </a:lnTo>
                  <a:lnTo>
                    <a:pt x="79" y="1129"/>
                  </a:lnTo>
                  <a:lnTo>
                    <a:pt x="79" y="1097"/>
                  </a:lnTo>
                  <a:lnTo>
                    <a:pt x="79" y="1074"/>
                  </a:lnTo>
                  <a:lnTo>
                    <a:pt x="79" y="1042"/>
                  </a:lnTo>
                  <a:lnTo>
                    <a:pt x="71" y="1003"/>
                  </a:lnTo>
                  <a:lnTo>
                    <a:pt x="71" y="979"/>
                  </a:lnTo>
                  <a:lnTo>
                    <a:pt x="63" y="947"/>
                  </a:lnTo>
                  <a:lnTo>
                    <a:pt x="63" y="924"/>
                  </a:lnTo>
                  <a:lnTo>
                    <a:pt x="63" y="892"/>
                  </a:lnTo>
                  <a:lnTo>
                    <a:pt x="63" y="869"/>
                  </a:lnTo>
                  <a:lnTo>
                    <a:pt x="63" y="845"/>
                  </a:lnTo>
                  <a:lnTo>
                    <a:pt x="55" y="821"/>
                  </a:lnTo>
                  <a:lnTo>
                    <a:pt x="55" y="790"/>
                  </a:lnTo>
                  <a:lnTo>
                    <a:pt x="55" y="758"/>
                  </a:lnTo>
                  <a:lnTo>
                    <a:pt x="55" y="734"/>
                  </a:lnTo>
                  <a:lnTo>
                    <a:pt x="55" y="703"/>
                  </a:lnTo>
                  <a:lnTo>
                    <a:pt x="55" y="679"/>
                  </a:lnTo>
                  <a:lnTo>
                    <a:pt x="55" y="655"/>
                  </a:lnTo>
                  <a:lnTo>
                    <a:pt x="55" y="616"/>
                  </a:lnTo>
                  <a:lnTo>
                    <a:pt x="55" y="592"/>
                  </a:lnTo>
                  <a:lnTo>
                    <a:pt x="55" y="553"/>
                  </a:lnTo>
                  <a:lnTo>
                    <a:pt x="55" y="529"/>
                  </a:lnTo>
                  <a:lnTo>
                    <a:pt x="55" y="498"/>
                  </a:lnTo>
                  <a:lnTo>
                    <a:pt x="55" y="466"/>
                  </a:lnTo>
                  <a:lnTo>
                    <a:pt x="55" y="442"/>
                  </a:lnTo>
                  <a:lnTo>
                    <a:pt x="55" y="419"/>
                  </a:lnTo>
                  <a:lnTo>
                    <a:pt x="55" y="387"/>
                  </a:lnTo>
                  <a:lnTo>
                    <a:pt x="55" y="363"/>
                  </a:lnTo>
                  <a:lnTo>
                    <a:pt x="55" y="332"/>
                  </a:lnTo>
                  <a:lnTo>
                    <a:pt x="55" y="300"/>
                  </a:lnTo>
                  <a:lnTo>
                    <a:pt x="55" y="269"/>
                  </a:lnTo>
                  <a:lnTo>
                    <a:pt x="55" y="245"/>
                  </a:lnTo>
                  <a:lnTo>
                    <a:pt x="55" y="221"/>
                  </a:lnTo>
                  <a:lnTo>
                    <a:pt x="55" y="198"/>
                  </a:lnTo>
                  <a:lnTo>
                    <a:pt x="55" y="174"/>
                  </a:lnTo>
                  <a:lnTo>
                    <a:pt x="55" y="150"/>
                  </a:lnTo>
                  <a:lnTo>
                    <a:pt x="55" y="127"/>
                  </a:lnTo>
                  <a:lnTo>
                    <a:pt x="47" y="103"/>
                  </a:lnTo>
                  <a:lnTo>
                    <a:pt x="39" y="79"/>
                  </a:lnTo>
                  <a:lnTo>
                    <a:pt x="31" y="56"/>
                  </a:lnTo>
                  <a:lnTo>
                    <a:pt x="0" y="19"/>
                  </a:lnTo>
                </a:path>
              </a:pathLst>
            </a:custGeom>
            <a:solidFill>
              <a:srgbClr val="660066"/>
            </a:solidFill>
            <a:ln cap="rnd"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592360" y="5181480"/>
              <a:ext cx="1522440" cy="0"/>
            </a:xfrm>
            <a:prstGeom prst="line">
              <a:avLst/>
            </a:prstGeom>
            <a:ln w="127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209680" y="4421160"/>
              <a:ext cx="0" cy="836640"/>
            </a:xfrm>
            <a:prstGeom prst="line">
              <a:avLst/>
            </a:prstGeom>
            <a:ln w="127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828800" y="1296720"/>
              <a:ext cx="0" cy="41896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830240" y="5486400"/>
              <a:ext cx="693288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355760" y="18889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aphicFrame>
          <p:nvGraphicFramePr>
            <p:cNvPr id="1465" name=""/>
            <p:cNvGraphicFramePr/>
            <p:nvPr/>
          </p:nvGraphicFramePr>
          <p:xfrm>
            <a:off x="2433600" y="3281400"/>
            <a:ext cx="5489640" cy="441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4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3600" y="3281400"/>
                      <a:ext cx="5489640" cy="44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67" name=""/>
            <p:cNvGraphicFramePr/>
            <p:nvPr/>
          </p:nvGraphicFramePr>
          <p:xfrm>
            <a:off x="1214280" y="2057400"/>
            <a:ext cx="474840" cy="75060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4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4280" y="2057400"/>
                      <a:ext cx="474840" cy="75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9" name=""/>
            <p:cNvSpPr/>
            <p:nvPr/>
          </p:nvSpPr>
          <p:spPr>
            <a:xfrm>
              <a:off x="533520" y="380880"/>
              <a:ext cx="182880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Reachability-distanc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781680" y="5638680"/>
              <a:ext cx="236232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Cluster-or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of the object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3354480" y="2135160"/>
              <a:ext cx="684000" cy="182700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410080" y="2363760"/>
              <a:ext cx="0" cy="167472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173640" y="1601640"/>
              <a:ext cx="911520" cy="23590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135160" y="5257800"/>
              <a:ext cx="6170760" cy="0"/>
            </a:xfrm>
            <a:prstGeom prst="line">
              <a:avLst/>
            </a:prstGeom>
            <a:ln w="1015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058840" y="5333760"/>
              <a:ext cx="6247080" cy="0"/>
            </a:xfrm>
            <a:prstGeom prst="line">
              <a:avLst/>
            </a:prstGeom>
            <a:ln w="1015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54280" y="2514600"/>
              <a:ext cx="15084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754280" y="2133360"/>
              <a:ext cx="15084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28600" y="1828800"/>
              <a:ext cx="16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undefined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830240" y="3886200"/>
              <a:ext cx="71614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aphicFrame>
          <p:nvGraphicFramePr>
            <p:cNvPr id="1480" name=""/>
            <p:cNvGraphicFramePr/>
            <p:nvPr/>
          </p:nvGraphicFramePr>
          <p:xfrm>
            <a:off x="1290600" y="3452760"/>
            <a:ext cx="474840" cy="75096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148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90600" y="3452760"/>
                      <a:ext cx="474840" cy="75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2" name=""/>
            <p:cNvSpPr/>
            <p:nvPr/>
          </p:nvSpPr>
          <p:spPr>
            <a:xfrm>
              <a:off x="1447920" y="3504960"/>
              <a:ext cx="380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40458c"/>
                  </a:solidFill>
                  <a:latin typeface="Times New Roman"/>
                  <a:ea typeface="宋体"/>
                </a:rPr>
                <a:t>‘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483" name=""/>
            <p:cNvGrpSpPr/>
            <p:nvPr/>
          </p:nvGrpSpPr>
          <p:grpSpPr>
            <a:xfrm>
              <a:off x="3892680" y="844560"/>
              <a:ext cx="2349360" cy="1815840"/>
              <a:chOff x="3892680" y="844560"/>
              <a:chExt cx="2349360" cy="1815840"/>
            </a:xfrm>
          </p:grpSpPr>
          <p:sp>
            <p:nvSpPr>
              <p:cNvPr id="1484" name=""/>
              <p:cNvSpPr/>
              <p:nvPr/>
            </p:nvSpPr>
            <p:spPr>
              <a:xfrm>
                <a:off x="4197240" y="1454040"/>
                <a:ext cx="6372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121280" y="153036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044960" y="153036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121280" y="1606320"/>
                <a:ext cx="63360" cy="6372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4273560" y="1606320"/>
                <a:ext cx="63360" cy="6372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892680" y="168264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121280" y="1834920"/>
                <a:ext cx="63360" cy="6372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044960" y="175896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349880" y="1834920"/>
                <a:ext cx="63360" cy="6372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197240" y="1758960"/>
                <a:ext cx="6372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340240" y="1834920"/>
                <a:ext cx="63720" cy="6372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264280" y="191124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187960" y="191124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264280" y="198756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416560" y="198756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492880" y="2063520"/>
                <a:ext cx="63360" cy="6372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264280" y="221616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187960" y="213984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5492880" y="221616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340240" y="2139840"/>
                <a:ext cx="6372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873760" y="84456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797440" y="920520"/>
                <a:ext cx="63720" cy="6372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721480" y="920520"/>
                <a:ext cx="63360" cy="6372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797440" y="996840"/>
                <a:ext cx="6372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950080" y="99684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645160" y="107316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797440" y="1225440"/>
                <a:ext cx="6372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5721480" y="1149120"/>
                <a:ext cx="63360" cy="6372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026040" y="1225440"/>
                <a:ext cx="6372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873760" y="1149120"/>
                <a:ext cx="63360" cy="6372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4349880" y="1377720"/>
                <a:ext cx="63360" cy="6372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4425840" y="1530360"/>
                <a:ext cx="6372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502160" y="175896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349880" y="168264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5645160" y="221616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502160" y="2292120"/>
                <a:ext cx="63360" cy="6372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178680" y="1377720"/>
                <a:ext cx="63360" cy="6372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873760" y="145404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102360" y="1834920"/>
                <a:ext cx="63360" cy="6372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797440" y="2063520"/>
                <a:ext cx="63720" cy="6372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111640" y="844560"/>
                <a:ext cx="6372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111640" y="1225440"/>
                <a:ext cx="6372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264280" y="1377720"/>
                <a:ext cx="63360" cy="6372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959360" y="145404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273560" y="236844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425840" y="2597040"/>
                <a:ext cx="6372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187960" y="221616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959360" y="213984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807080" y="1834920"/>
                <a:ext cx="63360" cy="6372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568840" y="1530360"/>
                <a:ext cx="6372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654440" y="996840"/>
                <a:ext cx="6372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959360" y="1987560"/>
                <a:ext cx="63360" cy="63360"/>
              </a:xfrm>
              <a:prstGeom prst="ellipse">
                <a:avLst/>
              </a:prstGeom>
              <a:solidFill>
                <a:srgbClr val="660066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6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1F542-AD85-4D5C-B8D5-248AD898F32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  <a:ea typeface="宋体"/>
              </a:rPr>
              <a:t>DENCLUE: using density function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DENsity-based CLUstEring by Hinneburg &amp; Keim  (KDD’98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Major featu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Solid mathematical found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Good for data sets with large amounts of nois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Allows a compact mathematical description of arbitrarily shaped clusters in high-dimensional data se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Significant faster than existing algorithm (faster than DBSCAN by a factor of up to 4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宋体"/>
              </a:rPr>
              <a:t>But needs a large number of paramete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39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F1061-C245-4730-9F6C-E64A14D20C9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宋体"/>
              </a:rPr>
              <a:t>Denclue: Technical Ess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Uses grid cells but only keeps information about grid cells that do actually contain data points and manages these cells in a tree-based access structu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Influence function: describes the impact of a data point within its neighborhoo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Overall density of the data space can be calculated as the sum of the influence function of all data point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Clusters can be determined mathematically by identifying density attractor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Density attractors are local maximal of the overall density funct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2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914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359A9-A522-40E6-9C00-18E8FD15A48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  <a:ea typeface="宋体"/>
              </a:rPr>
              <a:t>Gradient:  The steepness of a slop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宋体"/>
              </a:rPr>
              <a:t>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596880" y="3220920"/>
                <a:ext cx="6307200" cy="151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aussian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7" name=""/>
              <p:cNvSpPr txBox="1"/>
              <p:nvPr/>
            </p:nvSpPr>
            <p:spPr>
              <a:xfrm>
                <a:off x="596880" y="4495680"/>
                <a:ext cx="8547120" cy="15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aussian</m:t>
                        </m:r>
                      </m:sub>
                      <m:sup>
                        <m:r>
                          <m:t xml:space="preserve">D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596880" y="1981080"/>
                <a:ext cx="528804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aussia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49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D65C-2DD0-4665-BB57-C8EF032F51E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宋体"/>
              </a:rPr>
              <a:t>Density Attract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51" name="" descr=""/>
          <p:cNvPicPr/>
          <p:nvPr/>
        </p:nvPicPr>
        <p:blipFill>
          <a:blip r:embed="rId1"/>
          <a:stretch/>
        </p:blipFill>
        <p:spPr>
          <a:xfrm>
            <a:off x="915840" y="205740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1552" name="" descr=""/>
          <p:cNvPicPr/>
          <p:nvPr/>
        </p:nvPicPr>
        <p:blipFill>
          <a:blip r:embed="rId2"/>
          <a:stretch/>
        </p:blipFill>
        <p:spPr>
          <a:xfrm>
            <a:off x="5340240" y="1981080"/>
            <a:ext cx="2508480" cy="2219400"/>
          </a:xfrm>
          <a:prstGeom prst="rect">
            <a:avLst/>
          </a:prstGeom>
          <a:ln w="0">
            <a:noFill/>
          </a:ln>
        </p:spPr>
      </p:pic>
      <p:pic>
        <p:nvPicPr>
          <p:cNvPr id="1553" name="" descr=""/>
          <p:cNvPicPr/>
          <p:nvPr/>
        </p:nvPicPr>
        <p:blipFill>
          <a:blip r:embed="rId3"/>
          <a:stretch/>
        </p:blipFill>
        <p:spPr>
          <a:xfrm>
            <a:off x="3052800" y="4352760"/>
            <a:ext cx="3120840" cy="1979640"/>
          </a:xfrm>
          <a:prstGeom prst="rect">
            <a:avLst/>
          </a:prstGeom>
          <a:ln w="0">
            <a:noFill/>
          </a:ln>
        </p:spPr>
      </p:pic>
      <p:sp>
        <p:nvSpPr>
          <p:cNvPr id="1554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8BD51-3606-4D75-8F3D-906D5FBE2E6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Good Clustering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good clusterin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method will produce high quality clusters wit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igh </a:t>
            </a: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intra-clas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similari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12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ow </a:t>
            </a: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inter-clas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similarity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quality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f a clustering result depends on both the similarity measure used by the method and its implementat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quality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of a clustering method is also measured by its ability to discover some or all of the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hidde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attern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0D337-3401-4137-A0EC-84ED26A57E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宋体"/>
              </a:rPr>
              <a:t>Center-Defined and Arbitr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56" name="" descr=""/>
          <p:cNvPicPr/>
          <p:nvPr/>
        </p:nvPicPr>
        <p:blipFill>
          <a:blip r:embed="rId1"/>
          <a:stretch/>
        </p:blipFill>
        <p:spPr>
          <a:xfrm>
            <a:off x="76320" y="1447920"/>
            <a:ext cx="8991360" cy="4735440"/>
          </a:xfrm>
          <a:prstGeom prst="rect">
            <a:avLst/>
          </a:prstGeom>
          <a:ln w="0">
            <a:noFill/>
          </a:ln>
        </p:spPr>
      </p:pic>
      <p:sp>
        <p:nvSpPr>
          <p:cNvPr id="1557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1D2B1-50CC-456F-9868-FDFF176C0E2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id-Based Clustering Metho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ing multi-resolution grid data struc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veral interesting metho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12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89f7"/>
                </a:solidFill>
                <a:latin typeface="Tahoma"/>
              </a:rPr>
              <a:t>STING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a STatistical INformation Grid approach) by Wang, Yang and Muntz (1997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11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89f7"/>
                </a:solidFill>
                <a:latin typeface="Tahoma"/>
              </a:rPr>
              <a:t>WaveCluste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by Sheikholeslami, Chatterjee, and Zhang (VLDB’98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110000"/>
              </a:lnSpc>
              <a:spcBef>
                <a:spcPts val="11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multi-resolution clustering approach using wavelet metho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11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f89f7"/>
                </a:solidFill>
                <a:latin typeface="Tahoma"/>
                <a:ea typeface="宋体"/>
              </a:rPr>
              <a:t>CLIQU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宋体"/>
              </a:rPr>
              <a:t>: Agrawal, et al. (SIGMOD’98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0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8A524-842E-4A7E-B2EE-5E21AC1F0AB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TING: A Statistical Information Grid Approach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1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ang, Yang and Muntz (VLDB’97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spatial area area is divided into rectangular cel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re are several levels of cells corresponding to different levels of resolu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63" name="" descr=""/>
          <p:cNvPicPr/>
          <p:nvPr/>
        </p:nvPicPr>
        <p:blipFill>
          <a:blip r:embed="rId4"/>
          <a:stretch/>
        </p:blipFill>
        <p:spPr>
          <a:xfrm>
            <a:off x="1862280" y="3048120"/>
            <a:ext cx="5148000" cy="3402000"/>
          </a:xfrm>
          <a:prstGeom prst="rect">
            <a:avLst/>
          </a:prstGeom>
          <a:ln w="0">
            <a:noFill/>
          </a:ln>
        </p:spPr>
      </p:pic>
      <p:sp>
        <p:nvSpPr>
          <p:cNvPr id="1564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F09E2-EE17-4706-9EC5-39AA566E8B6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TING: A Statistical Information Grid Approach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2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ach cell at a high level is partitioned into a number of smaller cells in the next lower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atistical info of each cell  is calculated and stored beforehand and is used to answer queri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rameters of higher level cells can be easily calculated from parameters of lower level cel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count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mea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mi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max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ype of distribution—normal,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uniform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 a top-down approach to answer spatial data queri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art from a pre-selected layer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—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ypically with a small number of cell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r each cell in the current level compute the confidence interv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7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BE77A-ED9F-44EE-89F3-651B17D845B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TING: A Statistical Information Grid Approach 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(3)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move the irrelevant cells from further consider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en finish examining the current layer, proceed to the next lower level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peat this process until the bottom layer is reach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dvantage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Query-independent, easy to parallelize, incremental upda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O(K),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where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is the number of grid cells at the lowest level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isadvantage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ll the cluster boundaries are either horizontal or vertical, and no diagonal boundary is detect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0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914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46FC6-9809-4642-A3AA-88443C524B9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veCluster (1998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heikholeslami, Chatterjee, and Zhang (VLDB’98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multi-resolution clustering approach which applies wavelet transform to the feature sp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wavelet transform is a signal processing technique that decomposes a signal into different frequency sub-ban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oth grid-based and density-bas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put parameters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# of grid cells for each dimens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wavelet, and the # of applications of wavelet transform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74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A58F0-3C48-4B53-B8BD-667E6F39BE1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Wavelet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1)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76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8077320" cy="4595760"/>
          </a:xfrm>
          <a:prstGeom prst="rect">
            <a:avLst/>
          </a:prstGeom>
          <a:ln w="0">
            <a:noFill/>
          </a:ln>
        </p:spPr>
      </p:pic>
      <p:sp>
        <p:nvSpPr>
          <p:cNvPr id="1577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38B81-2367-4BA4-B22A-4B93BF55F87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veCluster (1998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w to apply wavelet transform to find clust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ummaries the data by imposing a multidimensional grid structure onto data sp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se multidimensional spatial data objects are represented in a n-dimensional feature sp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pply wavelet transform on feature space to find the dense regions in the feature sp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pply wavelet transform multiple times which result in clusters at different scales from fine to coar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0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D5100-212B-4931-9CBF-30FE687A10E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Wavelet 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2)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2" name="" descr=""/>
          <p:cNvPicPr/>
          <p:nvPr/>
        </p:nvPicPr>
        <p:blipFill>
          <a:blip r:embed="rId1"/>
          <a:stretch/>
        </p:blipFill>
        <p:spPr>
          <a:xfrm>
            <a:off x="695160" y="2581200"/>
            <a:ext cx="3795840" cy="2981520"/>
          </a:xfrm>
          <a:prstGeom prst="rect">
            <a:avLst/>
          </a:prstGeom>
          <a:ln w="0">
            <a:noFill/>
          </a:ln>
        </p:spPr>
      </p:pic>
      <p:pic>
        <p:nvPicPr>
          <p:cNvPr id="1583" name="" descr=""/>
          <p:cNvPicPr/>
          <p:nvPr/>
        </p:nvPicPr>
        <p:blipFill>
          <a:blip r:embed="rId2"/>
          <a:stretch/>
        </p:blipFill>
        <p:spPr>
          <a:xfrm>
            <a:off x="5138640" y="2490840"/>
            <a:ext cx="3853080" cy="2927160"/>
          </a:xfrm>
          <a:prstGeom prst="rect">
            <a:avLst/>
          </a:prstGeom>
          <a:ln w="0">
            <a:noFill/>
          </a:ln>
        </p:spPr>
      </p:pic>
      <p:sp>
        <p:nvSpPr>
          <p:cNvPr id="1584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ABC85-250A-4FF5-827C-30D09D0D518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ant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6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87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1806480" y="2209680"/>
            <a:ext cx="5824800" cy="384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B292B-9E41-41E0-9A8F-4BE691DA7C3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Requirements of Clustering in Data Mining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cala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bility to deal with different types of attribu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covery of clusters with arbitrary shap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inimal requirements for domain knowledge to determine input paramet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ble to deal with noise and outli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sensitive to order of input recor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gh dimensiona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corporation of user-specified constrai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pretability and usa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C9204-A9F4-457F-B358-4CB2030950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nsform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9" name="" descr=""/>
          <p:cNvPicPr/>
          <p:nvPr/>
        </p:nvPicPr>
        <p:blipFill>
          <a:blip r:embed="rId1"/>
          <a:stretch/>
        </p:blipFill>
        <p:spPr>
          <a:xfrm>
            <a:off x="0" y="1833480"/>
            <a:ext cx="9142560" cy="4110120"/>
          </a:xfrm>
          <a:prstGeom prst="rect">
            <a:avLst/>
          </a:prstGeom>
          <a:ln w="0">
            <a:noFill/>
          </a:ln>
        </p:spPr>
      </p:pic>
      <p:sp>
        <p:nvSpPr>
          <p:cNvPr id="1590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7685D-7D57-4B46-BF0B-81B8AABD58E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aveCluster (1998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y is wavelet transformation useful for cluster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nsupervised cluster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t uses hat-shape filters to emphasize region where points cluster, but simultaneously to suppress weaker information in their boundary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ffective removal of outlier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ulti-resolu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st efficienc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jor featur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mplexity O(N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tect arbitrary shaped clusters at different sc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t sensitive to noise, not sensitive to input ord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nly applicable to low dimensional da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3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1A550-78FB-4CA8-8821-AAF4246534B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LIQUE (Clustering In QUEst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rawal, Gehrke, Gunopulos, Raghavan (SIGMOD’98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5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utomatically identifying subspaces of a high dimensional data space that allow better clustering than original spac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5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QUE can be considered as both density-based and grid-bas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t partitions each dimension into the same number of equal length interv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t partitions an m-dimensional data space into non-overlapping rectangular uni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unit is dense if the fraction of total data points contained in the unit exceeds the input model paramet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cluster is a maximal set of connected dense units within a subsp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6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263CF-518E-4B23-A230-77CA2914148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LIQUE: The Major Step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1c6e"/>
                </a:solidFill>
                <a:latin typeface="Tahoma"/>
              </a:rPr>
              <a:t>Partition the data space and find the number of points that lie inside each cell of the partit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1c6e"/>
                </a:solidFill>
                <a:latin typeface="Tahoma"/>
              </a:rPr>
              <a:t>Identify the subspaces that contain clusters using the Apriori princip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1c6e"/>
                </a:solidFill>
                <a:latin typeface="Tahoma"/>
              </a:rPr>
              <a:t>Identify cluster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12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termine dense units in all subspaces of interes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termine connected dense units in all subspaces of interest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5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1c6e"/>
                </a:solidFill>
                <a:latin typeface="Tahoma"/>
              </a:rPr>
              <a:t>Generate minimal description for the clust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termine maximal regions that cover a cluster of connected dense units for each clust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termination of minimal cover for each clust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99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42752-2294-4FD8-8051-00CDA0B67D9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0" name=""/>
          <p:cNvGrpSpPr/>
          <p:nvPr/>
        </p:nvGrpSpPr>
        <p:grpSpPr>
          <a:xfrm>
            <a:off x="2479680" y="3276360"/>
            <a:ext cx="5148360" cy="3124440"/>
            <a:chOff x="2479680" y="3276360"/>
            <a:chExt cx="5148360" cy="3124440"/>
          </a:xfrm>
        </p:grpSpPr>
        <p:grpSp>
          <p:nvGrpSpPr>
            <p:cNvPr id="1601" name=""/>
            <p:cNvGrpSpPr/>
            <p:nvPr/>
          </p:nvGrpSpPr>
          <p:grpSpPr>
            <a:xfrm>
              <a:off x="4384440" y="3581280"/>
              <a:ext cx="1066680" cy="1219320"/>
              <a:chOff x="4384440" y="3581280"/>
              <a:chExt cx="1066680" cy="1219320"/>
            </a:xfrm>
          </p:grpSpPr>
          <p:sp>
            <p:nvSpPr>
              <p:cNvPr id="1602" name=""/>
              <p:cNvSpPr/>
              <p:nvPr/>
            </p:nvSpPr>
            <p:spPr>
              <a:xfrm>
                <a:off x="4384440" y="4194000"/>
                <a:ext cx="425520" cy="6066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4595760" y="3889440"/>
                <a:ext cx="427680" cy="9111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4809960" y="3587760"/>
                <a:ext cx="427320" cy="9111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023800" y="3581280"/>
                <a:ext cx="427320" cy="9115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606" name=""/>
            <p:cNvSpPr/>
            <p:nvPr/>
          </p:nvSpPr>
          <p:spPr>
            <a:xfrm>
              <a:off x="2479680" y="4648320"/>
              <a:ext cx="3200400" cy="17524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28720" y="5029200"/>
              <a:ext cx="49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ag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rot="16200000">
              <a:off x="3062880" y="3621600"/>
              <a:ext cx="105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Vaca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rot="18992400">
              <a:off x="3089520" y="48765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Salary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610" name=""/>
            <p:cNvGrpSpPr/>
            <p:nvPr/>
          </p:nvGrpSpPr>
          <p:grpSpPr>
            <a:xfrm>
              <a:off x="4003200" y="5334120"/>
              <a:ext cx="1143000" cy="990000"/>
              <a:chOff x="4003200" y="5334120"/>
              <a:chExt cx="1143000" cy="990000"/>
            </a:xfrm>
          </p:grpSpPr>
          <p:sp>
            <p:nvSpPr>
              <p:cNvPr id="1611" name=""/>
              <p:cNvSpPr/>
              <p:nvPr/>
            </p:nvSpPr>
            <p:spPr>
              <a:xfrm flipH="1">
                <a:off x="4003200" y="5334120"/>
                <a:ext cx="285480" cy="3600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003560" y="5694120"/>
                <a:ext cx="2854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flipH="1">
                <a:off x="4003200" y="5694120"/>
                <a:ext cx="285480" cy="3600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4003560" y="6054120"/>
                <a:ext cx="3805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flipH="1">
                <a:off x="4193640" y="6054120"/>
                <a:ext cx="190080" cy="2700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193640" y="6324120"/>
                <a:ext cx="4759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289040" y="5334120"/>
                <a:ext cx="85716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flipH="1">
                <a:off x="4860360" y="5334120"/>
                <a:ext cx="285480" cy="3600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4860720" y="5694120"/>
                <a:ext cx="2854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>
                <a:off x="4669560" y="5694120"/>
                <a:ext cx="476280" cy="6300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621" name=""/>
            <p:cNvSpPr/>
            <p:nvPr/>
          </p:nvSpPr>
          <p:spPr>
            <a:xfrm>
              <a:off x="4233960" y="4815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224320" y="48150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23" name=""/>
          <p:cNvSpPr/>
          <p:nvPr/>
        </p:nvSpPr>
        <p:spPr>
          <a:xfrm>
            <a:off x="57456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= 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4917960" y="-68400"/>
            <a:ext cx="3919680" cy="3103560"/>
            <a:chOff x="4917960" y="-68400"/>
            <a:chExt cx="3919680" cy="3103560"/>
          </a:xfrm>
        </p:grpSpPr>
        <p:grpSp>
          <p:nvGrpSpPr>
            <p:cNvPr id="1625" name=""/>
            <p:cNvGrpSpPr/>
            <p:nvPr/>
          </p:nvGrpSpPr>
          <p:grpSpPr>
            <a:xfrm>
              <a:off x="4917960" y="-68400"/>
              <a:ext cx="3919680" cy="3103560"/>
              <a:chOff x="4917960" y="-68400"/>
              <a:chExt cx="3919680" cy="3103560"/>
            </a:xfrm>
          </p:grpSpPr>
          <p:sp>
            <p:nvSpPr>
              <p:cNvPr id="1626" name=""/>
              <p:cNvSpPr/>
              <p:nvPr/>
            </p:nvSpPr>
            <p:spPr>
              <a:xfrm>
                <a:off x="6175080" y="1752480"/>
                <a:ext cx="606600" cy="60660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476760" y="1447920"/>
                <a:ext cx="609480" cy="91116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781680" y="1146240"/>
                <a:ext cx="609480" cy="91116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086240" y="1139760"/>
                <a:ext cx="609840" cy="9111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867280" y="152280"/>
                <a:ext cx="2438280" cy="251460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086240" y="152280"/>
                <a:ext cx="0" cy="25146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696080" y="152280"/>
                <a:ext cx="0" cy="25146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476760" y="152280"/>
                <a:ext cx="0" cy="25146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000640" y="152280"/>
                <a:ext cx="0" cy="25146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391160" y="152280"/>
                <a:ext cx="0" cy="25146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781680" y="152280"/>
                <a:ext cx="0" cy="25146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6171840" y="152280"/>
                <a:ext cx="0" cy="25146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870520" y="1447920"/>
                <a:ext cx="243504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867280" y="2057400"/>
                <a:ext cx="243504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867280" y="1143000"/>
                <a:ext cx="243504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867280" y="533520"/>
                <a:ext cx="243504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867280" y="838080"/>
                <a:ext cx="243504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867280" y="1752480"/>
                <a:ext cx="243504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867280" y="2362320"/>
                <a:ext cx="243504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640120" y="26668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20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294240" y="26668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30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903720" y="26668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40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513560" y="26668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50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8123040" y="266688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60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8338320" y="2452680"/>
                <a:ext cx="4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age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rot="16200000">
                <a:off x="5522400" y="9554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rot="16200000">
                <a:off x="5522400" y="12600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4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rot="16200000">
                <a:off x="5522400" y="15714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rot="16200000">
                <a:off x="5522400" y="21744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rot="16200000">
                <a:off x="5522400" y="18759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rot="16200000">
                <a:off x="5538240" y="6472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6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rot="16200000">
                <a:off x="5524200" y="3427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7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rot="16200000">
                <a:off x="5536800" y="24699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0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 rot="16200000">
                <a:off x="4709520" y="139680"/>
                <a:ext cx="105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imes New Roman"/>
                  </a:rPr>
                  <a:t>Vacation(week)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660" name=""/>
            <p:cNvSpPr/>
            <p:nvPr/>
          </p:nvSpPr>
          <p:spPr>
            <a:xfrm>
              <a:off x="6365520" y="220968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594120" y="2133720"/>
              <a:ext cx="76320" cy="7596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289560" y="1905120"/>
              <a:ext cx="75960" cy="7596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213240" y="2133720"/>
              <a:ext cx="76320" cy="7596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670440" y="198108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899040" y="1905120"/>
              <a:ext cx="76320" cy="7596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594120" y="1676520"/>
              <a:ext cx="76320" cy="7596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518160" y="1905120"/>
              <a:ext cx="75960" cy="7596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051320" y="175248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279920" y="1676520"/>
              <a:ext cx="76320" cy="7596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975360" y="1447920"/>
              <a:ext cx="75960" cy="7596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899040" y="1676520"/>
              <a:ext cx="76320" cy="7596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356240" y="1905120"/>
              <a:ext cx="76320" cy="7596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584840" y="182880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279920" y="160020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203960" y="1828800"/>
              <a:ext cx="7596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508520" y="152388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584840" y="137160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279920" y="114300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203960" y="1371600"/>
              <a:ext cx="7596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975360" y="1447920"/>
              <a:ext cx="75960" cy="7596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203960" y="1371600"/>
              <a:ext cx="7596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99040" y="114300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822720" y="137160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975360" y="2286000"/>
              <a:ext cx="7596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8042040" y="251460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899040" y="198108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822720" y="220968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984640" y="990720"/>
              <a:ext cx="76320" cy="7596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498600" y="-68400"/>
            <a:ext cx="4084560" cy="3276720"/>
            <a:chOff x="498600" y="-68400"/>
            <a:chExt cx="4084560" cy="3276720"/>
          </a:xfrm>
        </p:grpSpPr>
        <p:sp>
          <p:nvSpPr>
            <p:cNvPr id="1690" name=""/>
            <p:cNvSpPr/>
            <p:nvPr/>
          </p:nvSpPr>
          <p:spPr>
            <a:xfrm rot="16200000">
              <a:off x="290160" y="139680"/>
              <a:ext cx="105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Salary (10,000)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403720" y="838080"/>
              <a:ext cx="914400" cy="1204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793880" y="533520"/>
              <a:ext cx="1219320" cy="12189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489320" y="152280"/>
              <a:ext cx="2438280" cy="25146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708280" y="152280"/>
              <a:ext cx="0" cy="2514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318120" y="152280"/>
              <a:ext cx="0" cy="2514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098800" y="152280"/>
              <a:ext cx="0" cy="2514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622680" y="152280"/>
              <a:ext cx="0" cy="2514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013200" y="152280"/>
              <a:ext cx="0" cy="2514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403720" y="152280"/>
              <a:ext cx="0" cy="2514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793880" y="152280"/>
              <a:ext cx="0" cy="2514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491480" y="1447920"/>
              <a:ext cx="24354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489320" y="2057400"/>
              <a:ext cx="2435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489320" y="1143000"/>
              <a:ext cx="2435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489320" y="533520"/>
              <a:ext cx="2435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489320" y="838080"/>
              <a:ext cx="2435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489320" y="1752480"/>
              <a:ext cx="2435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489320" y="2362320"/>
              <a:ext cx="2435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262160" y="2666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916280" y="2666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30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525760" y="2666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135600" y="2666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745080" y="26668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960360" y="2452680"/>
              <a:ext cx="49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ag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rot="16200000">
              <a:off x="1144440" y="95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rot="16200000">
              <a:off x="1144440" y="1260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rot="16200000">
              <a:off x="1144440" y="1571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16200000">
              <a:off x="1144440" y="2174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rot="16200000">
              <a:off x="1144440" y="1875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rot="16200000">
              <a:off x="1158840" y="649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16200000">
              <a:off x="1144440" y="344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rot="16200000">
              <a:off x="1158840" y="2469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870200" y="152388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022480" y="1676520"/>
              <a:ext cx="76320" cy="7596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022480" y="129528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870200" y="990720"/>
              <a:ext cx="76320" cy="7596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022480" y="68580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870200" y="60948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946520" y="838080"/>
              <a:ext cx="7596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098800" y="60948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51080" y="152388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403720" y="1676520"/>
              <a:ext cx="75960" cy="7596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403720" y="1295280"/>
              <a:ext cx="7596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251080" y="60948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479680" y="60948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632320" y="1523880"/>
              <a:ext cx="7596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784600" y="1676520"/>
              <a:ext cx="76320" cy="7596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784600" y="129528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632320" y="609480"/>
              <a:ext cx="7596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860920" y="609480"/>
              <a:ext cx="7596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860920" y="1828800"/>
              <a:ext cx="7596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013200" y="198108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013200" y="160020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860920" y="914400"/>
              <a:ext cx="7596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089520" y="914400"/>
              <a:ext cx="7596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403720" y="1828800"/>
              <a:ext cx="7596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556000" y="198108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556000" y="160020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403720" y="914400"/>
              <a:ext cx="7596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632320" y="914400"/>
              <a:ext cx="7596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470400" y="160020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641600" y="228600"/>
              <a:ext cx="76320" cy="76320"/>
            </a:xfrm>
            <a:prstGeom prst="ellipse">
              <a:avLst/>
            </a:prstGeom>
            <a:solidFill>
              <a:srgbClr val="40458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3880" y="533520"/>
              <a:ext cx="1219320" cy="1218960"/>
            </a:xfrm>
            <a:prstGeom prst="rect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403720" y="838080"/>
              <a:ext cx="914400" cy="1219320"/>
            </a:xfrm>
            <a:prstGeom prst="rect">
              <a:avLst/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489320" y="3200400"/>
              <a:ext cx="2590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798920" y="3098880"/>
              <a:ext cx="1557360" cy="109440"/>
            </a:xfrm>
            <a:custGeom>
              <a:avLst/>
              <a:gdLst/>
              <a:ahLst/>
              <a:rect l="l" t="t" r="r" b="b"/>
              <a:pathLst>
                <a:path w="981" h="69">
                  <a:moveTo>
                    <a:pt x="0" y="67"/>
                  </a:moveTo>
                  <a:cubicBezTo>
                    <a:pt x="3" y="66"/>
                    <a:pt x="47" y="57"/>
                    <a:pt x="52" y="52"/>
                  </a:cubicBezTo>
                  <a:cubicBezTo>
                    <a:pt x="57" y="46"/>
                    <a:pt x="54" y="35"/>
                    <a:pt x="59" y="30"/>
                  </a:cubicBezTo>
                  <a:cubicBezTo>
                    <a:pt x="72" y="17"/>
                    <a:pt x="94" y="20"/>
                    <a:pt x="111" y="15"/>
                  </a:cubicBezTo>
                  <a:cubicBezTo>
                    <a:pt x="326" y="34"/>
                    <a:pt x="603" y="11"/>
                    <a:pt x="792" y="8"/>
                  </a:cubicBezTo>
                  <a:cubicBezTo>
                    <a:pt x="839" y="0"/>
                    <a:pt x="879" y="0"/>
                    <a:pt x="926" y="15"/>
                  </a:cubicBezTo>
                  <a:cubicBezTo>
                    <a:pt x="957" y="36"/>
                    <a:pt x="981" y="40"/>
                    <a:pt x="941" y="67"/>
                  </a:cubicBezTo>
                  <a:cubicBezTo>
                    <a:pt x="862" y="48"/>
                    <a:pt x="948" y="66"/>
                    <a:pt x="778" y="67"/>
                  </a:cubicBezTo>
                  <a:cubicBezTo>
                    <a:pt x="519" y="69"/>
                    <a:pt x="259" y="67"/>
                    <a:pt x="0" y="67"/>
                  </a:cubicBezTo>
                  <a:close/>
                </a:path>
              </a:pathLst>
            </a:custGeom>
            <a:solidFill>
              <a:srgbClr val="660066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537080" y="152280"/>
              <a:ext cx="0" cy="2819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384800" y="523800"/>
              <a:ext cx="198360" cy="1522440"/>
            </a:xfrm>
            <a:custGeom>
              <a:avLst/>
              <a:gdLst/>
              <a:ahLst/>
              <a:rect l="l" t="t" r="r" b="b"/>
              <a:pathLst>
                <a:path w="125" h="959">
                  <a:moveTo>
                    <a:pt x="97" y="0"/>
                  </a:moveTo>
                  <a:cubicBezTo>
                    <a:pt x="92" y="7"/>
                    <a:pt x="86" y="14"/>
                    <a:pt x="82" y="22"/>
                  </a:cubicBezTo>
                  <a:cubicBezTo>
                    <a:pt x="76" y="36"/>
                    <a:pt x="67" y="67"/>
                    <a:pt x="67" y="67"/>
                  </a:cubicBezTo>
                  <a:cubicBezTo>
                    <a:pt x="59" y="183"/>
                    <a:pt x="41" y="283"/>
                    <a:pt x="8" y="393"/>
                  </a:cubicBezTo>
                  <a:cubicBezTo>
                    <a:pt x="5" y="452"/>
                    <a:pt x="0" y="512"/>
                    <a:pt x="0" y="571"/>
                  </a:cubicBezTo>
                  <a:cubicBezTo>
                    <a:pt x="0" y="667"/>
                    <a:pt x="14" y="765"/>
                    <a:pt x="37" y="859"/>
                  </a:cubicBezTo>
                  <a:cubicBezTo>
                    <a:pt x="45" y="893"/>
                    <a:pt x="54" y="937"/>
                    <a:pt x="82" y="956"/>
                  </a:cubicBezTo>
                  <a:cubicBezTo>
                    <a:pt x="114" y="906"/>
                    <a:pt x="89" y="959"/>
                    <a:pt x="89" y="911"/>
                  </a:cubicBezTo>
                  <a:cubicBezTo>
                    <a:pt x="89" y="898"/>
                    <a:pt x="94" y="886"/>
                    <a:pt x="97" y="874"/>
                  </a:cubicBezTo>
                  <a:cubicBezTo>
                    <a:pt x="100" y="647"/>
                    <a:pt x="125" y="384"/>
                    <a:pt x="89" y="148"/>
                  </a:cubicBezTo>
                  <a:cubicBezTo>
                    <a:pt x="98" y="30"/>
                    <a:pt x="97" y="79"/>
                    <a:pt x="97" y="0"/>
                  </a:cubicBezTo>
                  <a:close/>
                </a:path>
              </a:pathLst>
            </a:custGeom>
            <a:solidFill>
              <a:srgbClr val="660066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58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6C5F3-2AE5-433B-BDEA-7D1E03255D0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trength and Weakness of </a:t>
            </a:r>
            <a:r>
              <a:rPr b="0" i="1" lang="en-US" sz="3600" spc="-1" strike="noStrike">
                <a:solidFill>
                  <a:srgbClr val="660066"/>
                </a:solidFill>
                <a:latin typeface="Tahoma"/>
              </a:rPr>
              <a:t>CLIQU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Strength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t </a:t>
            </a:r>
            <a:r>
              <a:rPr b="0" i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automatically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 finds subspaces of th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highest dimensionality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uch that high density clusters exist in those subspa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t is 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insensitiv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to the order of records in input and does not presume some canonical data distribu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t scales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 linearly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with the size of input and has good scalability as the number of dimensions in the data increas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Weakn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accuracy of the clustering result may be degraded at the expense of simplicity of the metho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1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4F34A-1B05-40FB-B417-C9D549B5B42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odel-Based Clustering Method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tempt to optimize the fit between the data and some mathematical mod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atistical and AI approa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ceptual cluster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form of clustering in machine learnin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oduces a classification scheme for a set of unlabeled objec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inds characteristic description for each concept (class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BWEB (Fisher’87)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popular a simple method of incremental conceptual learnin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eates a hierarchical clustering in the form of a </a:t>
            </a:r>
            <a:r>
              <a:rPr b="0" lang="en-US" sz="1800" spc="-1" strike="noStrike">
                <a:solidFill>
                  <a:srgbClr val="6f89f7"/>
                </a:solidFill>
                <a:latin typeface="Tahoma"/>
              </a:rPr>
              <a:t>classification tr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ach node refers to a concept and contains a probabilistic description of that concep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64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709D-F2EC-4C31-9DDF-55274F8E3F5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BWEB Clustering Metho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A classification tre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76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495680"/>
          </a:xfrm>
          <a:prstGeom prst="rect">
            <a:avLst/>
          </a:prstGeom>
          <a:ln w="0">
            <a:noFill/>
          </a:ln>
        </p:spPr>
      </p:pic>
      <p:sp>
        <p:nvSpPr>
          <p:cNvPr id="1768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07537-7A9C-4831-8EFA-19E76E900C2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More on Statistical-Based Cluster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mitations of COB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assumption  that the attributes are independent of each other is often too strong because correlation may exi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t suitable for clustering large database data – skewed tree and expensive probability distribu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ASSI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 extension of COBWEB for incremental clustering of continuous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uffers similar problems as COBWEB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utoClass (Cheeseman and Stutz, 1996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es Bayesian statistical analysis to estimate the number of clust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pular in indust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1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EA6E6-1A24-4BDF-9766-E0A1033022E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Other Model-Based Clustering Method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ural network approach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resent each cluster as an exemplar, acting as a “prototype” of the clust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w objects are distributed to the cluster whose exemplar is the most similar according to some distance measu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etitive lear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volves a hierarchical architecture of several units (neuron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urons compete in  a “winner-takes-all” fashion for the object currently being present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4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2036F-E664-4A2D-98C7-E23308E5D13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ata Structures Us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ta matrix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two mod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similarity matrix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one mode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800600" y="1523880"/>
                <a:ext cx="3124080" cy="20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f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f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p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800600" y="3962520"/>
                <a:ext cx="3429000" cy="19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  <m:e/>
                            <m:e/>
                          </m:mr>
                          <m:mr>
                            <m:e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,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  <m:e/>
                          </m:mr>
                          <m:mr>
                            <m:e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,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r>
                                <m:t xml:space="preserve">3,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r>
                                <m:t xml:space="preserve">:</m:t>
                              </m:r>
                            </m:e>
                            <m:e>
                              <m:r>
                                <m:t xml:space="preserve">:</m:t>
                              </m:r>
                            </m:e>
                            <m:e>
                              <m:r>
                                <m:t xml:space="preserve">: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,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74924-7738-4BB5-A91B-E2FC8A49E1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odel-Based Clustering Method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76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533520" y="1447920"/>
            <a:ext cx="8381880" cy="4952880"/>
          </a:xfrm>
          <a:prstGeom prst="rect">
            <a:avLst/>
          </a:prstGeom>
          <a:ln w="0">
            <a:noFill/>
          </a:ln>
        </p:spPr>
      </p:pic>
      <p:sp>
        <p:nvSpPr>
          <p:cNvPr id="1777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0CF5E-600D-4BE8-81AF-2CE5A66E56F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elf-organizing feature maps (SOMs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ustering is also performed by having several units competing for the current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unit whose weight vector is closest to the current object wi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winner and its neighbors learn by having their weights adjus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Ms are believed to resemble processing that can occur in the brai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ful for visualizing high-dimensional data in 2- or 3-D sp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0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4BE46-5CE8-4100-83A7-4AB34B94AD8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Outlier Discovery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hat are outlier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set of objects are considerably dissimilar from the remainder of the da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ample:  Sports: Michael Jordan, Michael Schumacher,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bl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nd top n outlier point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lication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redit card fraud detec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lecom fraud detec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ustomer segment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cal analy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3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8DC3A-BF1D-46AA-B054-2892E6E15282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Outlier Discovery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Statistical Approache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0981"/>
                </a:solidFill>
                <a:latin typeface="Tahoma"/>
              </a:rPr>
              <a:t>Assume a model underlying distribution that generates data set (e.g. normal distributio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discordancy tests depending on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ta distribu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tribution parameter (e.g., mean, varian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umber of expected outli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rawbac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st tests are for single attribu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 many cases, data distribution may not be know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786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2590920"/>
          </a:xfrm>
          <a:prstGeom prst="rect">
            <a:avLst/>
          </a:prstGeom>
          <a:ln w="0">
            <a:noFill/>
          </a:ln>
        </p:spPr>
      </p:pic>
      <p:sp>
        <p:nvSpPr>
          <p:cNvPr id="1787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884B5-F60C-4B4C-B7A0-DB78BCB184E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Outlier Discovery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Distance-Based Approach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roduced to counter the main limitations imposed by statistical metho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 need multi-dimensional analysis without knowing data distribut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tance-based outlier: A DB(p, D)-outlier is an object O in a dataset T such that at least a fraction p of the objects in T lies at a distance greater than D from 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gorithms for mining distance-based outliers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dex-based algorith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sted-loop algorithm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ll-based algorith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0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DAD9B-90C2-40B8-BB42-6A936C2C8855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Outlier Discovery: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Deviation-Based Approach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dentifies outliers by examining the main characteristics of objects in a grou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jects that “deviate” from this description are considered outli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quential exception technique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mulates the way in which humans can distinguish unusual objects from among a series of supposedly like objec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LAP data cube techniqu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5000"/>
              </a:lnSpc>
              <a:spcBef>
                <a:spcPts val="624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s data cubes to identify regions of anomalies in large multidimensional da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3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4162C-BA61-4E44-9731-ED6A22EB0C7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roblems and Challeng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siderable progress has been made in scalable clustering method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artitioning: k-means, k-medoids, CLARA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Hierarchical: BIRCH, CU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nsity-based: DBSCAN, CLIQUE, OPTIC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Grid-based: STING, WaveClust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odel-based: Autoclass, Denclue, Cobweb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urrent clustering techniques do not </a:t>
            </a: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addres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ll the requirements adequatel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straint-based clustering analysis: Constraints exist in data space (bridges and highways) or in user queri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6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914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05B86-7349-4360-A158-C2D7E5BF941B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Constraint-Based Clustering Analysi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ustering analysis: less parameters but more user-desired constraints, e.g., an ATM allocation probl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1800" name=""/>
          <p:cNvGrpSpPr/>
          <p:nvPr/>
        </p:nvGrpSpPr>
        <p:grpSpPr>
          <a:xfrm>
            <a:off x="511200" y="2362320"/>
            <a:ext cx="8327520" cy="3988440"/>
            <a:chOff x="511200" y="2362320"/>
            <a:chExt cx="8327520" cy="3988440"/>
          </a:xfrm>
        </p:grpSpPr>
        <p:sp>
          <p:nvSpPr>
            <p:cNvPr id="1801" name=""/>
            <p:cNvSpPr/>
            <p:nvPr/>
          </p:nvSpPr>
          <p:spPr>
            <a:xfrm>
              <a:off x="511200" y="2384280"/>
              <a:ext cx="8305560" cy="39621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28480" y="2422440"/>
              <a:ext cx="4258800" cy="1477440"/>
            </a:xfrm>
            <a:prstGeom prst="line">
              <a:avLst/>
            </a:prstGeom>
            <a:ln w="889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49160" y="27860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609560" y="409392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661760" y="378612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725480" y="331776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807920" y="30938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064880" y="365112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304640" y="40622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523960" y="500832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508040" y="31114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503600" y="53704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846240" y="50482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898800" y="538776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122360" y="555444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616120" y="54752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590640" y="607536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949480" y="58100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873000" y="31114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126800" y="298908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206360" y="32432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444320" y="297792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439640" y="333216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388880" y="37004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815840" y="38527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982520" y="352872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047680" y="376848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350720" y="342900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703160" y="36115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929120" y="42973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312640" y="400212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854080" y="496224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051000" y="48704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187440" y="52243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763720" y="53323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290760" y="55292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485880" y="54212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335040" y="583380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632040" y="58705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457360" y="25588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609640" y="28112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876400" y="28051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073320" y="30304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792160" y="338436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147840" y="35654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401640" y="3125520"/>
              <a:ext cx="7452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135240" y="371160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796840" y="270972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771720" y="39877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097160" y="487836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180960" y="4090680"/>
              <a:ext cx="7452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549600" y="401292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182760" y="39052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805360" y="51688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257880" y="50482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530680" y="49831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986080" y="478944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214600" y="443700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367240" y="531000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211800" y="420660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613120" y="42130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160600" y="530532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470200" y="385740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225600" y="318276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508200" y="32353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471480" y="3617640"/>
              <a:ext cx="7452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817720" y="309060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576600" y="260820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733480" y="369864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625480" y="338904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950920" y="37447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525400" y="3854160"/>
              <a:ext cx="7452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923920" y="400680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749480" y="4706640"/>
              <a:ext cx="7452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800240" y="441144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054400" y="501156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206680" y="5163840"/>
              <a:ext cx="7452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511600" y="546876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655960" y="248112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418000" y="49147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816520" y="57736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767200" y="54068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107040" y="53719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273720" y="62308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748120" y="483840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908840" y="552744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622920" y="531000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333840" y="26114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663880" y="267804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714640" y="316224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983200" y="30686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151320" y="281592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403680" y="276696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921280" y="27604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016320" y="2912760"/>
              <a:ext cx="7452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254640" y="33256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119640" y="353520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838480" y="338436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510240" y="40273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835680" y="429552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232400" y="486540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154640" y="42242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596000" y="45640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473600" y="467352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424640" y="43783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209920" y="288576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186320" y="45608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703920" y="403380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781600" y="29653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268600" y="311940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479920" y="334296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790960" y="368280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609880" y="348912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022800" y="427644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016320" y="4024080"/>
              <a:ext cx="7452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341760" y="397512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451560" y="432900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746760" y="44672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145280" y="463536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922800" y="47275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959520" y="49528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645320" y="494640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408800" y="504180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618320" y="53816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467480" y="557820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823160" y="57434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105400" y="5594040"/>
              <a:ext cx="7452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170560" y="580392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573680" y="604332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396960" y="283356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829120" y="252396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595760" y="35272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624120" y="30733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549160" y="3644640"/>
              <a:ext cx="7452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639960" y="329076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643280" y="36748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382920" y="350964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395680" y="335916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697280" y="33652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195520" y="351936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405400" y="443700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370120" y="458928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738760" y="416376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935320" y="438768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014880" y="50464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081480" y="48956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319800" y="535140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149960" y="545940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230960" y="567036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7397640" y="52322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929280" y="59608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7081560" y="611316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48240" y="27907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411520" y="26114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679720" y="3009600"/>
              <a:ext cx="7452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514840" y="30607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984640" y="33145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440400" y="34970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289560" y="36194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313320" y="455112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248160" y="44146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964200" y="409068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899040" y="451800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051320" y="4381200"/>
              <a:ext cx="7452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277040" y="43606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356240" y="48895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7508520" y="4838400"/>
              <a:ext cx="7452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734240" y="48625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611840" y="508608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7965720" y="5295600"/>
              <a:ext cx="7452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118360" y="52466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116480" y="49654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672320" y="560844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778280" y="3886200"/>
              <a:ext cx="4026960" cy="2301480"/>
            </a:xfrm>
            <a:prstGeom prst="line">
              <a:avLst/>
            </a:prstGeom>
            <a:ln w="8892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V="1">
              <a:off x="1492200" y="2369520"/>
              <a:ext cx="1167840" cy="398124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073480" y="3247920"/>
              <a:ext cx="3765240" cy="2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V="1">
              <a:off x="4074840" y="2362320"/>
              <a:ext cx="1282320" cy="396360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6609960" y="2377800"/>
              <a:ext cx="14040" cy="396360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465280" y="415440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444400" y="393048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423880" y="372240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922480" y="461160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333600" y="46195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611600" y="5190840"/>
              <a:ext cx="7416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379680" y="506880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531960" y="52210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684240" y="5373720"/>
              <a:ext cx="7452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836880" y="552600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415880" y="456228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031920" y="2496960"/>
              <a:ext cx="258480" cy="2440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243480" y="2925720"/>
              <a:ext cx="258480" cy="2440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067000" y="3711600"/>
              <a:ext cx="258480" cy="2440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735600" y="4644720"/>
              <a:ext cx="258480" cy="24444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952280" y="3093840"/>
              <a:ext cx="258480" cy="2440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4327200" y="3997080"/>
              <a:ext cx="258480" cy="2440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4111560" y="393840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133520" y="4117680"/>
              <a:ext cx="7452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228920" y="444492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381200" y="459720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228920" y="4300560"/>
              <a:ext cx="74160" cy="74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424040" y="4365360"/>
              <a:ext cx="74520" cy="74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002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45F7B-24C0-4F9C-88BC-DFC96564E71A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660066"/>
                </a:solidFill>
                <a:latin typeface="Tahoma"/>
              </a:rPr>
              <a:t>Today’s lecture 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is Cluster Analysis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ypes of Data in Cluster Analy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Categorization of Major Clustering Metho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titioning Metho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erarchical Metho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ity-Based Metho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rid-Based Metho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del-Based Clustering Method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utlier Analy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SzPct val="1507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blems and Challeng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5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C4260-8544-49A5-A325-0667C077359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easure the Quality of Clustering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similarity/Similarity metric: Similarity is expressed in terms of a distance function, which is typically metric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i, j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re is a separate “quality” function that measures the “goodness” of a clust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finitions of distance functions are usually very different for interval-scaled, boolean, categorical, ordinal and ratio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ights should be associated with different variables based on applications and data semantic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t is hard to define “similar enough” or “good enough”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answer is typically highly subjectiv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6094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T4727 - Data Mining &amp; Knowledge Discovery - L09 - (Robert.Gyorodi@ul.i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C2B1B-BD90-42E4-9819-31725E7558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2:32:30Z</dcterms:created>
  <dc:creator>Robert.Gyorodi</dc:creator>
  <dc:description/>
  <dc:language>en-US</dc:language>
  <cp:lastModifiedBy>Robert.Gyorodi</cp:lastModifiedBy>
  <dcterms:modified xsi:type="dcterms:W3CDTF">2003-10-23T15:08:25Z</dcterms:modified>
  <cp:revision>67</cp:revision>
  <dc:subject/>
  <dc:title>ET4718 - Computer Programming 7 - Java Programming and Introduction to Software Engineering</dc:title>
</cp:coreProperties>
</file>