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1C5-F2AD-4A69-ABDD-C6B59272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A96-0C14-4680-BEC1-49733FD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E8D-2C54-4E89-8DDE-24A45D61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522-8C27-422F-94B1-80B5464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436-6593-4447-A17A-197BBE8C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B59-5662-406C-BC67-4E426BD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14B-F500-4FBF-B389-C12DCD27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E39-1997-4F8F-A55E-6676F03F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D22-4B5D-41E9-9D01-EBEE61B3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EBD-0CDA-4E26-9C85-AF80A3B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F07-A791-41EB-8ED0-98075E5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320-6DD2-4E56-A51E-052CFD4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CECC-3D43-4666-B4E3-FECB661A9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1" TargetMode="External"/><Relationship Id="rId2" Type="http://schemas.microsoft.com/office/2007/relationships/media" Target="file:///tmp/home/.config/libreoffice/4/user/gallery/Embedded%20Sound%201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2" TargetMode="External"/><Relationship Id="rId2" Type="http://schemas.microsoft.com/office/2007/relationships/media" Target="file:///tmp/home/.config/libreoffice/4/user/gallery/Embedded%20Sound%202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74200" y="6388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 blah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74200" y="6388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50:24Z</dcterms:created>
  <dc:creator>Douglas Lyon</dc:creator>
  <dc:description/>
  <dc:language>en-US</dc:language>
  <cp:lastModifiedBy>Douglas Lyon</cp:lastModifiedBy>
  <dcterms:modified xsi:type="dcterms:W3CDTF">2011-01-28T11:53:43Z</dcterms:modified>
  <cp:revision>1</cp:revision>
  <dc:subject/>
  <dc:title>Test</dc:title>
</cp:coreProperties>
</file>