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DF6-7807-48FB-A9CA-5FE2F340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269-C512-4A1E-94C1-401C35C2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20D-362F-4456-8E5A-3311D2E6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C56-B022-49A9-A8D3-F4E211B2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621-1993-426D-9DF4-3CB0FF83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BFF-D720-4997-8573-0AB90AFD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938-B2D6-466C-AFDC-AD7577F5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225-4A62-40D4-98C6-7C070B27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DE0-5332-4524-8B7A-69510215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CB5-5783-4FC0-AD7E-67A49BEA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C99-F999-4C26-B61B-2D2CC5C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B46-71F1-42E1-B84E-2C8DEDE9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0109-13AA-4BC3-9457-2EFFAAFBE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Bezcurve.exe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Bezcurve.exe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Bezsurf.exe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Bezmesh.exe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Bezmesh.exe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Surface.exe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Surface.exe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Surface.exe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Surface.exe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37160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URVES AND SURFACES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3016-104C-423A-B905-6DA6EDB49B7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32200" y="533520"/>
            <a:ext cx="6962400" cy="4660920"/>
            <a:chOff x="1132200" y="533520"/>
            <a:chExt cx="6962400" cy="4660920"/>
          </a:xfrm>
        </p:grpSpPr>
        <p:sp>
          <p:nvSpPr>
            <p:cNvPr id="165" name=""/>
            <p:cNvSpPr/>
            <p:nvPr/>
          </p:nvSpPr>
          <p:spPr>
            <a:xfrm>
              <a:off x="1140480" y="533520"/>
              <a:ext cx="202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Bezier Surf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32200" y="1116000"/>
              <a:ext cx="696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Bezier bicubic formulation can be derived in exactly the same wa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90160" y="1496880"/>
              <a:ext cx="260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s above. The results are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38680" y="2120760"/>
              <a:ext cx="231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B-Spline Surf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33640" y="2527200"/>
              <a:ext cx="6724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B-Spline bicubic formulation can be derived in exactly the sa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81160" y="2895480"/>
              <a:ext cx="254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y also. The results are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38320" y="3519360"/>
              <a:ext cx="264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Normals to Surf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91600" y="3925800"/>
              <a:ext cx="3045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cross product between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6600" y="392580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04880" y="392580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9680" y="392580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63960" y="3925800"/>
              <a:ext cx="29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ngent vectors of the surfa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08520" y="4154400"/>
              <a:ext cx="35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Q(s, t) results in the normal at giv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52720" y="415440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53880" y="4154400"/>
              <a:ext cx="48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3680" y="4154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87400" y="41544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809880" y="1523880"/>
                  <a:ext cx="312444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x</m:t>
                          </m:r>
                        </m:sub>
                      </m:sSub>
                      <m:r>
                        <m:t xml:space="preserve">⋅</m:t>
                      </m:r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⋅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3632040" y="2895480"/>
                  <a:ext cx="33274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s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Sx</m:t>
                          </m:r>
                        </m:sub>
                      </m:sSub>
                      <m:r>
                        <m:t xml:space="preserve">⋅</m:t>
                      </m:r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s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⋅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2133720" y="4495680"/>
                  <a:ext cx="228600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∂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2DBE-14A0-4D24-A50C-0439FEF943E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22680" y="533520"/>
            <a:ext cx="8499960" cy="5229000"/>
            <a:chOff x="-22680" y="533520"/>
            <a:chExt cx="8499960" cy="5229000"/>
          </a:xfrm>
        </p:grpSpPr>
        <p:sp>
          <p:nvSpPr>
            <p:cNvPr id="189" name=""/>
            <p:cNvSpPr/>
            <p:nvPr/>
          </p:nvSpPr>
          <p:spPr>
            <a:xfrm>
              <a:off x="1151640" y="533520"/>
              <a:ext cx="6426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EVALUATORS AND NURBS in OpenG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0120" y="1295280"/>
              <a:ext cx="377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One-Dimensional Evalua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0120" y="2768760"/>
              <a:ext cx="361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xample Drawing a Bézier Curv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7600" y="2997360"/>
              <a:ext cx="417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Using Four Control Points: bezcurve.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39760" y="35067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8680" y="373536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include &lt;GL/glut.h&gt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3280" y="3963960"/>
              <a:ext cx="26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include &lt;stdlib.h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9280" y="4649760"/>
              <a:ext cx="384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ctrlpoints[4][3] =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-22680" y="4878360"/>
              <a:ext cx="5487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 -4.0, -4.0, 0.0}, { -2.0, 4.0, 0.0},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2.0, -4.0, 0.0}, {4.0, 4.0, 0.0}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39760" y="5106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39760" y="5337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23" descr="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2762280" cy="2790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447920" y="1828800"/>
                  <a:ext cx="213336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</m:d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i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i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105520" y="1828800"/>
                  <a:ext cx="167616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</m:sSubSup>
                        </m:e>
                      </m:nary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403848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7086600" y="1447920"/>
            <a:ext cx="16002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F31B-578F-4BD9-8F9A-388852C4D49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4960" y="760320"/>
            <a:ext cx="7922520" cy="4087800"/>
            <a:chOff x="174960" y="760320"/>
            <a:chExt cx="7922520" cy="4087800"/>
          </a:xfrm>
        </p:grpSpPr>
        <p:sp>
          <p:nvSpPr>
            <p:cNvPr id="209" name=""/>
            <p:cNvSpPr/>
            <p:nvPr/>
          </p:nvSpPr>
          <p:spPr>
            <a:xfrm>
              <a:off x="671760" y="7603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myinit(void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4960" y="988920"/>
              <a:ext cx="521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Color(0.0, 0.0, 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30320" y="1217520"/>
              <a:ext cx="603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glMap1f(GL_MAP1_VERTEX_3, 0.0, 1.0, 3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120" y="14461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4,&amp;ctrlpoints[0][0]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1520" y="167652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MAP1_VERTEX_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0760" y="1905120"/>
              <a:ext cx="37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ShadeModel(GL_FLA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94120" y="213372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47240" y="2590920"/>
              <a:ext cx="594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_MAP1_VERTEX_3: Three-dimensional vertices a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88200" y="28195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20240" y="3124080"/>
              <a:ext cx="303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--Low value of parameter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14120" y="3430440"/>
              <a:ext cx="308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--High value of parameter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29240" y="3735360"/>
              <a:ext cx="616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--The number of floating-point values to advance in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9960" y="3963960"/>
              <a:ext cx="479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 between one control point and the 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1960" y="4268880"/>
              <a:ext cx="539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--The order of the spline, which is the degree+1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22680" y="4573440"/>
              <a:ext cx="607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amp;ctrlpoints[0][0]--Pointer to the first control point’s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D315-74D6-4D8D-B991-BFCB42ABBE8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-386280" y="760320"/>
            <a:ext cx="9053280" cy="4621320"/>
            <a:chOff x="-386280" y="760320"/>
            <a:chExt cx="9053280" cy="4621320"/>
          </a:xfrm>
        </p:grpSpPr>
        <p:sp>
          <p:nvSpPr>
            <p:cNvPr id="228" name=""/>
            <p:cNvSpPr/>
            <p:nvPr/>
          </p:nvSpPr>
          <p:spPr>
            <a:xfrm>
              <a:off x="1107720" y="76032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display(void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9960" y="98892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i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4560" y="1446120"/>
              <a:ext cx="7818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(GL_COLOR_BUFFER_BIT | GL_DEPTH_BUFFER_BI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56960" y="190512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olor3f(1.0, 1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0160" y="2133720"/>
              <a:ext cx="384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Begin(GL_LINE_STRIP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36800" y="2362320"/>
              <a:ext cx="466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 = 0; i &lt;= 30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04200" y="259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7640" y="2590920"/>
              <a:ext cx="617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glEvalCoord1f((GLfloat) i/3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7400" y="281952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-386280" y="3200400"/>
              <a:ext cx="905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/* The following code displays the control points as dots. */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7040" y="350676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intSize(5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56960" y="373536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olor3f(1.0, 1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6800" y="396396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Begin(GL_POINTS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46880" y="419256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 = 0; i &lt; 4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4200" y="4421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400" y="4421160"/>
              <a:ext cx="603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glVertex3fv(&amp;ctrlpoints[i][0]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7400" y="464976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0080" y="4878360"/>
              <a:ext cx="205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ush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94120" y="510696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E9AA-CFF5-4126-9CDE-5562B7F81D0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760" y="533520"/>
            <a:ext cx="8862480" cy="5586480"/>
            <a:chOff x="14760" y="533520"/>
            <a:chExt cx="8862480" cy="5586480"/>
          </a:xfrm>
        </p:grpSpPr>
        <p:sp>
          <p:nvSpPr>
            <p:cNvPr id="252" name=""/>
            <p:cNvSpPr/>
            <p:nvPr/>
          </p:nvSpPr>
          <p:spPr>
            <a:xfrm>
              <a:off x="913680" y="533520"/>
              <a:ext cx="4437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wo-Dimensional Evaluato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32560" y="1116000"/>
              <a:ext cx="566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thematically, the definition of a Bézi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93480" y="1447920"/>
              <a:ext cx="320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rface patch is given 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67400" y="3200400"/>
              <a:ext cx="547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xample 11-2 Drawing a Bézier Surface: bezsurf.c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37960" y="3506760"/>
              <a:ext cx="30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float ctrlpoints[4][4][3] =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4480" y="3735360"/>
              <a:ext cx="714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{-1.5, -1.5, 4.0}, {-0.5, -1.5, 2.0}, {0.5, -1.5, -1.0}, {1.5, -1.5,2.0}}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94480" y="3963960"/>
              <a:ext cx="714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{-1.5, -0.5, 1.0}, {-0.5, -0.5, 3.0}, {0.5, -0.5, 0.0}, {1.5, -0.5,-1.0}}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94480" y="4192560"/>
              <a:ext cx="676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{-1.5, 0.5, 4.0}, {-0.5, 0.5, 0.0},{0.5, 0.5, 3.0}, {1.5, 0.5, 4.0}},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01680" y="4421160"/>
              <a:ext cx="696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{-1.5, 1.5, -2.0}, {-0.5, 1.5, -2.0}, {0.5, 1.5, 0.0}, {1.5, 1.5, -1.0}} };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5040" y="492912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myinit(vo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04200" y="51577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4960" y="5388120"/>
              <a:ext cx="521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Color (0.0, 0.0, 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01160" y="5616720"/>
              <a:ext cx="562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p2f(GL_MAP2_VERTEX_3, 0, 1, 3, 4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760" y="5845320"/>
              <a:ext cx="576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, 1, 12, 4, &amp;ctrlpoints[0][0][0]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24" descr=""/>
            <p:cNvPicPr/>
            <p:nvPr/>
          </p:nvPicPr>
          <p:blipFill>
            <a:blip r:embed="rId1"/>
            <a:stretch/>
          </p:blipFill>
          <p:spPr>
            <a:xfrm>
              <a:off x="6629400" y="1447920"/>
              <a:ext cx="2247840" cy="1914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1752480" y="1981080"/>
                  <a:ext cx="403884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  <m:sSubSup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</m:sSubSup>
                            </m:e>
                          </m:nary>
                        </m:e>
                      </m:nary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4AC4-F267-4765-8EF6-4E251DA2F24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880" y="760320"/>
            <a:ext cx="8194320" cy="5460840"/>
            <a:chOff x="38880" y="760320"/>
            <a:chExt cx="8194320" cy="5460840"/>
          </a:xfrm>
        </p:grpSpPr>
        <p:sp>
          <p:nvSpPr>
            <p:cNvPr id="272" name=""/>
            <p:cNvSpPr/>
            <p:nvPr/>
          </p:nvSpPr>
          <p:spPr>
            <a:xfrm>
              <a:off x="861480" y="760320"/>
              <a:ext cx="425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MAP2_VERTEX_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4920" y="988920"/>
              <a:ext cx="384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DEPTH_TES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0720" y="1217520"/>
              <a:ext cx="356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ShadeModel(GL_FLA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04200" y="1446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07720" y="190512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display(void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9440" y="213372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i, j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8880" y="2514600"/>
              <a:ext cx="8194320" cy="3706560"/>
              <a:chOff x="38880" y="2514600"/>
              <a:chExt cx="8194320" cy="3706560"/>
            </a:xfrm>
          </p:grpSpPr>
          <p:sp>
            <p:nvSpPr>
              <p:cNvPr id="279" name=""/>
              <p:cNvSpPr/>
              <p:nvPr/>
            </p:nvSpPr>
            <p:spPr>
              <a:xfrm>
                <a:off x="1450800" y="2514600"/>
                <a:ext cx="6782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lClear(GL_COLOR_BUFFER_BIT | GL_DEPTH_BUFFER_BIT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8840" y="2743200"/>
                <a:ext cx="4115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Color3f(1.0, 1.0, 1.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1280" y="2971800"/>
                <a:ext cx="2743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PushMatrix (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2120" y="3200400"/>
                <a:ext cx="4801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Rotatef(85.0, 1.0, 1.0, 1.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6160" y="3429000"/>
                <a:ext cx="4115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or (j = 0; j &lt;= 8; j++) {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23160" y="3659040"/>
                <a:ext cx="4252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Begin(GL_LINE_STRIP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880" y="3887640"/>
                <a:ext cx="507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or (i = 0; i &lt;= 30; i++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36160" y="4065480"/>
                <a:ext cx="5856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lEvalCoord2f((GLfloat)i/30.0, (GLfloat)j/8.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80400" y="4344840"/>
                <a:ext cx="2195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End(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3160" y="4573440"/>
                <a:ext cx="4252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Begin(GL_LINE_STRIP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880" y="4802040"/>
                <a:ext cx="507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or (i = 0; i &lt;= 30; i++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36160" y="4979880"/>
                <a:ext cx="5856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lEvalCoord2f((GLfloat)j/8.0, (GLfloat)i/30.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0400" y="5259240"/>
                <a:ext cx="2195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End(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59400" y="548928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9800" y="5717880"/>
                <a:ext cx="4115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PopMatrix (); glFlush(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79280" y="594648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}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6477120" y="990720"/>
            <a:ext cx="18288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B68E-EF87-4074-8771-53FBD49D9CC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-184320" y="709560"/>
            <a:ext cx="7642800" cy="5359320"/>
            <a:chOff x="-184320" y="709560"/>
            <a:chExt cx="7642800" cy="5359320"/>
          </a:xfrm>
        </p:grpSpPr>
        <p:sp>
          <p:nvSpPr>
            <p:cNvPr id="300" name=""/>
            <p:cNvSpPr/>
            <p:nvPr/>
          </p:nvSpPr>
          <p:spPr>
            <a:xfrm>
              <a:off x="3342960" y="533700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SHININESS, mat_shininess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-184320" y="709560"/>
              <a:ext cx="7232760" cy="5359320"/>
              <a:chOff x="-184320" y="709560"/>
              <a:chExt cx="7232760" cy="5359320"/>
            </a:xfrm>
          </p:grpSpPr>
          <p:sp>
            <p:nvSpPr>
              <p:cNvPr id="302" name=""/>
              <p:cNvSpPr/>
              <p:nvPr/>
            </p:nvSpPr>
            <p:spPr>
              <a:xfrm>
                <a:off x="1138680" y="709560"/>
                <a:ext cx="4726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Example 11-3 Drawing a Lit, Shaded Bézier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39760" y="938160"/>
                <a:ext cx="3682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Surface Using a Mesh: bezmesh.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1840" y="1446120"/>
                <a:ext cx="3155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void initlights(void) {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-66240" y="1676520"/>
                <a:ext cx="6584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float ambient[] = { 0.2, 0.2, 0.2, 1.0 }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-184320" y="1981080"/>
                <a:ext cx="6858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float position[] = { 0.0, 0.0, 2.0, 1.0 };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-122760" y="2590920"/>
                <a:ext cx="699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float mat_diffuse[] = {0.6, 0.6, 0.6, 1.0 }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-68760" y="2819520"/>
                <a:ext cx="699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float mat_specular[] = {1.0,1.0, 1.0, 1.0 }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5000" y="3048120"/>
                <a:ext cx="5487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float mat_shininess[] = { 50.0 }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9520" y="3276720"/>
                <a:ext cx="3841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Enable(GL_LIGHTING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7880" y="3506760"/>
                <a:ext cx="342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Enable(GL_LIGHT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60880" y="3735360"/>
                <a:ext cx="6447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Lightfv(GL_LIGHT0,GL_AMBIENT, ambient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4040" y="3963960"/>
                <a:ext cx="6584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Lightfv(GL_LIGHT0,GL_POSITION, position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4280" y="4192560"/>
                <a:ext cx="507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Materialfv(GL_FRONT_AND_BACK,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368520" y="4421160"/>
                <a:ext cx="342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_DIFFUSE, mat_diffuse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64280" y="4649760"/>
                <a:ext cx="507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Materialfv(GL_FRONT_AND_BACK,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5800" y="4878360"/>
                <a:ext cx="3704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_SPECULAR, mat_specular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04240" y="5106960"/>
                <a:ext cx="4938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lMaterialfv(GL_FRONT_AND_BACK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199160" y="5794200"/>
                <a:ext cx="275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}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C0C6-93B0-4353-A487-857E7E70E49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5867280"/>
            <a:ext cx="17528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355320" y="760320"/>
            <a:ext cx="10699200" cy="4621320"/>
            <a:chOff x="-355320" y="760320"/>
            <a:chExt cx="10699200" cy="4621320"/>
          </a:xfrm>
        </p:grpSpPr>
        <p:sp>
          <p:nvSpPr>
            <p:cNvPr id="326" name=""/>
            <p:cNvSpPr/>
            <p:nvPr/>
          </p:nvSpPr>
          <p:spPr>
            <a:xfrm>
              <a:off x="1107720" y="76032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display(void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7800" y="1066680"/>
              <a:ext cx="7818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(GL_COLOR_BUFFER_BIT | GL_DEPTH_BUFFER_BIT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8040" y="144612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720" y="167652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Rotatef(85.0, 1.0, 1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96120" y="1905120"/>
              <a:ext cx="576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valMesh2(GL_FILL, 0, 8, 0, 8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6040" y="2133720"/>
              <a:ext cx="26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0080" y="2362320"/>
              <a:ext cx="205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ush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99160" y="259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1760" y="30481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myinit(void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5000" y="3276720"/>
              <a:ext cx="534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Color (0.0, 0.0, 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4960" y="350676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DEPTH_TES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-355320" y="3809880"/>
              <a:ext cx="1069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p2f(GL_MAP2_VERTEX_3, 0, 1, 3, 4,0, 1, 12, 4, &amp;ctrlpoints[0][0][0]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1520" y="419256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MAP2_VERTEX_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01440" y="442116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AUTO_NORMA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91080" y="4649760"/>
              <a:ext cx="589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pGrid2f(8, 0.0, 1.0, 8, 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000" y="487836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itlights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99160" y="5106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230C-60F6-4223-997C-796C84264FC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73680" y="533520"/>
            <a:ext cx="7568640" cy="5535360"/>
            <a:chOff x="373680" y="533520"/>
            <a:chExt cx="7568640" cy="5535360"/>
          </a:xfrm>
        </p:grpSpPr>
        <p:sp>
          <p:nvSpPr>
            <p:cNvPr id="347" name=""/>
            <p:cNvSpPr/>
            <p:nvPr/>
          </p:nvSpPr>
          <p:spPr>
            <a:xfrm>
              <a:off x="842040" y="533520"/>
              <a:ext cx="4208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he GLU NURBS Interfa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1920" y="1116000"/>
              <a:ext cx="597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GLU provides a NURBS (Non-Unifor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21240" y="1420920"/>
              <a:ext cx="612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tional B-Spline) interface built on top of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63720" y="1727280"/>
              <a:ext cx="402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enGL evaluator comman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680" y="3886200"/>
              <a:ext cx="644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Courier New"/>
                </a:rPr>
                <a:t>Example 11-5 Drawing a NURBS Surface: surface.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0880" y="5565600"/>
              <a:ext cx="37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ctlpoints[4][4][3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19800" y="5794200"/>
              <a:ext cx="301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nurbsObj *theNurb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3000" y="4495680"/>
              <a:ext cx="28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clude &lt;GL/glu.h&gt;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#include &lt;stdlib.h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#include &lt;stdio.h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590920" y="2743200"/>
            <a:ext cx="16761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9FB9-099C-417D-B74C-7914648C0C9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4320" y="2209680"/>
            <a:ext cx="16761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-122760" y="760320"/>
            <a:ext cx="7318440" cy="5079960"/>
            <a:chOff x="-122760" y="760320"/>
            <a:chExt cx="7318440" cy="5079960"/>
          </a:xfrm>
        </p:grpSpPr>
        <p:sp>
          <p:nvSpPr>
            <p:cNvPr id="361" name=""/>
            <p:cNvSpPr/>
            <p:nvPr/>
          </p:nvSpPr>
          <p:spPr>
            <a:xfrm>
              <a:off x="663840" y="760320"/>
              <a:ext cx="3155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init_surface(vo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04200" y="988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0160" y="121752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u, v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62000" y="144612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u = 0; u &lt; 4; u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41840" y="167652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v = 0; v &lt; 4; v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862920" y="1905120"/>
              <a:ext cx="6310080" cy="503280"/>
              <a:chOff x="862920" y="1905120"/>
              <a:chExt cx="6310080" cy="503280"/>
            </a:xfrm>
          </p:grpSpPr>
          <p:sp>
            <p:nvSpPr>
              <p:cNvPr id="367" name=""/>
              <p:cNvSpPr/>
              <p:nvPr/>
            </p:nvSpPr>
            <p:spPr>
              <a:xfrm>
                <a:off x="909360" y="1905120"/>
                <a:ext cx="6172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tlpoints[u][v][0] = 2.0*((GLfloat)u - 1.5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62920" y="2133720"/>
                <a:ext cx="6310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tlpoints[u][v][1] = 2.0*((GLfloat)v - 1.5);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48440" y="2362320"/>
              <a:ext cx="644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f ( (u == 1 || u == 2) &amp;&amp; (v == 1 || v == 2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2680" y="2590920"/>
              <a:ext cx="507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tlpoints[u][v][2] = 3.0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68320" y="28195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6120" y="3048120"/>
              <a:ext cx="521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tlpoints[u][v][2] = -3.0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0440" y="327672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1076760" y="3506760"/>
              <a:ext cx="823680" cy="503280"/>
              <a:chOff x="1076760" y="3506760"/>
              <a:chExt cx="823680" cy="503280"/>
            </a:xfrm>
          </p:grpSpPr>
          <p:sp>
            <p:nvSpPr>
              <p:cNvPr id="375" name=""/>
              <p:cNvSpPr/>
              <p:nvPr/>
            </p:nvSpPr>
            <p:spPr>
              <a:xfrm>
                <a:off x="1076760" y="350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76920" y="37353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75080" y="442116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myinit(vo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04200" y="464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-122760" y="4878360"/>
              <a:ext cx="699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mat_diffuse[] = { 0.7, 0.7, 0.7, 1.0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20" y="5106960"/>
              <a:ext cx="699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mat_specular[] = { 1.0, 1.0, 1.0, 1.0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3840" y="5337000"/>
              <a:ext cx="562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mat_shininess[] = { 100.0 }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4960" y="5565600"/>
              <a:ext cx="521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Color (0.0, 0.0, 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380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1760" y="1093680"/>
            <a:ext cx="288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OLYGON ME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3280" y="1779480"/>
            <a:ext cx="624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of vertices - polygon; list of edges -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36880" y="2211480"/>
            <a:ext cx="340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of polygons --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35440" y="2643120"/>
            <a:ext cx="432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 equation from 3 vert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71720" y="312588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 + By +Cz + D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4960" y="3406680"/>
            <a:ext cx="4613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: (A,B,C) = k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896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308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0388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1800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0380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424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38680" y="3902040"/>
            <a:ext cx="650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, B, and C are proportional to the signed ar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1960" y="4206960"/>
            <a:ext cx="620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projections of the polygon onto the (y, z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1600" y="4511520"/>
            <a:ext cx="633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, z), and (x, y) planes. If the polygon is paral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4120" y="4816440"/>
            <a:ext cx="4447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(x, y) plane, then A = B = 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F2BD-888F-4554-89EC-BCE6DF854D9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2514600"/>
            <a:ext cx="16765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91320" y="760320"/>
            <a:ext cx="8416440" cy="4543560"/>
            <a:chOff x="391320" y="760320"/>
            <a:chExt cx="8416440" cy="4543560"/>
          </a:xfrm>
        </p:grpSpPr>
        <p:sp>
          <p:nvSpPr>
            <p:cNvPr id="388" name=""/>
            <p:cNvSpPr/>
            <p:nvPr/>
          </p:nvSpPr>
          <p:spPr>
            <a:xfrm>
              <a:off x="397080" y="760320"/>
              <a:ext cx="727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terialfv(GL_FRONT, GL_DIFFUSE, mat_diffuse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9760" y="1217520"/>
              <a:ext cx="740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terialfv(GL_FRONT, GL_SPECULAR, mat_specular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1320" y="1676520"/>
              <a:ext cx="768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Materialfv(GL_FRONT,GL_SHININESS, mat_shininess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800" y="2362320"/>
              <a:ext cx="356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LIGHTING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8200" y="259092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LIGHT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56440" y="2819520"/>
              <a:ext cx="37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DepthFunc(GL_LEQUA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4920" y="3048120"/>
              <a:ext cx="384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DEPTH_TES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41400" y="327672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AUTO_NORMA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88120" y="3506760"/>
              <a:ext cx="37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able(GL_NORMALIZ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3000" y="373536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it_surface(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0960" y="4192560"/>
              <a:ext cx="493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Nurb = gluNewNurbsRenderer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7440" y="4421160"/>
              <a:ext cx="82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NurbsProperty(theNurb, GLU_SAMPLING_TOLERANCE, 25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3720" y="4724280"/>
              <a:ext cx="795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NurbsProperty(theNurb, GLU_DISPLAY_MODE, GLU_FIL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16360" y="5029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2960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5F20-1DB1-4F75-9791-041FED2615D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2819520"/>
            <a:ext cx="16765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-605520" y="760320"/>
            <a:ext cx="9082080" cy="5308560"/>
            <a:chOff x="-605520" y="760320"/>
            <a:chExt cx="9082080" cy="5308560"/>
          </a:xfrm>
        </p:grpSpPr>
        <p:sp>
          <p:nvSpPr>
            <p:cNvPr id="406" name=""/>
            <p:cNvSpPr/>
            <p:nvPr/>
          </p:nvSpPr>
          <p:spPr>
            <a:xfrm>
              <a:off x="1117800" y="76032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display(vo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04200" y="988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605520" y="1217520"/>
              <a:ext cx="905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oat knots[8] = {0.0, 0.0, 0.0, 0.0, 1.0, 1.0, 1.0, 1.0};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4880" y="1905120"/>
              <a:ext cx="768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lear(GL_COLOR_BUFFER_BIT | GL_DEPTH_BUFFER_BIT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8360" y="2362320"/>
              <a:ext cx="260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1640" y="2590920"/>
              <a:ext cx="480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Rotatef(330.0, 1.,0.,0.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1760" y="2819520"/>
              <a:ext cx="466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Scalef (0.5, 0.5, 0.5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8480" y="304812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BeginSurface(theNurb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4960" y="327672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NurbsSurface(theNurb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02680" y="350676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, knot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02680" y="373536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, knot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17800" y="396396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* 3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38320" y="419256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0800" y="442116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amp;ctlpoints[0][0][0]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22840" y="464976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, 4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56960" y="487836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MAP2_VERTEX_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9360" y="510696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uEndSurface(theNurb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6000" y="533700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0040" y="556560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Flush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04200" y="5794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86104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0180"/>
                </a:moveTo>
                <a:lnTo>
                  <a:pt x="7301" y="10180"/>
                </a:lnTo>
                <a:lnTo>
                  <a:pt x="7301" y="15515"/>
                </a:lnTo>
                <a:cubicBezTo>
                  <a:pt x="7301" y="16438"/>
                  <a:pt x="8102" y="17169"/>
                  <a:pt x="9138" y="17169"/>
                </a:cubicBezTo>
                <a:lnTo>
                  <a:pt x="10800" y="17169"/>
                </a:lnTo>
                <a:cubicBezTo>
                  <a:pt x="11836" y="17169"/>
                  <a:pt x="12636" y="16438"/>
                  <a:pt x="12636" y="15515"/>
                </a:cubicBezTo>
                <a:lnTo>
                  <a:pt x="12636" y="10180"/>
                </a:lnTo>
                <a:lnTo>
                  <a:pt x="10800" y="10180"/>
                </a:lnTo>
                <a:lnTo>
                  <a:pt x="14308" y="6672"/>
                </a:lnTo>
                <a:lnTo>
                  <a:pt x="17981" y="10180"/>
                </a:lnTo>
                <a:lnTo>
                  <a:pt x="16144" y="10180"/>
                </a:lnTo>
                <a:lnTo>
                  <a:pt x="16144" y="15515"/>
                </a:lnTo>
                <a:cubicBezTo>
                  <a:pt x="16144" y="18283"/>
                  <a:pt x="13568" y="20842"/>
                  <a:pt x="10800" y="20842"/>
                </a:cubicBezTo>
                <a:lnTo>
                  <a:pt x="9138" y="20842"/>
                </a:lnTo>
                <a:cubicBezTo>
                  <a:pt x="6370" y="20842"/>
                  <a:pt x="3794" y="18283"/>
                  <a:pt x="3794" y="1551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0598-4580-405A-8BD1-34416196758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986760" y="533520"/>
            <a:ext cx="7531560" cy="5395680"/>
            <a:chOff x="986760" y="533520"/>
            <a:chExt cx="7531560" cy="5395680"/>
          </a:xfrm>
        </p:grpSpPr>
        <p:sp>
          <p:nvSpPr>
            <p:cNvPr id="67" name=""/>
            <p:cNvSpPr/>
            <p:nvPr/>
          </p:nvSpPr>
          <p:spPr>
            <a:xfrm>
              <a:off x="4570200" y="609480"/>
              <a:ext cx="264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 the operat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49600" y="1219320"/>
              <a:ext cx="4789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normal addition except that .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4120" y="1676520"/>
              <a:ext cx="6694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area for A and B are given by similar formula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86760" y="4800600"/>
              <a:ext cx="522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distance d for a vertex at (x,y,z)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16" descr=""/>
            <p:cNvPicPr/>
            <p:nvPr/>
          </p:nvPicPr>
          <p:blipFill>
            <a:blip r:embed="rId1"/>
            <a:stretch/>
          </p:blipFill>
          <p:spPr>
            <a:xfrm>
              <a:off x="2057400" y="2286000"/>
              <a:ext cx="5362560" cy="2467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752480" y="533520"/>
                  <a:ext cx="266724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⊕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⊕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238880" y="762120"/>
                  <a:ext cx="1638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⊕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6629400" y="1295280"/>
                  <a:ext cx="91440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⊕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209680" y="5181480"/>
                  <a:ext cx="236232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By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Cz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F712-3E75-49D7-B7F4-3708F61F54B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4560" y="735120"/>
            <a:ext cx="6908760" cy="538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8244-A580-4431-A3F1-E374C1E942A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80880"/>
            <a:ext cx="6908760" cy="5389560"/>
            <a:chOff x="762120" y="380880"/>
            <a:chExt cx="6908760" cy="53895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62120" y="380880"/>
              <a:ext cx="6908760" cy="53895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676520" y="4495680"/>
                  <a:ext cx="213336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k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</m:d>
                            </m:sup>
                          </m:sSup>
                        </m:e>
                      </m:nary>
                      <m:r>
                        <m:t xml:space="preserve">=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B6B1-A946-49FE-B3F2-E821B3A3B04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5480" y="380880"/>
            <a:ext cx="7318800" cy="5763600"/>
            <a:chOff x="465480" y="380880"/>
            <a:chExt cx="7318800" cy="5763600"/>
          </a:xfrm>
        </p:grpSpPr>
        <p:sp>
          <p:nvSpPr>
            <p:cNvPr id="90" name=""/>
            <p:cNvSpPr/>
            <p:nvPr/>
          </p:nvSpPr>
          <p:spPr>
            <a:xfrm>
              <a:off x="465480" y="380880"/>
              <a:ext cx="6278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7 PARAMETRIC BICUBIC SURFA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37960" y="1141560"/>
              <a:ext cx="6155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ral form of cubic curve: Q(u) = U ·M ·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 G, the geometry vector, is a consta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37600" y="1879560"/>
              <a:ext cx="6072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we allow G to vary in 3D along some path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69080" y="3886200"/>
              <a:ext cx="6415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n, a functional description is often tesselat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produce a polygon-mesh approximation to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rface (trianglular polygon patch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17520" y="5029200"/>
              <a:ext cx="178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a fixed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1800" y="5156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84840" y="5029200"/>
              <a:ext cx="86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Q(s,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49560" y="5156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73760" y="5029200"/>
              <a:ext cx="3027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is a curve because G(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99200" y="5156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12600" y="5029200"/>
              <a:ext cx="45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367280" y="5410080"/>
              <a:ext cx="6095160" cy="734400"/>
              <a:chOff x="1367280" y="5410080"/>
              <a:chExt cx="6095160" cy="73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370520" y="5410080"/>
                <a:ext cx="178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stant. If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49280" y="55371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22000" y="5410080"/>
                <a:ext cx="4240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t) are cubics, the surface is sai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67280" y="5778360"/>
                <a:ext cx="4450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be a parametric bicubic surf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2209680" y="2438280"/>
                  <a:ext cx="3521160" cy="14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0AEE-90D7-4A04-908E-CFBCE787559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57200" y="457200"/>
            <a:ext cx="7772400" cy="5184720"/>
            <a:chOff x="457200" y="457200"/>
            <a:chExt cx="7772400" cy="5184720"/>
          </a:xfrm>
        </p:grpSpPr>
        <p:sp>
          <p:nvSpPr>
            <p:cNvPr id="111" name=""/>
            <p:cNvSpPr/>
            <p:nvPr/>
          </p:nvSpPr>
          <p:spPr>
            <a:xfrm>
              <a:off x="457200" y="457200"/>
              <a:ext cx="44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ermite Surfa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1676520" y="1219320"/>
                  <a:ext cx="289548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  <m:e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u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5715000" y="1295280"/>
                  <a:ext cx="251460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790640" y="2971800"/>
                  <a:ext cx="222876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4419720" y="2743200"/>
                  <a:ext cx="2324160" cy="179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x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609480" y="16765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v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1752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520" y="34290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rfa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600200" y="5181480"/>
                  <a:ext cx="50292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⋅</m:t>
                      </m:r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x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60948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n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5800" y="5943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B139-F1F9-42D9-ABCF-DA853A2556B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90720" y="609480"/>
            <a:ext cx="6172200" cy="5702400"/>
            <a:chOff x="990720" y="609480"/>
            <a:chExt cx="6172200" cy="570240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1295280" y="609480"/>
                  <a:ext cx="5267520" cy="179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x</m:t>
                          </m:r>
                        </m:sub>
                      </m:sSub>
                      <m:r>
                        <m:t xml:space="preserve">⋅</m:t>
                      </m:r>
                      <m:sSubSup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⋅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295280" y="3124080"/>
                  <a:ext cx="4267440" cy="19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x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0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,1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990720" y="2514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43000" y="5486400"/>
              <a:ext cx="601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 x coordinates, coordinates of the tangent vectors and twists are spec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93B4-1ADB-4ED5-9C75-EFC68205A0C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90720" y="709560"/>
            <a:ext cx="7201440" cy="4738320"/>
            <a:chOff x="990720" y="709560"/>
            <a:chExt cx="7201440" cy="4738320"/>
          </a:xfrm>
        </p:grpSpPr>
        <p:sp>
          <p:nvSpPr>
            <p:cNvPr id="134" name=""/>
            <p:cNvSpPr/>
            <p:nvPr/>
          </p:nvSpPr>
          <p:spPr>
            <a:xfrm>
              <a:off x="1132560" y="709560"/>
              <a:ext cx="610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st as the Hermite cubic curves, the Hermi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3760" y="1103400"/>
              <a:ext cx="232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icubic permit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0760" y="10270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18560" y="1103400"/>
              <a:ext cx="88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94080" y="10270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17920" y="1103400"/>
              <a:ext cx="273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 from 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85680" y="1407960"/>
              <a:ext cx="217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tch to the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91960" y="1917720"/>
              <a:ext cx="1762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st, to have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46240" y="18414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69360" y="1917720"/>
              <a:ext cx="425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, the matching curv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9120" y="2222640"/>
              <a:ext cx="565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f the two patches must be identical, whi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64080" y="2527200"/>
              <a:ext cx="591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ans the control points for the two surfac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84240" y="2832120"/>
              <a:ext cx="4162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ust be identical along the ed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88720" y="3340080"/>
              <a:ext cx="133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have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01640" y="3276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22240" y="3340080"/>
              <a:ext cx="470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, the control points alo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74160" y="3646440"/>
              <a:ext cx="554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edge and the tangent and twist vecto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89640" y="3951360"/>
              <a:ext cx="328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ross the edge be equal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85840" y="447192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have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14240" y="4395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39880" y="4471920"/>
              <a:ext cx="436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, the tangent and twi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84960" y="4776840"/>
              <a:ext cx="630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ctors across the edge be in the same direction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57240" y="5081760"/>
              <a:ext cx="595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 do not need to have the same magnitude.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66680" y="838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2057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48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0T18:19:22Z</dcterms:created>
  <dc:creator>Jim X. CHEN</dc:creator>
  <dc:description/>
  <dc:language>en-US</dc:language>
  <cp:lastModifiedBy>jchen</cp:lastModifiedBy>
  <dcterms:modified xsi:type="dcterms:W3CDTF">2002-03-18T22:03:32Z</dcterms:modified>
  <cp:revision>57</cp:revision>
  <dc:subject/>
  <dc:title>No Slide Title</dc:title>
</cp:coreProperties>
</file>