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SHREG.WAV" ContentType="audio/x-wav"/>
  <Override PartName="/ppt/media/CAMERA.WAV" ContentType="audio/x-wav"/>
  <Override PartName="/ppt/media/CHIMES.WAV" ContentType="audio/x-wav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B37-85C6-4ABC-907F-A6F532E4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08A-C4BB-48EC-9938-7DCAA117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BE4-05EC-4B6F-B596-E3B95AAC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B5B-5FB9-4272-A47D-B06B1719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A12-0175-4B46-94C4-3EB8E6B9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D35-8C53-4418-B989-202ACC7C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4A7-5D52-4D3B-A6DA-77A54E90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2925-A506-49C8-9B3F-C9699E18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28A-C643-4012-BD63-FDDC1707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039-AB36-4A44-847D-AC558C48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46D-5762-4902-A447-53F9BCF8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AEC-2210-45F5-84A0-ED05A5A2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A398-1EB0-490E-9A74-85783390E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3.10.lights.exe/" TargetMode="External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"/>
          <p:cNvGrpSpPr/>
          <p:nvPr/>
        </p:nvGrpSpPr>
        <p:grpSpPr>
          <a:xfrm>
            <a:off x="8381880" y="5867280"/>
            <a:ext cx="533520" cy="762120"/>
            <a:chOff x="8381880" y="5867280"/>
            <a:chExt cx="533520" cy="762120"/>
          </a:xfrm>
        </p:grpSpPr>
        <p:sp>
          <p:nvSpPr>
            <p:cNvPr id="42" name="AutoShape 4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533520" cy="38088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30248" h="21600">
                  <a:moveTo>
                    <a:pt x="0" y="0"/>
                  </a:moveTo>
                  <a:lnTo>
                    <a:pt x="30248" y="0"/>
                  </a:lnTo>
                  <a:lnTo>
                    <a:pt x="30248" y="21600"/>
                  </a:lnTo>
                  <a:lnTo>
                    <a:pt x="0" y="21600"/>
                  </a:lnTo>
                  <a:close/>
                </a:path>
                <a:path fill="lightenLess" w="30248" h="21600">
                  <a:moveTo>
                    <a:pt x="0" y="0"/>
                  </a:moveTo>
                  <a:lnTo>
                    <a:pt x="30248" y="0"/>
                  </a:lnTo>
                  <a:lnTo>
                    <a:pt x="28848" y="1400"/>
                  </a:lnTo>
                  <a:lnTo>
                    <a:pt x="1400" y="1400"/>
                  </a:lnTo>
                  <a:close/>
                </a:path>
                <a:path fill="darken" w="30248" h="21600">
                  <a:moveTo>
                    <a:pt x="30248" y="0"/>
                  </a:moveTo>
                  <a:lnTo>
                    <a:pt x="30248" y="21600"/>
                  </a:lnTo>
                  <a:lnTo>
                    <a:pt x="28848" y="20200"/>
                  </a:lnTo>
                  <a:lnTo>
                    <a:pt x="28848" y="1400"/>
                  </a:lnTo>
                  <a:close/>
                </a:path>
                <a:path fill="darkenLess" w="30248" h="21600">
                  <a:moveTo>
                    <a:pt x="30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8" y="20200"/>
                  </a:lnTo>
                  <a:close/>
                </a:path>
                <a:path fill="lighten" w="30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8" h="21600">
                  <a:moveTo>
                    <a:pt x="8118" y="3794"/>
                  </a:moveTo>
                  <a:lnTo>
                    <a:pt x="22131" y="10800"/>
                  </a:lnTo>
                  <a:lnTo>
                    <a:pt x="8118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Text Box 5"/>
            <p:cNvSpPr/>
            <p:nvPr/>
          </p:nvSpPr>
          <p:spPr>
            <a:xfrm>
              <a:off x="845820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EB75346-F751-4564-80A8-23144968B728}" type="slidenum"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AutoShape 6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73"/>
          <p:cNvSpPr txBox="1"/>
          <p:nvPr/>
        </p:nvSpPr>
        <p:spPr>
          <a:xfrm>
            <a:off x="1066680" y="1523880"/>
            <a:ext cx="6629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HADING MODELS FOR POLYGON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Text Box 75">
            <a:hlinkClick r:id="rId1"/>
          </p:cNvPr>
          <p:cNvSpPr/>
          <p:nvPr/>
        </p:nvSpPr>
        <p:spPr>
          <a:xfrm>
            <a:off x="3886200" y="3886200"/>
            <a:ext cx="144792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612000" y="380880"/>
            <a:ext cx="2353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RAY TR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8">
            <a:hlinkClick r:id="" action="ppaction://hlinkshowjump?jump=nextslide"/>
          </p:cNvPr>
          <p:cNvSpPr/>
          <p:nvPr/>
        </p:nvSpPr>
        <p:spPr>
          <a:xfrm>
            <a:off x="83818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845820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31E6-D5E4-4EAF-AD9D-A17CA167329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0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62120" y="1143000"/>
            <a:ext cx="731520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y trac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global lighting and rendering model that achieve better re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ay is sent from the view point through a pixel on the projection plane to the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2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746784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>
            <a:hlinkClick r:id="" action="ppaction://hlinkshowjump?jump=nextslide"/>
          </p:cNvPr>
          <p:cNvSpPr/>
          <p:nvPr/>
        </p:nvSpPr>
        <p:spPr>
          <a:xfrm>
            <a:off x="83818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45820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6ADD-51CF-4ABB-B0AA-20C5C0989C86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5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914400" y="609480"/>
            <a:ext cx="731520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s the ray’s recursive intersections that include reflective bounces and refractive trans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ing is calculated at each point of inters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nal pixel color is an accumulation of all fractions of intensity values from the bottom u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s (named feeler rays or shadow rays) are fired from the point under consideration to the ligh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flection and transmission components at the point are calculated by recursive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073240" y="44956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163240" y="46274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2701800" y="44956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792160" y="46274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2927520" y="460548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733920" y="44956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3825360" y="460548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4138560" y="44956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4249800" y="4605480"/>
            <a:ext cx="39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o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4699080" y="44956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4789080" y="46274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4923000" y="460548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309120" y="4871880"/>
            <a:ext cx="41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3419280" y="487188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3308400" y="4229280"/>
            <a:ext cx="39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3442680" y="4229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3355560" y="4429080"/>
            <a:ext cx="275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5"/>
          <p:cNvSpPr/>
          <p:nvPr/>
        </p:nvSpPr>
        <p:spPr>
          <a:xfrm>
            <a:off x="5394240" y="44956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5506560" y="46274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7"/>
          <p:cNvSpPr/>
          <p:nvPr/>
        </p:nvSpPr>
        <p:spPr>
          <a:xfrm>
            <a:off x="5619960" y="46054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978520" y="4495680"/>
            <a:ext cx="89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6067080" y="46274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6202440" y="460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3082680" y="449568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2"/>
          <p:cNvSpPr/>
          <p:nvPr/>
        </p:nvSpPr>
        <p:spPr>
          <a:xfrm>
            <a:off x="5168880" y="4495680"/>
            <a:ext cx="771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+       +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3"/>
          <p:cNvSpPr/>
          <p:nvPr/>
        </p:nvSpPr>
        <p:spPr>
          <a:xfrm>
            <a:off x="2409480" y="449568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4"/>
          <p:cNvSpPr/>
          <p:nvPr/>
        </p:nvSpPr>
        <p:spPr>
          <a:xfrm>
            <a:off x="1219320" y="5181480"/>
            <a:ext cx="670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ounts for the reflected light component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ounts for the transmitted light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83818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45820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112B-56AA-4A03-9933-34D12784BD9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66680" y="1235160"/>
            <a:ext cx="7162920" cy="19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pecular component calculated recursively by the above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the “view point” is the starting point of the reflected ra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611080" y="3254400"/>
            <a:ext cx="115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750760" y="3454560"/>
            <a:ext cx="14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2890080" y="34257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3504960" y="3254400"/>
            <a:ext cx="30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3812760" y="3454560"/>
            <a:ext cx="14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3979440" y="342576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4092120" y="3254400"/>
            <a:ext cx="115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4203360" y="3454560"/>
            <a:ext cx="14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3141360" y="3254400"/>
            <a:ext cx="194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066680" y="4359240"/>
            <a:ext cx="7239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“view point” material’s specular proper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740880" y="4986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reflected ligh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845820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02FB-A75E-4EA5-8093-470DFF251BD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219320" y="2590920"/>
            <a:ext cx="716256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“view point” material’s transmission coeffici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cursion terminates when a user defined depth is achieved or when the reflected and transmitted rays don’t hit objec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ing the intersections of the ray with the objects and the normals is the major part of a ray tracing program, which may take hidden surface removal, refractive transparency, and shadows into its implementation consid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739800" y="4986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transmitted ligh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143000" y="1219320"/>
            <a:ext cx="632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mission compon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calculated similarl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2658960" y="1752480"/>
            <a:ext cx="16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2827440" y="2049480"/>
            <a:ext cx="20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078360" y="2008080"/>
            <a:ext cx="10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3957840" y="1752480"/>
            <a:ext cx="45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4416480" y="2049480"/>
            <a:ext cx="20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4668840" y="2008080"/>
            <a:ext cx="10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4794120" y="1752480"/>
            <a:ext cx="16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4960800" y="2049480"/>
            <a:ext cx="20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3412440" y="1752480"/>
            <a:ext cx="28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cursive Traytracing Exam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access a pixel in the view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533520" y="190512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void reshape(GLAutoDrawable glDrawable, int x, int y, int w, int h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l.glMatrixMode(GL.GL_PROJEC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l.glLoadIdentit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l.glOrtho(-WIDTH / 2, WIDTH / 2, -HEIGHT / 2, HEIGHT / 2, -4 * HEIGH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*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E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l.glViewport(0,0, WIDTH, HE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l.glDisable(GL.GL_LIGHTING); // calculate color by ray tr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l.glMatrixMode(GL.GL_MODELVIEW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l.glLoadIdentit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e objects and light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533520" y="190512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nitialize 'ns' number of sph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Times New Roman"/>
              </a:rPr>
              <a:t>for (int i = 0; i &lt; </a:t>
            </a:r>
            <a:r>
              <a:rPr b="1" i="1" lang="nn-NO" sz="1800" spc="-1" strike="noStrike">
                <a:solidFill>
                  <a:srgbClr val="000000"/>
                </a:solidFill>
                <a:latin typeface="Times New Roman"/>
              </a:rPr>
              <a:t>ns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here[i][0] = 10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DTH * Math.random() / 10; //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int j = 1; j &lt; 4; j++) { //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here[i][j] = 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DTH / 4 + WIDTH * Math.random() / 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nitialize 'nl' light source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Times New Roman"/>
              </a:rPr>
              <a:t>for (int i = 0; i &lt; </a:t>
            </a:r>
            <a:r>
              <a:rPr b="1" i="1" lang="nn-NO" sz="1800" spc="-1" strike="noStrike">
                <a:solidFill>
                  <a:srgbClr val="000000"/>
                </a:solidFill>
                <a:latin typeface="Times New Roman"/>
              </a:rPr>
              <a:t>nl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int j = 0; j &lt; 3; j++) { // light source po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Src[i][j] = -10 *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DTH + 20 * WIDTH * Math.rando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Firing the r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609480" y="1143000"/>
            <a:ext cx="8153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void display(GLAutoDrawable glDrawabl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starting viewpoint on positive z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ewpt[0] = 0;    viewpt[1] = 0;    viewpt[2] = 1.5*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E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race rays against the spheres and a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double y = 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EIGHT / 2; y &lt; HEIGHT / 2; y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double x = 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IDTH / 2; x &lt; WIDTH / 2; x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ray from viewpoint to a pixel on the sc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pt[0] = x;    raypt[1] = y;    raypt[2]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racing the ray (viewpt to raypt) for depth bou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yTracing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viewpt, raypt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pt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gl.glColor3dv(color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rawPoint(x,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}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Boun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533520" y="762120"/>
            <a:ext cx="815328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recursive rayTracing from vpt to rpt for depth bounces, finding final 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blic void rayTracing(double[] color, double[] vpt, double[] rpt, int depth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 (depth != 0) {// calculate co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sect(vpt, rpt, p, n, depth); // intersect at p with normal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view direction vector for lighting and ref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400" spc="-1" strike="noStrike">
                <a:solidFill>
                  <a:srgbClr val="000000"/>
                </a:solidFill>
                <a:latin typeface="Times New Roman"/>
              </a:rPr>
              <a:t>for (int i = 0; i &lt; 3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D[i] = vpt[i] - rpt[i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ng(color, p, vD, 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reflected 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lect(vD, n, r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400" spc="-1" strike="noStrike">
                <a:solidFill>
                  <a:srgbClr val="000000"/>
                </a:solidFill>
                <a:latin typeface="Times New Roman"/>
              </a:rPr>
              <a:t>for (int i = 0; i &lt; 3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point[i] = rD[i] + p[i]; // a point on the reflected ray starting from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point[i] = -vD[i] + p[i] - n[i]*0.2; // transmitted 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recursion to find a bounce at lower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yTracing(reflectClr, p, rpoint, depth - 1);    rayTracing(transmitClr, p, tpoint, depth -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400" spc="-1" strike="noStrike">
                <a:solidFill>
                  <a:srgbClr val="000000"/>
                </a:solidFill>
                <a:latin typeface="Times New Roman"/>
              </a:rPr>
              <a:t>for (int i = 0; i &lt; 3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or[i] = color[i] + 0.4*reflectClr[i] + 0.3*transmitClr[i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Calculate Interse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533520" y="762120"/>
            <a:ext cx="8153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ublic void intersect(double[] vpt, double[] rpt, double[] poi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uble[] norma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alculate intersection of ray with the closest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Ray eq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// x/y/z = vpt + t*(rpt - vp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Sphere eq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/ (x-cx)^2 + (y-cy)^2 + (z-cz)^2 = r^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We can solve quadratic formula for t and find the 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 has to be &gt; 0 to intersect with an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return point and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int[0] = vpt[0] + t * (rpt[0] - vpt[0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int[1] = vpt[1] + t * (rpt[1] - vpt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int[2] = vpt[2] + t * (rpt[2] - vpt[2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[0] = point[0] - sphere[i][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[1] = point[1] - sphere[i]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[2] = point[2] - sphere[i]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Calculate Ligh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533520" y="762120"/>
            <a:ext cx="8153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void phong(double[] color, double[] point, double[] vD, double[]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Times New Roman"/>
              </a:rPr>
              <a:t>for (int i = 0; i &lt; </a:t>
            </a:r>
            <a:r>
              <a:rPr b="1" i="1" lang="nn-NO" sz="1800" spc="-1" strike="noStrike">
                <a:solidFill>
                  <a:srgbClr val="000000"/>
                </a:solidFill>
                <a:latin typeface="Times New Roman"/>
              </a:rPr>
              <a:t>nl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f intersect objects between light source, point in sha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ct(point, lightSrc[i], ipoint, inorm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int j = 0; j &lt; 3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gtsd[j] = lightSrc[i][j] - point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light source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normalize(lgts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int j = 0; j &lt; 3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[j] = lgtsd[j] + vD[j]; // for specular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normalize(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uble diffuse = dotprod(lgtsd,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uble specular = Math.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ow(dotprod(s, n), 128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(diffuse &lt; 0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use = 0;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(diffuse==0 || specular &lt; 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ular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[0] = color[0] + diffuse + specul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[0] = color[0]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26460EF-4F3D-4273-9797-047E89BC4E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360440" y="2332080"/>
            <a:ext cx="74073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oid glPolygonMode(GLenum face, Glenum mo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fa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an be GL_FRONT_AND_BAC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_FRONT, or GL_BACK; mode can be GL_POI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_LINE, or GL_F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1355760" y="4332240"/>
            <a:ext cx="69562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oid glCullFace(GLenum mode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icates which polygons should be discarded. The </a:t>
            </a: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mod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 either GL_FRONT, GL_BACK, or GL_FRONT_AND_BA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ake effect, use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glEnable(GL_CULL_FACE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734040" y="695160"/>
            <a:ext cx="229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ack-face Cu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1353960" y="1293840"/>
            <a:ext cx="7407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 face polygon has counterclockwise vertices, with normal facing 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 Raytra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a raytracing system that incl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e, cube, cylinder, (cone, 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at” function for animation 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: antialiasing through adaptive raytr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: texture mapping, bump mapping, and environment 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1295280" y="11430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1217520" y="1371600"/>
            <a:ext cx="2643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onstant Sh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1521000" y="1981080"/>
            <a:ext cx="678492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so know as flat sha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lShadeModel(GL_FL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nly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one col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primitive (the last vertex in a primitiv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id if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ight sour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ie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a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fin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the polygon is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 approximation of a curved surf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46"/>
          <p:cNvGrpSpPr/>
          <p:nvPr/>
        </p:nvGrpSpPr>
        <p:grpSpPr>
          <a:xfrm>
            <a:off x="8381880" y="5867280"/>
            <a:ext cx="533520" cy="762120"/>
            <a:chOff x="8381880" y="5867280"/>
            <a:chExt cx="533520" cy="762120"/>
          </a:xfrm>
        </p:grpSpPr>
        <p:sp>
          <p:nvSpPr>
            <p:cNvPr id="60" name="AutoShape 47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533520" cy="38088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30248" h="21600">
                  <a:moveTo>
                    <a:pt x="0" y="0"/>
                  </a:moveTo>
                  <a:lnTo>
                    <a:pt x="30248" y="0"/>
                  </a:lnTo>
                  <a:lnTo>
                    <a:pt x="30248" y="21600"/>
                  </a:lnTo>
                  <a:lnTo>
                    <a:pt x="0" y="21600"/>
                  </a:lnTo>
                  <a:close/>
                </a:path>
                <a:path fill="lightenLess" w="30248" h="21600">
                  <a:moveTo>
                    <a:pt x="0" y="0"/>
                  </a:moveTo>
                  <a:lnTo>
                    <a:pt x="30248" y="0"/>
                  </a:lnTo>
                  <a:lnTo>
                    <a:pt x="28848" y="1400"/>
                  </a:lnTo>
                  <a:lnTo>
                    <a:pt x="1400" y="1400"/>
                  </a:lnTo>
                  <a:close/>
                </a:path>
                <a:path fill="darken" w="30248" h="21600">
                  <a:moveTo>
                    <a:pt x="30248" y="0"/>
                  </a:moveTo>
                  <a:lnTo>
                    <a:pt x="30248" y="21600"/>
                  </a:lnTo>
                  <a:lnTo>
                    <a:pt x="28848" y="20200"/>
                  </a:lnTo>
                  <a:lnTo>
                    <a:pt x="28848" y="1400"/>
                  </a:lnTo>
                  <a:close/>
                </a:path>
                <a:path fill="darkenLess" w="30248" h="21600">
                  <a:moveTo>
                    <a:pt x="30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8" y="20200"/>
                  </a:lnTo>
                  <a:close/>
                </a:path>
                <a:path fill="lighten" w="30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8" h="21600">
                  <a:moveTo>
                    <a:pt x="8118" y="3794"/>
                  </a:moveTo>
                  <a:lnTo>
                    <a:pt x="22131" y="10800"/>
                  </a:lnTo>
                  <a:lnTo>
                    <a:pt x="8118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48"/>
            <p:cNvSpPr/>
            <p:nvPr/>
          </p:nvSpPr>
          <p:spPr>
            <a:xfrm>
              <a:off x="845820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7685579-49F8-4EC8-9EB4-6D434D4F4F07}" type="slidenum"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AutoShape 49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lygon-Mesh Shad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pproximate a curved surface by a polygonal mesh, using a finer mesh turns out to be 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light source is not at infinity, or the viewer is local, flat shading is not quit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 interpolated sh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Gouraud shad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smooth shadin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hong shad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normal interpola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8381880" y="5867280"/>
            <a:ext cx="533520" cy="762120"/>
            <a:chOff x="8381880" y="5867280"/>
            <a:chExt cx="533520" cy="762120"/>
          </a:xfrm>
        </p:grpSpPr>
        <p:sp>
          <p:nvSpPr>
            <p:cNvPr id="67" name="AutoShape 5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533520" cy="38088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30248" h="21600">
                  <a:moveTo>
                    <a:pt x="0" y="0"/>
                  </a:moveTo>
                  <a:lnTo>
                    <a:pt x="30248" y="0"/>
                  </a:lnTo>
                  <a:lnTo>
                    <a:pt x="30248" y="21600"/>
                  </a:lnTo>
                  <a:lnTo>
                    <a:pt x="0" y="21600"/>
                  </a:lnTo>
                  <a:close/>
                </a:path>
                <a:path fill="lightenLess" w="30248" h="21600">
                  <a:moveTo>
                    <a:pt x="0" y="0"/>
                  </a:moveTo>
                  <a:lnTo>
                    <a:pt x="30248" y="0"/>
                  </a:lnTo>
                  <a:lnTo>
                    <a:pt x="28848" y="1400"/>
                  </a:lnTo>
                  <a:lnTo>
                    <a:pt x="1400" y="1400"/>
                  </a:lnTo>
                  <a:close/>
                </a:path>
                <a:path fill="darken" w="30248" h="21600">
                  <a:moveTo>
                    <a:pt x="30248" y="0"/>
                  </a:moveTo>
                  <a:lnTo>
                    <a:pt x="30248" y="21600"/>
                  </a:lnTo>
                  <a:lnTo>
                    <a:pt x="28848" y="20200"/>
                  </a:lnTo>
                  <a:lnTo>
                    <a:pt x="28848" y="1400"/>
                  </a:lnTo>
                  <a:close/>
                </a:path>
                <a:path fill="darkenLess" w="30248" h="21600">
                  <a:moveTo>
                    <a:pt x="30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8" y="20200"/>
                  </a:lnTo>
                  <a:close/>
                </a:path>
                <a:path fill="lighten" w="30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8" h="21600">
                  <a:moveTo>
                    <a:pt x="8118" y="3794"/>
                  </a:moveTo>
                  <a:lnTo>
                    <a:pt x="22131" y="10800"/>
                  </a:lnTo>
                  <a:lnTo>
                    <a:pt x="8118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845820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B41BCB2-60EC-485E-8BD3-4971B482D491}" type="slidenum"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AutoShape 7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2"/>
          <p:cNvGrpSpPr/>
          <p:nvPr/>
        </p:nvGrpSpPr>
        <p:grpSpPr>
          <a:xfrm>
            <a:off x="8381880" y="5867280"/>
            <a:ext cx="533520" cy="762120"/>
            <a:chOff x="8381880" y="5867280"/>
            <a:chExt cx="533520" cy="762120"/>
          </a:xfrm>
        </p:grpSpPr>
        <p:sp>
          <p:nvSpPr>
            <p:cNvPr id="72" name="AutoShape 3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533520" cy="38088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30248" h="21600">
                  <a:moveTo>
                    <a:pt x="0" y="0"/>
                  </a:moveTo>
                  <a:lnTo>
                    <a:pt x="30248" y="0"/>
                  </a:lnTo>
                  <a:lnTo>
                    <a:pt x="30248" y="21600"/>
                  </a:lnTo>
                  <a:lnTo>
                    <a:pt x="0" y="21600"/>
                  </a:lnTo>
                  <a:close/>
                </a:path>
                <a:path fill="lightenLess" w="30248" h="21600">
                  <a:moveTo>
                    <a:pt x="0" y="0"/>
                  </a:moveTo>
                  <a:lnTo>
                    <a:pt x="30248" y="0"/>
                  </a:lnTo>
                  <a:lnTo>
                    <a:pt x="28848" y="1400"/>
                  </a:lnTo>
                  <a:lnTo>
                    <a:pt x="1400" y="1400"/>
                  </a:lnTo>
                  <a:close/>
                </a:path>
                <a:path fill="darken" w="30248" h="21600">
                  <a:moveTo>
                    <a:pt x="30248" y="0"/>
                  </a:moveTo>
                  <a:lnTo>
                    <a:pt x="30248" y="21600"/>
                  </a:lnTo>
                  <a:lnTo>
                    <a:pt x="28848" y="20200"/>
                  </a:lnTo>
                  <a:lnTo>
                    <a:pt x="28848" y="1400"/>
                  </a:lnTo>
                  <a:close/>
                </a:path>
                <a:path fill="darkenLess" w="30248" h="21600">
                  <a:moveTo>
                    <a:pt x="30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8" y="20200"/>
                  </a:lnTo>
                  <a:close/>
                </a:path>
                <a:path fill="lighten" w="30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8" h="21600">
                  <a:moveTo>
                    <a:pt x="8118" y="3794"/>
                  </a:moveTo>
                  <a:lnTo>
                    <a:pt x="22131" y="10800"/>
                  </a:lnTo>
                  <a:lnTo>
                    <a:pt x="8118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4"/>
            <p:cNvSpPr/>
            <p:nvPr/>
          </p:nvSpPr>
          <p:spPr>
            <a:xfrm>
              <a:off x="845820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9288F8F-62D1-4460-9607-5669BEF0DA4C}" type="slidenum"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AutoShape 5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32440" y="533520"/>
            <a:ext cx="2643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ouraud Sh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137240" y="1116000"/>
            <a:ext cx="506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so called smooth shading, intens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820160" y="1420920"/>
            <a:ext cx="574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olation shading or color interpo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25920" y="1727280"/>
            <a:ext cx="4988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ding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glShadeModel(GL_SMOOTH)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825560" y="20318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1141200" y="2286000"/>
            <a:ext cx="6242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polygon is shaded by linear interpo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1826280" y="2590920"/>
            <a:ext cx="595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vertex intensities along each edge a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7"/>
          <p:cNvSpPr/>
          <p:nvPr/>
        </p:nvSpPr>
        <p:spPr>
          <a:xfrm>
            <a:off x="1828080" y="2895480"/>
            <a:ext cx="466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ween edges along each scan l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1140840" y="3443400"/>
            <a:ext cx="583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polation along edges can easil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1824120" y="3749760"/>
            <a:ext cx="574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rated with the scan-line visible-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1828440" y="4054320"/>
            <a:ext cx="144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orith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8381880" y="5867280"/>
            <a:ext cx="533520" cy="762120"/>
            <a:chOff x="8381880" y="5867280"/>
            <a:chExt cx="533520" cy="762120"/>
          </a:xfrm>
        </p:grpSpPr>
        <p:sp>
          <p:nvSpPr>
            <p:cNvPr id="88" name="AutoShape 3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533520" cy="38088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30248" h="21600">
                  <a:moveTo>
                    <a:pt x="0" y="0"/>
                  </a:moveTo>
                  <a:lnTo>
                    <a:pt x="30248" y="0"/>
                  </a:lnTo>
                  <a:lnTo>
                    <a:pt x="30248" y="21600"/>
                  </a:lnTo>
                  <a:lnTo>
                    <a:pt x="0" y="21600"/>
                  </a:lnTo>
                  <a:close/>
                </a:path>
                <a:path fill="lightenLess" w="30248" h="21600">
                  <a:moveTo>
                    <a:pt x="0" y="0"/>
                  </a:moveTo>
                  <a:lnTo>
                    <a:pt x="30248" y="0"/>
                  </a:lnTo>
                  <a:lnTo>
                    <a:pt x="28848" y="1400"/>
                  </a:lnTo>
                  <a:lnTo>
                    <a:pt x="1400" y="1400"/>
                  </a:lnTo>
                  <a:close/>
                </a:path>
                <a:path fill="darken" w="30248" h="21600">
                  <a:moveTo>
                    <a:pt x="30248" y="0"/>
                  </a:moveTo>
                  <a:lnTo>
                    <a:pt x="30248" y="21600"/>
                  </a:lnTo>
                  <a:lnTo>
                    <a:pt x="28848" y="20200"/>
                  </a:lnTo>
                  <a:lnTo>
                    <a:pt x="28848" y="1400"/>
                  </a:lnTo>
                  <a:close/>
                </a:path>
                <a:path fill="darkenLess" w="30248" h="21600">
                  <a:moveTo>
                    <a:pt x="30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8" y="20200"/>
                  </a:lnTo>
                  <a:close/>
                </a:path>
                <a:path fill="lighten" w="30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8" h="21600">
                  <a:moveTo>
                    <a:pt x="8118" y="3794"/>
                  </a:moveTo>
                  <a:lnTo>
                    <a:pt x="22131" y="10800"/>
                  </a:lnTo>
                  <a:lnTo>
                    <a:pt x="8118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4"/>
            <p:cNvSpPr/>
            <p:nvPr/>
          </p:nvSpPr>
          <p:spPr>
            <a:xfrm>
              <a:off x="845820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D2A74DA-958D-4C6B-8BC1-46887940AD12}" type="slidenum"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AutoShape 5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527040" y="533520"/>
            <a:ext cx="198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Vertex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0"/>
          <p:cNvSpPr/>
          <p:nvPr/>
        </p:nvSpPr>
        <p:spPr>
          <a:xfrm>
            <a:off x="1825560" y="20318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1"/>
          <p:cNvSpPr/>
          <p:nvPr/>
        </p:nvSpPr>
        <p:spPr>
          <a:xfrm>
            <a:off x="1135440" y="2463840"/>
            <a:ext cx="624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normal of each vertex by averag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2"/>
          <p:cNvSpPr/>
          <p:nvPr/>
        </p:nvSpPr>
        <p:spPr>
          <a:xfrm>
            <a:off x="1822320" y="2768760"/>
            <a:ext cx="554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s of the polygons sharing the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1135440" y="3581280"/>
            <a:ext cx="555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vertex colors by using the vert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4"/>
          <p:cNvSpPr/>
          <p:nvPr/>
        </p:nvSpPr>
        <p:spPr>
          <a:xfrm>
            <a:off x="1820880" y="3887640"/>
            <a:ext cx="591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s with any desired illumination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8"/>
          <p:cNvSpPr/>
          <p:nvPr/>
        </p:nvSpPr>
        <p:spPr>
          <a:xfrm>
            <a:off x="1143000" y="1370160"/>
            <a:ext cx="7010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tex color can be specified, or calcul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rding to a lighting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"/>
          <p:cNvGrpSpPr/>
          <p:nvPr/>
        </p:nvGrpSpPr>
        <p:grpSpPr>
          <a:xfrm>
            <a:off x="8381880" y="5867280"/>
            <a:ext cx="533520" cy="762120"/>
            <a:chOff x="8381880" y="5867280"/>
            <a:chExt cx="533520" cy="762120"/>
          </a:xfrm>
        </p:grpSpPr>
        <p:sp>
          <p:nvSpPr>
            <p:cNvPr id="100" name="AutoShape 3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533520" cy="38088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30248" h="21600">
                  <a:moveTo>
                    <a:pt x="0" y="0"/>
                  </a:moveTo>
                  <a:lnTo>
                    <a:pt x="30248" y="0"/>
                  </a:lnTo>
                  <a:lnTo>
                    <a:pt x="30248" y="21600"/>
                  </a:lnTo>
                  <a:lnTo>
                    <a:pt x="0" y="21600"/>
                  </a:lnTo>
                  <a:close/>
                </a:path>
                <a:path fill="lightenLess" w="30248" h="21600">
                  <a:moveTo>
                    <a:pt x="0" y="0"/>
                  </a:moveTo>
                  <a:lnTo>
                    <a:pt x="30248" y="0"/>
                  </a:lnTo>
                  <a:lnTo>
                    <a:pt x="28848" y="1400"/>
                  </a:lnTo>
                  <a:lnTo>
                    <a:pt x="1400" y="1400"/>
                  </a:lnTo>
                  <a:close/>
                </a:path>
                <a:path fill="darken" w="30248" h="21600">
                  <a:moveTo>
                    <a:pt x="30248" y="0"/>
                  </a:moveTo>
                  <a:lnTo>
                    <a:pt x="30248" y="21600"/>
                  </a:lnTo>
                  <a:lnTo>
                    <a:pt x="28848" y="20200"/>
                  </a:lnTo>
                  <a:lnTo>
                    <a:pt x="28848" y="1400"/>
                  </a:lnTo>
                  <a:close/>
                </a:path>
                <a:path fill="darkenLess" w="30248" h="21600">
                  <a:moveTo>
                    <a:pt x="30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8" y="20200"/>
                  </a:lnTo>
                  <a:close/>
                </a:path>
                <a:path fill="lighten" w="30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8" h="21600">
                  <a:moveTo>
                    <a:pt x="8118" y="3794"/>
                  </a:moveTo>
                  <a:lnTo>
                    <a:pt x="22131" y="10800"/>
                  </a:lnTo>
                  <a:lnTo>
                    <a:pt x="8118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4"/>
            <p:cNvSpPr/>
            <p:nvPr/>
          </p:nvSpPr>
          <p:spPr>
            <a:xfrm>
              <a:off x="845820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E7F492C-95D0-4501-BDA6-DC18D49C3BB0}" type="slidenum"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AutoShape 5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07320" y="1447920"/>
            <a:ext cx="661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Phong Shading (not provided in OpenG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179720" y="2246400"/>
            <a:ext cx="63464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lso known as normal-vector interpol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909440" y="2570040"/>
            <a:ext cx="685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hading, interpolates the surface normal vecto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911600" y="2894040"/>
            <a:ext cx="3112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ather than the colo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180080" y="3354480"/>
            <a:ext cx="7000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erpolation occurs across a polygon span on 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1910160" y="3678120"/>
            <a:ext cx="67064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can line, between starting and ending normal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913040" y="4002120"/>
            <a:ext cx="1773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r the sp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182960" y="4460760"/>
            <a:ext cx="631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lors of the pixels are calculated using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1911960" y="4784760"/>
            <a:ext cx="3050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erpolated norma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8381880" y="5867280"/>
            <a:ext cx="533520" cy="762120"/>
            <a:chOff x="8381880" y="5867280"/>
            <a:chExt cx="533520" cy="762120"/>
          </a:xfrm>
        </p:grpSpPr>
        <p:sp>
          <p:nvSpPr>
            <p:cNvPr id="114" name="AutoShape 3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533520" cy="38088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30248" h="21600">
                  <a:moveTo>
                    <a:pt x="0" y="0"/>
                  </a:moveTo>
                  <a:lnTo>
                    <a:pt x="30248" y="0"/>
                  </a:lnTo>
                  <a:lnTo>
                    <a:pt x="30248" y="21600"/>
                  </a:lnTo>
                  <a:lnTo>
                    <a:pt x="0" y="21600"/>
                  </a:lnTo>
                  <a:close/>
                </a:path>
                <a:path fill="lightenLess" w="30248" h="21600">
                  <a:moveTo>
                    <a:pt x="0" y="0"/>
                  </a:moveTo>
                  <a:lnTo>
                    <a:pt x="30248" y="0"/>
                  </a:lnTo>
                  <a:lnTo>
                    <a:pt x="28848" y="1400"/>
                  </a:lnTo>
                  <a:lnTo>
                    <a:pt x="1400" y="1400"/>
                  </a:lnTo>
                  <a:close/>
                </a:path>
                <a:path fill="darken" w="30248" h="21600">
                  <a:moveTo>
                    <a:pt x="30248" y="0"/>
                  </a:moveTo>
                  <a:lnTo>
                    <a:pt x="30248" y="21600"/>
                  </a:lnTo>
                  <a:lnTo>
                    <a:pt x="28848" y="20200"/>
                  </a:lnTo>
                  <a:lnTo>
                    <a:pt x="28848" y="1400"/>
                  </a:lnTo>
                  <a:close/>
                </a:path>
                <a:path fill="darkenLess" w="30248" h="21600">
                  <a:moveTo>
                    <a:pt x="30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8" y="20200"/>
                  </a:lnTo>
                  <a:close/>
                </a:path>
                <a:path fill="lighten" w="30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8" h="21600">
                  <a:moveTo>
                    <a:pt x="8118" y="3794"/>
                  </a:moveTo>
                  <a:lnTo>
                    <a:pt x="22131" y="10800"/>
                  </a:lnTo>
                  <a:lnTo>
                    <a:pt x="8118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4"/>
            <p:cNvSpPr/>
            <p:nvPr/>
          </p:nvSpPr>
          <p:spPr>
            <a:xfrm>
              <a:off x="845820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2D99108-E895-429B-9F2A-BB53498F9FCD}" type="slidenum"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AutoShape 5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4"/>
          <p:cNvSpPr/>
          <p:nvPr/>
        </p:nvSpPr>
        <p:spPr>
          <a:xfrm>
            <a:off x="1138680" y="533520"/>
            <a:ext cx="54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ouraud shading v.s. Phong sh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1295280" y="1143000"/>
            <a:ext cx="70106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uraud shading – if a highlight fails to fall at a vertex, then Gouraud shading may miss it entire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ng shading allows highlights to be located in a polygon’s interi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uraud shading – if a light source does not cover the vertices, the lighting is completely mi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ng shading allows a light source covers a polygon’s interi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4"/>
          <p:cNvSpPr/>
          <p:nvPr/>
        </p:nvSpPr>
        <p:spPr>
          <a:xfrm>
            <a:off x="3657600" y="5105520"/>
            <a:ext cx="2438280" cy="914400"/>
          </a:xfrm>
          <a:prstGeom prst="triangle">
            <a:avLst>
              <a:gd name="adj" fmla="val 411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5"/>
          <p:cNvSpPr/>
          <p:nvPr/>
        </p:nvSpPr>
        <p:spPr>
          <a:xfrm>
            <a:off x="3505320" y="59436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46"/>
          <p:cNvSpPr/>
          <p:nvPr/>
        </p:nvSpPr>
        <p:spPr>
          <a:xfrm>
            <a:off x="3962520" y="59436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47"/>
          <p:cNvSpPr/>
          <p:nvPr/>
        </p:nvSpPr>
        <p:spPr>
          <a:xfrm>
            <a:off x="4419720" y="59436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8"/>
          <p:cNvSpPr/>
          <p:nvPr/>
        </p:nvSpPr>
        <p:spPr>
          <a:xfrm>
            <a:off x="4876920" y="59436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49"/>
          <p:cNvSpPr/>
          <p:nvPr/>
        </p:nvSpPr>
        <p:spPr>
          <a:xfrm>
            <a:off x="5334120" y="59436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50"/>
          <p:cNvSpPr/>
          <p:nvPr/>
        </p:nvSpPr>
        <p:spPr>
          <a:xfrm>
            <a:off x="5791320" y="59436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51"/>
          <p:cNvSpPr/>
          <p:nvPr/>
        </p:nvSpPr>
        <p:spPr>
          <a:xfrm>
            <a:off x="3962520" y="57150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52"/>
          <p:cNvSpPr/>
          <p:nvPr/>
        </p:nvSpPr>
        <p:spPr>
          <a:xfrm>
            <a:off x="4419720" y="57150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53"/>
          <p:cNvSpPr/>
          <p:nvPr/>
        </p:nvSpPr>
        <p:spPr>
          <a:xfrm>
            <a:off x="4876920" y="57150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54"/>
          <p:cNvSpPr/>
          <p:nvPr/>
        </p:nvSpPr>
        <p:spPr>
          <a:xfrm>
            <a:off x="5334120" y="57150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55"/>
          <p:cNvSpPr/>
          <p:nvPr/>
        </p:nvSpPr>
        <p:spPr>
          <a:xfrm>
            <a:off x="3962520" y="54864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56"/>
          <p:cNvSpPr/>
          <p:nvPr/>
        </p:nvSpPr>
        <p:spPr>
          <a:xfrm>
            <a:off x="4419720" y="54864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57"/>
          <p:cNvSpPr/>
          <p:nvPr/>
        </p:nvSpPr>
        <p:spPr>
          <a:xfrm>
            <a:off x="4876920" y="54864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58"/>
          <p:cNvSpPr/>
          <p:nvPr/>
        </p:nvSpPr>
        <p:spPr>
          <a:xfrm>
            <a:off x="4419720" y="52578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59"/>
          <p:cNvSpPr/>
          <p:nvPr/>
        </p:nvSpPr>
        <p:spPr>
          <a:xfrm>
            <a:off x="4876920" y="52578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0"/>
          <p:cNvSpPr/>
          <p:nvPr/>
        </p:nvSpPr>
        <p:spPr>
          <a:xfrm>
            <a:off x="4419720" y="50292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61"/>
          <p:cNvSpPr/>
          <p:nvPr/>
        </p:nvSpPr>
        <p:spPr>
          <a:xfrm>
            <a:off x="5334120" y="54864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62"/>
          <p:cNvSpPr/>
          <p:nvPr/>
        </p:nvSpPr>
        <p:spPr>
          <a:xfrm>
            <a:off x="3962520" y="52578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63"/>
          <p:cNvSpPr/>
          <p:nvPr/>
        </p:nvSpPr>
        <p:spPr>
          <a:xfrm>
            <a:off x="3505320" y="5715000"/>
            <a:ext cx="4572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4"/>
          <p:cNvSpPr/>
          <p:nvPr/>
        </p:nvSpPr>
        <p:spPr>
          <a:xfrm flipV="1">
            <a:off x="601992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6"/>
          <p:cNvSpPr/>
          <p:nvPr/>
        </p:nvSpPr>
        <p:spPr>
          <a:xfrm flipV="1">
            <a:off x="373392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7"/>
          <p:cNvSpPr/>
          <p:nvPr/>
        </p:nvSpPr>
        <p:spPr>
          <a:xfrm flipV="1">
            <a:off x="4648320" y="4419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9"/>
          <p:cNvSpPr/>
          <p:nvPr/>
        </p:nvSpPr>
        <p:spPr>
          <a:xfrm>
            <a:off x="5562720" y="4724280"/>
            <a:ext cx="304560" cy="30492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70"/>
          <p:cNvSpPr/>
          <p:nvPr/>
        </p:nvSpPr>
        <p:spPr>
          <a:xfrm>
            <a:off x="3657600" y="4648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Oval 46"/>
          <p:cNvGrpSpPr/>
          <p:nvPr/>
        </p:nvGrpSpPr>
        <p:grpSpPr>
          <a:xfrm>
            <a:off x="4449600" y="5291280"/>
            <a:ext cx="933480" cy="549000"/>
            <a:chOff x="4449600" y="5291280"/>
            <a:chExt cx="933480" cy="549000"/>
          </a:xfrm>
        </p:grpSpPr>
        <p:pic>
          <p:nvPicPr>
            <p:cNvPr id="145" name="Oval 46" descr=""/>
            <p:cNvPicPr/>
            <p:nvPr/>
          </p:nvPicPr>
          <p:blipFill>
            <a:blip r:embed="rId1"/>
            <a:stretch/>
          </p:blipFill>
          <p:spPr>
            <a:xfrm>
              <a:off x="4449600" y="5291280"/>
              <a:ext cx="93348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672080" y="5454720"/>
              <a:ext cx="485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Straight Arrow Connector 35"/>
          <p:cNvCxnSpPr/>
          <p:nvPr/>
        </p:nvCxnSpPr>
        <p:spPr>
          <a:xfrm flipH="1">
            <a:off x="4952160" y="4875840"/>
            <a:ext cx="762840" cy="686520"/>
          </a:xfrm>
          <a:prstGeom prst="straightConnector1">
            <a:avLst/>
          </a:prstGeom>
          <a:ln w="9360">
            <a:solidFill>
              <a:srgbClr val="008080"/>
            </a:solidFill>
            <a:miter/>
            <a:tailEnd len="med" type="arrow" w="med"/>
          </a:ln>
        </p:spPr>
      </p:cxnSp>
      <p:cxnSp>
        <p:nvCxnSpPr>
          <p:cNvPr id="148" name="Straight Arrow Connector 38"/>
          <p:cNvCxnSpPr>
            <a:endCxn id="143" idx="5"/>
          </p:cNvCxnSpPr>
          <p:nvPr/>
        </p:nvCxnSpPr>
        <p:spPr>
          <a:xfrm flipH="1" flipV="1">
            <a:off x="3852000" y="4843080"/>
            <a:ext cx="1024920" cy="720000"/>
          </a:xfrm>
          <a:prstGeom prst="straightConnector1">
            <a:avLst/>
          </a:prstGeom>
          <a:ln w="9360">
            <a:solidFill>
              <a:srgbClr val="008080"/>
            </a:solidFill>
            <a:miter/>
            <a:tailEnd len="med" type="arrow" w="med"/>
          </a:ln>
        </p:spPr>
      </p:cxnSp>
      <p:sp>
        <p:nvSpPr>
          <p:cNvPr id="149" name="Straight Connector 42"/>
          <p:cNvSpPr/>
          <p:nvPr/>
        </p:nvSpPr>
        <p:spPr>
          <a:xfrm flipH="1">
            <a:off x="4571640" y="48762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traight Connector 44"/>
          <p:cNvSpPr/>
          <p:nvPr/>
        </p:nvSpPr>
        <p:spPr>
          <a:xfrm flipH="1">
            <a:off x="5257800" y="4876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pyright @ 2008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5703840" y="838080"/>
            <a:ext cx="2933640" cy="28958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380880" y="53352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n-NO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= [1 + (N</a:t>
            </a:r>
            <a:r>
              <a:rPr b="0" lang="nn-NO" sz="2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L) + (R</a:t>
            </a:r>
            <a:r>
              <a:rPr b="0" lang="nn-NO" sz="2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nn-N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</a:rPr>
              <a:t>]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4T20:09:32Z</dcterms:created>
  <dc:creator>Jim X. CHEN</dc:creator>
  <dc:description/>
  <dc:language>en-US</dc:language>
  <cp:lastModifiedBy>jchen</cp:lastModifiedBy>
  <dcterms:modified xsi:type="dcterms:W3CDTF">2008-11-03T23:35:41Z</dcterms:modified>
  <cp:revision>87</cp:revision>
  <dc:subject/>
  <dc:title>No Slide Title</dc:title>
</cp:coreProperties>
</file>