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AMERA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296B-AB21-46B5-B8B9-AED3DC00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A158-AB2A-4177-91C9-4B9CA07A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9CE-5AD0-4716-85DA-4B9132BD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B531-10EF-4AB1-8B12-B287C81F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A22C-484A-4417-B71D-AE31012B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427-F1A8-433E-9CD0-94B48408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D7B6-45C0-4BF2-84C1-C604D44A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479-3528-44F1-B5DD-B4BF3B7C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451E-14D2-4993-AC14-8EC15771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8AF-7774-48F3-BE21-E33AAA2B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320C-009C-4D2F-8F9A-2A74FA11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DBE-66B2-4B21-BBEA-6542AEA5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AE88-50DA-436A-94C1-58F693DC48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bluepony.exe" TargetMode="External"/><Relationship Id="rId2" Type="http://schemas.openxmlformats.org/officeDocument/2006/relationships/hyperlink" Target="file:///glflare.exe" TargetMode="External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double.exe" TargetMode="External"/><Relationship Id="rId2" Type="http://schemas.openxmlformats.org/officeDocument/2006/relationships/hyperlink" Target="file:///dragnet2k.exe" TargetMode="External"/><Relationship Id="rId3" Type="http://schemas.openxmlformats.org/officeDocument/2006/relationships/hyperlink" Target="file:///teapots.exe" TargetMode="External"/><Relationship Id="rId4" Type="http://schemas.openxmlformats.org/officeDocument/2006/relationships/hyperlink" Target="file:///explosion1.exe" TargetMode="External"/><Relationship Id="rId5" Type="http://schemas.openxmlformats.org/officeDocument/2006/relationships/hyperlink" Target="file:///explosion2.exe" TargetMode="External"/><Relationship Id="rId6" Type="http://schemas.openxmlformats.org/officeDocument/2006/relationships/hyperlink" Target="file:///explosion3.exe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5B0A7192-6988-400F-9EFF-D39C6E0696AA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214640" y="3429000"/>
            <a:ext cx="6889320" cy="731880"/>
            <a:chOff x="1214640" y="3429000"/>
            <a:chExt cx="6889320" cy="731880"/>
          </a:xfrm>
        </p:grpSpPr>
        <p:sp>
          <p:nvSpPr>
            <p:cNvPr id="48" name=""/>
            <p:cNvSpPr/>
            <p:nvPr/>
          </p:nvSpPr>
          <p:spPr>
            <a:xfrm>
              <a:off x="1214640" y="3429000"/>
              <a:ext cx="68893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he OpenGL graphics system is an 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Programming interface (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SimSun"/>
                </a:rPr>
                <a:t>AP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 to graphics hardwar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3400" y="3429000"/>
              <a:ext cx="36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992160" y="2438280"/>
            <a:ext cx="2876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SimSun"/>
              </a:rPr>
              <a:t>WHAT IS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OPENGL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SimSun"/>
              </a:rPr>
              <a:t>?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4724280"/>
            <a:ext cx="6019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round 130 graphics drawing and operation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7848720" y="55627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2133720"/>
            <a:ext cx="12193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"/>
              </a:rPr>
              <a:t>DEM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2819520"/>
            <a:ext cx="12193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"/>
              </a:rPr>
              <a:t>DEM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47920" y="762120"/>
            <a:ext cx="6629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OpenGL and Related Libraries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D298F6B7-74C9-40BD-BE00-76FCD9D35243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1760" y="762120"/>
            <a:ext cx="4452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SimSun"/>
              </a:rPr>
              <a:t>OpenGL and DirectX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676520"/>
            <a:ext cx="67057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SimSun"/>
              </a:rPr>
              <a:t>Theoretically, OpenGL and DirectX (Direct3D) are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SimSun"/>
              </a:rPr>
              <a:t>OpenGL is a mature graphics library, while DirectX has been advanced rapidly and significa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SimSun"/>
              </a:rPr>
              <a:t>OpenGL is easier to learn and use, and is integrated in most modern graphics text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SimSun"/>
              </a:rPr>
              <a:t>DirectX is much more popular in PC gam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FF9C0147-42F2-4409-8439-13BFF73A4488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5680" y="609480"/>
            <a:ext cx="3828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Times New Roman"/>
                <a:ea typeface="SimSun"/>
              </a:rPr>
              <a:t>JOGL – Java for OpenG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00200"/>
            <a:ext cx="769608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JOG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implements Java bindings for OpenG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rovides platform for 3D graphics applications in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JOGL provides full access to OpenGL functions and integrates with the AWT and Swing widget s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art of a suite of open-source technologies initiated by the Game Technology Group at Sun Micro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F9D5DF54-507A-4B3E-8800-A3BCC8333F2E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2160" y="609480"/>
            <a:ext cx="6608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Times New Roman"/>
                <a:ea typeface="SimSun"/>
              </a:rPr>
              <a:t>ANIMATION AND DOUBLE BUFF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057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7960" y="1177920"/>
            <a:ext cx="600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otion in a movie is achieved by project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5200" y="1482840"/>
            <a:ext cx="5060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 sequence of pictures at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24 frames 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seco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n the scr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1789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20937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5600" y="2284560"/>
            <a:ext cx="619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60 per second is smoother than 30, and 120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49600" y="2589120"/>
            <a:ext cx="348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arginally better than 6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30800" y="2589120"/>
            <a:ext cx="17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Refresh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58080" y="2589120"/>
            <a:ext cx="900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a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0680" y="2894040"/>
            <a:ext cx="369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an 120 make no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09880"/>
            <a:ext cx="174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open_window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7320" y="4051440"/>
            <a:ext cx="307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or (i = 0; i &lt; 1000000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560" y="4292640"/>
            <a:ext cx="300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clear_the_framebuffer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9480" y="4533840"/>
            <a:ext cx="189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draw_frame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4775040"/>
            <a:ext cx="496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wait_until_a_24th_of_a_second_is_over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99480" y="5018040"/>
            <a:ext cx="217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3657600"/>
            <a:ext cx="121896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5ADACA64-A056-4D6F-84C4-F6AC7C9536D2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136880" y="708120"/>
            <a:ext cx="6975360" cy="1586880"/>
            <a:chOff x="1136880" y="708120"/>
            <a:chExt cx="6975360" cy="1586880"/>
          </a:xfrm>
        </p:grpSpPr>
        <p:sp>
          <p:nvSpPr>
            <p:cNvPr id="153" name=""/>
            <p:cNvSpPr/>
            <p:nvPr/>
          </p:nvSpPr>
          <p:spPr>
            <a:xfrm>
              <a:off x="1676520" y="1828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36880" y="708120"/>
              <a:ext cx="610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Items drawn first are visible for the full 1/24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82800" y="1012680"/>
              <a:ext cx="622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econd and present a solid image on the screen;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79200" y="1317600"/>
              <a:ext cx="5448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items drawn toward the end are instant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87120" y="1622520"/>
              <a:ext cx="540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leared as the program starts on the nex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82800" y="1928880"/>
              <a:ext cx="857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ram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142280" y="2362320"/>
            <a:ext cx="243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Double-buff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2480" y="2362320"/>
            <a:ext cx="376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- hardware or software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4120" y="2703600"/>
            <a:ext cx="688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lies two complete color buffers.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frontbuff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7360" y="3008160"/>
            <a:ext cx="649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s displayed whil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backbuff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is drawn. W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4840" y="3313080"/>
            <a:ext cx="569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drawing of a frame is complete,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3619440"/>
            <a:ext cx="2795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buffers are swapp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139400" y="4089240"/>
            <a:ext cx="4591440" cy="1724400"/>
            <a:chOff x="1139400" y="4089240"/>
            <a:chExt cx="4591440" cy="1724400"/>
          </a:xfrm>
        </p:grpSpPr>
        <p:sp>
          <p:nvSpPr>
            <p:cNvPr id="166" name=""/>
            <p:cNvSpPr/>
            <p:nvPr/>
          </p:nvSpPr>
          <p:spPr>
            <a:xfrm>
              <a:off x="1139760" y="4089240"/>
              <a:ext cx="459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open_window_in_double_buffer_mode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39400" y="4572000"/>
              <a:ext cx="3079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for (i = 0; i &lt; 1000000; i++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43000" y="4813200"/>
              <a:ext cx="290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clear_the_backbuffer 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42640" y="5054760"/>
              <a:ext cx="379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draw_frame_into_backbuffer (i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41200" y="5297400"/>
              <a:ext cx="255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wap_the_buffers 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41920" y="5538960"/>
              <a:ext cx="217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934320" y="4419720"/>
            <a:ext cx="121896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DA3B29D4-FB92-4D6D-AFBD-1D39C63DF767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1447920"/>
            <a:ext cx="6604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SimSun"/>
              </a:rPr>
              <a:t>Some Examples Coded In OpenG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2590920"/>
            <a:ext cx="121896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"/>
              </a:rPr>
              <a:t>DEM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3352680"/>
            <a:ext cx="121896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"/>
              </a:rPr>
              <a:t>DEMO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2666880"/>
            <a:ext cx="12193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3"/>
              </a:rPr>
              <a:t>DEMO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3352680"/>
            <a:ext cx="12193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4"/>
              </a:rPr>
              <a:t>DEMO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2681280"/>
            <a:ext cx="12193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5"/>
              </a:rPr>
              <a:t>DEMO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9400" y="3367080"/>
            <a:ext cx="12193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6"/>
              </a:rPr>
              <a:t>DEMO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2193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EM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3352680"/>
            <a:ext cx="12193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  <a:ea typeface="SimSun"/>
              </a:rPr>
              <a:t>DEM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04568103-FC94-4615-A3F0-F38D8C629E2F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1295280"/>
            <a:ext cx="5206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SimSun"/>
              </a:rPr>
              <a:t>HW1: due before next 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8001000" y="56386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7493"/>
                </a:moveTo>
                <a:lnTo>
                  <a:pt x="11926" y="7493"/>
                </a:lnTo>
                <a:lnTo>
                  <a:pt x="11926" y="12828"/>
                </a:lnTo>
                <a:cubicBezTo>
                  <a:pt x="11926" y="13751"/>
                  <a:pt x="12726" y="14482"/>
                  <a:pt x="13762" y="14482"/>
                </a:cubicBezTo>
                <a:lnTo>
                  <a:pt x="15424" y="14482"/>
                </a:lnTo>
                <a:cubicBezTo>
                  <a:pt x="16460" y="14482"/>
                  <a:pt x="17261" y="13751"/>
                  <a:pt x="17261" y="12828"/>
                </a:cubicBezTo>
                <a:lnTo>
                  <a:pt x="17261" y="7493"/>
                </a:lnTo>
                <a:lnTo>
                  <a:pt x="15424" y="7493"/>
                </a:lnTo>
                <a:lnTo>
                  <a:pt x="18932" y="3985"/>
                </a:lnTo>
                <a:lnTo>
                  <a:pt x="22605" y="7493"/>
                </a:lnTo>
                <a:lnTo>
                  <a:pt x="20768" y="7493"/>
                </a:lnTo>
                <a:lnTo>
                  <a:pt x="20768" y="12828"/>
                </a:lnTo>
                <a:cubicBezTo>
                  <a:pt x="20768" y="15596"/>
                  <a:pt x="18192" y="18155"/>
                  <a:pt x="15424" y="18155"/>
                </a:cubicBezTo>
                <a:lnTo>
                  <a:pt x="13762" y="18155"/>
                </a:lnTo>
                <a:cubicBezTo>
                  <a:pt x="10994" y="18155"/>
                  <a:pt x="8418" y="15596"/>
                  <a:pt x="8418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2362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raw a point that moves slowly along a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3886200"/>
            <a:ext cx="175284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3809880"/>
            <a:ext cx="381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C7C1D06C-D375-40FA-B59B-9E604EA619DB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1760" y="762120"/>
            <a:ext cx="3918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SimSun"/>
              </a:rPr>
              <a:t>OpenGL-Related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139400" y="1219320"/>
            <a:ext cx="6918480" cy="4470840"/>
            <a:chOff x="1139400" y="1219320"/>
            <a:chExt cx="6918480" cy="4470840"/>
          </a:xfrm>
        </p:grpSpPr>
        <p:sp>
          <p:nvSpPr>
            <p:cNvPr id="65" name=""/>
            <p:cNvSpPr/>
            <p:nvPr/>
          </p:nvSpPr>
          <p:spPr>
            <a:xfrm>
              <a:off x="2486520" y="2639160"/>
              <a:ext cx="1622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39400" y="1231200"/>
              <a:ext cx="611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SimSu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SimSun"/>
                </a:rPr>
                <a:t>The OpenGL Utility Library (GLU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ontai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63520" y="12193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0000" y="1575360"/>
              <a:ext cx="6026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everal routines that use OpenGL command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50360" y="1866240"/>
              <a:ext cx="5017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It is considered part of your OpenGL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43000" y="2251080"/>
              <a:ext cx="564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SimSu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SimSun"/>
                </a:rPr>
                <a:t>The OpenGL Extension to the X Window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720" y="2585160"/>
              <a:ext cx="6153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SimSun"/>
                </a:rPr>
                <a:t>System (GLX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provides a means of creating 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0840" y="2585160"/>
              <a:ext cx="1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50000" y="2944800"/>
              <a:ext cx="5467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penGL context and associating it with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54320" y="3232440"/>
              <a:ext cx="6191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drawable window on a machine that uses the 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08520" y="4167360"/>
              <a:ext cx="6122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SimSu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SimSun"/>
                </a:rPr>
                <a:t>OpenGL Auxiliary Library (AUX) or  Utilit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52160" y="4598640"/>
              <a:ext cx="209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SimSun"/>
                </a:rPr>
                <a:t>Toolki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(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SimSun"/>
                </a:rPr>
                <a:t>GLU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37280" y="4958280"/>
              <a:ext cx="5553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o make programming examples simpler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orks for X, Win, Apple, etc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40120" y="3663720"/>
              <a:ext cx="6917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SimSun"/>
                </a:rPr>
                <a:t>WG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for Windows;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SimSun"/>
                </a:rPr>
                <a:t>AG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for Apple;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SimSun"/>
                </a:rPr>
                <a:t>PG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for OS/2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133640" y="5715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OG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Java OpenGL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362320"/>
            <a:ext cx="8381880" cy="26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/* Example 1.1.point.c: draw randomly generated point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#include &lt;stdlib.h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#inclu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&lt;GL/glut.h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#define Height 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#define Width 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1532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0A66-2FE8-48F3-9FF5-B575F17AD0CA}" type="slidenum">
              <a:rPr b="1" lang="zh-CN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4114800"/>
            <a:ext cx="11430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1066680"/>
            <a:ext cx="838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void display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x,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//a. generate a random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x = rand() % Width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y = rand() % Heigh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//b. specify a drawing color: 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Color3f(1, 0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//c. specify to draw 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Begin(GL_POIN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Vertex2i (x,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En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//d. start 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Flush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532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FC5D-7C67-4A6C-82EC-B36D134607C8}" type="slidenum">
              <a:rPr b="1" lang="zh-CN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304920"/>
            <a:ext cx="8382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static void reshape(int w, int 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//e. specify the window’s 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MatrixMode (GL_PROJECTI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LoadIdentity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Ortho(0, Width, 0, Height, -1.0, 1.0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ain(int argc, char **arg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//f. initialize a drawing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utInit(&amp;argc, arg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utInitDisplayMode(GLUT_SINGL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utInitWindowSize(Width, He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utCreateWindow("Example 1.1.point.c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//g. specify event callback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utReshapeFunc(reshape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utDisplayFunc(displa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utIdleFunc(displa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glutMainLoop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7A3D-F1DA-4DEB-8650-6F38A33068D8}" type="slidenum">
              <a:rPr b="1" lang="zh-CN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 net.java.games.jogl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 java.awt.event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class J1_1_Point extends J1_0_Poin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Animator animator; // drive display() in a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J1_1_Point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1. use super's constructor to initialize dra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2. add a listener for window clo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WindowListener(new WindowAdapter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windowClosing(WindowEvent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or.stop(); // stop an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.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1523880"/>
            <a:ext cx="11430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4640" y="228600"/>
            <a:ext cx="56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/* Example 1.1.point.c: revisit in JOGL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Called one-time for OpenGL init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init(GLDrawable drawabl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specify a drawing color: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glColor3f(1.0f, 0.0f, 0.0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3. clear the background to bl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glClearColor(0.0f, 0.0f, 0.0f, 0.0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glClear(GL.GL_COLOR_BUFFER_B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4. drive the display() in a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or = new Animator(canva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or.start(); // start animator 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2438280"/>
            <a:ext cx="11430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display(GLDrawable drawabl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5. generate a random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x = Math.random()*WID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y = Math.random()*HE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specify to draw a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glBegin(GL.GL_POINT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glVertex2d(x, 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glEn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438280"/>
            <a:ext cx="11430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1_1_Point f = new J1_1_Po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6. Add a title on the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.setTitle("JOGL J1_1_Poin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.setSize(WIDTH, HEIGH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.setVisible(tr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2438280"/>
            <a:ext cx="11430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5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5T07:43:01Z</dcterms:created>
  <dc:creator>Jim X. Chen</dc:creator>
  <dc:description/>
  <dc:language>en-US</dc:language>
  <cp:lastModifiedBy>Jim X. Chen</cp:lastModifiedBy>
  <dcterms:modified xsi:type="dcterms:W3CDTF">2005-09-27T19:57:09Z</dcterms:modified>
  <cp:revision>102</cp:revision>
  <dc:subject/>
  <dc:title>Guide to Computer Graphics Tools</dc:title>
</cp:coreProperties>
</file>