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0.png" ContentType="image/png"/>
  <Override PartName="/ppt/media/CHIMES.WAV" ContentType="audio/x-wav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FC1-8114-4533-8F30-2ABAFA0E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8B5-60CC-43B4-9D37-3120C1EC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ECD-2A57-401B-970B-E5F07CA0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7CC-33A0-4E0C-A358-AA4CF1E0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EE0F-BDA0-4906-9F14-1A5FEEFB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7DDB-2B69-43E6-A8A6-8053C4A8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CF1E-479A-4B20-AC09-530B4062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BBEF-2747-4B0B-BEA7-A759F73F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0A69-65FA-4767-8374-B283E4DB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43F1-0BC9-460C-91AB-8AC04F3F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43F0-77F4-43C7-BC3F-1E408988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DE8-3DE4-4CAF-92BF-7E6A377E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FC45-5162-4E32-9E8E-3A603CB2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DF2E-29A9-405D-A09A-68EFA475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341A-FCB1-499A-9EE3-E73D3224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8676-11F0-4A9D-9E4F-DC30F70E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BBB5-27EF-4E1C-B54D-CA098432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98F-69EF-4BCD-B699-5DB69E3E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7F9-8718-4CBE-8AB8-3D584320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8A0-E956-4182-B678-4C4CBF79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7EA-B331-4CF7-87BD-2CE5ED68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3B8-417E-410D-ACDE-38CBC3EE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7D4-7396-4302-A5CD-4298D93E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2DD-4C65-485A-8C6F-248DEDC3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9A02-AC48-4862-B4CB-8EAB2A658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C9EA-B296-4C58-9636-F37C20AB7F9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4.5.image.exe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hyperlink" Target="file:///image.exe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yatt100.freeserve.co.uk/download.htm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penil.sourceforge.net/" TargetMode="Externa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Drawf.exe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Drawf.exe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font.exe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84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AA6067C-3CA1-486F-98BA-6D1DB27F4B91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533520" y="3049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666880" y="8380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1138320" y="1143000"/>
            <a:ext cx="6866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 far, we only concerned with the rendering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metric data. Two other important classes of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1516320" y="1905120"/>
            <a:ext cx="608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Bitmaps, typically used for characters in fonts (bilev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513800" y="2362320"/>
            <a:ext cx="5595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Image data, which might have been scanned in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d (multiple-lev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WordArt 24"/>
          <p:cNvSpPr txBox="1"/>
          <p:nvPr/>
        </p:nvSpPr>
        <p:spPr>
          <a:xfrm>
            <a:off x="762120" y="838080"/>
            <a:ext cx="7162560" cy="3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XELS, BITMAPS, FONTS, AND IMAGES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6115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147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A4521B6-1969-41E4-BFA7-1B176513F0F6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24"/>
          <p:cNvGrpSpPr/>
          <p:nvPr/>
        </p:nvGrpSpPr>
        <p:grpSpPr>
          <a:xfrm>
            <a:off x="532080" y="1143000"/>
            <a:ext cx="7138080" cy="4862520"/>
            <a:chOff x="532080" y="1143000"/>
            <a:chExt cx="7138080" cy="4862520"/>
          </a:xfrm>
        </p:grpSpPr>
        <p:sp>
          <p:nvSpPr>
            <p:cNvPr id="151" name="Rectangle 9"/>
            <p:cNvSpPr/>
            <p:nvPr/>
          </p:nvSpPr>
          <p:spPr>
            <a:xfrm>
              <a:off x="532080" y="1143000"/>
              <a:ext cx="1245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</a:rPr>
                <a:t>Imag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1136520" y="1801800"/>
              <a:ext cx="6360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 image can contain the complete (R, G, B, A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1823400" y="2106720"/>
              <a:ext cx="402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adruple stored at each pixe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1135440" y="2540160"/>
              <a:ext cx="635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ages can come from several sources, such a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1815480" y="2971800"/>
              <a:ext cx="4897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·A photograph that’s digitized with a scan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1818360" y="3276720"/>
              <a:ext cx="534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·Generated on the screen by a graphics progra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2280600" y="3505320"/>
              <a:ext cx="538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the graphics hardware and then read back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7"/>
            <p:cNvSpPr/>
            <p:nvPr/>
          </p:nvSpPr>
          <p:spPr>
            <a:xfrm>
              <a:off x="2281680" y="3733920"/>
              <a:ext cx="1437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xel by pix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1818360" y="4038480"/>
              <a:ext cx="5336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·A software program that generated the image i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9"/>
            <p:cNvSpPr/>
            <p:nvPr/>
          </p:nvSpPr>
          <p:spPr>
            <a:xfrm>
              <a:off x="2282040" y="4268880"/>
              <a:ext cx="2388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ory pixel by pix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1137600" y="4599000"/>
              <a:ext cx="59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addition to simply being displayed on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1821960" y="4903920"/>
              <a:ext cx="571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reen, images can be used for texture ma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2"/>
            <p:cNvSpPr/>
            <p:nvPr/>
          </p:nvSpPr>
          <p:spPr>
            <a:xfrm>
              <a:off x="1139760" y="53355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23"/>
            <p:cNvSpPr/>
            <p:nvPr/>
          </p:nvSpPr>
          <p:spPr>
            <a:xfrm>
              <a:off x="1825560" y="56404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167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31B4943-373C-435F-A28B-B6083FF0DD32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762480" y="609480"/>
            <a:ext cx="180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1523880" y="1143000"/>
            <a:ext cx="6019920" cy="48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initImage(voi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_stars_imag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PixelStorei(GL_UNPACK_ALIGNMENT,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drawImage(float x, float y, float 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RasterPos3f(x, y, 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DrawPixels(stars_pixels, stars_pixels, GL_LUMINAN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_UNSIGNED_BYTE, </a:t>
            </a: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stars_im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display(voi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drawImage(-2.4*Width, -2.4*Height, -2.0*Widt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wRobot(A, B, C, alpha, beta, gama)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utSwapBuffers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>
            <a:hlinkClick r:id="rId1"/>
          </p:cNvPr>
          <p:cNvSpPr/>
          <p:nvPr/>
        </p:nvSpPr>
        <p:spPr>
          <a:xfrm>
            <a:off x="7315200" y="4114800"/>
            <a:ext cx="114300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175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122ED45-245C-48A3-86E9-A5B9DB012C1F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40"/>
          <p:cNvGrpSpPr/>
          <p:nvPr/>
        </p:nvGrpSpPr>
        <p:grpSpPr>
          <a:xfrm>
            <a:off x="837000" y="457200"/>
            <a:ext cx="6959880" cy="3425760"/>
            <a:chOff x="837000" y="457200"/>
            <a:chExt cx="6959880" cy="3425760"/>
          </a:xfrm>
        </p:grpSpPr>
        <p:sp>
          <p:nvSpPr>
            <p:cNvPr id="179" name="Rectangle 22"/>
            <p:cNvSpPr/>
            <p:nvPr/>
          </p:nvSpPr>
          <p:spPr>
            <a:xfrm>
              <a:off x="837000" y="457200"/>
              <a:ext cx="5514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Reading, Writing, and Copying Pixel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24"/>
            <p:cNvSpPr/>
            <p:nvPr/>
          </p:nvSpPr>
          <p:spPr>
            <a:xfrm>
              <a:off x="1136520" y="1116000"/>
              <a:ext cx="6183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penGL provides three basic commands t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25"/>
            <p:cNvSpPr/>
            <p:nvPr/>
          </p:nvSpPr>
          <p:spPr>
            <a:xfrm>
              <a:off x="1875960" y="1420920"/>
              <a:ext cx="308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nipulate image dat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6"/>
            <p:cNvSpPr/>
            <p:nvPr/>
          </p:nvSpPr>
          <p:spPr>
            <a:xfrm>
              <a:off x="1827720" y="1854360"/>
              <a:ext cx="579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·glReadPixels() -- Reads a rectangular array of pixel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7"/>
            <p:cNvSpPr/>
            <p:nvPr/>
          </p:nvSpPr>
          <p:spPr>
            <a:xfrm>
              <a:off x="2282040" y="2082960"/>
              <a:ext cx="473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om the framebuffer and stores the data i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28"/>
            <p:cNvSpPr/>
            <p:nvPr/>
          </p:nvSpPr>
          <p:spPr>
            <a:xfrm>
              <a:off x="2372400" y="2311560"/>
              <a:ext cx="2118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 memory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9"/>
            <p:cNvSpPr/>
            <p:nvPr/>
          </p:nvSpPr>
          <p:spPr>
            <a:xfrm>
              <a:off x="1827000" y="2616120"/>
              <a:ext cx="580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·glDrawPixels() -- Writes a rectangular array of pixel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30"/>
            <p:cNvSpPr/>
            <p:nvPr/>
          </p:nvSpPr>
          <p:spPr>
            <a:xfrm>
              <a:off x="2281680" y="2844720"/>
              <a:ext cx="529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o the framebuffer from data kept in process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31"/>
            <p:cNvSpPr/>
            <p:nvPr/>
          </p:nvSpPr>
          <p:spPr>
            <a:xfrm>
              <a:off x="2365560" y="3073320"/>
              <a:ext cx="101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ory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32"/>
            <p:cNvSpPr/>
            <p:nvPr/>
          </p:nvSpPr>
          <p:spPr>
            <a:xfrm>
              <a:off x="1826640" y="3378240"/>
              <a:ext cx="516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·glCopyPixels() -- Copies a rectangular array o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33"/>
            <p:cNvSpPr/>
            <p:nvPr/>
          </p:nvSpPr>
          <p:spPr>
            <a:xfrm>
              <a:off x="2280960" y="3608280"/>
              <a:ext cx="551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xels from one part of the framebuffer to another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0" name="Picture 26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4975200" cy="2057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2">
            <a:hlinkClick r:id="rId3"/>
          </p:cNvPr>
          <p:cNvSpPr/>
          <p:nvPr/>
        </p:nvSpPr>
        <p:spPr>
          <a:xfrm>
            <a:off x="7315200" y="4114800"/>
            <a:ext cx="114300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D73D-0E36-4EF9-AF39-3860717ABA4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Is for Im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ReadPixel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ing pixel data from framebuffer to processor mem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DrawPixel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pixel data from processor memory to frame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CopyPixel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pying pixel data within the frame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2"/>
          <p:cNvGraphicFramePr/>
          <p:nvPr/>
        </p:nvGraphicFramePr>
        <p:xfrm>
          <a:off x="4343400" y="1828800"/>
          <a:ext cx="45990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28800"/>
                    <a:ext cx="45990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B868-25C3-4AAD-81E3-39375859E76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ing Pip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263520" y="1981080"/>
          <a:ext cx="6670800" cy="46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1981080"/>
                    <a:ext cx="667080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3"/>
          <p:cNvGraphicFramePr/>
          <p:nvPr/>
        </p:nvGraphicFramePr>
        <p:xfrm>
          <a:off x="5105520" y="1066680"/>
          <a:ext cx="3886200" cy="310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066680"/>
                    <a:ext cx="388620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Freeform 5"/>
          <p:cNvSpPr/>
          <p:nvPr/>
        </p:nvSpPr>
        <p:spPr>
          <a:xfrm>
            <a:off x="961920" y="2867040"/>
            <a:ext cx="895320" cy="457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89AC-4890-4852-85B6-E4FB8F19A38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ReadPixels (x, y, w, h, F, T, pt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,y: window 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: pixe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: is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tr: pointer to imag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DrawPixels (w, h, F, T, pt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 to current raste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CopyPixels (x, y, w, h, buff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ffer: GL_COLOR | GL_DEPTH | GL_ST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quivalent to: Read then Dr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4736-C14F-4E4F-8B41-62FDB24489F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505320" y="228600"/>
            <a:ext cx="5064120" cy="662940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/>
          <p:cNvSpPr/>
          <p:nvPr/>
        </p:nvSpPr>
        <p:spPr>
          <a:xfrm>
            <a:off x="533520" y="2209680"/>
            <a:ext cx="2286000" cy="914400"/>
          </a:xfrm>
          <a:prstGeom prst="cloudCallout">
            <a:avLst>
              <a:gd name="adj1" fmla="val 78125"/>
              <a:gd name="adj2" fmla="val -1753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55: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04920" y="3200400"/>
            <a:ext cx="2911320" cy="94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e also image.c for CopyPix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2409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576F-3BE2-4997-8C7A-BED1682839A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 on glCopyPix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 that there's no need fo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m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arameter f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CopyPixels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ince the data is never copied into processor mem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ead source buffer and the destination buffer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CopyPixels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specifi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ReadBuffer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DrawBuffer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sp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faul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gle-buffer: GL_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uble-buffered: GL_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13A5-5203-43FB-928A-710FC6225BA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033" descr=""/>
          <p:cNvPicPr/>
          <p:nvPr/>
        </p:nvPicPr>
        <p:blipFill>
          <a:blip r:embed="rId1"/>
          <a:stretch/>
        </p:blipFill>
        <p:spPr>
          <a:xfrm>
            <a:off x="704880" y="1639800"/>
            <a:ext cx="5238720" cy="18478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 image.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30"/>
          <p:cNvSpPr/>
          <p:nvPr/>
        </p:nvSpPr>
        <p:spPr>
          <a:xfrm>
            <a:off x="628560" y="3691080"/>
            <a:ext cx="7537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py the lower left corner to the CRP (where the mouse 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single-buffer version, only GL_FRONT is inv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le motion is in action, display is not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a1502"/>
                </a:solidFill>
                <a:latin typeface="Times New Roman"/>
                <a:ea typeface="新細明體"/>
              </a:rPr>
              <a:t>Double-buff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ersion: [from the API doc] glutSwapBuffers promotes the contents of the back buffer to become the contents of the front buffer. The contents of the back buffer then become undefined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lity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 two have same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image.avi" descr=""/>
          <p:cNvPicPr/>
          <p:nvPr/>
        </p:nvPicPr>
        <p:blipFill>
          <a:blip r:embed="rId6"/>
          <a:stretch/>
        </p:blipFill>
        <p:spPr>
          <a:xfrm>
            <a:off x="6089760" y="196920"/>
            <a:ext cx="28098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29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DD435D8-063C-4DD5-A372-8CB1A28E2994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19640" cy="18428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6"/>
          <p:cNvSpPr/>
          <p:nvPr/>
        </p:nvSpPr>
        <p:spPr>
          <a:xfrm>
            <a:off x="914400" y="685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g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27"/>
          <p:cNvSpPr/>
          <p:nvPr/>
        </p:nvSpPr>
        <p:spPr>
          <a:xfrm>
            <a:off x="91440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CopyPixel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1371600" y="3657600"/>
            <a:ext cx="5576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BDB1-A608-41A7-909D-30666E4861E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rrent Raster Position (CR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GL mai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ster 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3D-position in world 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RasterPo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y the object coordinates (as in glVertex); transformed by MODELVIEW &amp; PROJECTION, passed to the clipping st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position is not culled, raster position is updated; otherwise, it is not val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Bitma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GetFloatv(GL_CURRENT_RASTER_POSITION, fptr) to obtain the C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a1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1502"/>
                </a:solidFill>
                <a:latin typeface="Times New Roman"/>
                <a:ea typeface="新細明體"/>
              </a:rPr>
              <a:t>glGetBooleanv (GL_CURRENT_RASTER_POSITION_VALID, &amp;boolvar) to test validity of C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38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E1C8D98-A942-4CB5-89FE-9B755893338A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26"/>
          <p:cNvSpPr/>
          <p:nvPr/>
        </p:nvSpPr>
        <p:spPr>
          <a:xfrm>
            <a:off x="914400" y="685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Bitmap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68562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45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F50ADE1-D9A9-4AC8-ADF4-1E8BBF861390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41"/>
          <p:cNvGrpSpPr/>
          <p:nvPr/>
        </p:nvGrpSpPr>
        <p:grpSpPr>
          <a:xfrm>
            <a:off x="685800" y="457200"/>
            <a:ext cx="7300800" cy="5195160"/>
            <a:chOff x="685800" y="457200"/>
            <a:chExt cx="7300800" cy="5195160"/>
          </a:xfrm>
        </p:grpSpPr>
        <p:sp>
          <p:nvSpPr>
            <p:cNvPr id="249" name="Rectangle 25"/>
            <p:cNvSpPr/>
            <p:nvPr/>
          </p:nvSpPr>
          <p:spPr>
            <a:xfrm>
              <a:off x="685800" y="457200"/>
              <a:ext cx="6640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Storing, Transforming, and Mapping Pixe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7"/>
            <p:cNvSpPr/>
            <p:nvPr/>
          </p:nvSpPr>
          <p:spPr>
            <a:xfrm>
              <a:off x="1137240" y="1116000"/>
              <a:ext cx="636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 image stored in memory has between 1 or 4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8"/>
            <p:cNvSpPr/>
            <p:nvPr/>
          </p:nvSpPr>
          <p:spPr>
            <a:xfrm>
              <a:off x="1874520" y="1420920"/>
              <a:ext cx="6112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hunks of data, called elements, for each pixel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9"/>
            <p:cNvSpPr/>
            <p:nvPr/>
          </p:nvSpPr>
          <p:spPr>
            <a:xfrm>
              <a:off x="1135800" y="1854360"/>
              <a:ext cx="648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data might consist of just the color index 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30"/>
            <p:cNvSpPr/>
            <p:nvPr/>
          </p:nvSpPr>
          <p:spPr>
            <a:xfrm>
              <a:off x="1865880" y="2158920"/>
              <a:ext cx="535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uminance, or the RGBA 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31"/>
            <p:cNvSpPr/>
            <p:nvPr/>
          </p:nvSpPr>
          <p:spPr>
            <a:xfrm>
              <a:off x="1136160" y="2590920"/>
              <a:ext cx="589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possible arrangements of pixel data, 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32"/>
            <p:cNvSpPr/>
            <p:nvPr/>
          </p:nvSpPr>
          <p:spPr>
            <a:xfrm>
              <a:off x="1881000" y="2882880"/>
              <a:ext cx="96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ma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3"/>
            <p:cNvSpPr/>
            <p:nvPr/>
          </p:nvSpPr>
          <p:spPr>
            <a:xfrm>
              <a:off x="2833920" y="2895480"/>
              <a:ext cx="468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determine the number of elemen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34"/>
            <p:cNvSpPr/>
            <p:nvPr/>
          </p:nvSpPr>
          <p:spPr>
            <a:xfrm>
              <a:off x="1892520" y="3200400"/>
              <a:ext cx="4806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ored for each pixel and their ord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35"/>
            <p:cNvSpPr/>
            <p:nvPr/>
          </p:nvSpPr>
          <p:spPr>
            <a:xfrm>
              <a:off x="1135080" y="3633840"/>
              <a:ext cx="575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age data is typically stored in process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36"/>
            <p:cNvSpPr/>
            <p:nvPr/>
          </p:nvSpPr>
          <p:spPr>
            <a:xfrm>
              <a:off x="1884600" y="3938760"/>
              <a:ext cx="548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mory in rectangular 2-D or 3-D array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7"/>
            <p:cNvSpPr/>
            <p:nvPr/>
          </p:nvSpPr>
          <p:spPr>
            <a:xfrm>
              <a:off x="1134720" y="4370400"/>
              <a:ext cx="6422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s image data is transferred from memory in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8"/>
            <p:cNvSpPr/>
            <p:nvPr/>
          </p:nvSpPr>
          <p:spPr>
            <a:xfrm>
              <a:off x="1819800" y="4675320"/>
              <a:ext cx="6054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ramebuffer, or from the framebuffer in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9"/>
            <p:cNvSpPr/>
            <p:nvPr/>
          </p:nvSpPr>
          <p:spPr>
            <a:xfrm>
              <a:off x="1865160" y="4979880"/>
              <a:ext cx="515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mory, OpenGL can perform sever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40"/>
            <p:cNvSpPr/>
            <p:nvPr/>
          </p:nvSpPr>
          <p:spPr>
            <a:xfrm>
              <a:off x="1887480" y="5286240"/>
              <a:ext cx="2187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perations on it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C78A-81AC-4388-A3EB-0F901882E76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2062080" y="1357200"/>
            <a:ext cx="6096240" cy="54324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09520" y="5022720"/>
            <a:ext cx="14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Y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1614600" y="5200560"/>
            <a:ext cx="371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89080" y="536112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EY SCALE with alp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638360" y="5538960"/>
            <a:ext cx="371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BAC6-22EF-4EA8-84A8-99865601FEA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2392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78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FEA64BB-73DF-4332-AED3-7D4B1C75C1AD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3"/>
          <p:cNvSpPr/>
          <p:nvPr/>
        </p:nvSpPr>
        <p:spPr>
          <a:xfrm>
            <a:off x="910440" y="533520"/>
            <a:ext cx="427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ontrolling Pixel-Storag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5"/>
          <p:cNvSpPr/>
          <p:nvPr/>
        </p:nvSpPr>
        <p:spPr>
          <a:xfrm>
            <a:off x="492840" y="1065240"/>
            <a:ext cx="644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void glPixelStore{if}(GLenum pname, TYPE pa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6"/>
          <p:cNvSpPr/>
          <p:nvPr/>
        </p:nvSpPr>
        <p:spPr>
          <a:xfrm>
            <a:off x="1828800" y="1371600"/>
            <a:ext cx="317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the pixel-storage m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30"/>
          <p:cNvSpPr/>
          <p:nvPr/>
        </p:nvSpPr>
        <p:spPr>
          <a:xfrm>
            <a:off x="1825200" y="1828800"/>
            <a:ext cx="548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L_UNPACK* parameters control how data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1"/>
          <p:cNvSpPr/>
          <p:nvPr/>
        </p:nvSpPr>
        <p:spPr>
          <a:xfrm>
            <a:off x="1825560" y="2087640"/>
            <a:ext cx="626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packed from memory into framebuffer; The GL_PACK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1824480" y="2316240"/>
            <a:ext cx="579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 control how data is packed into memo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1179000" y="3060720"/>
            <a:ext cx="167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ameter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1139760" y="3276720"/>
            <a:ext cx="1663920" cy="25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5"/>
          <p:cNvSpPr/>
          <p:nvPr/>
        </p:nvSpPr>
        <p:spPr>
          <a:xfrm>
            <a:off x="3469680" y="30607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6"/>
          <p:cNvSpPr/>
          <p:nvPr/>
        </p:nvSpPr>
        <p:spPr>
          <a:xfrm>
            <a:off x="3425760" y="3276720"/>
            <a:ext cx="482760" cy="25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7"/>
          <p:cNvSpPr/>
          <p:nvPr/>
        </p:nvSpPr>
        <p:spPr>
          <a:xfrm>
            <a:off x="4393080" y="3060720"/>
            <a:ext cx="122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38"/>
          <p:cNvSpPr/>
          <p:nvPr/>
        </p:nvSpPr>
        <p:spPr>
          <a:xfrm>
            <a:off x="4340160" y="3276720"/>
            <a:ext cx="1206720" cy="25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39"/>
          <p:cNvSpPr/>
          <p:nvPr/>
        </p:nvSpPr>
        <p:spPr>
          <a:xfrm>
            <a:off x="6225120" y="3060720"/>
            <a:ext cx="127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id R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40"/>
          <p:cNvSpPr/>
          <p:nvPr/>
        </p:nvSpPr>
        <p:spPr>
          <a:xfrm>
            <a:off x="6168960" y="3276720"/>
            <a:ext cx="1244520" cy="25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1"/>
          <p:cNvSpPr/>
          <p:nvPr/>
        </p:nvSpPr>
        <p:spPr>
          <a:xfrm>
            <a:off x="1146960" y="3289320"/>
            <a:ext cx="211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SWAP_BYT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2"/>
          <p:cNvSpPr/>
          <p:nvPr/>
        </p:nvSpPr>
        <p:spPr>
          <a:xfrm>
            <a:off x="1148760" y="3443400"/>
            <a:ext cx="182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SWAP_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3"/>
          <p:cNvSpPr/>
          <p:nvPr/>
        </p:nvSpPr>
        <p:spPr>
          <a:xfrm>
            <a:off x="3424680" y="344340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bool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4"/>
          <p:cNvSpPr/>
          <p:nvPr/>
        </p:nvSpPr>
        <p:spPr>
          <a:xfrm>
            <a:off x="4817520" y="3443400"/>
            <a:ext cx="49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45"/>
          <p:cNvSpPr/>
          <p:nvPr/>
        </p:nvSpPr>
        <p:spPr>
          <a:xfrm>
            <a:off x="6171840" y="3443400"/>
            <a:ext cx="95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UE/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46"/>
          <p:cNvSpPr/>
          <p:nvPr/>
        </p:nvSpPr>
        <p:spPr>
          <a:xfrm>
            <a:off x="1153080" y="3747960"/>
            <a:ext cx="191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LSB_FIRS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7"/>
          <p:cNvSpPr/>
          <p:nvPr/>
        </p:nvSpPr>
        <p:spPr>
          <a:xfrm>
            <a:off x="1154880" y="3900600"/>
            <a:ext cx="162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LSB_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3424680" y="390060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bool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9"/>
          <p:cNvSpPr/>
          <p:nvPr/>
        </p:nvSpPr>
        <p:spPr>
          <a:xfrm>
            <a:off x="4817520" y="3900600"/>
            <a:ext cx="49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0"/>
          <p:cNvSpPr/>
          <p:nvPr/>
        </p:nvSpPr>
        <p:spPr>
          <a:xfrm>
            <a:off x="6171840" y="3900600"/>
            <a:ext cx="95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UE/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1"/>
          <p:cNvSpPr/>
          <p:nvPr/>
        </p:nvSpPr>
        <p:spPr>
          <a:xfrm>
            <a:off x="1132200" y="4205160"/>
            <a:ext cx="22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ROW_LENGTH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52"/>
          <p:cNvSpPr/>
          <p:nvPr/>
        </p:nvSpPr>
        <p:spPr>
          <a:xfrm>
            <a:off x="1134360" y="4357800"/>
            <a:ext cx="191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ROW_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3"/>
          <p:cNvSpPr/>
          <p:nvPr/>
        </p:nvSpPr>
        <p:spPr>
          <a:xfrm>
            <a:off x="3882240" y="435780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54"/>
          <p:cNvSpPr/>
          <p:nvPr/>
        </p:nvSpPr>
        <p:spPr>
          <a:xfrm>
            <a:off x="4828680" y="4357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5"/>
          <p:cNvSpPr/>
          <p:nvPr/>
        </p:nvSpPr>
        <p:spPr>
          <a:xfrm>
            <a:off x="5770800" y="4357800"/>
            <a:ext cx="15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y nonnegative 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56"/>
          <p:cNvSpPr/>
          <p:nvPr/>
        </p:nvSpPr>
        <p:spPr>
          <a:xfrm>
            <a:off x="1155600" y="4662360"/>
            <a:ext cx="200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SKIP_ROW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57"/>
          <p:cNvSpPr/>
          <p:nvPr/>
        </p:nvSpPr>
        <p:spPr>
          <a:xfrm>
            <a:off x="1157400" y="4815000"/>
            <a:ext cx="170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SKIP_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8"/>
          <p:cNvSpPr/>
          <p:nvPr/>
        </p:nvSpPr>
        <p:spPr>
          <a:xfrm>
            <a:off x="3882240" y="481500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9"/>
          <p:cNvSpPr/>
          <p:nvPr/>
        </p:nvSpPr>
        <p:spPr>
          <a:xfrm>
            <a:off x="4828680" y="48150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0"/>
          <p:cNvSpPr/>
          <p:nvPr/>
        </p:nvSpPr>
        <p:spPr>
          <a:xfrm>
            <a:off x="5770800" y="4815000"/>
            <a:ext cx="15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y nonnegative 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61"/>
          <p:cNvSpPr/>
          <p:nvPr/>
        </p:nvSpPr>
        <p:spPr>
          <a:xfrm>
            <a:off x="1138680" y="5119560"/>
            <a:ext cx="208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SKIP_PIXEL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2"/>
          <p:cNvSpPr/>
          <p:nvPr/>
        </p:nvSpPr>
        <p:spPr>
          <a:xfrm>
            <a:off x="1140120" y="5273640"/>
            <a:ext cx="178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SKIP_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3"/>
          <p:cNvSpPr/>
          <p:nvPr/>
        </p:nvSpPr>
        <p:spPr>
          <a:xfrm>
            <a:off x="3882240" y="527364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64"/>
          <p:cNvSpPr/>
          <p:nvPr/>
        </p:nvSpPr>
        <p:spPr>
          <a:xfrm>
            <a:off x="4828680" y="5273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5"/>
          <p:cNvSpPr/>
          <p:nvPr/>
        </p:nvSpPr>
        <p:spPr>
          <a:xfrm>
            <a:off x="5770800" y="5273640"/>
            <a:ext cx="15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y nonnegative 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6"/>
          <p:cNvSpPr/>
          <p:nvPr/>
        </p:nvSpPr>
        <p:spPr>
          <a:xfrm>
            <a:off x="1133280" y="5578560"/>
            <a:ext cx="205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ALIGNME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7"/>
          <p:cNvSpPr/>
          <p:nvPr/>
        </p:nvSpPr>
        <p:spPr>
          <a:xfrm>
            <a:off x="1135080" y="5730840"/>
            <a:ext cx="176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AL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68"/>
          <p:cNvSpPr/>
          <p:nvPr/>
        </p:nvSpPr>
        <p:spPr>
          <a:xfrm>
            <a:off x="3882240" y="573084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69"/>
          <p:cNvSpPr/>
          <p:nvPr/>
        </p:nvSpPr>
        <p:spPr>
          <a:xfrm>
            <a:off x="4828680" y="57308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70"/>
          <p:cNvSpPr/>
          <p:nvPr/>
        </p:nvSpPr>
        <p:spPr>
          <a:xfrm>
            <a:off x="5743080" y="5730840"/>
            <a:ext cx="53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, 2, 4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20AC-1ED0-4692-8F60-90F4E998713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ing Pipeline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PixelStor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trolling Pixel-Storage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PixelStorei(GL_UNPACK_ALIGNMENT, 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cking and unpacking refer to the way that pixel data is written to and read from processor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lls OpenGL not to skip bytes at the end of a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C35F-28C4-491C-BA1F-F1F26A7A13C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Storei(GL_UNPACK_ALIGNMENT,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s the alignment requirements for the start of each pixel row in memory. The allowable valu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 (byte-alignment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 (rows aligned to even-numbered bytes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 (word-alignment [default])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8 (rows start on double-word boundari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028"/>
          <p:cNvSpPr/>
          <p:nvPr/>
        </p:nvSpPr>
        <p:spPr>
          <a:xfrm>
            <a:off x="1509120" y="5470560"/>
            <a:ext cx="2010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te:8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:16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uble-word:32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A47F-DBD4-4774-A19D-FEF7EEA2C44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609480" y="3048120"/>
            <a:ext cx="600120" cy="90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4"/>
          <p:cNvSpPr/>
          <p:nvPr/>
        </p:nvSpPr>
        <p:spPr>
          <a:xfrm>
            <a:off x="1209600" y="3048120"/>
            <a:ext cx="619200" cy="90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15"/>
          <p:cNvSpPr/>
          <p:nvPr/>
        </p:nvSpPr>
        <p:spPr>
          <a:xfrm>
            <a:off x="1828800" y="3048120"/>
            <a:ext cx="619200" cy="90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16"/>
          <p:cNvSpPr/>
          <p:nvPr/>
        </p:nvSpPr>
        <p:spPr>
          <a:xfrm>
            <a:off x="2448000" y="3048120"/>
            <a:ext cx="619200" cy="90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17"/>
          <p:cNvSpPr/>
          <p:nvPr/>
        </p:nvSpPr>
        <p:spPr>
          <a:xfrm>
            <a:off x="3067200" y="3048120"/>
            <a:ext cx="618840" cy="90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18"/>
          <p:cNvSpPr/>
          <p:nvPr/>
        </p:nvSpPr>
        <p:spPr>
          <a:xfrm>
            <a:off x="3686040" y="3048120"/>
            <a:ext cx="619200" cy="90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19"/>
          <p:cNvSpPr/>
          <p:nvPr/>
        </p:nvSpPr>
        <p:spPr>
          <a:xfrm>
            <a:off x="4305240" y="3048120"/>
            <a:ext cx="619200" cy="90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0"/>
          <p:cNvSpPr/>
          <p:nvPr/>
        </p:nvSpPr>
        <p:spPr>
          <a:xfrm>
            <a:off x="4915080" y="3048120"/>
            <a:ext cx="618840" cy="90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23"/>
          <p:cNvSpPr/>
          <p:nvPr/>
        </p:nvSpPr>
        <p:spPr>
          <a:xfrm rot="16200000">
            <a:off x="1408320" y="3234960"/>
            <a:ext cx="199800" cy="1771560"/>
          </a:xfrm>
          <a:custGeom>
            <a:avLst/>
            <a:gdLst>
              <a:gd name="textAreaLeft" fmla="*/ 127800 w 199800"/>
              <a:gd name="textAreaRight" fmla="*/ 200160 w 199800"/>
              <a:gd name="textAreaTop" fmla="*/ 46080 h 1771560"/>
              <a:gd name="textAreaBottom" fmla="*/ 1725480 h 177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24"/>
          <p:cNvSpPr/>
          <p:nvPr/>
        </p:nvSpPr>
        <p:spPr>
          <a:xfrm>
            <a:off x="1047600" y="424512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26"/>
          <p:cNvSpPr/>
          <p:nvPr/>
        </p:nvSpPr>
        <p:spPr>
          <a:xfrm rot="16200000">
            <a:off x="3289320" y="3230280"/>
            <a:ext cx="199800" cy="1771560"/>
          </a:xfrm>
          <a:custGeom>
            <a:avLst/>
            <a:gdLst>
              <a:gd name="textAreaLeft" fmla="*/ 127800 w 199800"/>
              <a:gd name="textAreaRight" fmla="*/ 200160 w 199800"/>
              <a:gd name="textAreaTop" fmla="*/ 46080 h 1771560"/>
              <a:gd name="textAreaBottom" fmla="*/ 1725480 h 177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926800" y="424008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nd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8"/>
          <p:cNvSpPr/>
          <p:nvPr/>
        </p:nvSpPr>
        <p:spPr>
          <a:xfrm>
            <a:off x="647640" y="4886280"/>
            <a:ext cx="600120" cy="90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29"/>
          <p:cNvSpPr/>
          <p:nvPr/>
        </p:nvSpPr>
        <p:spPr>
          <a:xfrm>
            <a:off x="1247760" y="4886280"/>
            <a:ext cx="619200" cy="90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30"/>
          <p:cNvSpPr/>
          <p:nvPr/>
        </p:nvSpPr>
        <p:spPr>
          <a:xfrm>
            <a:off x="1866960" y="4886280"/>
            <a:ext cx="619200" cy="90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31"/>
          <p:cNvSpPr/>
          <p:nvPr/>
        </p:nvSpPr>
        <p:spPr>
          <a:xfrm>
            <a:off x="2486160" y="4886280"/>
            <a:ext cx="618840" cy="90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32"/>
          <p:cNvSpPr/>
          <p:nvPr/>
        </p:nvSpPr>
        <p:spPr>
          <a:xfrm>
            <a:off x="3105000" y="4886280"/>
            <a:ext cx="619200" cy="90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reeform 33"/>
          <p:cNvSpPr/>
          <p:nvPr/>
        </p:nvSpPr>
        <p:spPr>
          <a:xfrm>
            <a:off x="3724200" y="4886280"/>
            <a:ext cx="619200" cy="90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34"/>
          <p:cNvSpPr/>
          <p:nvPr/>
        </p:nvSpPr>
        <p:spPr>
          <a:xfrm>
            <a:off x="4343400" y="4886280"/>
            <a:ext cx="619200" cy="90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5"/>
          <p:cNvSpPr/>
          <p:nvPr/>
        </p:nvSpPr>
        <p:spPr>
          <a:xfrm>
            <a:off x="4952880" y="4886280"/>
            <a:ext cx="619200" cy="90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36"/>
          <p:cNvSpPr/>
          <p:nvPr/>
        </p:nvSpPr>
        <p:spPr>
          <a:xfrm rot="16200000">
            <a:off x="1446120" y="5073480"/>
            <a:ext cx="200160" cy="1771920"/>
          </a:xfrm>
          <a:custGeom>
            <a:avLst/>
            <a:gdLst>
              <a:gd name="textAreaLeft" fmla="*/ 127800 w 200160"/>
              <a:gd name="textAreaRight" fmla="*/ 200520 w 200160"/>
              <a:gd name="textAreaTop" fmla="*/ 46080 h 1771920"/>
              <a:gd name="textAreaBottom" fmla="*/ 1725840 h 17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1085760" y="608328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38"/>
          <p:cNvSpPr/>
          <p:nvPr/>
        </p:nvSpPr>
        <p:spPr>
          <a:xfrm rot="16200000">
            <a:off x="3898800" y="5068800"/>
            <a:ext cx="200160" cy="1771920"/>
          </a:xfrm>
          <a:custGeom>
            <a:avLst/>
            <a:gdLst>
              <a:gd name="textAreaLeft" fmla="*/ 127800 w 200160"/>
              <a:gd name="textAreaRight" fmla="*/ 200520 w 200160"/>
              <a:gd name="textAreaTop" fmla="*/ 46080 h 1771920"/>
              <a:gd name="textAreaBottom" fmla="*/ 1725840 h 17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9"/>
          <p:cNvSpPr/>
          <p:nvPr/>
        </p:nvSpPr>
        <p:spPr>
          <a:xfrm>
            <a:off x="3536280" y="607860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nd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0"/>
          <p:cNvSpPr/>
          <p:nvPr/>
        </p:nvSpPr>
        <p:spPr>
          <a:xfrm>
            <a:off x="2264040" y="249876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ient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834520" y="301608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te aligned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5930280" y="485460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d aligned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43"/>
          <p:cNvSpPr/>
          <p:nvPr/>
        </p:nvSpPr>
        <p:spPr>
          <a:xfrm>
            <a:off x="685800" y="4929120"/>
            <a:ext cx="1114560" cy="8143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4"/>
          <p:cNvSpPr/>
          <p:nvPr/>
        </p:nvSpPr>
        <p:spPr>
          <a:xfrm>
            <a:off x="1924200" y="4924440"/>
            <a:ext cx="1114200" cy="8143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45"/>
          <p:cNvSpPr/>
          <p:nvPr/>
        </p:nvSpPr>
        <p:spPr>
          <a:xfrm>
            <a:off x="3176640" y="4948200"/>
            <a:ext cx="1114200" cy="8143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6"/>
          <p:cNvSpPr/>
          <p:nvPr/>
        </p:nvSpPr>
        <p:spPr>
          <a:xfrm>
            <a:off x="4386240" y="4943520"/>
            <a:ext cx="1114560" cy="8143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48"/>
          <p:cNvSpPr/>
          <p:nvPr/>
        </p:nvSpPr>
        <p:spPr>
          <a:xfrm>
            <a:off x="5418000" y="2184480"/>
            <a:ext cx="23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art of each row of pixels is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Group 51"/>
          <p:cNvGrpSpPr/>
          <p:nvPr/>
        </p:nvGrpSpPr>
        <p:grpSpPr>
          <a:xfrm>
            <a:off x="3043080" y="585720"/>
            <a:ext cx="4257720" cy="1228680"/>
            <a:chOff x="3043080" y="585720"/>
            <a:chExt cx="4257720" cy="1228680"/>
          </a:xfrm>
        </p:grpSpPr>
        <p:sp>
          <p:nvSpPr>
            <p:cNvPr id="370" name="Rectangle 50"/>
            <p:cNvSpPr/>
            <p:nvPr/>
          </p:nvSpPr>
          <p:spPr>
            <a:xfrm>
              <a:off x="3043080" y="585720"/>
              <a:ext cx="4257720" cy="122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Group 22"/>
            <p:cNvGrpSpPr/>
            <p:nvPr/>
          </p:nvGrpSpPr>
          <p:grpSpPr>
            <a:xfrm>
              <a:off x="5996160" y="714240"/>
              <a:ext cx="914400" cy="970200"/>
              <a:chOff x="5996160" y="714240"/>
              <a:chExt cx="914400" cy="970200"/>
            </a:xfrm>
          </p:grpSpPr>
          <p:sp>
            <p:nvSpPr>
              <p:cNvPr id="372" name="Rectangle 4"/>
              <p:cNvSpPr/>
              <p:nvPr/>
            </p:nvSpPr>
            <p:spPr>
              <a:xfrm>
                <a:off x="5996160" y="718920"/>
                <a:ext cx="914400" cy="623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5"/>
              <p:cNvSpPr/>
              <p:nvPr/>
            </p:nvSpPr>
            <p:spPr>
              <a:xfrm>
                <a:off x="5996160" y="10285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8"/>
              <p:cNvSpPr/>
              <p:nvPr/>
            </p:nvSpPr>
            <p:spPr>
              <a:xfrm>
                <a:off x="6296040" y="728640"/>
                <a:ext cx="0" cy="61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Line 9"/>
              <p:cNvSpPr/>
              <p:nvPr/>
            </p:nvSpPr>
            <p:spPr>
              <a:xfrm>
                <a:off x="6591600" y="714240"/>
                <a:ext cx="0" cy="62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Text Box 21"/>
              <p:cNvSpPr/>
              <p:nvPr/>
            </p:nvSpPr>
            <p:spPr>
              <a:xfrm>
                <a:off x="6043320" y="1407960"/>
                <a:ext cx="72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w=3,h=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Text Box 49"/>
            <p:cNvSpPr/>
            <p:nvPr/>
          </p:nvSpPr>
          <p:spPr>
            <a:xfrm>
              <a:off x="3065400" y="770040"/>
              <a:ext cx="270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Assuming the image is of size 3x2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CD33-23AD-4BD1-A03C-8FB4A6FF71E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RGBA images, it doesn’t matter (each pixel has 4 bytes: RGBARGBA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RGB and luminance images, it should be set to byte-aligned (data are densely pack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5608800" y="442800"/>
            <a:ext cx="2535120" cy="2514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5557680" y="3594240"/>
            <a:ext cx="2514600" cy="24876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7"/>
          <p:cNvSpPr/>
          <p:nvPr/>
        </p:nvSpPr>
        <p:spPr>
          <a:xfrm>
            <a:off x="4874400" y="3083040"/>
            <a:ext cx="408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PixelStorei(GL_UNPACK_ALIGNMENT,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4669560" y="6135840"/>
            <a:ext cx="408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PixelStorei(GL_UNPACK_ALIGNMENT,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388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291565D-A16C-4EB9-BEE9-E106F89AEB5B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13" descr="D:\jchen\figs\6.gif"/>
          <p:cNvPicPr/>
          <p:nvPr/>
        </p:nvPicPr>
        <p:blipFill>
          <a:blip r:embed="rId1"/>
          <a:stretch/>
        </p:blipFill>
        <p:spPr>
          <a:xfrm>
            <a:off x="1371600" y="2819520"/>
            <a:ext cx="6553080" cy="32446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5"/>
          <p:cNvSpPr/>
          <p:nvPr/>
        </p:nvSpPr>
        <p:spPr>
          <a:xfrm>
            <a:off x="760320" y="379440"/>
            <a:ext cx="167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ameter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762120" y="595440"/>
            <a:ext cx="1663560" cy="25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7"/>
          <p:cNvSpPr/>
          <p:nvPr/>
        </p:nvSpPr>
        <p:spPr>
          <a:xfrm>
            <a:off x="3047760" y="37944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8"/>
          <p:cNvSpPr/>
          <p:nvPr/>
        </p:nvSpPr>
        <p:spPr>
          <a:xfrm>
            <a:off x="3048120" y="595440"/>
            <a:ext cx="482400" cy="25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9"/>
          <p:cNvSpPr/>
          <p:nvPr/>
        </p:nvSpPr>
        <p:spPr>
          <a:xfrm>
            <a:off x="3961440" y="379440"/>
            <a:ext cx="122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0"/>
          <p:cNvSpPr/>
          <p:nvPr/>
        </p:nvSpPr>
        <p:spPr>
          <a:xfrm>
            <a:off x="3962520" y="595440"/>
            <a:ext cx="1206360" cy="25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1"/>
          <p:cNvSpPr/>
          <p:nvPr/>
        </p:nvSpPr>
        <p:spPr>
          <a:xfrm>
            <a:off x="5790240" y="379440"/>
            <a:ext cx="127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id R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2"/>
          <p:cNvSpPr/>
          <p:nvPr/>
        </p:nvSpPr>
        <p:spPr>
          <a:xfrm>
            <a:off x="5791320" y="595440"/>
            <a:ext cx="1244520" cy="25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3"/>
          <p:cNvSpPr/>
          <p:nvPr/>
        </p:nvSpPr>
        <p:spPr>
          <a:xfrm>
            <a:off x="761040" y="685800"/>
            <a:ext cx="22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ROW_LENGTH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4"/>
          <p:cNvSpPr/>
          <p:nvPr/>
        </p:nvSpPr>
        <p:spPr>
          <a:xfrm>
            <a:off x="761400" y="838080"/>
            <a:ext cx="191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ROW_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35"/>
          <p:cNvSpPr/>
          <p:nvPr/>
        </p:nvSpPr>
        <p:spPr>
          <a:xfrm>
            <a:off x="3504600" y="83808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4419360" y="838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5334480" y="838080"/>
            <a:ext cx="15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y nonnegative 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760680" y="1143000"/>
            <a:ext cx="200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SKIP_ROW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39"/>
          <p:cNvSpPr/>
          <p:nvPr/>
        </p:nvSpPr>
        <p:spPr>
          <a:xfrm>
            <a:off x="760680" y="1295280"/>
            <a:ext cx="170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SKIP_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40"/>
          <p:cNvSpPr/>
          <p:nvPr/>
        </p:nvSpPr>
        <p:spPr>
          <a:xfrm>
            <a:off x="3504600" y="129528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41"/>
          <p:cNvSpPr/>
          <p:nvPr/>
        </p:nvSpPr>
        <p:spPr>
          <a:xfrm>
            <a:off x="4419360" y="12952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42"/>
          <p:cNvSpPr/>
          <p:nvPr/>
        </p:nvSpPr>
        <p:spPr>
          <a:xfrm>
            <a:off x="5334480" y="1295280"/>
            <a:ext cx="15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y nonnegative 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759960" y="1600200"/>
            <a:ext cx="208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SKIP_PIXEL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44"/>
          <p:cNvSpPr/>
          <p:nvPr/>
        </p:nvSpPr>
        <p:spPr>
          <a:xfrm>
            <a:off x="760320" y="1754280"/>
            <a:ext cx="178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SKIP_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45"/>
          <p:cNvSpPr/>
          <p:nvPr/>
        </p:nvSpPr>
        <p:spPr>
          <a:xfrm>
            <a:off x="3504600" y="175428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6"/>
          <p:cNvSpPr/>
          <p:nvPr/>
        </p:nvSpPr>
        <p:spPr>
          <a:xfrm>
            <a:off x="4419360" y="17542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47"/>
          <p:cNvSpPr/>
          <p:nvPr/>
        </p:nvSpPr>
        <p:spPr>
          <a:xfrm>
            <a:off x="5334480" y="1754280"/>
            <a:ext cx="15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y nonnegative 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48"/>
          <p:cNvSpPr/>
          <p:nvPr/>
        </p:nvSpPr>
        <p:spPr>
          <a:xfrm>
            <a:off x="761040" y="2058840"/>
            <a:ext cx="205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UNPACK_ALIGNME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9"/>
          <p:cNvSpPr/>
          <p:nvPr/>
        </p:nvSpPr>
        <p:spPr>
          <a:xfrm>
            <a:off x="761040" y="2211480"/>
            <a:ext cx="176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_PACK_AL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50"/>
          <p:cNvSpPr/>
          <p:nvPr/>
        </p:nvSpPr>
        <p:spPr>
          <a:xfrm>
            <a:off x="3504600" y="221148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51"/>
          <p:cNvSpPr/>
          <p:nvPr/>
        </p:nvSpPr>
        <p:spPr>
          <a:xfrm>
            <a:off x="4419360" y="2211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52"/>
          <p:cNvSpPr/>
          <p:nvPr/>
        </p:nvSpPr>
        <p:spPr>
          <a:xfrm>
            <a:off x="5333760" y="2211480"/>
            <a:ext cx="53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, 2, 4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100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12FDF8C-64D4-42D1-B5BC-7C119FF5A092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1067400" y="685800"/>
            <a:ext cx="3713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itmaps and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291680" y="1447920"/>
            <a:ext cx="661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st common use of bitmaps  for charac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1293120" y="1905120"/>
            <a:ext cx="629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mmands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glRasterPos*(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c9b01"/>
                </a:solidFill>
                <a:latin typeface="Times New Roman"/>
              </a:rPr>
              <a:t>glBitmap(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1519920" y="2247840"/>
            <a:ext cx="537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osi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c9b01"/>
                </a:solidFill>
                <a:latin typeface="Times New Roman"/>
              </a:rPr>
              <a:t>dra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single bitmap o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1519560" y="2554200"/>
            <a:ext cx="90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1295280" y="2971800"/>
            <a:ext cx="70866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RasterPos{2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{sifd}{v}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E x, TYPE y, TYPE z, TYPE w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 (x, y, z, w) are transformed to screen coordinates through the transformation pipeline as an ordinary ve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WindowPos{2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{sifd}{v}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E x, TYPE y, TYPE z, TYPE w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s window 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422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8647238-84D1-4D1D-8958-BD46BFCD2A76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761760" y="609480"/>
            <a:ext cx="3998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ixel-Transfer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982800" y="1235160"/>
            <a:ext cx="671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can perform various operations on pixels as they’re transfer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982800" y="1463760"/>
            <a:ext cx="654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 and to the framebuffer: glPixelTransfer{if}(GLenum pnam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987120" y="1692360"/>
            <a:ext cx="14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para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761400" y="2362320"/>
            <a:ext cx="2224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ixel 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"/>
          <p:cNvSpPr/>
          <p:nvPr/>
        </p:nvSpPr>
        <p:spPr>
          <a:xfrm>
            <a:off x="1066680" y="2971800"/>
            <a:ext cx="685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the color components, color indices, and stencil indices can be modified by means of a table lookup to map to different values/r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Group 41"/>
          <p:cNvGrpSpPr/>
          <p:nvPr/>
        </p:nvGrpSpPr>
        <p:grpSpPr>
          <a:xfrm>
            <a:off x="860760" y="4229280"/>
            <a:ext cx="6752160" cy="1791360"/>
            <a:chOff x="860760" y="4229280"/>
            <a:chExt cx="6752160" cy="1791360"/>
          </a:xfrm>
        </p:grpSpPr>
        <p:sp>
          <p:nvSpPr>
            <p:cNvPr id="432" name="Rectangle 34"/>
            <p:cNvSpPr/>
            <p:nvPr/>
          </p:nvSpPr>
          <p:spPr>
            <a:xfrm>
              <a:off x="860760" y="4229280"/>
              <a:ext cx="580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Magnifying, Reducing, or Flipping an Im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36"/>
            <p:cNvSpPr/>
            <p:nvPr/>
          </p:nvSpPr>
          <p:spPr>
            <a:xfrm>
              <a:off x="1057680" y="4738680"/>
              <a:ext cx="639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rmally, each pixel in an image is written to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37"/>
            <p:cNvSpPr/>
            <p:nvPr/>
          </p:nvSpPr>
          <p:spPr>
            <a:xfrm>
              <a:off x="1816560" y="5043600"/>
              <a:ext cx="5796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ngle pixel on the screen. However, you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38"/>
            <p:cNvSpPr/>
            <p:nvPr/>
          </p:nvSpPr>
          <p:spPr>
            <a:xfrm>
              <a:off x="1807200" y="5348160"/>
              <a:ext cx="558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rbitrarily magnify or reduce an image b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39"/>
            <p:cNvSpPr/>
            <p:nvPr/>
          </p:nvSpPr>
          <p:spPr>
            <a:xfrm>
              <a:off x="1746360" y="5654520"/>
              <a:ext cx="277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sing glPixelZoom(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0E70-029A-45BC-B3FD-5808C0C69EF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Zoom (xfactor,yfacto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large/shrink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flected images for negative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1028" descr="D:\jmchen\on_cse\cg\sample_code\sprites\fig.jpg"/>
          <p:cNvPicPr/>
          <p:nvPr/>
        </p:nvPicPr>
        <p:blipFill>
          <a:blip r:embed="rId1"/>
          <a:stretch/>
        </p:blipFill>
        <p:spPr>
          <a:xfrm>
            <a:off x="1343160" y="3137040"/>
            <a:ext cx="56530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79DC-3AD7-4D8C-8B03-909C6F44B73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 Loader 1 (TG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ple TGA utility in gluit.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load and sa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compres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mages in greyscale, RGB or RGBA m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 in TGA heade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 type [unsigned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 - colour map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 - RGB(A) uncomp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 - greyscale uncomp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9 - greyscale RLE (compres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0 - RGB(A) RLE (compres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xel depth [unsigned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8 – greyscale | 24 – RGB | 32 - RG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5257800" y="3352680"/>
            <a:ext cx="388620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65B7-EAEA-415E-863C-B62E0D411F0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age Loader 2 (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新細明體"/>
                <a:hlinkClick r:id="rId1"/>
              </a:rPr>
              <a:t>P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2"/>
          <a:stretch/>
        </p:blipFill>
        <p:spPr>
          <a:xfrm>
            <a:off x="934920" y="1538280"/>
            <a:ext cx="6523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F994-A214-4D7F-8495-AADAB186B2F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新細明體"/>
                <a:hlinkClick r:id="rId1"/>
              </a:rPr>
              <a:t>Dev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75C7-23EE-4520-91CF-CB7A3EA25A6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pngLoadRaw (filename,rawinf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1028" descr=""/>
          <p:cNvPicPr/>
          <p:nvPr/>
        </p:nvPicPr>
        <p:blipFill>
          <a:blip r:embed="rId1"/>
          <a:stretch/>
        </p:blipFill>
        <p:spPr>
          <a:xfrm>
            <a:off x="719280" y="1814400"/>
            <a:ext cx="5214960" cy="36007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030"/>
          <p:cNvSpPr/>
          <p:nvPr/>
        </p:nvSpPr>
        <p:spPr>
          <a:xfrm>
            <a:off x="6431400" y="4202280"/>
            <a:ext cx="26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st be freed manu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031"/>
          <p:cNvSpPr/>
          <p:nvPr/>
        </p:nvSpPr>
        <p:spPr>
          <a:xfrm flipH="1">
            <a:off x="5315040" y="4429080"/>
            <a:ext cx="885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4A05-B857-4498-80A9-64185BBCBB8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roving Pixel Pipeline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eries of fragment operations is applied to pixels as they are drawn into the framebuffer. For optimum performanc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dis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l fragment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le performing pixel operations, disable other costly states, such as texturing and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is usually faster to draw a large pixel rectangle than to draw several small ones, since the cost of transferring the pixel data can be amortized over many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4086-FB62-4286-8CA7-240AE1AD025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 (show dep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1"/>
          <a:stretch/>
        </p:blipFill>
        <p:spPr>
          <a:xfrm>
            <a:off x="938160" y="4086360"/>
            <a:ext cx="2638440" cy="22287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2"/>
          <a:stretch/>
        </p:blipFill>
        <p:spPr>
          <a:xfrm>
            <a:off x="938160" y="1666800"/>
            <a:ext cx="2524320" cy="20764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29040" y="190512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et depth buffer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lReadPixel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verse and sca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ar (white) far (bl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splay it as a luminance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lDrawPixel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38C4-35FA-4A9C-AA08-499178900BE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: Pa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4" descr=""/>
          <p:cNvPicPr/>
          <p:nvPr/>
        </p:nvPicPr>
        <p:blipFill>
          <a:blip r:embed="rId1"/>
          <a:stretch/>
        </p:blipFill>
        <p:spPr>
          <a:xfrm>
            <a:off x="878040" y="1625760"/>
            <a:ext cx="3990960" cy="43862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2"/>
          <a:stretch/>
        </p:blipFill>
        <p:spPr>
          <a:xfrm>
            <a:off x="5680080" y="971640"/>
            <a:ext cx="2428920" cy="2419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"/>
          <p:cNvPicPr/>
          <p:nvPr/>
        </p:nvPicPr>
        <p:blipFill>
          <a:blip r:embed="rId3"/>
          <a:stretch/>
        </p:blipFill>
        <p:spPr>
          <a:xfrm>
            <a:off x="6229440" y="1347840"/>
            <a:ext cx="2419200" cy="240984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7"/>
          <p:cNvSpPr/>
          <p:nvPr/>
        </p:nvSpPr>
        <p:spPr>
          <a:xfrm>
            <a:off x="7021440" y="3703680"/>
            <a:ext cx="9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n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6407280" y="555480"/>
            <a:ext cx="9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ck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6094440" y="4494240"/>
            <a:ext cx="2422440" cy="1400040"/>
          </a:xfrm>
          <a:prstGeom prst="borderCallout2">
            <a:avLst>
              <a:gd name="adj1" fmla="val 18750"/>
              <a:gd name="adj2" fmla="val -8333"/>
              <a:gd name="adj3" fmla="val 8162"/>
              <a:gd name="adj4" fmla="val -22347"/>
              <a:gd name="adj5" fmla="val -10203"/>
              <a:gd name="adj6" fmla="val -424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the mouse click, the back buffer blends with fro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482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99E845C-F05A-47EB-B1FC-2CA001D8A737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26"/>
          <p:cNvSpPr/>
          <p:nvPr/>
        </p:nvSpPr>
        <p:spPr>
          <a:xfrm>
            <a:off x="914400" y="685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DrawPixels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43704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02E7-F750-4D76-B9FB-94C0718EB50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itmap is a rectangular array of 0s and 1s that serves as a drawing mask for a rectangular portion of the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dth need not be multiples of 8, but specified in hex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d in one dimensional array, row by row, starting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lower-left cor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5943600" cy="932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Image100"/>
          <p:cNvPicPr/>
          <p:nvPr/>
        </p:nvPicPr>
        <p:blipFill>
          <a:blip r:embed="rId2"/>
          <a:stretch/>
        </p:blipFill>
        <p:spPr>
          <a:xfrm>
            <a:off x="152280" y="4648320"/>
            <a:ext cx="3310200" cy="19810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itmap and Character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489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54A6E1A-95CE-4D90-913A-BFC7B52BFC43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26"/>
          <p:cNvSpPr/>
          <p:nvPr/>
        </p:nvSpPr>
        <p:spPr>
          <a:xfrm>
            <a:off x="914400" y="685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ReadPixels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3505320" y="762120"/>
            <a:ext cx="4390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5799-B113-4477-90BB-32A9DE836B6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 a bit map at the current raster position: glBitmap (w, h, xbo, ybo, xbi, ybi, bitmapPt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bo, ybo: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bi, ybi: inc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7"/>
          <p:cNvGrpSpPr/>
          <p:nvPr/>
        </p:nvGrpSpPr>
        <p:grpSpPr>
          <a:xfrm>
            <a:off x="609480" y="2590920"/>
            <a:ext cx="6095880" cy="3165840"/>
            <a:chOff x="609480" y="2590920"/>
            <a:chExt cx="6095880" cy="3165840"/>
          </a:xfrm>
        </p:grpSpPr>
        <p:pic>
          <p:nvPicPr>
            <p:cNvPr id="118" name="Picture 5" descr="Image101"/>
            <p:cNvPicPr/>
            <p:nvPr/>
          </p:nvPicPr>
          <p:blipFill>
            <a:blip r:embed="rId1"/>
            <a:stretch/>
          </p:blipFill>
          <p:spPr>
            <a:xfrm>
              <a:off x="609480" y="2590920"/>
              <a:ext cx="6095880" cy="28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6"/>
            <p:cNvSpPr/>
            <p:nvPr/>
          </p:nvSpPr>
          <p:spPr>
            <a:xfrm>
              <a:off x="1167480" y="5333760"/>
              <a:ext cx="5013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glBitmap(10, 12, 0, 0, 11, 0, bitmapPt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ll 2007 rev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7885-4038-4741-A7AB-DC3D3D26D72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itmap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: You can't rotate bitmap fonts because the bitmap is always drawn aligned to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ramebuffer ax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 glColor* to set GL_CURRENT_RASTER_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126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FEC2480-C130-4F4F-9483-EE50C45C886B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21"/>
          <p:cNvGrpSpPr/>
          <p:nvPr/>
        </p:nvGrpSpPr>
        <p:grpSpPr>
          <a:xfrm>
            <a:off x="1066680" y="380880"/>
            <a:ext cx="6858000" cy="5622480"/>
            <a:chOff x="1066680" y="380880"/>
            <a:chExt cx="6858000" cy="5622480"/>
          </a:xfrm>
        </p:grpSpPr>
        <p:sp>
          <p:nvSpPr>
            <p:cNvPr id="130" name="Rectangle 9"/>
            <p:cNvSpPr/>
            <p:nvPr/>
          </p:nvSpPr>
          <p:spPr>
            <a:xfrm>
              <a:off x="1139040" y="3532320"/>
              <a:ext cx="5462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rawing a Bitmapped Character: drawf.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Picture 19" descr="D:\jchen\figs\5.gif"/>
            <p:cNvPicPr/>
            <p:nvPr/>
          </p:nvPicPr>
          <p:blipFill>
            <a:blip r:embed="rId1"/>
            <a:stretch/>
          </p:blipFill>
          <p:spPr>
            <a:xfrm>
              <a:off x="1447920" y="380880"/>
              <a:ext cx="510516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0"/>
            <p:cNvSpPr/>
            <p:nvPr/>
          </p:nvSpPr>
          <p:spPr>
            <a:xfrm>
              <a:off x="1066680" y="3962520"/>
              <a:ext cx="685800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#include &lt;GL/glut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#include &lt;stdlib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GLubyte rasters[24] =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0xc0, 0x00, 0xc0, 0x00, 0xc0, 0x00, 0xc0, 0x00, 0xc0, 0x00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0xff, 0x00, 0xff, 0x00, 0xc0, 0x00, 0xc0, 0x00, 0xc0, 0x00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0xff, 0xc0, 0xff, 0x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}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Text Box 22">
            <a:hlinkClick r:id="rId2"/>
          </p:cNvPr>
          <p:cNvSpPr/>
          <p:nvPr/>
        </p:nvSpPr>
        <p:spPr>
          <a:xfrm>
            <a:off x="7238880" y="3048120"/>
            <a:ext cx="114300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a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136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FC82C0C-59B7-4446-B43F-872158688254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09480" y="304920"/>
            <a:ext cx="70866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void init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PixelStorei (GL_UNPACK_ALIGNMENT, 1);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// how the data to be unpac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ClearColor (0.0, 0.0, 0.0, 0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void display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Clear(GL_COLOR_BUFFER_BI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Color3f (1.0, 1.0, 1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RasterPos2i (20, 20);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// the current raster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Bitmap (10, 12, 0.0, 0.0, 11.0, 0.0, rasters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Bitmap (10, 12, 0.0, 0.0, 11.0, 0.0, raster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Bitmap (10, 12, 0.0, 0.0, 11.0, 0.0, raster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Flush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void reshape(int w, int 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Viewport(0, 0, (GLsizei) w, (GLsizei) 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MatrixMode(GL_PROJECT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LoadIdentit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Ortho (0, w, 0, h, -1.0, 1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glMatrixMode(GL_MODELVIE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>
            <a:hlinkClick r:id="rId2"/>
          </p:cNvPr>
          <p:cNvSpPr/>
          <p:nvPr/>
        </p:nvSpPr>
        <p:spPr>
          <a:xfrm>
            <a:off x="6858000" y="2590920"/>
            <a:ext cx="114300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a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762120" y="6858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Fonts and Display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914400" y="1371600"/>
            <a:ext cx="76201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ts are array of characters. Different font types are saved in the same bitmap arrays with different offset that is added to the ind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GenLists(GLsize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Allocat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umber of continuous list indices (</a:t>
            </a:r>
            <a:r>
              <a:rPr b="0" lang="en-US" sz="2000" spc="-1" strike="noStrike">
                <a:solidFill>
                  <a:srgbClr val="0c9b01"/>
                </a:solidFill>
                <a:latin typeface="Times New Roman"/>
              </a:rPr>
              <a:t>for different charac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t returns the index that marks the beginning of the list ind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ListBase(Glu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the offset added to the display list indices in glCallLists; it has no effect on glCallList. It is used as </a:t>
            </a:r>
            <a:r>
              <a:rPr b="0" lang="en-US" sz="2000" spc="-1" strike="noStrike">
                <a:solidFill>
                  <a:srgbClr val="0c9b01"/>
                </a:solidFill>
                <a:latin typeface="Times New Roman"/>
              </a:rPr>
              <a:t>an offset to different fon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CallLists(GLsizei n, GLenum type, const GLvoid *lists); to call all display lists that </a:t>
            </a:r>
            <a:r>
              <a:rPr b="0" lang="en-US" sz="2000" spc="-1" strike="noStrike">
                <a:solidFill>
                  <a:srgbClr val="0c9b01"/>
                </a:solidFill>
                <a:latin typeface="Times New Roman"/>
              </a:rPr>
              <a:t>draw individual charac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the # of characters to be drawn, lists is an array of character codes as indices to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>
            <a:hlinkClick r:id="rId1"/>
          </p:cNvPr>
          <p:cNvSpPr/>
          <p:nvPr/>
        </p:nvSpPr>
        <p:spPr>
          <a:xfrm>
            <a:off x="6781680" y="685800"/>
            <a:ext cx="129564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01:20:18Z</dcterms:created>
  <dc:creator>Jim X. CHEN</dc:creator>
  <dc:description/>
  <dc:language>en-US</dc:language>
  <cp:lastModifiedBy>jchen</cp:lastModifiedBy>
  <dcterms:modified xsi:type="dcterms:W3CDTF">2009-11-03T00:17:12Z</dcterms:modified>
  <cp:revision>910</cp:revision>
  <dc:subject/>
  <dc:title>No Slide Title</dc:title>
</cp:coreProperties>
</file>