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421F-CB09-4D76-BEC1-F61F799E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3BE-EFA1-4193-B641-C3F9F220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4D7-7955-4944-B0F6-65EB860E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AC76-4173-48D7-92AC-E3955366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4E05-D491-42A4-9078-BC448111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E050-9D4E-40E0-AA27-2F78901C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21A-7B43-4B58-852C-AF05FB73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B87-8585-40BE-A9B3-019E1498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827-2D9C-482B-93C3-86D5EA8D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C09E-5C5D-42C6-B547-67EAB9F6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A95A-08E2-45A9-AA2E-DB5E5EC3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8B55-1AD3-44E8-8346-E60653F3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94A8-F506-4E89-9DC8-FD552FAF6A8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rgb.exe" TargetMode="External"/><Relationship Id="rId3" Type="http://schemas.openxmlformats.org/officeDocument/2006/relationships/hyperlink" Target="file:///indexrgb.exe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4280" y="533520"/>
            <a:ext cx="7135560" cy="5473080"/>
            <a:chOff x="764280" y="533520"/>
            <a:chExt cx="7135560" cy="5473080"/>
          </a:xfrm>
        </p:grpSpPr>
        <p:sp>
          <p:nvSpPr>
            <p:cNvPr id="42" name=""/>
            <p:cNvSpPr/>
            <p:nvPr/>
          </p:nvSpPr>
          <p:spPr>
            <a:xfrm>
              <a:off x="1067040" y="5335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4280" y="1295280"/>
              <a:ext cx="2679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RASTER DISPLAY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60200" y="1776240"/>
              <a:ext cx="638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tore the primitives in a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famebuffe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, or refres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52480" y="2081160"/>
              <a:ext cx="567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uffer, which is a RAM with 1024*1280, 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391520" y="206856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V *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52120" y="23734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79280" y="2386080"/>
              <a:ext cx="2544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ddressable pixel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0920" y="2792520"/>
              <a:ext cx="6457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Bitma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-- array of 0/1 (pixels);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pixma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-- arra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9600" y="3097080"/>
              <a:ext cx="247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f gray-scale pix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59120" y="3505320"/>
              <a:ext cx="5688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Monochrom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-- bi-level (0/1);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gray-scal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45280" y="3809880"/>
              <a:ext cx="476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multiple level (0-15);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SimSun"/>
                </a:rPr>
                <a:t>colo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-- (r, g, 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60920" y="4216320"/>
              <a:ext cx="610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Scan-conversion (rasterization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-- objects a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46000" y="4521240"/>
              <a:ext cx="579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onverted into discrete pixels in frame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59840" y="4927680"/>
              <a:ext cx="6409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SimSun"/>
                </a:rPr>
                <a:t>Aliasin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-- jaggies or staircasing of lines/edges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0320" y="5234040"/>
              <a:ext cx="161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anti-alia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50160" y="5234040"/>
              <a:ext cx="3036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- dealing with alia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62720" y="5640480"/>
              <a:ext cx="6431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Resol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-- # of distinguishable lines per inch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8458200" y="64008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828800" y="533520"/>
            <a:ext cx="5010120" cy="57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BASIC GRAPHICS HARDWARE</a:t>
            </a:r>
            <a:endParaRPr b="0" lang="en-US" sz="2400" spc="1" strike="noStrike">
              <a:ln w="158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535680" y="3657600"/>
            <a:ext cx="6770160" cy="2448000"/>
            <a:chOff x="535680" y="3657600"/>
            <a:chExt cx="6770160" cy="2448000"/>
          </a:xfrm>
        </p:grpSpPr>
        <p:sp>
          <p:nvSpPr>
            <p:cNvPr id="62" name=""/>
            <p:cNvSpPr/>
            <p:nvPr/>
          </p:nvSpPr>
          <p:spPr>
            <a:xfrm>
              <a:off x="535680" y="3657600"/>
              <a:ext cx="3897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RT (CATHODE RAY TUB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1219320" y="4191120"/>
              <a:ext cx="6086520" cy="191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462600" y="457200"/>
            <a:ext cx="7017120" cy="2695680"/>
            <a:chOff x="462600" y="457200"/>
            <a:chExt cx="7017120" cy="2695680"/>
          </a:xfrm>
        </p:grpSpPr>
        <p:sp>
          <p:nvSpPr>
            <p:cNvPr id="65" name=""/>
            <p:cNvSpPr/>
            <p:nvPr/>
          </p:nvSpPr>
          <p:spPr>
            <a:xfrm>
              <a:off x="462600" y="457200"/>
              <a:ext cx="701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LASER PRINTER (HARD COPY DISPLAY DEVIC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219320" y="1219320"/>
              <a:ext cx="6143400" cy="193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6477120" y="2743200"/>
            <a:ext cx="19810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rame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7924680" y="63244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532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5AED-AC8F-4D6E-8445-0FFFC2719882}" type="slidenum">
              <a:rPr b="1" lang="zh-CN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791320" y="259092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971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01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038120" y="2971800"/>
            <a:ext cx="358164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2743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381640" cy="2714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76520" y="2514600"/>
            <a:ext cx="3429000" cy="1295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7924680" y="63244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532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2278-76A8-4B0B-BB69-656AD7577A87}" type="slidenum">
              <a:rPr b="1" lang="zh-CN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9040" y="609480"/>
            <a:ext cx="394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ASTER DISPLA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495680"/>
            <a:ext cx="6477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Graphics ca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: handle scan-conversion and other advanced graphic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5386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5280" y="247644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SimSun"/>
              </a:rPr>
              <a:t>Graphics Card (Video C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7924680" y="63244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532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B6A3-BA3B-49C4-95E7-C7B8AB03AFD1}" type="slidenum">
              <a:rPr b="1" lang="zh-CN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30880" y="609480"/>
            <a:ext cx="6889680" cy="2526840"/>
            <a:chOff x="830880" y="609480"/>
            <a:chExt cx="6889680" cy="2526840"/>
          </a:xfrm>
        </p:grpSpPr>
        <p:sp>
          <p:nvSpPr>
            <p:cNvPr id="89" name=""/>
            <p:cNvSpPr/>
            <p:nvPr/>
          </p:nvSpPr>
          <p:spPr>
            <a:xfrm>
              <a:off x="834840" y="609480"/>
              <a:ext cx="6885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Framebuffe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(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SimSun"/>
                </a:rPr>
                <a:t>bi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planes): RAM with the generat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21720" y="914400"/>
              <a:ext cx="5195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pixmap and attributes ready for displ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880" y="1384200"/>
              <a:ext cx="639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Video controller: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refresh the display;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interla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46560" y="138420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20280" y="1690560"/>
              <a:ext cx="570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-- fine as long as adjacent scan lines displa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19560" y="1995480"/>
              <a:ext cx="2733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imilar information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39720" y="1995480"/>
              <a:ext cx="189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non-interla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46640" y="1995480"/>
              <a:ext cx="619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N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3760" y="2465280"/>
              <a:ext cx="5735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# of bits for color: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direct (RGB mode) an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21360" y="2770200"/>
              <a:ext cx="283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indirect (Index mod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838080" y="4626000"/>
            <a:ext cx="7696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Z-buff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lanes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responding to the framebuffer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epth of each pixel in the framebuffer for hidd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face rem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3733920"/>
            <a:ext cx="1828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"/>
              </a:rPr>
              <a:t>RG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3733920"/>
            <a:ext cx="1828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3"/>
              </a:rPr>
              <a:t>Index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1532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7842-F24D-4316-B9BA-D2FB8D9F0BF1}" type="slidenum">
              <a:rPr b="1" lang="zh-CN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37600" y="708120"/>
            <a:ext cx="7023240" cy="5158800"/>
            <a:chOff x="1137600" y="708120"/>
            <a:chExt cx="7023240" cy="5158800"/>
          </a:xfrm>
        </p:grpSpPr>
        <p:sp>
          <p:nvSpPr>
            <p:cNvPr id="104" name=""/>
            <p:cNvSpPr/>
            <p:nvPr/>
          </p:nvSpPr>
          <p:spPr>
            <a:xfrm>
              <a:off x="1139040" y="708120"/>
              <a:ext cx="6405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Double-buffering: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don’t display until the enti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97200" y="1012680"/>
              <a:ext cx="2238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cene is rende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37960" y="1482840"/>
              <a:ext cx="631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Transformation: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calculations of coordinates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1789200"/>
              <a:ext cx="4677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bject moving, rotating, and cha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40120" y="2259000"/>
              <a:ext cx="6301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Clipping: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no imaging system can see the who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99360" y="2563920"/>
              <a:ext cx="520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orld (internal representation) at onc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39400" y="3033720"/>
              <a:ext cx="672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Projection: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3D objects are displayed on 2D scre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37600" y="3581280"/>
              <a:ext cx="7023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Output from video controller: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RGB, mono- chrom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r NTSC (National TV System Committee, effecti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esolution 350*350);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SimSun"/>
                </a:rPr>
                <a:t>video mix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45160" y="4889520"/>
              <a:ext cx="5793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RGB, NTSC, SECAM, PA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have diffe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72720" y="5194440"/>
              <a:ext cx="529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tandards with their own # of scan lines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26640" y="5500800"/>
              <a:ext cx="4296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requencies and synchroniz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0773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9T21:32:55Z</dcterms:created>
  <dc:creator>Professor Jim X. Chen</dc:creator>
  <dc:description/>
  <dc:language>en-US</dc:language>
  <cp:lastModifiedBy>Jim X. Chen</cp:lastModifiedBy>
  <dcterms:modified xsi:type="dcterms:W3CDTF">2006-09-05T22:51:25Z</dcterms:modified>
  <cp:revision>24</cp:revision>
  <dc:subject/>
  <dc:title>No Slide Title</dc:title>
</cp:coreProperties>
</file>