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2A-6539-46E5-850F-65D82C52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3F1-38A9-4167-8581-BAF3D75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8D1-90D8-4238-B1AF-C8A24310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B7E-F901-47A6-9407-59EF8AF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39E-6AD1-4E69-B4A7-D5ACBD82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00D-E9B2-421A-BAEF-DB37787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265-3CFF-44D7-AB7A-51EE757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E7E-8688-4490-873A-E0A357AA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AE-8723-4834-983A-5EB01ABD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E4A-5A6A-4F32-82E4-75AB691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838-C459-4036-9FD0-6696593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548-F9C1-4EB4-A9C7-FCEDF53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0B66-9E54-4A62-83F4-C740D1E7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ont.exe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42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D1553B0-E02F-461E-863C-7D0EC43BE811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1160" y="2552760"/>
            <a:ext cx="212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2400" y="3327480"/>
            <a:ext cx="5884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isplay l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group of OpenGL commands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een stored for later ex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165560"/>
            <a:ext cx="5646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t OpenGL commands can be either stored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lay list or issued in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mediat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270080"/>
            <a:ext cx="71848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PLAY LISTS IN OPENG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215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F892CD-E4E7-481A-92ED-D91D9697E06E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84280"/>
            <a:ext cx="332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di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48840" y="1246320"/>
            <a:ext cx="63738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editable display list:   To re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gon, call display list number 4. To edi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x, you need only recreate the single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corresponding to that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3520" y="28558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1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69960" y="30844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89560" y="331308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3520" y="35416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2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69960" y="37720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9560" y="400068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93520" y="4229280"/>
            <a:ext cx="342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3,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9960" y="445788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Vertex3f(v3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49600" y="468648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3480" y="516888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4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06840" y="5397480"/>
            <a:ext cx="315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Begin(GL_POLYG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600" y="5626080"/>
            <a:ext cx="68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CallList(1); glCallList(2); glCallLi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3560" y="5856120"/>
            <a:ext cx="15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9560" y="608472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1fe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47520" y="865080"/>
            <a:ext cx="397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naging Display List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43160" y="2236680"/>
            <a:ext cx="329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Index=glGenLists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240" y="2604960"/>
            <a:ext cx="24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listIndex!=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7600" y="283356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NewList(listIndex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0000" y="306216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4040" y="3292560"/>
            <a:ext cx="205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76600" y="35211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21560" y="579132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DC5-AE23-47EC-AFAF-3061E24AAC93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07880" y="14763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Indices can be automatically gener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685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Fonts and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371600"/>
            <a:ext cx="76201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ts are array of characters. Different font types are saved in the same bitmap arrays with different offset that is added to the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GenLists(GLsize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Allocat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of continuous list indices (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for different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t returns the index that marks the beginning of the list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ListBase(Glu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the offset added to the display list indices in glCallLists below; it has no effect on glCallList. It is used as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an offset to different fo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CallLists(GLsizei n, GLenum type, const GLvoid *lists); to call all display lists that </a:t>
            </a:r>
            <a:r>
              <a:rPr b="0" lang="en-US" sz="2000" spc="-1" strike="noStrike">
                <a:solidFill>
                  <a:srgbClr val="0c9b01"/>
                </a:solidFill>
                <a:latin typeface="Times New Roman"/>
              </a:rPr>
              <a:t>draw individual charac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s the # of characters to be drawn, type is GL_BYTE for the font, and lists is an array of character c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/>
          </p:cNvPr>
          <p:cNvSpPr/>
          <p:nvPr/>
        </p:nvSpPr>
        <p:spPr>
          <a:xfrm>
            <a:off x="6781680" y="685800"/>
            <a:ext cx="129564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21560" y="579132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D44-B2D4-4086-AF80-2A7BA2BC7AFD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50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D5196DA-28E7-4C5D-B413-2B3E226A4D5D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7200" y="1727280"/>
            <a:ext cx="695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xample, suppose you want to draw a circle with 100 line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79360" y="2414520"/>
            <a:ext cx="2997360" cy="2563920"/>
            <a:chOff x="2079360" y="2414520"/>
            <a:chExt cx="2997360" cy="2563920"/>
          </a:xfrm>
        </p:grpSpPr>
        <p:sp>
          <p:nvSpPr>
            <p:cNvPr id="55" name=""/>
            <p:cNvSpPr/>
            <p:nvPr/>
          </p:nvSpPr>
          <p:spPr>
            <a:xfrm>
              <a:off x="2083320" y="241452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rawCircl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82600" y="2644560"/>
              <a:ext cx="100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  GL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80440" y="2873160"/>
              <a:ext cx="223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float cosine, sine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3101760"/>
              <a:ext cx="274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2240" y="3330360"/>
              <a:ext cx="220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79720" y="3558960"/>
              <a:ext cx="299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ine=cos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80080" y="3787560"/>
              <a:ext cx="27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ne=sin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79360" y="4016160"/>
              <a:ext cx="281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Vertex2f(cosine,sin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81880" y="424476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960" y="4475160"/>
              <a:ext cx="98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84400" y="470376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67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B74655-A74D-41B8-BB32-B3BDD7ECF061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27520" y="711360"/>
            <a:ext cx="6971400" cy="4881960"/>
            <a:chOff x="1127520" y="711360"/>
            <a:chExt cx="6971400" cy="4881960"/>
          </a:xfrm>
        </p:grpSpPr>
        <p:sp>
          <p:nvSpPr>
            <p:cNvPr id="71" name=""/>
            <p:cNvSpPr/>
            <p:nvPr/>
          </p:nvSpPr>
          <p:spPr>
            <a:xfrm>
              <a:off x="1127520" y="711360"/>
              <a:ext cx="697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is method is terribly inefficient because the trigonometry h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31480" y="939960"/>
              <a:ext cx="631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 be performed each time the circle is rendered. Sav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7240" y="1168560"/>
              <a:ext cx="241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ordinates in a tab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1920" y="16257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rawCircl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1200" y="1855800"/>
              <a:ext cx="111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{  GLint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37600" y="2084400"/>
              <a:ext cx="242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float cosine, sin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1480" y="2313000"/>
              <a:ext cx="372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 GLfloat circoords[100][2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36880" y="2541600"/>
              <a:ext cx="260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 GLint inited=0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39400" y="2770200"/>
              <a:ext cx="165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(inited==0)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0120" y="2998800"/>
              <a:ext cx="136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ited=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35800" y="3227400"/>
              <a:ext cx="245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30040" y="3457440"/>
              <a:ext cx="434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irccoords[i][0]=cos(i*2*PI/100.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30040" y="3686040"/>
              <a:ext cx="431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irccoords[i][1]=sin(i*2*PI/100.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2640" y="3914640"/>
              <a:ext cx="48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360" y="4143240"/>
              <a:ext cx="29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37960" y="4371840"/>
              <a:ext cx="305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6160" y="4600440"/>
              <a:ext cx="235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(i=0;i&lt;100;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31120" y="4829040"/>
              <a:ext cx="399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Vertex2fv(&amp;circcoords[i][0]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0840" y="5057640"/>
              <a:ext cx="10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080" y="5288040"/>
              <a:ext cx="10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92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20CBE9D-9CDC-40F4-B3F4-1714443D68DB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6800" y="533520"/>
            <a:ext cx="540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the circle once and have OpenG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how to draw it for later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38320" y="1447920"/>
            <a:ext cx="6448680" cy="4521240"/>
            <a:chOff x="1138320" y="1447920"/>
            <a:chExt cx="6448680" cy="4521240"/>
          </a:xfrm>
        </p:grpSpPr>
        <p:sp>
          <p:nvSpPr>
            <p:cNvPr id="97" name=""/>
            <p:cNvSpPr/>
            <p:nvPr/>
          </p:nvSpPr>
          <p:spPr>
            <a:xfrm>
              <a:off x="1144080" y="1447920"/>
              <a:ext cx="307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#define MY_CIRCLE_LIST 1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43360" y="1906560"/>
              <a:ext cx="140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ildCircle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1920" y="2135160"/>
              <a:ext cx="102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0840" y="2363760"/>
              <a:ext cx="223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float cosine, sin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2280" y="2592360"/>
              <a:ext cx="29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0880" y="25923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lNew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1600" y="2592360"/>
              <a:ext cx="389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MY_CIRCLE_LIST, 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0480" y="2820960"/>
              <a:ext cx="297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0840" y="3049560"/>
              <a:ext cx="24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(i=0;i&lt;100;i++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9040" y="3278160"/>
              <a:ext cx="317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ine=cos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400" y="3508200"/>
              <a:ext cx="292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ne=sin(i*2*PI/10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8320" y="3736800"/>
              <a:ext cx="29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Vertex2f(cosine,sin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1200" y="39654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2280" y="419400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2640" y="44226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880" y="44226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lEnd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9720" y="4422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4440" y="4651200"/>
              <a:ext cx="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9880" y="4930920"/>
              <a:ext cx="19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MY_CIRCLE_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9920" y="4930920"/>
              <a:ext cx="38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s an integer index that uniquely ide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080" y="5159520"/>
              <a:ext cx="210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fies this display lis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5200" y="5465880"/>
              <a:ext cx="571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ou can execute the display list later with this glCallList(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0240" y="5694480"/>
              <a:ext cx="436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:  glCallList(MY_CIRCLE_LIS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2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8C4AA5D-F2E1-4B7F-B622-88A9D83D22F5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35800" y="1204920"/>
            <a:ext cx="57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splay list contains only OpenGL ca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36520" y="1828800"/>
            <a:ext cx="7350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ordinates and other variables are evaluat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d into the display list when the list is compi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880" y="2857680"/>
            <a:ext cx="675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delete a display list and create a new 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you can’t edit an existing displa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1120" y="3875040"/>
            <a:ext cx="6837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 lists reside with the serv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ffic is minimized. Matrix computations,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s, textures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9560" y="5219640"/>
            <a:ext cx="6014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 List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disadvan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large storag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utability of the contents of a display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30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1F5E8A1-6543-469F-8DEA-D603A3028F30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39400" y="70956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4440" y="760320"/>
            <a:ext cx="631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LoadMatrix(M);  glCallList(1); are called all the time, i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7600" y="1014480"/>
            <a:ext cx="475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to store the matrix in the display lis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98200" y="1560600"/>
            <a:ext cx="31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(1, GL_COMPIL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7560" y="1789200"/>
            <a:ext cx="46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LoadMatrix(M);  draw_some_geometry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8560" y="2019240"/>
            <a:ext cx="127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9640" y="247644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allLi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00" y="3301920"/>
            <a:ext cx="320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se a Display List: list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37240" y="3938760"/>
            <a:ext cx="419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 (listName, 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36160" y="4167360"/>
            <a:ext cx="6861960" cy="1647720"/>
            <a:chOff x="1136160" y="4167360"/>
            <a:chExt cx="6861960" cy="1647720"/>
          </a:xfrm>
        </p:grpSpPr>
        <p:sp>
          <p:nvSpPr>
            <p:cNvPr id="143" name=""/>
            <p:cNvSpPr/>
            <p:nvPr/>
          </p:nvSpPr>
          <p:spPr>
            <a:xfrm>
              <a:off x="1136880" y="4167360"/>
              <a:ext cx="295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Color3f(1.0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36160" y="4395960"/>
              <a:ext cx="341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Begin (GL_TRIANGLE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9400" y="4624560"/>
              <a:ext cx="685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Vertex2f(0.0,0.0);glVertex2f(1.0,0.0); glVertex2f (0.0, 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6520" y="4853160"/>
              <a:ext cx="144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6880" y="5081760"/>
              <a:ext cx="330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Translatef (1.5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6880" y="5311800"/>
              <a:ext cx="159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List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36520" y="5540400"/>
              <a:ext cx="313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ShadeModel (GL_FLA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5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FED07B8-F5C4-4703-8046-B3403182811A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35080" y="1077840"/>
            <a:ext cx="6115680" cy="2105280"/>
            <a:chOff x="1135080" y="1077840"/>
            <a:chExt cx="6115680" cy="2105280"/>
          </a:xfrm>
        </p:grpSpPr>
        <p:sp>
          <p:nvSpPr>
            <p:cNvPr id="155" name=""/>
            <p:cNvSpPr/>
            <p:nvPr/>
          </p:nvSpPr>
          <p:spPr>
            <a:xfrm>
              <a:off x="1137960" y="1077840"/>
              <a:ext cx="194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id display(vo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7240" y="1306440"/>
              <a:ext cx="122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   GLuint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38680" y="1535040"/>
              <a:ext cx="414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lear (GL_COLOR_BUFFER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7600" y="1763640"/>
              <a:ext cx="269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olor3f(0.0, 1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35080" y="1994040"/>
              <a:ext cx="24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(i = 0; i &lt; 10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37240" y="2222640"/>
              <a:ext cx="278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 (listNam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7600" y="2451240"/>
              <a:ext cx="611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Line ();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/* color red; affected by the 10 translate 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36880" y="2679840"/>
              <a:ext cx="136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Flush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9760" y="29084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30640" y="3543480"/>
            <a:ext cx="515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ants are stored and won’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9760" y="4078440"/>
            <a:ext cx="39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float color_vector[3]={0.0,0.0,0.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8320" y="4307040"/>
            <a:ext cx="29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NewList(1,GL_COMPIL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9400" y="453564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v(color_vec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4764240"/>
            <a:ext cx="127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d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5440" y="5068800"/>
            <a:ext cx="71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_vector[0]=1.0; // color will be black if you use the display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71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4E4C4D9-B9F1-436B-9215-F350A5AF81CC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5640" y="1370160"/>
            <a:ext cx="4905720" cy="3020760"/>
            <a:chOff x="305640" y="1370160"/>
            <a:chExt cx="4905720" cy="3020760"/>
          </a:xfrm>
        </p:grpSpPr>
        <p:sp>
          <p:nvSpPr>
            <p:cNvPr id="175" name=""/>
            <p:cNvSpPr/>
            <p:nvPr/>
          </p:nvSpPr>
          <p:spPr>
            <a:xfrm>
              <a:off x="776880" y="137016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NewList(listIndex,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8320" y="1598400"/>
              <a:ext cx="246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1520" y="1827000"/>
              <a:ext cx="438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ushAttrib(GL_CURRENT_BIT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5640" y="205560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Color3f(1.0, 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0720" y="2286000"/>
              <a:ext cx="356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" y="25146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00" y="27432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1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1000" y="29718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1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7080" y="32004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3440" y="3429000"/>
              <a:ext cx="39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Translatef(1.5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7800" y="365760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Attrib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960" y="388620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PopMatrix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3320" y="411624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EndLis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33280" y="4572000"/>
            <a:ext cx="7199280" cy="1979640"/>
            <a:chOff x="1133280" y="4572000"/>
            <a:chExt cx="7199280" cy="1979640"/>
          </a:xfrm>
        </p:grpSpPr>
        <p:sp>
          <p:nvSpPr>
            <p:cNvPr id="189" name=""/>
            <p:cNvSpPr/>
            <p:nvPr/>
          </p:nvSpPr>
          <p:spPr>
            <a:xfrm>
              <a:off x="1141560" y="4572000"/>
              <a:ext cx="719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he code below would draw a green, untranslated lin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133280" y="5132160"/>
              <a:ext cx="6651000" cy="1419480"/>
              <a:chOff x="1133280" y="5132160"/>
              <a:chExt cx="6651000" cy="1419480"/>
            </a:xfrm>
          </p:grpSpPr>
          <p:sp>
            <p:nvSpPr>
              <p:cNvPr id="191" name=""/>
              <p:cNvSpPr/>
              <p:nvPr/>
            </p:nvSpPr>
            <p:spPr>
              <a:xfrm>
                <a:off x="1137960" y="5132160"/>
                <a:ext cx="1946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oid display(void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37240" y="5360760"/>
                <a:ext cx="1148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{   GLint i;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37600" y="5589360"/>
                <a:ext cx="6646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lClear (GL_COLOR_BUFFER_BIT); glColor3f(0.0, 1.0, 0.0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33280" y="5817960"/>
                <a:ext cx="480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 (i = 0; i &lt; 10; i++)  glCallList (listIndex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35080" y="6048360"/>
                <a:ext cx="298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rawLine ();     glFlush (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39760" y="6276960"/>
                <a:ext cx="89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504720" y="522360"/>
            <a:ext cx="805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 glPushAttrib() to save a group of state variables and glPopAttrib() to 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sp>
          <p:nvSpPr>
            <p:cNvPr id="199" name="">
              <a:hlinkClick r:id="rId2"/>
            </p:cNvPr>
            <p:cNvSpPr/>
            <p:nvPr/>
          </p:nvSpPr>
          <p:spPr>
            <a:xfrm>
              <a:off x="84582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34520" y="5791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F7E6222-0522-40AA-ABBA-AB11E3CBEACB}" type="slidenum"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200" y="660240"/>
            <a:ext cx="3969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erarchical Display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3640" y="1395360"/>
            <a:ext cx="6955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create a hierarchical display list,  a dis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that executes another display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37240" y="2324160"/>
            <a:ext cx="632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ful for an object that’s made of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are used more than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37520" y="3441600"/>
            <a:ext cx="3789360" cy="1876320"/>
            <a:chOff x="1937520" y="3441600"/>
            <a:chExt cx="3789360" cy="1876320"/>
          </a:xfrm>
        </p:grpSpPr>
        <p:sp>
          <p:nvSpPr>
            <p:cNvPr id="206" name=""/>
            <p:cNvSpPr/>
            <p:nvPr/>
          </p:nvSpPr>
          <p:spPr>
            <a:xfrm>
              <a:off x="1937520" y="3441600"/>
              <a:ext cx="378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NewList(listIndex,GL_COMPIL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38240" y="3670200"/>
              <a:ext cx="267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handlebar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8960" y="3898800"/>
              <a:ext cx="207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fram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8960" y="412740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Translatef(1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37880" y="4357440"/>
              <a:ext cx="208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whee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38960" y="458604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Translatef(3.0,0.0,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37880" y="4814640"/>
              <a:ext cx="208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CallList(wheel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38240" y="5043240"/>
              <a:ext cx="127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Lis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6:02:19Z</dcterms:created>
  <dc:creator>Jim X. Chen, Ph.D.</dc:creator>
  <dc:description/>
  <dc:language>en-US</dc:language>
  <cp:lastModifiedBy>jchen</cp:lastModifiedBy>
  <dcterms:modified xsi:type="dcterms:W3CDTF">2002-03-18T21:57:06Z</dcterms:modified>
  <cp:revision>48</cp:revision>
  <dc:subject/>
  <dc:title>Display list</dc:title>
</cp:coreProperties>
</file>