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2EF-752D-4FBE-BF7D-F2192C19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866-B6F6-4A0B-87FF-076A7CE2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F88-7CEB-4958-A6A8-9A95C6F3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DD4-F035-4928-BE0A-3FD5EC70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A7E-8580-48C2-A838-954818BA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8EF-D922-463D-A89B-161C44E3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F1C-10EF-4319-A239-9E8DC358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89A-80D3-4ECF-95A0-C66DF16E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9AB-6A8B-4B06-B433-48F6F1D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401-39D5-48D6-A27D-9C6A8E6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50F-DEE0-46C9-B859-58BAC414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6AD-1FF2-4DD1-BAAD-884F414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E9B6-1C8E-4335-BC9C-727099C96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s.princeton.edu/~min/cs426/classes/bezier.html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9896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1308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0388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1800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380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4240" y="3811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368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52388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EPRESENTING CURV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657600"/>
            <a:ext cx="198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i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7D9F-8C53-407A-A13B-B3502E89DAA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360" y="457200"/>
            <a:ext cx="522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ARAMETRIC CUB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4000" y="1141560"/>
            <a:ext cx="661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general, a parametric polynomial is written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2920" y="2019240"/>
            <a:ext cx="638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ric cubics are the lowest-degree cur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3400" y="2324160"/>
            <a:ext cx="589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are nonplanar in 3D; generated from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4120" y="2629080"/>
            <a:ext cx="553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et of math functions or data poi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50120" y="5183280"/>
            <a:ext cx="23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re the curv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5181480"/>
            <a:ext cx="365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Q(t) = [x(t), y(t), z(t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3920" y="5638680"/>
            <a:ext cx="577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Q/dt = Q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parametric tang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72840" y="54640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24440" y="1558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06640" y="177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3120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6320" y="1582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008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68440" y="1582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504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66880" y="1582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1040" y="1582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8796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27680" y="1582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75440" y="1547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8680" y="1547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7200" y="1547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5640" y="1547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63720" y="154764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2240" y="1558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99480" y="177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7400" y="177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9200" y="177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4160" y="158256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86080" y="158256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0200" y="3200400"/>
                <a:ext cx="312408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t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029200" y="3962520"/>
                <a:ext cx="838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943600" y="4038480"/>
                <a:ext cx="9907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1AFA-242F-4E8D-8226-E4A88606520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34720" y="709560"/>
            <a:ext cx="627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ity condition -- parametric continu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0232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Zero-order parametric continuity,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Dotum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means simply that the curves meet. 1st-order parametric continuity,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 means that the 1st derivatives for two successive curve sections are equal at their joining poi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Second-order parametric continuity,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Dotum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means that both the first and second parametric derivatives of the two curve sections are the same at the inters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895480" y="2666880"/>
                <a:ext cx="25146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024360" y="4648320"/>
                <a:ext cx="2562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C343-2EF4-4792-92AB-C1D7D38B187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31840" y="3963960"/>
            <a:ext cx="6935400" cy="2056680"/>
            <a:chOff x="1131840" y="3963960"/>
            <a:chExt cx="6935400" cy="2056680"/>
          </a:xfrm>
        </p:grpSpPr>
        <p:sp>
          <p:nvSpPr>
            <p:cNvPr id="152" name=""/>
            <p:cNvSpPr/>
            <p:nvPr/>
          </p:nvSpPr>
          <p:spPr>
            <a:xfrm>
              <a:off x="1131840" y="3963960"/>
              <a:ext cx="6145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blems: a particle travels in a straight lin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1560" y="4344840"/>
              <a:ext cx="5375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 has distinct jumps in velocity -- not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520" y="42814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70640" y="4344840"/>
              <a:ext cx="66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bu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71640" y="4738680"/>
              <a:ext cx="467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urve is smooth; conversely, a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14920" y="4662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48840" y="4738680"/>
              <a:ext cx="1415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ve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69480" y="5043600"/>
              <a:ext cx="532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ave a kink in it when the velocity of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5760" y="5349960"/>
              <a:ext cx="6171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ticle goes to zero where it changes direc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77040" y="5654520"/>
              <a:ext cx="265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starts up agai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124080" cy="1741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533520" y="1066680"/>
            <a:ext cx="4114800" cy="248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53FB-6C55-4794-83D1-6906F74503F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4360" y="709560"/>
            <a:ext cx="610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ity condition -- geometric continu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1219320"/>
            <a:ext cx="70232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Zero-ord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continuity, 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Dotum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means simply that the curves meet. 1st-ord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continuity, 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 means that the 1st derivatives for two successive curve sections are proportional at their joining point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at is, the tangent changes continuously; the directions (but not necessarily the magnitudes) of the two segments’ tangent vectors are equal at a join poin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Second-ord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continuity, 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Dotum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Dotum"/>
              </a:rPr>
              <a:t>, means that both the first and second parametric derivatives of the two curve sections are proportional at the inters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835360" y="3451320"/>
                <a:ext cx="26352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952720" y="5432400"/>
                <a:ext cx="27068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4E52-D68B-4E23-BAC5-0730537A650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000" y="1233360"/>
            <a:ext cx="6917400" cy="1434600"/>
            <a:chOff x="990000" y="1233360"/>
            <a:chExt cx="6917400" cy="1434600"/>
          </a:xfrm>
        </p:grpSpPr>
        <p:sp>
          <p:nvSpPr>
            <p:cNvPr id="175" name=""/>
            <p:cNvSpPr/>
            <p:nvPr/>
          </p:nvSpPr>
          <p:spPr>
            <a:xfrm>
              <a:off x="990000" y="1333440"/>
              <a:ext cx="188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general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1480" y="1233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3080" y="1309680"/>
              <a:ext cx="1325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lies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76800" y="1233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03880" y="1309680"/>
              <a:ext cx="138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but if a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75480" y="1233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01840" y="1309680"/>
              <a:ext cx="1398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ve h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1240" y="1614600"/>
              <a:ext cx="608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kink because its derivative goes to zero, th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22680" y="1996920"/>
              <a:ext cx="302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is curve will not be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48120" y="19191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61160" y="1996920"/>
              <a:ext cx="241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since the tang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23040" y="2301840"/>
              <a:ext cx="595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rection changes discontinuously at the kink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124080" cy="174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ne se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3429000" cy="1239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799880" y="55627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nding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6480" y="19051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160" y="228600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190760" y="22860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352680" y="45716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495320" y="44953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C3E7-7E4F-4B0E-9695-0D15D0704E2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3200" y="380880"/>
            <a:ext cx="6323400" cy="5805720"/>
            <a:chOff x="763200" y="380880"/>
            <a:chExt cx="6323400" cy="5805720"/>
          </a:xfrm>
        </p:grpSpPr>
        <p:sp>
          <p:nvSpPr>
            <p:cNvPr id="200" name=""/>
            <p:cNvSpPr/>
            <p:nvPr/>
          </p:nvSpPr>
          <p:spPr>
            <a:xfrm>
              <a:off x="763200" y="380880"/>
              <a:ext cx="2434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Hermite Curv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54160" y="1116000"/>
              <a:ext cx="58482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straints on the endpoints 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nd 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74520" y="1484280"/>
              <a:ext cx="396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ngent vectors at endpoints 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41720" y="1611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59440" y="1484280"/>
              <a:ext cx="86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19480" y="1611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55560" y="14842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4320" y="3886200"/>
              <a:ext cx="231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 can easily arrive a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828800" y="1981080"/>
                  <a:ext cx="3200400" cy="16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t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905120" y="4419720"/>
                  <a:ext cx="5181480" cy="17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0" name="" descr="Hermite Curve in action"/>
          <p:cNvPicPr/>
          <p:nvPr/>
        </p:nvPicPr>
        <p:blipFill>
          <a:blip r:embed="rId1"/>
          <a:stretch/>
        </p:blipFill>
        <p:spPr>
          <a:xfrm>
            <a:off x="5791320" y="2133720"/>
            <a:ext cx="2666880" cy="190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836-F22E-4768-B56D-ECFCCC54BCF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3800" y="457200"/>
            <a:ext cx="603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anding the product gives the Hermite blending func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2520" y="3124080"/>
            <a:ext cx="74984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lynomials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) for k=0, 1, 2, 3 and referred to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ending functions because they blend the bound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aint values to obtain each coordinate 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ng the cur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71600" y="1371600"/>
                <a:ext cx="6019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43200" y="2362320"/>
                <a:ext cx="3600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ite blending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732040" cy="2895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93960" y="4572000"/>
            <a:ext cx="744516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=0, only the function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onzero. As as t beco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er than zero, all other blending functions begi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an influ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ying the magnitude of the tangent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0" b="3911"/>
          <a:stretch/>
        </p:blipFill>
        <p:spPr>
          <a:xfrm>
            <a:off x="2438280" y="182880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058760" y="5105520"/>
            <a:ext cx="739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directions of the tangent vectors are fixed,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er the vectors, the greater their effect on the cur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84CF-FBF8-41AC-B435-2F2CA0AA44B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720" y="30492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ONIC SECTIONS (2D &amp; 2ND DEG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4371840" cy="344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828800" y="1219320"/>
          <a:ext cx="6095880" cy="82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The General Equation for a Conic Section: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Bxy + Cy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Dx + Ey + F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ite basis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14880" y="2057400"/>
            <a:ext cx="2514600" cy="369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1981440" cy="1471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705040" y="4648320"/>
            <a:ext cx="3733920" cy="14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ying the direction of the tangent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25521" r="0" b="0"/>
          <a:stretch/>
        </p:blipFill>
        <p:spPr>
          <a:xfrm>
            <a:off x="2209680" y="2362320"/>
            <a:ext cx="4876920" cy="35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geometric continuity G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74491"/>
          <a:stretch/>
        </p:blipFill>
        <p:spPr>
          <a:xfrm>
            <a:off x="914400" y="1905120"/>
            <a:ext cx="4876920" cy="1218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361240" y="3276720"/>
            <a:ext cx="39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arametric continuity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0" t="0" r="0" b="3624"/>
          <a:stretch/>
        </p:blipFill>
        <p:spPr>
          <a:xfrm>
            <a:off x="533520" y="3962520"/>
            <a:ext cx="2819160" cy="2266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4419720" cy="230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mite basis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314880" y="2057400"/>
            <a:ext cx="2514600" cy="369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1981440" cy="1471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705040" y="4648320"/>
            <a:ext cx="3733920" cy="14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2C6B-FBF4-4E60-B45C-7DF642C990F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1143000"/>
            <a:ext cx="198144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i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971800"/>
            <a:ext cx="79250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cs.princeton.edu/~min/cs426/classes/bezier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F116-3950-421E-A5AB-1E0381FB9E7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80880" y="304920"/>
            <a:ext cx="8382240" cy="5734080"/>
            <a:chOff x="380880" y="304920"/>
            <a:chExt cx="8382240" cy="5734080"/>
          </a:xfrm>
        </p:grpSpPr>
        <p:sp>
          <p:nvSpPr>
            <p:cNvPr id="248" name=""/>
            <p:cNvSpPr/>
            <p:nvPr/>
          </p:nvSpPr>
          <p:spPr>
            <a:xfrm>
              <a:off x="1214280" y="3962520"/>
              <a:ext cx="216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e can easily arrive a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1447920" y="2286000"/>
                  <a:ext cx="6489720" cy="16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t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U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1523880" y="4343400"/>
                  <a:ext cx="5559480" cy="169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380880" y="3049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Bezier Curv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990720"/>
              <a:ext cx="79250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1=3(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4=3(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the Bezier curve interpolates the two end control points and approximates the other two. (Multiplay by 3 to have a constant velocity from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248520" y="304920"/>
            <a:ext cx="19810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i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A71E-3942-43D9-8DD8-90ED2935715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77280" y="457200"/>
            <a:ext cx="8162640" cy="4907520"/>
            <a:chOff x="377280" y="457200"/>
            <a:chExt cx="8162640" cy="4907520"/>
          </a:xfrm>
        </p:grpSpPr>
        <p:sp>
          <p:nvSpPr>
            <p:cNvPr id="258" name=""/>
            <p:cNvSpPr/>
            <p:nvPr/>
          </p:nvSpPr>
          <p:spPr>
            <a:xfrm>
              <a:off x="453240" y="457200"/>
              <a:ext cx="7199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urve is cotangent to the control polygon at the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dpoi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77280" y="1371600"/>
              <a:ext cx="8162640" cy="3993120"/>
              <a:chOff x="377280" y="1371600"/>
              <a:chExt cx="8162640" cy="3993120"/>
            </a:xfrm>
          </p:grpSpPr>
          <p:sp>
            <p:nvSpPr>
              <p:cNvPr id="260" name=""/>
              <p:cNvSpPr/>
              <p:nvPr/>
            </p:nvSpPr>
            <p:spPr>
              <a:xfrm>
                <a:off x="377280" y="1371600"/>
                <a:ext cx="7301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xpanding the product gives the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ernstein polynomia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3240" y="2514600"/>
                <a:ext cx="79113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sum of the 4 blending polynomials is everywhere unity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d that each polynomial is everywhere nonegative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937800" y="3429000"/>
                <a:ext cx="69501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(t) is just a weighted average of the four control points -- each cur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egment is completely contained in the convex hull of the 4 control poin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2880" y="4267080"/>
                <a:ext cx="808704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convex-hull property holds for all cubics defined by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ighted sums of control points if the blending functions ar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nnegative &amp; sum to one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4" name=""/>
                  <p:cNvSpPr txBox="1"/>
                  <p:nvPr/>
                </p:nvSpPr>
                <p:spPr>
                  <a:xfrm>
                    <a:off x="990360" y="1981080"/>
                    <a:ext cx="556272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ézier curv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vex hul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of 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riance under affine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3352680" cy="1352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213372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3A40-66DF-4C75-9385-866BBD92C33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7600" y="380880"/>
            <a:ext cx="8075520" cy="5911920"/>
            <a:chOff x="687600" y="380880"/>
            <a:chExt cx="8075520" cy="5911920"/>
          </a:xfrm>
        </p:grpSpPr>
        <p:sp>
          <p:nvSpPr>
            <p:cNvPr id="273" name=""/>
            <p:cNvSpPr/>
            <p:nvPr/>
          </p:nvSpPr>
          <p:spPr>
            <a:xfrm>
              <a:off x="687600" y="380880"/>
              <a:ext cx="498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Bézier Curves of General Deg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39040" y="990720"/>
              <a:ext cx="7544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 n+1 control-point positions, we can blend them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duce the following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40120" y="3735360"/>
              <a:ext cx="158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know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5440" y="4535640"/>
              <a:ext cx="341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binomial coefficien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66200" y="5105520"/>
              <a:ext cx="604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a closed form representation for an entry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scal’s triangl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1295280" y="1905120"/>
                  <a:ext cx="236232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z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3886200" y="2133720"/>
                  <a:ext cx="99072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5105520" y="213372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re the Bernstein function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1295280" y="2819520"/>
                  <a:ext cx="31244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Bez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819520" y="3581280"/>
                  <a:ext cx="320040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4724280" y="4495680"/>
                  <a:ext cx="15242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!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r>
                            <m:t xml:space="preserve">!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2057400" y="5943600"/>
                  <a:ext cx="37339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rnstein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724640" cy="44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8EC4-FCD9-4F23-AFDC-F79712AD00F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0720" y="30492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ONIC SECTIONS (2D &amp; 2ND DEG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1760" y="1294200"/>
            <a:ext cx="79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The type of section can be found from the sign of: B</a:t>
            </a:r>
            <a:r>
              <a:rPr b="1" lang="en-US" sz="2400" spc="-1" strike="noStrike" baseline="30000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- 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480" y="2013120"/>
          <a:ext cx="7658280" cy="3288960"/>
        </p:xfrm>
        <a:graphic>
          <a:graphicData uri="http://schemas.openxmlformats.org/drawingml/2006/table">
            <a:tbl>
              <a:tblPr/>
              <a:tblGrid>
                <a:gridCol w="2106720"/>
                <a:gridCol w="55515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B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AC is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n the curve is a..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ipse, circle, point or no curve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bola, 2 parallel lines, 1 line or no curve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bola or 2 intersecting lines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rnstein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1320" y="990720"/>
            <a:ext cx="458136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2FBE-3608-4314-9F83-D3519B27FB2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32680" y="380880"/>
            <a:ext cx="7329240" cy="5547960"/>
            <a:chOff x="832680" y="380880"/>
            <a:chExt cx="7329240" cy="5547960"/>
          </a:xfrm>
        </p:grpSpPr>
        <p:sp>
          <p:nvSpPr>
            <p:cNvPr id="293" name=""/>
            <p:cNvSpPr/>
            <p:nvPr/>
          </p:nvSpPr>
          <p:spPr>
            <a:xfrm>
              <a:off x="832680" y="380880"/>
              <a:ext cx="491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can define recursive calc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2680" y="4038480"/>
              <a:ext cx="7329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 important characteristic of the Bernstein funct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tition of unit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90760" y="443376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7840" y="5562720"/>
              <a:ext cx="555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a key to understanding Bézier curv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219320" y="2057400"/>
              <a:ext cx="6486480" cy="20383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1219320" y="990720"/>
                  <a:ext cx="50292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Bez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Bez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Bez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447920" y="1676520"/>
                  <a:ext cx="68580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Wher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2209680" y="1676520"/>
                  <a:ext cx="91440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k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1828800" y="4876920"/>
                  <a:ext cx="16765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z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3EBC-6AF9-4A98-9781-07756C8EF4F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543800" cy="588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CB46-8D18-4D02-982F-E1FBAF49B6B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10440" y="457200"/>
            <a:ext cx="7092000" cy="5461920"/>
            <a:chOff x="910440" y="457200"/>
            <a:chExt cx="7092000" cy="5461920"/>
          </a:xfrm>
        </p:grpSpPr>
        <p:sp>
          <p:nvSpPr>
            <p:cNvPr id="310" name=""/>
            <p:cNvSpPr/>
            <p:nvPr/>
          </p:nvSpPr>
          <p:spPr>
            <a:xfrm>
              <a:off x="914040" y="457200"/>
              <a:ext cx="3007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ubdivide of the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0440" y="2514600"/>
              <a:ext cx="455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he Derivative of the Bézier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34360" y="3900600"/>
              <a:ext cx="57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 less term in the derivative than in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4960" y="4205160"/>
              <a:ext cx="592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riginal function; the degree of the Bernste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79920" y="4510080"/>
              <a:ext cx="3079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s is one les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34000" y="4941720"/>
              <a:ext cx="628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ontrol points for the derivative curve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69120" y="5248440"/>
              <a:ext cx="581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ccessive differences of the original curve’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87480" y="5553000"/>
              <a:ext cx="188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rol poi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1295280" y="990720"/>
              <a:ext cx="6305760" cy="1400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1219320" y="2971800"/>
                  <a:ext cx="25146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z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267080" y="2971800"/>
                  <a:ext cx="373536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z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992C-B82F-4228-A2E3-D23044C8B42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1960" y="457200"/>
            <a:ext cx="7814160" cy="5411160"/>
            <a:chOff x="381960" y="457200"/>
            <a:chExt cx="7814160" cy="5411160"/>
          </a:xfrm>
        </p:grpSpPr>
        <p:sp>
          <p:nvSpPr>
            <p:cNvPr id="325" name=""/>
            <p:cNvSpPr/>
            <p:nvPr/>
          </p:nvSpPr>
          <p:spPr>
            <a:xfrm>
              <a:off x="381960" y="457200"/>
              <a:ext cx="4237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Natual Cubic Spline Curv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4560" y="1116000"/>
              <a:ext cx="548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pline: a flexible strip used to produce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2160" y="1420920"/>
              <a:ext cx="555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oth curve through a designeated set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43960" y="1727280"/>
              <a:ext cx="95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280" y="2158920"/>
              <a:ext cx="5937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natual cubic spline: cubic curve segm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3600" y="2463840"/>
              <a:ext cx="3170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rough the set of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1760" y="2984400"/>
              <a:ext cx="618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continuity at the designeated control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01240" y="29844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5640" y="3416400"/>
              <a:ext cx="573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 n+1 control points, we have n cur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39640" y="3722760"/>
              <a:ext cx="505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tions and 4n polynomial coeffic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6720" y="4154400"/>
              <a:ext cx="650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have 4n-2 equations to be satisfied by the 4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38560" y="4459320"/>
              <a:ext cx="5452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 coefficients -- we need 2 m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1080" y="4764240"/>
              <a:ext cx="44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ditions: add a little assum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8520" y="5181480"/>
              <a:ext cx="7437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advantages moving any one control point affects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39280" y="5502240"/>
              <a:ext cx="551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tire curve; the computation time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A305-E247-4F65-89B6-F95218BB1B6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86160" y="533520"/>
            <a:ext cx="8011080" cy="5514840"/>
            <a:chOff x="686160" y="533520"/>
            <a:chExt cx="8011080" cy="5514840"/>
          </a:xfrm>
        </p:grpSpPr>
        <p:sp>
          <p:nvSpPr>
            <p:cNvPr id="344" name=""/>
            <p:cNvSpPr/>
            <p:nvPr/>
          </p:nvSpPr>
          <p:spPr>
            <a:xfrm>
              <a:off x="686160" y="533520"/>
              <a:ext cx="4763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Uniform Nonrational B-Sp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61640" y="1219320"/>
              <a:ext cx="7032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 coefficients depend on just a few contro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s. (local control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3080" y="2133720"/>
              <a:ext cx="7634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continuity as natural splines but do not interpo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ir control poi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17160" y="2971800"/>
              <a:ext cx="5862960" cy="723240"/>
              <a:chOff x="1217160" y="2971800"/>
              <a:chExt cx="5862960" cy="723240"/>
            </a:xfrm>
          </p:grpSpPr>
          <p:sp>
            <p:nvSpPr>
              <p:cNvPr id="348" name=""/>
              <p:cNvSpPr/>
              <p:nvPr/>
            </p:nvSpPr>
            <p:spPr>
              <a:xfrm>
                <a:off x="1217160" y="2971800"/>
                <a:ext cx="2801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+1 control points, 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02840" y="3149640"/>
                <a:ext cx="84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086000" y="2971800"/>
                <a:ext cx="720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..., 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25800" y="3149640"/>
                <a:ext cx="84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98880" y="2971800"/>
                <a:ext cx="407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77240" y="3035160"/>
                <a:ext cx="182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18360" y="2971800"/>
                <a:ext cx="1661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, m-2 cubic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99720" y="3278160"/>
                <a:ext cx="2306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rve segments 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00480" y="340524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26840" y="3278160"/>
                <a:ext cx="771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..., 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89680" y="3405240"/>
                <a:ext cx="201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91280" y="3278160"/>
                <a:ext cx="1386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 For m=4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066680" y="3124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1219320" y="3886200"/>
              <a:ext cx="7191360" cy="21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CF6A-C542-4346-BDE0-BE842FBACBC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5410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074600" y="735120"/>
            <a:ext cx="6993000" cy="5236920"/>
            <a:chOff x="1074600" y="735120"/>
            <a:chExt cx="6993000" cy="5236920"/>
          </a:xfrm>
        </p:grpSpPr>
        <p:sp>
          <p:nvSpPr>
            <p:cNvPr id="371" name=""/>
            <p:cNvSpPr/>
            <p:nvPr/>
          </p:nvSpPr>
          <p:spPr>
            <a:xfrm>
              <a:off x="1102680" y="735120"/>
              <a:ext cx="588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isotropic constraint is needed to find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9880" y="1038600"/>
              <a:ext cx="205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ve equ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98000" y="1468080"/>
              <a:ext cx="547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ach curve is defined on its own domain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88640" y="1468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58920" y="1468080"/>
              <a:ext cx="58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&lt;1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60400" y="1773000"/>
              <a:ext cx="630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can adjust the parameter (t=t+k) so tha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3640" y="2076480"/>
              <a:ext cx="542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ameter domains for the various cur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11520" y="2379960"/>
              <a:ext cx="336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gments are sequential: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08400" y="25059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68520" y="23799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41680" y="2379960"/>
              <a:ext cx="37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&lt;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1320" y="2505960"/>
              <a:ext cx="32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i+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9320" y="2872800"/>
              <a:ext cx="552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each i&gt;3, there is a joint point or kno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8240" y="3175920"/>
              <a:ext cx="138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tween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7800" y="331524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i-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55280" y="3175920"/>
              <a:ext cx="88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2440" y="3315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31520" y="3175920"/>
              <a:ext cx="321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 the parameter value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89800" y="3302640"/>
              <a:ext cx="128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31600"/>
              <a:ext cx="532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iform -- the knots are spaced at equ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13320" y="3835080"/>
              <a:ext cx="299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vals of paramet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65680" y="382248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00520" y="4264560"/>
              <a:ext cx="6258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nrational: not ratio of polynomials; rationa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42040" y="4568040"/>
              <a:ext cx="5912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(t)=X(t)/W(t), y(t)=Y(t)/W(t), z(t)=Z(t)/W(t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6520" y="4871520"/>
              <a:ext cx="590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e defined as ratio of two cubic polynomi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4600" y="5302800"/>
              <a:ext cx="6297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 - “basis.” The spline is weighted sums of ba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69760" y="5605920"/>
              <a:ext cx="564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s, in contrast to the natural sp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639F-2B52-4775-9294-EA494E740C6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914400" y="735120"/>
            <a:ext cx="7108920" cy="5389560"/>
            <a:chOff x="914400" y="735120"/>
            <a:chExt cx="7108920" cy="5389560"/>
          </a:xfrm>
        </p:grpSpPr>
        <p:pic>
          <p:nvPicPr>
            <p:cNvPr id="402" name="" descr=""/>
            <p:cNvPicPr/>
            <p:nvPr/>
          </p:nvPicPr>
          <p:blipFill>
            <a:blip r:embed="rId2"/>
            <a:stretch/>
          </p:blipFill>
          <p:spPr>
            <a:xfrm>
              <a:off x="1114560" y="735120"/>
              <a:ext cx="690876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914400" y="838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1440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14400" y="2362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90720" y="5791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1371600" y="3352680"/>
                  <a:ext cx="5715000" cy="13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t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s</m:t>
                          </m:r>
                        </m:sub>
                      </m:sSub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DD05-864C-433D-A032-D827E8AEC7A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15120" y="709560"/>
            <a:ext cx="7174800" cy="5285880"/>
            <a:chOff x="915120" y="709560"/>
            <a:chExt cx="7174800" cy="5285880"/>
          </a:xfrm>
        </p:grpSpPr>
        <p:sp>
          <p:nvSpPr>
            <p:cNvPr id="412" name=""/>
            <p:cNvSpPr/>
            <p:nvPr/>
          </p:nvSpPr>
          <p:spPr>
            <a:xfrm>
              <a:off x="1136520" y="709560"/>
              <a:ext cx="58834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 knots, provided some additional info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 (tagent vectors at the 2 end kno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15120" y="1600200"/>
              <a:ext cx="542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Nonuniform, Nonrational B-Sp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35080" y="2031840"/>
              <a:ext cx="5835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arameter interval between success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61920" y="2336760"/>
              <a:ext cx="434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not values need not be uniform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38680" y="2768760"/>
              <a:ext cx="602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nonuniform knot-value sequence mea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7400" y="3073320"/>
              <a:ext cx="586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the blending functions are no longer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75960" y="3378240"/>
              <a:ext cx="369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for each curve inter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36520" y="3811680"/>
              <a:ext cx="61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vantages: continuity at selected join poi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77760" y="4205160"/>
              <a:ext cx="298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n be reduced from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12840" y="4129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4520" y="420516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36800" y="4129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71080" y="420516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73360" y="4129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94320" y="4205160"/>
              <a:ext cx="1695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none;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4510080"/>
              <a:ext cx="494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ulting curve can be easily resha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720" y="5018040"/>
              <a:ext cx="569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the continuity is reduced to 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then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85320" y="5324400"/>
              <a:ext cx="597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ve interpolates a control point withou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20880" y="5629320"/>
              <a:ext cx="607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sirable effect of uniform B-splines,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B64D-AEC8-45C5-9BCF-A4637D4CEC0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35200" y="304920"/>
            <a:ext cx="6882840" cy="5376240"/>
            <a:chOff x="835200" y="304920"/>
            <a:chExt cx="6882840" cy="5376240"/>
          </a:xfrm>
        </p:grpSpPr>
        <p:sp>
          <p:nvSpPr>
            <p:cNvPr id="435" name=""/>
            <p:cNvSpPr/>
            <p:nvPr/>
          </p:nvSpPr>
          <p:spPr>
            <a:xfrm>
              <a:off x="1523160" y="304920"/>
              <a:ext cx="518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urve segments on either side of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17760" y="633240"/>
              <a:ext cx="562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polated control point are straight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5200" y="1064880"/>
              <a:ext cx="6073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ting &amp; ending points can be interpola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19200" y="1371240"/>
              <a:ext cx="585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actly without introducing linear segme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5200" y="1803240"/>
              <a:ext cx="603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triction: knot sequence is nondecreasing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21360" y="2107800"/>
              <a:ext cx="580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ich allows successive knot values equal: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22080" y="2412720"/>
              <a:ext cx="206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quence from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81280" y="25398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95040" y="2412720"/>
              <a:ext cx="50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04080" y="2539800"/>
              <a:ext cx="45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+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72440" y="2412720"/>
              <a:ext cx="232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The curve is no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0280" y="2781000"/>
              <a:ext cx="373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fined outside the interval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45200" y="29080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71920" y="2781000"/>
              <a:ext cx="130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rough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67920" y="2908080"/>
              <a:ext cx="45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+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24400" y="2781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0040" y="3265200"/>
              <a:ext cx="17024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n 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12160" y="3265200"/>
              <a:ext cx="436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 multiple knot), curve seg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23160" y="3620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52120" y="37479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25200" y="3620880"/>
              <a:ext cx="552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a single point, which provides the extr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19560" y="4065480"/>
              <a:ext cx="486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exibility of nonuniform B-splines;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24480" y="40017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51560" y="406548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48440" y="40017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74800" y="4065480"/>
              <a:ext cx="543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4458960"/>
              <a:ext cx="194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extra knot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67160" y="4383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93880" y="445896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16320" y="4383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30080" y="4458960"/>
              <a:ext cx="261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2 extra knots,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46920" y="4383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60320" y="4458960"/>
              <a:ext cx="40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18120" y="4763880"/>
              <a:ext cx="5979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 continuity for 3 extra knots (multiplicity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1450800" y="5257440"/>
                  <a:ext cx="595476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3,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1,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esian equa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metrical equation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s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781360" cy="33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6D36-9332-4CFC-93E2-CC2336D698A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34240" y="631800"/>
            <a:ext cx="7566120" cy="4890600"/>
            <a:chOff x="534240" y="631800"/>
            <a:chExt cx="7566120" cy="4890600"/>
          </a:xfrm>
        </p:grpSpPr>
        <p:sp>
          <p:nvSpPr>
            <p:cNvPr id="474" name=""/>
            <p:cNvSpPr/>
            <p:nvPr/>
          </p:nvSpPr>
          <p:spPr>
            <a:xfrm>
              <a:off x="534240" y="1469880"/>
              <a:ext cx="756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Nonuniform, Rational Cubic Polynomial Curve Segm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07560" y="2028960"/>
              <a:ext cx="577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ral rational cubic curves are ratios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93000" y="2333520"/>
              <a:ext cx="607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s: x(t) = X(t)/W(t), y(t) = Y(t)/W(t)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95160" y="2638440"/>
              <a:ext cx="530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(t) = Z(t)/W(t) whose control point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98400" y="2944800"/>
              <a:ext cx="487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fined in homogeneous coordinat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7920" y="3376440"/>
              <a:ext cx="590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ynomials can be Bezier, Hermite, or an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96600" y="3681360"/>
              <a:ext cx="570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ther type. When they are B-Splines, call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2000" y="398628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UR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10800" y="4417920"/>
              <a:ext cx="59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can also think of the curve as existing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95880" y="4724280"/>
              <a:ext cx="620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mogeneous space: Q(t) = [X(t) Y(t) Z(t) W(t)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2240" y="5156280"/>
              <a:ext cx="573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eful for two reasons: 1) invariant und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993600" y="631800"/>
                  <a:ext cx="63820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</m:den>
                      </m:f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,3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</m:den>
                      </m:f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2BB5-D831-4AC1-BBAD-656FA408893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063800" y="685800"/>
            <a:ext cx="6991920" cy="4100040"/>
            <a:chOff x="1063800" y="685800"/>
            <a:chExt cx="6991920" cy="4100040"/>
          </a:xfrm>
        </p:grpSpPr>
        <p:sp>
          <p:nvSpPr>
            <p:cNvPr id="490" name=""/>
            <p:cNvSpPr/>
            <p:nvPr/>
          </p:nvSpPr>
          <p:spPr>
            <a:xfrm>
              <a:off x="1823400" y="685800"/>
              <a:ext cx="543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pective transformation of the contro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22320" y="1014480"/>
              <a:ext cx="613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s (nonrational curves are invariant und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82800" y="1319040"/>
              <a:ext cx="520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ly rotation, scaling, and translations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31000" y="1828800"/>
              <a:ext cx="507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alternative is first to genera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54240" y="2031840"/>
              <a:ext cx="534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oints on the curve itself and then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49200" y="226044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pply the perspective transformation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49200" y="248904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ach point, a far less efficient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63800" y="3198960"/>
              <a:ext cx="630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eful: 2) Unlike nonrationals, they can defi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7080" y="3503520"/>
              <a:ext cx="630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cisely any of the conic sections. This is usefu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52120" y="3808440"/>
              <a:ext cx="603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CAD, where general curves and surfaces 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47800" y="4114800"/>
              <a:ext cx="618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ll as conics are needed. Both types of entiti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53920" y="4419720"/>
              <a:ext cx="37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n be defined with NURB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esian equa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metrical equation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s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781360" cy="33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esian equation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277164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perbol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esian equation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metrical equation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(t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cos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n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781360" cy="33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70F9-DED9-419A-929D-CF69A02F680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7520" y="609480"/>
            <a:ext cx="325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ARAMETRI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34360" y="1141560"/>
            <a:ext cx="557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plicit fo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y = f(x) is compu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2680" y="1446120"/>
            <a:ext cx="573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f, and the pair of coordinates (x, 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4480" y="1752480"/>
            <a:ext cx="296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eeps out the curve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35440" y="2184480"/>
            <a:ext cx="623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parametric cur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x(t) and y(t).  As t var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1240" y="2489040"/>
            <a:ext cx="608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ordinates (x(t), y(t)) sweep out the cur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73520" y="2895480"/>
            <a:ext cx="384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(t) = sin(t), y(t) = cos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37600" y="3251160"/>
            <a:ext cx="603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GD (Computer Aided Geometric Desig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19080" y="3557520"/>
            <a:ext cx="573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s primarily with polynomial or r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1600" y="3862440"/>
            <a:ext cx="503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s, not trigonometric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44640" y="4343400"/>
            <a:ext cx="534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(t) = 2t/(1+t*t), y(t)=(1-t*t)/(1+t*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7600" y="4624560"/>
            <a:ext cx="610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equations above yield circles, so how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9800" y="4929120"/>
            <a:ext cx="506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differ? It is the paramete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48C2-8380-4D4B-AADB-A91B14661D9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36880" y="2567160"/>
            <a:ext cx="592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lope is given by the tangent line at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0880" y="2871720"/>
            <a:ext cx="604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 (x’(t), y’(t)), which determines the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5920" y="3252960"/>
            <a:ext cx="395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int traces out the cur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9040" y="3786120"/>
            <a:ext cx="616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oves the point (x(t), y(t)) along the path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0520" y="4054320"/>
            <a:ext cx="587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ve; the point’s speed varies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0520" y="4359240"/>
            <a:ext cx="480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rivative vector changes in length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4360" y="1600200"/>
            <a:ext cx="624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point (x(t), y(t)) is differ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800" y="1905120"/>
            <a:ext cx="552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if the paths (the circles)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0T18:19:22Z</dcterms:created>
  <dc:creator>Jim X. CHEN</dc:creator>
  <dc:description/>
  <dc:language>en-US</dc:language>
  <cp:lastModifiedBy>Jim X. Chen</cp:lastModifiedBy>
  <dcterms:modified xsi:type="dcterms:W3CDTF">2005-09-19T20:22:45Z</dcterms:modified>
  <cp:revision>86</cp:revision>
  <dc:subject/>
  <dc:title>No Slide Title</dc:title>
</cp:coreProperties>
</file>