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CAMERA.WAV" ContentType="audio/x-wav"/>
  <Override PartName="/ppt/media/CHIMES.WAV" ContentType="audio/x-wav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B6C-F044-440F-B4CE-7A29EEFDF7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0B32-F64C-4B6D-B9C0-99B39B8BC27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for negative amounts of colour: add the colour to the sam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if colour is C = [r g b], a matrix can be constructed to convert to a different set of primaries: C’ = M.C , and the backconversion is accomplished using the inverse of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889-280D-4972-B52A-0A84F62ED6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agram from 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erceivable colours are the gray solid. R, G, B are the primaries of a particular output device. X, Y, Z are the CIE virtual prim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conversion between display devices should be done using CIE as an intermediate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light-emitting displays are easier to calibrate. Surface colour matching involves the illuminant which must also b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D9E-387B-4287-B6A0-D6F67992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ED7-98EE-48D8-B6C8-7F91CF0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736-2AD8-4A72-B032-9EDEC3AB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4B2-3E35-4059-9EDB-188B4DD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AE8-0CE8-4513-BCB1-F7FCCBC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E9E-7190-4F56-B766-3D05C996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76B-8367-44DA-97D3-8D952F31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25F-C406-4A39-BA1D-5B15994F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53A-8672-49DC-BCF7-EF071E9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D2B-9291-4EAF-B1DD-603ABB7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BF1-76FF-404C-ABDE-88C2AAC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D77-C2C6-45A6-878A-FA3DD4F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296-1B7D-4AB0-A0D8-D50B2C6DC7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1880" y="5867280"/>
            <a:ext cx="457200" cy="762120"/>
            <a:chOff x="8381880" y="5867280"/>
            <a:chExt cx="457200" cy="762120"/>
          </a:xfrm>
        </p:grpSpPr>
        <p:sp>
          <p:nvSpPr>
            <p:cNvPr id="51" name="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58200" y="5867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A779DD7-D2BB-45DC-A41A-D9A80B8551EC}" type="slidenum">
                <a:rPr b="1" lang="zh-CN" sz="1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 txBox="1"/>
          <p:nvPr/>
        </p:nvSpPr>
        <p:spPr>
          <a:xfrm>
            <a:off x="2340000" y="1162080"/>
            <a:ext cx="455292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LOR AND LIGHTING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3986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brightness, intensity, eye characteristics, and gamma correction, halftone technolog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general usage of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97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98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7E2C07-9CB2-4AA5-9238-5B258C32556F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35800" y="1065240"/>
            <a:ext cx="644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ixel patterns to approximate the half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3400" y="1370160"/>
            <a:ext cx="531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st be designed not to introduce vis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18360" y="1674720"/>
            <a:ext cx="625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facts in an area of identical intensity valu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5200" y="233532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) form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3720" y="2335320"/>
            <a:ext cx="18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owth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31480" y="2335320"/>
            <a:ext cx="312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 that any pixel intensi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1240" y="2565360"/>
            <a:ext cx="58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intensity level j is also intensified for all levels k&gt;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3400" y="3146400"/>
            <a:ext cx="561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) The patterns must grow outward from the 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45360" y="3767040"/>
            <a:ext cx="5997960" cy="503280"/>
            <a:chOff x="1845360" y="3767040"/>
            <a:chExt cx="5997960" cy="503280"/>
          </a:xfrm>
        </p:grpSpPr>
        <p:sp>
          <p:nvSpPr>
            <p:cNvPr id="210" name=""/>
            <p:cNvSpPr/>
            <p:nvPr/>
          </p:nvSpPr>
          <p:spPr>
            <a:xfrm>
              <a:off x="1847160" y="3767040"/>
              <a:ext cx="5996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) For certain hardware system, all pixels that are “on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45360" y="3995640"/>
              <a:ext cx="41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st be adjacent to other “on” pixel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15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16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000CF4-D6D5-4AA8-96A9-A0D10208D1E6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133280" y="2479680"/>
            <a:ext cx="6264720" cy="975600"/>
            <a:chOff x="1133280" y="2479680"/>
            <a:chExt cx="6264720" cy="975600"/>
          </a:xfrm>
        </p:grpSpPr>
        <p:sp>
          <p:nvSpPr>
            <p:cNvPr id="220" name=""/>
            <p:cNvSpPr/>
            <p:nvPr/>
          </p:nvSpPr>
          <p:spPr>
            <a:xfrm>
              <a:off x="1133280" y="2479680"/>
              <a:ext cx="586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alftone approximation is not limited to bi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2320" y="27846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vel displays. For each point, we can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9080" y="3089160"/>
              <a:ext cx="358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ultiple level of intensit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35440" y="3579840"/>
            <a:ext cx="6831000" cy="2196720"/>
            <a:chOff x="1135440" y="3579840"/>
            <a:chExt cx="6831000" cy="2196720"/>
          </a:xfrm>
        </p:grpSpPr>
        <p:sp>
          <p:nvSpPr>
            <p:cNvPr id="224" name=""/>
            <p:cNvSpPr/>
            <p:nvPr/>
          </p:nvSpPr>
          <p:spPr>
            <a:xfrm>
              <a:off x="1135440" y="3579840"/>
              <a:ext cx="646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Error diffu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 the error is added to the val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19800" y="388476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f the four image-array pixels to the righ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22680" y="4189680"/>
              <a:ext cx="563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d below the pixel in question (7/16 of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8720" y="4494240"/>
              <a:ext cx="603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rror to the pixel to the right, 3/16 to the pix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1960" y="4799160"/>
              <a:ext cx="493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elow and to the left, 5/16 to the pix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0880" y="5105520"/>
              <a:ext cx="61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mmediately below, and 1/16 to the pixel below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4480" y="5410440"/>
              <a:ext cx="2204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d to the right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135800" y="981000"/>
            <a:ext cx="6667920" cy="1433160"/>
            <a:chOff x="1135800" y="981000"/>
            <a:chExt cx="6667920" cy="1433160"/>
          </a:xfrm>
        </p:grpSpPr>
        <p:sp>
          <p:nvSpPr>
            <p:cNvPr id="232" name=""/>
            <p:cNvSpPr/>
            <p:nvPr/>
          </p:nvSpPr>
          <p:spPr>
            <a:xfrm>
              <a:off x="1135800" y="1362240"/>
              <a:ext cx="666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Dither matri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                  to display an intensity I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3040" y="2048040"/>
              <a:ext cx="533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e turn on all pixels whose values are &lt;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352680" y="981000"/>
                  <a:ext cx="1101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  <m:e>
                                <m:r>
                                  <m:t xml:space="preserve">8</m:t>
                                </m:r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3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3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D56BDB-3158-4A09-B8CD-8DA41FB74C68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4640" y="533520"/>
            <a:ext cx="353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CHROMATIC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36520" y="1506600"/>
            <a:ext cx="431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Discussions of color perce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0240" y="1946160"/>
            <a:ext cx="732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H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- distinguishes among colors such as red, green,  and ye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65840" y="2327400"/>
            <a:ext cx="689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Sat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refers to how far color is from a gray of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ensity. Red is highly saturated; pink is relativ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saturated; unsaturated colors include more white l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an do the vivid, saturated col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4200" y="3546360"/>
            <a:ext cx="490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Lightness) -- perceived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38680" y="4051440"/>
            <a:ext cx="6989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In graphic design profession, colors are specifi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matching to printed color samples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5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5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F5A623-441E-4E9E-9CBB-2D4245875561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13720" y="5137200"/>
            <a:ext cx="7602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ercentage of pigments that must be mix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tch a color can be used as a color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9760" y="70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6280" y="1343160"/>
            <a:ext cx="648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t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results from adding white pigment to a pure pi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7360" y="1800360"/>
            <a:ext cx="689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sha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comes from adding a black pigment to a pure pig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5560" y="2257560"/>
            <a:ext cx="637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  <a:ea typeface="宋体"/>
              </a:rPr>
              <a:t>t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-- is the consequence of adding both black and wh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gments to a pure pi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219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321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429000" y="321948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2990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Times New Roman"/>
                <a:ea typeface="宋体"/>
              </a:rPr>
              <a:t>“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  <a:ea typeface="宋体"/>
              </a:rPr>
              <a:t>Pure” 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38289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宋体"/>
              </a:rPr>
              <a:t>Sh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438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067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676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G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2914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宋体"/>
              </a:rPr>
              <a:t>t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8880" y="184320"/>
            <a:ext cx="754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sts often specify color as different tints, shades, and tones of saturated, or pure, pigments 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su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73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74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12BE58-A48D-4DD2-A162-2138DF77DB71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61040" y="457200"/>
            <a:ext cx="2175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Psycho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133280" y="1116000"/>
            <a:ext cx="6977880" cy="3366360"/>
            <a:chOff x="1133280" y="1116000"/>
            <a:chExt cx="6977880" cy="3366360"/>
          </a:xfrm>
        </p:grpSpPr>
        <p:sp>
          <p:nvSpPr>
            <p:cNvPr id="279" name=""/>
            <p:cNvSpPr/>
            <p:nvPr/>
          </p:nvSpPr>
          <p:spPr>
            <a:xfrm>
              <a:off x="1133640" y="1116000"/>
              <a:ext cx="615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above color specifications are subjectiv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59760" y="1420920"/>
              <a:ext cx="62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uman observers’ judgements, the lighting,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0880" y="1727280"/>
              <a:ext cx="595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ize of the sample, the surrounding color, etc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3280" y="2158920"/>
              <a:ext cx="613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ight is electromagnetic energy in the 400-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3760" y="2463840"/>
              <a:ext cx="628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00-nm wavelength part of the spectrum,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4160" y="2768760"/>
              <a:ext cx="593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s perceived as the colors from violet throug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95400" y="3073320"/>
              <a:ext cx="600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digo, blue, green, yellow, and orange to red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7960" y="3506760"/>
              <a:ext cx="517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amount of energy present at ea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1600" y="3811680"/>
              <a:ext cx="614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avelength is represented by a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spectral energ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4120" y="4116240"/>
              <a:ext cx="162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distrib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5038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293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294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3EC8A6-F0A8-4B1F-93E3-85F334E019B1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57200" y="838080"/>
            <a:ext cx="792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quantitative way of specifying color: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olori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5840" y="3962520"/>
            <a:ext cx="8155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bove wavelength and energy distribution correspo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distribution represents an infinity of numb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 for each wavelength in the visible spectr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6200" y="5105520"/>
            <a:ext cx="8059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pure color is 100% saturated, containing no white l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light and grays are 0% saturated, containing no co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f any dominant wavelength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37160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ominant wave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is the wavelength of the color we “see”; corresponds to the perceptual notion of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h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Excitation pu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corresponds to the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satu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Lu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corresponds to the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宋体"/>
              </a:rPr>
              <a:t>inten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brightness, light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0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0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3F9361-9837-437A-874C-595A6FF20521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134720" y="709560"/>
            <a:ext cx="476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describ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visual eff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3400" y="1014480"/>
            <a:ext cx="50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y spectral distribution by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domin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1960" y="1319040"/>
            <a:ext cx="601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wavelength, excitation purity, and lumin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32200" y="4227480"/>
            <a:ext cx="6902640" cy="1281960"/>
            <a:chOff x="1132200" y="4227480"/>
            <a:chExt cx="6902640" cy="1281960"/>
          </a:xfrm>
        </p:grpSpPr>
        <p:sp>
          <p:nvSpPr>
            <p:cNvPr id="312" name=""/>
            <p:cNvSpPr/>
            <p:nvPr/>
          </p:nvSpPr>
          <p:spPr>
            <a:xfrm>
              <a:off x="1132200" y="4227480"/>
              <a:ext cx="591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1=e2: excitation purity=0; e1=0: excit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4120" y="4532040"/>
              <a:ext cx="6002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urity=100%. The dominant wavelength m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3760" y="4838400"/>
              <a:ext cx="621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ot be the one whose component in the spect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2320" y="5143320"/>
              <a:ext cx="293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istribution is larges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136520" y="1736640"/>
            <a:ext cx="636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o spectral energy distributions that loo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2680" y="2041560"/>
            <a:ext cx="207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me are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93040" y="20289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met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01920" y="2041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743200" y="2448000"/>
            <a:ext cx="40878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2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2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F36AFE-926B-4EC1-85E2-4390FAABAFF5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34000" y="709560"/>
            <a:ext cx="6990840" cy="3767040"/>
            <a:chOff x="1134000" y="709560"/>
            <a:chExt cx="6990840" cy="3767040"/>
          </a:xfrm>
        </p:grpSpPr>
        <p:grpSp>
          <p:nvGrpSpPr>
            <p:cNvPr id="329" name=""/>
            <p:cNvGrpSpPr/>
            <p:nvPr/>
          </p:nvGrpSpPr>
          <p:grpSpPr>
            <a:xfrm>
              <a:off x="1134000" y="709560"/>
              <a:ext cx="6943680" cy="975600"/>
              <a:chOff x="1134000" y="709560"/>
              <a:chExt cx="6943680" cy="975600"/>
            </a:xfrm>
          </p:grpSpPr>
          <p:sp>
            <p:nvSpPr>
              <p:cNvPr id="330" name=""/>
              <p:cNvSpPr/>
              <p:nvPr/>
            </p:nvSpPr>
            <p:spPr>
              <a:xfrm>
                <a:off x="1134000" y="709560"/>
                <a:ext cx="5905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Tristimulus the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of color perception: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72720" y="1014480"/>
                <a:ext cx="6204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etina has 3 kinds of color sensors (cones), with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75240" y="1319040"/>
                <a:ext cx="453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eak sensitivity to R, G, or B ligh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676520" y="1676520"/>
              <a:ext cx="6448320" cy="28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683240" y="1676520"/>
            <a:ext cx="3622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3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3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284180-6186-493D-8F8E-157D35E46379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135080" y="4471920"/>
            <a:ext cx="7009920" cy="1586880"/>
            <a:chOff x="1135080" y="4471920"/>
            <a:chExt cx="7009920" cy="1586880"/>
          </a:xfrm>
        </p:grpSpPr>
        <p:sp>
          <p:nvSpPr>
            <p:cNvPr id="343" name=""/>
            <p:cNvSpPr/>
            <p:nvPr/>
          </p:nvSpPr>
          <p:spPr>
            <a:xfrm>
              <a:off x="1135080" y="4471920"/>
              <a:ext cx="582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luminous-efficiency func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the eye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80640" y="4776840"/>
              <a:ext cx="254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ponse to ligh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2160" y="4764240"/>
              <a:ext cx="248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stant lu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90040" y="477684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as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6160" y="5081760"/>
              <a:ext cx="628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ominant wavelength is varied from 400 to 700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82080" y="5388120"/>
              <a:ext cx="597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r peak sensitivity is to yellow-green light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5560" y="5692680"/>
              <a:ext cx="318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wavelength around 5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134000" y="709560"/>
            <a:ext cx="6990840" cy="3767040"/>
            <a:chOff x="1134000" y="709560"/>
            <a:chExt cx="6990840" cy="3767040"/>
          </a:xfrm>
        </p:grpSpPr>
        <p:grpSp>
          <p:nvGrpSpPr>
            <p:cNvPr id="351" name=""/>
            <p:cNvGrpSpPr/>
            <p:nvPr/>
          </p:nvGrpSpPr>
          <p:grpSpPr>
            <a:xfrm>
              <a:off x="1134000" y="709560"/>
              <a:ext cx="6943680" cy="975600"/>
              <a:chOff x="1134000" y="709560"/>
              <a:chExt cx="6943680" cy="975600"/>
            </a:xfrm>
          </p:grpSpPr>
          <p:sp>
            <p:nvSpPr>
              <p:cNvPr id="352" name=""/>
              <p:cNvSpPr/>
              <p:nvPr/>
            </p:nvSpPr>
            <p:spPr>
              <a:xfrm>
                <a:off x="1134000" y="709560"/>
                <a:ext cx="5905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Tristimulus the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of color perception: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72720" y="1014480"/>
                <a:ext cx="6204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etina has 3 kinds of color sensors (cones), with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75240" y="1319040"/>
                <a:ext cx="453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eak sensitivity to R, G, or B ligh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1676520" y="1676520"/>
              <a:ext cx="6448320" cy="280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59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60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B61667-9861-4BAB-962F-D052F7288FB6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134000" y="4726080"/>
            <a:ext cx="7469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negative value means if one of the prim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added to the color sample,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sample (after additio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n then be matched by a mixture of the other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ima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986400" y="304920"/>
            <a:ext cx="6856920" cy="4324320"/>
            <a:chOff x="986400" y="304920"/>
            <a:chExt cx="6856920" cy="4324320"/>
          </a:xfrm>
        </p:grpSpPr>
        <p:sp>
          <p:nvSpPr>
            <p:cNvPr id="365" name=""/>
            <p:cNvSpPr/>
            <p:nvPr/>
          </p:nvSpPr>
          <p:spPr>
            <a:xfrm>
              <a:off x="986400" y="304920"/>
              <a:ext cx="68569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ors can be specified by positively weigh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ums of red, green, and blue (the so-called primar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ors). This notion is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almos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tru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600200" y="1600200"/>
              <a:ext cx="5857920" cy="30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2209680" y="3186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381880" y="5867280"/>
            <a:ext cx="457200" cy="762120"/>
            <a:chOff x="8381880" y="5867280"/>
            <a:chExt cx="457200" cy="762120"/>
          </a:xfrm>
        </p:grpSpPr>
        <p:sp>
          <p:nvSpPr>
            <p:cNvPr id="58" name="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8200" y="5867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CBBA7FF-509C-41BD-84AC-2AC7685EB24F}" type="slidenum">
                <a:rPr b="1" lang="zh-CN" sz="1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90720" y="1822320"/>
            <a:ext cx="784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uanti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hysics sense of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intensity and lu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sychological 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perceived intensity) -- brigh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nsity and Bright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are re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re not the sa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Checkout the 3-way switch, you will go from 50watt to 100, and 100 to 150, but the brightness are levels are not ev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6120" y="8683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ROMATIC LIGHT (Gray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37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37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8170C4-0E4D-4325-8D53-9AC8BDB28D33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065240" y="304920"/>
            <a:ext cx="736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ertain colors cannot be produced by RGB mixe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nce cannot be shown on an CR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1349280"/>
            <a:ext cx="736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ur eye can distinguish side-by-side colors. When colors differ only in hue, the wavelength between just noticeably different colors varies (mostly within 4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4871880"/>
            <a:ext cx="551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10000" y="4803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05560" y="4871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57560" y="278568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88920" y="46371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12280" y="2786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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73160" y="4468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5400" y="495612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73160" y="413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52280" y="3122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52280" y="3459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52280" y="379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57680" y="3157560"/>
            <a:ext cx="3686040" cy="1585800"/>
          </a:xfrm>
          <a:custGeom>
            <a:avLst/>
            <a:gdLst/>
            <a:ahLst/>
            <a:rect l="l" t="t" r="r" b="b"/>
            <a:pathLst>
              <a:path w="2754" h="999">
                <a:moveTo>
                  <a:pt x="0" y="207"/>
                </a:moveTo>
                <a:cubicBezTo>
                  <a:pt x="49" y="354"/>
                  <a:pt x="95" y="501"/>
                  <a:pt x="144" y="648"/>
                </a:cubicBezTo>
                <a:cubicBezTo>
                  <a:pt x="155" y="680"/>
                  <a:pt x="162" y="728"/>
                  <a:pt x="180" y="756"/>
                </a:cubicBezTo>
                <a:cubicBezTo>
                  <a:pt x="186" y="765"/>
                  <a:pt x="194" y="773"/>
                  <a:pt x="198" y="783"/>
                </a:cubicBezTo>
                <a:cubicBezTo>
                  <a:pt x="216" y="824"/>
                  <a:pt x="219" y="855"/>
                  <a:pt x="243" y="891"/>
                </a:cubicBezTo>
                <a:cubicBezTo>
                  <a:pt x="306" y="886"/>
                  <a:pt x="398" y="889"/>
                  <a:pt x="459" y="855"/>
                </a:cubicBezTo>
                <a:cubicBezTo>
                  <a:pt x="478" y="844"/>
                  <a:pt x="495" y="831"/>
                  <a:pt x="513" y="819"/>
                </a:cubicBezTo>
                <a:cubicBezTo>
                  <a:pt x="522" y="813"/>
                  <a:pt x="540" y="801"/>
                  <a:pt x="540" y="801"/>
                </a:cubicBezTo>
                <a:cubicBezTo>
                  <a:pt x="563" y="766"/>
                  <a:pt x="613" y="652"/>
                  <a:pt x="648" y="639"/>
                </a:cubicBezTo>
                <a:cubicBezTo>
                  <a:pt x="671" y="631"/>
                  <a:pt x="696" y="633"/>
                  <a:pt x="720" y="630"/>
                </a:cubicBezTo>
                <a:cubicBezTo>
                  <a:pt x="738" y="633"/>
                  <a:pt x="759" y="629"/>
                  <a:pt x="774" y="639"/>
                </a:cubicBezTo>
                <a:cubicBezTo>
                  <a:pt x="827" y="676"/>
                  <a:pt x="797" y="701"/>
                  <a:pt x="828" y="747"/>
                </a:cubicBezTo>
                <a:cubicBezTo>
                  <a:pt x="858" y="793"/>
                  <a:pt x="890" y="842"/>
                  <a:pt x="936" y="873"/>
                </a:cubicBezTo>
                <a:cubicBezTo>
                  <a:pt x="978" y="936"/>
                  <a:pt x="988" y="938"/>
                  <a:pt x="1053" y="981"/>
                </a:cubicBezTo>
                <a:cubicBezTo>
                  <a:pt x="1069" y="992"/>
                  <a:pt x="1107" y="999"/>
                  <a:pt x="1107" y="999"/>
                </a:cubicBezTo>
                <a:cubicBezTo>
                  <a:pt x="1154" y="991"/>
                  <a:pt x="1185" y="993"/>
                  <a:pt x="1215" y="954"/>
                </a:cubicBezTo>
                <a:cubicBezTo>
                  <a:pt x="1228" y="937"/>
                  <a:pt x="1230" y="907"/>
                  <a:pt x="1251" y="900"/>
                </a:cubicBezTo>
                <a:cubicBezTo>
                  <a:pt x="1269" y="894"/>
                  <a:pt x="1289" y="893"/>
                  <a:pt x="1305" y="882"/>
                </a:cubicBezTo>
                <a:cubicBezTo>
                  <a:pt x="1314" y="876"/>
                  <a:pt x="1322" y="868"/>
                  <a:pt x="1332" y="864"/>
                </a:cubicBezTo>
                <a:cubicBezTo>
                  <a:pt x="1388" y="840"/>
                  <a:pt x="1441" y="822"/>
                  <a:pt x="1494" y="792"/>
                </a:cubicBezTo>
                <a:cubicBezTo>
                  <a:pt x="1540" y="765"/>
                  <a:pt x="1588" y="740"/>
                  <a:pt x="1638" y="720"/>
                </a:cubicBezTo>
                <a:cubicBezTo>
                  <a:pt x="1656" y="713"/>
                  <a:pt x="1692" y="702"/>
                  <a:pt x="1692" y="702"/>
                </a:cubicBezTo>
                <a:cubicBezTo>
                  <a:pt x="1699" y="703"/>
                  <a:pt x="1774" y="712"/>
                  <a:pt x="1791" y="720"/>
                </a:cubicBezTo>
                <a:cubicBezTo>
                  <a:pt x="1810" y="730"/>
                  <a:pt x="1845" y="756"/>
                  <a:pt x="1845" y="756"/>
                </a:cubicBezTo>
                <a:cubicBezTo>
                  <a:pt x="1878" y="805"/>
                  <a:pt x="1917" y="845"/>
                  <a:pt x="1962" y="882"/>
                </a:cubicBezTo>
                <a:cubicBezTo>
                  <a:pt x="1972" y="890"/>
                  <a:pt x="1978" y="903"/>
                  <a:pt x="1989" y="909"/>
                </a:cubicBezTo>
                <a:cubicBezTo>
                  <a:pt x="2014" y="923"/>
                  <a:pt x="2043" y="927"/>
                  <a:pt x="2070" y="936"/>
                </a:cubicBezTo>
                <a:cubicBezTo>
                  <a:pt x="2079" y="939"/>
                  <a:pt x="2097" y="945"/>
                  <a:pt x="2097" y="945"/>
                </a:cubicBezTo>
                <a:cubicBezTo>
                  <a:pt x="2210" y="931"/>
                  <a:pt x="2135" y="951"/>
                  <a:pt x="2196" y="918"/>
                </a:cubicBezTo>
                <a:cubicBezTo>
                  <a:pt x="2220" y="905"/>
                  <a:pt x="2268" y="882"/>
                  <a:pt x="2268" y="882"/>
                </a:cubicBezTo>
                <a:cubicBezTo>
                  <a:pt x="2302" y="831"/>
                  <a:pt x="2317" y="816"/>
                  <a:pt x="2367" y="783"/>
                </a:cubicBezTo>
                <a:cubicBezTo>
                  <a:pt x="2379" y="748"/>
                  <a:pt x="2405" y="734"/>
                  <a:pt x="2421" y="702"/>
                </a:cubicBezTo>
                <a:cubicBezTo>
                  <a:pt x="2464" y="615"/>
                  <a:pt x="2529" y="541"/>
                  <a:pt x="2583" y="459"/>
                </a:cubicBezTo>
                <a:cubicBezTo>
                  <a:pt x="2588" y="451"/>
                  <a:pt x="2587" y="440"/>
                  <a:pt x="2592" y="432"/>
                </a:cubicBezTo>
                <a:cubicBezTo>
                  <a:pt x="2628" y="370"/>
                  <a:pt x="2664" y="310"/>
                  <a:pt x="2691" y="243"/>
                </a:cubicBezTo>
                <a:cubicBezTo>
                  <a:pt x="2722" y="167"/>
                  <a:pt x="2734" y="88"/>
                  <a:pt x="2754" y="9"/>
                </a:cubicBezTo>
                <a:cubicBezTo>
                  <a:pt x="2745" y="6"/>
                  <a:pt x="2727" y="0"/>
                  <a:pt x="2727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029040" y="3157560"/>
            <a:ext cx="88560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4760" y="293040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an’t tell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60840" y="3795840"/>
            <a:ext cx="19692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3122640"/>
            <a:ext cx="140004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75080" y="3902040"/>
            <a:ext cx="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81600" y="352116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distinguis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lor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1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color can be matched using a combination of three “</a:t>
            </a:r>
            <a:r>
              <a:rPr b="0" lang="en-CA" sz="2800" spc="-1" strike="noStrike">
                <a:solidFill>
                  <a:srgbClr val="3333cc"/>
                </a:solidFill>
                <a:latin typeface="Times New Roman"/>
              </a:rPr>
              <a:t>primarie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primaries are not necessarily red, green, and blue. Any three different colors can be used. The range of colors that can be produced from a given set of primaries is the </a:t>
            </a:r>
            <a:r>
              <a:rPr b="0" i="1" lang="en-CA" sz="2800" spc="-1" strike="noStrike">
                <a:solidFill>
                  <a:srgbClr val="3333cc"/>
                </a:solidFill>
                <a:latin typeface="Times New Roman"/>
              </a:rPr>
              <a:t>gamu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013200" y="3057480"/>
                <a:ext cx="28288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402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403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EB0B0C-2747-4283-A308-A25E6C4E3F9D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11280" y="944640"/>
            <a:ext cx="4865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he CIE Chromaticit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54720" y="1544760"/>
            <a:ext cx="7431480" cy="4518000"/>
            <a:chOff x="954720" y="1544760"/>
            <a:chExt cx="7431480" cy="4518000"/>
          </a:xfrm>
        </p:grpSpPr>
        <p:sp>
          <p:nvSpPr>
            <p:cNvPr id="408" name=""/>
            <p:cNvSpPr/>
            <p:nvPr/>
          </p:nvSpPr>
          <p:spPr>
            <a:xfrm>
              <a:off x="954720" y="1544760"/>
              <a:ext cx="743148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 1931, the Commission Internationale de l’Eclair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CIE) defined three matching primaries, called X, Y, Z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o replace the RGB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492200" y="2687760"/>
              <a:ext cx="5943600" cy="33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or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IE (Commission Internationale d’Éclai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imaries chosen for mathematical properties: do not actually correspond to colors. These “virtual” colors X, Y, and Z are called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tristimulus valu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Y is the same as lumi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702320" y="1752480"/>
            <a:ext cx="3905280" cy="3538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00720" y="1752480"/>
            <a:ext cx="61416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41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41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32E1A1-65C7-4FD5-98F7-6C45732958B3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062720" y="228600"/>
            <a:ext cx="7361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maries can be used to match, with only pos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ights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all the colors we can s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62360" y="1066680"/>
            <a:ext cx="588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 matches the luminous-efficiency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39040" y="4191120"/>
            <a:ext cx="6928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E chromaticity dia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projection o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(X,Y) plane of the X+Y+Z=1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5960" y="4952880"/>
            <a:ext cx="7328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romaticity values depend only on domin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velength and saturation, and are independen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luminous energy (lumina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66320" y="1523880"/>
            <a:ext cx="7670520" cy="2502000"/>
            <a:chOff x="1066320" y="1523880"/>
            <a:chExt cx="7670520" cy="2502000"/>
          </a:xfrm>
        </p:grpSpPr>
        <p:sp>
          <p:nvSpPr>
            <p:cNvPr id="427" name=""/>
            <p:cNvSpPr/>
            <p:nvPr/>
          </p:nvSpPr>
          <p:spPr>
            <a:xfrm>
              <a:off x="1066320" y="1523880"/>
              <a:ext cx="76705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amounts of X, Y, and Z primaries needed to match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or with a spectral energy distribution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,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1447920" y="2438280"/>
                  <a:ext cx="187956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λ</m:t>
                          </m:r>
                        </m:e>
                      </m:nary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d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657600" y="2438280"/>
                  <a:ext cx="18367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λ</m:t>
                          </m:r>
                        </m:e>
                      </m:nary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d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5867280" y="2438280"/>
                  <a:ext cx="18367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λ</m:t>
                          </m:r>
                        </m:e>
                      </m:nary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dλ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1523880" y="3200400"/>
              <a:ext cx="533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 is a constant chosen according to the engery distribution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very wavelength in spectrum, calculate (X,Y,Z) from CIE color matching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(X,Y,Z), calculat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lo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 for all wavelengths in spectr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tes a horseshoe shaped dia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physical colors li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horsesho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09760" y="2351160"/>
          <a:ext cx="26035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351160"/>
                    <a:ext cx="26035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525920" y="2351160"/>
          <a:ext cx="26290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920" y="2351160"/>
                    <a:ext cx="2629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hromaticity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124000" y="1568520"/>
            <a:ext cx="5127840" cy="49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243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Artist’s Rendition of Chromaticity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12960" y="16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cie_color_diagram" descr=""/>
          <p:cNvPicPr/>
          <p:nvPr/>
        </p:nvPicPr>
        <p:blipFill>
          <a:blip r:embed="rId1"/>
          <a:stretch/>
        </p:blipFill>
        <p:spPr>
          <a:xfrm>
            <a:off x="2662200" y="1420920"/>
            <a:ext cx="4784760" cy="45403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575160" y="1158840"/>
            <a:ext cx="3987720" cy="39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physical colors inside or on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024080" y="1549440"/>
            <a:ext cx="1430280" cy="208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4040" y="4541760"/>
            <a:ext cx="2708280" cy="7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nochromatic wavelength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97360" y="4545000"/>
            <a:ext cx="61884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18040" y="2384280"/>
            <a:ext cx="3305160" cy="39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light near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= (1/3, 1/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674960" y="2766960"/>
            <a:ext cx="1493640" cy="140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arycentric” Color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689280" y="1127160"/>
            <a:ext cx="5195880" cy="5013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373560" y="2581200"/>
            <a:ext cx="1604880" cy="55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3080" y="1622160"/>
            <a:ext cx="339732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.e., center of gr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colors: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e P and Q in different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n generate any color on straight line connecting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4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ominant Wavelength and Pur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90480"/>
            <a:ext cx="777240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ominant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aw line from white point through the (x,y)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 line to boundary </a:t>
            </a:r>
            <a:r>
              <a:rPr b="0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ccccff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rcentage of distance from white point to 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urity is 0% at whit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urity is 100% a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3360" y="671400"/>
            <a:ext cx="2870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amma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2640" y="1432080"/>
            <a:ext cx="73677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haracteristic of the ey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it is sensitive to ratios of intensity levels rather than to absolute values of intens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a brightness scale, the differences between intensities of 0.1 and 0.11 and of 0.5 and 0.55  are eq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ghtness is called perceived intensity. Sometimes, without confusion, simply “intensity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381880" y="5867280"/>
            <a:ext cx="457200" cy="762120"/>
            <a:chOff x="8381880" y="5867280"/>
            <a:chExt cx="457200" cy="762120"/>
          </a:xfrm>
        </p:grpSpPr>
        <p:sp>
          <p:nvSpPr>
            <p:cNvPr id="67" name="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8200" y="5867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BD4BE25-B4CE-4517-8A68-2AAA5BF24598}" type="slidenum">
                <a:rPr b="1" lang="zh-CN" sz="1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613320" y="1084320"/>
            <a:ext cx="5365440" cy="517680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ominant Waveleng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4520" y="1083960"/>
            <a:ext cx="34876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point at (0.33, 0.3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x,y) = (0.2, 0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aw line from white point through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 it to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Symbol" charset="2"/>
              <a:buChar char="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  <a:ea typeface="宋体"/>
              </a:rPr>
              <a:t>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= 515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urit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5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% white light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 515 nm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29040" y="2349360"/>
            <a:ext cx="2222280" cy="29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mentary Wave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037040" y="1065240"/>
            <a:ext cx="4870440" cy="4700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0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 and Q are 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ne passes through white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.e., combination of light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give wh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lor Gam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47560" y="118872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y three colors form a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binations of 3 colors must lie inside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12400" y="2536920"/>
            <a:ext cx="5132160" cy="3487320"/>
            <a:chOff x="2012400" y="2536920"/>
            <a:chExt cx="5132160" cy="3487320"/>
          </a:xfrm>
        </p:grpSpPr>
        <p:sp>
          <p:nvSpPr>
            <p:cNvPr id="464" name=""/>
            <p:cNvSpPr/>
            <p:nvPr/>
          </p:nvSpPr>
          <p:spPr>
            <a:xfrm>
              <a:off x="2497320" y="2973240"/>
              <a:ext cx="4206600" cy="2857680"/>
            </a:xfrm>
            <a:prstGeom prst="triangle">
              <a:avLst>
                <a:gd name="adj" fmla="val 31634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57680" y="2925720"/>
              <a:ext cx="16524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5729400"/>
              <a:ext cx="16524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91240" y="5740560"/>
              <a:ext cx="16524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68040" y="2536920"/>
              <a:ext cx="32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d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12400" y="5676840"/>
              <a:ext cx="32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d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17680" y="5688000"/>
              <a:ext cx="32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d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297240" y="4653000"/>
            <a:ext cx="214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d"/>
                </a:solidFill>
                <a:latin typeface="Arial"/>
                <a:ea typeface="宋体"/>
              </a:rPr>
              <a:t>Physical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lor Gamuts and Color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44800" y="1332000"/>
            <a:ext cx="4899240" cy="47260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2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4160" indent="-164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color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00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 biggest color ga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00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ue for all media, print, monitor, film,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4160" indent="-164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 3 primaries can reproduce human v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97120" y="2478240"/>
            <a:ext cx="1229040" cy="38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19240" y="1574640"/>
            <a:ext cx="187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d"/>
                </a:solidFill>
                <a:latin typeface="Arial"/>
                <a:ea typeface="宋体"/>
              </a:rPr>
              <a:t>Human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668560" y="1736640"/>
            <a:ext cx="934920" cy="355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48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48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FAE2CB-0892-4B29-99CD-23CEDE0BFF15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30080" y="3430440"/>
            <a:ext cx="6144120" cy="1798920"/>
            <a:chOff x="1630080" y="3430440"/>
            <a:chExt cx="6144120" cy="1798920"/>
          </a:xfrm>
        </p:grpSpPr>
        <p:sp>
          <p:nvSpPr>
            <p:cNvPr id="486" name=""/>
            <p:cNvSpPr/>
            <p:nvPr/>
          </p:nvSpPr>
          <p:spPr>
            <a:xfrm>
              <a:off x="1631880" y="3430440"/>
              <a:ext cx="568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interior and boundary of the horseshoe-shap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4040" y="3659040"/>
              <a:ext cx="522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gion represent all visible chromaticity valu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33680" y="3963960"/>
              <a:ext cx="612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ll perceivable colors in 3D with the same chromatic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30080" y="4192560"/>
              <a:ext cx="614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t different luminances map into the same point with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32960" y="4421160"/>
              <a:ext cx="193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region in 2D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34760" y="4726080"/>
              <a:ext cx="608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100% spectrally pure colors of the spectrum are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32960" y="4954680"/>
              <a:ext cx="357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curved part of the boundar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85800" y="190440"/>
            <a:ext cx="7848720" cy="2990880"/>
          </a:xfrm>
          <a:prstGeom prst="rect">
            <a:avLst/>
          </a:prstGeom>
          <a:ln w="0">
            <a:noFill/>
          </a:ln>
        </p:spPr>
      </p:pic>
      <p:grpSp>
        <p:nvGrpSpPr>
          <p:cNvPr id="494" name=""/>
          <p:cNvGrpSpPr/>
          <p:nvPr/>
        </p:nvGrpSpPr>
        <p:grpSpPr>
          <a:xfrm>
            <a:off x="1630440" y="5262480"/>
            <a:ext cx="6232320" cy="731880"/>
            <a:chOff x="1630440" y="5262480"/>
            <a:chExt cx="6232320" cy="731880"/>
          </a:xfrm>
        </p:grpSpPr>
        <p:sp>
          <p:nvSpPr>
            <p:cNvPr id="495" name=""/>
            <p:cNvSpPr/>
            <p:nvPr/>
          </p:nvSpPr>
          <p:spPr>
            <a:xfrm>
              <a:off x="1630440" y="5262480"/>
              <a:ext cx="623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 standard white light, meant to approximate sunlight, 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31880" y="5491080"/>
              <a:ext cx="602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ormally defined by a light source illuminant C, mark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33680" y="5719680"/>
              <a:ext cx="197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y the center do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392120" y="3583080"/>
            <a:ext cx="7632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92120" y="411624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92120" y="488160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92120" y="5415120"/>
            <a:ext cx="7632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505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506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C4E618-3407-413F-8010-5D5CEF0F3FD2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042920" y="4219560"/>
            <a:ext cx="76104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t allows us to measure the dominant wavelength and excitation purity of any color by matching the color with a mixture of the three CIE prim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=B+C; AC/BC is the excitation purity of A; B is the dominant wave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lementary colors are those that can be mixed to produce white light (D and 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89200" y="801720"/>
            <a:ext cx="7394400" cy="3246480"/>
            <a:chOff x="889200" y="801720"/>
            <a:chExt cx="7394400" cy="3246480"/>
          </a:xfrm>
        </p:grpSpPr>
        <p:sp>
          <p:nvSpPr>
            <p:cNvPr id="511" name=""/>
            <p:cNvSpPr/>
            <p:nvPr/>
          </p:nvSpPr>
          <p:spPr>
            <a:xfrm>
              <a:off x="889200" y="801720"/>
              <a:ext cx="73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IE chromaticity diagra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s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usefu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n many way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895320" y="1438560"/>
              <a:ext cx="7162920" cy="26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516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517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3A2A85-DC67-4A6A-BE9A-392180F63400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106640" y="588960"/>
            <a:ext cx="727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06640" y="4351320"/>
            <a:ext cx="7199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onspectral F, no dominant wavelength; B is the complement dominant wavelength. CF/CG is the excitation pu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ake a flat spectral distribution and delete some of the light at frequency B, the resulting color will be perceived as 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03400" y="893880"/>
            <a:ext cx="7394400" cy="3246480"/>
            <a:chOff x="1103400" y="893880"/>
            <a:chExt cx="7394400" cy="3246480"/>
          </a:xfrm>
        </p:grpSpPr>
        <p:sp>
          <p:nvSpPr>
            <p:cNvPr id="523" name=""/>
            <p:cNvSpPr/>
            <p:nvPr/>
          </p:nvSpPr>
          <p:spPr>
            <a:xfrm>
              <a:off x="1103400" y="893880"/>
              <a:ext cx="73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IE chromaticity diagra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s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usefu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n many way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1109520" y="1530720"/>
              <a:ext cx="7162560" cy="26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528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529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6ED3A1-A8CA-468F-A1C3-65C8B25329AA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106640" y="588960"/>
            <a:ext cx="727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00160" y="4168800"/>
            <a:ext cx="7199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lor gamuts (ranges), show the effect of adding colors together. I and J can be added to produce color between I and J; A third color K can be used with I and J to produce the gamut of all colors in triangle IJ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29000" y="588960"/>
            <a:ext cx="7394400" cy="3246480"/>
            <a:chOff x="729000" y="588960"/>
            <a:chExt cx="7394400" cy="3246480"/>
          </a:xfrm>
        </p:grpSpPr>
        <p:sp>
          <p:nvSpPr>
            <p:cNvPr id="535" name=""/>
            <p:cNvSpPr/>
            <p:nvPr/>
          </p:nvSpPr>
          <p:spPr>
            <a:xfrm>
              <a:off x="729000" y="588960"/>
              <a:ext cx="739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CIE chromaticity diagra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s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usefu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in many way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2"/>
            <a:stretch/>
          </p:blipFill>
          <p:spPr>
            <a:xfrm>
              <a:off x="735120" y="1225800"/>
              <a:ext cx="7162920" cy="26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 of Gam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86080" y="11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color_gamut" descr=""/>
          <p:cNvPicPr/>
          <p:nvPr/>
        </p:nvPicPr>
        <p:blipFill>
          <a:blip r:embed="rId1"/>
          <a:stretch/>
        </p:blipFill>
        <p:spPr>
          <a:xfrm>
            <a:off x="1486080" y="863640"/>
            <a:ext cx="6172200" cy="46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@ 2002 by Jim X. Chen: jchen@cs.gmu.edu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480" y="4629240"/>
            <a:ext cx="756144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inimum attainable intens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for a CR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ywhere from about 1/200 to 1/40 of the maxim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nsity of 1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73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74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A933DB-301E-46BA-9374-7189D4477941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33520" y="708120"/>
            <a:ext cx="73771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find 256 perceived intensities starting from lowest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a maximum of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5600" y="20574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8195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31920" y="1574640"/>
                <a:ext cx="707400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5</m:t>
                                </m:r>
                              </m:den>
                            </m:f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31920" y="3753000"/>
                <a:ext cx="555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66680" y="3048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in general for n+1 intens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86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87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87465C-E41B-4BEA-A641-8FC81DD4119A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14240" y="709560"/>
            <a:ext cx="77439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Dynamic ran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-- the ratio betwee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um and minimum intensities (1/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 bigger the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683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intensity is related to the numb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C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9000" y="2689200"/>
            <a:ext cx="64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04920" y="2575080"/>
            <a:ext cx="2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12560" y="2689200"/>
            <a:ext cx="12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k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9160" y="270180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1120" y="2689200"/>
            <a:ext cx="409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 constants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between 2.2 to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8400" y="3273480"/>
            <a:ext cx="7014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is proportional to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the control-g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tage), so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constant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8840" y="44211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 = K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838080"/>
            <a:ext cx="76320" cy="763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760" y="1754280"/>
            <a:ext cx="7596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0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0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E320F8-69F8-45E9-BA14-6D53457A2C3D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00000" y="954000"/>
            <a:ext cx="7939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iven a desired intensity I, we can determ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ltage (intensity) needed in the hard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94800" y="50515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51400" y="51404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920" y="50515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 ROUND((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99320" y="5203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73840" y="505152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/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22320" y="4987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13040" y="498780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6080" y="49500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0360" y="50515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400" y="1028880"/>
            <a:ext cx="76320" cy="75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374920" y="2049480"/>
                <a:ext cx="2913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/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636560" y="2728800"/>
            <a:ext cx="43419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nd we know that I = K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 = (I/K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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amma corr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a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24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25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18F4E0-E586-445A-A873-800CD7E1987E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38320" y="1208160"/>
            <a:ext cx="21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alues of 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1208160"/>
            <a:ext cx="17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51680" y="1208160"/>
            <a:ext cx="83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and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9400" y="13352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7920" y="1208160"/>
            <a:ext cx="30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pend on the CR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1960" y="1566720"/>
            <a:ext cx="628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, so in practice the look-up table is load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3400" y="1881360"/>
            <a:ext cx="555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method based on actual measure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3040" y="2185920"/>
            <a:ext cx="146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ns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9520" y="2173320"/>
            <a:ext cx="394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Use of the look-up table in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8360" y="2478240"/>
            <a:ext cx="607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general manner is also called gamma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99000" y="24908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36520" y="3360600"/>
            <a:ext cx="618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display ha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ardware gamma corr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5560" y="3665520"/>
            <a:ext cx="77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87680" y="37926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6240" y="3665520"/>
            <a:ext cx="187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ther tha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3560" y="379260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16640" y="3665520"/>
            <a:ext cx="337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placed in entry j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2680" y="4021200"/>
            <a:ext cx="413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look-up 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refresh 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257480"/>
            <a:ext cx="15264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448080"/>
            <a:ext cx="152640" cy="152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51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52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97B7A1-4EA4-4CF3-B550-8692BB69366F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65880" y="1298520"/>
            <a:ext cx="455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intensities are enough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1760" y="2457360"/>
            <a:ext cx="576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en r &lt; 1.01, the eye cannot distinguis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6240" y="272412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etween intensities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8840" y="28004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4440" y="27241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57520" y="281304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7960" y="27241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3200" y="3054240"/>
            <a:ext cx="52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hus the appropriate value for n,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6160" y="3282840"/>
            <a:ext cx="576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intensity levels: r = 1.01 = (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0" y="32767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13240" y="3365640"/>
            <a:ext cx="10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4760" y="327672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0" y="327672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/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7160" y="3676680"/>
            <a:ext cx="480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t depends on the lowest intens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60160" y="367668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alu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06960" y="382896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33640" y="4041720"/>
            <a:ext cx="2990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= 1/200, n = lo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.0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 = 5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a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848720" y="5867280"/>
            <a:ext cx="990360" cy="762120"/>
            <a:chOff x="7848720" y="5867280"/>
            <a:chExt cx="990360" cy="762120"/>
          </a:xfrm>
        </p:grpSpPr>
        <p:grpSp>
          <p:nvGrpSpPr>
            <p:cNvPr id="175" name=""/>
            <p:cNvGrpSpPr/>
            <p:nvPr/>
          </p:nvGrpSpPr>
          <p:grpSpPr>
            <a:xfrm>
              <a:off x="8381880" y="5867280"/>
              <a:ext cx="457200" cy="762120"/>
              <a:chOff x="8381880" y="5867280"/>
              <a:chExt cx="457200" cy="762120"/>
            </a:xfrm>
          </p:grpSpPr>
          <p:sp>
            <p:nvSpPr>
              <p:cNvPr id="176" name="">
                <a:hlinkClick r:id="" action="ppaction://hlinkshowjump?jump=nextslide"/>
              </p:cNvPr>
              <p:cNvSpPr/>
              <p:nvPr/>
            </p:nvSpPr>
            <p:spPr>
              <a:xfrm>
                <a:off x="838188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58200" y="58672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A95BB9-CD0A-4805-B454-955AEC336662}" type="slidenum">
                  <a:rPr b="1" lang="zh-CN" sz="16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&lt;number&gt;</a:t>
                </a:fld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>
              <a:hlinkClick r:id="" action="ppaction://hlinkshowjump?jump=previousslide"/>
            </p:cNvPr>
            <p:cNvSpPr/>
            <p:nvPr/>
          </p:nvSpPr>
          <p:spPr>
            <a:xfrm>
              <a:off x="784872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8080" y="533520"/>
            <a:ext cx="374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Halftone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32560" y="1322280"/>
            <a:ext cx="6917760" cy="1294560"/>
            <a:chOff x="1132560" y="1322280"/>
            <a:chExt cx="6917760" cy="1294560"/>
          </a:xfrm>
        </p:grpSpPr>
        <p:sp>
          <p:nvSpPr>
            <p:cNvPr id="181" name=""/>
            <p:cNvSpPr/>
            <p:nvPr/>
          </p:nvSpPr>
          <p:spPr>
            <a:xfrm>
              <a:off x="1132560" y="1322280"/>
              <a:ext cx="590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i="1" lang="en-US" sz="2400" spc="-1" strike="noStrike">
                  <a:solidFill>
                    <a:srgbClr val="66ccff"/>
                  </a:solidFill>
                  <a:latin typeface="Times New Roman"/>
                  <a:ea typeface="宋体"/>
                </a:rPr>
                <a:t>Spatial integra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- if we view a very sm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6160" y="13348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8720" y="1639800"/>
              <a:ext cx="615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rea from a sufficiently large viewing distanc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20880" y="1946160"/>
              <a:ext cx="622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r eyes average fine detail within the area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0520" y="2250720"/>
              <a:ext cx="423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cord only the overall intens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37240" y="2873520"/>
            <a:ext cx="6975000" cy="759600"/>
            <a:chOff x="1137240" y="2873520"/>
            <a:chExt cx="6975000" cy="759600"/>
          </a:xfrm>
        </p:grpSpPr>
        <p:sp>
          <p:nvSpPr>
            <p:cNvPr id="187" name=""/>
            <p:cNvSpPr/>
            <p:nvPr/>
          </p:nvSpPr>
          <p:spPr>
            <a:xfrm>
              <a:off x="1137240" y="2873520"/>
              <a:ext cx="586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n n*n group of bi-level pixels can prov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5560" y="3267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90800" y="3190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3200" y="3267000"/>
              <a:ext cx="5999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1 intensity levels using halftoning techniqu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35800" y="3898800"/>
            <a:ext cx="6253200" cy="672480"/>
            <a:chOff x="1135800" y="3898800"/>
            <a:chExt cx="6253200" cy="672480"/>
          </a:xfrm>
        </p:grpSpPr>
        <p:sp>
          <p:nvSpPr>
            <p:cNvPr id="192" name=""/>
            <p:cNvSpPr/>
            <p:nvPr/>
          </p:nvSpPr>
          <p:spPr>
            <a:xfrm>
              <a:off x="1135800" y="3898800"/>
              <a:ext cx="6253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t is a trade-off between spatial resolution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2680" y="4205160"/>
              <a:ext cx="257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nsity re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4T07:09:03Z</dcterms:created>
  <dc:creator>Jim X. Chen</dc:creator>
  <dc:description/>
  <dc:language>en-US</dc:language>
  <cp:lastModifiedBy>Jim X. Chen</cp:lastModifiedBy>
  <dcterms:modified xsi:type="dcterms:W3CDTF">2005-02-01T21:10:43Z</dcterms:modified>
  <cp:revision>64</cp:revision>
  <dc:subject/>
  <dc:title>No Slide Title</dc:title>
</cp:coreProperties>
</file>