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6.wmf" ContentType="image/x-wmf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94525" cy="9277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4606-5FC1-4505-8411-DF32C577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FE9A-95AE-44BD-A11C-C35FEFB6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AA8F-4629-4DDD-BA84-E1B2AB60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ABCA-83BA-4579-BF24-98EFCBE4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82B2-4EAB-4168-ABA4-E20F0C55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876A-1A8D-4F87-9D2A-3F0D61D3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613B-6569-41B5-B926-E558FDF1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C01D-8C68-48FF-B373-59E7BE18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2115-CECF-48EE-977C-3C33EF13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1E4D-06A0-4E69-9890-3A291ED3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DB03-D29B-46DF-8564-A08DB2E8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B468-1DA5-47D2-8E73-F0FC8EFA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9E12-CD21-426C-B541-5885A54C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DE68-169E-4626-8470-87B85EAB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7977-9589-402A-B531-9F0BE1F8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3B14-C176-490A-9F84-3C1993A6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F6B6-CB3A-4F13-B915-573AD546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9D31-CE74-4602-9E3E-996AA431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801E-04DE-4D28-B5DA-7E6EC46A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78A3-6324-4792-B50A-AEAFC66F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3225-C1B6-459D-93B1-3D6DE6D0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9E46-2086-47FF-81ED-E012AEDC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49FA-6B4D-4089-BB21-3A76D05A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784F-9A46-4372-95CE-F606861F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0B7A-C824-4226-ACC8-8D3CE3619F3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D58B-7556-46A7-AEC8-FB3B5155802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40"/>
              </a:gs>
              <a:gs pos="100000">
                <a:srgbClr val="000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286C-AAB9-42CC-9C1F-1AF317FBFC2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9273-5A4D-49BD-9653-E2FC094CAB5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40"/>
              </a:gs>
              <a:gs pos="100000">
                <a:srgbClr val="000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599840" y="2360520"/>
            <a:ext cx="7086600" cy="33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mp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cement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dow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143000"/>
            <a:ext cx="7810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dvanced Texture and Lighting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0656-8A3A-46F1-8841-B4C1B74BEA2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677D1-02F5-4A68-8DA4-9C5E22ACA8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ub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8320" y="28954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DE50-01BF-40FD-A151-582E326E67E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24D09-8230-43B9-87A2-0CF529CA36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 mapping with GL_REFLECTION_MAP &amp; GL_TEXTURE_CUBE_MAP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.glBindTexture(GL.GL_TEXTURE_CUBE_MAP_POSITIVE_X, cubeMap[0]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 gl.glBindTexture(GL.GL_TEXTURE_CUBE_MAP_NEGATIVE_X, cubeMap[1]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 gl.glBindTexture(GL.GL_TEXTURE_CUBE_MAP_POSITIVE_Y, cubeMap[2]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 gl.glBindTexture(GL.GL_TEXTURE_CUBE_MAP_NEGATIVE_Y, cubeMap[3]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 gl.glBindTexture(GL.GL_TEXTURE_CUBE_MAP_POSITIVE_Z, cubeMap[4]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 gl.glBindTexture(GL.GL_TEXTURE_CUBE_MAP_NEGATIVE_Z, cubeMap[5])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 gl.glEnable(GL.GL_TEXTURE_CUBE_MAP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GL_REFLECTION_MAP for s,t,r texture coordinat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 gl.glTexGeni(GL.GL_S, GL.GL_TEXTURE_GEN_MODE, GL.GL_REFLECTION_MAP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 gl.glTexGeni(GL.GL_T, GL.GL_TEXTURE_GEN_MODE, GL.GL_REFLECTION_MAP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 gl.glTexGeni(GL.GL_R, GL.GL_TEXTURE_GEN_MODE, GL.GL_REFLECTION_MAP)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 gl.glEnable(GL.GL_TEXTURE_GEN_S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 gl.glEnable(GL.GL_TEXTURE_GEN_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 gl.glEnable(GL.GL_TEXTURE_GEN_R)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 //Draw shape to aply reflection on 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6DF1-B1CD-4EC5-ABCB-11ECB136555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7C83CB8-EB00-4BC0-82CD-DD9612A86D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erical Environ.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Efficient than cube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 of perfect sphere reflector seen from infinity (orthograph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5145120" cy="2944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10080" y="3048120"/>
            <a:ext cx="3251160" cy="325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7FFF-7739-4E80-ABD6-72EA3EDB3C6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EA17F-DBF4-4696-93CC-F198CA4CED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xing Sphere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in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Texture use for automatic coordinate gener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gl.glBindTexture(GL.GL_TEXTURE_2D, texture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gl.glEnable(GL.GL_TEXTURE_2D)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//Sphere mapping and enable s &amp; t texture gener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gl.glTexGeni(GL.GL_S, GL.GL_TEXTURE_GEN_MODE, GL.GL_SPHERE_MAP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gl.glTexGeni(GL.GL_T, GL.GL_TEXTURE_GEN_MODE, GL.GL_SPHERE_MAP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gl.glEnable(GL.GL_TEXTURE_GEN_S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gl.glEnable(GL.GL_TEXTURE_GEN_T)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//Draw the shapes to apply the textu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non-uniform sam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non-linear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A93F-A91B-412B-A9B8-277B1A13ACA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A218AC-C81E-4B55-AC37-20023AEB85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unifor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122720" cy="2292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495680" y="2971800"/>
            <a:ext cx="4173480" cy="21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E03C-E480-4BA8-8199-24E2DD28C7D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BD2B8-90C2-4BB7-9458-41626B312F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linear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interpolation of texture coordinates picks up the wrong texture pix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mall polyg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3880" y="3276720"/>
            <a:ext cx="6093000" cy="2697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362320" y="58672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5867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758F-BAFA-4A59-A2B5-40ABA38FB62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1852B-91AA-4EB3-89C4-ACCA34C2D3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267080" y="1828800"/>
            <a:ext cx="4724640" cy="38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9CCF-2AA8-42DF-953A-1B0C562C3D6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455C4-0C75-4245-9AE2-1A479D35DC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e-render special lighting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texturing’ idea: 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rbitrary texel-by-texel shading calc’d from multiple texture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048120" y="25909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172200" y="25909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13080" y="5638680"/>
            <a:ext cx="178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SimSun"/>
              </a:rPr>
              <a:t>Reflectance</a:t>
            </a:r>
            <a:br>
              <a:rPr sz="2400"/>
            </a:b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SimSun"/>
              </a:rPr>
              <a:t>Texture</a:t>
            </a:r>
            <a:r>
              <a:rPr b="0" lang="en-US" sz="3200" spc="-1" strike="noStrike">
                <a:solidFill>
                  <a:srgbClr val="bbe0e3"/>
                </a:solidFill>
                <a:latin typeface="Times New Roman"/>
                <a:ea typeface="SimSu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7320" y="5686560"/>
            <a:ext cx="304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ight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(Illumination Tex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84520" y="58881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=  Display te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BA06-5699-43BC-81A6-FCFD6FAD0A4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EA460-B189-4F78-8230-16A4CE3769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7391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Shadow Mapp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Render scene from light’s point of 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ore depth of each pix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13000" y="3541680"/>
            <a:ext cx="2717640" cy="2395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0" t="0" r="2702" b="0"/>
          <a:stretch/>
        </p:blipFill>
        <p:spPr>
          <a:xfrm>
            <a:off x="4424400" y="3541680"/>
            <a:ext cx="2646360" cy="239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DDE-FCEE-413A-8EE8-827E79486DD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63EB7-F654-4F92-A37C-D7260F473E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7391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Shadow Mapp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nder scene from light’s 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tore depth of each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en shading a surf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ransform surface point into light coordin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mpare current surface depth to stored depth. If depth &gt; stored depth, the pixel is in shadow; otherwise the pixel is l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3E0F-E7F3-4881-B333-C46829D117A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FEBDA-DA68-4812-92A1-E18C6C7AB1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mp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texel values to modify vertex/pixel normals of polyg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el values correspond t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rmals (or heights) modifying the current norm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GB = 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1)/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2*RGB –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scm2.jpg (57728 bytes)"/>
          <p:cNvPicPr/>
          <p:nvPr/>
        </p:nvPicPr>
        <p:blipFill>
          <a:blip r:embed="rId1"/>
          <a:stretch/>
        </p:blipFill>
        <p:spPr>
          <a:xfrm>
            <a:off x="4876920" y="35812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44A2-2590-4504-AF6E-63D20A25FD9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76C25-9872-4FE4-804B-53FA0DD1B9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lia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3716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SimSun"/>
              </a:rPr>
              <a:t>Williams, Siggraph ‘7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SimSun"/>
              </a:rPr>
              <a:t>render scene from light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SimSun"/>
              </a:rPr>
              <a:t>shadowing by depth c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SimSun"/>
              </a:rPr>
              <a:t>prone to aliasing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SimSun"/>
              </a:rPr>
              <a:t>when zooming into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SimSun"/>
              </a:rPr>
              <a:t>shadow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600960" y="18288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rcRect l="34416" t="60328" r="23077" b="2820"/>
          <a:stretch/>
        </p:blipFill>
        <p:spPr>
          <a:xfrm>
            <a:off x="6372360" y="4038480"/>
            <a:ext cx="1933560" cy="1676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981840" y="4876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58160" y="2743200"/>
            <a:ext cx="761760" cy="533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72360" y="4038480"/>
            <a:ext cx="1904760" cy="1676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2743200"/>
            <a:ext cx="685800" cy="1295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19920" y="2743200"/>
            <a:ext cx="457200" cy="1295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19920" y="3276720"/>
            <a:ext cx="228600" cy="761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829200" y="3276720"/>
            <a:ext cx="228600" cy="761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389600" y="4605480"/>
            <a:ext cx="5349240" cy="709560"/>
            <a:chOff x="1389600" y="4605480"/>
            <a:chExt cx="5349240" cy="709560"/>
          </a:xfrm>
        </p:grpSpPr>
        <p:sp>
          <p:nvSpPr>
            <p:cNvPr id="165" name=""/>
            <p:cNvSpPr/>
            <p:nvPr/>
          </p:nvSpPr>
          <p:spPr>
            <a:xfrm>
              <a:off x="6576840" y="5176800"/>
              <a:ext cx="162000" cy="138240"/>
            </a:xfrm>
            <a:custGeom>
              <a:avLst/>
              <a:gdLst/>
              <a:ahLst/>
              <a:rect l="l" t="t" r="r" b="b"/>
              <a:pathLst>
                <a:path w="102" h="87">
                  <a:moveTo>
                    <a:pt x="9" y="0"/>
                  </a:moveTo>
                  <a:lnTo>
                    <a:pt x="0" y="84"/>
                  </a:lnTo>
                  <a:lnTo>
                    <a:pt x="90" y="87"/>
                  </a:lnTo>
                  <a:lnTo>
                    <a:pt x="10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89600" y="4605480"/>
              <a:ext cx="371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ingle shadow map pix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4876920"/>
              <a:ext cx="182880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2980-2A4D-4FA9-9003-69CD46EB098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3A112-8A77-495E-8A75-6256E2407B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mp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ght source directio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pixel norma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represented in the global coor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, y,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ump map norma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n its local coordinates, which i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ngent 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xture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46483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0" y="3581280"/>
            <a:ext cx="4024440" cy="265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9082-0B55-4C99-8602-3CBD736C09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21B46-F4ED-4B96-A388-692D61E9F2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mp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ngent space can be aligned with any orientation as long as they are perpendicular to the norm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they do not rotate arou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point to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ngent space coordinatesTNB:  T = NxS; B = Tx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 = (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,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, 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46483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8320" y="3657600"/>
            <a:ext cx="4024080" cy="2657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3962520"/>
            <a:ext cx="35812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NB should be the same across the polygon. So it is calculated at vertex lev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E6BF-2571-427F-9216-C9D5B478B7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950EE-764F-41A3-8205-A7508C6C68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lacement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mp mapp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t pixe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no geometry/shap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cement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ly modify the surface geometry (vertic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calculate the nor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9216-81DC-473A-BB02-049AB44D08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ABC5B-F3FF-4536-8A26-1A6C58C452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lacement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mp mapped normals are inconsistent with actual geometry. No shad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cement mapping affects the surface ge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cm13.jpg (79367 bytes)"/>
          <p:cNvPicPr/>
          <p:nvPr/>
        </p:nvPicPr>
        <p:blipFill>
          <a:blip r:embed="rId1"/>
          <a:stretch/>
        </p:blipFill>
        <p:spPr>
          <a:xfrm>
            <a:off x="685800" y="3429000"/>
            <a:ext cx="7467480" cy="3089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43000" y="3505320"/>
            <a:ext cx="3048120" cy="292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013F-245B-4464-82EC-7CBB674212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A40E1-3256-486B-AA22-E8AB2CB74C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010280" cy="558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B178-3E0F-4CBC-B5FB-FC2F0B4C0EB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100F2-2AF2-4270-89C4-4D161796D1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show the reflected colors in shiny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a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 normalized norm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reflected ra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(n•A) -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3352680"/>
            <a:ext cx="7391520" cy="233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C6F4-47DD-40DC-80CB-56C2F693DA9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7BE5F-01C3-4F54-B77F-65E61AB232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 simplified method uses the surface normal as an index for the texel on the cube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8600" y="2743200"/>
            <a:ext cx="2666880" cy="2536920"/>
            <a:chOff x="228600" y="2743200"/>
            <a:chExt cx="2666880" cy="253692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228600" y="2743200"/>
              <a:ext cx="2666880" cy="25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 txBox="1"/>
            <p:nvPr/>
          </p:nvSpPr>
          <p:spPr>
            <a:xfrm>
              <a:off x="228600" y="2743200"/>
              <a:ext cx="2666880" cy="253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819520" y="2514600"/>
            <a:ext cx="5790960" cy="29606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X. Chen, jchen@gmu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C9C6-8846-4665-ADCA-C1345BD4257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F7CB6-C400-4346-825B-93810283E5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5T19:08:51Z</dcterms:created>
  <dc:creator/>
  <dc:description/>
  <dc:language>en-US</dc:language>
  <cp:lastModifiedBy>jimxchen</cp:lastModifiedBy>
  <dcterms:modified xsi:type="dcterms:W3CDTF">2009-11-15T00:47:38Z</dcterms:modified>
  <cp:revision>100</cp:revision>
  <dc:subject/>
  <dc:title>PowerPoint Presentation</dc:title>
</cp:coreProperties>
</file>