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9.png" ContentType="image/pn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353B-8DD4-4663-AEDE-073875F9D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721D-9F93-4B66-904F-9E7D1058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0E5C-A3C6-486F-8B25-79CBBC2CF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6DDC-8F8C-4271-893C-DF1A153CC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A602-8CF6-4B4C-AAED-114190F3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082F-5F1B-47D7-8651-5B6B3BC8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3421-F50A-4E10-8FB9-BDF3E886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4B2E-8BD6-46F2-B8D2-920ED195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ADA3-4A3B-4C56-86EC-FBDF3723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E04E-0B3B-4358-B115-1E769DE3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7171-85D2-4E0B-BD71-CBBCB1D9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FBAE-326B-4748-B345-CCFBC3AA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6BAC-4987-4FA2-95C3-31B68FF6A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Programming in Java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m X. 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artment of Computer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 Mason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ure M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419120"/>
            <a:ext cx="9144000" cy="4888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300720" y="1355760"/>
            <a:ext cx="284328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on Java3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books on Java3D. It can be a game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more functions to be addr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not an excellent tool for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AL, JInput, JOGL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cene Graph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scengraph"/>
          <p:cNvPicPr/>
          <p:nvPr/>
        </p:nvPicPr>
        <p:blipFill>
          <a:blip r:embed="rId1"/>
          <a:stretch/>
        </p:blipFill>
        <p:spPr>
          <a:xfrm>
            <a:off x="380880" y="1300320"/>
            <a:ext cx="8458200" cy="4643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413400" y="765000"/>
            <a:ext cx="21481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 a Cu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ex to build a virtual worl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Create a drawing area canvas3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Construct ViewBranch topdow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Construct sceneGraph: a color cu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Go live under locale in the virtualUniv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Initialize view bran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Move the view branch to view object at 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 a ColorCu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Universe class to construct the view branch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84360" y="2924280"/>
            <a:ext cx="417852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form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4967280" cy="5162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427640" y="1413000"/>
            <a:ext cx="279540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SG Bra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58920" y="1447920"/>
            <a:ext cx="7129440" cy="5195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435640" y="2492280"/>
            <a:ext cx="279540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2536920" cy="4321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76720" y="4076640"/>
            <a:ext cx="1834920" cy="1755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435640" y="3933720"/>
            <a:ext cx="1878120" cy="1795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059280" y="2133720"/>
            <a:ext cx="51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ist of values that can be modified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pabiliti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object. Each node has a set of capability 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i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0920" y="1530360"/>
            <a:ext cx="864216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arance (Lighti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446120"/>
            <a:ext cx="9144000" cy="4834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326280" y="1484280"/>
            <a:ext cx="2817720" cy="27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7:41:11Z</dcterms:created>
  <dc:creator>Jim</dc:creator>
  <dc:description/>
  <dc:language>en-US</dc:language>
  <cp:lastModifiedBy>Jim</cp:lastModifiedBy>
  <dcterms:modified xsi:type="dcterms:W3CDTF">2007-11-26T22:08:29Z</dcterms:modified>
  <cp:revision>4</cp:revision>
  <dc:subject/>
  <dc:title>Programming in Java3D</dc:title>
</cp:coreProperties>
</file>