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WHOOSH.WAV" ContentType="audio/x-wav"/>
  <Override PartName="/ppt/media/CAMERA.WAV" ContentType="audio/x-wav"/>
  <Override PartName="/ppt/media/image5.png" ContentType="image/png"/>
  <Override PartName="/ppt/media/CHIMES.WAV" ContentType="audio/x-wav"/>
  <Override PartName="/ppt/media/APPLAUSE.WAV" ContentType="audio/x-wav"/>
  <Override PartName="/ppt/media/image1.png" ContentType="image/png"/>
  <Override PartName="/ppt/media/image2.wmf" ContentType="image/x-wmf"/>
  <Override PartName="/ppt/media/image3.wmf" ContentType="image/x-wmf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33D63-6394-426C-A071-4ADF2805BA76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8D0AF-F4BA-4F20-B3D6-97B826016BA1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33274-5384-4B72-8AB9-38DDE7E1C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53A93-ABB8-4199-9A64-B186E3DE6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A957F-8720-4DA7-8D92-DD1E359DA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2911E-6252-47A5-8B65-356498988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43B61-0A5D-458F-B3E0-A23AD615F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AF95D-F562-43E4-A410-053115CDC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6AB6D-592D-48A8-A7E9-BD2D290A0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10F85-1BC2-46C0-A466-60CF38286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4FF5D-8A0B-4135-BF50-C19CD87DC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9A2E2-20CC-48BB-8BD7-5775EB9D8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B2A21-1D17-4BE2-B19B-06728DFCF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097EC-7302-4D2C-902C-C136DE0CA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Copyright @ 2002 by Jim X. Chen:    jchen@cs.gmu.ed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5E64B-EBE7-4760-836E-1BE32268C890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CAMERA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AMERA.WAV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AMERA.WAV"/><Relationship Id="rId10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CAMERA.WAV"/><Relationship Id="rId4" Type="http://schemas.openxmlformats.org/officeDocument/2006/relationships/audio" Target="../media/APPLAUSE.WAV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HIMES.WAV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CAMERA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AMERA.WAV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CAMERA.WAV"/><Relationship Id="rId5" Type="http://schemas.openxmlformats.org/officeDocument/2006/relationships/audio" Target="../media/CHIMES.WAV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Copyright @ 2002 by Jim X. Chen:    jchen@cs.gmu.ed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228600" y="304920"/>
            <a:ext cx="8686800" cy="6172200"/>
          </a:xfrm>
          <a:prstGeom prst="rect">
            <a:avLst/>
          </a:prstGeom>
          <a:noFill/>
          <a:ln w="9360">
            <a:solidFill>
              <a:srgbClr val="ff9933"/>
            </a:solidFill>
            <a:miter/>
          </a:ln>
          <a:effectLst>
            <a:outerShdw dist="17819" dir="2700000" blurRad="0" rotWithShape="0">
              <a:srgbClr val="995c1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" name="Group 3"/>
          <p:cNvGrpSpPr/>
          <p:nvPr/>
        </p:nvGrpSpPr>
        <p:grpSpPr>
          <a:xfrm>
            <a:off x="3800520" y="6534000"/>
            <a:ext cx="1523880" cy="231120"/>
            <a:chOff x="3800520" y="6534000"/>
            <a:chExt cx="1523880" cy="231120"/>
          </a:xfrm>
        </p:grpSpPr>
        <p:sp>
          <p:nvSpPr>
            <p:cNvPr id="51" name="Text Box 4"/>
            <p:cNvSpPr/>
            <p:nvPr/>
          </p:nvSpPr>
          <p:spPr>
            <a:xfrm>
              <a:off x="3876840" y="6534000"/>
              <a:ext cx="1371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                                       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Rectangle 5"/>
            <p:cNvSpPr/>
            <p:nvPr/>
          </p:nvSpPr>
          <p:spPr>
            <a:xfrm>
              <a:off x="3800520" y="6609960"/>
              <a:ext cx="76320" cy="76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Rectangle 6"/>
            <p:cNvSpPr/>
            <p:nvPr/>
          </p:nvSpPr>
          <p:spPr>
            <a:xfrm>
              <a:off x="5248440" y="6609960"/>
              <a:ext cx="75960" cy="76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" name="AutoShape 7">
            <a:hlinkClick r:id="" action="ppaction://hlinkshowjump?jump=firstslide"/>
          </p:cNvPr>
          <p:cNvSpPr/>
          <p:nvPr/>
        </p:nvSpPr>
        <p:spPr>
          <a:xfrm>
            <a:off x="769608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0901" y="10800"/>
                </a:moveTo>
                <a:lnTo>
                  <a:pt x="21406" y="3794"/>
                </a:lnTo>
                <a:lnTo>
                  <a:pt x="21406" y="17806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9056" y="3794"/>
                </a:lnTo>
                <a:lnTo>
                  <a:pt x="9056" y="17806"/>
                </a:lnTo>
                <a:lnTo>
                  <a:pt x="7394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AutoShape 8">
            <a:hlinkClick r:id="" action="ppaction://hlinkshowjump?jump=nextslide"/>
          </p:cNvPr>
          <p:cNvSpPr/>
          <p:nvPr/>
        </p:nvSpPr>
        <p:spPr>
          <a:xfrm>
            <a:off x="845820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AutoShape 9">
            <a:hlinkClick r:id="" action="ppaction://hlinkshowjump?jump=lastslide"/>
          </p:cNvPr>
          <p:cNvSpPr/>
          <p:nvPr/>
        </p:nvSpPr>
        <p:spPr>
          <a:xfrm>
            <a:off x="883908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7899" y="10800"/>
                </a:moveTo>
                <a:lnTo>
                  <a:pt x="7394" y="17806"/>
                </a:lnTo>
                <a:lnTo>
                  <a:pt x="7394" y="3794"/>
                </a:lnTo>
                <a:close/>
              </a:path>
              <a:path fill="darken" w="28800" h="21600">
                <a:moveTo>
                  <a:pt x="19744" y="3794"/>
                </a:moveTo>
                <a:lnTo>
                  <a:pt x="19744" y="17806"/>
                </a:lnTo>
                <a:lnTo>
                  <a:pt x="21406" y="17806"/>
                </a:lnTo>
                <a:lnTo>
                  <a:pt x="21406" y="3794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AutoShape 10">
            <a:hlinkClick r:id="" action="ppaction://hlinkshowjump?jump=previousslide"/>
          </p:cNvPr>
          <p:cNvSpPr/>
          <p:nvPr/>
        </p:nvSpPr>
        <p:spPr>
          <a:xfrm>
            <a:off x="8077320" y="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10800"/>
                </a:moveTo>
                <a:lnTo>
                  <a:pt x="21390" y="3794"/>
                </a:lnTo>
                <a:lnTo>
                  <a:pt x="21390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Group 11"/>
          <p:cNvGrpSpPr/>
          <p:nvPr/>
        </p:nvGrpSpPr>
        <p:grpSpPr>
          <a:xfrm>
            <a:off x="3733920" y="0"/>
            <a:ext cx="2133360" cy="246240"/>
            <a:chOff x="3733920" y="0"/>
            <a:chExt cx="2133360" cy="246240"/>
          </a:xfrm>
        </p:grpSpPr>
        <p:sp>
          <p:nvSpPr>
            <p:cNvPr id="59" name="Text Box 12"/>
            <p:cNvSpPr/>
            <p:nvPr/>
          </p:nvSpPr>
          <p:spPr>
            <a:xfrm>
              <a:off x="3886200" y="0"/>
              <a:ext cx="1905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Transformation and Viewin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Rectangle 13"/>
            <p:cNvSpPr/>
            <p:nvPr/>
          </p:nvSpPr>
          <p:spPr>
            <a:xfrm>
              <a:off x="3733920" y="76320"/>
              <a:ext cx="75960" cy="75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Rectangle 14"/>
            <p:cNvSpPr/>
            <p:nvPr/>
          </p:nvSpPr>
          <p:spPr>
            <a:xfrm>
              <a:off x="5791320" y="76320"/>
              <a:ext cx="75960" cy="75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" name="Text Box 15"/>
          <p:cNvSpPr/>
          <p:nvPr/>
        </p:nvSpPr>
        <p:spPr>
          <a:xfrm>
            <a:off x="8458200" y="6613560"/>
            <a:ext cx="380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SimSun"/>
              </a:rPr>
              <a:t>.</a:t>
            </a:r>
            <a:fld id="{9250B05A-0441-4175-B0D3-72A8D86F970F}" type="slidenum">
              <a:rPr b="1" lang="en-US" sz="10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SimSu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AutoShape 116">
            <a:hlinkClick r:id="" action="ppaction://hlinkshowjump?jump=nextslide"/>
          </p:cNvPr>
          <p:cNvSpPr/>
          <p:nvPr/>
        </p:nvSpPr>
        <p:spPr>
          <a:xfrm>
            <a:off x="8077320" y="5829480"/>
            <a:ext cx="742680" cy="552240"/>
          </a:xfrm>
          <a:custGeom>
            <a:avLst/>
            <a:gdLst>
              <a:gd name="textAreaLeft" fmla="*/ 35640 w 742680"/>
              <a:gd name="textAreaRight" fmla="*/ 707040 w 742680"/>
              <a:gd name="textAreaTop" fmla="*/ 35640 h 552240"/>
              <a:gd name="textAreaBottom" fmla="*/ 516600 h 552240"/>
            </a:gdLst>
            <a:ahLst/>
            <a:rect l="textAreaLeft" t="textAreaTop" r="textAreaRight" b="textAreaBottom"/>
            <a:pathLst>
              <a:path w="29044" h="21600">
                <a:moveTo>
                  <a:pt x="0" y="0"/>
                </a:moveTo>
                <a:lnTo>
                  <a:pt x="29044" y="0"/>
                </a:lnTo>
                <a:lnTo>
                  <a:pt x="29044" y="21600"/>
                </a:lnTo>
                <a:lnTo>
                  <a:pt x="0" y="21600"/>
                </a:lnTo>
                <a:close/>
              </a:path>
              <a:path fill="lightenLess" w="29044" h="21600">
                <a:moveTo>
                  <a:pt x="0" y="0"/>
                </a:moveTo>
                <a:lnTo>
                  <a:pt x="29044" y="0"/>
                </a:lnTo>
                <a:lnTo>
                  <a:pt x="27644" y="1400"/>
                </a:lnTo>
                <a:lnTo>
                  <a:pt x="1400" y="1400"/>
                </a:lnTo>
                <a:close/>
              </a:path>
              <a:path fill="darken" w="29044" h="21600">
                <a:moveTo>
                  <a:pt x="29044" y="0"/>
                </a:moveTo>
                <a:lnTo>
                  <a:pt x="29044" y="21600"/>
                </a:lnTo>
                <a:lnTo>
                  <a:pt x="27644" y="20200"/>
                </a:lnTo>
                <a:lnTo>
                  <a:pt x="27644" y="1400"/>
                </a:lnTo>
                <a:close/>
              </a:path>
              <a:path fill="darkenLess" w="29044" h="21600">
                <a:moveTo>
                  <a:pt x="290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644" y="20200"/>
                </a:lnTo>
                <a:close/>
              </a:path>
              <a:path fill="lighten" w="290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044" h="21600">
                <a:moveTo>
                  <a:pt x="7515" y="3794"/>
                </a:moveTo>
                <a:lnTo>
                  <a:pt x="21528" y="10800"/>
                </a:lnTo>
                <a:lnTo>
                  <a:pt x="7515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119"/>
          <p:cNvSpPr/>
          <p:nvPr/>
        </p:nvSpPr>
        <p:spPr>
          <a:xfrm>
            <a:off x="4560840" y="5149800"/>
            <a:ext cx="1790640" cy="5205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SimSun"/>
              </a:rPr>
              <a:t>Pla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124"/>
          <p:cNvSpPr/>
          <p:nvPr/>
        </p:nvSpPr>
        <p:spPr>
          <a:xfrm>
            <a:off x="1106640" y="5124600"/>
            <a:ext cx="1790640" cy="5205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SimSun"/>
              </a:rPr>
              <a:t>Ear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125"/>
          <p:cNvSpPr/>
          <p:nvPr/>
        </p:nvSpPr>
        <p:spPr>
          <a:xfrm>
            <a:off x="1876320" y="3240000"/>
            <a:ext cx="4457880" cy="5205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SimSun"/>
              </a:rPr>
              <a:t>Sphere, cylinder, and c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WordArt 126"/>
          <p:cNvSpPr txBox="1"/>
          <p:nvPr/>
        </p:nvSpPr>
        <p:spPr>
          <a:xfrm>
            <a:off x="465120" y="754200"/>
            <a:ext cx="6048360" cy="85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3D GEOMETRICAL TRANSFORMATIONS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2500"/>
                            </p:stCondLst>
                            <p:childTnLst>
                              <p:par>
                                <p:cTn id="30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Copyright @ 2002 by Jim X. Chen:    jchen@cs.gmu.ed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Rectangle 2"/>
          <p:cNvSpPr/>
          <p:nvPr/>
        </p:nvSpPr>
        <p:spPr>
          <a:xfrm>
            <a:off x="228600" y="304920"/>
            <a:ext cx="8686800" cy="6172200"/>
          </a:xfrm>
          <a:prstGeom prst="rect">
            <a:avLst/>
          </a:prstGeom>
          <a:noFill/>
          <a:ln w="9360">
            <a:solidFill>
              <a:srgbClr val="ff9933"/>
            </a:solidFill>
            <a:miter/>
          </a:ln>
          <a:effectLst>
            <a:outerShdw dist="17819" dir="2700000" blurRad="0" rotWithShape="0">
              <a:srgbClr val="995c1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1" name="Group 3"/>
          <p:cNvGrpSpPr/>
          <p:nvPr/>
        </p:nvGrpSpPr>
        <p:grpSpPr>
          <a:xfrm>
            <a:off x="3886200" y="6477120"/>
            <a:ext cx="1523880" cy="231120"/>
            <a:chOff x="3886200" y="6477120"/>
            <a:chExt cx="1523880" cy="231120"/>
          </a:xfrm>
        </p:grpSpPr>
        <p:sp>
          <p:nvSpPr>
            <p:cNvPr id="232" name="Text Box 4"/>
            <p:cNvSpPr/>
            <p:nvPr/>
          </p:nvSpPr>
          <p:spPr>
            <a:xfrm>
              <a:off x="3962520" y="6477120"/>
              <a:ext cx="1371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                                       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Rectangle 5"/>
            <p:cNvSpPr/>
            <p:nvPr/>
          </p:nvSpPr>
          <p:spPr>
            <a:xfrm>
              <a:off x="3886200" y="6553080"/>
              <a:ext cx="76320" cy="76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Rectangle 6"/>
            <p:cNvSpPr/>
            <p:nvPr/>
          </p:nvSpPr>
          <p:spPr>
            <a:xfrm>
              <a:off x="5334120" y="6553080"/>
              <a:ext cx="75960" cy="76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5" name="AutoShape 7">
            <a:hlinkClick r:id="" action="ppaction://hlinkshowjump?jump=firstslide"/>
          </p:cNvPr>
          <p:cNvSpPr/>
          <p:nvPr/>
        </p:nvSpPr>
        <p:spPr>
          <a:xfrm>
            <a:off x="769608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0901" y="10800"/>
                </a:moveTo>
                <a:lnTo>
                  <a:pt x="21406" y="3794"/>
                </a:lnTo>
                <a:lnTo>
                  <a:pt x="21406" y="17806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9056" y="3794"/>
                </a:lnTo>
                <a:lnTo>
                  <a:pt x="9056" y="17806"/>
                </a:lnTo>
                <a:lnTo>
                  <a:pt x="7394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AutoShape 8">
            <a:hlinkClick r:id="" action="ppaction://hlinkshowjump?jump=nextslide"/>
          </p:cNvPr>
          <p:cNvSpPr/>
          <p:nvPr/>
        </p:nvSpPr>
        <p:spPr>
          <a:xfrm>
            <a:off x="845820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AutoShape 9">
            <a:hlinkClick r:id="" action="ppaction://hlinkshowjump?jump=lastslide"/>
          </p:cNvPr>
          <p:cNvSpPr/>
          <p:nvPr/>
        </p:nvSpPr>
        <p:spPr>
          <a:xfrm>
            <a:off x="883908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7899" y="10800"/>
                </a:moveTo>
                <a:lnTo>
                  <a:pt x="7394" y="17806"/>
                </a:lnTo>
                <a:lnTo>
                  <a:pt x="7394" y="3794"/>
                </a:lnTo>
                <a:close/>
              </a:path>
              <a:path fill="darken" w="28800" h="21600">
                <a:moveTo>
                  <a:pt x="19744" y="3794"/>
                </a:moveTo>
                <a:lnTo>
                  <a:pt x="19744" y="17806"/>
                </a:lnTo>
                <a:lnTo>
                  <a:pt x="21406" y="17806"/>
                </a:lnTo>
                <a:lnTo>
                  <a:pt x="21406" y="3794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AutoShape 10">
            <a:hlinkClick r:id="" action="ppaction://hlinkshowjump?jump=previousslide"/>
          </p:cNvPr>
          <p:cNvSpPr/>
          <p:nvPr/>
        </p:nvSpPr>
        <p:spPr>
          <a:xfrm>
            <a:off x="8077320" y="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10800"/>
                </a:moveTo>
                <a:lnTo>
                  <a:pt x="21390" y="3794"/>
                </a:lnTo>
                <a:lnTo>
                  <a:pt x="21390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9" name="Group 11"/>
          <p:cNvGrpSpPr/>
          <p:nvPr/>
        </p:nvGrpSpPr>
        <p:grpSpPr>
          <a:xfrm>
            <a:off x="3733920" y="0"/>
            <a:ext cx="2133360" cy="246240"/>
            <a:chOff x="3733920" y="0"/>
            <a:chExt cx="2133360" cy="246240"/>
          </a:xfrm>
        </p:grpSpPr>
        <p:sp>
          <p:nvSpPr>
            <p:cNvPr id="240" name="Text Box 12"/>
            <p:cNvSpPr/>
            <p:nvPr/>
          </p:nvSpPr>
          <p:spPr>
            <a:xfrm>
              <a:off x="3886200" y="0"/>
              <a:ext cx="1905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Transformation and Viewin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Rectangle 13"/>
            <p:cNvSpPr/>
            <p:nvPr/>
          </p:nvSpPr>
          <p:spPr>
            <a:xfrm>
              <a:off x="3733920" y="76320"/>
              <a:ext cx="75960" cy="75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Rectangle 14"/>
            <p:cNvSpPr/>
            <p:nvPr/>
          </p:nvSpPr>
          <p:spPr>
            <a:xfrm>
              <a:off x="5791320" y="76320"/>
              <a:ext cx="75960" cy="75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3" name="Text Box 15"/>
          <p:cNvSpPr/>
          <p:nvPr/>
        </p:nvSpPr>
        <p:spPr>
          <a:xfrm>
            <a:off x="8458200" y="6613560"/>
            <a:ext cx="380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SimSun"/>
              </a:rPr>
              <a:t>.</a:t>
            </a:r>
            <a:fld id="{FE341345-05FB-48BE-976A-2480BC6F854C}" type="slidenum">
              <a:rPr b="1" lang="en-US" sz="10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SimSu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AutoShape 16">
            <a:hlinkClick r:id="" action="ppaction://hlinkshowjump?jump=nextslide"/>
          </p:cNvPr>
          <p:cNvSpPr/>
          <p:nvPr/>
        </p:nvSpPr>
        <p:spPr>
          <a:xfrm>
            <a:off x="8077320" y="5829480"/>
            <a:ext cx="742680" cy="552240"/>
          </a:xfrm>
          <a:custGeom>
            <a:avLst/>
            <a:gdLst>
              <a:gd name="textAreaLeft" fmla="*/ 35640 w 742680"/>
              <a:gd name="textAreaRight" fmla="*/ 707040 w 742680"/>
              <a:gd name="textAreaTop" fmla="*/ 35640 h 552240"/>
              <a:gd name="textAreaBottom" fmla="*/ 516600 h 552240"/>
            </a:gdLst>
            <a:ahLst/>
            <a:rect l="textAreaLeft" t="textAreaTop" r="textAreaRight" b="textAreaBottom"/>
            <a:pathLst>
              <a:path w="29044" h="21600">
                <a:moveTo>
                  <a:pt x="0" y="0"/>
                </a:moveTo>
                <a:lnTo>
                  <a:pt x="29044" y="0"/>
                </a:lnTo>
                <a:lnTo>
                  <a:pt x="29044" y="21600"/>
                </a:lnTo>
                <a:lnTo>
                  <a:pt x="0" y="21600"/>
                </a:lnTo>
                <a:close/>
              </a:path>
              <a:path fill="lightenLess" w="29044" h="21600">
                <a:moveTo>
                  <a:pt x="0" y="0"/>
                </a:moveTo>
                <a:lnTo>
                  <a:pt x="29044" y="0"/>
                </a:lnTo>
                <a:lnTo>
                  <a:pt x="27644" y="1400"/>
                </a:lnTo>
                <a:lnTo>
                  <a:pt x="1400" y="1400"/>
                </a:lnTo>
                <a:close/>
              </a:path>
              <a:path fill="darken" w="29044" h="21600">
                <a:moveTo>
                  <a:pt x="29044" y="0"/>
                </a:moveTo>
                <a:lnTo>
                  <a:pt x="29044" y="21600"/>
                </a:lnTo>
                <a:lnTo>
                  <a:pt x="27644" y="20200"/>
                </a:lnTo>
                <a:lnTo>
                  <a:pt x="27644" y="1400"/>
                </a:lnTo>
                <a:close/>
              </a:path>
              <a:path fill="darkenLess" w="29044" h="21600">
                <a:moveTo>
                  <a:pt x="290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644" y="20200"/>
                </a:lnTo>
                <a:close/>
              </a:path>
              <a:path fill="lighten" w="290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044" h="21600">
                <a:moveTo>
                  <a:pt x="7515" y="3794"/>
                </a:moveTo>
                <a:lnTo>
                  <a:pt x="21528" y="10800"/>
                </a:lnTo>
                <a:lnTo>
                  <a:pt x="7515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5" name="Picture 20" descr="9"/>
          <p:cNvPicPr/>
          <p:nvPr/>
        </p:nvPicPr>
        <p:blipFill>
          <a:blip r:embed="rId1"/>
          <a:stretch/>
        </p:blipFill>
        <p:spPr>
          <a:xfrm>
            <a:off x="1128600" y="747720"/>
            <a:ext cx="6734160" cy="2486160"/>
          </a:xfrm>
          <a:prstGeom prst="rect">
            <a:avLst/>
          </a:prstGeom>
          <a:ln w="0">
            <a:noFill/>
          </a:ln>
        </p:spPr>
      </p:pic>
      <p:sp>
        <p:nvSpPr>
          <p:cNvPr id="246" name="Text Box 22"/>
          <p:cNvSpPr/>
          <p:nvPr/>
        </p:nvSpPr>
        <p:spPr>
          <a:xfrm>
            <a:off x="495360" y="39996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SimSun"/>
              </a:rPr>
              <a:t>The Motion of a Top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Text Box 23"/>
          <p:cNvSpPr/>
          <p:nvPr/>
        </p:nvSpPr>
        <p:spPr>
          <a:xfrm>
            <a:off x="7296120" y="1104840"/>
            <a:ext cx="1333440" cy="5202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66"/>
                </a:solidFill>
                <a:latin typeface="Times New Roman"/>
                <a:ea typeface="SimSun"/>
              </a:rPr>
              <a:t>Generalized Solar Syste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29"/>
          <p:cNvSpPr/>
          <p:nvPr/>
        </p:nvSpPr>
        <p:spPr>
          <a:xfrm>
            <a:off x="546120" y="3243240"/>
            <a:ext cx="743904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tate around y (b degree) so E is in xy plane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tate around z (a degree) so E will be in y axis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tate around y (m degree) so the moon will proceed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tate around z (-a degree) so E will be in xy plane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tate around y (-b degree) so E returns to its original locat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e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-b)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-a)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m)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)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b)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Rectangle 30"/>
          <p:cNvSpPr/>
          <p:nvPr/>
        </p:nvSpPr>
        <p:spPr>
          <a:xfrm>
            <a:off x="4025880" y="2894040"/>
            <a:ext cx="3827520" cy="3110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000"/>
                            </p:stCondLst>
                            <p:childTnLst>
                              <p:par>
                                <p:cTn id="278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1500"/>
                            </p:stCondLst>
                            <p:childTnLst>
                              <p:par>
                                <p:cTn id="28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2000"/>
                            </p:stCondLst>
                            <p:childTnLst>
                              <p:par>
                                <p:cTn id="28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2500"/>
                            </p:stCondLst>
                            <p:childTnLst>
                              <p:par>
                                <p:cTn id="292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Copyright @ 2002 by Jim X. Chen:    jchen@cs.gmu.ed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17552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Jogl implement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585440"/>
            <a:ext cx="777240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.glPushMatrix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l.glRotatef(earthAngle, 0.0f, 1.0f, 0.0f); // around the "sun"; proceed ang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l.glRotatef(tiltAngle, 0.0f, 0.0f, 1.0f); // tilt between the center and y ax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l.glTranslatef(0.0f, earthDistance, 0.0f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l.glPushMatrix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l.glScalef(WIDTH/20, WIDTH/20, WIDTH/20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rawSpher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l.glPopMatrix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l.glRotatef(moonAngle, 0.0f, 1.0f, 0.0f); // rotating around the "earth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l.glTranslatef(moonDistance, 0.0f, 0.0f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l.glScalef(WIDTH/40, WIDTH/40, WIDTH/40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rawSpher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.glPopMatrix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Copyright @ 2002 by Jim X. Chen:    jchen@cs.gmu.ed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Rectangle 2"/>
          <p:cNvSpPr/>
          <p:nvPr/>
        </p:nvSpPr>
        <p:spPr>
          <a:xfrm>
            <a:off x="228600" y="304920"/>
            <a:ext cx="8686800" cy="6172200"/>
          </a:xfrm>
          <a:prstGeom prst="rect">
            <a:avLst/>
          </a:prstGeom>
          <a:noFill/>
          <a:ln w="9360">
            <a:solidFill>
              <a:srgbClr val="ff9933"/>
            </a:solidFill>
            <a:miter/>
          </a:ln>
          <a:effectLst>
            <a:outerShdw dist="17819" dir="2700000" blurRad="0" rotWithShape="0">
              <a:srgbClr val="995c1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5" name="Group 3"/>
          <p:cNvGrpSpPr/>
          <p:nvPr/>
        </p:nvGrpSpPr>
        <p:grpSpPr>
          <a:xfrm>
            <a:off x="3886200" y="6477120"/>
            <a:ext cx="1523880" cy="231120"/>
            <a:chOff x="3886200" y="6477120"/>
            <a:chExt cx="1523880" cy="231120"/>
          </a:xfrm>
        </p:grpSpPr>
        <p:sp>
          <p:nvSpPr>
            <p:cNvPr id="256" name="Text Box 4"/>
            <p:cNvSpPr/>
            <p:nvPr/>
          </p:nvSpPr>
          <p:spPr>
            <a:xfrm>
              <a:off x="3962520" y="6477120"/>
              <a:ext cx="1371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                                       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Rectangle 5"/>
            <p:cNvSpPr/>
            <p:nvPr/>
          </p:nvSpPr>
          <p:spPr>
            <a:xfrm>
              <a:off x="3886200" y="6553080"/>
              <a:ext cx="76320" cy="76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Rectangle 6"/>
            <p:cNvSpPr/>
            <p:nvPr/>
          </p:nvSpPr>
          <p:spPr>
            <a:xfrm>
              <a:off x="5334120" y="6553080"/>
              <a:ext cx="75960" cy="76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9" name="AutoShape 7">
            <a:hlinkClick r:id="" action="ppaction://hlinkshowjump?jump=firstslide"/>
          </p:cNvPr>
          <p:cNvSpPr/>
          <p:nvPr/>
        </p:nvSpPr>
        <p:spPr>
          <a:xfrm>
            <a:off x="769608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0901" y="10800"/>
                </a:moveTo>
                <a:lnTo>
                  <a:pt x="21406" y="3794"/>
                </a:lnTo>
                <a:lnTo>
                  <a:pt x="21406" y="17806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9056" y="3794"/>
                </a:lnTo>
                <a:lnTo>
                  <a:pt x="9056" y="17806"/>
                </a:lnTo>
                <a:lnTo>
                  <a:pt x="7394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AutoShape 8">
            <a:hlinkClick r:id="" action="ppaction://hlinkshowjump?jump=nextslide"/>
          </p:cNvPr>
          <p:cNvSpPr/>
          <p:nvPr/>
        </p:nvSpPr>
        <p:spPr>
          <a:xfrm>
            <a:off x="845820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AutoShape 9">
            <a:hlinkClick r:id="" action="ppaction://hlinkshowjump?jump=lastslide"/>
          </p:cNvPr>
          <p:cNvSpPr/>
          <p:nvPr/>
        </p:nvSpPr>
        <p:spPr>
          <a:xfrm>
            <a:off x="883908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7899" y="10800"/>
                </a:moveTo>
                <a:lnTo>
                  <a:pt x="7394" y="17806"/>
                </a:lnTo>
                <a:lnTo>
                  <a:pt x="7394" y="3794"/>
                </a:lnTo>
                <a:close/>
              </a:path>
              <a:path fill="darken" w="28800" h="21600">
                <a:moveTo>
                  <a:pt x="19744" y="3794"/>
                </a:moveTo>
                <a:lnTo>
                  <a:pt x="19744" y="17806"/>
                </a:lnTo>
                <a:lnTo>
                  <a:pt x="21406" y="17806"/>
                </a:lnTo>
                <a:lnTo>
                  <a:pt x="21406" y="3794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AutoShape 10">
            <a:hlinkClick r:id="" action="ppaction://hlinkshowjump?jump=previousslide"/>
          </p:cNvPr>
          <p:cNvSpPr/>
          <p:nvPr/>
        </p:nvSpPr>
        <p:spPr>
          <a:xfrm>
            <a:off x="8077320" y="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10800"/>
                </a:moveTo>
                <a:lnTo>
                  <a:pt x="21390" y="3794"/>
                </a:lnTo>
                <a:lnTo>
                  <a:pt x="21390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3" name="Group 11"/>
          <p:cNvGrpSpPr/>
          <p:nvPr/>
        </p:nvGrpSpPr>
        <p:grpSpPr>
          <a:xfrm>
            <a:off x="3733920" y="0"/>
            <a:ext cx="2133360" cy="246240"/>
            <a:chOff x="3733920" y="0"/>
            <a:chExt cx="2133360" cy="246240"/>
          </a:xfrm>
        </p:grpSpPr>
        <p:sp>
          <p:nvSpPr>
            <p:cNvPr id="264" name="Text Box 12"/>
            <p:cNvSpPr/>
            <p:nvPr/>
          </p:nvSpPr>
          <p:spPr>
            <a:xfrm>
              <a:off x="3886200" y="0"/>
              <a:ext cx="1905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Transformation and Viewin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Rectangle 13"/>
            <p:cNvSpPr/>
            <p:nvPr/>
          </p:nvSpPr>
          <p:spPr>
            <a:xfrm>
              <a:off x="3733920" y="76320"/>
              <a:ext cx="75960" cy="75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Rectangle 14"/>
            <p:cNvSpPr/>
            <p:nvPr/>
          </p:nvSpPr>
          <p:spPr>
            <a:xfrm>
              <a:off x="5791320" y="76320"/>
              <a:ext cx="75960" cy="75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7" name="Text Box 15"/>
          <p:cNvSpPr/>
          <p:nvPr/>
        </p:nvSpPr>
        <p:spPr>
          <a:xfrm>
            <a:off x="8458200" y="6613560"/>
            <a:ext cx="380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SimSun"/>
              </a:rPr>
              <a:t>.</a:t>
            </a:r>
            <a:fld id="{1F73E5C9-78F5-4FC6-9913-4D7950DE1B43}" type="slidenum">
              <a:rPr b="1" lang="en-US" sz="10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SimSu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AutoShape 16">
            <a:hlinkClick r:id="" action="ppaction://hlinkshowjump?jump=nextslide"/>
          </p:cNvPr>
          <p:cNvSpPr/>
          <p:nvPr/>
        </p:nvSpPr>
        <p:spPr>
          <a:xfrm>
            <a:off x="8077320" y="5829480"/>
            <a:ext cx="742680" cy="552240"/>
          </a:xfrm>
          <a:custGeom>
            <a:avLst/>
            <a:gdLst>
              <a:gd name="textAreaLeft" fmla="*/ 35640 w 742680"/>
              <a:gd name="textAreaRight" fmla="*/ 707040 w 742680"/>
              <a:gd name="textAreaTop" fmla="*/ 35640 h 552240"/>
              <a:gd name="textAreaBottom" fmla="*/ 516600 h 552240"/>
            </a:gdLst>
            <a:ahLst/>
            <a:rect l="textAreaLeft" t="textAreaTop" r="textAreaRight" b="textAreaBottom"/>
            <a:pathLst>
              <a:path w="29044" h="21600">
                <a:moveTo>
                  <a:pt x="0" y="0"/>
                </a:moveTo>
                <a:lnTo>
                  <a:pt x="29044" y="0"/>
                </a:lnTo>
                <a:lnTo>
                  <a:pt x="29044" y="21600"/>
                </a:lnTo>
                <a:lnTo>
                  <a:pt x="0" y="21600"/>
                </a:lnTo>
                <a:close/>
              </a:path>
              <a:path fill="lightenLess" w="29044" h="21600">
                <a:moveTo>
                  <a:pt x="0" y="0"/>
                </a:moveTo>
                <a:lnTo>
                  <a:pt x="29044" y="0"/>
                </a:lnTo>
                <a:lnTo>
                  <a:pt x="27644" y="1400"/>
                </a:lnTo>
                <a:lnTo>
                  <a:pt x="1400" y="1400"/>
                </a:lnTo>
                <a:close/>
              </a:path>
              <a:path fill="darken" w="29044" h="21600">
                <a:moveTo>
                  <a:pt x="29044" y="0"/>
                </a:moveTo>
                <a:lnTo>
                  <a:pt x="29044" y="21600"/>
                </a:lnTo>
                <a:lnTo>
                  <a:pt x="27644" y="20200"/>
                </a:lnTo>
                <a:lnTo>
                  <a:pt x="27644" y="1400"/>
                </a:lnTo>
                <a:close/>
              </a:path>
              <a:path fill="darkenLess" w="29044" h="21600">
                <a:moveTo>
                  <a:pt x="290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644" y="20200"/>
                </a:lnTo>
                <a:close/>
              </a:path>
              <a:path fill="lighten" w="290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044" h="21600">
                <a:moveTo>
                  <a:pt x="7515" y="3794"/>
                </a:moveTo>
                <a:lnTo>
                  <a:pt x="21528" y="10800"/>
                </a:lnTo>
                <a:lnTo>
                  <a:pt x="7515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18" descr="10"/>
          <p:cNvPicPr/>
          <p:nvPr/>
        </p:nvPicPr>
        <p:blipFill>
          <a:blip r:embed="rId1"/>
          <a:stretch/>
        </p:blipFill>
        <p:spPr>
          <a:xfrm>
            <a:off x="1546200" y="1940040"/>
            <a:ext cx="6000840" cy="2838240"/>
          </a:xfrm>
          <a:prstGeom prst="rect">
            <a:avLst/>
          </a:prstGeom>
          <a:ln w="0">
            <a:noFill/>
          </a:ln>
        </p:spPr>
      </p:pic>
      <p:sp>
        <p:nvSpPr>
          <p:cNvPr id="270" name="Text Box 19"/>
          <p:cNvSpPr/>
          <p:nvPr/>
        </p:nvSpPr>
        <p:spPr>
          <a:xfrm>
            <a:off x="495360" y="39996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SimSun"/>
              </a:rPr>
              <a:t>The Motion of a Top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Text Box 20"/>
          <p:cNvSpPr/>
          <p:nvPr/>
        </p:nvSpPr>
        <p:spPr>
          <a:xfrm>
            <a:off x="811080" y="1200240"/>
            <a:ext cx="1333800" cy="5202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66"/>
                </a:solidFill>
                <a:latin typeface="Times New Roman"/>
                <a:ea typeface="SimSun"/>
              </a:rPr>
              <a:t>Generalized Solar Syste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Text Box 21"/>
          <p:cNvSpPr/>
          <p:nvPr/>
        </p:nvSpPr>
        <p:spPr>
          <a:xfrm>
            <a:off x="1468440" y="5353200"/>
            <a:ext cx="1028520" cy="3070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66"/>
                </a:solidFill>
                <a:latin typeface="Times New Roman"/>
                <a:ea typeface="SimSun"/>
              </a:rPr>
              <a:t>Cone La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Text Box 22"/>
          <p:cNvSpPr/>
          <p:nvPr/>
        </p:nvSpPr>
        <p:spPr>
          <a:xfrm>
            <a:off x="3673440" y="5124600"/>
            <a:ext cx="876240" cy="733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66"/>
                </a:solidFill>
                <a:latin typeface="Times New Roman"/>
                <a:ea typeface="SimSun"/>
              </a:rPr>
              <a:t>Cone and Sp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Text Box 23"/>
          <p:cNvSpPr/>
          <p:nvPr/>
        </p:nvSpPr>
        <p:spPr>
          <a:xfrm>
            <a:off x="5996160" y="5184720"/>
            <a:ext cx="977760" cy="5202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66"/>
                </a:solidFill>
                <a:latin typeface="Times New Roman"/>
                <a:ea typeface="SimSun"/>
              </a:rPr>
              <a:t>Earth Ligh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0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500"/>
                            </p:stCondLst>
                            <p:childTnLst>
                              <p:par>
                                <p:cTn id="31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1000"/>
                            </p:stCondLst>
                            <p:childTnLst>
                              <p:par>
                                <p:cTn id="316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500"/>
                            </p:stCondLst>
                            <p:childTnLst>
                              <p:par>
                                <p:cTn id="32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2000"/>
                            </p:stCondLst>
                            <p:childTnLst>
                              <p:par>
                                <p:cTn id="326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2500"/>
                            </p:stCondLst>
                            <p:childTnLst>
                              <p:par>
                                <p:cTn id="331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3000"/>
                            </p:stCondLst>
                            <p:childTnLst>
                              <p:par>
                                <p:cTn id="336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4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Copyright @ 2002 by Jim X. Chen:    jchen@cs.gmu.ed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Rectangle 2"/>
          <p:cNvSpPr/>
          <p:nvPr/>
        </p:nvSpPr>
        <p:spPr>
          <a:xfrm>
            <a:off x="228600" y="304920"/>
            <a:ext cx="8686800" cy="6172200"/>
          </a:xfrm>
          <a:prstGeom prst="rect">
            <a:avLst/>
          </a:prstGeom>
          <a:noFill/>
          <a:ln w="9360">
            <a:solidFill>
              <a:srgbClr val="ff9933"/>
            </a:solidFill>
            <a:miter/>
          </a:ln>
          <a:effectLst>
            <a:outerShdw dist="17819" dir="2700000" blurRad="0" rotWithShape="0">
              <a:srgbClr val="995c1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7" name="Group 3"/>
          <p:cNvGrpSpPr/>
          <p:nvPr/>
        </p:nvGrpSpPr>
        <p:grpSpPr>
          <a:xfrm>
            <a:off x="3886200" y="6477120"/>
            <a:ext cx="1523880" cy="231120"/>
            <a:chOff x="3886200" y="6477120"/>
            <a:chExt cx="1523880" cy="231120"/>
          </a:xfrm>
        </p:grpSpPr>
        <p:sp>
          <p:nvSpPr>
            <p:cNvPr id="278" name="Text Box 4"/>
            <p:cNvSpPr/>
            <p:nvPr/>
          </p:nvSpPr>
          <p:spPr>
            <a:xfrm>
              <a:off x="3962520" y="6477120"/>
              <a:ext cx="1371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                                       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Rectangle 5"/>
            <p:cNvSpPr/>
            <p:nvPr/>
          </p:nvSpPr>
          <p:spPr>
            <a:xfrm>
              <a:off x="3886200" y="6553080"/>
              <a:ext cx="76320" cy="76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Rectangle 6"/>
            <p:cNvSpPr/>
            <p:nvPr/>
          </p:nvSpPr>
          <p:spPr>
            <a:xfrm>
              <a:off x="5334120" y="6553080"/>
              <a:ext cx="75960" cy="76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1" name="AutoShape 7">
            <a:hlinkClick r:id="" action="ppaction://hlinkshowjump?jump=firstslide"/>
          </p:cNvPr>
          <p:cNvSpPr/>
          <p:nvPr/>
        </p:nvSpPr>
        <p:spPr>
          <a:xfrm>
            <a:off x="769608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0901" y="10800"/>
                </a:moveTo>
                <a:lnTo>
                  <a:pt x="21406" y="3794"/>
                </a:lnTo>
                <a:lnTo>
                  <a:pt x="21406" y="17806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9056" y="3794"/>
                </a:lnTo>
                <a:lnTo>
                  <a:pt x="9056" y="17806"/>
                </a:lnTo>
                <a:lnTo>
                  <a:pt x="7394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AutoShape 8">
            <a:hlinkClick r:id="" action="ppaction://hlinkshowjump?jump=nextslide"/>
          </p:cNvPr>
          <p:cNvSpPr/>
          <p:nvPr/>
        </p:nvSpPr>
        <p:spPr>
          <a:xfrm>
            <a:off x="845820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AutoShape 9">
            <a:hlinkClick r:id="" action="ppaction://hlinkshowjump?jump=lastslide"/>
          </p:cNvPr>
          <p:cNvSpPr/>
          <p:nvPr/>
        </p:nvSpPr>
        <p:spPr>
          <a:xfrm>
            <a:off x="883908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7899" y="10800"/>
                </a:moveTo>
                <a:lnTo>
                  <a:pt x="7394" y="17806"/>
                </a:lnTo>
                <a:lnTo>
                  <a:pt x="7394" y="3794"/>
                </a:lnTo>
                <a:close/>
              </a:path>
              <a:path fill="darken" w="28800" h="21600">
                <a:moveTo>
                  <a:pt x="19744" y="3794"/>
                </a:moveTo>
                <a:lnTo>
                  <a:pt x="19744" y="17806"/>
                </a:lnTo>
                <a:lnTo>
                  <a:pt x="21406" y="17806"/>
                </a:lnTo>
                <a:lnTo>
                  <a:pt x="21406" y="3794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AutoShape 10">
            <a:hlinkClick r:id="" action="ppaction://hlinkshowjump?jump=previousslide"/>
          </p:cNvPr>
          <p:cNvSpPr/>
          <p:nvPr/>
        </p:nvSpPr>
        <p:spPr>
          <a:xfrm>
            <a:off x="8077320" y="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10800"/>
                </a:moveTo>
                <a:lnTo>
                  <a:pt x="21390" y="3794"/>
                </a:lnTo>
                <a:lnTo>
                  <a:pt x="21390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5" name="Group 11"/>
          <p:cNvGrpSpPr/>
          <p:nvPr/>
        </p:nvGrpSpPr>
        <p:grpSpPr>
          <a:xfrm>
            <a:off x="3733920" y="0"/>
            <a:ext cx="2133360" cy="246240"/>
            <a:chOff x="3733920" y="0"/>
            <a:chExt cx="2133360" cy="246240"/>
          </a:xfrm>
        </p:grpSpPr>
        <p:sp>
          <p:nvSpPr>
            <p:cNvPr id="286" name="Text Box 12"/>
            <p:cNvSpPr/>
            <p:nvPr/>
          </p:nvSpPr>
          <p:spPr>
            <a:xfrm>
              <a:off x="3886200" y="0"/>
              <a:ext cx="1905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Transformation and Viewin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Rectangle 13"/>
            <p:cNvSpPr/>
            <p:nvPr/>
          </p:nvSpPr>
          <p:spPr>
            <a:xfrm>
              <a:off x="3733920" y="76320"/>
              <a:ext cx="75960" cy="75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Rectangle 14"/>
            <p:cNvSpPr/>
            <p:nvPr/>
          </p:nvSpPr>
          <p:spPr>
            <a:xfrm>
              <a:off x="5791320" y="76320"/>
              <a:ext cx="75960" cy="75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Text Box 15"/>
          <p:cNvSpPr/>
          <p:nvPr/>
        </p:nvSpPr>
        <p:spPr>
          <a:xfrm>
            <a:off x="8458200" y="6613560"/>
            <a:ext cx="380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SimSun"/>
              </a:rPr>
              <a:t>.</a:t>
            </a:r>
            <a:fld id="{0494FD2F-6BBF-46EA-941A-722A56247D46}" type="slidenum">
              <a:rPr b="1" lang="en-US" sz="10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SimSu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Rectangle 16"/>
          <p:cNvSpPr/>
          <p:nvPr/>
        </p:nvSpPr>
        <p:spPr>
          <a:xfrm>
            <a:off x="522360" y="555480"/>
            <a:ext cx="68882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  <a:ea typeface="SimSun"/>
              </a:rPr>
              <a:t>HW: Opt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AutoShape 17">
            <a:hlinkClick r:id="" action="ppaction://hlinkshowjump?jump=previousslide"/>
          </p:cNvPr>
          <p:cNvSpPr/>
          <p:nvPr/>
        </p:nvSpPr>
        <p:spPr>
          <a:xfrm>
            <a:off x="8020080" y="5581800"/>
            <a:ext cx="838080" cy="799920"/>
          </a:xfrm>
          <a:custGeom>
            <a:avLst/>
            <a:gdLst>
              <a:gd name="textAreaLeft" fmla="*/ 51840 w 838080"/>
              <a:gd name="textAreaRight" fmla="*/ 786240 w 838080"/>
              <a:gd name="textAreaTop" fmla="*/ 51840 h 799920"/>
              <a:gd name="textAreaBottom" fmla="*/ 748080 h 799920"/>
            </a:gdLst>
            <a:ahLst/>
            <a:rect l="textAreaLeft" t="textAreaTop" r="textAreaRight" b="textAreaBottom"/>
            <a:pathLst>
              <a:path w="22630" h="21600">
                <a:moveTo>
                  <a:pt x="0" y="0"/>
                </a:moveTo>
                <a:lnTo>
                  <a:pt x="22630" y="0"/>
                </a:lnTo>
                <a:lnTo>
                  <a:pt x="22630" y="21600"/>
                </a:lnTo>
                <a:lnTo>
                  <a:pt x="0" y="21600"/>
                </a:lnTo>
                <a:close/>
              </a:path>
              <a:path fill="lightenLess" w="22630" h="21600">
                <a:moveTo>
                  <a:pt x="0" y="0"/>
                </a:moveTo>
                <a:lnTo>
                  <a:pt x="22630" y="0"/>
                </a:lnTo>
                <a:lnTo>
                  <a:pt x="21230" y="1400"/>
                </a:lnTo>
                <a:lnTo>
                  <a:pt x="1400" y="1400"/>
                </a:lnTo>
                <a:close/>
              </a:path>
              <a:path fill="darken" w="22630" h="21600">
                <a:moveTo>
                  <a:pt x="22630" y="0"/>
                </a:moveTo>
                <a:lnTo>
                  <a:pt x="22630" y="21600"/>
                </a:lnTo>
                <a:lnTo>
                  <a:pt x="21230" y="20200"/>
                </a:lnTo>
                <a:lnTo>
                  <a:pt x="21230" y="1400"/>
                </a:lnTo>
                <a:close/>
              </a:path>
              <a:path fill="darkenLess" w="22630" h="21600">
                <a:moveTo>
                  <a:pt x="226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30" y="20200"/>
                </a:lnTo>
                <a:close/>
              </a:path>
              <a:path fill="lighten" w="226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30" h="21600">
                <a:moveTo>
                  <a:pt x="4308" y="7493"/>
                </a:moveTo>
                <a:lnTo>
                  <a:pt x="7816" y="7493"/>
                </a:lnTo>
                <a:lnTo>
                  <a:pt x="7816" y="12828"/>
                </a:lnTo>
                <a:cubicBezTo>
                  <a:pt x="7816" y="13751"/>
                  <a:pt x="8617" y="14482"/>
                  <a:pt x="9653" y="14482"/>
                </a:cubicBezTo>
                <a:lnTo>
                  <a:pt x="11315" y="14482"/>
                </a:lnTo>
                <a:cubicBezTo>
                  <a:pt x="12351" y="14482"/>
                  <a:pt x="13151" y="13751"/>
                  <a:pt x="13151" y="12828"/>
                </a:cubicBezTo>
                <a:lnTo>
                  <a:pt x="13151" y="7493"/>
                </a:lnTo>
                <a:lnTo>
                  <a:pt x="11315" y="7493"/>
                </a:lnTo>
                <a:lnTo>
                  <a:pt x="14823" y="3985"/>
                </a:lnTo>
                <a:lnTo>
                  <a:pt x="18496" y="7493"/>
                </a:lnTo>
                <a:lnTo>
                  <a:pt x="16659" y="7493"/>
                </a:lnTo>
                <a:lnTo>
                  <a:pt x="16659" y="12828"/>
                </a:lnTo>
                <a:cubicBezTo>
                  <a:pt x="16659" y="15596"/>
                  <a:pt x="14083" y="18155"/>
                  <a:pt x="11315" y="18155"/>
                </a:cubicBezTo>
                <a:lnTo>
                  <a:pt x="9653" y="18155"/>
                </a:lnTo>
                <a:cubicBezTo>
                  <a:pt x="6885" y="18155"/>
                  <a:pt x="4308" y="15596"/>
                  <a:pt x="4308" y="12828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Text Box 18"/>
          <p:cNvSpPr/>
          <p:nvPr/>
        </p:nvSpPr>
        <p:spPr>
          <a:xfrm>
            <a:off x="506520" y="1128600"/>
            <a:ext cx="76658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Draw a cone, a cylinder, and a sphere that move and collide in the moon’s trajectory in the generalized solar system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center of a moon from (0, 0, 0) to (moonx, moony, moonz):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l.glGetFloatv(GL.GL_MODELVIEW_MATRIX, currM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onx  = currM[12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ony  = currM[13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onz = currM[14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26"/>
          <p:cNvSpPr/>
          <p:nvPr/>
        </p:nvSpPr>
        <p:spPr>
          <a:xfrm flipV="1">
            <a:off x="6186600" y="3555720"/>
            <a:ext cx="0" cy="1377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27"/>
          <p:cNvSpPr/>
          <p:nvPr/>
        </p:nvSpPr>
        <p:spPr>
          <a:xfrm>
            <a:off x="6172200" y="4948200"/>
            <a:ext cx="1436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28"/>
          <p:cNvSpPr/>
          <p:nvPr/>
        </p:nvSpPr>
        <p:spPr>
          <a:xfrm flipH="1">
            <a:off x="5388120" y="4948200"/>
            <a:ext cx="784080" cy="770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29"/>
          <p:cNvSpPr/>
          <p:nvPr/>
        </p:nvSpPr>
        <p:spPr>
          <a:xfrm flipV="1">
            <a:off x="6186600" y="2830320"/>
            <a:ext cx="2570040" cy="20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7" name="Group 30"/>
          <p:cNvGrpSpPr/>
          <p:nvPr/>
        </p:nvGrpSpPr>
        <p:grpSpPr>
          <a:xfrm>
            <a:off x="6880320" y="2373120"/>
            <a:ext cx="2059200" cy="2317320"/>
            <a:chOff x="6880320" y="2373120"/>
            <a:chExt cx="2059200" cy="2317320"/>
          </a:xfrm>
        </p:grpSpPr>
        <p:sp>
          <p:nvSpPr>
            <p:cNvPr id="298" name="Oval 19"/>
            <p:cNvSpPr/>
            <p:nvPr/>
          </p:nvSpPr>
          <p:spPr>
            <a:xfrm rot="19298400">
              <a:off x="7525440" y="2358000"/>
              <a:ext cx="768600" cy="2346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AutoShape 20"/>
            <p:cNvSpPr/>
            <p:nvPr/>
          </p:nvSpPr>
          <p:spPr>
            <a:xfrm rot="19298400">
              <a:off x="7431120" y="3377160"/>
              <a:ext cx="146160" cy="506520"/>
            </a:xfrm>
            <a:prstGeom prst="can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Oval 21"/>
            <p:cNvSpPr/>
            <p:nvPr/>
          </p:nvSpPr>
          <p:spPr>
            <a:xfrm rot="19298400">
              <a:off x="7079760" y="2534040"/>
              <a:ext cx="167400" cy="5220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AutoShape 22"/>
            <p:cNvSpPr/>
            <p:nvPr/>
          </p:nvSpPr>
          <p:spPr>
            <a:xfrm rot="19298400">
              <a:off x="8519040" y="3988800"/>
              <a:ext cx="135360" cy="601560"/>
            </a:xfrm>
            <a:prstGeom prst="triangle">
              <a:avLst>
                <a:gd name="adj" fmla="val 50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Line 23"/>
            <p:cNvSpPr/>
            <p:nvPr/>
          </p:nvSpPr>
          <p:spPr>
            <a:xfrm flipH="1" flipV="1">
              <a:off x="8552520" y="3952440"/>
              <a:ext cx="96120" cy="348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Line 24"/>
            <p:cNvSpPr/>
            <p:nvPr/>
          </p:nvSpPr>
          <p:spPr>
            <a:xfrm flipV="1">
              <a:off x="7272000" y="2710440"/>
              <a:ext cx="217440" cy="10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Line 25"/>
            <p:cNvSpPr/>
            <p:nvPr/>
          </p:nvSpPr>
          <p:spPr>
            <a:xfrm flipH="1" flipV="1">
              <a:off x="7328160" y="3121200"/>
              <a:ext cx="101160" cy="245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5" name="Oval 31"/>
          <p:cNvSpPr/>
          <p:nvPr/>
        </p:nvSpPr>
        <p:spPr>
          <a:xfrm>
            <a:off x="5315040" y="3919680"/>
            <a:ext cx="1728720" cy="564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6" name="Object 33"/>
              <p:cNvSpPr txBox="1"/>
              <p:nvPr/>
            </p:nvSpPr>
            <p:spPr>
              <a:xfrm>
                <a:off x="593640" y="3949560"/>
                <a:ext cx="4491000" cy="172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moonx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moony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moonz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m</m:t>
                              </m:r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m</m:t>
                              </m:r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m</m:t>
                              </m:r>
                              <m:r>
                                <m:t xml:space="preserve">8</m:t>
                              </m:r>
                            </m:e>
                            <m:e>
                              <m:r>
                                <m:t xml:space="preserve">m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2</m:t>
                              </m:r>
                            </m:e>
                          </m:mr>
                          <m:mr>
                            <m:e>
                              <m:r>
                                <m:t xml:space="preserve">m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m</m:t>
                              </m:r>
                              <m:r>
                                <m:t xml:space="preserve">5</m:t>
                              </m:r>
                            </m:e>
                            <m:e>
                              <m:r>
                                <m:t xml:space="preserve">m</m:t>
                              </m:r>
                              <m:r>
                                <m:t xml:space="preserve">9</m:t>
                              </m:r>
                            </m:e>
                            <m:e>
                              <m:r>
                                <m:t xml:space="preserve">m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3</m:t>
                              </m:r>
                            </m:e>
                          </m:mr>
                          <m:mr>
                            <m:e>
                              <m:r>
                                <m:t xml:space="preserve">m</m:t>
                              </m:r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m</m:t>
                              </m:r>
                              <m:r>
                                <m:t xml:space="preserve">6</m:t>
                              </m:r>
                            </m:e>
                            <m:e>
                              <m:r>
                                <m:t xml:space="preserve">m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0</m:t>
                              </m:r>
                            </m:e>
                            <m:e>
                              <m:r>
                                <m:t xml:space="preserve">m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4</m:t>
                              </m:r>
                            </m:e>
                          </m:mr>
                          <m:mr>
                            <m:e>
                              <m:r>
                                <m:t xml:space="preserve">m</m:t>
                              </m:r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m</m:t>
                              </m:r>
                              <m:r>
                                <m:t xml:space="preserve">7</m:t>
                              </m:r>
                            </m:e>
                            <m:e>
                              <m:r>
                                <m:t xml:space="preserve">m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1</m:t>
                              </m:r>
                            </m:e>
                            <m:e>
                              <m:r>
                                <m:t xml:space="preserve">m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5</m:t>
                              </m:r>
                            </m:e>
                          </m:mr>
                        </m:m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0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500"/>
                            </p:stCondLst>
                            <p:childTnLst>
                              <p:par>
                                <p:cTn id="3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1000"/>
                            </p:stCondLst>
                            <p:childTnLst>
                              <p:par>
                                <p:cTn id="365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Copyright @ 2002 by Jim X. Chen:    jchen@cs.gmu.ed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228600" y="304920"/>
            <a:ext cx="8686800" cy="6172200"/>
          </a:xfrm>
          <a:prstGeom prst="rect">
            <a:avLst/>
          </a:prstGeom>
          <a:noFill/>
          <a:ln w="9360">
            <a:solidFill>
              <a:srgbClr val="ff9933"/>
            </a:solidFill>
            <a:miter/>
          </a:ln>
          <a:effectLst>
            <a:outerShdw dist="17819" dir="2700000" blurRad="0" rotWithShape="0">
              <a:srgbClr val="995c1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" name="Group 3"/>
          <p:cNvGrpSpPr/>
          <p:nvPr/>
        </p:nvGrpSpPr>
        <p:grpSpPr>
          <a:xfrm>
            <a:off x="3886200" y="6477120"/>
            <a:ext cx="1523880" cy="231120"/>
            <a:chOff x="3886200" y="6477120"/>
            <a:chExt cx="1523880" cy="231120"/>
          </a:xfrm>
        </p:grpSpPr>
        <p:sp>
          <p:nvSpPr>
            <p:cNvPr id="71" name="Text Box 4"/>
            <p:cNvSpPr/>
            <p:nvPr/>
          </p:nvSpPr>
          <p:spPr>
            <a:xfrm>
              <a:off x="3962520" y="6477120"/>
              <a:ext cx="1371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                                       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Rectangle 5"/>
            <p:cNvSpPr/>
            <p:nvPr/>
          </p:nvSpPr>
          <p:spPr>
            <a:xfrm>
              <a:off x="3886200" y="6553080"/>
              <a:ext cx="76320" cy="76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Rectangle 6"/>
            <p:cNvSpPr/>
            <p:nvPr/>
          </p:nvSpPr>
          <p:spPr>
            <a:xfrm>
              <a:off x="5334120" y="6553080"/>
              <a:ext cx="75960" cy="76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" name="AutoShape 7">
            <a:hlinkClick r:id="" action="ppaction://hlinkshowjump?jump=firstslide"/>
          </p:cNvPr>
          <p:cNvSpPr/>
          <p:nvPr/>
        </p:nvSpPr>
        <p:spPr>
          <a:xfrm>
            <a:off x="769608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0901" y="10800"/>
                </a:moveTo>
                <a:lnTo>
                  <a:pt x="21406" y="3794"/>
                </a:lnTo>
                <a:lnTo>
                  <a:pt x="21406" y="17806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9056" y="3794"/>
                </a:lnTo>
                <a:lnTo>
                  <a:pt x="9056" y="17806"/>
                </a:lnTo>
                <a:lnTo>
                  <a:pt x="7394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AutoShape 8">
            <a:hlinkClick r:id="" action="ppaction://hlinkshowjump?jump=nextslide"/>
          </p:cNvPr>
          <p:cNvSpPr/>
          <p:nvPr/>
        </p:nvSpPr>
        <p:spPr>
          <a:xfrm>
            <a:off x="845820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AutoShape 9">
            <a:hlinkClick r:id="" action="ppaction://hlinkshowjump?jump=lastslide"/>
          </p:cNvPr>
          <p:cNvSpPr/>
          <p:nvPr/>
        </p:nvSpPr>
        <p:spPr>
          <a:xfrm>
            <a:off x="883908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7899" y="10800"/>
                </a:moveTo>
                <a:lnTo>
                  <a:pt x="7394" y="17806"/>
                </a:lnTo>
                <a:lnTo>
                  <a:pt x="7394" y="3794"/>
                </a:lnTo>
                <a:close/>
              </a:path>
              <a:path fill="darken" w="28800" h="21600">
                <a:moveTo>
                  <a:pt x="19744" y="3794"/>
                </a:moveTo>
                <a:lnTo>
                  <a:pt x="19744" y="17806"/>
                </a:lnTo>
                <a:lnTo>
                  <a:pt x="21406" y="17806"/>
                </a:lnTo>
                <a:lnTo>
                  <a:pt x="21406" y="3794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AutoShape 10">
            <a:hlinkClick r:id="" action="ppaction://hlinkshowjump?jump=previousslide"/>
          </p:cNvPr>
          <p:cNvSpPr/>
          <p:nvPr/>
        </p:nvSpPr>
        <p:spPr>
          <a:xfrm>
            <a:off x="8077320" y="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10800"/>
                </a:moveTo>
                <a:lnTo>
                  <a:pt x="21390" y="3794"/>
                </a:lnTo>
                <a:lnTo>
                  <a:pt x="21390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Group 11"/>
          <p:cNvGrpSpPr/>
          <p:nvPr/>
        </p:nvGrpSpPr>
        <p:grpSpPr>
          <a:xfrm>
            <a:off x="3733920" y="0"/>
            <a:ext cx="2133360" cy="246240"/>
            <a:chOff x="3733920" y="0"/>
            <a:chExt cx="2133360" cy="246240"/>
          </a:xfrm>
        </p:grpSpPr>
        <p:sp>
          <p:nvSpPr>
            <p:cNvPr id="79" name="Text Box 12"/>
            <p:cNvSpPr/>
            <p:nvPr/>
          </p:nvSpPr>
          <p:spPr>
            <a:xfrm>
              <a:off x="3886200" y="0"/>
              <a:ext cx="1905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Transformation and Viewin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Rectangle 13"/>
            <p:cNvSpPr/>
            <p:nvPr/>
          </p:nvSpPr>
          <p:spPr>
            <a:xfrm>
              <a:off x="3733920" y="76320"/>
              <a:ext cx="75960" cy="75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Rectangle 14"/>
            <p:cNvSpPr/>
            <p:nvPr/>
          </p:nvSpPr>
          <p:spPr>
            <a:xfrm>
              <a:off x="5791320" y="76320"/>
              <a:ext cx="75960" cy="75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" name="Text Box 15"/>
          <p:cNvSpPr/>
          <p:nvPr/>
        </p:nvSpPr>
        <p:spPr>
          <a:xfrm>
            <a:off x="8458200" y="6613560"/>
            <a:ext cx="380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SimSun"/>
              </a:rPr>
              <a:t>.</a:t>
            </a:r>
            <a:fld id="{03DD0DF1-0DFB-450B-82B7-7A1A98D84BC3}" type="slidenum">
              <a:rPr b="1" lang="en-US" sz="10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SimSu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AutoShape 16">
            <a:hlinkClick r:id="" action="ppaction://hlinkshowjump?jump=nextslide"/>
          </p:cNvPr>
          <p:cNvSpPr/>
          <p:nvPr/>
        </p:nvSpPr>
        <p:spPr>
          <a:xfrm>
            <a:off x="8077320" y="5829480"/>
            <a:ext cx="742680" cy="552240"/>
          </a:xfrm>
          <a:custGeom>
            <a:avLst/>
            <a:gdLst>
              <a:gd name="textAreaLeft" fmla="*/ 35640 w 742680"/>
              <a:gd name="textAreaRight" fmla="*/ 707040 w 742680"/>
              <a:gd name="textAreaTop" fmla="*/ 35640 h 552240"/>
              <a:gd name="textAreaBottom" fmla="*/ 516600 h 552240"/>
            </a:gdLst>
            <a:ahLst/>
            <a:rect l="textAreaLeft" t="textAreaTop" r="textAreaRight" b="textAreaBottom"/>
            <a:pathLst>
              <a:path w="29044" h="21600">
                <a:moveTo>
                  <a:pt x="0" y="0"/>
                </a:moveTo>
                <a:lnTo>
                  <a:pt x="29044" y="0"/>
                </a:lnTo>
                <a:lnTo>
                  <a:pt x="29044" y="21600"/>
                </a:lnTo>
                <a:lnTo>
                  <a:pt x="0" y="21600"/>
                </a:lnTo>
                <a:close/>
              </a:path>
              <a:path fill="lightenLess" w="29044" h="21600">
                <a:moveTo>
                  <a:pt x="0" y="0"/>
                </a:moveTo>
                <a:lnTo>
                  <a:pt x="29044" y="0"/>
                </a:lnTo>
                <a:lnTo>
                  <a:pt x="27644" y="1400"/>
                </a:lnTo>
                <a:lnTo>
                  <a:pt x="1400" y="1400"/>
                </a:lnTo>
                <a:close/>
              </a:path>
              <a:path fill="darken" w="29044" h="21600">
                <a:moveTo>
                  <a:pt x="29044" y="0"/>
                </a:moveTo>
                <a:lnTo>
                  <a:pt x="29044" y="21600"/>
                </a:lnTo>
                <a:lnTo>
                  <a:pt x="27644" y="20200"/>
                </a:lnTo>
                <a:lnTo>
                  <a:pt x="27644" y="1400"/>
                </a:lnTo>
                <a:close/>
              </a:path>
              <a:path fill="darkenLess" w="29044" h="21600">
                <a:moveTo>
                  <a:pt x="290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644" y="20200"/>
                </a:lnTo>
                <a:close/>
              </a:path>
              <a:path fill="lighten" w="290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044" h="21600">
                <a:moveTo>
                  <a:pt x="7515" y="3794"/>
                </a:moveTo>
                <a:lnTo>
                  <a:pt x="21528" y="10800"/>
                </a:lnTo>
                <a:lnTo>
                  <a:pt x="7515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19"/>
          <p:cNvSpPr/>
          <p:nvPr/>
        </p:nvSpPr>
        <p:spPr>
          <a:xfrm>
            <a:off x="712080" y="498600"/>
            <a:ext cx="4716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Times New Roman"/>
                <a:ea typeface="SimSun"/>
              </a:rPr>
              <a:t>HOMOGENEOUS COORDINATES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" name="Group 45"/>
          <p:cNvGrpSpPr/>
          <p:nvPr/>
        </p:nvGrpSpPr>
        <p:grpSpPr>
          <a:xfrm>
            <a:off x="1140120" y="1171440"/>
            <a:ext cx="6799680" cy="4644720"/>
            <a:chOff x="1140120" y="1171440"/>
            <a:chExt cx="6799680" cy="4644720"/>
          </a:xfrm>
        </p:grpSpPr>
        <p:sp>
          <p:nvSpPr>
            <p:cNvPr id="86" name="Rectangle 20"/>
            <p:cNvSpPr/>
            <p:nvPr/>
          </p:nvSpPr>
          <p:spPr>
            <a:xfrm>
              <a:off x="1140120" y="1228680"/>
              <a:ext cx="4291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Every column vector (x, y, z, w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Rectangle 21"/>
            <p:cNvSpPr/>
            <p:nvPr/>
          </p:nvSpPr>
          <p:spPr>
            <a:xfrm>
              <a:off x="5403600" y="1171440"/>
              <a:ext cx="2217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T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Rectangle 22"/>
            <p:cNvSpPr/>
            <p:nvPr/>
          </p:nvSpPr>
          <p:spPr>
            <a:xfrm>
              <a:off x="5694480" y="1247760"/>
              <a:ext cx="16617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represents a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Rectangle 23"/>
            <p:cNvSpPr/>
            <p:nvPr/>
          </p:nvSpPr>
          <p:spPr>
            <a:xfrm>
              <a:off x="1824120" y="1533600"/>
              <a:ext cx="52401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homogeneous vertex if at least one of its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Rectangle 24"/>
            <p:cNvSpPr/>
            <p:nvPr/>
          </p:nvSpPr>
          <p:spPr>
            <a:xfrm>
              <a:off x="1825920" y="1839960"/>
              <a:ext cx="26967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elements is nonzero.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Rectangle 25"/>
            <p:cNvSpPr/>
            <p:nvPr/>
          </p:nvSpPr>
          <p:spPr>
            <a:xfrm>
              <a:off x="1140480" y="2347920"/>
              <a:ext cx="58600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If real number </a:t>
              </a: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  <a:ea typeface="SimSun"/>
                </a:rPr>
                <a:t>a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 is nonzero, then (x, y, z, w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Rectangle 26"/>
            <p:cNvSpPr/>
            <p:nvPr/>
          </p:nvSpPr>
          <p:spPr>
            <a:xfrm>
              <a:off x="6953040" y="2252520"/>
              <a:ext cx="2217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T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Rectangle 27"/>
            <p:cNvSpPr/>
            <p:nvPr/>
          </p:nvSpPr>
          <p:spPr>
            <a:xfrm>
              <a:off x="1827720" y="2779560"/>
              <a:ext cx="20595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SimSun"/>
                </a:rPr>
                <a:t>and (ax, ay, az, aw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Rectangle 28"/>
            <p:cNvSpPr/>
            <p:nvPr/>
          </p:nvSpPr>
          <p:spPr>
            <a:xfrm>
              <a:off x="3860280" y="2665440"/>
              <a:ext cx="2217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T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Rectangle 29"/>
            <p:cNvSpPr/>
            <p:nvPr/>
          </p:nvSpPr>
          <p:spPr>
            <a:xfrm>
              <a:off x="4087080" y="2728800"/>
              <a:ext cx="25351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represent the sam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Rectangle 30"/>
            <p:cNvSpPr/>
            <p:nvPr/>
          </p:nvSpPr>
          <p:spPr>
            <a:xfrm>
              <a:off x="1827360" y="3033720"/>
              <a:ext cx="28047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homogeneous vertex.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Rectangle 31"/>
            <p:cNvSpPr/>
            <p:nvPr/>
          </p:nvSpPr>
          <p:spPr>
            <a:xfrm>
              <a:off x="1141560" y="3556080"/>
              <a:ext cx="47325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 3D euclidean space point (x, y, z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Rectangle 32"/>
            <p:cNvSpPr/>
            <p:nvPr/>
          </p:nvSpPr>
          <p:spPr>
            <a:xfrm>
              <a:off x="5835240" y="3460680"/>
              <a:ext cx="2217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T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Rectangle 33"/>
            <p:cNvSpPr/>
            <p:nvPr/>
          </p:nvSpPr>
          <p:spPr>
            <a:xfrm>
              <a:off x="6044040" y="3556080"/>
              <a:ext cx="11786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ecomes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Rectangle 34"/>
            <p:cNvSpPr/>
            <p:nvPr/>
          </p:nvSpPr>
          <p:spPr>
            <a:xfrm>
              <a:off x="1826280" y="3936960"/>
              <a:ext cx="46947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the homogeneous vertex (x, y, z, 1.0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Rectangle 35"/>
            <p:cNvSpPr/>
            <p:nvPr/>
          </p:nvSpPr>
          <p:spPr>
            <a:xfrm>
              <a:off x="6489360" y="3873600"/>
              <a:ext cx="1609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T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Rectangle 36"/>
            <p:cNvSpPr/>
            <p:nvPr/>
          </p:nvSpPr>
          <p:spPr>
            <a:xfrm>
              <a:off x="1143000" y="4368960"/>
              <a:ext cx="56804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s long as </a:t>
              </a: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  <a:ea typeface="SimSun"/>
                </a:rPr>
                <a:t>w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 is nonzero, the homogeneous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Rectangle 37"/>
            <p:cNvSpPr/>
            <p:nvPr/>
          </p:nvSpPr>
          <p:spPr>
            <a:xfrm>
              <a:off x="1827000" y="4762440"/>
              <a:ext cx="22122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vertex (x, y, z, w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Rectangle 38"/>
            <p:cNvSpPr/>
            <p:nvPr/>
          </p:nvSpPr>
          <p:spPr>
            <a:xfrm>
              <a:off x="4012920" y="4686480"/>
              <a:ext cx="1609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T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Rectangle 39"/>
            <p:cNvSpPr/>
            <p:nvPr/>
          </p:nvSpPr>
          <p:spPr>
            <a:xfrm>
              <a:off x="4177800" y="4762440"/>
              <a:ext cx="3762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orresponds to the 3D point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Rectangle 40"/>
            <p:cNvSpPr/>
            <p:nvPr/>
          </p:nvSpPr>
          <p:spPr>
            <a:xfrm>
              <a:off x="1827720" y="5143680"/>
              <a:ext cx="18644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(x/w, y/w, z/w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Rectangle 41"/>
            <p:cNvSpPr/>
            <p:nvPr/>
          </p:nvSpPr>
          <p:spPr>
            <a:xfrm>
              <a:off x="3657240" y="5067360"/>
              <a:ext cx="1609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T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Rectangle 42"/>
            <p:cNvSpPr/>
            <p:nvPr/>
          </p:nvSpPr>
          <p:spPr>
            <a:xfrm>
              <a:off x="3795840" y="5143680"/>
              <a:ext cx="37926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. If w = 0.0, it corresponds to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Rectangle 43"/>
            <p:cNvSpPr/>
            <p:nvPr/>
          </p:nvSpPr>
          <p:spPr>
            <a:xfrm>
              <a:off x="1824480" y="5450040"/>
              <a:ext cx="4561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 direction or a “point at infinity.”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00"/>
                            </p:stCondLst>
                            <p:childTnLst>
                              <p:par>
                                <p:cTn id="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500"/>
                            </p:stCondLst>
                            <p:childTnLst>
                              <p:par>
                                <p:cTn id="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Copyright @ 2002 by Jim X. Chen:    jchen@cs.gmu.ed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2"/>
          <p:cNvSpPr/>
          <p:nvPr/>
        </p:nvSpPr>
        <p:spPr>
          <a:xfrm>
            <a:off x="228600" y="304920"/>
            <a:ext cx="8686800" cy="6172200"/>
          </a:xfrm>
          <a:prstGeom prst="rect">
            <a:avLst/>
          </a:prstGeom>
          <a:noFill/>
          <a:ln w="9360">
            <a:solidFill>
              <a:srgbClr val="ff9933"/>
            </a:solidFill>
            <a:miter/>
          </a:ln>
          <a:effectLst>
            <a:outerShdw dist="17819" dir="2700000" blurRad="0" rotWithShape="0">
              <a:srgbClr val="995c1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Group 3"/>
          <p:cNvGrpSpPr/>
          <p:nvPr/>
        </p:nvGrpSpPr>
        <p:grpSpPr>
          <a:xfrm>
            <a:off x="3886200" y="6477120"/>
            <a:ext cx="1523880" cy="231120"/>
            <a:chOff x="3886200" y="6477120"/>
            <a:chExt cx="1523880" cy="231120"/>
          </a:xfrm>
        </p:grpSpPr>
        <p:sp>
          <p:nvSpPr>
            <p:cNvPr id="113" name="Text Box 4"/>
            <p:cNvSpPr/>
            <p:nvPr/>
          </p:nvSpPr>
          <p:spPr>
            <a:xfrm>
              <a:off x="3962520" y="6477120"/>
              <a:ext cx="1371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                                       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Rectangle 5"/>
            <p:cNvSpPr/>
            <p:nvPr/>
          </p:nvSpPr>
          <p:spPr>
            <a:xfrm>
              <a:off x="3886200" y="6553080"/>
              <a:ext cx="76320" cy="76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Rectangle 6"/>
            <p:cNvSpPr/>
            <p:nvPr/>
          </p:nvSpPr>
          <p:spPr>
            <a:xfrm>
              <a:off x="5334120" y="6553080"/>
              <a:ext cx="75960" cy="76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" name="AutoShape 7">
            <a:hlinkClick r:id="" action="ppaction://hlinkshowjump?jump=firstslide"/>
          </p:cNvPr>
          <p:cNvSpPr/>
          <p:nvPr/>
        </p:nvSpPr>
        <p:spPr>
          <a:xfrm>
            <a:off x="769608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0901" y="10800"/>
                </a:moveTo>
                <a:lnTo>
                  <a:pt x="21406" y="3794"/>
                </a:lnTo>
                <a:lnTo>
                  <a:pt x="21406" y="17806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9056" y="3794"/>
                </a:lnTo>
                <a:lnTo>
                  <a:pt x="9056" y="17806"/>
                </a:lnTo>
                <a:lnTo>
                  <a:pt x="7394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AutoShape 8">
            <a:hlinkClick r:id="" action="ppaction://hlinkshowjump?jump=nextslide"/>
          </p:cNvPr>
          <p:cNvSpPr/>
          <p:nvPr/>
        </p:nvSpPr>
        <p:spPr>
          <a:xfrm>
            <a:off x="845820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AutoShape 9">
            <a:hlinkClick r:id="" action="ppaction://hlinkshowjump?jump=lastslide"/>
          </p:cNvPr>
          <p:cNvSpPr/>
          <p:nvPr/>
        </p:nvSpPr>
        <p:spPr>
          <a:xfrm>
            <a:off x="883908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7899" y="10800"/>
                </a:moveTo>
                <a:lnTo>
                  <a:pt x="7394" y="17806"/>
                </a:lnTo>
                <a:lnTo>
                  <a:pt x="7394" y="3794"/>
                </a:lnTo>
                <a:close/>
              </a:path>
              <a:path fill="darken" w="28800" h="21600">
                <a:moveTo>
                  <a:pt x="19744" y="3794"/>
                </a:moveTo>
                <a:lnTo>
                  <a:pt x="19744" y="17806"/>
                </a:lnTo>
                <a:lnTo>
                  <a:pt x="21406" y="17806"/>
                </a:lnTo>
                <a:lnTo>
                  <a:pt x="21406" y="3794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10">
            <a:hlinkClick r:id="" action="ppaction://hlinkshowjump?jump=previousslide"/>
          </p:cNvPr>
          <p:cNvSpPr/>
          <p:nvPr/>
        </p:nvSpPr>
        <p:spPr>
          <a:xfrm>
            <a:off x="8077320" y="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10800"/>
                </a:moveTo>
                <a:lnTo>
                  <a:pt x="21390" y="3794"/>
                </a:lnTo>
                <a:lnTo>
                  <a:pt x="21390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Group 11"/>
          <p:cNvGrpSpPr/>
          <p:nvPr/>
        </p:nvGrpSpPr>
        <p:grpSpPr>
          <a:xfrm>
            <a:off x="3733920" y="0"/>
            <a:ext cx="2133360" cy="246240"/>
            <a:chOff x="3733920" y="0"/>
            <a:chExt cx="2133360" cy="246240"/>
          </a:xfrm>
        </p:grpSpPr>
        <p:sp>
          <p:nvSpPr>
            <p:cNvPr id="121" name="Text Box 12"/>
            <p:cNvSpPr/>
            <p:nvPr/>
          </p:nvSpPr>
          <p:spPr>
            <a:xfrm>
              <a:off x="3886200" y="0"/>
              <a:ext cx="1905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Transformation and Viewin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Rectangle 13"/>
            <p:cNvSpPr/>
            <p:nvPr/>
          </p:nvSpPr>
          <p:spPr>
            <a:xfrm>
              <a:off x="3733920" y="76320"/>
              <a:ext cx="75960" cy="75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Rectangle 14"/>
            <p:cNvSpPr/>
            <p:nvPr/>
          </p:nvSpPr>
          <p:spPr>
            <a:xfrm>
              <a:off x="5791320" y="76320"/>
              <a:ext cx="75960" cy="75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Text Box 15"/>
          <p:cNvSpPr/>
          <p:nvPr/>
        </p:nvSpPr>
        <p:spPr>
          <a:xfrm>
            <a:off x="8458200" y="6613560"/>
            <a:ext cx="380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SimSun"/>
              </a:rPr>
              <a:t>.</a:t>
            </a:r>
            <a:fld id="{1F8C1A43-2839-41EB-A1D3-91BDE739CAD5}" type="slidenum">
              <a:rPr b="1" lang="en-US" sz="10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SimSu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AutoShape 16">
            <a:hlinkClick r:id="" action="ppaction://hlinkshowjump?jump=nextslide"/>
          </p:cNvPr>
          <p:cNvSpPr/>
          <p:nvPr/>
        </p:nvSpPr>
        <p:spPr>
          <a:xfrm>
            <a:off x="8077320" y="5829480"/>
            <a:ext cx="742680" cy="552240"/>
          </a:xfrm>
          <a:custGeom>
            <a:avLst/>
            <a:gdLst>
              <a:gd name="textAreaLeft" fmla="*/ 35640 w 742680"/>
              <a:gd name="textAreaRight" fmla="*/ 707040 w 742680"/>
              <a:gd name="textAreaTop" fmla="*/ 35640 h 552240"/>
              <a:gd name="textAreaBottom" fmla="*/ 516600 h 552240"/>
            </a:gdLst>
            <a:ahLst/>
            <a:rect l="textAreaLeft" t="textAreaTop" r="textAreaRight" b="textAreaBottom"/>
            <a:pathLst>
              <a:path w="29044" h="21600">
                <a:moveTo>
                  <a:pt x="0" y="0"/>
                </a:moveTo>
                <a:lnTo>
                  <a:pt x="29044" y="0"/>
                </a:lnTo>
                <a:lnTo>
                  <a:pt x="29044" y="21600"/>
                </a:lnTo>
                <a:lnTo>
                  <a:pt x="0" y="21600"/>
                </a:lnTo>
                <a:close/>
              </a:path>
              <a:path fill="lightenLess" w="29044" h="21600">
                <a:moveTo>
                  <a:pt x="0" y="0"/>
                </a:moveTo>
                <a:lnTo>
                  <a:pt x="29044" y="0"/>
                </a:lnTo>
                <a:lnTo>
                  <a:pt x="27644" y="1400"/>
                </a:lnTo>
                <a:lnTo>
                  <a:pt x="1400" y="1400"/>
                </a:lnTo>
                <a:close/>
              </a:path>
              <a:path fill="darken" w="29044" h="21600">
                <a:moveTo>
                  <a:pt x="29044" y="0"/>
                </a:moveTo>
                <a:lnTo>
                  <a:pt x="29044" y="21600"/>
                </a:lnTo>
                <a:lnTo>
                  <a:pt x="27644" y="20200"/>
                </a:lnTo>
                <a:lnTo>
                  <a:pt x="27644" y="1400"/>
                </a:lnTo>
                <a:close/>
              </a:path>
              <a:path fill="darkenLess" w="29044" h="21600">
                <a:moveTo>
                  <a:pt x="290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644" y="20200"/>
                </a:lnTo>
                <a:close/>
              </a:path>
              <a:path fill="lighten" w="290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044" h="21600">
                <a:moveTo>
                  <a:pt x="7515" y="3794"/>
                </a:moveTo>
                <a:lnTo>
                  <a:pt x="21528" y="10800"/>
                </a:lnTo>
                <a:lnTo>
                  <a:pt x="7515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44"/>
          <p:cNvSpPr/>
          <p:nvPr/>
        </p:nvSpPr>
        <p:spPr>
          <a:xfrm>
            <a:off x="633960" y="555480"/>
            <a:ext cx="5004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Times New Roman"/>
                <a:ea typeface="SimSun"/>
              </a:rPr>
              <a:t>MATRIX REPRESENTATION OF 3D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45"/>
          <p:cNvSpPr/>
          <p:nvPr/>
        </p:nvSpPr>
        <p:spPr>
          <a:xfrm>
            <a:off x="1108800" y="993600"/>
            <a:ext cx="2992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Times New Roman"/>
                <a:ea typeface="SimSun"/>
              </a:rPr>
              <a:t>TRANSFORM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" name="Object 48"/>
              <p:cNvSpPr txBox="1"/>
              <p:nvPr/>
            </p:nvSpPr>
            <p:spPr>
              <a:xfrm>
                <a:off x="469800" y="1905120"/>
                <a:ext cx="2317680" cy="172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d</m:t>
                                  </m:r>
                                </m:e>
                                <m:sub>
                                  <m:r>
                                    <m:t xml:space="preserve">x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d</m:t>
                                  </m:r>
                                </m:e>
                                <m:sub>
                                  <m:r>
                                    <m:t xml:space="preserve">y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d</m:t>
                                  </m:r>
                                </m:e>
                                <m:sub>
                                  <m:r>
                                    <m:t xml:space="preserve">z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Object 49"/>
              <p:cNvSpPr txBox="1"/>
              <p:nvPr/>
            </p:nvSpPr>
            <p:spPr>
              <a:xfrm>
                <a:off x="2909880" y="1866960"/>
                <a:ext cx="2581200" cy="172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d</m:t>
                                  </m:r>
                                </m:e>
                                <m:sub>
                                  <m:r>
                                    <m:t xml:space="preserve">x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d</m:t>
                                  </m:r>
                                </m:e>
                                <m:sub>
                                  <m:r>
                                    <m:t xml:space="preserve">y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d</m:t>
                                  </m:r>
                                </m:e>
                                <m:sub>
                                  <m:r>
                                    <m:t xml:space="preserve">z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Object 50"/>
              <p:cNvSpPr txBox="1"/>
              <p:nvPr/>
            </p:nvSpPr>
            <p:spPr>
              <a:xfrm>
                <a:off x="5492880" y="1943280"/>
                <a:ext cx="3321000" cy="172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θ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t xml:space="preserve">θ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t xml:space="preserve">θ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θ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Object 51"/>
              <p:cNvSpPr txBox="1"/>
              <p:nvPr/>
            </p:nvSpPr>
            <p:spPr>
              <a:xfrm>
                <a:off x="528480" y="3957480"/>
                <a:ext cx="3345120" cy="172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θ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t xml:space="preserve">θ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t xml:space="preserve">θ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θ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" name="Object 52"/>
              <p:cNvSpPr txBox="1"/>
              <p:nvPr/>
            </p:nvSpPr>
            <p:spPr>
              <a:xfrm>
                <a:off x="4292640" y="3995640"/>
                <a:ext cx="3321000" cy="172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θ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t xml:space="preserve">θ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t xml:space="preserve">θ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θ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33" name="Text Box 54"/>
          <p:cNvSpPr/>
          <p:nvPr/>
        </p:nvSpPr>
        <p:spPr>
          <a:xfrm>
            <a:off x="6673680" y="838080"/>
            <a:ext cx="1924200" cy="6426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SimSun"/>
              </a:rPr>
              <a:t>OpenGL Transform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1000"/>
                            </p:stCondLst>
                            <p:childTnLst>
                              <p:par>
                                <p:cTn id="88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500"/>
                            </p:stCondLst>
                            <p:childTnLst>
                              <p:par>
                                <p:cTn id="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000"/>
                            </p:stCondLst>
                            <p:childTnLst>
                              <p:par>
                                <p:cTn id="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2500"/>
                            </p:stCondLst>
                            <p:childTnLst>
                              <p:par>
                                <p:cTn id="1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3000"/>
                            </p:stCondLst>
                            <p:childTnLst>
                              <p:par>
                                <p:cTn id="1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3500"/>
                            </p:stCondLst>
                            <p:childTnLst>
                              <p:par>
                                <p:cTn id="1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4000"/>
                            </p:stCondLst>
                            <p:childTnLst>
                              <p:par>
                                <p:cTn id="1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4500"/>
                            </p:stCondLst>
                            <p:childTnLst>
                              <p:par>
                                <p:cTn id="1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Copyright @ 2002 by Jim X. Chen:    jchen@cs.gmu.ed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2"/>
          <p:cNvSpPr/>
          <p:nvPr/>
        </p:nvSpPr>
        <p:spPr>
          <a:xfrm>
            <a:off x="228600" y="304920"/>
            <a:ext cx="8686800" cy="6172200"/>
          </a:xfrm>
          <a:prstGeom prst="rect">
            <a:avLst/>
          </a:prstGeom>
          <a:noFill/>
          <a:ln w="9360">
            <a:solidFill>
              <a:srgbClr val="ff9933"/>
            </a:solidFill>
            <a:miter/>
          </a:ln>
          <a:effectLst>
            <a:outerShdw dist="17819" dir="2700000" blurRad="0" rotWithShape="0">
              <a:srgbClr val="995c1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" name="Group 3"/>
          <p:cNvGrpSpPr/>
          <p:nvPr/>
        </p:nvGrpSpPr>
        <p:grpSpPr>
          <a:xfrm>
            <a:off x="3886200" y="6477120"/>
            <a:ext cx="1523880" cy="231120"/>
            <a:chOff x="3886200" y="6477120"/>
            <a:chExt cx="1523880" cy="231120"/>
          </a:xfrm>
        </p:grpSpPr>
        <p:sp>
          <p:nvSpPr>
            <p:cNvPr id="137" name="Text Box 4"/>
            <p:cNvSpPr/>
            <p:nvPr/>
          </p:nvSpPr>
          <p:spPr>
            <a:xfrm>
              <a:off x="3962520" y="6477120"/>
              <a:ext cx="1371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                                       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Rectangle 5"/>
            <p:cNvSpPr/>
            <p:nvPr/>
          </p:nvSpPr>
          <p:spPr>
            <a:xfrm>
              <a:off x="3886200" y="6553080"/>
              <a:ext cx="76320" cy="76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Rectangle 6"/>
            <p:cNvSpPr/>
            <p:nvPr/>
          </p:nvSpPr>
          <p:spPr>
            <a:xfrm>
              <a:off x="5334120" y="6553080"/>
              <a:ext cx="75960" cy="76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AutoShape 7">
            <a:hlinkClick r:id="" action="ppaction://hlinkshowjump?jump=firstslide"/>
          </p:cNvPr>
          <p:cNvSpPr/>
          <p:nvPr/>
        </p:nvSpPr>
        <p:spPr>
          <a:xfrm>
            <a:off x="769608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0901" y="10800"/>
                </a:moveTo>
                <a:lnTo>
                  <a:pt x="21406" y="3794"/>
                </a:lnTo>
                <a:lnTo>
                  <a:pt x="21406" y="17806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9056" y="3794"/>
                </a:lnTo>
                <a:lnTo>
                  <a:pt x="9056" y="17806"/>
                </a:lnTo>
                <a:lnTo>
                  <a:pt x="7394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AutoShape 8">
            <a:hlinkClick r:id="" action="ppaction://hlinkshowjump?jump=nextslide"/>
          </p:cNvPr>
          <p:cNvSpPr/>
          <p:nvPr/>
        </p:nvSpPr>
        <p:spPr>
          <a:xfrm>
            <a:off x="845820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AutoShape 9">
            <a:hlinkClick r:id="" action="ppaction://hlinkshowjump?jump=lastslide"/>
          </p:cNvPr>
          <p:cNvSpPr/>
          <p:nvPr/>
        </p:nvSpPr>
        <p:spPr>
          <a:xfrm>
            <a:off x="883908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7899" y="10800"/>
                </a:moveTo>
                <a:lnTo>
                  <a:pt x="7394" y="17806"/>
                </a:lnTo>
                <a:lnTo>
                  <a:pt x="7394" y="3794"/>
                </a:lnTo>
                <a:close/>
              </a:path>
              <a:path fill="darken" w="28800" h="21600">
                <a:moveTo>
                  <a:pt x="19744" y="3794"/>
                </a:moveTo>
                <a:lnTo>
                  <a:pt x="19744" y="17806"/>
                </a:lnTo>
                <a:lnTo>
                  <a:pt x="21406" y="17806"/>
                </a:lnTo>
                <a:lnTo>
                  <a:pt x="21406" y="3794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AutoShape 10">
            <a:hlinkClick r:id="" action="ppaction://hlinkshowjump?jump=previousslide"/>
          </p:cNvPr>
          <p:cNvSpPr/>
          <p:nvPr/>
        </p:nvSpPr>
        <p:spPr>
          <a:xfrm>
            <a:off x="8077320" y="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10800"/>
                </a:moveTo>
                <a:lnTo>
                  <a:pt x="21390" y="3794"/>
                </a:lnTo>
                <a:lnTo>
                  <a:pt x="21390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Group 11"/>
          <p:cNvGrpSpPr/>
          <p:nvPr/>
        </p:nvGrpSpPr>
        <p:grpSpPr>
          <a:xfrm>
            <a:off x="3733920" y="0"/>
            <a:ext cx="2133360" cy="246240"/>
            <a:chOff x="3733920" y="0"/>
            <a:chExt cx="2133360" cy="246240"/>
          </a:xfrm>
        </p:grpSpPr>
        <p:sp>
          <p:nvSpPr>
            <p:cNvPr id="145" name="Text Box 12"/>
            <p:cNvSpPr/>
            <p:nvPr/>
          </p:nvSpPr>
          <p:spPr>
            <a:xfrm>
              <a:off x="3886200" y="0"/>
              <a:ext cx="1905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Transformation and Viewin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Rectangle 13"/>
            <p:cNvSpPr/>
            <p:nvPr/>
          </p:nvSpPr>
          <p:spPr>
            <a:xfrm>
              <a:off x="3733920" y="76320"/>
              <a:ext cx="75960" cy="75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Rectangle 14"/>
            <p:cNvSpPr/>
            <p:nvPr/>
          </p:nvSpPr>
          <p:spPr>
            <a:xfrm>
              <a:off x="5791320" y="76320"/>
              <a:ext cx="75960" cy="75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8" name="Text Box 15"/>
          <p:cNvSpPr/>
          <p:nvPr/>
        </p:nvSpPr>
        <p:spPr>
          <a:xfrm>
            <a:off x="8458200" y="6613560"/>
            <a:ext cx="380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SimSun"/>
              </a:rPr>
              <a:t>.</a:t>
            </a:r>
            <a:fld id="{BC48C8B5-ED3E-4781-A666-8102AACC4A8A}" type="slidenum">
              <a:rPr b="1" lang="en-US" sz="10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SimSu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AutoShape 16">
            <a:hlinkClick r:id="" action="ppaction://hlinkshowjump?jump=nextslide"/>
          </p:cNvPr>
          <p:cNvSpPr/>
          <p:nvPr/>
        </p:nvSpPr>
        <p:spPr>
          <a:xfrm>
            <a:off x="8077320" y="5829480"/>
            <a:ext cx="742680" cy="552240"/>
          </a:xfrm>
          <a:custGeom>
            <a:avLst/>
            <a:gdLst>
              <a:gd name="textAreaLeft" fmla="*/ 35640 w 742680"/>
              <a:gd name="textAreaRight" fmla="*/ 707040 w 742680"/>
              <a:gd name="textAreaTop" fmla="*/ 35640 h 552240"/>
              <a:gd name="textAreaBottom" fmla="*/ 516600 h 552240"/>
            </a:gdLst>
            <a:ahLst/>
            <a:rect l="textAreaLeft" t="textAreaTop" r="textAreaRight" b="textAreaBottom"/>
            <a:pathLst>
              <a:path w="29044" h="21600">
                <a:moveTo>
                  <a:pt x="0" y="0"/>
                </a:moveTo>
                <a:lnTo>
                  <a:pt x="29044" y="0"/>
                </a:lnTo>
                <a:lnTo>
                  <a:pt x="29044" y="21600"/>
                </a:lnTo>
                <a:lnTo>
                  <a:pt x="0" y="21600"/>
                </a:lnTo>
                <a:close/>
              </a:path>
              <a:path fill="lightenLess" w="29044" h="21600">
                <a:moveTo>
                  <a:pt x="0" y="0"/>
                </a:moveTo>
                <a:lnTo>
                  <a:pt x="29044" y="0"/>
                </a:lnTo>
                <a:lnTo>
                  <a:pt x="27644" y="1400"/>
                </a:lnTo>
                <a:lnTo>
                  <a:pt x="1400" y="1400"/>
                </a:lnTo>
                <a:close/>
              </a:path>
              <a:path fill="darken" w="29044" h="21600">
                <a:moveTo>
                  <a:pt x="29044" y="0"/>
                </a:moveTo>
                <a:lnTo>
                  <a:pt x="29044" y="21600"/>
                </a:lnTo>
                <a:lnTo>
                  <a:pt x="27644" y="20200"/>
                </a:lnTo>
                <a:lnTo>
                  <a:pt x="27644" y="1400"/>
                </a:lnTo>
                <a:close/>
              </a:path>
              <a:path fill="darkenLess" w="29044" h="21600">
                <a:moveTo>
                  <a:pt x="290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644" y="20200"/>
                </a:lnTo>
                <a:close/>
              </a:path>
              <a:path fill="lighten" w="290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044" h="21600">
                <a:moveTo>
                  <a:pt x="7515" y="3794"/>
                </a:moveTo>
                <a:lnTo>
                  <a:pt x="21528" y="10800"/>
                </a:lnTo>
                <a:lnTo>
                  <a:pt x="7515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25"/>
          <p:cNvSpPr/>
          <p:nvPr/>
        </p:nvSpPr>
        <p:spPr>
          <a:xfrm>
            <a:off x="729360" y="498600"/>
            <a:ext cx="413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Times New Roman"/>
                <a:ea typeface="SimSun"/>
              </a:rPr>
              <a:t>COMPOSITION OF 3D TR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26"/>
          <p:cNvSpPr/>
          <p:nvPr/>
        </p:nvSpPr>
        <p:spPr>
          <a:xfrm>
            <a:off x="1122120" y="1050840"/>
            <a:ext cx="1756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SimSun"/>
              </a:rPr>
              <a:t>Solar syste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28"/>
          <p:cNvSpPr/>
          <p:nvPr/>
        </p:nvSpPr>
        <p:spPr>
          <a:xfrm>
            <a:off x="1081080" y="5046840"/>
            <a:ext cx="718020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The earth rotate around the Sun; the moon around the ear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Given the earth &amp; moon centers (E &amp; M) and rotation angles (e &amp; m) find the new locations of the earth and mo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Picture 33" descr="f5"/>
          <p:cNvPicPr/>
          <p:nvPr/>
        </p:nvPicPr>
        <p:blipFill>
          <a:blip r:embed="rId1"/>
          <a:stretch/>
        </p:blipFill>
        <p:spPr>
          <a:xfrm>
            <a:off x="1357200" y="1390680"/>
            <a:ext cx="7029720" cy="211464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35"/>
          <p:cNvSpPr/>
          <p:nvPr/>
        </p:nvSpPr>
        <p:spPr>
          <a:xfrm>
            <a:off x="7118280" y="847800"/>
            <a:ext cx="1181160" cy="8254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  <a:ea typeface="SimSun"/>
              </a:rPr>
              <a:t>Solar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36"/>
          <p:cNvSpPr/>
          <p:nvPr/>
        </p:nvSpPr>
        <p:spPr>
          <a:xfrm>
            <a:off x="954000" y="3487680"/>
            <a:ext cx="751680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myLoadIdentity(); transDraw(Sun); myRotatef(e);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transDraw(Earth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myTranslatev(E); myRotatef(m, 0, 1, 0); myTranslatev(-E); transDraw(Moon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1000"/>
                            </p:stCondLst>
                            <p:childTnLst>
                              <p:par>
                                <p:cTn id="147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500"/>
                            </p:stCondLst>
                            <p:childTnLst>
                              <p:par>
                                <p:cTn id="1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2000"/>
                            </p:stCondLst>
                            <p:childTnLst>
                              <p:par>
                                <p:cTn id="1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2500"/>
                            </p:stCondLst>
                            <p:childTnLst>
                              <p:par>
                                <p:cTn id="16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3000"/>
                            </p:stCondLst>
                            <p:childTnLst>
                              <p:par>
                                <p:cTn id="16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Copyright @ 2002 by Jim X. Chen:    jchen@cs.gmu.ed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14520" y="194760"/>
            <a:ext cx="7772400" cy="85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ushMatrix and PopMatri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63520" y="1128600"/>
            <a:ext cx="858528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oid drawRobot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l.glPushMatrix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l.glRotatef(alpha, 0.0f, 0.0f, 1.0f); // Rz(alpha) is on top of the matrix st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rawArm(O, A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l.glTranslatef(A[0], A[1], 0.0f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l.glRotatef(beta, 0.0f, 0.0f, 1.0f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l.glTranslatef(-A[0], -A[1], 0.0f); // Rz(alpha)T(A)Rz(beta)T(-A) is on t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rawArm(A, B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l.glTranslatef(B[0], B[1], 0.0f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l.glRotatef(gama, 0.0f, 0.0f, 1.0f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l.glTranslatef(-B[0], -B[1], 0.0f);  // Rz(alpha)T(A)Rz(beta)T(-A) is on t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rawArm(B, C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l.glPopMatrix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Copyright @ 2002 by Jim X. Chen:    jchen@cs.gmu.ed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2"/>
          <p:cNvSpPr/>
          <p:nvPr/>
        </p:nvSpPr>
        <p:spPr>
          <a:xfrm>
            <a:off x="228600" y="304920"/>
            <a:ext cx="8686800" cy="6172200"/>
          </a:xfrm>
          <a:prstGeom prst="rect">
            <a:avLst/>
          </a:prstGeom>
          <a:noFill/>
          <a:ln w="9360">
            <a:solidFill>
              <a:srgbClr val="ff9933"/>
            </a:solidFill>
            <a:miter/>
          </a:ln>
          <a:effectLst>
            <a:outerShdw dist="17819" dir="2700000" blurRad="0" rotWithShape="0">
              <a:srgbClr val="995c1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Group 3"/>
          <p:cNvGrpSpPr/>
          <p:nvPr/>
        </p:nvGrpSpPr>
        <p:grpSpPr>
          <a:xfrm>
            <a:off x="3886200" y="6477120"/>
            <a:ext cx="1523880" cy="231120"/>
            <a:chOff x="3886200" y="6477120"/>
            <a:chExt cx="1523880" cy="231120"/>
          </a:xfrm>
        </p:grpSpPr>
        <p:sp>
          <p:nvSpPr>
            <p:cNvPr id="162" name="Text Box 4"/>
            <p:cNvSpPr/>
            <p:nvPr/>
          </p:nvSpPr>
          <p:spPr>
            <a:xfrm>
              <a:off x="3962520" y="6477120"/>
              <a:ext cx="1371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                                       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Rectangle 5"/>
            <p:cNvSpPr/>
            <p:nvPr/>
          </p:nvSpPr>
          <p:spPr>
            <a:xfrm>
              <a:off x="3886200" y="6553080"/>
              <a:ext cx="76320" cy="76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Rectangle 6"/>
            <p:cNvSpPr/>
            <p:nvPr/>
          </p:nvSpPr>
          <p:spPr>
            <a:xfrm>
              <a:off x="5334120" y="6553080"/>
              <a:ext cx="75960" cy="76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AutoShape 7">
            <a:hlinkClick r:id="" action="ppaction://hlinkshowjump?jump=firstslide"/>
          </p:cNvPr>
          <p:cNvSpPr/>
          <p:nvPr/>
        </p:nvSpPr>
        <p:spPr>
          <a:xfrm>
            <a:off x="769608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0901" y="10800"/>
                </a:moveTo>
                <a:lnTo>
                  <a:pt x="21406" y="3794"/>
                </a:lnTo>
                <a:lnTo>
                  <a:pt x="21406" y="17806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9056" y="3794"/>
                </a:lnTo>
                <a:lnTo>
                  <a:pt x="9056" y="17806"/>
                </a:lnTo>
                <a:lnTo>
                  <a:pt x="7394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AutoShape 8">
            <a:hlinkClick r:id="" action="ppaction://hlinkshowjump?jump=nextslide"/>
          </p:cNvPr>
          <p:cNvSpPr/>
          <p:nvPr/>
        </p:nvSpPr>
        <p:spPr>
          <a:xfrm>
            <a:off x="845820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AutoShape 9">
            <a:hlinkClick r:id="" action="ppaction://hlinkshowjump?jump=lastslide"/>
          </p:cNvPr>
          <p:cNvSpPr/>
          <p:nvPr/>
        </p:nvSpPr>
        <p:spPr>
          <a:xfrm>
            <a:off x="883908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7899" y="10800"/>
                </a:moveTo>
                <a:lnTo>
                  <a:pt x="7394" y="17806"/>
                </a:lnTo>
                <a:lnTo>
                  <a:pt x="7394" y="3794"/>
                </a:lnTo>
                <a:close/>
              </a:path>
              <a:path fill="darken" w="28800" h="21600">
                <a:moveTo>
                  <a:pt x="19744" y="3794"/>
                </a:moveTo>
                <a:lnTo>
                  <a:pt x="19744" y="17806"/>
                </a:lnTo>
                <a:lnTo>
                  <a:pt x="21406" y="17806"/>
                </a:lnTo>
                <a:lnTo>
                  <a:pt x="21406" y="3794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AutoShape 10">
            <a:hlinkClick r:id="" action="ppaction://hlinkshowjump?jump=previousslide"/>
          </p:cNvPr>
          <p:cNvSpPr/>
          <p:nvPr/>
        </p:nvSpPr>
        <p:spPr>
          <a:xfrm>
            <a:off x="8077320" y="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10800"/>
                </a:moveTo>
                <a:lnTo>
                  <a:pt x="21390" y="3794"/>
                </a:lnTo>
                <a:lnTo>
                  <a:pt x="21390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Group 11"/>
          <p:cNvGrpSpPr/>
          <p:nvPr/>
        </p:nvGrpSpPr>
        <p:grpSpPr>
          <a:xfrm>
            <a:off x="3733920" y="0"/>
            <a:ext cx="2133360" cy="246240"/>
            <a:chOff x="3733920" y="0"/>
            <a:chExt cx="2133360" cy="246240"/>
          </a:xfrm>
        </p:grpSpPr>
        <p:sp>
          <p:nvSpPr>
            <p:cNvPr id="170" name="Text Box 12"/>
            <p:cNvSpPr/>
            <p:nvPr/>
          </p:nvSpPr>
          <p:spPr>
            <a:xfrm>
              <a:off x="3886200" y="0"/>
              <a:ext cx="1905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Transformation and Viewin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Rectangle 13"/>
            <p:cNvSpPr/>
            <p:nvPr/>
          </p:nvSpPr>
          <p:spPr>
            <a:xfrm>
              <a:off x="3733920" y="76320"/>
              <a:ext cx="75960" cy="75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Rectangle 14"/>
            <p:cNvSpPr/>
            <p:nvPr/>
          </p:nvSpPr>
          <p:spPr>
            <a:xfrm>
              <a:off x="5791320" y="76320"/>
              <a:ext cx="75960" cy="75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" name="Text Box 15"/>
          <p:cNvSpPr/>
          <p:nvPr/>
        </p:nvSpPr>
        <p:spPr>
          <a:xfrm>
            <a:off x="8458200" y="6613560"/>
            <a:ext cx="380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SimSun"/>
              </a:rPr>
              <a:t>.</a:t>
            </a:r>
            <a:fld id="{5EE1D213-939D-45C1-BFB7-3C1F7B8A6598}" type="slidenum">
              <a:rPr b="1" lang="en-US" sz="10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SimSu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AutoShape 16">
            <a:hlinkClick r:id="" action="ppaction://hlinkshowjump?jump=nextslide"/>
          </p:cNvPr>
          <p:cNvSpPr/>
          <p:nvPr/>
        </p:nvSpPr>
        <p:spPr>
          <a:xfrm>
            <a:off x="8077320" y="5829480"/>
            <a:ext cx="742680" cy="552240"/>
          </a:xfrm>
          <a:custGeom>
            <a:avLst/>
            <a:gdLst>
              <a:gd name="textAreaLeft" fmla="*/ 35640 w 742680"/>
              <a:gd name="textAreaRight" fmla="*/ 707040 w 742680"/>
              <a:gd name="textAreaTop" fmla="*/ 35640 h 552240"/>
              <a:gd name="textAreaBottom" fmla="*/ 516600 h 552240"/>
            </a:gdLst>
            <a:ahLst/>
            <a:rect l="textAreaLeft" t="textAreaTop" r="textAreaRight" b="textAreaBottom"/>
            <a:pathLst>
              <a:path w="29044" h="21600">
                <a:moveTo>
                  <a:pt x="0" y="0"/>
                </a:moveTo>
                <a:lnTo>
                  <a:pt x="29044" y="0"/>
                </a:lnTo>
                <a:lnTo>
                  <a:pt x="29044" y="21600"/>
                </a:lnTo>
                <a:lnTo>
                  <a:pt x="0" y="21600"/>
                </a:lnTo>
                <a:close/>
              </a:path>
              <a:path fill="lightenLess" w="29044" h="21600">
                <a:moveTo>
                  <a:pt x="0" y="0"/>
                </a:moveTo>
                <a:lnTo>
                  <a:pt x="29044" y="0"/>
                </a:lnTo>
                <a:lnTo>
                  <a:pt x="27644" y="1400"/>
                </a:lnTo>
                <a:lnTo>
                  <a:pt x="1400" y="1400"/>
                </a:lnTo>
                <a:close/>
              </a:path>
              <a:path fill="darken" w="29044" h="21600">
                <a:moveTo>
                  <a:pt x="29044" y="0"/>
                </a:moveTo>
                <a:lnTo>
                  <a:pt x="29044" y="21600"/>
                </a:lnTo>
                <a:lnTo>
                  <a:pt x="27644" y="20200"/>
                </a:lnTo>
                <a:lnTo>
                  <a:pt x="27644" y="1400"/>
                </a:lnTo>
                <a:close/>
              </a:path>
              <a:path fill="darkenLess" w="29044" h="21600">
                <a:moveTo>
                  <a:pt x="290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644" y="20200"/>
                </a:lnTo>
                <a:close/>
              </a:path>
              <a:path fill="lighten" w="290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044" h="21600">
                <a:moveTo>
                  <a:pt x="7515" y="3794"/>
                </a:moveTo>
                <a:lnTo>
                  <a:pt x="21528" y="10800"/>
                </a:lnTo>
                <a:lnTo>
                  <a:pt x="7515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Picture 23" descr=""/>
          <p:cNvPicPr/>
          <p:nvPr/>
        </p:nvPicPr>
        <p:blipFill>
          <a:blip r:embed="rId1"/>
          <a:stretch/>
        </p:blipFill>
        <p:spPr>
          <a:xfrm>
            <a:off x="257040" y="476280"/>
            <a:ext cx="8655120" cy="250200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24" descr=""/>
          <p:cNvPicPr/>
          <p:nvPr/>
        </p:nvPicPr>
        <p:blipFill>
          <a:blip r:embed="rId2"/>
          <a:stretch/>
        </p:blipFill>
        <p:spPr>
          <a:xfrm>
            <a:off x="285840" y="3621240"/>
            <a:ext cx="8520120" cy="235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500"/>
                            </p:stCondLst>
                            <p:childTnLst>
                              <p:par>
                                <p:cTn id="18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000"/>
                            </p:stCondLst>
                            <p:childTnLst>
                              <p:par>
                                <p:cTn id="19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Copyright @ 2002 by Jim X. Chen:    jchen@cs.gmu.ed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2"/>
          <p:cNvSpPr/>
          <p:nvPr/>
        </p:nvSpPr>
        <p:spPr>
          <a:xfrm>
            <a:off x="228600" y="304920"/>
            <a:ext cx="8686800" cy="6172200"/>
          </a:xfrm>
          <a:prstGeom prst="rect">
            <a:avLst/>
          </a:prstGeom>
          <a:noFill/>
          <a:ln w="9360">
            <a:solidFill>
              <a:srgbClr val="ff9933"/>
            </a:solidFill>
            <a:miter/>
          </a:ln>
          <a:effectLst>
            <a:outerShdw dist="17819" dir="2700000" blurRad="0" rotWithShape="0">
              <a:srgbClr val="995c1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9" name="Group 3"/>
          <p:cNvGrpSpPr/>
          <p:nvPr/>
        </p:nvGrpSpPr>
        <p:grpSpPr>
          <a:xfrm>
            <a:off x="3886200" y="6477120"/>
            <a:ext cx="1523880" cy="231120"/>
            <a:chOff x="3886200" y="6477120"/>
            <a:chExt cx="1523880" cy="231120"/>
          </a:xfrm>
        </p:grpSpPr>
        <p:sp>
          <p:nvSpPr>
            <p:cNvPr id="180" name="Text Box 4"/>
            <p:cNvSpPr/>
            <p:nvPr/>
          </p:nvSpPr>
          <p:spPr>
            <a:xfrm>
              <a:off x="3962520" y="6477120"/>
              <a:ext cx="1371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                                       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5"/>
            <p:cNvSpPr/>
            <p:nvPr/>
          </p:nvSpPr>
          <p:spPr>
            <a:xfrm>
              <a:off x="3886200" y="6553080"/>
              <a:ext cx="76320" cy="76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6"/>
            <p:cNvSpPr/>
            <p:nvPr/>
          </p:nvSpPr>
          <p:spPr>
            <a:xfrm>
              <a:off x="5334120" y="6553080"/>
              <a:ext cx="75960" cy="76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3" name="AutoShape 7">
            <a:hlinkClick r:id="" action="ppaction://hlinkshowjump?jump=firstslide"/>
          </p:cNvPr>
          <p:cNvSpPr/>
          <p:nvPr/>
        </p:nvSpPr>
        <p:spPr>
          <a:xfrm>
            <a:off x="769608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0901" y="10800"/>
                </a:moveTo>
                <a:lnTo>
                  <a:pt x="21406" y="3794"/>
                </a:lnTo>
                <a:lnTo>
                  <a:pt x="21406" y="17806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9056" y="3794"/>
                </a:lnTo>
                <a:lnTo>
                  <a:pt x="9056" y="17806"/>
                </a:lnTo>
                <a:lnTo>
                  <a:pt x="7394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AutoShape 8">
            <a:hlinkClick r:id="" action="ppaction://hlinkshowjump?jump=nextslide"/>
          </p:cNvPr>
          <p:cNvSpPr/>
          <p:nvPr/>
        </p:nvSpPr>
        <p:spPr>
          <a:xfrm>
            <a:off x="845820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AutoShape 9">
            <a:hlinkClick r:id="" action="ppaction://hlinkshowjump?jump=lastslide"/>
          </p:cNvPr>
          <p:cNvSpPr/>
          <p:nvPr/>
        </p:nvSpPr>
        <p:spPr>
          <a:xfrm>
            <a:off x="883908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7899" y="10800"/>
                </a:moveTo>
                <a:lnTo>
                  <a:pt x="7394" y="17806"/>
                </a:lnTo>
                <a:lnTo>
                  <a:pt x="7394" y="3794"/>
                </a:lnTo>
                <a:close/>
              </a:path>
              <a:path fill="darken" w="28800" h="21600">
                <a:moveTo>
                  <a:pt x="19744" y="3794"/>
                </a:moveTo>
                <a:lnTo>
                  <a:pt x="19744" y="17806"/>
                </a:lnTo>
                <a:lnTo>
                  <a:pt x="21406" y="17806"/>
                </a:lnTo>
                <a:lnTo>
                  <a:pt x="21406" y="3794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AutoShape 10">
            <a:hlinkClick r:id="" action="ppaction://hlinkshowjump?jump=previousslide"/>
          </p:cNvPr>
          <p:cNvSpPr/>
          <p:nvPr/>
        </p:nvSpPr>
        <p:spPr>
          <a:xfrm>
            <a:off x="8077320" y="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10800"/>
                </a:moveTo>
                <a:lnTo>
                  <a:pt x="21390" y="3794"/>
                </a:lnTo>
                <a:lnTo>
                  <a:pt x="21390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Group 11"/>
          <p:cNvGrpSpPr/>
          <p:nvPr/>
        </p:nvGrpSpPr>
        <p:grpSpPr>
          <a:xfrm>
            <a:off x="3733920" y="0"/>
            <a:ext cx="2133360" cy="246240"/>
            <a:chOff x="3733920" y="0"/>
            <a:chExt cx="2133360" cy="246240"/>
          </a:xfrm>
        </p:grpSpPr>
        <p:sp>
          <p:nvSpPr>
            <p:cNvPr id="188" name="Text Box 12"/>
            <p:cNvSpPr/>
            <p:nvPr/>
          </p:nvSpPr>
          <p:spPr>
            <a:xfrm>
              <a:off x="3886200" y="0"/>
              <a:ext cx="1905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Transformation and Viewin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Rectangle 13"/>
            <p:cNvSpPr/>
            <p:nvPr/>
          </p:nvSpPr>
          <p:spPr>
            <a:xfrm>
              <a:off x="3733920" y="76320"/>
              <a:ext cx="75960" cy="75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Rectangle 14"/>
            <p:cNvSpPr/>
            <p:nvPr/>
          </p:nvSpPr>
          <p:spPr>
            <a:xfrm>
              <a:off x="5791320" y="76320"/>
              <a:ext cx="75960" cy="75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1" name="Text Box 15"/>
          <p:cNvSpPr/>
          <p:nvPr/>
        </p:nvSpPr>
        <p:spPr>
          <a:xfrm>
            <a:off x="8458200" y="6613560"/>
            <a:ext cx="380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SimSun"/>
              </a:rPr>
              <a:t>.</a:t>
            </a:r>
            <a:fld id="{8F71F3ED-9BC5-42C5-B111-ABB47D5042AE}" type="slidenum">
              <a:rPr b="1" lang="en-US" sz="10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SimSu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AutoShape 16">
            <a:hlinkClick r:id="" action="ppaction://hlinkshowjump?jump=nextslide"/>
          </p:cNvPr>
          <p:cNvSpPr/>
          <p:nvPr/>
        </p:nvSpPr>
        <p:spPr>
          <a:xfrm>
            <a:off x="8077320" y="5829480"/>
            <a:ext cx="742680" cy="552240"/>
          </a:xfrm>
          <a:custGeom>
            <a:avLst/>
            <a:gdLst>
              <a:gd name="textAreaLeft" fmla="*/ 35640 w 742680"/>
              <a:gd name="textAreaRight" fmla="*/ 707040 w 742680"/>
              <a:gd name="textAreaTop" fmla="*/ 35640 h 552240"/>
              <a:gd name="textAreaBottom" fmla="*/ 516600 h 552240"/>
            </a:gdLst>
            <a:ahLst/>
            <a:rect l="textAreaLeft" t="textAreaTop" r="textAreaRight" b="textAreaBottom"/>
            <a:pathLst>
              <a:path w="29044" h="21600">
                <a:moveTo>
                  <a:pt x="0" y="0"/>
                </a:moveTo>
                <a:lnTo>
                  <a:pt x="29044" y="0"/>
                </a:lnTo>
                <a:lnTo>
                  <a:pt x="29044" y="21600"/>
                </a:lnTo>
                <a:lnTo>
                  <a:pt x="0" y="21600"/>
                </a:lnTo>
                <a:close/>
              </a:path>
              <a:path fill="lightenLess" w="29044" h="21600">
                <a:moveTo>
                  <a:pt x="0" y="0"/>
                </a:moveTo>
                <a:lnTo>
                  <a:pt x="29044" y="0"/>
                </a:lnTo>
                <a:lnTo>
                  <a:pt x="27644" y="1400"/>
                </a:lnTo>
                <a:lnTo>
                  <a:pt x="1400" y="1400"/>
                </a:lnTo>
                <a:close/>
              </a:path>
              <a:path fill="darken" w="29044" h="21600">
                <a:moveTo>
                  <a:pt x="29044" y="0"/>
                </a:moveTo>
                <a:lnTo>
                  <a:pt x="29044" y="21600"/>
                </a:lnTo>
                <a:lnTo>
                  <a:pt x="27644" y="20200"/>
                </a:lnTo>
                <a:lnTo>
                  <a:pt x="27644" y="1400"/>
                </a:lnTo>
                <a:close/>
              </a:path>
              <a:path fill="darkenLess" w="29044" h="21600">
                <a:moveTo>
                  <a:pt x="290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644" y="20200"/>
                </a:lnTo>
                <a:close/>
              </a:path>
              <a:path fill="lighten" w="290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044" h="21600">
                <a:moveTo>
                  <a:pt x="7515" y="3794"/>
                </a:moveTo>
                <a:lnTo>
                  <a:pt x="21528" y="10800"/>
                </a:lnTo>
                <a:lnTo>
                  <a:pt x="7515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25" descr="f5"/>
          <p:cNvPicPr/>
          <p:nvPr/>
        </p:nvPicPr>
        <p:blipFill>
          <a:blip r:embed="rId1"/>
          <a:stretch/>
        </p:blipFill>
        <p:spPr>
          <a:xfrm>
            <a:off x="868320" y="671400"/>
            <a:ext cx="7029360" cy="211464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27"/>
          <p:cNvSpPr/>
          <p:nvPr/>
        </p:nvSpPr>
        <p:spPr>
          <a:xfrm>
            <a:off x="1000080" y="3116160"/>
            <a:ext cx="61516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Float matrix[4][4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Often, a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SimSun"/>
              </a:rPr>
              <a:t>sp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is at the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SimSun"/>
              </a:rPr>
              <a:t>center of the coordin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myLoadIdentity(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transDrawSphere(); //su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myRotatef(e,0,1,0); myTranslatef(E, 0, 0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transDrawSphere(); //ear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myRotatef(m,0,1,0); myTranslatef(M, 0, 0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transDrawSphere(); //mo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500"/>
                            </p:stCondLst>
                            <p:childTnLst>
                              <p:par>
                                <p:cTn id="20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000"/>
                            </p:stCondLst>
                            <p:childTnLst>
                              <p:par>
                                <p:cTn id="214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500"/>
                            </p:stCondLst>
                            <p:childTnLst>
                              <p:par>
                                <p:cTn id="21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1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Copyright @ 2002 by Jim X. Chen:    jchen@cs.gmu.ed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2"/>
          <p:cNvSpPr/>
          <p:nvPr/>
        </p:nvSpPr>
        <p:spPr>
          <a:xfrm>
            <a:off x="228600" y="304920"/>
            <a:ext cx="8686800" cy="6172200"/>
          </a:xfrm>
          <a:prstGeom prst="rect">
            <a:avLst/>
          </a:prstGeom>
          <a:noFill/>
          <a:ln w="9360">
            <a:solidFill>
              <a:srgbClr val="ff9933"/>
            </a:solidFill>
            <a:miter/>
          </a:ln>
          <a:effectLst>
            <a:outerShdw dist="17819" dir="2700000" blurRad="0" rotWithShape="0">
              <a:srgbClr val="995c1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7" name="Group 3"/>
          <p:cNvGrpSpPr/>
          <p:nvPr/>
        </p:nvGrpSpPr>
        <p:grpSpPr>
          <a:xfrm>
            <a:off x="3886200" y="6477120"/>
            <a:ext cx="1523880" cy="231120"/>
            <a:chOff x="3886200" y="6477120"/>
            <a:chExt cx="1523880" cy="231120"/>
          </a:xfrm>
        </p:grpSpPr>
        <p:sp>
          <p:nvSpPr>
            <p:cNvPr id="198" name="Text Box 4"/>
            <p:cNvSpPr/>
            <p:nvPr/>
          </p:nvSpPr>
          <p:spPr>
            <a:xfrm>
              <a:off x="3962520" y="6477120"/>
              <a:ext cx="1371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                                       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Rectangle 5"/>
            <p:cNvSpPr/>
            <p:nvPr/>
          </p:nvSpPr>
          <p:spPr>
            <a:xfrm>
              <a:off x="3886200" y="6553080"/>
              <a:ext cx="76320" cy="76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Rectangle 6"/>
            <p:cNvSpPr/>
            <p:nvPr/>
          </p:nvSpPr>
          <p:spPr>
            <a:xfrm>
              <a:off x="5334120" y="6553080"/>
              <a:ext cx="75960" cy="76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" name="AutoShape 7">
            <a:hlinkClick r:id="" action="ppaction://hlinkshowjump?jump=firstslide"/>
          </p:cNvPr>
          <p:cNvSpPr/>
          <p:nvPr/>
        </p:nvSpPr>
        <p:spPr>
          <a:xfrm>
            <a:off x="769608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0901" y="10800"/>
                </a:moveTo>
                <a:lnTo>
                  <a:pt x="21406" y="3794"/>
                </a:lnTo>
                <a:lnTo>
                  <a:pt x="21406" y="17806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9056" y="3794"/>
                </a:lnTo>
                <a:lnTo>
                  <a:pt x="9056" y="17806"/>
                </a:lnTo>
                <a:lnTo>
                  <a:pt x="7394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AutoShape 8">
            <a:hlinkClick r:id="" action="ppaction://hlinkshowjump?jump=nextslide"/>
          </p:cNvPr>
          <p:cNvSpPr/>
          <p:nvPr/>
        </p:nvSpPr>
        <p:spPr>
          <a:xfrm>
            <a:off x="845820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AutoShape 9">
            <a:hlinkClick r:id="" action="ppaction://hlinkshowjump?jump=lastslide"/>
          </p:cNvPr>
          <p:cNvSpPr/>
          <p:nvPr/>
        </p:nvSpPr>
        <p:spPr>
          <a:xfrm>
            <a:off x="883908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7899" y="10800"/>
                </a:moveTo>
                <a:lnTo>
                  <a:pt x="7394" y="17806"/>
                </a:lnTo>
                <a:lnTo>
                  <a:pt x="7394" y="3794"/>
                </a:lnTo>
                <a:close/>
              </a:path>
              <a:path fill="darken" w="28800" h="21600">
                <a:moveTo>
                  <a:pt x="19744" y="3794"/>
                </a:moveTo>
                <a:lnTo>
                  <a:pt x="19744" y="17806"/>
                </a:lnTo>
                <a:lnTo>
                  <a:pt x="21406" y="17806"/>
                </a:lnTo>
                <a:lnTo>
                  <a:pt x="21406" y="3794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AutoShape 10">
            <a:hlinkClick r:id="" action="ppaction://hlinkshowjump?jump=previousslide"/>
          </p:cNvPr>
          <p:cNvSpPr/>
          <p:nvPr/>
        </p:nvSpPr>
        <p:spPr>
          <a:xfrm>
            <a:off x="8077320" y="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10800"/>
                </a:moveTo>
                <a:lnTo>
                  <a:pt x="21390" y="3794"/>
                </a:lnTo>
                <a:lnTo>
                  <a:pt x="21390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5" name="Group 11"/>
          <p:cNvGrpSpPr/>
          <p:nvPr/>
        </p:nvGrpSpPr>
        <p:grpSpPr>
          <a:xfrm>
            <a:off x="3733920" y="0"/>
            <a:ext cx="2133360" cy="246240"/>
            <a:chOff x="3733920" y="0"/>
            <a:chExt cx="2133360" cy="246240"/>
          </a:xfrm>
        </p:grpSpPr>
        <p:sp>
          <p:nvSpPr>
            <p:cNvPr id="206" name="Text Box 12"/>
            <p:cNvSpPr/>
            <p:nvPr/>
          </p:nvSpPr>
          <p:spPr>
            <a:xfrm>
              <a:off x="3886200" y="0"/>
              <a:ext cx="1905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Transformation and Viewin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Rectangle 13"/>
            <p:cNvSpPr/>
            <p:nvPr/>
          </p:nvSpPr>
          <p:spPr>
            <a:xfrm>
              <a:off x="3733920" y="76320"/>
              <a:ext cx="75960" cy="75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Rectangle 14"/>
            <p:cNvSpPr/>
            <p:nvPr/>
          </p:nvSpPr>
          <p:spPr>
            <a:xfrm>
              <a:off x="5791320" y="76320"/>
              <a:ext cx="75960" cy="75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9" name="Text Box 15"/>
          <p:cNvSpPr/>
          <p:nvPr/>
        </p:nvSpPr>
        <p:spPr>
          <a:xfrm>
            <a:off x="8458200" y="6613560"/>
            <a:ext cx="380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SimSun"/>
              </a:rPr>
              <a:t>.</a:t>
            </a:r>
            <a:fld id="{ABD4F5EA-B4C9-4F43-9B1F-F68E0B9B62CB}" type="slidenum">
              <a:rPr b="1" lang="en-US" sz="10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SimSu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Rectangle 33"/>
          <p:cNvSpPr/>
          <p:nvPr/>
        </p:nvSpPr>
        <p:spPr>
          <a:xfrm>
            <a:off x="530640" y="468360"/>
            <a:ext cx="64000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  <a:ea typeface="SimSun"/>
              </a:rPr>
              <a:t>My Implementation with Push&amp;PopMatrix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 Box 60"/>
          <p:cNvSpPr/>
          <p:nvPr/>
        </p:nvSpPr>
        <p:spPr>
          <a:xfrm>
            <a:off x="1023840" y="977760"/>
            <a:ext cx="707256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Float matrix[DEPTH][4][4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myPushMatrix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myScalef(4,4,4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transDrawSphere(); //su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myPopMatrix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myLoadIdentity(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myRotatef(e,0,1,0); myTranslatef(E, 0, 0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myPushMatrix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myScalef(2,2,2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transDrawSphere(); //ear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myPopMatrix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myRotatef(m,0,1,0); myTranslatef(M, 0, 0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transDrawSphere(); //mo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500"/>
                            </p:stCondLst>
                            <p:childTnLst>
                              <p:par>
                                <p:cTn id="23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Copyright @ 2002 by Jim X. Chen:    jchen@cs.gmu.ed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Rectangle 2"/>
          <p:cNvSpPr/>
          <p:nvPr/>
        </p:nvSpPr>
        <p:spPr>
          <a:xfrm>
            <a:off x="228600" y="304920"/>
            <a:ext cx="8686800" cy="6172200"/>
          </a:xfrm>
          <a:prstGeom prst="rect">
            <a:avLst/>
          </a:prstGeom>
          <a:noFill/>
          <a:ln w="9360">
            <a:solidFill>
              <a:srgbClr val="ff9933"/>
            </a:solidFill>
            <a:miter/>
          </a:ln>
          <a:effectLst>
            <a:outerShdw dist="17819" dir="2700000" blurRad="0" rotWithShape="0">
              <a:srgbClr val="995c1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4" name="Group 3"/>
          <p:cNvGrpSpPr/>
          <p:nvPr/>
        </p:nvGrpSpPr>
        <p:grpSpPr>
          <a:xfrm>
            <a:off x="3886200" y="6477120"/>
            <a:ext cx="1523880" cy="231120"/>
            <a:chOff x="3886200" y="6477120"/>
            <a:chExt cx="1523880" cy="231120"/>
          </a:xfrm>
        </p:grpSpPr>
        <p:sp>
          <p:nvSpPr>
            <p:cNvPr id="215" name="Text Box 4"/>
            <p:cNvSpPr/>
            <p:nvPr/>
          </p:nvSpPr>
          <p:spPr>
            <a:xfrm>
              <a:off x="3962520" y="6477120"/>
              <a:ext cx="1371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                                       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Rectangle 5"/>
            <p:cNvSpPr/>
            <p:nvPr/>
          </p:nvSpPr>
          <p:spPr>
            <a:xfrm>
              <a:off x="3886200" y="6553080"/>
              <a:ext cx="76320" cy="76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Rectangle 6"/>
            <p:cNvSpPr/>
            <p:nvPr/>
          </p:nvSpPr>
          <p:spPr>
            <a:xfrm>
              <a:off x="5334120" y="6553080"/>
              <a:ext cx="75960" cy="76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AutoShape 7">
            <a:hlinkClick r:id="" action="ppaction://hlinkshowjump?jump=firstslide"/>
          </p:cNvPr>
          <p:cNvSpPr/>
          <p:nvPr/>
        </p:nvSpPr>
        <p:spPr>
          <a:xfrm>
            <a:off x="769608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0901" y="10800"/>
                </a:moveTo>
                <a:lnTo>
                  <a:pt x="21406" y="3794"/>
                </a:lnTo>
                <a:lnTo>
                  <a:pt x="21406" y="17806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9056" y="3794"/>
                </a:lnTo>
                <a:lnTo>
                  <a:pt x="9056" y="17806"/>
                </a:lnTo>
                <a:lnTo>
                  <a:pt x="7394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AutoShape 8">
            <a:hlinkClick r:id="" action="ppaction://hlinkshowjump?jump=nextslide"/>
          </p:cNvPr>
          <p:cNvSpPr/>
          <p:nvPr/>
        </p:nvSpPr>
        <p:spPr>
          <a:xfrm>
            <a:off x="845820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AutoShape 9">
            <a:hlinkClick r:id="" action="ppaction://hlinkshowjump?jump=lastslide"/>
          </p:cNvPr>
          <p:cNvSpPr/>
          <p:nvPr/>
        </p:nvSpPr>
        <p:spPr>
          <a:xfrm>
            <a:off x="883908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7899" y="10800"/>
                </a:moveTo>
                <a:lnTo>
                  <a:pt x="7394" y="17806"/>
                </a:lnTo>
                <a:lnTo>
                  <a:pt x="7394" y="3794"/>
                </a:lnTo>
                <a:close/>
              </a:path>
              <a:path fill="darken" w="28800" h="21600">
                <a:moveTo>
                  <a:pt x="19744" y="3794"/>
                </a:moveTo>
                <a:lnTo>
                  <a:pt x="19744" y="17806"/>
                </a:lnTo>
                <a:lnTo>
                  <a:pt x="21406" y="17806"/>
                </a:lnTo>
                <a:lnTo>
                  <a:pt x="21406" y="3794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AutoShape 10">
            <a:hlinkClick r:id="" action="ppaction://hlinkshowjump?jump=previousslide"/>
          </p:cNvPr>
          <p:cNvSpPr/>
          <p:nvPr/>
        </p:nvSpPr>
        <p:spPr>
          <a:xfrm>
            <a:off x="8077320" y="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10800"/>
                </a:moveTo>
                <a:lnTo>
                  <a:pt x="21390" y="3794"/>
                </a:lnTo>
                <a:lnTo>
                  <a:pt x="21390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2" name="Group 11"/>
          <p:cNvGrpSpPr/>
          <p:nvPr/>
        </p:nvGrpSpPr>
        <p:grpSpPr>
          <a:xfrm>
            <a:off x="3733920" y="0"/>
            <a:ext cx="2133360" cy="246240"/>
            <a:chOff x="3733920" y="0"/>
            <a:chExt cx="2133360" cy="246240"/>
          </a:xfrm>
        </p:grpSpPr>
        <p:sp>
          <p:nvSpPr>
            <p:cNvPr id="223" name="Text Box 12"/>
            <p:cNvSpPr/>
            <p:nvPr/>
          </p:nvSpPr>
          <p:spPr>
            <a:xfrm>
              <a:off x="3886200" y="0"/>
              <a:ext cx="1905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Transformation and Viewin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Rectangle 13"/>
            <p:cNvSpPr/>
            <p:nvPr/>
          </p:nvSpPr>
          <p:spPr>
            <a:xfrm>
              <a:off x="3733920" y="76320"/>
              <a:ext cx="75960" cy="75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Rectangle 14"/>
            <p:cNvSpPr/>
            <p:nvPr/>
          </p:nvSpPr>
          <p:spPr>
            <a:xfrm>
              <a:off x="5791320" y="76320"/>
              <a:ext cx="75960" cy="75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Text Box 15"/>
          <p:cNvSpPr/>
          <p:nvPr/>
        </p:nvSpPr>
        <p:spPr>
          <a:xfrm>
            <a:off x="8458200" y="6613560"/>
            <a:ext cx="380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SimSun"/>
              </a:rPr>
              <a:t>.</a:t>
            </a:r>
            <a:fld id="{38ECA7F2-0FF3-404E-A218-791F2C4C89F3}" type="slidenum">
              <a:rPr b="1" lang="en-US" sz="10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SimSu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Rectangle 16"/>
          <p:cNvSpPr/>
          <p:nvPr/>
        </p:nvSpPr>
        <p:spPr>
          <a:xfrm>
            <a:off x="418320" y="439560"/>
            <a:ext cx="42937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  <a:ea typeface="SimSun"/>
              </a:rPr>
              <a:t>An OpenGL Implement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 Box 18"/>
          <p:cNvSpPr/>
          <p:nvPr/>
        </p:nvSpPr>
        <p:spPr>
          <a:xfrm>
            <a:off x="909720" y="949320"/>
            <a:ext cx="76374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glMatrixMode (GL_MODELVIEW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…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glLoadIdentity 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glPushMatrix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glScalef(4,4,4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phere(); //sun,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  <a:ea typeface="SimSun"/>
              </a:rPr>
              <a:t>matrix multi. automatic in Open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glPopMatrix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glRotatef(e,0,1,0); glTranslatef(E, 0, 0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glPushMatrix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glScalef(2,2,2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phere(); // earth,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SimSun"/>
              </a:rPr>
              <a:t>transformation impli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glPopMatrix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glRotatef(m,0,1,0); glTranslatef(M, 0, 0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phere(); //moon, </a:t>
            </a:r>
            <a:r>
              <a:rPr b="0" lang="en-US" sz="2400" spc="-1" strike="noStrike">
                <a:solidFill>
                  <a:srgbClr val="ff9933"/>
                </a:solidFill>
                <a:latin typeface="Times New Roman"/>
                <a:ea typeface="SimSun"/>
              </a:rPr>
              <a:t>again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500"/>
                            </p:stCondLst>
                            <p:childTnLst>
                              <p:par>
                                <p:cTn id="25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1000"/>
                            </p:stCondLst>
                            <p:childTnLst>
                              <p:par>
                                <p:cTn id="26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5T07:43:01Z</dcterms:created>
  <dc:creator>Jim X. Chen</dc:creator>
  <dc:description/>
  <dc:language>en-US</dc:language>
  <cp:lastModifiedBy>jchen</cp:lastModifiedBy>
  <dcterms:modified xsi:type="dcterms:W3CDTF">2008-09-24T20:45:31Z</dcterms:modified>
  <cp:revision>226</cp:revision>
  <dc:subject/>
  <dc:title>Computer Graphics</dc:title>
</cp:coreProperties>
</file>