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1.wmf" ContentType="image/x-wmf"/>
  <Override PartName="/ppt/media/image2.png" ContentType="image/png"/>
  <Override PartName="/ppt/media/CHIMES.WAV" ContentType="audio/x-wav"/>
  <Override PartName="/ppt/media/image6.wmf" ContentType="image/x-wmf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A34-E478-48CF-B4D9-07FB0742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DEE-41D3-4900-96D7-5020E65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9FB-6EBD-431D-AC76-D795C632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F84-AF57-422D-B0AC-7796AB5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548-663B-4D2F-AD36-5CCB6164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4B4-751A-4F83-9C99-9A2C2B24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5C3-96E0-48F5-90DF-8C1EC41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50B-97E2-446D-A37A-9C32250D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9A6-447C-41DF-8E4E-B39D7C2B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DBC-AF04-44B7-B631-6B13D88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B28-403C-4D92-BB66-B97E46E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CD7-D28A-4750-82B3-B28690A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9A8-0D5E-46B7-A256-F4ECF36D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8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9EB162F-44BC-462D-AC39-0FD2484F7E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93"/>
          <p:cNvSpPr txBox="1"/>
          <p:nvPr/>
        </p:nvSpPr>
        <p:spPr>
          <a:xfrm>
            <a:off x="677880" y="698400"/>
            <a:ext cx="7689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IMITIVES &amp; 3D MODELS IN OPENGL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drawing primitives 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polygon face and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GL hidden-surfac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ucting 3D models in Open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8381880" y="5867280"/>
            <a:ext cx="761760" cy="762120"/>
            <a:chOff x="8381880" y="5867280"/>
            <a:chExt cx="761760" cy="762120"/>
          </a:xfrm>
        </p:grpSpPr>
        <p:sp>
          <p:nvSpPr>
            <p:cNvPr id="255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761760" cy="380880"/>
            </a:xfrm>
            <a:custGeom>
              <a:avLst/>
              <a:gdLst>
                <a:gd name="textAreaLeft" fmla="*/ 24480 w 761760"/>
                <a:gd name="textAreaRight" fmla="*/ 737280 w 76176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43180" h="21600">
                  <a:moveTo>
                    <a:pt x="0" y="0"/>
                  </a:moveTo>
                  <a:lnTo>
                    <a:pt x="43180" y="0"/>
                  </a:lnTo>
                  <a:lnTo>
                    <a:pt x="43180" y="21600"/>
                  </a:lnTo>
                  <a:lnTo>
                    <a:pt x="0" y="21600"/>
                  </a:lnTo>
                  <a:close/>
                </a:path>
                <a:path fill="lightenLess" w="43180" h="21600">
                  <a:moveTo>
                    <a:pt x="0" y="0"/>
                  </a:moveTo>
                  <a:lnTo>
                    <a:pt x="43180" y="0"/>
                  </a:lnTo>
                  <a:lnTo>
                    <a:pt x="41780" y="1400"/>
                  </a:lnTo>
                  <a:lnTo>
                    <a:pt x="1400" y="1400"/>
                  </a:lnTo>
                  <a:close/>
                </a:path>
                <a:path fill="darken" w="43180" h="21600">
                  <a:moveTo>
                    <a:pt x="43180" y="0"/>
                  </a:moveTo>
                  <a:lnTo>
                    <a:pt x="43180" y="21600"/>
                  </a:lnTo>
                  <a:lnTo>
                    <a:pt x="41780" y="20200"/>
                  </a:lnTo>
                  <a:lnTo>
                    <a:pt x="41780" y="1400"/>
                  </a:lnTo>
                  <a:close/>
                </a:path>
                <a:path fill="darkenLess" w="43180" h="21600">
                  <a:moveTo>
                    <a:pt x="431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80" y="20200"/>
                  </a:lnTo>
                  <a:close/>
                </a:path>
                <a:path fill="lighten" w="431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80" h="21600">
                  <a:moveTo>
                    <a:pt x="14583" y="3794"/>
                  </a:moveTo>
                  <a:lnTo>
                    <a:pt x="28596" y="10800"/>
                  </a:lnTo>
                  <a:lnTo>
                    <a:pt x="14583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4"/>
            <p:cNvSpPr/>
            <p:nvPr/>
          </p:nvSpPr>
          <p:spPr>
            <a:xfrm>
              <a:off x="8490600" y="5867280"/>
              <a:ext cx="5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05BE51A-B918-4251-86B9-299F729BDCE6}" type="slidenum"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AutoShape 5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528480" y="457200"/>
            <a:ext cx="46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Z-BUFFER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155600" y="963720"/>
            <a:ext cx="772164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pixelDep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epth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frame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ach polyg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each pixel (x,y) in the polygon scan-conversio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GL_DEPTH_TEST enabled)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z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able(GL_DEPTH_TES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draw_frameBuffer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z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xelDepth = polygon’s z-value at pixel 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ixelDepth &lt; read_depthBuffer(x,y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depthBuffer(x, y, pixelDep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frameBuffer(x,y); // gl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2"/>
          <p:cNvSpPr/>
          <p:nvPr/>
        </p:nvSpPr>
        <p:spPr>
          <a:xfrm flipH="1">
            <a:off x="5297400" y="1000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33"/>
          <p:cNvSpPr/>
          <p:nvPr/>
        </p:nvSpPr>
        <p:spPr>
          <a:xfrm flipH="1" flipV="1">
            <a:off x="6095880" y="46332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5003280" y="71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750000" y="666720"/>
            <a:ext cx="44928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7416720" y="565200"/>
            <a:ext cx="189000" cy="28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8070840" y="1189080"/>
            <a:ext cx="217440" cy="26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8"/>
          <p:cNvSpPr/>
          <p:nvPr/>
        </p:nvSpPr>
        <p:spPr>
          <a:xfrm>
            <a:off x="7808760" y="826920"/>
            <a:ext cx="20340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9"/>
          <p:cNvSpPr/>
          <p:nvPr/>
        </p:nvSpPr>
        <p:spPr>
          <a:xfrm>
            <a:off x="5965920" y="855720"/>
            <a:ext cx="27612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6154560" y="928800"/>
            <a:ext cx="889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1"/>
          <p:cNvSpPr/>
          <p:nvPr/>
        </p:nvSpPr>
        <p:spPr>
          <a:xfrm>
            <a:off x="5951520" y="78264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42"/>
          <p:cNvSpPr/>
          <p:nvPr/>
        </p:nvSpPr>
        <p:spPr>
          <a:xfrm flipH="1">
            <a:off x="6213600" y="739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3"/>
          <p:cNvSpPr/>
          <p:nvPr/>
        </p:nvSpPr>
        <p:spPr>
          <a:xfrm>
            <a:off x="6024600" y="71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4"/>
          <p:cNvSpPr/>
          <p:nvPr/>
        </p:nvSpPr>
        <p:spPr>
          <a:xfrm>
            <a:off x="6561000" y="246240"/>
            <a:ext cx="2087640" cy="146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7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8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D0825DB-5FDC-4908-841A-FBEB8846A1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1360440" y="2332080"/>
            <a:ext cx="7407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PolygonMode(GLenum face, Glenum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fa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an be GL_FRONT_AND_BAC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FRONT, or GL_BACK; mode can be GL_POI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_LINE, or GL_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1355760" y="4332240"/>
            <a:ext cx="6956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oid glCullFace(GLenum mode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ates which polygons should be discarded. The </a:t>
            </a: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ither GL_FRONT, GL_BACK, or GL_FRONT_AND_B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ake effect, use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glEnable(GL_CULL_FAC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736560" y="695160"/>
            <a:ext cx="652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aces of a Polygon and Back-face C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1353960" y="1293840"/>
            <a:ext cx="740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 face polygon has counterclockwise vertices, with normal facing viewer. In OpenGL, this can be 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9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0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F7497C0-D3B5-4E37-B503-AB5B0791AB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618120" y="93348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IRCLE, CONE, CYLINDER, SPHERE, AND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3710160" y="239400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797280" y="500544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3762360" y="401148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3710160" y="313380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1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2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53909B5-BBEE-409F-A023-92998A263B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1314360" y="8841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23" descr=""/>
          <p:cNvPicPr/>
          <p:nvPr/>
        </p:nvPicPr>
        <p:blipFill>
          <a:blip r:embed="rId1"/>
          <a:stretch/>
        </p:blipFill>
        <p:spPr>
          <a:xfrm>
            <a:off x="3656160" y="349200"/>
            <a:ext cx="3703320" cy="2524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4"/>
          <p:cNvSpPr/>
          <p:nvPr/>
        </p:nvSpPr>
        <p:spPr>
          <a:xfrm>
            <a:off x="398520" y="2922480"/>
            <a:ext cx="83502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4 triangl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h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triangle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bdiv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wo and we draw 8 tri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vectors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direction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 + v2)=(v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=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ormaliz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1 + v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rmalizing a vector is equivalent to scaling the vector to a uni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ly subdivides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and draw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25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36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4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EC785691-F0F6-4E21-B10E-80CBD65C4D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98520" y="2195640"/>
            <a:ext cx="83502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 the center of the circle along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make sure the cone is within the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rtho(-Width/2, Width/2, -Height/2, Height/2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-Width/2, Width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9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865080" y="114444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54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6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1AE7FE7-A18F-46E0-AFD0-BF43F81B9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6"/>
          <p:cNvSpPr/>
          <p:nvPr/>
        </p:nvSpPr>
        <p:spPr>
          <a:xfrm>
            <a:off x="398520" y="1716120"/>
            <a:ext cx="835020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raw another circle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nnect the rectangles of the same vertices on the edges of the two circles, we have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make sure the cone is within the view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rtho(-Width/2, Width/2, -Height/2, Height/2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-Width/2, Width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860400" y="80496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7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8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A30F2D0-9B3C-48C0-AB03-813AA89043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398520" y="1716120"/>
            <a:ext cx="83502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equilateral triangl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 a sphere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=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=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rmaliz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also on the sphere. We can further subdivide the triangle into four equilateral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1155600" y="868320"/>
            <a:ext cx="160020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0" descr=""/>
          <p:cNvPicPr/>
          <p:nvPr/>
        </p:nvPicPr>
        <p:blipFill>
          <a:blip r:embed="rId1"/>
          <a:stretch/>
        </p:blipFill>
        <p:spPr>
          <a:xfrm>
            <a:off x="1476360" y="3436920"/>
            <a:ext cx="5013360" cy="27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391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9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09E6280-E1EE-4CCF-93AD-F95ADDE67B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7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680" y="4064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re Hidden-surface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6820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point at the origin and the models are in the negative z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 the models in the order of their distances to the view point al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is from the farthest to the clos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up a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ounding volume) with the faces perpendicular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xis to bound a 3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the minimum and maximum bounds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ion between boxes to decide which model should be rendered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bounding volumes to decide priority of rendering is also known as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minmax te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3"/>
          <p:cNvSpPr/>
          <p:nvPr/>
        </p:nvSpPr>
        <p:spPr>
          <a:xfrm flipH="1">
            <a:off x="1972800" y="5630760"/>
            <a:ext cx="472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4"/>
          <p:cNvSpPr/>
          <p:nvPr/>
        </p:nvSpPr>
        <p:spPr>
          <a:xfrm flipH="1" flipV="1">
            <a:off x="2771640" y="509400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1679040" y="5349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425760" y="5297400"/>
            <a:ext cx="44928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4092480" y="5195880"/>
            <a:ext cx="189000" cy="2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4746600" y="5819760"/>
            <a:ext cx="217440" cy="26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9"/>
          <p:cNvSpPr/>
          <p:nvPr/>
        </p:nvSpPr>
        <p:spPr>
          <a:xfrm>
            <a:off x="4484520" y="5457960"/>
            <a:ext cx="20340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2641680" y="5486400"/>
            <a:ext cx="276120" cy="24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2830680" y="5559480"/>
            <a:ext cx="8856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2"/>
          <p:cNvSpPr/>
          <p:nvPr/>
        </p:nvSpPr>
        <p:spPr>
          <a:xfrm>
            <a:off x="2627280" y="541332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33"/>
          <p:cNvSpPr/>
          <p:nvPr/>
        </p:nvSpPr>
        <p:spPr>
          <a:xfrm flipH="1">
            <a:off x="2889360" y="537048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4"/>
          <p:cNvSpPr/>
          <p:nvPr/>
        </p:nvSpPr>
        <p:spPr>
          <a:xfrm>
            <a:off x="2700360" y="53420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421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42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1FB0A3B-FBBD-4402-B2CE-D49FAE3651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7"/>
          <p:cNvSpPr/>
          <p:nvPr/>
        </p:nvSpPr>
        <p:spPr>
          <a:xfrm>
            <a:off x="457200" y="690480"/>
            <a:ext cx="8085240" cy="51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void two models in an animation penetrating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their bounding volumes to decide their physical distances and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ounding 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in a different shape other than a box, such as a 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y use multip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h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different radii to more accurately bound a model, but the collision detection would be more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9"/>
          <p:cNvSpPr/>
          <p:nvPr/>
        </p:nvSpPr>
        <p:spPr>
          <a:xfrm flipH="1">
            <a:off x="5297400" y="1000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0"/>
          <p:cNvSpPr/>
          <p:nvPr/>
        </p:nvSpPr>
        <p:spPr>
          <a:xfrm flipH="1" flipV="1">
            <a:off x="6095880" y="463320"/>
            <a:ext cx="14400" cy="95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5003280" y="71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26"/>
          <p:cNvSpPr/>
          <p:nvPr/>
        </p:nvSpPr>
        <p:spPr>
          <a:xfrm>
            <a:off x="5965920" y="855720"/>
            <a:ext cx="27612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27"/>
          <p:cNvSpPr/>
          <p:nvPr/>
        </p:nvSpPr>
        <p:spPr>
          <a:xfrm>
            <a:off x="6154560" y="928800"/>
            <a:ext cx="889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28"/>
          <p:cNvSpPr/>
          <p:nvPr/>
        </p:nvSpPr>
        <p:spPr>
          <a:xfrm>
            <a:off x="5951520" y="782640"/>
            <a:ext cx="42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29"/>
          <p:cNvSpPr/>
          <p:nvPr/>
        </p:nvSpPr>
        <p:spPr>
          <a:xfrm flipH="1">
            <a:off x="6213600" y="739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0"/>
          <p:cNvSpPr/>
          <p:nvPr/>
        </p:nvSpPr>
        <p:spPr>
          <a:xfrm>
            <a:off x="6024600" y="7113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734160" y="770040"/>
            <a:ext cx="450720" cy="44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7097760" y="623880"/>
            <a:ext cx="2905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7577280" y="711360"/>
            <a:ext cx="420480" cy="44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7823160" y="1046160"/>
            <a:ext cx="247680" cy="274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36"/>
          <p:cNvSpPr/>
          <p:nvPr/>
        </p:nvSpPr>
        <p:spPr>
          <a:xfrm>
            <a:off x="8026560" y="449280"/>
            <a:ext cx="261720" cy="276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6: Op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one, a cylinder, and a sphere that bounce back and forth in a circle. When the models meet, they change their directions of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in double buffer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hidden surface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8">
            <a:hlinkClick r:id="" action="ppaction://hlinkshowjump?jump=previousslide"/>
          </p:cNvPr>
          <p:cNvSpPr/>
          <p:nvPr/>
        </p:nvSpPr>
        <p:spPr>
          <a:xfrm>
            <a:off x="8136000" y="58705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7493"/>
                </a:moveTo>
                <a:lnTo>
                  <a:pt x="11184" y="7493"/>
                </a:lnTo>
                <a:lnTo>
                  <a:pt x="11184" y="12828"/>
                </a:lnTo>
                <a:cubicBezTo>
                  <a:pt x="11184" y="13751"/>
                  <a:pt x="11985" y="14482"/>
                  <a:pt x="13020" y="14482"/>
                </a:cubicBezTo>
                <a:lnTo>
                  <a:pt x="14683" y="14482"/>
                </a:lnTo>
                <a:cubicBezTo>
                  <a:pt x="15719" y="14482"/>
                  <a:pt x="16519" y="13751"/>
                  <a:pt x="16519" y="12828"/>
                </a:cubicBezTo>
                <a:lnTo>
                  <a:pt x="16519" y="7493"/>
                </a:lnTo>
                <a:lnTo>
                  <a:pt x="14683" y="7493"/>
                </a:lnTo>
                <a:lnTo>
                  <a:pt x="18190" y="3985"/>
                </a:lnTo>
                <a:lnTo>
                  <a:pt x="21863" y="7493"/>
                </a:lnTo>
                <a:lnTo>
                  <a:pt x="20027" y="7493"/>
                </a:lnTo>
                <a:lnTo>
                  <a:pt x="20027" y="12828"/>
                </a:lnTo>
                <a:cubicBezTo>
                  <a:pt x="20027" y="15596"/>
                  <a:pt x="17451" y="18155"/>
                  <a:pt x="14683" y="18155"/>
                </a:cubicBezTo>
                <a:lnTo>
                  <a:pt x="13020" y="18155"/>
                </a:lnTo>
                <a:cubicBezTo>
                  <a:pt x="10253" y="18155"/>
                  <a:pt x="7676" y="15596"/>
                  <a:pt x="767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1"/>
          <p:cNvGrpSpPr/>
          <p:nvPr/>
        </p:nvGrpSpPr>
        <p:grpSpPr>
          <a:xfrm>
            <a:off x="3205080" y="3571920"/>
            <a:ext cx="2557080" cy="2515680"/>
            <a:chOff x="3205080" y="3571920"/>
            <a:chExt cx="2557080" cy="2515680"/>
          </a:xfrm>
        </p:grpSpPr>
        <p:sp>
          <p:nvSpPr>
            <p:cNvPr id="452" name="AutoShape 10"/>
            <p:cNvSpPr/>
            <p:nvPr/>
          </p:nvSpPr>
          <p:spPr>
            <a:xfrm>
              <a:off x="5240880" y="5411160"/>
              <a:ext cx="331200" cy="360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4449240" y="3650760"/>
              <a:ext cx="378720" cy="371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utoShape 12"/>
            <p:cNvSpPr/>
            <p:nvPr/>
          </p:nvSpPr>
          <p:spPr>
            <a:xfrm>
              <a:off x="3360240" y="3966840"/>
              <a:ext cx="306360" cy="428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 flipV="1">
              <a:off x="3264120" y="3831120"/>
              <a:ext cx="31968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4519080" y="3571920"/>
              <a:ext cx="40068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 flipV="1">
              <a:off x="5679360" y="5342400"/>
              <a:ext cx="8280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7"/>
            <p:cNvSpPr/>
            <p:nvPr/>
          </p:nvSpPr>
          <p:spPr>
            <a:xfrm>
              <a:off x="3205080" y="3779280"/>
              <a:ext cx="2405880" cy="2308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AutoShape 18"/>
            <p:cNvSpPr/>
            <p:nvPr/>
          </p:nvSpPr>
          <p:spPr>
            <a:xfrm>
              <a:off x="3264120" y="3776760"/>
              <a:ext cx="2258640" cy="20901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cc"/>
                  </a:solidFill>
                  <a:latin typeface="Times New Roman"/>
                </a:rPr>
                <a:t>Clippin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en-US" sz="900" spc="-1" strike="noStrike">
                  <a:solidFill>
                    <a:srgbClr val="a50021"/>
                  </a:solidFill>
                  <a:latin typeface="Times New Roman"/>
                </a:rPr>
                <a:t>Jim Ch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58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66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0476EF8-EC85-4563-8F01-68860FB207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811080" y="1090440"/>
            <a:ext cx="538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PENGL DRAWING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0"/>
          <p:cNvGrpSpPr/>
          <p:nvPr/>
        </p:nvGrpSpPr>
        <p:grpSpPr>
          <a:xfrm>
            <a:off x="788760" y="1992240"/>
            <a:ext cx="3292560" cy="2049480"/>
            <a:chOff x="788760" y="1992240"/>
            <a:chExt cx="3292560" cy="2049480"/>
          </a:xfrm>
        </p:grpSpPr>
        <p:sp>
          <p:nvSpPr>
            <p:cNvPr id="73" name="Rectangle 32"/>
            <p:cNvSpPr/>
            <p:nvPr/>
          </p:nvSpPr>
          <p:spPr>
            <a:xfrm>
              <a:off x="1375920" y="1992240"/>
              <a:ext cx="26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Begin(GL_POLYGO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"/>
            <p:cNvSpPr/>
            <p:nvPr/>
          </p:nvSpPr>
          <p:spPr>
            <a:xfrm>
              <a:off x="788760" y="235296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4"/>
            <p:cNvSpPr/>
            <p:nvPr/>
          </p:nvSpPr>
          <p:spPr>
            <a:xfrm>
              <a:off x="788760" y="264852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0.0, 3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788760" y="294408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3.0, 3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6"/>
            <p:cNvSpPr/>
            <p:nvPr/>
          </p:nvSpPr>
          <p:spPr>
            <a:xfrm>
              <a:off x="788760" y="324180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4.0, 1.5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7"/>
            <p:cNvSpPr/>
            <p:nvPr/>
          </p:nvSpPr>
          <p:spPr>
            <a:xfrm>
              <a:off x="788760" y="3538800"/>
              <a:ext cx="32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lVertex2f(3.0, 0.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1377000" y="3767040"/>
              <a:ext cx="86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End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42"/>
          <p:cNvSpPr/>
          <p:nvPr/>
        </p:nvSpPr>
        <p:spPr>
          <a:xfrm>
            <a:off x="1175400" y="4357800"/>
            <a:ext cx="463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GL polygons must be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on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84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9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9C68736-B988-471D-A501-936123F501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981360" y="1036800"/>
            <a:ext cx="326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d glBegin(GLenum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1021680" y="1436760"/>
            <a:ext cx="81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3"/>
          <p:cNvSpPr/>
          <p:nvPr/>
        </p:nvSpPr>
        <p:spPr>
          <a:xfrm>
            <a:off x="1206720" y="1906560"/>
            <a:ext cx="29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POI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ndividua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4"/>
          <p:cNvSpPr/>
          <p:nvPr/>
        </p:nvSpPr>
        <p:spPr>
          <a:xfrm>
            <a:off x="1194480" y="2211480"/>
            <a:ext cx="664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pairs of vertices interpreted as individual line seg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1211400" y="2611440"/>
            <a:ext cx="53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POLYG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boundary of a simple,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onve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ly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1193400" y="2975040"/>
            <a:ext cx="58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riples of vertices interpreted as triang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9"/>
          <p:cNvSpPr/>
          <p:nvPr/>
        </p:nvSpPr>
        <p:spPr>
          <a:xfrm>
            <a:off x="1175040" y="3375000"/>
            <a:ext cx="69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QUA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quadruples of vertices interpreted as four-sided polyg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1227600" y="3699000"/>
            <a:ext cx="51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eries of connected line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1213920" y="3984480"/>
            <a:ext cx="6428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LINE_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ame as above, with a segment added betw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 and  first vert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4"/>
          <p:cNvSpPr/>
          <p:nvPr/>
        </p:nvSpPr>
        <p:spPr>
          <a:xfrm>
            <a:off x="1170720" y="4556160"/>
            <a:ext cx="466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linked strip of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5"/>
          <p:cNvSpPr/>
          <p:nvPr/>
        </p:nvSpPr>
        <p:spPr>
          <a:xfrm>
            <a:off x="1151280" y="4900680"/>
            <a:ext cx="43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TRIANGLE_F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linked fan of tri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6"/>
          <p:cNvSpPr/>
          <p:nvPr/>
        </p:nvSpPr>
        <p:spPr>
          <a:xfrm>
            <a:off x="1162080" y="5205240"/>
            <a:ext cx="544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L_QUAD_STR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linked strip of quadrilater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12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2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6F6ACF9-7927-44D9-8D70-90DB5FB00F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630720" y="855720"/>
            <a:ext cx="442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ints and Lin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1127520" y="1444680"/>
            <a:ext cx="5817600" cy="1906920"/>
            <a:chOff x="1127520" y="1444680"/>
            <a:chExt cx="5817600" cy="1906920"/>
          </a:xfrm>
        </p:grpSpPr>
        <p:sp>
          <p:nvSpPr>
            <p:cNvPr id="127" name="Rectangle 20"/>
            <p:cNvSpPr/>
            <p:nvPr/>
          </p:nvSpPr>
          <p:spPr>
            <a:xfrm>
              <a:off x="1133280" y="1444680"/>
              <a:ext cx="35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PointSize(GLfloat size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1133280" y="1878120"/>
              <a:ext cx="387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Width(GLfloat width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1135080" y="2309760"/>
              <a:ext cx="298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LineStipple(1, 0x3F07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1824840" y="2614680"/>
              <a:ext cx="352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lEnable(GL_LINE_STIPPLE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1127520" y="3046320"/>
              <a:ext cx="58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d glLineStipple(GLint factor, Glushort pattern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7"/>
          <p:cNvSpPr/>
          <p:nvPr/>
        </p:nvSpPr>
        <p:spPr>
          <a:xfrm>
            <a:off x="2305080" y="4019400"/>
            <a:ext cx="206388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ipple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4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FF4B8968-8D41-4E6E-8C29-34ED67959F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702720" y="631800"/>
            <a:ext cx="4296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SPECIFYING A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1141920" y="1630440"/>
            <a:ext cx="24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1142640" y="187308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1142640" y="211464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1136880" y="2357280"/>
            <a:ext cx="378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1156680" y="263844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object(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1134720" y="3463920"/>
            <a:ext cx="494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0.0);                             bl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1134720" y="3705120"/>
            <a:ext cx="47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0.0);                            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1134720" y="3948120"/>
            <a:ext cx="498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0.0);                             gr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1133640" y="4191120"/>
            <a:ext cx="50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0.0);                             yel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133640" y="4430880"/>
            <a:ext cx="483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0.0, 1.0);                             b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1135080" y="4675320"/>
            <a:ext cx="529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0.0, 1.0);                             mag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4"/>
          <p:cNvSpPr/>
          <p:nvPr/>
        </p:nvSpPr>
        <p:spPr>
          <a:xfrm>
            <a:off x="1134720" y="4917960"/>
            <a:ext cx="488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0.0, 1.0, 1.0);                             cy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1134000" y="5159520"/>
            <a:ext cx="488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olor3f(1.0, 1.0, 1.0);                            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1143000" y="564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63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BA632AFC-D5AD-4548-9730-345B9A31DE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1024560" y="574560"/>
            <a:ext cx="411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glFlush() and glFinish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1320840" y="1220760"/>
            <a:ext cx="6597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lication main program issues graphics (drawing) command, other hardware components do transformations, lighting, and scan-conver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1344600" y="2514600"/>
            <a:ext cx="7156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lication might be running on more than one machines: the main program on the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l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 drawing on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hich is connected by a network to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putr1"/>
          <p:cNvSpPr/>
          <p:nvPr/>
        </p:nvSpPr>
        <p:spPr>
          <a:xfrm>
            <a:off x="5670720" y="416412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8"/>
          <p:cNvSpPr/>
          <p:nvPr/>
        </p:nvSpPr>
        <p:spPr>
          <a:xfrm>
            <a:off x="3556080" y="5600880"/>
            <a:ext cx="2119320" cy="217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9"/>
          <p:cNvSpPr/>
          <p:nvPr/>
        </p:nvSpPr>
        <p:spPr>
          <a:xfrm>
            <a:off x="4102920" y="5118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putr2"/>
          <p:cNvSpPr/>
          <p:nvPr/>
        </p:nvSpPr>
        <p:spPr>
          <a:xfrm>
            <a:off x="1968480" y="4194000"/>
            <a:ext cx="1809720" cy="181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1" descr=""/>
          <p:cNvPicPr/>
          <p:nvPr/>
        </p:nvPicPr>
        <p:blipFill>
          <a:blip r:embed="rId1"/>
          <a:stretch/>
        </p:blipFill>
        <p:spPr>
          <a:xfrm>
            <a:off x="326880" y="4257720"/>
            <a:ext cx="1812960" cy="149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18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9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6C292F79-3369-458A-8E60-75F0F38395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936720" y="746280"/>
            <a:ext cx="706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Flush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es the client to send the network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942840" y="1476360"/>
            <a:ext cx="7469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ands like swapping buffers in double-buffer m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flush  pending commands on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932040" y="2743200"/>
            <a:ext cx="7618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Finish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lushes the network as glFlush() does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s for notification from the graphics hardware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indicating that the drawing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1006560" y="4199040"/>
            <a:ext cx="78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Finish() can be used to guarantee executio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3886200" y="6477120"/>
            <a:ext cx="1523880" cy="368280"/>
            <a:chOff x="3886200" y="6477120"/>
            <a:chExt cx="1523880" cy="368280"/>
          </a:xfrm>
        </p:grpSpPr>
        <p:sp>
          <p:nvSpPr>
            <p:cNvPr id="207" name="Text Box 4"/>
            <p:cNvSpPr/>
            <p:nvPr/>
          </p:nvSpPr>
          <p:spPr>
            <a:xfrm>
              <a:off x="3962520" y="6477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: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rawing Geometric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1004C5F3-DE9D-4ED8-9C4F-855F5ACB1B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6">
            <a:hlinkClick r:id="" action="ppaction://hlinkshowjump?jump=nextslide"/>
          </p:cNvPr>
          <p:cNvSpPr/>
          <p:nvPr/>
        </p:nvSpPr>
        <p:spPr>
          <a:xfrm>
            <a:off x="8001000" y="57913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625680" y="379440"/>
            <a:ext cx="5540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PTH BUFFER (Z-BUFF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1127160" y="1704960"/>
            <a:ext cx="317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nable(GL_DEPTH_TES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1127520" y="196524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1112400" y="267480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1111680" y="2965320"/>
            <a:ext cx="70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(GL_COLOR_BUFFER_BIT | GL_DEPTH_BUFFER_BI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1112400" y="3262320"/>
            <a:ext cx="250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3d_object_A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1112400" y="3522600"/>
            <a:ext cx="250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_3d_object_B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1112760" y="37814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1914480" y="4602240"/>
            <a:ext cx="1916280" cy="15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4417920" y="4595760"/>
            <a:ext cx="1901880" cy="149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th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2"/>
          <p:cNvSpPr/>
          <p:nvPr/>
        </p:nvSpPr>
        <p:spPr>
          <a:xfrm>
            <a:off x="1118160" y="1297080"/>
            <a:ext cx="533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Color(0.0, 0.0, 0.0, 0.0); // RGBA, A=&gt;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:    jchen@cs.gmu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8381880" y="5867280"/>
            <a:ext cx="533520" cy="762120"/>
            <a:chOff x="8381880" y="5867280"/>
            <a:chExt cx="533520" cy="762120"/>
          </a:xfrm>
        </p:grpSpPr>
        <p:sp>
          <p:nvSpPr>
            <p:cNvPr id="233" name="AutoShape 3">
              <a:hlinkClick r:id="" action="ppaction://hlinkshowjump?jump=nextslide"/>
            </p:cNvPr>
            <p:cNvSpPr/>
            <p:nvPr/>
          </p:nvSpPr>
          <p:spPr>
            <a:xfrm>
              <a:off x="8381880" y="6248520"/>
              <a:ext cx="533520" cy="38088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30248" h="21600">
                  <a:moveTo>
                    <a:pt x="0" y="0"/>
                  </a:moveTo>
                  <a:lnTo>
                    <a:pt x="30248" y="0"/>
                  </a:lnTo>
                  <a:lnTo>
                    <a:pt x="30248" y="21600"/>
                  </a:lnTo>
                  <a:lnTo>
                    <a:pt x="0" y="21600"/>
                  </a:lnTo>
                  <a:close/>
                </a:path>
                <a:path fill="lightenLess" w="30248" h="21600">
                  <a:moveTo>
                    <a:pt x="0" y="0"/>
                  </a:moveTo>
                  <a:lnTo>
                    <a:pt x="30248" y="0"/>
                  </a:lnTo>
                  <a:lnTo>
                    <a:pt x="28848" y="1400"/>
                  </a:lnTo>
                  <a:lnTo>
                    <a:pt x="1400" y="1400"/>
                  </a:lnTo>
                  <a:close/>
                </a:path>
                <a:path fill="darken" w="30248" h="21600">
                  <a:moveTo>
                    <a:pt x="30248" y="0"/>
                  </a:moveTo>
                  <a:lnTo>
                    <a:pt x="30248" y="21600"/>
                  </a:lnTo>
                  <a:lnTo>
                    <a:pt x="28848" y="20200"/>
                  </a:lnTo>
                  <a:lnTo>
                    <a:pt x="28848" y="1400"/>
                  </a:lnTo>
                  <a:close/>
                </a:path>
                <a:path fill="darkenLess" w="30248" h="21600">
                  <a:moveTo>
                    <a:pt x="30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8" y="20200"/>
                  </a:lnTo>
                  <a:close/>
                </a:path>
                <a:path fill="lighten" w="30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8" h="21600">
                  <a:moveTo>
                    <a:pt x="8118" y="3794"/>
                  </a:moveTo>
                  <a:lnTo>
                    <a:pt x="22131" y="10800"/>
                  </a:lnTo>
                  <a:lnTo>
                    <a:pt x="8118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4"/>
            <p:cNvSpPr/>
            <p:nvPr/>
          </p:nvSpPr>
          <p:spPr>
            <a:xfrm>
              <a:off x="8458200" y="5867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00298B8-514C-4496-8151-E1EC0389D644}" type="slidenum"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AutoShape 5">
            <a:hlinkClick r:id="" action="ppaction://hlinkshowjump?jump=previousslide"/>
          </p:cNvPr>
          <p:cNvSpPr/>
          <p:nvPr/>
        </p:nvSpPr>
        <p:spPr>
          <a:xfrm>
            <a:off x="77724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064880" y="457200"/>
            <a:ext cx="262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earing the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1360440" y="1673280"/>
            <a:ext cx="69310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epth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frameBuffer(XMAX, YMAX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(GL_COLOR_BUFFER_BIT | GL_DEPTH_BUFFER_BI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y=0; y&lt;YMAX; y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x=0; x&lt;XMAX; x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frameBuffer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Clear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_depthBuffer (x,y, back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ack_Clipping_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4"/>
          <p:cNvSpPr/>
          <p:nvPr/>
        </p:nvSpPr>
        <p:spPr>
          <a:xfrm flipH="1">
            <a:off x="4954680" y="1243080"/>
            <a:ext cx="361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5"/>
          <p:cNvSpPr/>
          <p:nvPr/>
        </p:nvSpPr>
        <p:spPr>
          <a:xfrm flipH="1" flipV="1">
            <a:off x="5753160" y="242640"/>
            <a:ext cx="1440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4660560" y="96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6407280" y="909720"/>
            <a:ext cx="44928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7074000" y="808200"/>
            <a:ext cx="188640" cy="28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7728120" y="1527120"/>
            <a:ext cx="217440" cy="26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7466040" y="1069920"/>
            <a:ext cx="203040" cy="290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5622840" y="1098720"/>
            <a:ext cx="276480" cy="24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5811840" y="1171440"/>
            <a:ext cx="889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5608800" y="1025640"/>
            <a:ext cx="4284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4"/>
          <p:cNvSpPr/>
          <p:nvPr/>
        </p:nvSpPr>
        <p:spPr>
          <a:xfrm flipH="1">
            <a:off x="5870520" y="982800"/>
            <a:ext cx="115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5681520" y="95400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6218280" y="488880"/>
            <a:ext cx="1898640" cy="146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5767560" y="69228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8160120" y="484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Professor Jim X. CHEN</dc:creator>
  <dc:description/>
  <dc:language>en-US</dc:language>
  <cp:lastModifiedBy>jchen</cp:lastModifiedBy>
  <dcterms:modified xsi:type="dcterms:W3CDTF">2008-02-06T23:03:35Z</dcterms:modified>
  <cp:revision>170</cp:revision>
  <dc:subject/>
  <dc:title>Guide to 3D Graphics Tools</dc:title>
</cp:coreProperties>
</file>