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ct" ContentType="image/x-pict"/>
  <Override PartName="/ppt/media/image2.gif" ContentType="image/gif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B1EF-6CFA-4004-9DD6-B0A264B8D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63520" y="719280"/>
            <a:ext cx="4521240" cy="3390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8560" y="4316040"/>
            <a:ext cx="505152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 Grotesk Light"/>
                <a:ea typeface="Times New Roman"/>
              </a:rPr>
              <a:t>*Soft* b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B9B-BFAB-4C3B-8A8F-C8FD2855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335-B9D5-4C43-8B85-F67AC921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BA1-028A-4A53-8120-C7DB0F5E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1D7-C9BA-4D25-9318-46256BCC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5AA-6B8E-4C28-BCE1-3F83D1AA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601-CE51-4193-9189-79031B55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3E7-E881-4DFE-800F-B9688D48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4BC-012D-4188-9039-561EA7FE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2CE-CC18-459C-8AD0-3C6A1994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9F5-9B6A-4829-AE94-893616F4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2E7-4B52-402F-A85C-277D5280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621-1848-4C64-9D53-24C3239A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222C-68F8-4600-B53C-6DC46C452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uter 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chool of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airfiel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32200" y="5541840"/>
            <a:ext cx="5646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. D. Lyon, Chair,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on@DocJav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of the art programming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65360" y="1981080"/>
          <a:ext cx="4013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1981080"/>
                    <a:ext cx="4013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trical Engineering Vs Computer 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4040" y="2521080"/>
            <a:ext cx="2349720" cy="2425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79320" y="287496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292480"/>
            <a:ext cx="2127240" cy="2577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83040" y="2978280"/>
            <a:ext cx="3187800" cy="2197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9680" y="3816360"/>
            <a:ext cx="3492360" cy="749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4760" y="2063880"/>
            <a:ext cx="1434960" cy="6728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. S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8280" y="2978280"/>
            <a:ext cx="2882880" cy="37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800600"/>
            <a:ext cx="6616440" cy="673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al Arts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73360" y="5721480"/>
            <a:ext cx="3873600" cy="444240"/>
          </a:xfrm>
          <a:prstGeom prst="rightArrow">
            <a:avLst>
              <a:gd name="adj1" fmla="val 50000"/>
              <a:gd name="adj2" fmla="val 43614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5080" y="569448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83760" y="5694480"/>
            <a:ext cx="123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1828800"/>
            <a:ext cx="746784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ow do we define C.E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209680"/>
            <a:ext cx="2819160" cy="2514600"/>
          </a:xfrm>
          <a:prstGeom prst="ellipse">
            <a:avLst/>
          </a:prstGeom>
          <a:solidFill>
            <a:srgbClr val="ffff00">
              <a:alpha val="50000"/>
            </a:srgbClr>
          </a:solidFill>
          <a:ln cap="sq"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Engine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2209680"/>
            <a:ext cx="2819520" cy="2438640"/>
          </a:xfrm>
          <a:prstGeom prst="ellipse">
            <a:avLst/>
          </a:prstGeom>
          <a:solidFill>
            <a:srgbClr val="ffffff">
              <a:alpha val="50000"/>
            </a:srgbClr>
          </a:solidFill>
          <a:ln cap="sq"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3886200"/>
            <a:ext cx="2819520" cy="2362320"/>
          </a:xfrm>
          <a:prstGeom prst="ellipse">
            <a:avLst/>
          </a:prstGeom>
          <a:solidFill>
            <a:srgbClr val="ffcc99">
              <a:alpha val="50000"/>
            </a:srgbClr>
          </a:solidFill>
          <a:ln cap="sq"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cience/Math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3886200"/>
            <a:ext cx="609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304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The Curricul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295280"/>
            <a:ext cx="7924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reas of Special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igna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cientific Visu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etwork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Embedd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Enterprise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and Signal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 the art OO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257800" y="3733920"/>
          <a:ext cx="302256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733920"/>
                    <a:ext cx="30225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1600" y="2895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war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568680" y="2705040"/>
          <a:ext cx="422928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8680" y="2705040"/>
                    <a:ext cx="422928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Enterprise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659040" y="1600200"/>
            <a:ext cx="5027760" cy="4419720"/>
            <a:chOff x="3659040" y="1600200"/>
            <a:chExt cx="5027760" cy="4419720"/>
          </a:xfrm>
        </p:grpSpPr>
        <p:sp>
          <p:nvSpPr>
            <p:cNvPr id="82" name=""/>
            <p:cNvSpPr/>
            <p:nvPr/>
          </p:nvSpPr>
          <p:spPr>
            <a:xfrm flipH="1">
              <a:off x="4495320" y="4267440"/>
              <a:ext cx="8384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49960" y="2210040"/>
              <a:ext cx="914400" cy="45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5200" y="2248200"/>
              <a:ext cx="88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ga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68720" y="4953240"/>
              <a:ext cx="914400" cy="45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53960" y="4991400"/>
              <a:ext cx="88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ga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26120" y="2514600"/>
              <a:ext cx="914400" cy="4572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11360" y="2552760"/>
              <a:ext cx="88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ga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02240" y="5562720"/>
              <a:ext cx="914400" cy="4572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4520" y="563904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24480" y="1600200"/>
              <a:ext cx="914400" cy="4572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86760" y="16765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2400" y="3276720"/>
              <a:ext cx="914400" cy="4572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34680" y="335304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45240" y="5486400"/>
              <a:ext cx="1050840" cy="45720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400" y="55627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78360" y="1828800"/>
              <a:ext cx="1050840" cy="45720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62520" y="19051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57800" y="3581640"/>
              <a:ext cx="1447920" cy="6858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0" y="2286000"/>
              <a:ext cx="9144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266724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248520" y="2057400"/>
              <a:ext cx="53316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629400" y="2971800"/>
              <a:ext cx="6858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705720" y="3505320"/>
              <a:ext cx="10666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24480" y="4267440"/>
              <a:ext cx="68580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19920" y="43434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181120" y="426744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9040" y="426744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33920" y="4343400"/>
              <a:ext cx="761760" cy="533520"/>
            </a:xfrm>
            <a:prstGeom prst="rect">
              <a:avLst/>
            </a:prstGeom>
            <a:noFill/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2960" y="4114800"/>
              <a:ext cx="7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1520" y="4191120"/>
              <a:ext cx="761760" cy="533520"/>
            </a:xfrm>
            <a:prstGeom prst="rect">
              <a:avLst/>
            </a:prstGeom>
            <a:noFill/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4114800"/>
              <a:ext cx="685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92000" y="2057400"/>
            <a:ext cx="373716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use exist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tiered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-side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ded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566640"/>
          <a:ext cx="7924680" cy="600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66640"/>
                    <a:ext cx="7924680" cy="600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936960" y="6400440"/>
            <a:ext cx="53247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0" tIns="4608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kzidenz Grotesk Light"/>
              </a:rPr>
              <a:t>Source: Sun Microsystems “Introduction to Java 2 Micro Edition and KV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720" y="1917720"/>
            <a:ext cx="1574640" cy="507960"/>
          </a:xfrm>
          <a:prstGeom prst="rect">
            <a:avLst/>
          </a:prstGeom>
          <a:solidFill>
            <a:srgbClr val="000000"/>
          </a:solidFill>
          <a:ln w="255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9520" y="1905120"/>
            <a:ext cx="136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4720" y="3137040"/>
            <a:ext cx="1574640" cy="507960"/>
          </a:xfrm>
          <a:prstGeom prst="rect">
            <a:avLst/>
          </a:prstGeom>
          <a:solidFill>
            <a:srgbClr val="000000"/>
          </a:solidFill>
          <a:ln w="255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124080"/>
            <a:ext cx="160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4720" y="4356000"/>
            <a:ext cx="1574640" cy="507960"/>
          </a:xfrm>
          <a:prstGeom prst="rect">
            <a:avLst/>
          </a:prstGeom>
          <a:solidFill>
            <a:srgbClr val="000000"/>
          </a:solidFill>
          <a:ln w="255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440" y="4343400"/>
            <a:ext cx="1383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4720" y="5575320"/>
            <a:ext cx="1574640" cy="507960"/>
          </a:xfrm>
          <a:prstGeom prst="rect">
            <a:avLst/>
          </a:prstGeom>
          <a:solidFill>
            <a:srgbClr val="000000"/>
          </a:solidFill>
          <a:ln w="255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1760" y="5562720"/>
            <a:ext cx="155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3840" y="1689120"/>
            <a:ext cx="2412720" cy="46227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2527200"/>
            <a:ext cx="0" cy="584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746520"/>
            <a:ext cx="0" cy="584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4965840"/>
            <a:ext cx="0" cy="58392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74920" y="2133720"/>
            <a:ext cx="3784680" cy="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3352680"/>
            <a:ext cx="3784680" cy="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74920" y="4572000"/>
            <a:ext cx="3784680" cy="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74920" y="5791320"/>
            <a:ext cx="3784680" cy="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66040" y="1917720"/>
            <a:ext cx="1574640" cy="507960"/>
          </a:xfrm>
          <a:prstGeom prst="rect">
            <a:avLst/>
          </a:prstGeom>
          <a:solidFill>
            <a:srgbClr val="000000"/>
          </a:solidFill>
          <a:ln w="255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30840" y="1905120"/>
            <a:ext cx="136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66040" y="3137040"/>
            <a:ext cx="1574640" cy="507960"/>
          </a:xfrm>
          <a:prstGeom prst="rect">
            <a:avLst/>
          </a:prstGeom>
          <a:solidFill>
            <a:srgbClr val="000000"/>
          </a:solidFill>
          <a:ln w="255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3124080"/>
            <a:ext cx="160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66040" y="4356000"/>
            <a:ext cx="1574640" cy="507960"/>
          </a:xfrm>
          <a:prstGeom prst="rect">
            <a:avLst/>
          </a:prstGeom>
          <a:solidFill>
            <a:srgbClr val="000000"/>
          </a:solidFill>
          <a:ln w="255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4343400"/>
            <a:ext cx="1383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66040" y="5575320"/>
            <a:ext cx="1574640" cy="507960"/>
          </a:xfrm>
          <a:prstGeom prst="rect">
            <a:avLst/>
          </a:prstGeom>
          <a:solidFill>
            <a:srgbClr val="000000"/>
          </a:solidFill>
          <a:ln w="255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5562720"/>
            <a:ext cx="155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84800" y="1689120"/>
            <a:ext cx="2413080" cy="46227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2527200"/>
            <a:ext cx="0" cy="584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3746520"/>
            <a:ext cx="0" cy="584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4965840"/>
            <a:ext cx="0" cy="58392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79520" y="2494080"/>
            <a:ext cx="272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fac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574280" y="2768760"/>
            <a:ext cx="1575000" cy="252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32520" y="3560760"/>
            <a:ext cx="1892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597560" y="3327480"/>
            <a:ext cx="330120" cy="3556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73520" y="4292640"/>
            <a:ext cx="177840" cy="1778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743200"/>
            <a:ext cx="1193760" cy="507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16:54:28Z</dcterms:created>
  <dc:creator>ffldu</dc:creator>
  <dc:description/>
  <dc:language>en-US</dc:language>
  <cp:lastModifiedBy>D L</cp:lastModifiedBy>
  <dcterms:modified xsi:type="dcterms:W3CDTF">2004-04-16T20:47:07Z</dcterms:modified>
  <cp:revision>27</cp:revision>
  <dc:subject/>
  <dc:title>No Slide Title</dc:title>
</cp:coreProperties>
</file>