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9996-B7DE-4AEE-AEA5-B603EFC7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2DB-1F07-4062-902C-A3DC92CE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76B-3D60-4A50-80A3-018A3469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81E-1DB1-464F-A132-8DE2B2C1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6D6-6DCD-41DD-96E4-3BEC092D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B09-8CB5-43ED-8EC2-98A72969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375-9AB5-4369-AB90-B4AC8048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E4D-6A53-4FC9-9E4A-C493251F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233-A741-4999-82B0-8870E948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0FE-F43A-445F-A8A0-9BE7ABD5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80C-1894-484B-9196-73BD404C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908-F76F-4CC5-8867-363C1A4E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585A-852F-4070-8F27-056D93283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 1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fy chairs in fro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rows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decodes HTML and presents it to the 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Inter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local area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ften viewed using a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 net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communicating between compu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42900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335268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809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71600" y="4267080"/>
            <a:ext cx="1035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uter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29200" y="4419720"/>
            <a:ext cx="20955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uter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=Inter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forwarding on a data packet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42900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335268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71600" y="4267080"/>
            <a:ext cx="1035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uter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743200" y="4495680"/>
            <a:ext cx="20955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uter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76920" y="3733920"/>
            <a:ext cx="838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590920" y="2819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2743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4343400"/>
            <a:ext cx="167652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35053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We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HTML for presentation of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decode presentation data for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HTM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present data embedded in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F, JPEG, PNG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FF, AU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 Plug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helps a browser proces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ck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P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o the number of formats we can de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he Java program automatically when we visit a web page using a browser with J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uld you run a program on Dem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security ri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Limits help us to be sec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programs can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rusted programs have big lim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i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ccess across the net to other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strictions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i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rogram that inputs a programming language and outputs another programming langua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language is lower level than input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av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m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chnology that supports th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ava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s java 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BY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un BYTE COD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the command that invokes the JV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nputs BYTE CODES and RUNs th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s a By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 ty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structured record that hold bits in a format that is defined by either the programmer or the language desig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The bit is a data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Digit =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ymbolized by the numbers 0 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use a bit to count, you use a two-state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is a BI (two) state numbering (nary)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in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umber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, 01, 10, 11 (bin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1, 2, 3 (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exidecim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symbols in a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,2,3,4,5,6,7,8,9,A, B,C,D,E,F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AD) base 16 (hexi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ct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 8 number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,2,3,4,5,6,7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77) (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) + (1) = (10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0)+(7)=(17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7)+(1)=(20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symbols in a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x of a numbering system is th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they call it the 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ecimal we write: 4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 = 4 * 10**1 + 2*10**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inary we write: 1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1 = 1 * 2 ** 3 + 1 * 2**2+0*2**1+1*2**0=8 + 4 +1=13 base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gramming Langu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nguage that can run on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vention that helps facilitate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it helps people communicate with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imitive data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built in (to the language)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eans that the language comes with the primitive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primitive data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s some value represented by bits in computer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elps with computations by stor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example of a PD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– true,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b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 = fal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heChairsAreHard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heExampleIsGettingSilly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= sign means assig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re on the left hand side of the =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8 primitive data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FixedPoint (byte, short, int, lo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FloatingPoint (float, dou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primitiv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ig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unsigned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c = ‘t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qwerty = ‘q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thisIsGettingSilly = ‘w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Java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Java code followed by a ‘;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fooBar = ‘e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fixed point PDT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 byte, short, int,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uses 8 bits to stor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uses 16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uses 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uses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ome examp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 = 12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 = 128; // does not work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s range from –128...1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significant bit is the sign b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thisIsGettingSilly = -12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the sho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hisIsShort = 32767; //max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hisisTheSmallestShort = -3276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chine that processe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rain= bio-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the 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whatWouldYouDoWithoutInts = 2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hisIsTheBiggestInt = 214748364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hisIsTheSmallestInt = -214748364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add numb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j =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k = i + j; //k become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written using “//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this is a com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ubtract numb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1 = 2.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2 = 3.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3 = f1 - f2; // f3 = - 0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multip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d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thisIsTheSecondDouble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a = d * thisIsTheSecondDoub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’s value is: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divi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w = 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r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q = w/2; //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.5 can’t fit in a fixed point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ways truncates the part after the decimal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ontrol the order of Evalu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* c + 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evaluate c+d fir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= b * (c + 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w / (q +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2 /(1 + 3) = 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2/1 + 3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int a random numb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output a number that ranges from 0 to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sitional no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system that multiples a symbol by the base raised to an exponent that represents the symbols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pe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that performs the invocation of some method that manipulates some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a = b + c; // + is the addi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d = e – f; // - is the sub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f = f / 2.0; // / is the division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represents the assignment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ach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vice that transforms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use energy to perform information proce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, Wheel, human, brain=biological compu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operato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kes it easier to do comp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op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s, take two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+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–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/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*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+ is the same as a = a +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– is the same as a = a –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+=25; // a = a +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-= 25; // a = a –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/= 4; // a = a / 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*= 3; // a = a *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wise 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OR, NOT, X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2590920"/>
          <a:ext cx="3209760" cy="242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90920"/>
                    <a:ext cx="3209760" cy="24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60000" y="255600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ut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olean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46748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5140440"/>
            <a:ext cx="1474920" cy="226800"/>
          </a:xfrm>
          <a:custGeom>
            <a:avLst/>
            <a:gdLst/>
            <a:ahLst/>
            <a:rect l="l" t="t" r="r" b="b"/>
            <a:pathLst>
              <a:path w="929" h="143">
                <a:moveTo>
                  <a:pt x="0" y="77"/>
                </a:moveTo>
                <a:cubicBezTo>
                  <a:pt x="154" y="91"/>
                  <a:pt x="235" y="98"/>
                  <a:pt x="400" y="89"/>
                </a:cubicBezTo>
                <a:cubicBezTo>
                  <a:pt x="412" y="81"/>
                  <a:pt x="431" y="78"/>
                  <a:pt x="435" y="65"/>
                </a:cubicBezTo>
                <a:cubicBezTo>
                  <a:pt x="440" y="50"/>
                  <a:pt x="438" y="23"/>
                  <a:pt x="423" y="18"/>
                </a:cubicBezTo>
                <a:cubicBezTo>
                  <a:pt x="367" y="0"/>
                  <a:pt x="306" y="10"/>
                  <a:pt x="247" y="6"/>
                </a:cubicBezTo>
                <a:cubicBezTo>
                  <a:pt x="227" y="20"/>
                  <a:pt x="118" y="86"/>
                  <a:pt x="188" y="124"/>
                </a:cubicBezTo>
                <a:cubicBezTo>
                  <a:pt x="223" y="143"/>
                  <a:pt x="267" y="132"/>
                  <a:pt x="306" y="136"/>
                </a:cubicBezTo>
                <a:cubicBezTo>
                  <a:pt x="487" y="128"/>
                  <a:pt x="551" y="133"/>
                  <a:pt x="694" y="89"/>
                </a:cubicBezTo>
                <a:cubicBezTo>
                  <a:pt x="916" y="101"/>
                  <a:pt x="855" y="50"/>
                  <a:pt x="929" y="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610480" y="4495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532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3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12040" y="55278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AND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truth table in the Boolean Al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4114800"/>
          <a:ext cx="2600280" cy="196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260028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8769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572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2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140440"/>
            <a:ext cx="1474920" cy="226800"/>
          </a:xfrm>
          <a:custGeom>
            <a:avLst/>
            <a:gdLst/>
            <a:ahLst/>
            <a:rect l="l" t="t" r="r" b="b"/>
            <a:pathLst>
              <a:path w="929" h="143">
                <a:moveTo>
                  <a:pt x="0" y="77"/>
                </a:moveTo>
                <a:cubicBezTo>
                  <a:pt x="154" y="91"/>
                  <a:pt x="235" y="98"/>
                  <a:pt x="400" y="89"/>
                </a:cubicBezTo>
                <a:cubicBezTo>
                  <a:pt x="412" y="81"/>
                  <a:pt x="431" y="78"/>
                  <a:pt x="435" y="65"/>
                </a:cubicBezTo>
                <a:cubicBezTo>
                  <a:pt x="440" y="50"/>
                  <a:pt x="438" y="23"/>
                  <a:pt x="423" y="18"/>
                </a:cubicBezTo>
                <a:cubicBezTo>
                  <a:pt x="367" y="0"/>
                  <a:pt x="306" y="10"/>
                  <a:pt x="247" y="6"/>
                </a:cubicBezTo>
                <a:cubicBezTo>
                  <a:pt x="227" y="20"/>
                  <a:pt x="118" y="86"/>
                  <a:pt x="188" y="124"/>
                </a:cubicBezTo>
                <a:cubicBezTo>
                  <a:pt x="223" y="143"/>
                  <a:pt x="267" y="132"/>
                  <a:pt x="306" y="136"/>
                </a:cubicBezTo>
                <a:cubicBezTo>
                  <a:pt x="487" y="128"/>
                  <a:pt x="551" y="133"/>
                  <a:pt x="694" y="89"/>
                </a:cubicBezTo>
                <a:cubicBezTo>
                  <a:pt x="916" y="101"/>
                  <a:pt x="855" y="50"/>
                  <a:pt x="929" y="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610480" y="4495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532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952880" y="3504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9528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723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exclusive OR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3733920"/>
          <a:ext cx="313344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313344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Boolean Ops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&amp; z; //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| z; //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^ z; // bitwise xor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~ y // bitwise n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uth 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the results of doing ops on a list of all the binary combi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in binary to create the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 boolean alg. function to create th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oolean O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OR,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put is 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&amp; // boolean AND (not bitw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 // boolean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// boolean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ome examp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&amp;&amp; c; //a is boolean, so is b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|| 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! (b || c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Machines Thi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s think that they can th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brain is a kind of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machines can th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ugmented Ope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hort cut (that sometimes is unreadable!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*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*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-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–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+=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+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&gt;&gt;=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&gt;&gt; 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^=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^ 9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Application of A programm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dients – data structures (&lt;-in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to follow -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-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Java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text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a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dl</cp:lastModifiedBy>
  <dcterms:modified xsi:type="dcterms:W3CDTF">2003-01-09T18:46:07Z</dcterms:modified>
  <cp:revision>4</cp:revision>
  <dc:subject/>
  <dc:title>Introduction To Programming</dc:title>
</cp:coreProperties>
</file>