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24.gif" ContentType="image/gif"/>
  <Override PartName="/ppt/media/image7.wmf" ContentType="image/x-wmf"/>
  <Override PartName="/ppt/media/image11.wmf" ContentType="image/x-wmf"/>
  <Override PartName="/ppt/media/image23.gif" ContentType="image/gif"/>
  <Override PartName="/ppt/media/image26.png" ContentType="image/png"/>
  <Override PartName="/ppt/media/image6.wmf" ContentType="image/x-wmf"/>
  <Override PartName="/ppt/media/image25.gif" ContentType="image/gif"/>
  <Override PartName="/ppt/media/image17.png" ContentType="image/png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0E6-2EFB-4F65-9CA1-39A336C0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005-08C8-4C4D-B19A-AD6A4255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D19-3738-4895-B247-5E921A7A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5CD-C85D-43F7-9327-C6F68538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20E-FC7B-4005-B7DC-9BCE2B9C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4D9-FEF6-4358-8F9E-332A5A8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D9A-CFBB-429D-A48A-C143A74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324-AA55-4699-884F-EB12F931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523-9556-4307-835D-DCD2710F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C28-BF0A-4561-8738-5457EFB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572-E81B-443B-B872-BE9FBE19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8BC-5CC4-4C5A-92A1-515B854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D3C-6519-4AA5-AF2E-6748D23C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ocjava.com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ve Heuristic Edge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las A. Lyon, Ph.D.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r, Computer Engineering Dept. Fairfield University, CT, US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yon@DocJava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DocJav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65833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2 © DocJav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1644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s, the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2324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ning-pre pro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2361960" cy="1436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290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720" y="1219320"/>
            <a:ext cx="21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+thr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4114800"/>
            <a:ext cx="2362320" cy="1577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5000" y="3429000"/>
            <a:ext cx="876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extile"/>
              </a:rPr>
              <a:t>Ero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extile"/>
              <a:ea typeface="Textil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43000" y="4191120"/>
            <a:ext cx="2146320" cy="1473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33523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3840" y="5715000"/>
            <a:ext cx="172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l+Sk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ning -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14600" cy="1725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2502000" cy="1778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053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76720" y="3581280"/>
            <a:ext cx="180324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rkers+A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23241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436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d selects from filter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d tunes the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 w/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ong edge is the wrong ed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16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343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bands for 3x3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8120" y="6019920"/>
            <a:ext cx="318744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 Edges are too stra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17a" descr=""/>
          <p:cNvPicPr/>
          <p:nvPr/>
        </p:nvPicPr>
        <p:blipFill>
          <a:blip r:embed="rId1"/>
          <a:stretch/>
        </p:blipFill>
        <p:spPr>
          <a:xfrm>
            <a:off x="1903320" y="2440080"/>
            <a:ext cx="5337360" cy="1977840"/>
          </a:xfrm>
          <a:prstGeom prst="rect">
            <a:avLst/>
          </a:prstGeom>
          <a:ln w="0">
            <a:noFill/>
          </a:ln>
        </p:spPr>
      </p:pic>
      <p:pic>
        <p:nvPicPr>
          <p:cNvPr id="96" name="pic17b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468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Bands 7x7 G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18a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925040" cy="2954160"/>
          </a:xfrm>
          <a:prstGeom prst="rect">
            <a:avLst/>
          </a:prstGeom>
          <a:ln w="0">
            <a:noFill/>
          </a:ln>
        </p:spPr>
      </p:pic>
      <p:pic>
        <p:nvPicPr>
          <p:cNvPr id="99" name="pic18b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-biologically motiv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19a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04160" cy="1428480"/>
          </a:xfrm>
          <a:prstGeom prst="rect">
            <a:avLst/>
          </a:prstGeom>
          <a:ln w="0">
            <a:noFill/>
          </a:ln>
        </p:spPr>
      </p:pic>
      <p:pic>
        <p:nvPicPr>
          <p:cNvPr id="102" name="pic19b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3063600" cy="21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809880" y="1523880"/>
            <a:ext cx="162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2 SubB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 filters=prefilter+lapla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5931000" cy="135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371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xican Hat (LoG Kern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7600" y="1860480"/>
            <a:ext cx="34686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3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asy to find a bad ed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know a good edge when we se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61340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ed Filters are steer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cale at 0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Phase at 0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+markers=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level image processing still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optimization is not appropriate for al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only want a single, goo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www.DocJava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233520" cy="4495680"/>
          </a:xfrm>
          <a:prstGeom prst="rect">
            <a:avLst/>
          </a:prstGeom>
          <a:ln w="0">
            <a:noFill/>
          </a:ln>
        </p:spPr>
      </p:pic>
      <p:pic>
        <p:nvPicPr>
          <p:cNvPr id="121" name="PE01644A" descr=""/>
          <p:cNvPicPr/>
          <p:nvPr/>
        </p:nvPicPr>
        <p:blipFill>
          <a:blip r:embed="rId2"/>
          <a:stretch/>
        </p:blipFill>
        <p:spPr>
          <a:xfrm>
            <a:off x="1676520" y="4952880"/>
            <a:ext cx="1131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expert + an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rt places markers on a goo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way to connect the mark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ts find/define goo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hard to en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an important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xels=graph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n pixel space using a heur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* is faster than 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s a domain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rep=heuristics+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planning (source+destin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324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060720" cy="3098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3022560" cy="3047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1776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21560" y="5105520"/>
            <a:ext cx="423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-multi-scal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5:02:46Z</dcterms:created>
  <dc:creator>D L</dc:creator>
  <dc:description/>
  <dc:language>en-US</dc:language>
  <cp:lastModifiedBy>Valued Customer</cp:lastModifiedBy>
  <dcterms:modified xsi:type="dcterms:W3CDTF">2003-04-12T17:01:21Z</dcterms:modified>
  <cp:revision>24</cp:revision>
  <dc:subject/>
  <dc:title>Chapter 5</dc:title>
</cp:coreProperties>
</file>