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F21-D11E-4B57-8BF1-EB2B8416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CEE7-03DE-4E99-A153-3B232DE1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133-D362-4CA6-89ED-A36A7730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7422-8E3B-4068-9E3D-33F7A601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E8E1-3AC6-4956-9705-72778B5A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8AAC-E632-4BD6-91A2-A0EB307D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28D6-30B0-4755-B1C1-67A5F0FB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4E77-2B67-4887-98E1-FE6DE181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AB99-2857-4542-AA27-9CEAEBFD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0EC7-5DCB-4D32-B0B1-991101AD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8028-C4D6-42B7-A4EA-4384D4E7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7D5-0696-41B4-9652-13A2B3A0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8100-8E30-45FB-8B06-3CDA34C5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6AAA-5939-4467-80F8-1EDC33C7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D1C5-E9E0-49B0-86DF-ED59C5A6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4DF7-D207-488A-96D7-4AE8E00E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0DA0-1DB2-4A85-BEBC-FD1338E3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40E-B0CD-44A5-A281-CC840468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613-9E8F-4887-9FED-9E71DA0C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9323-7B7B-4E70-8370-E8D46101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BE7-F07E-4B1A-A429-80DDA1BE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0611-5FEE-4C36-B51C-7722108D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5FC-8C7F-429E-8830-A70A9173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4AA-1FBA-402D-ADFD-6E891EB5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C5E3-B844-4ED8-95A1-A89E06C7DA5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FA67-0E00-4E08-97D0-F289357BF5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D7C0-65FC-49ED-A692-5B6A392C4A4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D586-C362-4BAC-9034-B3E7B63A6F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ference Data Typ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6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8A78-DEEC-4C88-BF95-E4A2968EB98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4885B65-3B81-4BD8-A290-95D74526AA6B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n example of a AKO hierarch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ions (go left, go forward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uctures (tent, building (house, sky scraper, warehouse) bridge (suspension, truss, trestle), stat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s (water, gasoline (unleaded, leaded, super, regular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EA2-51FD-4210-9FDB-FBF137454DE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9CFB1-831C-4C05-BFC0-ED2FE5939F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n interfac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just like a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uses the keyword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reference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contains specifications for methods, but no implementations, for metho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o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can have static final con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6587-FFF1-4B15-B1F7-E0A59DC30D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EB4A9-8DE1-436F-A3C8-B8C296C2A1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 we need interface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that we can have a common specification for many different clas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mmon specification enables reuse via a technique called polymorphism (Greek many shapes!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128-BB9C-45C5-B5A4-4A9499FB80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AAAF5-2336-406F-8BB8-3868060509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ppose we want to process functions..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 fcn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uble f(double x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1 implements fcn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uble f(double x) { return Math.sin(x)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BA7-2970-4505-9C69-551FC5F8261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88530-52D9-471A-B87C-D7B110423A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is a reserved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lasses have n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ames can have any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es contain two elem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6B8-5B0C-43F1-92A9-57CEFE4201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B41C3-735F-4FAD-88E0-552CA12288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 I need a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need a class to run a program in 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Hw1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static void main(String args[]) {.....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Hw2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static void main(String args[]) {.....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7DA3-3FE4-4F8F-A8DB-75BEDFA5F3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B6A79-D2F0-41EE-81D1-77ACC34644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is it called a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is short for classifi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ications are used for sets of th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ubset of the things allows for a sub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Java we make a subclass by extending a parent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4C5-E271-4D91-BF5C-0E889AFCAC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091D4-39E0-4B12-B2EC-E627D657E38E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en did the class idea star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67 – Simula – used for 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ustrup was a Ph.D student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was using Simula for his thesis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liked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too slow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he used B (a language that came before C) And it was very fast but hard ;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05DF-0AC9-4FDB-B198-F8E2C0BB64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246B3-F91D-47D7-BD80-8DD038DAE9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story continu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TL, Murray Hill N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C in 1971, on PDP-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with classes....C++ became an ANSI standard (around 1984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sling started fooling around with C++ extensions at Sun in 199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ak was started and became project gr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6502-7DE9-49AD-AB75-BDCBCFCC62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9D230-5395-4224-9029-014BEC1D539E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verview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es allow for the creation of taxonom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yclic Digraphic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8DEC-903C-4B21-A136-69B60E278A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D3943-D72A-433E-A2A9-F1C3E0E7C96A}" type="datetime1">
              <a:rPr lang="en-US"/>
              <a:t>07/29/26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xono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2209680"/>
            <a:ext cx="4343400" cy="38102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3505320"/>
            <a:ext cx="1981080" cy="19047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666880"/>
            <a:ext cx="1371600" cy="1752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4800600"/>
            <a:ext cx="1219320" cy="10666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114800"/>
            <a:ext cx="1143000" cy="990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3581280"/>
            <a:ext cx="609840" cy="990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952880" y="1600200"/>
            <a:ext cx="21621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uperCla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00600" y="3048120"/>
            <a:ext cx="1204920" cy="10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ubcla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AF83-76F0-4C2E-BC57-DE3D942985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F9D0F-6A49-4F3A-AF77-1088B04033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the cardinality of a se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elements in the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rdinality of a subset is &lt; card(superclas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B95-2445-4277-A0BB-6780C85D4FC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DB147-E8ED-4564-9D21-E0D1B985CD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yon</cp:lastModifiedBy>
  <dcterms:modified xsi:type="dcterms:W3CDTF">2003-02-26T01:03:28Z</dcterms:modified>
  <cp:revision>4</cp:revision>
  <dc:subject/>
  <dc:title>PowerPoint Presentation</dc:title>
</cp:coreProperties>
</file>