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24A-B118-4ACF-B3AF-BF6CD3BF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9AC-7E16-466D-93CB-65D6EBD7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91D-8F0B-408D-877C-DFA95E8B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9ED-F281-46ED-9AA5-6325D0C1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EEE-31EB-440E-8308-8BBFF84F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BB72-6389-4E74-A10D-C54D4231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EB1-5D59-4D27-810B-D75A485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7ED-597C-45D0-9D08-EA9BCE7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D03-08E3-4072-AD84-978A5A2F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CE5-674C-42D0-99D2-8B9D8563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B76-9768-463F-86EE-1B90ACC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764-C6D3-4AE9-B8B2-73130228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E13-46E6-4D31-88B3-007D1D64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erve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SO-OS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= International Standard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= Open Systems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– dlpdu (frames) no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IP (192.168.1.1) -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– TCP/IP, UDP/IP-trans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–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– http – iiop /corba, rmi, d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om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for network, tld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du, .com, .gov, .net, biz, org, name,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– maps domain names t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s or reverse look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using TCP/IP or UDP/IP along with a POR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bytes in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,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 virtual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puter has man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s are sometimes standard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– default web service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– 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–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– sn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etc/services – to see the ports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9T01:26:38Z</dcterms:modified>
  <cp:revision>6</cp:revision>
  <dc:subject/>
  <dc:title>Introduction To Programming</dc:title>
</cp:coreProperties>
</file>