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CA1-44FC-4AFC-AE09-3E6DB368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272-8F02-49AA-9932-4F56DCD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DC6-46E0-4A26-9174-6CF6D5DF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C4C-98BF-40CC-BF07-6F0B0619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989-0BE3-4BEA-AE52-ABC5BBD5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C93-EC39-410D-9674-3D8AD773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B85-BFA9-46BD-A620-277B7347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EA5-40DC-420B-AE2D-1C91FB3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439-1040-493D-9357-CDA317CC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44A-C970-4D20-B329-8956817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DF2-D461-496E-84CF-45C7AC7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8AD-B672-444F-A1FA-57F2565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757C-1A5D-4FDC-ACEF-6AB26BABB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abou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called Class has many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class demonstrates many reflec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ff you can dis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class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method need for 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method re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must be lo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you must have access to the byt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system works on byte code drive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a source code drive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already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ru = new ReflectUtil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List is used to store all the methods and get information abou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 = o.getClass(); //supported for al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util.Date date = new java.util.D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c = date.getClas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List ml = new MethodList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utators[] = ml.getWrite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ccessors[] = ml.getRead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comes the mutation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mutat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goes the accessor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access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8T01:14:38Z</dcterms:modified>
  <cp:revision>6</cp:revision>
  <dc:subject/>
  <dc:title>Exceptions</dc:title>
</cp:coreProperties>
</file>