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ADD-F9F2-4B57-B9C7-65F2082D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48E-63C9-438C-98E4-20FB1E0C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A85-99F3-44E1-8C5D-7632FAD1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329-F333-4185-A7D6-31E8D0FA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6A8-8062-4983-B1E9-0D3DD1F5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AE6-1311-412F-8FB5-1FC71E8C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145-7F8A-420F-AF45-3A3737C3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435-7AAA-4144-9879-B6EE6676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E11-6E15-49F9-8CDB-44556389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320-612D-4E8D-A6B4-65443139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375-DBB6-4050-8685-1742E587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0A8-69E5-46F8-8C1C-1C28B2AF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200A-6D5B-4A93-BA7E-41545B7E4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 to S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vs AW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has lightweight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weight components have no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and feel variation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is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T is heavywe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vyweight comps require pe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looks like the platform it runs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T is 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Output, a message di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66688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void messageDialog(Object o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ptionPane.showMessageDialog(null, 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438280"/>
            <a:ext cx="8839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class I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String getString(Object o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JOptionPane.showInputDialog(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get an i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an 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362320"/>
            <a:ext cx="8305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int getInt(Object o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Integer.parseInt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tring(o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o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lay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I need layou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 do GUI's without layou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name a few layou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simple layo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der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se layouts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yout manag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le for positioning and resizing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outManager is an interface that resides in the java.aw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a Layout Manag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on't need a LayoutMan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t the Layout to n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reposition and resize all components your 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 a LayoutManager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s lab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the layout resolution versat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the interface flex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a LayoutManger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layout manager works differen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they get components dim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dimensions are used to properly size and place the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impl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 getMinimumSiz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 getMaximumSiz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 getPreferredSiz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g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t on AWT (another big AP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GUI'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f you don't like your LayoutManag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your ow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Layout ignores the min and max and preferred sizes! It takes the available space and evenly divides it among all the com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mponents are grown to the available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id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7716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643200" y="2381400"/>
            <a:ext cx="185760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ombine GridLayout with Preferred Siz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ant a fixed number of rows or colum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ant to use the preferred size of each 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ant to resize the components only if I don't have enough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don't want components to fill all available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your own LayoutManag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redSizeGridLayou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18381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class of the java.awt.Component class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nent has a size, color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nent can normally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in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mponent is painted it is visible on the sc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 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r extends 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extends 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extends Cont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extends a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log extends a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el extends a Conta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et extends a Pane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and AW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ng is built on JCom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Component extends 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Label, JButton, JCheckbox, etc all extend J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es JComponent extend Compon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ng uses LightWeight Componen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WT uses HeavyWeight componen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o good about a LightWeight Compon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drawba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I still need AWT when using Sw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WT has many useful t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n together they form a Frame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AWT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600200"/>
            <a:ext cx="7315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class Scree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int getDpi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kit t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kit.getDefaultToolki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t.getScreenResolution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the screen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2590920"/>
            <a:ext cx="7086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Dimension getSize(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kit t = Toolkit.getDefaultToolki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t.getScreenSiz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3-03-26T02:22:52Z</dcterms:modified>
  <cp:revision>17</cp:revision>
  <dc:subject/>
  <dc:title>Exceptions</dc:title>
</cp:coreProperties>
</file>