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38D-6C4B-4CD7-8C8D-A48CA161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A53-E23D-4AA9-9A3F-1CFE81AA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F06-0959-433A-AD77-69088930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D27-22C6-4A87-A78B-154488E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A4F-0010-439C-8E70-A264B942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92F-A871-4BB1-8144-2B7AD88C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8886-14E9-4A51-9DF0-16DB146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E030-ED17-42BF-A55B-710349D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9B07-1D93-4292-8425-9141A91E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C70A-734A-4CA7-B768-92A4A660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B1C0-607D-4735-BA3D-EA7AAE1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774-3539-4276-9BCA-5510362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EAF-3BF2-4389-A6FC-99F1411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A3FF-45DF-448F-A549-37202B94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15F9-8737-43DC-8AC3-67E4C2C5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422-4658-446B-B4ED-EA0939C2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70D-C3E1-46BA-8292-399D84E6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22A-59CA-4619-A939-6743A48B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66F-2115-43C3-9C0C-22A31CF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A47-1E9F-47AF-81C8-8A950D4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9BA-5EA2-4D3C-A5F8-2E57B604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5CF-DFF0-44E6-969D-DCE2D775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206-79EE-45F8-B264-37BF1368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FC4-5361-4EEC-8A70-5F7E59F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DA26-E598-4EE4-990A-BBDCAA8BE11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5F4B-D839-43D7-AD72-D78CDBFF5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5577-3FEE-45DE-B59B-764B791DF94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B85E-B6B0-4AD6-8FCF-1FD323D09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7540-F32B-4912-8BCD-1BBD6004F6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7C33FB-D221-4AD1-81DD-D09C25E696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classes, Cont’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CA0-D513-400C-B5B1-9A9F0C7018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181ED-5B3F-45AC-BE97-913E3E42BC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ain abstract methods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 have a specification, but no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 enable us to defer the implementation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86F-B304-42BB-8E2C-0CF7809AFF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779BA-24B9-4C43-8F00-CAF5E2CD70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isVisible = fal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drawLine(int x, int y, int x1, int y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Visible(boolean b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Visible=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ostscript extend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drawLine(int x, int y, int x1, int y1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“ps:”+x+’,’+..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6E5-B94F-4EAA-9082-8B3FDA3885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A270D-34A4-4F10-A364-707611DF78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ru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lass contains an abstract method then the class must be declared abs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B05-915A-4071-BB98-543244976F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76FB9-885F-41AC-BEF4-7D286FA774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classes come later in the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C1F0-8798-4B71-9FA4-11C05897E2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F7C37-FAB1-4C5A-95F9-62F099B89F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atic varia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variables exist only at run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fixed location inside of th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to all instances of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ferenced w/o instancing the out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428-EB1F-4C52-AE1C-0CFF0882FE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57F77-AC63-46DB-A8A2-559B6D3A5A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stat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a S.V. before inst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double cos(double x)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x = Math.cos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25C-35CF-418D-B4DB-7D0F95E1A0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FAA42-ACA3-458D-A726-649502366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instance a dynamic el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use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.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3EF-45F0-4196-95DF-80E45377A9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27B8-601F-46AD-AB2F-CA81E1665D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for dynam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instance the containing class to gain access to the dynamic me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EDE-B23C-4B92-9218-7502C736D7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802F8-1F7B-49CB-B23E-A18BC92FA6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ff about 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new instances of classes that contain only static elements, no new memory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380-49F8-4B4D-B18A-9A81DACCE4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9238A-E3A6-4654-9FB2-957D51C72F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511-4553-4C35-84F3-10E5ECEA18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71E2F-7E8D-4771-B5D7-5EACE7D457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and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Tes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test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10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o(); // takes no more memor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5D0-BD2B-4AF7-AD68-C919C30EA7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0CF77-713B-4603-80FE-75DA675E34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 + 100; //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k = j; //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B7A-A9A7-4102-995B-9AA44921C2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DD24F-618D-4174-B95E-FC7737FF5B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//O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93C-A4F1-4CB4-AC44-457D17B000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73A79-229A-4D85-B2A7-EF316A2D05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. Dynamic, 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 //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5DF-2B60-4523-B8EA-5C1E428A4C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DE2EE-47F2-49D8-B158-FA6337910D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9E9-D112-42AB-B414-A8D6121CC9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059CB-596A-4450-B5B8-9482962D1E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ynamic vars and stat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get10()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A80-8E21-433F-A555-024DE9D3E5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6A516-1C94-461A-9DB0-E7DC5A0C82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v and 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ECB-FCC3-4424-9044-6F1AE62BB3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C10F2-31E6-49C1-84EC-2DDF70988A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 can invok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 can referenc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tuff can use stat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tatic stuff cannot directly reference dynam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259-3BD7-4893-9EEE-2986991740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6BFC2-FDC6-4ABF-A80C-6958B8F69C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problem it so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big books on design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957-C9B4-4E46-8D91-0A92FCF885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9B372-BDE3-48A5-A998-7FB12511E5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leton 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only have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oo() {} //don’t let othe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Foo getFoo() {return f;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146-CE68-451C-A951-0C765CB997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D4CDE-102A-45A4-9B6F-FF2FC196A0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final int i = 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= i + 1 // cannot work, since i is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22C-7C15-43A0-8AD9-1D4D2675FD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D4513-E313-4886-8C9F-07F7810390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 cannot be overridden by subclasses, this causes a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rin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final void print(Object o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460-C1A3-4AD0-9FE0-A448D82678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677B8-B8F0-4B20-99F2-381F3575D2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cannot shadow a final met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PrintStuff extends Pri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Object args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:”+arg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This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1D8-A823-476B-9A89-02B44B6D0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EEB77-92F4-49A4-95FE-F4C2D56FE6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classes cannot be subcla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inal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Math {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can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811-4891-4D4F-B673-AEA5994BA8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D73DF-5BF3-4454-910B-6530BE220B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have an abstract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EB7-CABA-4538-9287-5D772E68BE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D174F-E7B5-434A-9B44-10F29FF474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not be inst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 be subcla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eclar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 //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D6B-AA48-4961-9B0C-3B18631A4B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1E8BD-ADBD-4A3A-9A2F-C408822DBB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 of abstract subcla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abstract class are non abstract if and only if they provide implementations for the abstra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503-B9B1-4836-ADF1-6E9B6005D8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736D0-835E-4520-B8B4-BDB7EF6E88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lyon</cp:lastModifiedBy>
  <dcterms:modified xsi:type="dcterms:W3CDTF">2003-09-09T00:39:12Z</dcterms:modified>
  <cp:revision>6</cp:revision>
  <dc:subject/>
  <dc:title>PowerPoint Presentation</dc:title>
</cp:coreProperties>
</file>