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C227-ED97-4B79-872A-305CD0CA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E32F-7C21-4D00-906A-EA03037F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4000-82F8-42D0-8FE5-197E7286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B19D-E959-42A3-96A1-499B5C20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0CCC-5B69-4789-9216-7CF1BBDE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9DEE-483A-4795-A035-F20A50EA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A66-77E5-4437-901F-4AD2207F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A4E-C3F5-42D5-ABC9-D8ED1D39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EAAC-FBB9-47DF-99B2-CC0C23B3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49B-ACCA-4543-BB23-F52CCA29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5D5-EEF7-4400-AAB2-2DA8EDB4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38F-8B72-4973-B6AA-9098F5C4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C6EC-B3DE-4C10-8922-0A3A90A96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se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handle mouse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and Scal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mouse events with Key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makes the mouse spe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has a different event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.awt.event.Mouse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MotionListener, MouseListe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Listener: mousePressed, mouseReleased, mouseEntered, mouseExited, mouseCli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seMotionListe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se being dragged, mouseM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combine your interfaces into a single interface...MouseContro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</cp:lastModifiedBy>
  <dcterms:modified xsi:type="dcterms:W3CDTF">2003-03-27T01:51:28Z</dcterms:modified>
  <cp:revision>18</cp:revision>
  <dc:subject/>
  <dc:title>Exceptions</dc:title>
</cp:coreProperties>
</file>