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E994-9258-4AC8-8643-BBF8BF7B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8FBD-42BA-4461-9890-26223432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D33F-29CD-4546-9F9D-828AF728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0EE4-D487-4AE4-ABF0-7B88FE12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2DDC-4389-4ED3-B9B3-DBB7C10C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DB7D-B09A-4F2B-AAB4-DD75DB83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238F-8842-431C-AE70-7DF5A58D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FAB7-4A30-4137-9535-285A0683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6BAD-0AB9-4281-8E11-AC6148D2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2EA5-D8C0-4230-8C2D-62051134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D199-148B-42B5-BFB6-C02D9AB6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D137-BA3B-4AFB-B691-AE741A22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CB84-5A19-4D8E-BA82-0ABABFF0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9957-E551-40D6-8386-E7508D76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661D-721D-43D0-B433-84B2E179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272E-5473-4808-9EB9-9A134554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F6E8-6235-4C71-909E-314E47A9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1369-36A6-4CAE-83E6-4E18D72B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8899-667A-4C91-B4D9-B7FABD38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4B4-9005-484C-B1A6-F238731E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FC73-68B8-4EE6-985E-653D76F6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0845-5F3A-400A-B1DD-6C3D3E7B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3E73-1B88-4902-BB75-28FFF8C7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5444-73DC-4824-ABCE-3AC4D4A0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1BEF-AD32-4D84-9472-478AB163A012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DB8F-5107-40A2-A383-2AFB79D1EF5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sted Clas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Clas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Interfa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5 inner reference data typ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t use a named clas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ss Job implements Runnable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blic void run() { do Stuff Here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read t = new Thread(new Job())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ke a 1000 classes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(int i=0; i &lt; 1000; i++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 Thread(new Runnable()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blic void run()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s a unique class..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)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mand Patter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commands reside in the instance, so the instance knows how to run itself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 Job(2)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void doCommand() {...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ntFun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ss Print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blic static printFunction(Fcn fcn)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(int x=0; x &lt; 100; x++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ystem.out.println(fcn.f(x))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cn, The Interfa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interface Fcn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uble f(double x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nt.printFunction(new Fcn()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uble f(double x)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turn x*x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unButt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 RunButton(“ok”)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void run()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esTheOKThing(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he Interface...for comma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Commando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Runnable getRunnable()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w Runnable()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void run()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ystem.out.println(“wow”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 // Commando c = new Commando(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 // Runnable r = c.getRunnable(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cal inner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class defined inside of a meth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 accessible to outer clas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do I need local inner class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ctory pattern with an anonymous inner class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example, a local anonymous inner class!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is pretty comm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1739880"/>
            <a:ext cx="701064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Runnable getRunnable()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Runnable()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void run()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ystem.out.println(“wow”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90720" y="4495680"/>
            <a:ext cx="58672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actory Patter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the different Nested Ref. Data Typ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clas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Interfa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med Local Inner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RunnableThings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unnable getARunThing()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Job implements Runnable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void run(){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turn new Job(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sted Interfa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class Roach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face killable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olean isAlive(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Colony implements killable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olean isAlive() {return true;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nested referenc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reference contained by another refer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reference contained by a meth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reference with no na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do I need a nested referenc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create a temporary refer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isolate the reference name spa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create a new reference organ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make use of new object-oriented desig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create a local refer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the different types of Nested class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static cla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dynamic cla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kinds of access can I have for a static clas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blic – public ref organ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fault – package ref organ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ivate – yes, you can have a private inner class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tected – accessible to subclasses of the outer cla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static inner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Point3d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tic class Float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loat(float x, float y,  float z) {...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tic class Double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uble (Double x, Double y, Double z) {...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3d.Float pf = new Point3d.Float(10,20,30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ner class instead of packages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java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awt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Frame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Component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king an Anonymous Inner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face Runnable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void run(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read t = new Thread(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 Runnable()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void run() { doStuffHere(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21:59:50Z</dcterms:created>
  <dc:creator>lyon</dc:creator>
  <dc:description/>
  <dc:language>en-US</dc:language>
  <cp:lastModifiedBy>lyon</cp:lastModifiedBy>
  <dcterms:modified xsi:type="dcterms:W3CDTF">2003-02-26T00:53:26Z</dcterms:modified>
  <cp:revision>5</cp:revision>
  <dc:subject/>
  <dc:title>Nested Classes</dc:title>
</cp:coreProperties>
</file>