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8C67-B6F3-48E7-9452-4C44D172D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36A8-B917-4690-B058-D2EF84F77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554F-73CA-4F29-9397-C471AC5B5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7450-AFF1-4BC9-8F3A-577AB09ED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F144-949A-4D91-BD82-7AEF6B340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12D6-D975-4A7B-A037-F3A207899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8D77-86AF-4FCD-B743-B0F005B0C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77F0-C72D-4547-A2D0-EDD317244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2E11-0E17-4920-8406-8A2B19113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AEEE-59C6-4B81-92FB-A58A5DFD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632F-48C7-4B25-8387-A01F0EA2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55F6-7B43-48F5-A333-AE9FA70F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E25BD-E344-41FB-8963-46D57CC020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aw Sha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 to simple graph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graphics contex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stance of the Graphics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s is ABSTRAC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extend Graph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get instances of the Graphics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the paint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an instance of an java.awt.Im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a java.awt.Compon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I need a graphics contex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get access to simple 2D draw metho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Draw Business graph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Draw Vectors into the scre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Draw 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Draw java.awt.Im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simple shapes (2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I can print vectors, and bit ma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calls Pai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void paint(Graphics g) {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the program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the JV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WT Event Dispatcher (it runs in a threa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ed in response to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pa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vocatio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aint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aint(1000); // paint invoked in 1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does the Damage control manager invokes repai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re is damage, damage control for the window causes repai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 re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 expo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onent deman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aint(int x, int y, int w, int 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01:14:58Z</dcterms:created>
  <dc:creator>lyon</dc:creator>
  <dc:description/>
  <dc:language>en-US</dc:language>
  <cp:lastModifiedBy>lyon</cp:lastModifiedBy>
  <dcterms:modified xsi:type="dcterms:W3CDTF">2002-09-25T01:29:53Z</dcterms:modified>
  <cp:revision>6</cp:revision>
  <dc:subject/>
  <dc:title>Exceptions</dc:title>
</cp:coreProperties>
</file>