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62E-B992-4A73-A3A8-643D8442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A9F-8D12-4F40-915D-48AE3DE1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4A7-B7BE-406B-AB4A-67E5E380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749-2FD3-4E64-8B93-60A52D1C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0C5-B5DE-4F70-9BEA-C4758D09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46B-2E26-49EE-9EF7-CA05320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4BD-9442-4F5C-931F-00D2F42C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315-917A-4066-BEA5-A956B523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418-3BC5-4E05-8C4B-D89A6EDC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230-E6DC-4B3C-9E4B-4F6488CC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071-767C-486B-B51D-C873F417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905-6053-48F0-AE87-9A7710B5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30CB-6360-4A6A-A0F8-F76EDD0A3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vs. Object-Oriented Desig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Cooking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es are assigned to different Objects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itron role is to deliver the ro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itron role is to take the orders and deliver them to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tchen cooks the meals and tolls the bel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the interru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ron services the bell interrupt by getting the meal and taking to the proper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ear division of labor and assignment of roles, this leads to limit of knowledge about the different implementations of the ro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needs procedur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needs an interface between objects with a clearly defined r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a reduction of fragility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face is the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enables reuse of the sub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hangeable parts use the same interfac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Software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 has been criticized for the lack of software reu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l design had reuse using subroutines and fun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ool kits were the only means of software re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enable Component Conn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I had a standard for gun barr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ntract th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produce g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hangeable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s use standard interfaces to make use of a large set of related classes to solve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Runnabl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program to the interface you c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 t = new Thread(r); //r is run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ImageProcessInterfac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mage process(Image img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a,b,c,e,f,g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String(x,y, “hello world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design requires that you know the parameters, their order and their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data structures were crea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ds), drawString(graphicObjec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ed by an input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som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t on data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ind of Procedur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design experiments that validate or invalidate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ineers design solutions to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s a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n never survives the first encounter with the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and data structures resides in the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are used to communicate outside of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interfaces are made simpler than the system then you ha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ade design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ade Desig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riented Design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implify the interface to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ell and order in the resta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gas, brake and ste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ndard interface to a car -&gt; I know how to drive all standard ca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 are not flexibl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good and b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because: leads to standards....all AC outlets are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because: not all interfaces serve all 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ne is different from a c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need to learn how to fly a pla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hange from one interface to ano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apter design patte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ows one interface to be changed in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 uses 120 VAC in two pro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 uses 220 VAC with different shaped pro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dapters converts between the tw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 Oriented Design Patte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sign pattern is a recurring solution to a well understood problem in object oriented de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have n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formalize the object oriented designs so that they can be re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represent the maturation of SW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atterns are Good becaus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enclature (i.e., jarg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mature discipline has a jar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 understood vocabulary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’s enable efficient communication about OOD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enable reuse of O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Patterns change the way we THINK about desig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is a t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 improve the language tool and this alters how we thing about solving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lot of design patter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ton Desig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tern to have when you are only having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ton design pattern controls the total number of instances in a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instance can be crea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stance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ingleton design patte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trademark like Doc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TO makes sure there is no duplication of a trademark. It uniquely identifies a business or product or ser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trademark can be issued for this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ming is different from desig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class SingletonExample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tatic SingletonExample se = new SingletonExampl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SingletonExample () {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SingletonExample getExample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s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terative process (many pla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ging process (the design improv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nvolves modeling and ana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requires a good problem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OD vs Proc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’t do singleton DP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need an OO language for th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e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id OOP st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rized by Simula (196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patterns are newer (1995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way to learn design patterns is by using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in time design patterns (introduce DP’s as they are nee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ced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of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t of actions that may contain cond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ocedural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eation of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ing out conditional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etching out multiple bluepr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iving several levels of detail for a softwar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Design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ese things, and MO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Problem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rives th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-wise refinement of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and more detail is used to define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ting more detail for the problem. Refining the problem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es follow from the spe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 are actions that are taken given some situation on some data or de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s are procedural elements that give dir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king run the recipe procedure using ingredients and cooking utensi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ing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 is an algorithm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are data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ensils are like the subrou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bject Oriented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procedural design  and add encaps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apsulation controls complex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limits the interface that the outside world sees in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3-26T22:09:12Z</dcterms:modified>
  <cp:revision>17</cp:revision>
  <dc:subject/>
  <dc:title>Exceptions</dc:title>
</cp:coreProperties>
</file>