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89EBB-9FCD-4307-B095-769CABF90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54E22-524C-429C-9E3C-AABD41407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D9B24-E98B-40BA-9777-544BC61C6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BDE69-31EA-425F-942D-033D590EC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10B5A-A2E1-4BC0-AB29-4EB8CB6D1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BB14C-71F2-457F-88E6-031E15B26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4AC77-7F57-4AA3-BEEE-84D59F3B3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D8A44-0009-4308-8B37-B85CAAB52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3BE18-F512-4178-BB29-E9F2FCBE5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E6281-E7E4-4F67-896D-32631593A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33F3A-FDA6-45E7-8C9C-3CA5BF4CB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AFE0C-2EFF-4288-A1F8-5063A5B1C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ED2B3-2C5F-4637-8F5E-E429245141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cep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ecked vs. Uncheck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nally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ally is optional in the try-catch bloc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y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.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catch (Exception e)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finally { // this is op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nally Rule1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ally is ALWAYS execu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less the JVM fails for some out-side cau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ally is good for house keep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ose a f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ose database connections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sDig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blic static int getNumberOfDigits(String s) 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r ca[] = s.toCharArray(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 nod = 0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(int i=0; i &lt; ca.length; i++) {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r c = ca[i]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(Character.isDigit(c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d++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nod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ke a c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blic class CreditCardException extends Exception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eckC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blic static void checkCreditCard(String cc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rows CreditCardException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(getNumberOfDigits(cc) != 16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row new CreditCardException(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ke ap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blic static void main(String args[]) 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y 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DigitExample.checkCreditCard(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"123467wefewfewewrwe890123456"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stem.out.println("MO MONEY"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catch(CreditCardException cce) 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stem.out.println("DEADBEAT!"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838080" y="304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9000"/>
          </a:bodyPr>
          <a:p>
            <a:pPr marL="2023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blic class SafeArray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023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ivate String names[] =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023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"Tom"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023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"Dick"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023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"Harry"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023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u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023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023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023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tring getNameAt(int i) throws OutOfBoundException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023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utOfBoundException.checkRange(i, 0,names.length-1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023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turn names[i];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023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023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blic static void main(String args[]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023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afeArray sa = new SafeArray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023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(int i=0; i &lt; 5; i++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023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y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023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ystem.out.println(sa.getNameAt(i)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023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} catch(OutOfBoundException e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023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.printStackTrace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023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023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023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023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lass OutOfBoundException extends Exception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023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blic static void checkRange(int x, int lowValue, int highValue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023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rows OutOfBoundException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023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f ((x &lt; lowValue) || (x &gt; highValue)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023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row new OutOfBoundException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023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023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ception Cla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ides in Java.la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bclasses of Exception are checked excep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y-catch statements are required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er error handling until lat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not guard the inpu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blic double invert f(double x)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(x==0) System.out.println(“danger x is zero!”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0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1/x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e our own Excep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ass CreditCardException extends Exception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blic static check (int i) throws CreditCardException 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(i &lt;= 0) throw new CreditCardException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ecking the Car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blic void checkCard(int ccn)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y 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ditCardException.check(ccn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tch(CreditCardException e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.printStackTrace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ul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-try-cat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 must throw a checked exception OR try to catch i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blic class Wow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blic void printCheck(int ccn) throws CreditCardException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stem.out.println(“checking ccn:”+ccn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ditCardException.check(ccn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tching Multiple Excep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y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 catch (Exception1 e) 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 catch (Exception2 e) 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tch Ru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ve as many catches as you like, b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must at least one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can always catch all exception wit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y 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 catch (Exception e) 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.printStackTrace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g.store(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Excep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ass IOException extends Exception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ass FileIOException extends IOException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ass UserIOException extends IOException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5T01:14:58Z</dcterms:created>
  <dc:creator>lyon</dc:creator>
  <dc:description/>
  <dc:language>en-US</dc:language>
  <cp:lastModifiedBy>lyon</cp:lastModifiedBy>
  <dcterms:modified xsi:type="dcterms:W3CDTF">2003-02-12T00:14:22Z</dcterms:modified>
  <cp:revision>4</cp:revision>
  <dc:subject/>
  <dc:title>Exceptions</dc:title>
</cp:coreProperties>
</file>