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D64-CB83-4E97-A41F-2A4FD62B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0C7-7C9D-448D-8410-E9D686E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877-70B0-48A9-88A3-426DED95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2C7-D2FC-41FA-A6CF-492E66D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32B-C6E8-4154-BE6D-3787735B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F854-7A5B-4766-86D1-8F2CE89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5951-5076-428F-9267-34BA423D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23C9-63B3-4869-B7D3-C3852627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097D-DB18-490B-95D5-D9D21C5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8388-3AF6-487C-A3EB-93B7C669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BFDA-DE27-4553-A9EE-B3FD09A6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AB5-1D80-4B0A-8DF3-C5A7112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BFC9-7108-475C-B886-DD8A6B9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64CD-DB97-4843-A94E-104A694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D6F-D094-4D8C-8587-3EBCA2D9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179-AAC1-4DFE-973F-9F870037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A259-0DE3-4552-A239-2A49C305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0CA-3C51-429B-BFE8-E0C67958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579-0EB6-4081-8D36-8A51C5B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46F-6AC6-4A4A-9634-D609C94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832-F32A-49C3-8386-8C267448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0A6-3369-45FF-8BD1-F4DB01AE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70-9AC9-4FA0-A424-7EDBF26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002-C46C-44A8-B28B-368C46C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7453-926C-47D9-AAE0-AC91B804F1C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637-B4E1-4726-9EBC-64E63408EF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3983-D41E-458E-BEE4-C9DC751E6DC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E2B-438D-4387-B731-11B066667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 Processing in Jav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A63B-4FF0-4E96-B931-D4E6612A1A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A89E5C-6254-4700-B216-4CAF70798F17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mage Contr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00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2476440"/>
            <a:ext cx="510048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CA3-2D37-4C13-99B2-B2D22B979F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F1CBB-9C83-46B7-8A59-BBE4676962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ageFrame-a series of methods that ease image processing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C8D-F0F0-420D-B5D1-787C1DAE5B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D393F-C35C-4963-82ED-AE72093D49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Fram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CutFram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[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dth = 1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eight = 1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Frame(String titl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Image(Image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 getImag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2Imag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age2Short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nGif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nGif(String f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in(String args[]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310-B18C-450E-9BA8-E5E80D11E1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21425-2B04-49B5-9832-7A739146C2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erFrame-S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ay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.         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.            ((r[x][y] + g[x][y]  + b[x][y]) / 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.              g[x][y] = r[x][y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.              b[x][y] = r[x][y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    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.     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.   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A0F-B5DE-481F-ADF4-9C955300C1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DE4F4-60D5-4698-8977-16B9120C04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385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0544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0E0-5E23-400F-9869-6ECF666BFF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33E91-2409-43F6-AF85-2AB5CA126E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nellWl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32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529128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092-A6EE-4389-B6E8-2DF1549318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DD107-5FB0-43E5-8596-E127EB7655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b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bFram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extends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FilterFrame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b(Container f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stPattern(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F66-EF5B-4C6D-867E-0926DD0AA3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5762C-3ED2-411A-99BE-B76222E79C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955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6568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9BA-2684-4B46-A66B-CEB6D7459D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70231-BAD7-499F-BA36-4A4DEE2A48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mogeneous Point Proce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point is treated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size of image is same as outpu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application of statistic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C872-38A2-49D8-9094-D1D482107B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44B51-CE01-4CBA-9072-E4250E9685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M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the total number of pixels of a particular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by the total number of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0" y="3581280"/>
          <a:ext cx="3395520" cy="23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81280"/>
                    <a:ext cx="33955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185-560F-4F54-96C8-584E749CBD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16C92-848E-4A8B-B894-F88CE0129F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r-observable D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of HW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 of values to the syst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16765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B3F-3BA6-43BE-81B6-3B00EC0322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30167-D4B8-4BA1-9D03-8ECAC2BC239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of Prob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 of all probs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F is sum of all values up to a poi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5120" y="3429000"/>
          <a:ext cx="4186080" cy="201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41860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D14-76DC-4204-84F3-3F7D96C45A0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11E02-D6A8-46BA-9C16-3E3DADFF77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gram Comput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95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 =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256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wid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=0; j &lt; height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[plane[i][j] &amp; 0xFF]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473-E91D-4A58-9731-46FBC88FEE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1F359-AC6A-478D-AC11-B35FD76B04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rmalization of PMF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057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x = 0.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histArray[i] &gt; ma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= histArray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Normal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Array[i] = (histArray[i] / max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252-AABD-4063-9C39-284C9A901A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BA89B-F88B-4077-A570-071924BDF6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Histogram of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814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81400" y="2690640"/>
            <a:ext cx="2581200" cy="14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530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1638360" cy="164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E69-9616-4387-B85D-44B2A271996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05623-A7EF-46DD-87B4-B85B0C1D19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istogra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losableFram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uble[] getPMF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uble[] getCMF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PMF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w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istogram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ne[][], String ti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int(Graphics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11D-ED08-4900-87BC-3C7B1F85B6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D9ED5-D777-4999-BAD9-464875B86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ear Map and Sampl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91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4105440" cy="303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666880" cy="26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377-0EBC-4195-938E-ED8B950131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03A19-5897-4FC8-AECD-D9E9B04E82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egating an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529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519440" cy="4438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670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00440" cy="37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B48-4993-4816-87F2-C66E4BBB928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A1353-9A27-4995-A656-0493520F62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666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r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g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255 - b[x][y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960-997D-4E0C-A172-F2318FDE97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975A7-4BD1-45D4-9FD5-A7E0D994BF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er law and image proce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09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1981080"/>
          <a:ext cx="48006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8006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B29-131C-4BA6-A502-3E9064AD03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92B1F-F47A-4112-AD59-7BC5B346BF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shed out images can resu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64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1910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B3E-D7DC-45B5-87AB-991CF52E87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8174F-2DF4-41DA-B007-BCF11D21AE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05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6324480" cy="259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135-3146-4BC9-B043-BA9DF18DBC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3128C-D2A0-4693-ACA9-E65BB80EBDEF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.5 exponent=dark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471840" y="2281320"/>
            <a:ext cx="2200320" cy="22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40E-0F78-4ED5-B29A-315754CE6F9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AB9B1-8F09-4243-8820-3B5F197974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rkening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574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271840" cy="259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604-B455-47EF-9EB9-493B639CE8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91FFD-7B23-48D4-AB94-3C1CBD8A0E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rkening and the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457440" cy="1609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3457440" cy="157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E69-D898-4CE3-BE7D-E3CF3A9A7E0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F09E4-C676-4E53-8671-1944B0A75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ing the power x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wImage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r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g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[x][y] =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55 * Math.pow((b[x][y]/255.0),p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2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626-7B89-4C30-871C-06092237EDD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7320F-772E-40D9-BCAF-B7B4D1EDB0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nging Brightness and Contra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5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2057400"/>
          <a:ext cx="4491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4491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10040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905120" y="3809880"/>
          <a:ext cx="390024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39002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DFC-DD00-4185-9D32-9C071890B73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D4FD5-EBA7-44A9-8904-F1D8763749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ear eq and 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671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17724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A2B-3225-4899-BC16-3084DF9C9D7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0F3DD-2D74-4233-8D86-C3070FE0D1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ightening and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257800" cy="26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7F9-F5CD-4A54-A646-641C36A5339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5665E-8049-48E8-98CD-80CC23AC32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ing parameters automatical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38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133720" y="2133720"/>
          <a:ext cx="36622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3662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3124080"/>
          <a:ext cx="784404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784404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48E-C6DD-4537-92DC-52B9E2F79149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0E651-6934-4E0E-B011-C727F4C66F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NAH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670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77000" cy="1976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67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038560" cy="251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F6B-0ED0-47C6-BBFE-90601DA3E11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04054-3749-40E1-8B84-4646F935C3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CMF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91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76520" y="1871640"/>
            <a:ext cx="433836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FC9-3A06-4EF8-A601-3F8D83B2A22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303B8-AFC0-4ADD-95FB-62025BABC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filterRGB (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gb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d   = (rgb &amp; 0xff0000) &gt;&gt;16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een = (rgb &amp;   0xff00) &gt;&gt;  8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blue  =  rgb &amp;     0xff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ray  = (red + green + blue) / 3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turn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0xff000000 |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gray &lt;&lt; 16) |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gray &lt;&lt;  8) |  gray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723-D2A6-4348-9C95-B0BF5AF7DD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E8652-E0A4-4BDD-B50A-EF35BD3C44B1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aptive Equal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0528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50540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4AC-99D8-471F-B255-5209B06C15A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91F0E-28DC-42FF-846E-3117CD9F4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istogram an AUH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276720" cy="430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0B9-75EE-4DB1-9C60-E78710B1984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1F39E-535F-4EDF-BE71-D12617C610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UT 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formTabl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formTable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z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ort[] getLut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Lut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ut[]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t(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F17-914C-4BCB-9D37-DCC857CB386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7C973-6CB7-46FF-9DD4-BBEE89FF17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Negate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3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371600" y="2019240"/>
            <a:ext cx="63244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B3A-F579-41EF-8E58-DED0A2A9436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D9CAE-39B2-43BB-83A7-5357911BA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uting Aver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861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09680" y="2057400"/>
          <a:ext cx="34527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34527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6A4-39C0-4428-88DD-B0CE79098B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ED243-32DE-4E1F-BDBC-83A80EC2EF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wo kinds of methods for altering an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 meth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indire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 methods employ a mapping function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ping functions are applied to the color pl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02F-1286-4157-A44A-F51F7582093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9E787-3ABF-45AE-B340-A2D7758CAA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rect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direct method use statistical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Kinds of Indirect Method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ive and nonadap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008-5828-46BC-A1BE-D41086F6D0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46B0B-04B7-40C3-B8DF-CCDA533D9B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iew of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057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r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a[][]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i = 0; i &lt; a.length; i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j = 0; j &lt; a[0].length; j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159-5F8A-4E7E-9482-EF5543D347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8D541-9611-4DB3-9C87-BFC03DAE0255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-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rrays are row major, then increment the row more quick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rint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j = 0; j &lt; 3; j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i = 0; i &lt; 3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C63-1E85-4338-9B00-19A011A525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754E5-1809-495C-A432-B1C61489FC75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w vs Column Maj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2286000"/>
          <a:ext cx="7377120" cy="252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37712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0A8-446E-43FD-BCBA-D99801C36D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E8E0E-5DCC-40FF-B262-9E3974FC3A90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mulating 2D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getPixel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pels[y*width + x]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604-6DC3-4E3F-86A7-6B8136F1E5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AB230-C7D9-4663-973C-28EB88C47702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awing in Jav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t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346-D34A-4DD5-8465-61543E9AC9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6468-8BB0-4716-80AA-E5B6DFA29BF9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2-19T02:31:37Z</dcterms:modified>
  <cp:revision>9</cp:revision>
  <dc:subject/>
  <dc:title>PowerPoint Presentation</dc:title>
</cp:coreProperties>
</file>