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05A6-F376-416C-B5B9-3EDF8700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339A-4879-4B46-8251-06D6E6F5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DF98-4C8D-4295-985F-600A48FE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989A-E4FF-4476-8B70-19F74A83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60F-9822-4B2D-A986-459BD1F4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5FE4-FEF1-46C7-A4A0-4237DABC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84D3-1D86-4CA4-A194-D9F3AA96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C751-7228-451A-8BBE-4274FC5B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26C2-926E-4179-B8BE-D746DF8E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D988-1896-4DE7-956F-64B5BB03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4BBC-253C-4B09-BAFE-BA34954D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52C3-B984-42D3-937B-CB26A618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BFD9-720E-4AA8-8885-0D91DF004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in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emory sw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memory for a task is swapped to disk so that the next task can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 switching occurs during a memory sw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 switch tak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ras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o progress is made because of the overhead in the context swi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n’t threads thras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ds share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ds have a low-overhead context swi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ds can have their own schedu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 make thousands of threads with little slow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ads and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2514600"/>
            <a:ext cx="2057400" cy="2362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 threa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2590920"/>
            <a:ext cx="137160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08760" y="514656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85480" y="52992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eadlo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reads or tasks make no progress because of an unavailable resour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I make a thre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class the Thread class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d t = new Thread(Runnable r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unna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interface that defines a method like th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run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interface Runnabl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run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Runna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hread constructor wants an instance of a class that implements Runn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his because the thread scheduler needs a call-back method to execute the Thre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States of A thre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819520"/>
            <a:ext cx="167652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4648320"/>
            <a:ext cx="167652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733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9880" y="380988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star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4648320"/>
            <a:ext cx="167652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5105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81080" y="448632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run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4724280"/>
            <a:ext cx="167616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5105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3505320"/>
            <a:ext cx="152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method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1676520"/>
            <a:ext cx="167616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952880" y="2590560"/>
            <a:ext cx="60984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1880" y="2819520"/>
            <a:ext cx="25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sleep(), t.wai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514600" y="2286000"/>
            <a:ext cx="236232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2160" y="1905120"/>
            <a:ext cx="172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notify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fyAll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daem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kind of thread that dies when main d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Daemon threads will cause the JVM to keep runn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ult-task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ing more than one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readsaf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resource is synchronized other threads cannot use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prevents resource con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it can cause dead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class Computations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kAccount ba = new BankAccount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ed void doInterest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.doInterest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rue concurrenc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do two or more things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of Work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 Pentium computer has two process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processor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al speed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33520" y="1523880"/>
          <a:ext cx="7619760" cy="415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7619760" cy="41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ulti-thread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have multiple thre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hre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task that exists in another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as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 OS a task is a j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ob has its own memory address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called protected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one Job dies, the other jobs can contin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job get some resources according to a program called a schedu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ask schedul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that uses a discipline to decide what resources a job g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 allows for allocation of various CPU time sl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hre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ask that does not have protected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shares memory resource with other threads in a given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3-02-26T01:24:27Z</dcterms:modified>
  <cp:revision>11</cp:revision>
  <dc:subject/>
  <dc:title>Exceptions</dc:title>
</cp:coreProperties>
</file>