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C62-18B4-4E6F-9357-84132F96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EC8-B987-45F9-8206-2F0918C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072-5FAC-47B5-9EB3-5DD61AAF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03D-1878-4F0B-81D7-BB3503D0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E33-5886-42DD-8808-2507533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0CC-80A0-4F05-8A18-FA78CCF1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77E-6030-406A-9531-935FFE42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762-55FD-41FF-B474-2A7C7FF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730-4537-47EF-9B3A-FF3D4F9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9A8-B165-45DE-9A54-EA419C8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73A-78E9-4486-8E07-EA6A4B71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88F-F2C1-4A10-97FD-1B0F1E2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191-8773-4FB9-AD0B-D180585B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bil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– worl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– sub-class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– package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– only within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Only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ustome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tring name = “J. Shmoe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nam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ubl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ons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PI = 3.1415926535896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double sin(double x){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a cla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llows others to use your AP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otec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have a protected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have protected variabl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class authors can use protect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lass authors know what they are doing!??!? Trust them!?!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trust the subclass autho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read but not writ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can be written but not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control access to stat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getInterestRate() {// ac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terestR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only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axe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interestRate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etInterestRate(int  r) {// mut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greenSpanManeuv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Rate = interestRat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rivate meth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don't want to publish the meth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the spec will ch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uff must be docu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careful what you make 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car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Speed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Odome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int getGa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Acceleration(int 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void setSteerWheelAngle(int degree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is eas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hing, it is defa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ot make everything defa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can use your stuff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stuff is unpublish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in an OOD is a function of class interdepende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encapsulate complex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ference organ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cess that enables us to group classes and interfaces into isolated name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hare protected elem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d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protected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so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SomeClass extends dl.ShareM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Class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lated namesp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 is an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place where identifiers are grou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olated namespace is an isolated identifie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olate identifier grou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reuse of identifiers w/o causing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awt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 = new List(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his is an error, how do I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class name conflic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List l = new java.awt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List ll = new java.util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just use unique identifi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we can’t control all the programmers who write libraries that we want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d grouping of reference identifiers (classes and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d word “package” appears as the first java statement in a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ppears on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com.docjava.fut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Foo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are ALWAYS public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package foo; //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foo; //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05T02:17:36Z</dcterms:modified>
  <cp:revision>7</cp:revision>
  <dc:subject/>
  <dc:title>Exceptions</dc:title>
</cp:coreProperties>
</file>