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385-9F9D-4A71-8047-62630F80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889-D302-4635-8373-4B4FC88F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0F9-FE34-4C94-9408-FFF8E8E4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BAB-9FCD-4FC7-AD9F-69EEE681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D80-D1B3-4F25-B5EA-9BACE0A9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664-23C5-4723-B8A3-04B981D9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5FE-83AF-4073-A73E-15AD2D58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FC4-3721-47EB-832F-DB50B272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454-20B1-4F1A-B7E1-F57B34FE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B7E-80DC-4FFA-BF05-391F4054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A26-33E9-4E9C-A2B0-B8605AF2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675-1F6F-4BDC-8FBC-197F2C5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6B2E-C035-45C9-896B-7F6853249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, FILE I/O, tokenization, serialization and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write instance to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that implements the interface serializable can be seri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java core classes implement serializ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imitive data types can be serial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erial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ce (data stor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via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 (CORBA, RMI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 is an application of st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I use serial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n instance of an ObjectOutput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OutputStream resides in java.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ad back use ObjectInputStr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o = ois.read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s.write(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c = (Customer)o; //CN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ntrol what is sav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need a special java keyword for thi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ent is a keyword...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ustomer implements Serializ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ent String name = nul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nforma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quence of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nch of classes in the java.io.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would I want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put and outpu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ing data is data that flows without sto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processing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tream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Stream (FileIn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Stream (FileOut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streams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et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based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and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er and the sc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a FileInput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leInputStream getFileInputStream(String prompt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ew FileInputStream(getReadFile(promp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r: FileOutputStream in Futil.jav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ing a fil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binaryCopyFile(FileInputStream f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OutputStream f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uffer[] = new byte[512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cou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count = fis.read(buffer)) &gt;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.write(buffer, 0, coun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out the b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writeBytes(File f, byte b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OutputStream fo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 = new FileOutputStream(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.write(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s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util.writeBytes,Could not open" + 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that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available(File fil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InputStream fis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InBytes =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s = new FileInputStream(fil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InBytes = fis.availabl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s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util:Could not open fil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izeInBy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2-06T01:51:43Z</dcterms:modified>
  <cp:revision>9</cp:revision>
  <dc:subject/>
  <dc:title>Exceptions</dc:title>
</cp:coreProperties>
</file>