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FAD-0AE8-499F-BD5E-7AAEDC8A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BDD-E9AB-4A1D-B6CD-6350F0A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93B-68C9-469F-B19A-807DB291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912-1119-416A-88F6-22C40312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D57-DC77-42C5-B6C5-7B7E821C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0E9-A633-4A4A-A0CB-656EF0B4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4EA-6909-4150-B86C-84BB2C2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0A2-196A-4860-8F3B-F8AD5BBD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470-F49B-4178-B473-03C1B96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F61-7032-43D2-9893-0C65FAC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88A-01E0-4BBE-A307-EF4B3CB0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2C2-AEEC-45BE-907E-8E7D540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61EC-D3FA-422C-B5AF-DEA93EC04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Ref.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ing 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uses a string to create sub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rings are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 =“this is a sample string”; //– Garba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[] = {“this”, “is”, “a”, “sample”, “string”}; // - Garbag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a tokenized version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kage java.u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StringTokeniz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make a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Tokenizer st = new StringTokenizer(“1,2,3,4 5\” –6”, “,\” 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ind out how many tokens there 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n = st.countToken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the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st.hasMoreTokens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st.nextToke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s != null; s = st.nextToken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Name, LastName, StAddress, City, State, ZIP, ph1, ph2, p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cord p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n = Futil.getFileN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f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Reader br = new BufferedReader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1T23:25:10Z</dcterms:modified>
  <cp:revision>3</cp:revision>
  <dc:subject/>
  <dc:title>Exceptions</dc:title>
</cp:coreProperties>
</file>