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BA9-1443-45D0-B0CF-DD670113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07E-5AF1-4BB6-A250-35BB6145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6DF-E300-4590-9E2F-B96A0752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CD4-BBEE-4A8C-869E-A7420E68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4D7-885A-44BD-BB56-BAC8E788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8B7-5C13-4938-95CA-224BE826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466-6E71-4320-B603-C917B616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FE2-FE26-4386-81A5-54FCA756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636-2F72-42AF-8E8B-CD68BBF5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35F-6AE8-41A8-8ACF-43EE64C3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3ED-090F-4CE3-B7B0-2412352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51D-465E-46C5-8881-1A91835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70D0-7843-4A88-8F00-23FD37B9F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Ls cl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resid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 is a unix command (like DI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i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ies of data 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lace to obtain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in the java.io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s of the File class do not have to correspond to files in the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instance can correspond to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ully qualified file na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+file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home/lyon/foo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\autoexec.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ng with a path sepa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h separator is OS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\' = windows path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/' = unix path s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ompt the user for a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t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Futil.getDir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Dir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Dir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ReadDirFile(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the parent direc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File getReadDirFile(String prompt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Futil.getReadFile(promp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f.getParent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get a read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testGetReadFil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il.getReadFile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select a file"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 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GetReadFil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in java.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an implement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accept(File f, String nam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ood is a FileNameFil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control of how files are listed in a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 *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used by directories in File instances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);// files in a direc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list(fnf); // uses fnf to list th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l</cp:lastModifiedBy>
  <dcterms:modified xsi:type="dcterms:W3CDTF">2003-01-30T01:10:49Z</dcterms:modified>
  <cp:revision>11</cp:revision>
  <dc:subject/>
  <dc:title>Exceptions</dc:title>
</cp:coreProperties>
</file>