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EE6B-0633-4F0A-94BC-BCF77E55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BBE-2347-4898-8E57-E4639E77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479-1A02-46BA-BED1-16969DF8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AE2-9624-4C01-8F94-B004CC45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50F-CF6F-4DD3-B3BB-56BAC117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2E7D-F199-41E1-B1F5-24279B01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E96A-6E80-461C-81CB-FD424928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F43C-8B02-4BE1-A50B-06C5A5D1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2EA9-06F6-49E3-9B6F-2B98C87F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7B2-2F82-41BC-8193-704A691C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FB1-DB1C-4BC9-AA47-645ECE26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5E3C-9BEF-4F44-9691-964B3439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A3FB-930D-4A99-8BEC-576F2853E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of writing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build a wri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void writeString(String 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Writer fw = getFileWrit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enter output fi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w.write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w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catch (IOException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printStackTra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wri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s a stream of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s a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Uni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oduce ASCII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code comes from an array of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code comes from a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can be ascii or ebc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 – American Standard Code for Information Inter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BCDIC – Extended Binary Coded Decimal Interchang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to CR/L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we c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line brea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n’t this platform independ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mac 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PC CR-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 sun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this so messed u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Newlines so messed u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ome there is no standa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id the CR LF standard come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types, western union, tele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I use CR before L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laten advances faster than a carriage can ret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a days we no longer need to control tt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are there so many standar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-LF exists to control a T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People said, lets save a ch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T based VDT’s did not need a CR-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need only a CR or LF, but not bot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ly, then, the three formats just evolved from the CR-LF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5429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scii, 12 is FF,10 is LF, 13 is CR. Notepad uses 13, 10 for starting a new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pad uses CR/LF and it must be in that ord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control the outp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 printwriter, PW and use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w.print(“hello world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w.println(“hello world with new line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w.print(“hello world\nThis a new line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w.print(“hello world\rThis is a return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w.print(“hello world\\n&lt;-now you see it!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w.print(“hello LF \f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we c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ill make network programs that wor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ill make device drivers wor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ill make files that are readable on the target platfo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yon</cp:lastModifiedBy>
  <dcterms:modified xsi:type="dcterms:W3CDTF">2003-09-17T18:43:52Z</dcterms:modified>
  <cp:revision>11</cp:revision>
  <dc:subject/>
  <dc:title>Exceptions</dc:title>
</cp:coreProperties>
</file>