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392-2AC5-4B79-8E29-E5462ADE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D09-9088-4D00-83AF-16B11F7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DF9-8358-4291-A9DA-0834295E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191-1078-4C17-9D0E-BCA2CD55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256-BD2C-4505-89FE-D94560A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C57-25E6-4BA9-B699-2BE9E99F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1F0-A305-4C70-A3BE-0E40CED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145-0CF6-422D-BAF9-F878C73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558-6062-49D1-850E-C8539D3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DC8-4ABF-4131-B5F8-65E89366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3C8-DAAF-4D54-B7A6-EFF1A66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9FB-F88E-4A90-B6F3-77883139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5AA7-3675-4CA1-9FC9-F024BD1F0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read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ad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rea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Reader br = new BufferedReader(new InputStreamReader(new FileIn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7T01:24:57Z</dcterms:modified>
  <cp:revision>8</cp:revision>
  <dc:subject/>
  <dc:title>Exceptions</dc:title>
</cp:coreProperties>
</file>