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F0A-8A94-404A-A507-A090E268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884-53BA-4A28-8A66-DDED6708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74A-049B-4CB4-A3DB-4F6C3FEE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8BC-3405-4546-BCEF-773018E7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050-1D07-4A46-8D1B-BC07B283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4D5-AB33-48F9-974A-52B491E7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6B7-8930-48A7-8225-46D170C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F38-8959-482B-B98A-53786C42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F4A-76DA-4061-882C-A25A04AC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180-1592-48DE-BD17-1440232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655-6996-4701-9119-B2C6812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866-CF33-418C-9719-07706B0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1A7-774D-49DD-8E4F-66A383A18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Image Processing Fundamen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zation Error is 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1736640"/>
            <a:ext cx="39546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Monitors are made for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6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ing and Sav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8 Convolu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kernel, g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738760" cy="1505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7400" y="3429000"/>
            <a:ext cx="46972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 of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gion of support is defined as that area of the .kernel which is non-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convolution:=signal has infinite extent but kernel has finit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unction has finite region of support we have compac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images have finite region of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e treat them as periodic and infin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repeat kernels so that they have the same period as the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this cyclic con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olution in 2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999400" cy="125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6068880" cy="1187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200400" y="4724280"/>
            <a:ext cx="2819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the Mod 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57769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avoiding the mod o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find the center of the kern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ic Con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9600" y="1870200"/>
            <a:ext cx="43941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visu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izing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 of I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Con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8280" y="1752480"/>
            <a:ext cx="704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y = 0; y &lt; height; y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x = 0; x &lt; width; x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v = -vc; v &lt;= vc; v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u = -uc; u &lt;= uc; u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f[cx(x-u) ][cy(y-v)] * k[ u+uc][v+vc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sum &lt; 0) sum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sum &gt; 255) sum =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[x][y] = (short)s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to the image if you ignore the wr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1790640" cy="2336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17906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ic Convolution keeps the 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1791000" cy="233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17906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think of a better way to implement con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use the mod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growing the image by the size of the kernel*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olution is slow, how can I speed it u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T!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an eye for an 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65360" y="1981080"/>
            <a:ext cx="581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ye is a Multi-mega pixel cam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a lens (adjustable z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an automatic f-stop (iris 2-8 m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a sensor plane (100 million pix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nsor has a transfer function senstive to mesopic range; 380 to about 70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yes have a USB2 data rat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0,000 neurons in the optic n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voltage output on EACH n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5 million neural samples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8 bits per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4 Mbps, per eye (a 1/2 G bps system!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ion using lateral inhibition between the retinal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se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 has Gaussian response to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rise to biologically motivated imag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zation of a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use digital cameras -&gt; quan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605400" cy="144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6959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 a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7724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=convolution w pulse t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2376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74214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5:02:46Z</dcterms:created>
  <dc:creator>D L</dc:creator>
  <dc:description/>
  <dc:language>en-US</dc:language>
  <cp:lastModifiedBy>D L</cp:lastModifiedBy>
  <dcterms:modified xsi:type="dcterms:W3CDTF">2003-03-27T15:58:40Z</dcterms:modified>
  <cp:revision>6</cp:revision>
  <dc:subject/>
  <dc:title>Chapter 5</dc:title>
</cp:coreProperties>
</file>