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E69E-6C04-4C2B-AB99-EE9D876E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03C-95FB-40A5-A0B7-EA9991A1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B3CB-D03F-44FD-BAB5-236358A7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39C-C598-46E4-9A51-334648B6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D64-96E4-41E8-ADA9-122675BD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654-A391-4DDC-8CAF-19F07961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55A-56FE-4007-AB25-C9AFF86F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8C5-2E6A-40EB-9FDB-847E78FE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925-F1B1-4965-A96D-06DD21EB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457-A7DB-4394-921A-9B89A89D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1C3-4148-4CAC-86C7-AAD9E8E2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1F4-BF4F-4A57-9783-22B0E0F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4E41-B257-403E-9D4E-097C503A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atabase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 driver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needs to work with many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Server, etc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a DS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with ODBC driver is called JDBC/ODBC (microsoft meth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using a protocol and sub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formulate a connect UR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url =“jdbc:dbnet://show.docjava.com:356/addres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– primar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net – sub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.docjava.com – FQ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6 – standard port for RDBM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ackages do I n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java.sql.*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et u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y RDBMS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a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536840"/>
            <a:ext cx="74674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 it with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84440" y="1981080"/>
            <a:ext cx="577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a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84440" y="1432080"/>
            <a:ext cx="65451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the sql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84440" y="1981080"/>
            <a:ext cx="577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te SQL into Java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81200" y="1981080"/>
            <a:ext cx="5780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RDB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management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ther kinds of 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is a GUI on a JET RBDMS bac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for RBMS - &gt;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e to MDB file and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09920" y="2652840"/>
            <a:ext cx="2324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the DSN to an MDB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28840" y="2552760"/>
            <a:ext cx="4486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package contains the DataBaseQuery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a 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ill require a current SQL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d Quer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andards for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92, SQL 89, SQL99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for all the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only for specif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JDB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s to a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PI (por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ransmission of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elp to process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OP language (y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instances of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blobs (unformatted sequences of by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BMS is good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ogrammer updates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+RDBMS=2 tier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+ server = 2 tier compu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does connections, query and result processing from the R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uses SQ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SQ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connection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tier system - distributed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8600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286000"/>
            <a:ext cx="19051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191120"/>
            <a:ext cx="220968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4400" y="2784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334120" y="3352320"/>
            <a:ext cx="3045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18702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7520" y="324180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880" y="3429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22120" y="33177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yon</cp:lastModifiedBy>
  <dcterms:modified xsi:type="dcterms:W3CDTF">2003-09-18T21:51:46Z</dcterms:modified>
  <cp:revision>9</cp:revision>
  <dc:subject/>
  <dc:title>Introduction To Programming</dc:title>
</cp:coreProperties>
</file>