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689-E322-49AB-8F74-7C7948D8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9DA-4A26-49DB-AF33-AEA71EF8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F81-EBBE-431B-8B96-AEA6487E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D13-DB66-4FC0-80FD-1EC892BF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3E7-E948-49F5-A29F-0C1D577A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5C8-FF15-437C-A9C8-94479AA3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100-7014-4210-936F-57CC95C5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14E-1917-47AE-9883-E30BDB94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5FC-8621-4A70-AB84-33F3E7C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08B-88F5-40FF-B501-9318CE4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826-BAB6-4623-B2A1-EEADD00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D34-7C1C-44E6-B42F-1F613BF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962E-0473-4F3D-8497-4C1D3EB7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ice and Signal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L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Cooking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 are assigned to different Object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deliver the ro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take the orders and deliver them to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tchen cooks the meals and tolls the b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the interru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ron services the bell interrupt by getting the meal and taking to the prope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ear division of labor and assignment of roles, this leads to limit of knowledge about the different implementations of the ro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s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needs an interface between objects with a clearly defined 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a reduction of fragility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face is th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reuse of the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parts use the same interf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oftwar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has been criticized for the lack of software reu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design had reuse using subroutines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ool kits were the only means of softwar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enable Component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I had a standard for gun bar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 th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produc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abl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s use standard interfaces to make use of a large set of related classes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nab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program to the interface you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); //r is run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ImageProcessInterfac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mage process(Image img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a,b,c,e,f,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tring(x,y, “hello world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design requires that you know the parameters, their order and their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ata structures were cre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ds), drawString(graphicObjec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an inpu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som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on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Voice and Signal Process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K that uses mathematics to do data processing in 1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xample of 2D proc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example of 3D proc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and data structures resides in th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ed to communicate outsid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terfaces are made simpler than the system then you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ade desig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ade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Design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implify the interface to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ell and order in the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as, brake and ste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interface to a car -&gt; I know how to drive all standard ca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re not flex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good and 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because: leads to standards....all AC outlet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because: not all interfaces serve al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e is different from a c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learn how to fly a pla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hange from one interface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apter design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one interface to be changed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uses 120 VAC in two pro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uses 220 VAC with different shaped pro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ers converts between the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 Oriented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sign pattern is a recurring solution to a well understood problem in object oriented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hav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formalize the object oriented designs so that they can be re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present the maturation of S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are Good becau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nclature (i.e., jarg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ture discipline has a jar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understood vocabulary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’s enable efficient communication about OOD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nable reuse of 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change the way we THINK about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is a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improve the language tool and this alters how we thing about solv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lot of design patter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to have when you are only having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ton design pattern controls the total number of instances in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instance can be crea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ance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ingleton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trademark like Doc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TO makes sure there is no duplication of a trademark. It uniquely identifies a business or product o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demark can be issu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is different from desig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class SingletonExamp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atic SingletonExample se = new SingletonExamp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ingletonExample () {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ingletonExample getExampl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study V&amp;S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media programm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apply math to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engineer data processing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 voice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D vs Pro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’t do singleton DP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an OO language for th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e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d OOP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rized by Simula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are newer (1995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learn design patterns is by us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 design patterns (introduce DP’s as they are nee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I need to study CR31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 I, Calc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of programming (in Java), CS 131, CS 132, CS232 (Data Structur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ocedural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eation of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out conditional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tching out multiple bluepr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ing several levels of detail for a softwar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things, and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rives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refinemen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nd more detail is used to define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more detail for the problem. Refining the problem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s follow from the spe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are actions that are taken given some situation on some data or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s are procedural elements that give dir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 run the recipe procedure using ingredients and cooking utens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ng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 is an algorith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are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nsils are like the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ject Oriented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cedural design  and add encaps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controls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limits the interface that the outside world see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3-09-08T20:06:01Z</dcterms:modified>
  <cp:revision>19</cp:revision>
  <dc:subject/>
  <dc:title>Exceptions</dc:title>
</cp:coreProperties>
</file>