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103-B352-4DAA-A6F3-952362B1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86C-1A1D-4B87-B4AB-0438A22C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BD0-B7DC-43F9-8F77-7BFA9319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635-7B09-42E0-8541-7986CC3A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4A7-45D6-4A34-996F-1273FEC6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06E-7545-45C5-9A75-382BBA60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8FC-A8DF-4F7A-8487-951B6B4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812-0D40-47BD-9FAA-81AB4D0D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69F-B453-428E-9292-75D9B00F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DE9-2DDD-4574-B95E-3DB0DE0F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2F9-DE74-4B7E-A633-EA91040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C7A-CD7A-4BA3-AA92-C91ACCB9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A13F-05AB-467C-9915-4517A9BCF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key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accel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.awt.event.Key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Events are passed to keyevent listen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keyevent generators (Components) or J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he key is 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component has FOCUS (is select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mouse to select a frame or the taskb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Ev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-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-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-key is depressed (alt, ctrl, shif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KeyContro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eyController implements a KeyLis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-backs for keyevents are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Typ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Press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keyReleased(KeyEvent 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Typed = any character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ocess and implement keyEv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4p has a keyboard package with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7T01:45:17Z</dcterms:modified>
  <cp:revision>17</cp:revision>
  <dc:subject/>
  <dc:title>Exceptions</dc:title>
</cp:coreProperties>
</file>