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BDCE-D692-4E47-BFDD-3E2898680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2456-6A9B-469E-AE10-3B66BC1D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BA4E-9D00-4071-AAF0-D3675F930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2B6E-BC48-44C6-9C79-692069DBF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8183-3A15-4C86-B43B-E9FAFA7D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9C69-85BA-4DBD-BB8E-71D9AE97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0292-6FE8-46DE-A635-3EE47882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0785-D59D-4C25-A2D0-25DCDB4F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AC2F-FAC9-40EC-87FF-2A8FB53E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7A27-2A6A-4AEC-A0BF-377DA403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2D17-EB76-4A51-9166-53DA173F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6117-0D48-4D04-9D60-19B67355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2DF8-69AB-473E-8750-59C1A7CA6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ing HTML in S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ME identifies Data Typ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documents are of a specific typ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present process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 represents process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 represents process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not limit to the number of different data ty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ME is used to introduce the data ty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of M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text/html" = html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text/rtf" = word RT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sound/aiff" = audio interchange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sound/au" = 8 bit voice grade format (SU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.Lots of others....All documented in an RFC15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ME is used f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sers use MIME (mapping to plugins or helper app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tP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text/html", "text/plain", "text/rtf", "image/gif"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we generate HTM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&lt;html&gt; &lt;body&gt; sdlkfdslfkj&lt;/body&gt; &lt;/html&gt;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type it i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way is to synthesize the HTM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to write a toolkit for HTML synthe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HTML Synthesi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ring getHtml(String s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"&lt;html&gt;\n" + s + "\n&lt;/html&gt;"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s = getHtml("hello world"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="&lt;html&gt;\n helloworld \n &lt;/html&gt;"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ilding a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ring getListItem(String s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"&lt;li&gt;\n" + s + "\n&lt;/li&gt;"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= getHtml(getListItem(li1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html&gt;...&lt;li&gt; li1 &lt;li&gt; &lt;/html&gt;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will lea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build an HTML vie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MIME data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synthesize 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generate HTML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HTML vie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pplication that renders HTML to the sc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Render HTM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Markup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es creation of a brow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es handy documentation vie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es debugging of HTML gen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render HTM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.html.HtmlVie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ders some canned 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es the HTML viewer 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eart of the HTML view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x.swing.JEditorP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bed an instance of the JEP in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x.swing.JScrollP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p.setContentType("text/html"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p.setText(s);/// then just displa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M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p.setContentType("text/html"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s the type of data in the J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text" indicates there is text in th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html" indicates we have an HTML data ty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IM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urpose Internet Mail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"string" with several predefined val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we have MIM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beginning MAIL was only ASCII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body wanted BINARY data to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TA = Mail Transfer Ag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TA is a program that moves mail from one NODE to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ode is just a computer than runs an M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dl</cp:lastModifiedBy>
  <dcterms:modified xsi:type="dcterms:W3CDTF">2003-03-27T00:58:22Z</dcterms:modified>
  <cp:revision>16</cp:revision>
  <dc:subject/>
  <dc:title>Exceptions</dc:title>
</cp:coreProperties>
</file>