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126-96B9-45EB-898C-0A7E117B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4BCD-4FB2-49B4-847A-C1661E84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DCA-F6B8-427A-A132-8C2AB447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8B4-A486-43F4-962B-98B5E1A8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C7D-DDAC-468B-8A24-854246E2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B70-9B24-40B2-A434-46B2720B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172-6443-44B7-94FB-95B97DCE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4FE-B238-49B0-A66B-5CE4666F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692-3277-40A2-9169-90174B55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9BC-FE1F-4606-96C5-7CC44CF9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A318-64AB-4316-BF10-27EB7566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22F-3056-4928-A227-56D86EF0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CA39-21F0-4946-8565-D6D43FE10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omogeneou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ts all pixels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ogeneous point process treats all pixels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'=f(p); // homogeneous point processing does not care about pixel 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morphic pixel ma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need a func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nction has a single possible output value for any unique input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lation can have two outputs for a given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 x**2+y**2=r**2 is a 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sqrt(x*x+r*r); //take only the + part and you have a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a pixel has many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ing an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ing the contr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ing the i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gram eq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ing to a new color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implements HP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 for HPP base on an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ization of the filter into interface allows for polymorph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form such an interf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awt has RGBImageFilt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requires that you i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t filterRGB(int x, int y, int rgb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Unpack the rgb 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o the H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pack the int and return the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unpack our RGB i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RGB=0x7FDEAD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a = rgb &amp;0xFF00000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r = rgb &amp;0x00FF0000 &gt;&gt;16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g = rgb &amp;0x0000FF00 &gt;&gt; 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b = rgb &amp;0x000000FF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r1 = getRed(r,g,b);int g1=getGreen(r,g,b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b1 = getBlue(r,g,b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0xFF000000 | (r1 &lt;&lt; 16) | (g1&lt;&lt;8) | b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apter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er Pattern take one interface and maps to a new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 HPPFilter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int getRed(r,g,b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int getGreen(r,g,b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int getBlue(r,g,b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the HPPAdap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47168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class HPPAdap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s HPPFilter, RGBImageFilte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 filterRGB(int x, int y, int rgb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r = rgb &amp;0x00FF0000 &gt;&gt;1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g = rgb &amp;0x0000FF00 &gt;&gt; 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b = rgb &amp;0x000000F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r1 = getRed(r,g,b);int g1=getGreen(r,g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b1 = getBlue(r,g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0xFF000000 | (r1 &lt;&lt; 16) | (g1&lt;&lt;8) | b1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2-27T20:15:25Z</dcterms:modified>
  <cp:revision>7</cp:revision>
  <dc:subject/>
  <dc:title>Exceptions</dc:title>
</cp:coreProperties>
</file>