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FB10-A0F3-47FE-87C4-D737AD3AA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0C55-FE6C-4DA4-9B1E-FB1962A8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DCEA-162E-49D3-B1A5-95E62FFB6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EAD0-C0AE-4E94-AEB6-20EE9392A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D680-AF44-42C8-9E5E-789460CEA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B97B-1D92-45CF-A687-E1874DAD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ABF6-F939-4690-B0AA-C8108A52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0C1A9-4B23-4859-A1F8-7FA69187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C298-41F1-4BBA-85AB-BBAE8D81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7813-1C95-4420-89E5-AE5DD335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F8FD-13D1-4177-ADAD-27E9694F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9964-430B-4CAC-88E4-8F373023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0EEB0-B1E0-4CE4-9E30-CD82146A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4C8D-0E12-4CBC-82FF-1D242EAD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23EF-278B-4613-A603-6F89CDFA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71CCC-EA5C-4B7B-911A-8CD998176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E90BE-F6A7-4A52-8AAE-5B02764BC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F008-0B29-45AD-9306-17A72473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BB4D-74FF-4490-B90C-A82AADD0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A536-2DAB-40DD-84DB-5A3CD7BC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A321-366A-4B61-AC7D-FDE3C85A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F65D-9603-4130-BBCF-E991C699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B6F9-5926-48C7-B96B-0BD1C787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3A67-45E3-4B15-9175-78565F93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05D5-F3EF-40AC-8299-5616DDE14AA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2C1A-1FB3-4F5B-9C78-C7319470C2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4F64-8D67-4B3C-9611-0E151C7E97D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4288-93A5-445B-A02B-F1885B0E1E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hapter 8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rays and Ve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C693-D766-4EBC-A58A-2C5E45B7FB9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18F869B-0D50-4CF4-A0EE-E8997A82F4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Vec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 vecto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las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does the Vector class resid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va.util.Ve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good is i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exible in si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F6C1-B87F-4A15-BDF9-2A67966D900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3DFDEB-0F07-4E27-8DCB-02545FE7D1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Vectors vs. Array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rays have fixed size, vectors don’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ctors can only store ref data typ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multidimensional vecto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ray is more efficient for storing prim. data typ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33A9-C3E4-4E29-97EA-86DEB812074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4EF4BB-9662-4FAA-B3D8-1312E790630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do I use vector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 java.util.Vector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static void main(String args[]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ctor v = new Vector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.addElement(“hello world”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.out.println(v.size()); //returns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.out.println(v.elementAt(0)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/ prints hello worl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401F-8B28-4036-B246-E826EB94AF1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7CD46E-D5F9-4A44-884E-7CD45418D7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sing a vector in a for loo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void print(Vector v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(int i=0; i &lt; v.size(); i++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.out.println(v.elementAt(i)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1FB5-739F-4D48-803D-8A7F4C9C213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14CE88-B991-4234-92FB-323A74DA427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 vector of custom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class CDB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ctor v = new Vector(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void add(Customer c)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.addElement(c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Customer getCustomer(int i)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urn (Customer)v.elementAt(i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3B5E-5C71-424C-869D-CCD5A35D904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E9B6DF-2A1B-426A-8CD5-B8A625928C7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mportant ideas for you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n Arra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 Vecto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 Contain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 stack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 Queu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71E0-BC0F-4B1F-85E0-407A1926681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0EC4EF-4E3E-4017-844D-3800EA2394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an array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inuous addresses in mem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erence Data 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element that knows its own l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element that has a fixed number of dimen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container 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FDAE-99DF-4D4E-8BF4-F08A0BCFB4B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49BC72-5F97-41DE-A803-11E17C402C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y do we need an array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store stuf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use memory to process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dex the data that we proce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DD51-1823-430A-9FFE-82478DFBA8A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122DB7-BB59-412C-BA7E-27EF0EA2DAA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kind of stuff can we stor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mitive data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erence data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ever you store, all the data type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must be the sam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ACA9-C33B-4B5D-A764-1A9B4A12189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B40F87-AB90-44F1-A657-9856DCC19C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do we make an array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 ia[] = {1,2,3,4,5}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 ib[] = new int[10]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ing names[] =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m”, “dick”, “harry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E9A0-57C0-45AA-8B84-FD4038C293F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32B13A-C05D-447C-AF77-7FDBD1FDCAF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do we use the array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class IntArray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 ia[] = {1,2,3,4,5,6}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int sum()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 s = 0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(int i=0; i &lt; ia.length; i+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 = s + ia[i]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urn 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5BFA-9D39-4E2D-87A4-BC3525BC850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63D2D7-1966-4A97-A1C4-7C9E755CB7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ulti-dimensional Array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 i[] = new int [100]; //1D arr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 j[][]=new int[100][100]; // 2d arr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 k[][][]=new int[2][3][4]; // 3d arr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.length is 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[0].length is 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.length is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83F5-479F-4F1E-9F72-D0047914BD1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62693C-7700-4368-83D4-77F63EA64B9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multi-dimensional array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 k[][][] = new int [2][3][4]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stem.out.println("k.length="+k.length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stem.out.println("k[0].length="+k[0].length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stem.out.println("k[0][0].length=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+k[0][0].length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length=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[0].length=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[0][0].length=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63B7-3648-456F-981F-58B7C7DADCB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8111B8-1D8A-4C56-B117-9D771B32FD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yon</cp:lastModifiedBy>
  <dcterms:modified xsi:type="dcterms:W3CDTF">2003-01-22T02:13:43Z</dcterms:modified>
  <cp:revision>6</cp:revision>
  <dc:subject/>
  <dc:title>PowerPoint Presentation</dc:title>
</cp:coreProperties>
</file>