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15C-5812-4ADF-89CA-7D500818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79D-39B6-4932-B3BD-F6A875AC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CCE-E293-4DC7-ADCB-EFF73A5B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080-81B9-4243-B226-9ED48AC3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795-9492-469B-B0D8-F4501F64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8C2-3D7E-4A88-AFB6-E0F4E21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E00-E3A2-49ED-A176-352D8D57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27D-6F4E-42C3-8013-570231AB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1FB-5C48-4D1F-8260-1119AA49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582-82B8-4555-A839-B489DE5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BE1-286F-43DA-B97E-A848A48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3D1-EF5C-4716-874B-2CF7490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C1C4-B7B4-42EC-A22F-AA10540DE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lse do while continue break switch case return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ptUserForComm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userInputIsNotQui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it; booleanCondition; iter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i &lt;= 10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alters the flow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must reside in a continue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ntinue targe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, DO, FOR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continu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go to the nex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5.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. in W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1 ..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continu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2.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s a Jav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term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in a break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, while, do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print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f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Probable-Possible, my black 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lays eggs in the Relative W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doesn't lay eggs in the Positiv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he's unable to postulate how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Frederick Wi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continue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break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br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prints 0..9,1..10, 2..11 then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reserved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makes a table out of several different statements and selects which ones get executed. Like a complex if-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(argum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ument is byte, char, short,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double, float, long or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(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2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10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on ch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s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v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appears in switch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used when no case is satis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quit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command not found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a sudden change in the flow of control to the invok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“this is the return example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xamp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age &gt; 6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PayingSocialSecurit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youAteLotsOf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GetFat = 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x = 10 * Math.cos(Math.P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x &gt; 20) 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irst method using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int addOne(int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x +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addOne(1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s to ra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deg2rad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d * Math.PI / 180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deg2rads(18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2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2c(double f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(5.0/9.0) * (f –3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2c(212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value of an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v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p, double r, double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p * Math.pow(1+r,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v(100,0.07,3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a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String getNam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“CS131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getName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ls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 65) &amp;&amp; (grade &lt; 7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D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= 70) &amp;&amp; (grade &lt; 8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C”; // etc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If handle multiple statement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theCowsComeHom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moo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called a block of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therThingYouMight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(grade &lt; 65) ? “F” : “pass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assignments with many simple boolean dec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il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hould I use the whil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omething as long as some condition is m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 i &gt;= 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--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the do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++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 (!(i &gt; 1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userWantsToContinu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Stuf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weHaveMoreData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DataProcess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4T00:22:40Z</dcterms:modified>
  <cp:revision>4</cp:revision>
  <dc:subject/>
  <dc:title>Introduction To Programming</dc:title>
</cp:coreProperties>
</file>