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CDD-35D5-4CA2-A206-200F6DA1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4DB-324A-4A49-8B89-F0044FBB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7CC-BDA7-46A9-ABC5-C221AF2C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4E4-50E0-4BA2-81D4-83618398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4CD-162F-4623-A71A-1D8CA277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3B6-7B37-4889-81A2-C5A7D92D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32B-2D03-4747-AC51-C385C92E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58A-E2BE-447B-860F-4430BFBC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FA0-CE92-480F-A70A-F97DA371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232-57E6-480F-A28E-B803142C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B15-40E2-49D7-9BBE-38DD696E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F87-4CF0-4312-9A9D-04932A01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D6B9-8AD0-4331-9452-910A7F194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Forwar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-automatic proxy del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atic proxy deg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method invocations that are checked at compil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methods to the delegatees does NOT mean that methods will appear in the prox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ynamic deleg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methods in the delegatee automatically appear available in the proxy at run-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 for JDK 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ype safe. Exceptions can be thr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 using reflection to invoke a string on an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automatic Static Del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-time checks for type saf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gatee changes are discovered using introspection and cause a resynthesis of the proxy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of Java source code synthesis that occurs at a pre-processing run-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w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time (input instance to the synthesiz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time (output proxy code to a fi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 time (compile the new pro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ing time (dynamically link to the proxy and classes it u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ime (where invoke method in the pro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semi-automatic static proxy deleg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interface to a complex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Code 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han manual message forwa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sa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to 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using Multiple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I in Jav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rel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methods with the same signature then you must disambig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dowing is decided at compile-time using some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ological sorting is an automatic means of disambigu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MI Con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rigRad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double cos(double d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Math.cos(d);//in rad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D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rigDeg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double cos(double d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Math.cos(d * Math.PI/180.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and Tr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onfusion extends TrigRad, TrigDeg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d = cos(9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/ this is not allowed in Java bu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in C++ or Smalltalk. Or in ZetaL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Si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biguity can exist for topological sorting in 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amond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class is sub-classed by two other classes that are in turn sub-classed by a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4320" y="327672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920" y="4267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52680" y="35812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31360" y="41148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105160" y="35812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96560" y="494352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724280" y="4572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429000" y="47239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x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lement that represents another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vote – slip that is sent to a central authority in lieu of appearing and voting in person. The proxy vote represents the vote of the indiv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delegate – simpler interface to a complex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Diamond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ll the problems of multipl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omplex for linking st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head for each instance g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 the overhead is in malloc or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s taken from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gile base class (constant recompi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good about Diamond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addition of features to a sub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larg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kits are easier to cre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dge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with an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that implements th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communicating between the client and the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is to have transparent distributed applications. Key for using R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ssage forward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ssage is passed from one place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OP Message Forwarding me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a method invocation and forwarding it to another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ammal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boolean hasHair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r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abl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ovabl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, int 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move(int _x, int _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_x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_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ableMam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MovableMammal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able m; Mammal m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ableMammal(Movable _m, Mammal _mm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_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 = _m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ableMammal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move(int x, int 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.move(x, y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boolean hasHair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mm.hasHair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xy uses the implementation of anothe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95280" y="3200400"/>
            <a:ext cx="10382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rox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43400" y="3429000"/>
            <a:ext cx="1609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mmal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19720" y="4724280"/>
            <a:ext cx="15904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ov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438280" y="3809520"/>
            <a:ext cx="1752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426708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6560" y="35053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8920" y="570564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57240" y="562932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3040" y="3048120"/>
            <a:ext cx="34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MovableMam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17T23:24:19Z</dcterms:modified>
  <cp:revision>5</cp:revision>
  <dc:subject/>
  <dc:title>Exceptions</dc:title>
</cp:coreProperties>
</file>