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B87-690E-4AD7-9780-63DB1F79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461-D563-47CD-8FC3-3CE4F56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E83-2A4D-4427-813C-C48714FA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7BF-C05B-4D0F-92D9-5D1C9C0B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5560-D660-4CE3-A079-44503B04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BD0C-1F27-459F-AB24-D6914D1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A518-2227-45E0-83E7-F9937F9A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E62A-F3E8-449F-B8D8-DDAB1C79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346D-6F0E-43A3-BA55-EA1D8956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79A-018A-4A45-B40D-F4C3E39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74E-32AC-4378-A334-AF89729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D41-834C-48C9-AC83-3651758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148-EDD4-4234-881A-6BA1999D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E8D3-A689-497B-982C-51D4AFA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2197-4D91-4832-9F78-6DADDA4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2D0D-82CD-40EC-807C-14899297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ED91-29E5-4B66-81C4-F702EDD9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830-7F99-4EAB-B4EA-4830159B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FAD-CFB9-4CB5-BA01-C666ED2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658-0606-4E80-B1A2-EA3B3E06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C1E-B07F-4149-BF88-CDA5E51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A5A-9C55-4ECC-AD45-90696F8A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812-D554-4D78-823E-C49BC1B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F388-2245-4875-A1CF-CC15F4A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B33-2846-4769-81E5-8C9BD263A1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5EFD-A8FD-406E-BCF2-435ED74FB9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463-BC32-466E-AA40-0B9AFDCA03B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DC6-287B-4246-8F32-66E0D701B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9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per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yon@docjava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695C-5C21-416A-A2BF-D4B1BA59B1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1FE097-C8D2-450B-81C7-E6C584CE16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converts and array of char to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[] = {‘h’,’e’,’l’,’l’,’o’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i = new String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hello = “hello world”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1[] = s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 = hello instanceof 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 c2[] = "hello world".toCharArray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b2 = c2.length == hello.length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3FB-3D07-45F4-9D4B-A76023CFB1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00699-6121-404E-9A22-532E5AA94A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replace all instance of a string with anoth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it to an array and search the ar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lots copying for this, since the two strings are generally of differenc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ng s = replaceString(s, “hello”, “hi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/ all instances of hello are replaced with h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it to a Vector of Charac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ight be slow...and take lots of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B89-320C-4655-869D-C09D7B7467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BA153-6B8D-4B1F-A726-F81249A07D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an we use the String method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help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.indexOf(“hello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77D-E680-4D1E-8E83-9AFE3D90A5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B657A-841A-45CE-8DC3-5D30B481D5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laceSt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atic String replaceString (String s, String lookFor, String replace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or (int i= s.indexOf(lookFor); i &gt;= 0;i= s.indexOf(lookFor)) {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 =s.substring(0,i)+ replace +  s.substring(i+ lookFor.length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ystem.out.println("hello="+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2C4-4F9F-4791-8023-2BCF4D45CF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EDC0B-8855-401C-B3B5-F91B6E37C1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the java.util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StringTokeniz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.util.StringTokenizer st =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StringTokenizer(“hello world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008-1DA4-4CAE-938E-60B553C525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6DA2F-F5F1-4DE2-8FD2-7AAFFD91AC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a StringTokenizer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zier st = new StringTokenizer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; j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EC5-C3E1-4285-ABCB-E68B5FDE74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35266-C763-43E1-9785-6AF0418079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java we writ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 hi this is a test world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089-EFFA-4718-9D28-5D830A50CE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83F95-0FE3-47CD-9D2F-9A3CCB1BE5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tok on comma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Tokenizer st = new StringTokenizer("hello,hi this,is a test,world",","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st.countTokens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j=0; j &lt; i ; j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B15-F527-45D5-AC23-832DB81944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D6DAB-D383-439A-A1DC-D56B8F8DA2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wrapper cla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 of ch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34F-7574-4DA6-9521-A90D02C062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BD0BC-876C-46AA-86EA-AA5FAB0B67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wrapper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prim data type to a ref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8 of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580-7194-443B-B7BA-27F807E5D5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11BE0-A0CD-4BCD-BF68-B72F2E1D13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are the wrapper class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, 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te, Short, Integer,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at, Dou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04-5189-4383-886E-96A2FF15C9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762C2-0C8E-49EF-BC13-DACD10EF84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lean b = new Boolean(true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3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d = new Double(2.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c = new Character(‘t’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4BC-C193-4083-93D4-867484A73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74901-FFDA-462D-A727-8C5B198076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wrappe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store reference data types in contain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Integer(2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new Double(2.3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632-E2E0-4679-8328-BB8456DB22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48035-A648-41AD-BDF2-D234222571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wrappers...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appers have nice methods, that we can u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i = new Integer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 = i.intValue(); //back to 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nteger.parseInt(“234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lso have a corresponding set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ods in each wrapp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F02-0185-48AD-9C86-410B48E337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A2432-7331-4A56-9715-1CA58DE940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determine equalit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100; int k = 200; boolean b = i == k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er m= new Integer(i); Integer p = new Integer(k); boolean b2 = m.equals(p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D4C-9ECE-4844-98F0-0E9783AB2B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5CC31-84BA-403A-AB36-81CD9FFFD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ring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reference data 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sides in java.l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ls are formulated with quo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s = “this is a string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= s + “hello world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+= “hello hello”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751-846E-4571-AB1C-CAD95806DD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0EEDC-30ED-4833-A272-8C78F683DE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3-09-09T01:06:00Z</dcterms:modified>
  <cp:revision>8</cp:revision>
  <dc:subject/>
  <dc:title>PowerPoint Presentation</dc:title>
</cp:coreProperties>
</file>