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FBC-D159-433C-BCEE-EB417C99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FFC-34A4-480C-9C21-090FE0B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071-431E-4F79-B022-C578E985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FFD-B4BD-46C2-A3F6-67C23C39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32E-A6DB-4F3D-87AE-AA3AB84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8A6-AC06-40D4-96E5-BD5C3C75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2F5-EC4D-4FF4-8DEF-981227EA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5D4-347A-459A-A01C-2849A36F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E70-FD5A-411A-BB26-D17C2E5C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291-1716-4BE9-873C-02777E5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7C2-6845-4F16-B03D-8A374BF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B84-1E3F-4389-B197-A11BFB0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7A7-E8E9-465F-A970-1AC2B5ED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desig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r-obser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ign patte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way to sol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a problem that they must 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p's have a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MVC,single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make sure that I only have one instance of a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final class IDB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IDB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tatic IDB i = new IDB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IDB getIdb() { return i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ton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tern to have when you are only have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of DP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ervers-Observ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-Observer D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nd subscribe to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P that wires up Observers with Observ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combine the roles of mediator with observer and observ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gets conf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need a wiring hu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2-27T02:03:41Z</dcterms:modified>
  <cp:revision>13</cp:revision>
  <dc:subject/>
  <dc:title>Exceptions</dc:title>
</cp:coreProperties>
</file>