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4AA3-1FE2-42EF-838E-90B1AB048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XML – extensible Markup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ed to overcome limitations of HTML – define own tags for e-comme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TML already has so many tags that it is common to have more markup than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means adding more tags to HTML would be a bad id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ell formed XML has a close tag for every open ta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XML main use is exchange of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xtensible – able to be extended. (Author creates the tags that are need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XSLT – extensible stylesheet language transform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nverts a document from one format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 – Change a title element to a name e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XSLT is well formed X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ly need to learn new syntax to learn XSLT (if you know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TD – document type 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fines the allowed constructs in an XML doc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o learn how to write DTD’s you had to learn new stru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es Xpath to match patterns in 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SLT arose from the W3C work on Extensibel Style Sheet Language (XS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SL specification covers the transformation and formatting of 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3C realized that transformation was a significant area in it own right and broke out XSLT as a stand alone specif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PATH is a specialized language that provides ability to address parts of a XML document. It was originally part of XSLT specification but has since become a separate W3C recommend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XSLT is XML any program that can read XML can read XS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several tools available to transform XML using XSL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has provided abstraction layer through JAX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LST provides an easier to maintain and more readily extensibl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SLT is easier to learn than traditional programming languages for use by non-programmers, e.g., web mas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 to agree upon common schema DTD with all potential business partners in adva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Key Constructs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xsl:template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match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shee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xsl:value-of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selec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d/text()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xsl:copy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xsl:for-each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selec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s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xsl:apply-templates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mode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-unless-empty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                                                  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elec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ZeroFuelWeigh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Xalan XSLT processor in conjunction with Xerces parser. Both products are open source products by Apach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be Demonstrating the transformation of an XML file into another XML format as well as HT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B15B-6F20-474D-AFF3-96D79BD6A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6CF1-B13A-4734-A2FB-CE95255E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B248-3E22-4CA8-98F3-A4B94708B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D41E-33E3-48D6-BCE5-56D1097C6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1F3C-10B2-4F88-BEA9-3DACDAD1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06B3-E649-410F-9C32-5FE6B4FF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EE91-B590-45BE-94C0-FF9E6042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63EB-BBC3-420D-A374-97AFD771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FB34-A68B-41B1-8C6B-D13BC512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13E0-B5FA-45E3-B9F0-29EABB2A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74CD-BE53-44CA-905D-8F44B4CA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2EBB-2A9C-4D2A-BFF6-04B7FE52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19A5-C7DD-4EDC-8D2B-351F672D4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XS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Ed Rosenthal And Dave P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ef Primer on X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3886200"/>
            <a:ext cx="7162560" cy="2209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609588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XS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481968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XSLT Relate to XM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XSLT is well formed XM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nly need to learn new syntax to learn XSLT (if you know X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ransforms XML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rom one DTD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TD – document type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o learn how to write DTD’s you had to learn new struc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es XPath to match patterns in XM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XS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4648320"/>
            <a:ext cx="6400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33720" y="4343400"/>
            <a:ext cx="5257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SLT is part of XSL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ed into separate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es on XPath for some of its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47712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XS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3C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dd functionality to program without recomp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development &amp; ease of code re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LT is 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 to XS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ibraries such as SAX used in conjunction with general purpose programming language such as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 programming solu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ghter integration with business partners, e.g., work with common DTD / Sch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XSLT Style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600200"/>
            <a:ext cx="320040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80"/>
                </a:solidFill>
                <a:latin typeface="Arial"/>
                <a:ea typeface="Arial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xsl:stylesheet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 xmlns:xsl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w3.org/1999/XSL/Transform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"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 version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xsl:template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 match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ype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brew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xsl:apply-templates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brew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xsl:template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xsl:template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 match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ice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!--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 All other elements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xsl:template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 match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|@*|text()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xsl:copy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xsl:apply-templates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 selec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|@*|text()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xsl:copy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xsl:template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xsl:styleshee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670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80"/>
                </a:solidFill>
                <a:latin typeface="Arial"/>
                <a:ea typeface="Arial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beer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 color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rk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produc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m Adams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produc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type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e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type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price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6.99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price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beer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76920" y="1219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2971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3429000"/>
            <a:ext cx="3429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80"/>
                </a:solidFill>
                <a:latin typeface="Arial"/>
                <a:ea typeface="Arial"/>
              </a:rPr>
              <a:t>&lt;?xml version="1.0" encoding="UTF-16"?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beer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 color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rk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produc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m Adams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produc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brew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e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brew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Arial"/>
              </a:rPr>
              <a:t>beer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1219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SL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69343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0T15:24:27Z</dcterms:created>
  <dc:creator>Ed Rosenthal</dc:creator>
  <dc:description/>
  <dc:language>en-US</dc:language>
  <cp:lastModifiedBy>Ed Rosenthal</cp:lastModifiedBy>
  <dcterms:modified xsi:type="dcterms:W3CDTF">2002-02-15T18:42:04Z</dcterms:modified>
  <cp:revision>20</cp:revision>
  <dc:subject/>
  <dc:title>Introduction to XSL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0637660</vt:r8>
  </property>
  <property fmtid="{D5CDD505-2E9C-101B-9397-08002B2CF9AE}" pid="3" name="_AuthorEmail">
    <vt:lpwstr>edr@optonline.net</vt:lpwstr>
  </property>
  <property fmtid="{D5CDD505-2E9C-101B-9397-08002B2CF9AE}" pid="4" name="_AuthorEmailDisplayName">
    <vt:lpwstr>Ed Rosenthal</vt:lpwstr>
  </property>
  <property fmtid="{D5CDD505-2E9C-101B-9397-08002B2CF9AE}" pid="5" name="_EmailSubject">
    <vt:lpwstr>Here is Dave and My Presentation Number 1</vt:lpwstr>
  </property>
</Properties>
</file>