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D989-EAE2-4935-B47B-37D1ED1C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73B-1F42-43E5-8630-C05FA4E0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013-74A8-42A8-AC0F-EE18E0CB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E524-45AF-4C0A-AC5F-533F248E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3B45-728A-45F4-B3CA-8E9F4FDA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F08-9FEA-4336-950B-7D4552F4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E0C3-20DF-45A2-9D3D-EE3AF675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804A-E536-40CC-AEF2-6C409CBA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5D5-2D35-42FD-8596-4A5AB0A0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7AC-6412-400D-BFA4-25A83DCB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5D1-E9C9-4837-90B7-FC5E58E7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105-D075-4D40-8DD2-9E3DAC36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8910-B837-47FC-90D0-175DAEBC7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reading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read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s a 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s a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oduced from ASCII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 the translation from non ASCII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CII – American Standard Code for Information Inter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BCDIC – Extended Binary Coded Decimal Interchange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build a read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Reader br = new BufferedReader(new InputStreamReader(new FileInputStream(f)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(String s = br.readLine()) != null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Line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10-17T01:24:57Z</dcterms:modified>
  <cp:revision>8</cp:revision>
  <dc:subject/>
  <dc:title>Exceptions</dc:title>
</cp:coreProperties>
</file>