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6124-C5D7-4F7A-806C-D7CDEFDA1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DF1D-6758-443B-B3A9-E8CBA6299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F10B-443D-47C3-ADA3-D9ABA6936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85D3-776B-4505-AB85-675CBAB3D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E208-284E-462D-814E-452D6F7CE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B7E0-BD1E-4B00-A5D6-53742ABA5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9BC1-782F-47CD-9276-FEC0593F1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F5FD-1D37-4D57-9FB6-292054DED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0E37-21EB-4A5C-876D-4F3CFA89B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2CFD-800A-4C7B-81A4-0E9F986E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DA7B-7777-4BE3-AE08-D5D7D9D2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5875-71F2-4553-9915-88E16C45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B9CB3-5F11-4DF8-B6E9-603903BF3C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ol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else do while continue break switch case return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mptUserForCommand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while(userInputIsNotQuit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stat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(init; booleanCondition; iter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(int i=0; i &lt;= 10; i+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.out.println(i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e is a reserved wo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e alters the flow of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e must reside in a continue targ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continue targets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LE, DO, FOR, SWI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continue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s the target go to the next val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(int i=0; i &lt; 10; i++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(i &lt; 5) continu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out.println(i); // prints 5..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. in Wh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i=0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le (i &lt; 10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++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((i % 2) = =0) continu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out.println(i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// 1 ..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 continu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i=0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++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((i % 2) == 1) continu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out.println(i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while(i &lt; 10); //2..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a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ak is a Java key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s the target termin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be in a break targ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, while, do, swi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ak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(int i=0; i &lt; 10; i++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(i &lt; 5) break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out.println(i); // prints NO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le-brea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i=0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le (i &lt; 10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++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((i % 2) = =0) break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out.println(i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// prints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-brea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i=0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++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((i % 2) == 1) break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out.println(i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while(i &lt; 10); //prints no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if stateme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Probable-Possible, my black he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e lays eggs in the Relative Wh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e doesn't lay eggs in the Positive 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ause she's unable to postulate how.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 Frederick Wins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beled Contin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: for (int i=0; i &lt; 10; i++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(int j=0; j &lt; 10; j++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.out.println(i+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(i + j &gt; 10) continue star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//doubly nested for-loop with labeled contin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beled brea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: for (int i=0; i &lt; 10; i++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(int j=0; j &lt; 10; j++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.out.println(i+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(i + j &gt; 10) break star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//doubly nested for-loop with labeled brea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/ prints 0..9,1..10, 2..11 then sto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itch stat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itch – reserved 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itch – makes a table out of several different statements and selects which ones get executed. Like a complex if-el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itch(argume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gument is byte, char, short, 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double, float, long or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itch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 i = 1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witch(i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se 2: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men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se 10: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men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itch on ch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r a = ‘q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witch (a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se ‘q’: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it(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se ‘s’: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ve(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ault is a key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ault appears in switch stat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ault is used when no case is satisf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defau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r a = ‘z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witch (a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se ‘q’: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.out.println(“quit”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ault: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.out.println(“command not found”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 is a reserved wo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es a sudden change in the flow of control to the invoking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of re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atic void main(String args[]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out.println(“this is the return example”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exampl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(age &gt; 65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pPayingSocialSecurity = tru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(youAteLotsOfFoo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GetFat =  tru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(grade &lt;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terGrade = “F”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of re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atic void main(String args[]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uble x = 10 * Math.cos(Math.PI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(x &gt; 20) return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out.println(x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first method using re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atic int addOne(int x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x + 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atic void main(String args[]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out.println(addOne(1)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gs to rad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atic double deg2rads(double d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d * Math.PI / 180.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atic void main(String args[]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out.println(deg2rads(180)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2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atic double f2c(double f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(5.0/9.0) * (f –32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atic void main(String args[]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out.println(f2c(212)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ture value of an inves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atic double fv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uble p, double r, double y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p * Math.pow(1+r,y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atic void main(String args[]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out.println(fv(100,0.07,30)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turn a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atic String getName(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“CS131”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atic void main(String args[]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out.println(getName()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else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(grade &lt; 6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terGrade = “F”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se if ((grade &gt; 65) &amp;&amp; (grade &lt; 70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terGrade = “D”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se if ((grade &gt;= 70) &amp;&amp; (grade &lt; 80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terGrade = “C”; // etc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king If handle multiple statements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(theCowsComeHome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ment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.out.println(“moo”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else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/ this is called a block of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OtherThingYouMightD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ditional Op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terGrade = (grade &lt; 65) ? “F” : “pass”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od for assignments with many simple boolean decis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While stat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should I use the while statem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something as long as some condition is m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i = 10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le ( i &gt;= 0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out.println(i--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 stat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do I need the do statem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i=0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out.println(i++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while (!(i &gt; 10)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le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le (userWantsToContinue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epDoingStuff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le (weHaveMoreData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epDoingDataProcessing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2T22:29:33Z</dcterms:created>
  <dc:creator>lyon</dc:creator>
  <dc:description/>
  <dc:language>en-US</dc:language>
  <cp:lastModifiedBy>lyon</cp:lastModifiedBy>
  <dcterms:modified xsi:type="dcterms:W3CDTF">2002-10-04T00:22:40Z</dcterms:modified>
  <cp:revision>4</cp:revision>
  <dc:subject/>
  <dc:title>Introduction To Programming</dc:title>
</cp:coreProperties>
</file>