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6D91C6-A232-4EA5-94DA-6F6A1B290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onalTensionOutput instances contain all the thing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ight want to display. Getters return all inter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es as classes that implement a compute method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iven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class PlotFcn1 implements Comput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uble compute(double x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urn si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uble getMin() { 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uble getMax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urn 2*Math.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amComponent may be added to any Panel or Frame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 a consistent look-and-feel. This is good for code reuse.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mComponent is a basic element for many structural de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reated like any other component in that it may b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 Frame, just like a button, or a check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material parameter, E is changed in the String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"setChanged()" method is invoked. This has th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notifying observers of the parameters of its new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propagated through the system, for comput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cy. The facade is that an SSFrameData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 to have a StringerE property and appears to per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computation. In fact, a complex set of operation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ed outside of the SSFrameData. More-over, th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ations are invisible to the SSFrameData programm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is only responsible for the design of the SSFrame G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mapping to the SSFrame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vides a substrate that allows the divis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ship of the code between programmers. It 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s complexity h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nables either a flat-file or a DBMS to be used for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getting material properties. It also 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ice of performing record IO, rather than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in the system. The CachedMaterialDatabas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the data-base server and can, as a result, be popu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. The transmission of the CachedMaterial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erformed u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mote proxy is provided by virtue of the CachedMaterial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ransmitted using RMI as a serialized object acros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. Thus, all SQL commands are performed directly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and the fetch commands needed to populate the CachedMaterial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run on a higher-level. This provides a substrate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es the client from the data-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mote proxy pattern is also used to communicate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gacy FORTRAN code that runs on our works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, we place a Shell wrapper around the FORT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cation. The shell provides a command-line input which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ormatted for the FORTRAN to appear on an input (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 5). The output from the FORTRAN is reformat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 as HTML. Thus, a CGI interface is created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ause computations to be performed on a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works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in the Hub class we delegate all but w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s to other instances. When a programmer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et a reference to a metal section design ele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n call hubInstance.getMetse1(). The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is is delegated to a Frame which has historically co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stance (though a corrective design would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 location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b can never be instanced outside of itself, becau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 private constructor. To get an instance, use "Hub h = Hub.getHub()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vides for an implementation of the Singleton patter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makes sure that there is one, and only one Hu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ngleton Pattern has been re-engineered into the exi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code, as multiple instances were created, wher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ngle instance should have existed. By introducing the Sing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 we were able to obtain more predictable operatio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b mediator wire the relationship up u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b.addObserver(ssFrame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the materialDatabase lists the ssFrameData a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criber to changes in the selected material.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should never have to input a material property,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s populated automatically by selecting the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updates are handled using the same patt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when the Beam shape is chang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 responsible for the design of beams is updated wit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. This is an event-based notification that can be contro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GUI element (i.e., the OK butt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SSFrameData represents all the importan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for the computation of Skin-Stringer stru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Materialdb, uses the Singleton patter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stores the material data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set of cooperating classes (like a library)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a reusable design for specific class of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AS is an example of a framework design pattern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work in the area of structures. The data-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nd API Framework in ISAS are useful for distrib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 properties into areas beyond static structural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transmissions and rotors Frameworks can bo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SAS framework for database interf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9320" y="338040"/>
            <a:ext cx="7840800" cy="69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2485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Java, Inc.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5920" y="90360"/>
            <a:ext cx="8918640" cy="64580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268880" y="6583320"/>
            <a:ext cx="5302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.</a:t>
            </a:r>
            <a:fld id="{4CF46987-C5D1-4276-934D-0D55DA68415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0" y="6535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ttern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tern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use patter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patterns did we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at-files to DBMS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design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ollection of classes that provides a library of subrout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abl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be used for functional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typically characterize a clean compute fun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mediat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 = Math.sin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TenOut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onalTension.compute(beamWe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ymorphic Tool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toolkit with polymorp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general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 of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o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o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ymorphic Tool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: Curve P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interface Comput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uble compute(double 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uble getMin(); // returns the min value allowed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uble getMax(); //returns the max value allowed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osite Design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at objects uniform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-a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ingle Frame with flat structure of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Rivet Panel logically groups all GUI element for Riv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easier to interact with, layout and reu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cade Design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DP - provides an interface to a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a clean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a new notation fo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double getStringer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urn stringe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void setStringerE(double 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ngerE =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Changed(); // triggers local 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oxy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roxy is a place holder for another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: Many DBMS calls caus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ached material database is a 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O is thre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disk-base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change to network based 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urrogate for the dispatch of SQL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emote Proxy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PP - Remote Surro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distribute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by JINI and Java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be implemented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non-Java network-base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mote Prox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ell wrappered FORT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RL u = new URL("http://www.computeserver.com/cgi-bin?23.2?22?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y fast on intra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incur network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VERY EASY SOLU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elegation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P-defers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ices are often du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t make changes in several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ntralize th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your code from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Metse1 getMetse1() { // replace with singleto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urn dtMetFrame.getMetse1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162080" y="495360"/>
            <a:ext cx="68864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er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s an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: Client Target Adaptee Ad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s Adaptee to suit Target for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: Want to use an existing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need to map it’s interface to the client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tells Adapter, Adapter converts Adap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tern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Pattern is solution to a recurrent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Pattern h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tern Name – new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at is solv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a Patter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at is solv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eque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de-o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son to other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y use Patter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mit more abstract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ater code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d re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ier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Patterns did we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ingleto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ge systems can have multipl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nt to make sure that only once instance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nt class to be responsible for making a single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: The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class Hub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 Hub(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 static Hub hub = new Hub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static Hub getHub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urn hu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serv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erver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: How do we propagate change ev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to notify instances about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eps a complex environment 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called for side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f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clean separation between the GUI and th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indication of the inputs and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indication of the order in which calls had to be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b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to centralize the relationships or too many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ediato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ediator centralizes the observer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tes loose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explicit 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Ethernet wiring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mentary AP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Ob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diat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Materialdb mdb = Materialdb.getMaterialdb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static SSFrameData ssFrame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SFrameData.getSSFrameData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void wireUpObservers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b.addObserver(ssFrame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FrameData.addObserver(ssFr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agateObserverMessage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void propagateObserverMessages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b.updat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FrameData.notifyObserver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162080" y="495360"/>
            <a:ext cx="688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47600" y="17240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mework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f cooperating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able design for specific class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: need a specific overall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responsibil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gment the programming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for specific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40000"/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b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main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much code reuse for other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lyn Turnamian</dc:creator>
  <dc:description/>
  <dc:language>en-US</dc:language>
  <cp:lastModifiedBy>me</cp:lastModifiedBy>
  <cp:revision>0</cp:revision>
  <dc:subject/>
  <dc:title>Module 4:  Processes</dc:title>
</cp:coreProperties>
</file>