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FC8-DEE2-42F8-AB2D-61802225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750-176B-46CC-9184-3F8DAAD7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EEC-A9A7-48FC-B88B-DD412810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602-CD4E-4672-ACE3-5018C332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2837-85B0-4054-A181-5D9D7C83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8708-D9A3-4297-A4C0-B61429B9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5B73-1747-467D-BC5A-86E13722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2B9A-1A72-45AD-AA33-0C05B4B6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23F3-46F2-4F23-A293-5F84A4FC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286E-32F6-4501-9FF3-6ACDCCBF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EABB-9A73-41AB-AE59-7943B56D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8E2-5278-4DAA-9DA5-3C033127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B98B-CAE2-475D-8ADE-48BCA018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E79C-EBC4-4B8B-9776-93BE6AC0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6DD1-983E-4755-BE33-5108611B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16C9-42C9-46B3-9845-AE0A48BF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79B1-AA31-4397-B1A1-F8033387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F70-4E48-425A-9CE2-B0E20A33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2EB-244D-44C7-98AE-3CCFF257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928-E860-48AA-A5D0-DC1FFE6C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32B-0C16-4F35-BB8E-76527C04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8B1-F017-44A7-8C2F-A2A10C73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094-3B53-4964-8CB8-DC2BB1BF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EC5-ED56-4B0D-B0B0-89041205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F28B-F2A4-43BD-B55B-5F5B3FA9297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9C8E-CE42-4ECD-B05E-095AFC3B20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0C45-E062-44E4-8745-43B02EBC89A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39A4-EA04-4B7C-803A-BA921BE20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pter 9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apper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9708-A1E6-42E5-B994-C6D937869A4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55C7AE0-7B26-4BE4-8BD1-9453840310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converts and array of char to a String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 c[] = {‘h’,’e’,’l’,’l’,’o’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 hi = new String(c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 hello = “hello world”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 c1[] = s.toCharArray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lean b = hello instanceof 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 c2[] = "hello world".toCharArray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lean b2 = c2.length == hello.length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B34-F97D-4A20-A215-D6CB5F53CF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C76C6-9487-4FF5-9DFF-FCA8D79125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replace all instance of a string with anoth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it to an array and search the ar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lots copying for this, since the two strings are generally of difference s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 s = replaceString(s, “hello”, “hi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all instances of hello are replaced with h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it to a Vector of Charac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might be slow...and take lots of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16D-CCD7-4239-87E9-0C0437C90C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7D93F-EA41-4B62-80CA-CAD806ED93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n we use the String method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o help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s = “hello world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s.indexOf(“hello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1257-842C-4132-8B0B-D93BF8C317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D5465-11C5-4090-9A19-C3783B1414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placeStr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ublic static String replaceString (String s, String lookFor, String replace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or (int i= s.indexOf(lookFor); i &gt;= 0;i= s.indexOf(lookFor)) {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 =s.substring(0,i)+ replace +  s.substring(i+ lookFor.length(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ystem.out.println("hello="+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eturn 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228-FFA0-4739-B50E-AA5371B9A6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43555-7E41-4E60-9CD0-DB952C0164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StringTokeniz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sides in the java.util pac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*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StringTokenizer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util.StringTokenizer st = 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.util.StringTokenizer(“hello world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BD2-EE3F-4B82-94BA-302BA8E9B2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E8B6B-7EE2-43A2-9047-BACD0390F8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use a StringTokeniz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*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Tokenzier st = new StringTokenizer(“hello world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= st.countTokens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(int j=0; j &lt; i; j++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st.nextToken()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46F-0F79-476F-BE38-427B1A28B3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C7422-B706-419C-B089-DFE9B685AF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java we write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Tokenizer st = new StringTokenizer("hello hi this is a test world"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st.countTokens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(int j=0; j &lt; i ; j++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st.nextToken())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1BF-B9F3-4313-944B-FF2FD5C483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9A924-3A66-46F9-8A18-5FC568CDEB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tok on comma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Tokenizer st = new StringTokenizer("hello,hi this,is a test,world",","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st.countTokens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(int j=0; j &lt; i ; j+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st.nextToken(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533-CE1A-4408-B9FF-8E52CA0DBA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F7A91-6F1F-400D-A355-8BF1AB602C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ideas for you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wrapper cla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St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n array of ch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D9F-8CBC-4DE3-8C8D-B625E6C916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87778-AF59-4EC4-B043-2F75CB9645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wrapper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s prim data type to a ref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8 of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82E-0FB1-4D81-8393-EB1D97CBA6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9F486-673C-48D2-9D90-25BB90F7AD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are the wrapper classe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, Bool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te, Short, Integer, L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at, Do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EE3-EA24-44A8-91C0-78E3B5CC6D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49724-AB79-4DD9-8646-038FF9037B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we make wrapper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olean b = new Boolean(true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 i = new Integer(3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d = new Double(2.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c = new Character(‘t’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EAA-F3A2-406E-8EFB-81E79FE251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41FF4-FFE4-4769-9A4A-0A7080293C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we need wrapper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 store reference data types in containe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ctor v = new Vector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addElement(new Integer(20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addElement(new Double(2.3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D6D-9009-4EE1-BAD3-E39C8F0524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6F7C8-4F84-4DB8-ADB1-097DC57595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wrappers...cont’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appers have nice methods, that we can us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 i = new Integer(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k = i.intValue(); //back to 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j = Integer.parseInt(“234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lso have a corresponding set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s in each wrapper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CF5-BC8F-4A4C-98C2-EA6E618124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4AE85-3B6E-4103-BCD1-8ECBE56944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determine equalit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100; int k = 200; boolean b = i == k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 m= new Integer(i); Integer p = new Integer(k); boolean b2 = m.equals(p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BD5-383F-4AF4-BF06-946A16D38A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B4178-E737-4B5D-B683-78B99D9849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String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reference data ty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sides in java.la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erals are formulated with quo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s = “this is a string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= s + “hello world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+= “hello hello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21A-D6B6-491C-AAC0-153404DAA1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409BB-0953-4527-848A-88DAEBBE86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on</cp:lastModifiedBy>
  <dcterms:modified xsi:type="dcterms:W3CDTF">2003-01-29T02:14:38Z</dcterms:modified>
  <cp:revision>7</cp:revision>
  <dc:subject/>
  <dc:title>PowerPoint Presentation</dc:title>
</cp:coreProperties>
</file>