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237-9583-41DA-9429-BF6508A9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793-89DB-412F-B034-99E3FD3D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798-FF0A-4447-AD30-C554968A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BB4-4A4E-4BCB-BBBC-A963108D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BE8-F08D-4FEA-A314-C2AFDF8F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F7F-A7B2-48E8-97BD-65210103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03E-C166-4F8B-AB73-7C15054D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90C-47B2-4652-8740-54AA780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F22-D39E-4A45-9235-899066FA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FB2-CB04-431A-B78C-F1002D9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19B-DC9E-44EA-8715-13C9B4E7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CB2-D9ED-468E-A25A-6E3DA09F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8D2B-2C9D-4FEE-A668-F178C160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emory sw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mory for a task is swapped to disk so that the next task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ing occurs during a memory sw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 tak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as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 progress is made because of the overhead in the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n’t threads thra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share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have a low-overhead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can have their own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make thousands of threads with little slow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 and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514600"/>
            <a:ext cx="205740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90920"/>
            <a:ext cx="13716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08760" y="5146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5480" y="5299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ad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reads or tasks make no progress because of an unavailable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I make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 the Thread clas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unnable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nterface that defines a method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Runn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ad constructor wants an instance of a class that implements Run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is because the thread scheduler needs a call-back method to execute th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tates of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9880" y="3809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tar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1080" y="448632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ru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472428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105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3505320"/>
            <a:ext cx="15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metho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67652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952880" y="259056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281952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leep(), t.wa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14600" y="2286000"/>
            <a:ext cx="23623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2160" y="1905120"/>
            <a:ext cx="172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notif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aem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thread that dies when main 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aemon threads will cause the JVM to keep run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-tas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more than on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eadsa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source is synchronized other threads cannot use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events resource con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can cause dead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omputations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Account ba = new BankAccoun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ed void doInterest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.doIntere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rue concurr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do two or more things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of 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entium computer has two pro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rocess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l spee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523880"/>
          <a:ext cx="76197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197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i-threa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multiple th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task that exists in another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OS a task is a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b has its own memory address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Job dies, the other jobs can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get some resources according to a program called a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 schedu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a discipline to decide what resources a job g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allows for allocation of various CPU time s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sk that does not have protect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ares memory resource with other threads in a given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25T22:56:24Z</dcterms:modified>
  <cp:revision>10</cp:revision>
  <dc:subject/>
  <dc:title>Exceptions</dc:title>
</cp:coreProperties>
</file>