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3E9-4B10-465B-9A45-17DED125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B88-93F6-477C-9535-825B5242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815-D805-41B9-B746-F46D3239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A9B-D532-4973-9DB5-08436D17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47B-1C38-4D61-B803-F999A16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879-C544-4843-B010-C00942D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692-9FEE-4C36-B655-392CB638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E6C-333B-4E9F-B42D-761595D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DB2-1AFC-4A42-BD2E-B3CDF13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CF4-66D7-4B67-BEB8-88A7D3A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AA7-DC46-4A21-A8F3-91F54A55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0B0-20D0-4ED8-A2CE-CDDD385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7041-C1EB-40AC-AC06-82FD9ED4C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simple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s is ABSTRA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extend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instances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pai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 instance of an java.awt.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java.awt.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ccess to simple 2D draw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Business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Vectors into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java.awt.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imple shapes (2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print vectors, and bit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calls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aint(Graphics g) {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Event Dispatcher (it runs in a thre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in respons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c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1000); // paint invoked in 1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the Damage control manager invokes re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damage, damage control for the window causes rep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re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de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nt(int x, int y, int w, int 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25T01:29:53Z</dcterms:modified>
  <cp:revision>6</cp:revision>
  <dc:subject/>
  <dc:title>Exceptions</dc:title>
</cp:coreProperties>
</file>