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7D24D8-5CA6-48EA-B728-187317F03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onalTensionOutput instances contain all the thing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ight want to display. Getters return all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es as classes that implement a compute method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ven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class PlotFcn1 implements Comput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ompute(double 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in() { 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ax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2*Math.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amComponent may be added to any Panel or Fram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a consistent look-and-feel. This is good for code reuse.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mComponent is a basic element for many structural de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reated like any other component in that it may b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 Frame, just like a button, or a check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aterial parameter, E is changed in the String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"setChanged()" method is invoked. This has th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notifying observers of the parameters of its new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propagated through the system, for comput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y. The facade is that an SSFrameData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to have a StringerE property and appears to per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mputation. In fact, a complex set of operation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ed outside of the SSFrameData. More-over, t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s are invisible to the SSFrameData programm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only responsible for the design of the SSFrame G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mapping to the SSFrame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vides a substrate that allows the divis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ship of the code between programmers. It 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complexity h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nables either a flat-file or a DBMS to be used for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getting material properties. It also 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 of performing record IO, rather than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in the system. The CachedMaterialDatab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the data-base server and can, as a result, be pop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. The transmission of the CachedMaterial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formed 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ote proxy is provided by virtue of the CachedMaterial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ransmitted using RMI as a serialized object acros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. Thus, all SQL commands are performed directly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and the fetch commands needed to populate the CachedMaterial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run on a higher-level. This provides a substrat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s the client from the data-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ote proxy pattern is also used to communicate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gacy FORTRAN code that runs on our works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, we place a Shell wrapper around the FOR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cation. The shell provides a command-line input which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atted for the FORTRAN to appear on an input (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5). The output from the FORTRAN is reformat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as HTML. Thus, a CGI interface is create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ause computations to be performed on a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orks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n the Hub class we delegate all but w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 to other instances. When a programme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et a reference to a metal section design ele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n call hubInstance.getMetse1(). Th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is delegated to a Frame which has historically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ance (though a corrective design would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 locatio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b can never be instanced outside of itself, becau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private constructor. To get an instance, use "Hub h = Hub.getHub()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vides for an implementation of the Singleton patter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makes sure that there is one, and only one Hu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attern has been re-engineered into the 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de, as multiple instances were created, wher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ngle instance should have existed. By introducing the Sing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we were able to obtain more predictable operatio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b mediator wire the relationship up 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b.addObserver(ssFrame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the materialDatabase lists the ssFrameData a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r to changes in the selected material.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should never have to input a material property,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populated automatically by selecting the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updates are handled using the same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hen the Beam shape is chang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responsible for the design of beams is updated wit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. This is an event-based notification that can be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GUI element (i.e., the OK butt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SSFrameData represents all the importa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for the computation of Skin-Stringer stru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Materialdb, uses the Singleton patter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stores the material dat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set of cooperating classes (like a library)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 reusable design for specific class of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S is an example of a framework design pattern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work in the area of structures. The data-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nd API Framework in ISAS are useful for distrib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 properties into areas beyond static structural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ransmissions and rotors Frameworks can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AS framework for database interf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9320" y="338040"/>
            <a:ext cx="784080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2485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Java, Inc.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920" y="90360"/>
            <a:ext cx="8918640" cy="64580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268880" y="6583320"/>
            <a:ext cx="5302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.</a:t>
            </a:r>
            <a:fld id="{91F60D74-3A32-4059-B3A9-2C3745FFDA9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0" y="6535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ttern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use patter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patterns did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t-files to DBMS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desig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llection of classes that provides a library of sub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abl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used for functional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typically characterize a clean comput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mediat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= Math.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TenOu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onalTension.compute(beamWe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morphic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toolkit with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genera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 of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morphic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Curve P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 Comput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ompute(double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in(); // returns the min value allowed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ax(); //returns the max value allowed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site Desig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 objects uniform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ingle Frame with flat structure of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ivet Panel logically groups all GUI element for Riv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easier to interact with, layout and reu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ade Desig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DP - provides an interface to a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a clean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a new notation fo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double getStringer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stringe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void setStringerE(double 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ngerE 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Changed(); // triggers local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xy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xy is a place holder for another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Many DBMS calls caus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ched material database is a 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O is thr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disk-bas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change to network based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urrogate for the dispatch of SQL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mote Proxy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PP - Remote Surro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distribu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by JINI and Java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implemented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non-Java network-base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mote Prox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ll wrappered FORT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 u = new URL("http://www.computeserver.com/cgi-bin?23.2?22?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fast on intra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incur network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VERY EASY S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elegatio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P-defers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s are often du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t make changes in several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your code from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tse1 getMetse1() { // replace with singlet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dtMetFrame.getMetse1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tern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Pattern is solution to a recurrent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Pattern 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 Name – new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t is sol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a Patter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t is sol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equ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son to other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y use Patter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mit more abstract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er code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d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ie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Patterns did we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inglet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systems can have multipl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nt to make sure that only once instance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nt class to be responsible for making a single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The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class Hu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 Hub(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 static Hub hub = new Hub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static Hub getHub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hu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serv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er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How do we propagate change ev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notify instances abou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s a complex environment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called for side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f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clean separation between the GUI and th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dication of the inputs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dication of the order in which calls had to be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b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centralize the relationships or too many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diato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diator centralizes the observer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tes loose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explicit 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Ethernet wiring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mentary AP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Ob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diat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Materialdb mdb = Materialdb.getMaterialdb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static SSFrameData ssFrame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SFrameData.getSSFrameDat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wireUpObservers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b.addObserver(ssFrame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FrameData.addObserver(ssFr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eObserverMessag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void propagateObserverMessages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b.upd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FrameData.notifyObserver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work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f coopera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able design for specific class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need a specific overall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responsibil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 the programming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for specific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b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ain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much code reuse for other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lyn Turnamian</dc:creator>
  <dc:description/>
  <dc:language>en-US</dc:language>
  <cp:lastModifiedBy>me</cp:lastModifiedBy>
  <cp:revision>0</cp:revision>
  <dc:subject/>
  <dc:title>Module 4:  Processes</dc:title>
</cp:coreProperties>
</file>