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502-0B78-4915-981D-11C3DAF6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BF1-A3F7-4E7C-A8B8-37E5E938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E6A-1657-484C-9EE6-2E06BEB2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9D1-9F5F-4BC2-8328-3CDED24A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B3A-9B14-4DCE-AC96-28694ADA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9E3-4E9B-49B8-8892-A34CA36F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4E7-CCC3-4FA6-9279-40B80AB0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F33-DADF-4949-A4E0-D8436743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78A-C8F2-4BDC-9F07-63CF4761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CBE-6E3F-4A10-8FA2-10A0A043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A91-B908-45F0-825D-5AE850BE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C26-C855-4B18-B161-B594ED9E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8680-5C2B-4565-9098-AA1B7A1B2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information about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 u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called Class has many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Util class demonstrates many reflec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ff you can disc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-classes a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method need for inv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bility mod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of method retu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of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must be loa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you must have access to the byte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re system works on byte code driven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not a source code drive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already comp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Util ru = new ReflectUtil(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List is used to store all the methods and get information abou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 = o.getClass(); //supported for all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.util.Date date = new java.util.Dat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c = date.getClas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List ml = new MethodList(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mutators[] = ml.getWriteMethod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accessors[] = ml.getReadMethod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here comes the mutation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(mutator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here goes the accessor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(accessor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8T01:14:38Z</dcterms:modified>
  <cp:revision>6</cp:revision>
  <dc:subject/>
  <dc:title>Exceptions</dc:title>
</cp:coreProperties>
</file>