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8E3-7B46-45B4-9241-C33D2EF4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FB9-D3A8-4265-91CC-A4AE2E56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2F0-DF91-428A-82ED-7DFB9C05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F57-DD22-4BA5-B958-637A91EB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0002-D67B-4654-9B20-F7037115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93F5-1CD3-4876-A3DE-5628B04E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38A9-5C54-441C-8BB3-218D6D33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3DB1-B413-47CD-A92C-E4021733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E722-7920-472D-85F0-567C47DA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D17C-DE5C-4696-B1B8-2CB9ABC8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84E2-5F06-46A3-BB9F-727F532D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73F-EFCB-4C99-9974-319DB6F2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EB98-ACB1-430B-8D13-953A99B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5BC9-D158-41E9-BD6B-7B41F68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6C6B-9FF4-4BB6-A9A5-EDEDC80F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2E78-1686-47AF-BC8D-1E3FC469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A76E-2CE0-43ED-BBEA-5A8FF257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AD7-785E-4523-969B-6DF1494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C76-22C0-43F1-AC2F-A00D3421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926-BF5E-4ADE-ABD6-65E3C1E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297-813F-44F2-B54D-F73E2E5E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597-8B6C-4450-8103-CF31A19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F6A-569A-4548-9618-B180BF9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402-143D-48B2-B6ED-1C3A445C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A792-BF96-4D9C-BDED-84F1FA087F6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717C-267B-4DD4-B312-B051AA2FA7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72B4-4FCB-45F2-B304-52A3C5D200B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98F5-C5DD-4E52-BB5E-601CF967F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 Data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6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9664-D566-4080-A218-895A50276F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EB64B43-81A5-4E5C-937E-576232F5FB50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example of a AKO hierarch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ions (go left, go forward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s (tent, building (house, sky scraper, warehouse) bridge (suspension, truss, trestle), stat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 (water, gasoline (unleaded, leaded, super, regular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AB2-AA21-4700-89D8-6E93130339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B2AB9-56A8-4FBC-ADDE-89026D3257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B66-75E7-4A45-A1CE-08123F8F7F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3AAC9-1E7A-4970-9FB1-80E7422947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a reserved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asses have n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mes can have any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contain two el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BB5-78F0-4F72-822D-C92052F699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268AD-90D6-4F08-94C3-935ED0DC6E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need a class to run a program in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1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2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BCA-F6A9-4737-BB92-99FBEB1DBA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899B3-C777-4CBE-88E9-47507EB739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is it call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short for class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cations are used for sets of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set of the things allows for a sub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Java we make a subclass by extending a parent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925-DCB9-46EE-8E81-440A2DE39C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5412D-EE1E-4DCE-9F2B-BABFDD9C4A3E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did the class idea star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67 – Simula – used for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ustrup was a Ph.D studen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using Simula for his thesis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liked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too slow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e used B (a language that came before C) And it was very fast but hard ;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858-19E6-44AE-954E-D98692A247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56A8B-8BA1-4B10-BE09-502481AD9F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tory contin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TL, Murray Hill N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C in 1971, on PDP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with classes....C++ became an ANSI standard (around 198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sling started fooling around with C++ extensions at Sun in 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k was started and became project gr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8AE-85D7-4495-AA01-72EC8EDE75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0ADB9-E8DA-4659-A366-6C44E0645E04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allow for the creation of taxono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yclic Digraphic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813-06C7-40CA-91BA-3F50999910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A349E-DA91-4083-AB74-95227E156208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xono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209680"/>
            <a:ext cx="4343400" cy="38102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505320"/>
            <a:ext cx="1981080" cy="1904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666880"/>
            <a:ext cx="1371600" cy="1752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800600"/>
            <a:ext cx="1219320" cy="10666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114800"/>
            <a:ext cx="114300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3581280"/>
            <a:ext cx="60984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52880" y="1600200"/>
            <a:ext cx="21621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uper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00600" y="3048120"/>
            <a:ext cx="120492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ub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EAE-FFDD-48BC-A0F0-536C0E1E66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594B4-29A5-4C7A-B8A1-85BC084C97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cardinality of a se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elements in the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dinality of a subset is &lt; card(superclas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215-0EE0-4B82-B0C4-2718617E01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80867-47B9-4964-BCA0-7A51281A71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2-10-18T01:14:57Z</dcterms:modified>
  <cp:revision>3</cp:revision>
  <dc:subject/>
  <dc:title>PowerPoint Presentation</dc:title>
</cp:coreProperties>
</file>