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3BD-DA7F-42FE-A25E-E48711AE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513-260A-475A-AB05-438F439D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BF7-D14E-49E7-A63E-D70B1BBD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EF9-92AD-4CB2-BEE7-B499EE63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599-E86B-4106-888A-06DF93A9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DD7-1A06-4B1C-96D9-ACD80AF9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41F6-D57A-47CA-997E-14EE63DA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EE7-0ABE-4FB9-A91D-4F4BE51D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157-C03E-439D-88F0-66EAC220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420-8AAD-4C52-9070-6A1A7B40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E58-4BB5-412B-B4A7-49BC46EC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E94-C820-4B50-8CCC-58C977F7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0D4-DD71-4DCA-B782-E1DFC6663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vs. Un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optional in the try-catch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atch (Exception 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finally { // this is op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 Rule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ALWAYS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ess the JVM fails for some out-side ca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good for house kee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a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database connec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Dig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int getNumberOfDigits(String 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ca[] = s.toCharArray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nod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i=0; i &lt; ca.length; i++)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c = ca[i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Character.isDigit(c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no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a c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reditCardException extends 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checkCreditCard(String c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s CreditCard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getNumberOfDigits(cc) != 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 new CreditCardExceptio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DigitExample.checkCreditCard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123467wefewfewewrwe890123456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MO MONEY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catch(CreditCardException cc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DEADBEAT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class SafeArra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 String names[] =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Tom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Dick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Harry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ing getNameAt(int i) throws OutOfBound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OfBoundException.checkRange(i, 0,names.length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names[i]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feArray sa = new SafeArra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(int i=0; i &lt; 5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.out.println(sa.getNameAt(i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 catch(OutOfBoundException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OutOfBoundException extends 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void checkRange(int x, int lowValue, int highValu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ws OutOfBound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(x &lt; lowValue) || (x &gt; highValue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w new OutOfBoundExceptio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es in Java.l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es of Exception are checked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-catch statements are requir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error handling until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guard the in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invert f(double x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x==0) System.out.println(“danger x is zero!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1/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our ow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reditCardException extends 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check (int i) throws CreditCardExcep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&lt;= 0) throw new CreditCardExcep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 the 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checkCard(int ccn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CardException.check(cc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(CreditCardException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try-c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throw a checked exception OR try to catch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Wow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printCheck(int ccn) throws CreditCard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“checking ccn:”+cc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CardException.check(cc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Multipl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1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2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s many catches as you like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at leas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ways catch all exception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.stor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IOException extends Exception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FileIOException extend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UserIOException extend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3-02-12T00:14:22Z</dcterms:modified>
  <cp:revision>4</cp:revision>
  <dc:subject/>
  <dc:title>Exceptions</dc:title>
</cp:coreProperties>
</file>