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61D-7BCB-4AC6-931A-1D77B2A6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9A9-D9BD-4BBD-8134-49DB850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624-234A-4B47-8A96-7F0B7961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728-CDEA-4B0D-8C39-4F656484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186-E047-4A08-923F-3341A652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E68-9126-425E-BF06-AF52F4E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314-8368-4ADC-B3F2-58D05464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83F-C4CB-41D1-B12F-1EAF523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BFE-6C49-4E6A-A6CE-BF56095C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489-A015-4853-9801-8456884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53D-DABA-4310-A9D3-8F89B01F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365-927B-4CEC-B493-B975718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8CAA-8F12-47BF-863F-9C7930540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automatic proxy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atic proxy d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ethod invocations that are checked at compil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methods to the delegatees does NOT mean that methods will appear in the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ynamic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thods in the delegatee automatically appear available in the proxy at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 for JDK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fe. Exceptions can be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using reflection to invoke a string on an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automatic Static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s for type saf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gatee changes are discovered using introspection and cause a resynthesis of the proxy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Java source code synthesis that occurs at a pre-processing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time (input instance to the synthesiz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ime (output proxy code to a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time (compile the new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time (dynamically link to the proxy and classes it 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(where invoke method in the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semi-automatic static proxy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terface to a complex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han manual messag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o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using 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I in Ja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methods with the same signature then you must 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ecided at compile-time using som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cal sorting is an automatic means of disambigu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I Con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Rad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);//in ra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D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 * Math.PI/18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nd Tr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onfusion extends TrigRad,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cos(9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 this is not allowed in Java bu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in C++ or Smalltalk. Or in Zeta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i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y can exist for topological sorting in 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lass is sub-classed by two other classes that are in turn sub-classed by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4320" y="32767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42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581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360" y="4114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05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560" y="49435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24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90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x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that represents anoth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vote – slip that is sent to a central authority in lieu of appearing and voting in person. The proxy vote represents the vote of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delegate – simpler interface to a comple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the problems of 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for linking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for each instance g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overhead is in malloc or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s taken from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e base class (constant recompi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ood about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addition of features to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are easier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with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hat implements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the client and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have transparent distributed applications. Key for using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ssage forwar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is passed from one plac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OP Message Forwarding m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method invocation and forwarding it to anoth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amma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ov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, int 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_x, int _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_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_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ovableMammal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 m; Mammal 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Mammal(Movable _m, Mammal _mm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_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= _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x, int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move(x, 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m.hasHai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xy uses the implementation of anot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200400"/>
            <a:ext cx="1038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x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43400" y="34290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m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19720" y="4724280"/>
            <a:ext cx="1590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v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380952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6560" y="3505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5705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57240" y="56293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30481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Movable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7T23:24:19Z</dcterms:modified>
  <cp:revision>5</cp:revision>
  <dc:subject/>
  <dc:title>Exceptions</dc:title>
</cp:coreProperties>
</file>