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3F7-1458-4339-B0BD-87354034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F53-6E50-44EB-B435-961F52D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6FE-F450-4509-9CF6-67695965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D06-1204-4620-A65C-AD292767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BC0-89AD-410D-8E70-A99A507A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F051-8499-427C-8CBB-A3A6E7B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D13D-DCCA-4E82-8F7D-52ADCEA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2B2A-DEA0-48B8-B43A-EAB809F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EF50-6D95-41B0-8B67-A59C999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822-4521-4479-AD0D-1F358B8B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8AF3-769E-45A3-A33B-2F8116C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8EF-BA78-4143-9C64-A89DCFD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ED75-3279-4CEE-B922-0FC0AFC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D71B-D78B-452C-82F4-952EDFB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0D1C-09CC-4E5B-B960-875F423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B91-9C28-4DA3-B420-A5B938D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7468-E5BF-4589-A28F-2C22C0C4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61C-3CEE-4100-ABF1-B21409E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784-3FCB-4713-A92D-E5C12A6B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813-7027-46A6-84B2-0669962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48B-9954-4971-BD07-38EE61D4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FC5-C327-4E0D-9BA9-ED5FCFA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465-B701-46CA-8B80-C63C2525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1D4-127D-492B-872E-EBF4ECCB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C32-4568-4983-876E-1C927BB1681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7FC-6B7C-40BC-8474-BB682195F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767-5280-4271-AB69-19F78F1FBAD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A1CF-7662-4111-9108-C5FE7DCAB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and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FEA-ED2E-442C-B481-F0B91F263A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233707-1E75-44C3-8484-5E38308FE0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as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es the Vector clas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od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26B-F658-43CD-A65A-A088E5027A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68BF9-EDFE-411F-A1F7-0B42678CF3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 vs.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have fixed size, vectors do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s can only store ref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ultidimensional ve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is more efficient for storing prim.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890-E4AC-47CD-8C60-81BFBB9A1B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849EE-4E88-489A-9852-9688176B11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vecto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Vecto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size()); //returns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prints hello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850-B40A-466D-BDD4-AB3D93786A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2B1A1-4EDA-48A4-A0A7-D5A51042E2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a vector in a for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Vector v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i=0; i &lt; v.size(); i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i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9EE-BCB3-4677-AE82-67FC225928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7055C-9201-461A-868F-979D75FD6B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vector of custom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CDB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add(Customer c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addElement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ustomer getCustomer(int i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(Customer)v.elementAt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1AD-FC1A-483F-9D5B-312E853CAB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3D2D7-AB0E-4E22-8FB4-E58B3A1DB3C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ntain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a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Que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486-C8F9-4F19-A44F-3A12730AD9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04FD-2D69-476D-BE92-7F8BA0BE1B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addresse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knows its own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has a fixed number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ainer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6BB-1B9C-47AB-8865-23492A5F2D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2DDF9-C6FA-4E7A-9A91-457FD7207F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tor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 memory to pro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ex the data that w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828-9DDE-42DA-B147-4DFCE74748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03786-B01E-4C07-A9A0-09555F1348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kind of stuff can we sto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ver you store, all the data typ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st b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0D1-6EB9-458B-BFD8-ADE8955DF3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07CB6-02A7-4816-932F-31BB03F91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a[] = {1,2,3,4,5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b[] = new int[1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”, “dick”, “har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878-9C83-4E79-BBFE-A373013205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4B508-B74A-45D2-9AC2-0133E40578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use the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IntArra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ia[] = {1,2,3,4,5,6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int sum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s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ia.length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s + ia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383-8E2B-438D-8C4B-D360F162F1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8AA65-BAFF-4A25-9FAA-5D55A9558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[] = new int [100]; //1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[][]=new int[100][100]; // 2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[][][]=new int[2][3][4]; // 3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[0]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.length i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472-0F21-4AD7-8303-C72A0933B9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7A04C-87D3-4E73-B44A-04242E9BF7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k[][][] = new int [2][3][4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.length="+k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.length="+k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[0].length=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k[0]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length=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.length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[0].length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E33-EF04-4F7F-96F5-65D7F3FF2F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743EA-64D6-4928-A1FD-2014DBBC23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1-22T02:13:43Z</dcterms:modified>
  <cp:revision>6</cp:revision>
  <dc:subject/>
  <dc:title>PowerPoint Presentation</dc:title>
</cp:coreProperties>
</file>