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EE7-1998-448A-9AC7-C60ABB4C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621-A64D-4BC9-A511-A82A832A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116-B9E7-45F2-A495-ADE77D7F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0EF-7F7D-40F2-8AF9-7B027B0F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DEB-6293-4B91-B640-24DFA1AA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F86-8B43-4834-BA22-FF38A73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582-BFFE-4F08-999E-652754C6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BD1-6011-487C-A9C1-E4A8C6E9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FB9-4272-42C0-9965-F6C2A972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B21-06CC-4E27-920D-858F5A68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628-FACC-4C19-AF0C-D2541C07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FFD-11EE-4AF8-8CBB-56F99AA5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DF2E-31CE-4C8A-AEC7-F4E800F9E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-server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SO-OSI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= International Standard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= Open Systems Inter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-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ink – dlpdu (frames) no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– IP (192.168.1.1) -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– TCP/IP, UDP/IP-transmiss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– log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– http – iiop /corba, rmi, d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-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om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 for network, tld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edu, .com, .gov, .net, biz, org, name,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– maps domain names to IP addr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s or reverse look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ocket programm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using TCP/IP or UDP/IP along with a POR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bytes in 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ocess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ocket programm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/h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OP, 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 virtual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o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omputer has man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s are sometimes standard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– default web service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– 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–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– sn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etc/services – to see the ports in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9T01:26:38Z</dcterms:modified>
  <cp:revision>6</cp:revision>
  <dc:subject/>
  <dc:title>Introduction To Programming</dc:title>
</cp:coreProperties>
</file>