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F266-41F8-40CE-BF46-13AD6970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F6DF-575C-453D-BDFE-ABF76CB5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F1FA-EFB8-41E3-9FAD-C2E24A09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46BB-C8E0-4077-A843-C454BC7B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A22C-FEAC-47EF-AAC8-26FA9356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F18-402C-4A73-B0CD-B17EBB68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901-4C83-450F-B898-D671B8D3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3646-3568-4AEE-AF13-FEFD50A5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D582-50A6-4CD3-9202-225D313D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33B-421C-4B24-AC37-95F8B608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316-0F3A-4BEB-9886-90ECD601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3EC-56C8-4D7A-A48D-19FF1DC7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E488-6A5E-44C6-96DF-1ED025AB2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ant Ref.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iz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tring Tokeniz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that uses a string to create sub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rings are tok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input =“this is a sample string”; //– Garbag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output[] = {“this”, “is”, “a”, “sample”, “string”}; // - Garbage o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utput is a tokenized version of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StringTokeniz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ackage java.ut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java.util.StringTokeniz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make a StringTokeniz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Tokenizer st = new StringTokenizer(“1,2,3,4 5\” –6”, “,\” 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find out how many tokens there 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tn = st.countTokens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I use the StringTokeniz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st.hasMoreTokens()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st.nextToken(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s = st.nextToken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t i=0; s != null; s = st.nextToken()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read a CSV F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Name, LastName, StAddress, City, State, ZIP, ph1, ph2, ph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record per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fn = Futil.getFileNam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f = new File(fn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InputStream fis = new FileInputStream(f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edReader br = new BufferedReader(fi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read a CSV File?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(String s = br.readLine()) != null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ALine(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.clos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09-11T23:25:10Z</dcterms:modified>
  <cp:revision>3</cp:revision>
  <dc:subject/>
  <dc:title>Exceptions</dc:title>
</cp:coreProperties>
</file>