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720-BAC5-4234-84C3-3200D2A5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9DC-4752-492C-B770-2A78B05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CAD-A901-45A4-8606-69372AA7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8E1-53DE-488C-9408-BF07BCE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0F9-2809-4812-971E-F40EEF32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1880-F82B-4D95-BDEC-3F23E89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C654-C869-4E48-B97A-11E7F04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E50-A7C5-4BFB-9C0A-91D92EC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F37-681A-4319-B7F9-26E48F1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14F4-A6E8-4184-9051-6679A67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60E7-8EC2-4980-9B4D-044C18B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042-7695-4563-AED4-7AF3EF7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D088-7789-4A62-BC42-1BBED1D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34F-DF8F-41DF-9E46-52DAF5D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D420-7FB6-4462-B7FF-0EE65A68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2FF-1F7B-4FAF-A53B-D9A75802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CEF6-163C-42B5-8BC8-2A3CAE2B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23D-D570-4A98-B7E8-B654D16A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B96-2E82-4B11-9290-2BB23327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60B-14C9-4ECA-9E26-F9EAAF89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2FA-4C02-44CF-B42D-72C47C89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3EF-AF4A-49C9-B162-F0E5897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C87-E958-4A44-9C60-95F63BD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1C2-6DF0-4883-A2F9-97E09F0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4D1-FA4D-4C7D-9B2B-3940E68B79DF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592-B0CA-4557-8C49-FF040B8D632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inner reference data typ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t use a named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 do Stuff Her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new Job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e a 1000 classes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i=0; i &lt; 1000; i++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Thread(new Runnable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a unique class..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and Patte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mmands reside in the instance, so the instance knows how to run itsel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Job(2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doCommand() {...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rint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static printFunction(Fcn fcn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x=0; x &lt; 100; x++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.out.println(fcn.f(x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cn, The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interface Fcn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.printFunction(new Fc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x*x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nBu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RunButton(“ok”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TheOKThing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face...for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mando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Commando c = new Commando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Runnable r = c.getRunnable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Nested Ref. Data Typ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nother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with no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temporary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isolate the reference name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new reference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make use of new object-oriented desig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local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types of Nested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stat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dynam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s of access can I have for a static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– public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– package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– yes, you can have a private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ed – accessible to subclasses of the out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tic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Point3d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Float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at(float x, float y,  float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Double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uble (Double x, Double y, Double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3d.Float pf = new Point3d.Float(10,20,30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 instead of packag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ava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aw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Fram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ponen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an Anonymous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ad t = new Thread(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 doStuffHer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59:50Z</dcterms:created>
  <dc:creator>lyon</dc:creator>
  <dc:description/>
  <dc:language>en-US</dc:language>
  <cp:lastModifiedBy>lyon</cp:lastModifiedBy>
  <dcterms:modified xsi:type="dcterms:W3CDTF">2003-02-12T02:20:41Z</dcterms:modified>
  <cp:revision>4</cp:revision>
  <dc:subject/>
  <dc:title>Nested Classes</dc:title>
</cp:coreProperties>
</file>