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912-D2EE-47C0-841F-06AAF3BF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93D-F5D7-4603-A30F-6B85BF05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06C-C7F6-453A-A164-42CAECAD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923-BBB5-4143-9734-760624F8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1A1-D54B-42E8-9BE0-BCFC0EF2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1436-61AB-4256-9573-634DD5A4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31D6-7222-4035-8E2C-D917871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D9F1-72FF-40C5-B9A0-BBA32E9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EF6-76E4-4218-A905-720195C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64E-2C37-4C57-B47F-2A42848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EF2F-8A8E-4510-8F39-764798A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119-74B4-4476-9665-5AD6960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ACB3-3191-454C-9DF7-BC82695F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D37A-3440-4FA1-B16A-4989EEE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C697-530B-4DAA-A551-2DAB6DCE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4BF2-EA1B-40F9-980E-5710EEA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23A-0868-40B4-A8A6-DB22128B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EF9-108B-43A4-A566-C41A59E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1A6-BDAF-426C-B18C-8BE3C9C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F9D-16C2-4CAC-B5C7-3C33E171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2F8-BF20-4B71-9183-13A62EE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A7B-7E9E-41D5-A936-4B81C36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B09-8BDA-47B1-9221-C7885BA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E4F-DE4B-448B-9124-4D83A03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45B0-E16F-47B5-B2BB-298C0FB5E41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E44-EF27-4D1F-9CFA-C88E95768B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1D57-7DF0-4E56-A1F5-60ABB8E0B16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B54-5C72-48BF-83B0-3CCC32A8B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D66D-8020-4A5F-BF63-B82D67C9F6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2DB025-3C8C-4DB2-AD50-9E066AEF0E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classes, Cont’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C7E-3755-4A28-8F96-7ABB0008BA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33D3D-D1DA-4716-88BD-56CFBD50F3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ain abstract methods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 have a specification, but no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 enable us to defer the implementation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869-0A51-42FD-B6AA-CD383715DD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EB96-93F0-46A7-8E93-5E1ADEE30C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isVisible = fal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drawLine(int x, int y, int x1, int y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Visible(boolean b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Visible=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ostscript extend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drawLine(int x, int y, int x1, int y1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“ps:”+x+’,’+..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BBB-A5CE-4E9C-A077-D33B1DFCB7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D07EB-789F-4B49-BD57-53B17D78EF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ru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lass contains an abstract method then the class must be declared abs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7F3-A266-4F68-B69C-742501140F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66BA1-C4DE-42CC-96C8-5DD2CDB204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classes come later in the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E09-65E4-4ED4-9FBC-AB80AF1720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9784D-E3A0-400F-8D3A-A1F2C340C1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atic varia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variables exist only at run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fixed location inside of th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to all instances of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ferenced w/o instancing the out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143-ED4B-41A0-9BF0-17A3FBD611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D0431-CC83-44F2-9A01-B6D9A7EB4C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stat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a S.V. before inst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double cos(double x)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x = Math.cos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C28-5F94-40B6-85DC-F8BAF258BE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3A781-BCDE-4FFC-87C6-CE59FBF81B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instance a dynamic el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use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.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9F4-F998-494B-BB22-32F5BDAA99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F6554-553D-4232-898A-9D14C63025A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for dynam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instance the containing class to gain access to the dynamic me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F03-DE4F-44B2-91A3-8D9C00C043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179E0-7486-4ACE-8DB7-6A896644D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ff about 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new instances of classes that contain only static elements, no new memory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C58-F55C-4A0D-97EE-05D63230E8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F2AF0-98E5-48ED-98C6-02F6CCC025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25-02F9-453C-BAA0-18CD78031E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D78C7-75F0-44E8-9E37-BA89CD6266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and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Tes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test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10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o(); // takes no more memor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9E7-1D9E-4199-BC27-1891827F17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27694-6F40-4A66-8724-D247E9F2B7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 + 100; //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k = j; //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E16-94E7-4110-B7C6-5CEA4A20F6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5D0E0-693E-44C9-A38A-4B95A4B35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//O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278-45E4-4628-8F91-BA65EFC888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AFA38-1DDC-4082-8D26-7760B62695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. Dynamic, 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 //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970-07FB-4A97-A81F-A0C186B768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8BE0F-C015-4F35-A3BC-A13C0F9C5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782-4C7C-46CD-85AE-6A488E208F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E4344-D7DA-414F-9745-63E65F71A5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ynamic vars and stat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get10()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8AC-3F96-40A0-80B1-4AF4636B0E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52641-2B0E-4556-BBF4-95F5387904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v and 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A72-00EB-4B46-BFE3-7B0977A33E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28ECC-0485-48F4-9C8C-89D089BF51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 can invok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 can referenc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tuff can use stat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tatic stuff cannot directly reference dynam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E78-2346-4CEF-B1C7-AB903F9D3E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3BDD3-9E72-4222-B266-6096AA79BD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problem it so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big books on design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5F3-7BF6-46E7-A80C-6A1EBDFDE4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229E1-16BD-40E7-A7D1-7AD49CA05A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leton 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only have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oo() {} //don’t let othe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oo getFoo() {return f;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86D-3980-448A-AA77-5D28CC362C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108B-D9D0-4F54-96A6-E0196A966A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final int i = 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= i + 1 // cannot work, since i is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201-6525-4B1D-83D4-BB63AA3FAD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F508F-1B72-440D-BB09-D345C39D6B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 cannot be overridden by subclasses, this causes a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rin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final void print(Object o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8B8-0045-4A29-9373-BB88773F5B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20915-CE99-4DA0-9745-5C5B4C8D1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cannot shadow a final met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PrintStuff extends Pri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Object args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:”+arg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This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70F-E446-454D-99E9-3FFD9ACCD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30A34-3700-411E-80BC-168F380FF1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classes cannot be subcla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inal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Math {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can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5FB-FD4F-4A13-A12C-179CA4C30A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4B9C1-C389-49C4-BC3A-6CAF1E86D3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have an abstract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C41-8D20-4A49-BB76-CD42A94950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3C900-2325-4A81-A9C7-B39A0F31DF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not be inst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 be subcla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eclar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 //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AB9-ED59-4D96-8C8E-CA3A1B446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EC201-2F53-4D64-8605-DC7767DC92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 of abstract subcla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abstract class are non abstract if and only if they provide implements for the abstra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C58-5F28-4082-A0A1-43A5F0BDAC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B3CE7-06CB-45FF-BB68-B4307786FD7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1-15T00:05:43Z</dcterms:modified>
  <cp:revision>5</cp:revision>
  <dc:subject/>
  <dc:title>PowerPoint Presentation</dc:title>
</cp:coreProperties>
</file>