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FD3-899F-475C-B221-6EA9314C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F88-3995-4D13-853A-DF0D35B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96F-0DCD-4368-B745-655284F4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EC6-5422-4520-9242-8983B7F5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9B0-E9C8-4022-96A5-2F5ACAB6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B98-110D-4E26-8E19-19A2AB8E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9D0-090C-49D7-9C95-8B450E2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07A-0E3A-4055-B07B-98E0A96C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9BE-65B3-4BB6-A52D-EDC55A1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104-3A35-4BB4-BA92-ECE860C8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870-EF2B-43BA-910E-C6FD4DA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93A-3F4F-453E-8B87-8D6F6BF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ED0-DE58-4BCE-9E3E-1E4A55B0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, FILE I/O, tokenization, serialization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write instance to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implements the interface serializable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ava core classes implement serializ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imitive data types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(data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via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(CORBA, RMI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is an application of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n instance of an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OutputStream resides in java.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ad back use ObjectInput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 = ois.read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s.write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c = (Customer)o; //CN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what is sa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a special java keyword for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is a keyword...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ustomer implements Serializ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String name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forma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quence of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nch of classes in the java.io.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ould I want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put and outp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ing data is data that flows without st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processing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tream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(FileIn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(FileOut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streams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nd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and the sc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a FileInput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leInputStream getFileInputStream(String promp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FileInputStream(getReadFile(promp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r: FileOutputStream in Futi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fi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binaryCopyFile(FileInputStream f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OutputStream f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uffer[] = new byte[512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cou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count = fis.read(buffer)) &gt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.write(buffer, 0, coun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ut the 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writeBytes(File f, byte b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 fo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 = new FileOutputStream(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write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.writeBytes,Could not open" +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that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vailable(File fi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 fi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InBytes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 = new FileInputStream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InBytes = fis.availa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:Could not open 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izeInBy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2-06T01:51:43Z</dcterms:modified>
  <cp:revision>9</cp:revision>
  <dc:subject/>
  <dc:title>Exceptions</dc:title>
</cp:coreProperties>
</file>