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0CEB-9593-4717-AE2F-820923133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E764-B2E8-4B71-992F-4144C1FC2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1BB0-9168-45C5-8328-00755AF4F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7105-3308-49FA-ABE5-0C554934E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4089-AF58-4B1C-B63D-63A008B04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23BF-A4CC-4B7B-803F-181488E71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FEB7-4CAD-4FC9-95D5-E9E69F0D5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0931-854E-4203-9302-8962E5FDC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29C3-BE8B-4942-9D77-9C9E51FDC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0DF6-73B7-4EE1-A9CC-49F2DAC6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4D50-C543-4655-9DE2-CC900F35B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1080-34E0-40FE-87AB-29037860B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6E06D-72C5-449F-8D6F-CB01C0454D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DB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Database Conne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dbc driver ide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DBC needs to work with many DB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a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Sq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B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LServer, etc.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pping to a DSN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DBC with ODBC driver is called JDBC/ODBC (microsoft method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nect using a protocol and sub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I formulate a connect UR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 url =“jdbc:dbnet://show.docjava.com:356/address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dbc – primary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bnet – sub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w.docjava.com – FQD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56 – standard port for RDBMS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Packages do I ne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ort java.sql.*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n RDBM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al database management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other kinds of DB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ss is a GUI on a JET RBDMS backe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nguage for RBMS - &gt; SQ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ctured Query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many standards for SQ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L92, SQL 89, SQL99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commands exists for all the standa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commands exists only for specific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do I need JDBC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nects to a RDB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DBMS Neut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 API (portab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s for transmission of SQ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help to process resul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OOP language (ye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le to store instances of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le to store blobs (unformatted sequences of byt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BMS is good f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ing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ing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-programmer updates of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DBC+RDBMS=2 tier compu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 + server = 2 tier compu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DBC does connections, query and result processing from the RDB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DBC uses SQ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nect to DB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ance SQL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ecute SQL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ss SQL resu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 connection to DB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 tier system - distributed compu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2286000"/>
            <a:ext cx="144792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57600" y="2286000"/>
            <a:ext cx="190512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91120" y="4191120"/>
            <a:ext cx="220968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db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909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04400" y="278460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g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724280" y="3276720"/>
            <a:ext cx="1526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5334120" y="3352320"/>
            <a:ext cx="30456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590560" y="25146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27360" y="1870200"/>
            <a:ext cx="7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27520" y="3241800"/>
            <a:ext cx="122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/o 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880" y="34290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d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22120" y="3317760"/>
            <a:ext cx="15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dbc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2T22:29:33Z</dcterms:created>
  <dc:creator>lyon</dc:creator>
  <dc:description/>
  <dc:language>en-US</dc:language>
  <cp:lastModifiedBy>lyon</cp:lastModifiedBy>
  <dcterms:modified xsi:type="dcterms:W3CDTF">2002-10-02T00:55:38Z</dcterms:modified>
  <cp:revision>5</cp:revision>
  <dc:subject/>
  <dc:title>Introduction To Programming</dc:title>
</cp:coreProperties>
</file>