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0360" y="648504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, SW4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5FF6A5F0-DE4E-4AD6-A7E2-C01F6F6F318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691480" y="648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963B0F74-D621-4233-A111-D6AB0A42A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 P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ustom browser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p.setPage(ur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thi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xrefDoc/overview-tre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Thread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         implements Runnabl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 a thread of exec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hould it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it be a dae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Thread, or exter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read(r).start()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o start internal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 th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ThreadedLoad implements Runnabl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 t = new Thread(this);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edLoad(JEditorPane _jep, HyperlinkEvent _e) {...init_stuff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start();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the ru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void ru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 url = e.getURL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ur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p.setPage(ur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Priority(int newPrio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.MIN_PRIORITY - a goo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Text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 container and add the fie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79760" y="2679840"/>
            <a:ext cx="2616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add a RunText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 c = cf.getContentPan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add(new RunTextField("What is your name?"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void run() {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(getText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brow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w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th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un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do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 way to go back to the previous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 way to go forward to the next visited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n ADT; LinkQue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 = lq.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 = lq.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q.enqueue(ur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do a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UrlN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 vector (more effic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Vector v = new Vecto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int i =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URL forward() {i= (i++)%v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(URL) v.elementAt(i);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 fi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 file:open ability so that it can read in local html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 RunTextField so that a user can type in a u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p.setPage(url) (catch the IOExce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Pane.setPage( getUrl(field.getText()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rowser listener is centr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BrowserListener implements HyperlinkListener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void hyperlinkUpdate(HyperlinkEvent e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linkUpdate(HyperlinkEvent e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e.getEventType() 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linkEvent.EventType.ACTIVATED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Activated(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void setPage(JEditorPane jep, HyperlinkEvent e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 url = e.getURL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ur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p.setPage(ur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ful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a url, U to string, us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 = u.toString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a string to a URL us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 u = new URL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et a file us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://c:/foo/file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</dc:creator>
  <dc:description/>
  <dc:language>en-US</dc:language>
  <cp:lastModifiedBy>me</cp:lastModifiedBy>
  <cp:revision>0</cp:revision>
  <dc:subject/>
  <dc:title>Midterm Prep</dc:title>
</cp:coreProperties>
</file>