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7985160" y="6215040"/>
            <a:ext cx="46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279B3347-C5F8-4E26-A198-E2D6C884105D}" type="slidenum"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17680" y="6278400"/>
            <a:ext cx="1863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uglas L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a4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Executive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a4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6668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MI and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92160" y="1663560"/>
            <a:ext cx="5638680" cy="3822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56480" y="596880"/>
            <a:ext cx="170172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a4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06668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lugins and Helper Ap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82880" y="2311560"/>
            <a:ext cx="3365640" cy="2209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362320" y="1625760"/>
            <a:ext cx="4406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a4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06668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Java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46040" y="2031840"/>
            <a:ext cx="6654960" cy="793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260880" y="5546880"/>
            <a:ext cx="270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C on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12800" y="3098880"/>
            <a:ext cx="6224760" cy="2463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457200"/>
            <a:ext cx="6629760" cy="1295640"/>
          </a:xfrm>
          <a:custGeom>
            <a:avLst/>
            <a:gdLst/>
            <a:ahLst/>
            <a:rect l="0" t="0" r="r" b="b"/>
            <a:pathLst>
              <a:path fill="none" w="18416" h="3599">
                <a:moveTo>
                  <a:pt x="0" y="3599"/>
                </a:moveTo>
                <a:lnTo>
                  <a:pt x="14732" y="3599"/>
                </a:lnTo>
                <a:lnTo>
                  <a:pt x="18416" y="2879"/>
                </a:lnTo>
                <a:lnTo>
                  <a:pt x="18416" y="0"/>
                </a:lnTo>
                <a:lnTo>
                  <a:pt x="14732" y="719"/>
                </a:lnTo>
                <a:lnTo>
                  <a:pt x="14732" y="3599"/>
                </a:lnTo>
                <a:lnTo>
                  <a:pt x="14732" y="719"/>
                </a:lnTo>
                <a:lnTo>
                  <a:pt x="0" y="719"/>
                </a:lnTo>
                <a:lnTo>
                  <a:pt x="3682" y="0"/>
                </a:lnTo>
                <a:lnTo>
                  <a:pt x="18416" y="0"/>
                </a:lnTo>
                <a:lnTo>
                  <a:pt x="3682" y="0"/>
                </a:lnTo>
                <a:lnTo>
                  <a:pt x="0" y="719"/>
                </a:lnTo>
                <a:lnTo>
                  <a:pt x="0" y="359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a4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06668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av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eature Li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 I/O to local file-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a4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06668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ava 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63840" y="2006640"/>
            <a:ext cx="4203720" cy="2222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803680" y="4327560"/>
            <a:ext cx="3832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-Stage pico Java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a4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06668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PicoJava Kona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55640" y="1778040"/>
            <a:ext cx="61293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a4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06668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ava has Simpler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87600" y="2222640"/>
            <a:ext cx="2603520" cy="1333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355760" y="3870360"/>
            <a:ext cx="2241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Tax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105520" y="2146320"/>
            <a:ext cx="2260440" cy="1473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5470560" y="3718080"/>
            <a:ext cx="15541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2440" y="4784760"/>
            <a:ext cx="4789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implementation ambiguity in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a4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06668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ava is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nly 44 reserved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nly 5 pages of BN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 Mac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 typed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 en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 FUNCTION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a4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06668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ava has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andard class libr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rt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form floating points sp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a4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06668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Jav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ood points about the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TML Model vs. Java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itting the moving 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a4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06668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at is Ja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ava is a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a programming languag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a large class libra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the Java Virtual Machine (JV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The Jav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a4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06668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Java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70280" y="1866960"/>
            <a:ext cx="38354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a4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66680" y="609480"/>
            <a:ext cx="71629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ood Points about the Java Technolog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ongly Typ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ava is Multiplatfor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VM is a subst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VM is NOT Ja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ava is Object Oriented (C++ is NOT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a4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06668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stributed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965240" y="4403880"/>
            <a:ext cx="5732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-OSI=Open Systems Interconnection 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79840" y="1562040"/>
            <a:ext cx="36194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a4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6668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CP/IP-The Socket 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CP/IP - provides a streaming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liable” bit st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 central hub for detecting brokennes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 typing mechanisi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5486400"/>
            <a:ext cx="838440" cy="1067040"/>
          </a:xfrm>
          <a:custGeom>
            <a:avLst/>
            <a:gdLst/>
            <a:ahLst/>
            <a:rect l="0" t="0" r="r" b="b"/>
            <a:pathLst>
              <a:path w="2329" h="2964">
                <a:moveTo>
                  <a:pt x="0" y="0"/>
                </a:moveTo>
                <a:lnTo>
                  <a:pt x="698" y="2964"/>
                </a:lnTo>
                <a:lnTo>
                  <a:pt x="1630" y="2964"/>
                </a:lnTo>
                <a:lnTo>
                  <a:pt x="2329" y="0"/>
                </a:lnTo>
                <a:lnTo>
                  <a:pt x="0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5638680"/>
            <a:ext cx="914760" cy="991080"/>
          </a:xfrm>
          <a:custGeom>
            <a:avLst/>
            <a:gdLst/>
            <a:ahLst/>
            <a:rect l="0" t="0" r="r" b="b"/>
            <a:pathLst>
              <a:path w="2541" h="2753">
                <a:moveTo>
                  <a:pt x="0" y="0"/>
                </a:moveTo>
                <a:lnTo>
                  <a:pt x="762" y="2753"/>
                </a:lnTo>
                <a:lnTo>
                  <a:pt x="1778" y="2753"/>
                </a:lnTo>
                <a:lnTo>
                  <a:pt x="2541" y="0"/>
                </a:lnTo>
                <a:lnTo>
                  <a:pt x="0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184560" y="5775480"/>
            <a:ext cx="170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101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5867280"/>
            <a:ext cx="838440" cy="228960"/>
          </a:xfrm>
          <a:custGeom>
            <a:avLst/>
            <a:gdLst/>
            <a:ahLst/>
            <a:rect l="0" t="0" r="r" b="b"/>
            <a:pathLst>
              <a:path w="2329" h="636">
                <a:moveTo>
                  <a:pt x="0" y="211"/>
                </a:moveTo>
                <a:lnTo>
                  <a:pt x="0" y="423"/>
                </a:lnTo>
                <a:lnTo>
                  <a:pt x="1630" y="423"/>
                </a:lnTo>
                <a:lnTo>
                  <a:pt x="1630" y="636"/>
                </a:lnTo>
                <a:lnTo>
                  <a:pt x="2329" y="317"/>
                </a:lnTo>
                <a:lnTo>
                  <a:pt x="1630" y="0"/>
                </a:lnTo>
                <a:lnTo>
                  <a:pt x="1630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a4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06668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MI-Object Ser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ilt on TCP/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ongly Typ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=Java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a4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06668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HTML Model vs. Java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le formats REQUIRE DE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ECS ar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"/>
              <a:buChar char=""/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ugin-prolif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73520" y="2070000"/>
            <a:ext cx="3289320" cy="1790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5470560" y="3946680"/>
            <a:ext cx="1919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M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uglas Lyon</dc:creator>
  <dc:description/>
  <dc:language>en-US</dc:language>
  <cp:lastModifiedBy>me</cp:lastModifiedBy>
  <cp:revision>0</cp:revision>
  <dc:subject/>
  <dc:title>Java</dc:title>
</cp:coreProperties>
</file>