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6A0-E319-4B55-95E9-69922C8F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195-B65B-4424-8AF7-DFDA429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D3B-7C59-44FD-8323-67380B91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A10-0D48-4828-ACCE-8DEDE77A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790-7058-4E6A-92EE-AD95910E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BD5-3E19-4E40-B0A4-EB3C1395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A65-C89F-4462-A2A0-EECE8F31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A0C-5C2D-4B6A-A697-DD47E2EA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930-9715-45EC-B6DB-9B4CE66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A67-14D3-4962-9188-0764AF5A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337-332D-42E7-855E-F4C0E670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08B-3B6B-4B9E-8C9E-D615060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1F0-AEA3-4186-B9D0-9FEC19F9B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– worl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– sub-clas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– package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– only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Onl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ustome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tring name = “J. Shmoe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ubl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ons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PI = 3.1415926535896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double sin(double x){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la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llows others to use your AP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otec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have a protected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have protected variabl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class authors can use protect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 authors know what they are doing!??!? Trust them!?!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trust the subclass auth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read but not 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written but not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control access to stat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getInterestRate() {// 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terestR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etInterestRate(int  r) {// mut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 meth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't want to publish the meth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the spec will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docu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careful what you make 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ca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Speed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Odome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Ga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Acceleration(int 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SteerWheelAngle(int degre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is eas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hing, it is defa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make everything defa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can use your stuf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tuff is unpublish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n an OOD is a function of class interdepend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encapsulate complex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ference organ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cess that enables us to group classes and interfaces into isolated name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hare protected elem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d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protected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so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omeClass extends dl.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Class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lated namesp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 is an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place where identifiers are grou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olated namespace is an isolated identifie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olate identifier grou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reuse of identifiers w/o causing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awt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 = new List(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his is an error, how do I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class name conflic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List l = new java.awt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List ll = new java.util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just use unique identifi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we can’t control all the programmers who write libraries that we want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d grouping of reference identifiers (classes and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d word “package” appears as the first java statement in a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ppears on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com.docjava.fut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Foo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are ALWAYS public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package foo; //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foo; //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05T02:17:36Z</dcterms:modified>
  <cp:revision>7</cp:revision>
  <dc:subject/>
  <dc:title>Exceptions</dc:title>
</cp:coreProperties>
</file>