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859-8BB1-40CC-BF21-21D34569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7D1-9A0D-4D9E-A8A7-AC35B5A0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A2D-526C-4AD6-82A4-AB4A9668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695-D167-425A-A013-20E5FB02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F3A-3C4D-4F19-91AB-62F0A14C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0FF-6B37-4145-BCC1-882F9B6B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B0F-52CA-48B1-9C36-14C3F7BC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3E0-639F-431D-8734-E3F7BBF1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8D71-DE08-4C73-BB47-E11677FB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F22-190F-4A63-B911-AD41BA90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AFC-C224-4C71-8DAF-CBFACBBF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372-34A2-4020-9750-0EA862EC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E010-4011-4361-9045-E4FF3AE52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Ls cla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hat resid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t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 is a unix command (like DI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fi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ries of data 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lace for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lace to obtain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F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in the java.io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of the File class do not have to correspond to files in the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le instance can correspond to a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fully qualified file na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ory+file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home/lyon/fo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:\autoexec.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ing with a path sepa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th separator is OS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\' = windows path s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/' = unix path s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prompt the user for a direct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t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Futil.getDir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GetReadDirFil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testGetReadDirFil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getReadDirFile("select a file"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get the parent direct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File getReadDirFile(String prompt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f = Futil.getReadFile(promp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f.getParentFil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get a read f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testGetReadFil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il.getReadFile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elect a file"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GetReadFil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FileNameFil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in java.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an implementation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accept(File f, String nam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ood is a FileNameFil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control of how files are listed in a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 *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used by directories in File instances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list();// files in a direc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list(fnf); // uses fnf to list the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1-30T01:10:49Z</dcterms:modified>
  <cp:revision>11</cp:revision>
  <dc:subject/>
  <dc:title>Exceptions</dc:title>
</cp:coreProperties>
</file>