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F6D-DD75-488F-826C-615D04AB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A77-6092-48B0-9ADD-6A91B245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D2A-E4F0-4A99-8FFA-F3D26AC4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0C1-287C-4B5D-8E30-14336873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744-6A6F-43F6-8AE7-AAA3A79D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4FD-BCEB-4470-805C-FA867655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5321-07DB-4715-93A1-BA83F6C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F57D-3C0C-424E-BDF9-13F7E6FB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2A2-42BB-4BCF-8C97-12C431E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C4C-25ED-4A9C-919C-38AE49A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7BC-7642-4319-8DCF-F1FDE28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7EE-3783-4308-9CD4-D34EFE2F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A31-3975-4157-852D-39BD6E5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0D3-4FD9-4298-9576-4E008C7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D94-813D-4014-8896-9552BC7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36F2-B0A5-412B-AE30-51D9D710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7649-18E3-461E-B278-591BFF5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332-C7E9-4DCA-AA20-AAFF32B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0FD-5EF5-4F7B-A577-B3604AA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DDA-6745-45F4-A126-B23AA77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FD8-A87F-4482-8B52-9270502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056-064D-41B1-8BF5-8322145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928-982C-444D-B435-7420D1AF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11F-0080-476F-90F4-13CD694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738-9FA8-49A7-8DB6-ED6AA342F2D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3FC-6991-4F37-840B-9DFF6FD7D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5E66-26F3-4BE0-A220-951D8E7FECD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F91-12B1-42B7-8D62-7E491C3C7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 Processing in Jav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C1D3-191A-44C3-942E-836AD46550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A2D463-0F9E-438B-9DBC-AE9623BDC56D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mage Contr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00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2476440"/>
            <a:ext cx="510048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9F-DE24-4FE6-81E6-A8F681A747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FF29-C706-4C61-AC7B-446B5942EFE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Frame-a series of methods that ease image processing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D32-835C-4332-A4B9-580ABAB13B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A1C1F-6FE1-4B46-98A5-677B3DC9A7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Fram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CutFram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dth = 1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eight = 1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Frame(String titl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Image(Image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 getImag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2Imag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2Short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nGif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nGif(String f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in(String args[]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3AC-5027-454F-9B0C-4984E6E767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6C20-DF1A-4165-9F0B-13CFA88421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erFrame-S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y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        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            ((r[x][y] + g[x][y]  + b[x][y]) / 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.              g[x][y] = r[x][y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.              b[x][y] = r[x][y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    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.     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.   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560-4ED7-4915-86F9-5827D05002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BB3DF-E0D2-46C3-A8BB-78A93922C6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85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0544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30C-F1D6-493B-B6E3-C196BD25CF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B710-D764-4108-B629-BD8F979D03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nellWl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32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529128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FA6-8AFD-409C-8A78-BC2B3BF407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BAE38-74A3-4577-8B9E-AE2C982BDB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b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bFram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extends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FilterFram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b(Container f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stPattern(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750-BD62-431E-9C98-0F29E15C17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CD9CE-4924-4FD7-95AB-0955062363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55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6568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C59-F1EC-4799-B44F-5B56EB278F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FB5D6-1F2F-46EF-A53C-D0B025A4C2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mogeneous Point Proce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point is treated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size of image is same as outpu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application of statistic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0DA-6747-4642-9B17-B9F423BC3B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5385-B048-43ED-B9AC-02118FC79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M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he total number of pixels of a particular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by the total number of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0" y="3581280"/>
          <a:ext cx="3395520" cy="23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81280"/>
                    <a:ext cx="33955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B0E-89C1-47B9-B903-91CED911A7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6E1B0-895A-4EB2-BB81-1F35B64A90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r-observable D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of HW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of values to the syst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16765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B6C-D8BE-45E1-B55A-421BF7424C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F1AE-E87D-49D7-A145-8549A382BD75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of Prob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of all probs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F is sum of all values up to a po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3429000"/>
          <a:ext cx="4186080" cy="201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41860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496-1F72-4AFF-BB82-C8DF35758C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35986-A9D8-4097-B05F-6F56E49BC6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gram Comput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95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256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wid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=0; j &lt; height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[plane[i][j] &amp; 0xFF]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BED-E8DB-418E-A05F-7ABD8AC01D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4AEC0-7672-428D-A21F-CE5B26DF43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lization of PM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57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x = 0.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histArray[i] &gt; ma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= histArray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ormal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[i] = (histArray[i] / ma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DD-EF3D-4D56-9238-4732B0D562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AF960-C5AD-4464-B2AA-46198DA810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Histogram of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14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81400" y="2690640"/>
            <a:ext cx="2581200" cy="14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530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1638360" cy="164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91B-7B09-4C4F-825A-30BA82EF70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F23DB-318B-483E-BE6E-63A40277AC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istogra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osableFram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uble[] getPMF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uble[] getCMF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PMF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w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istogram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ne[][], String ti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i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12C-82E7-41CC-BF65-02F52B2172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793E4-71EB-4EC4-90D4-9FD2491693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ear Map and Sampl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91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4105440" cy="303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666880" cy="26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8E8-644D-42BC-963E-8F86F16F37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F2B5-E900-4162-95AB-BC91B435AF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gating an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29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519440" cy="443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670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0044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C98-DA25-4931-A564-3BBD4CE6BF5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AC5AF-F874-46CC-AB8D-FE651FD6C63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666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r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g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b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F81-ED69-4690-95F4-A9287268B7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0055D-5023-4EC3-AED5-033D768C1D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er law and image proce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09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1981080"/>
          <a:ext cx="48006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8006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BCD-21AB-4525-BE6D-5CA6DF1571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0313A-E87C-469D-B5D4-270A8C447A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shed out images can resu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64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1910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888-449E-4992-BAA5-E9D047B3313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DDEA8-42F1-472B-A0F5-5BA8DF768C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05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324480" cy="25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1DB-3369-4D5E-B6AA-1EBAE30AFF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860E2-CF75-4AC3-9340-04CA3DDFCA1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.5 exponent=dark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71840" y="2281320"/>
            <a:ext cx="2200320" cy="22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B03-836E-4037-8AAB-C3794AE6FCA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5B428-61E6-4017-8083-579A472CFA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rkening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574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271840" cy="259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288-4386-486F-BCC2-158248FDA0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44FA1-B335-4042-B0CF-B5EA4AA161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rkening and the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457440" cy="160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3457440" cy="157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3F8-5A63-4781-9B86-BA124E65355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39D52-35E6-4458-B2AE-5C89F74EA2A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the power x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wImage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r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g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b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E24-DE8B-4A0A-8A9D-EA7D0955516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31646-B835-4529-B9C2-140F5675AF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ing Brightness and Contra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5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2057400"/>
          <a:ext cx="4491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4491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10040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905120" y="3809880"/>
          <a:ext cx="390024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39002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A7C-2B38-4A26-84B7-677C09F899F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5808-1B65-44AC-B924-68CC727377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ear eq and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671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17724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9EF-A29C-4C25-BA72-EAA94829C39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77BB3-A715-4F04-8B7B-775CEF253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ightening and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257800" cy="26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DBF-0F42-4538-A511-AB24B8E1DBB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05A69-57CE-4128-AE31-1291EA301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ing parameters automatical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38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133720" y="2133720"/>
          <a:ext cx="36622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3662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3124080"/>
          <a:ext cx="784404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784404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DD9-87F4-4D52-8677-433D26828CB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4EB39-5F14-4A1D-A446-DF3D60453F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AH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70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77000" cy="1976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67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038560" cy="25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F8D-B4BA-4C82-BE10-2D02B2A9E31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80DD8-C080-4100-958E-6093D1EE9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MF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91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76520" y="1871640"/>
            <a:ext cx="433836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573-E7E1-4800-B238-FBED33AF73C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A939A-BF78-459B-A396-3214D20C77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filterRGB (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gb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d   = (rgb &amp; 0xff0000) &gt;&gt;16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een = (rgb &amp;   0xff00) &gt;&gt;  8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blue  =  rgb &amp;     0xff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y  = (red + green + blue) / 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turn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0xff000000 |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gray &lt;&lt; 16) |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gray &lt;&lt;  8) |  gray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1CB-D6B9-4C4D-9420-EDB2821621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83735-22A5-4D50-A953-68CF6DDD6F2A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aptive Equa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0528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50540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CFD-2F8A-4013-A0AD-555D2E4EFBD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3166F-1408-4AC6-A317-8D15852416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gram an AUH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2767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355-6E7C-4A6D-9C40-37910E4D809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A1C05-4051-4983-9555-545FBC709F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UT 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formTabl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formTable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z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[] getLut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Lut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ut[]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DFA-93AB-47D3-B5A3-0811947C247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97E9F-F3F7-4DBE-8D5B-C982729287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Negate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3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371600" y="2019240"/>
            <a:ext cx="63244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FDE-CBBA-4667-B0A2-D6440C286BC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8223E-3FCF-4CAC-9B62-B0603FCB50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ing Aver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861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09680" y="2057400"/>
          <a:ext cx="34527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34527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BB8-BC64-4C0E-9671-E3DA2AB824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DE35-A337-4B85-9C94-6703F1E4E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o kinds of methods for altering an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 meth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indire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 methods employ a mapping func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 functions are applied to the color pl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662-A3CF-4A36-9555-554400062ED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C0CA1-1084-4130-A114-1E0FD51E4F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rect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direct method use statistical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Kinds of Indirect Method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ive and nonadap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73B-48FB-43AB-A1CE-149B537920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74CD5-CBB9-4D1A-A57D-EEF96EFF4D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iew of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057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r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a[][]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i = 0; i &lt; a.length; i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j = 0; j &lt; a[0].length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BAA-6A45-4AE7-9DDD-00CC5FC5AE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79B20-DAB2-4190-A60D-9EDE220D8693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-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rrays are row major, then increment the row more quick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rint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j = 0; j &lt; 3; j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i = 0; i &lt; 3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E42-8999-4F6A-9E23-19F86CB4AB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77C5A-9ACF-4D1C-8961-7CB3A110D589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 vs Column 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2286000"/>
          <a:ext cx="7377120" cy="252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37712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2BE-4F25-4479-856C-132EF46418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DB1A1-98D8-4D57-9ED1-631B6806F017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mulating 2D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etPixel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els[y*width + x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1DE-E66E-4265-BBC5-0B9EE6BA75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13524-E4FD-497C-87F0-F95909834B98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awing in Jav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t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85D-D2B4-48EC-B992-0FDB8C74CC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F91F7-FE68-4239-AE83-89BEC67C5E5D}" type="datetime1">
              <a:rPr lang="en-US"/>
              <a:t>07/30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2-19T02:31:37Z</dcterms:modified>
  <cp:revision>9</cp:revision>
  <dc:subject/>
  <dc:title>PowerPoint Presentation</dc:title>
</cp:coreProperties>
</file>