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0E3-3DBC-43CD-923D-8112C809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981-B24A-46E1-A8C5-5976DC44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A99-4A17-4867-A706-97007997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92F-1687-4284-BFBC-31EEFFE1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2F6-FE29-4D96-9755-B7231545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B1D-2ADF-4265-A459-FE0D375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B67-7409-4EE9-BC5B-6B416D2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782-2930-4789-9213-F659230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B7-BC49-47B9-BB19-569AB4A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C6F-5A49-4C8B-9C34-47EFFD0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CA8-E1BC-4F21-A9F7-7380EF7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534-4AA4-409A-A9AA-19593564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DFE-8EF9-453C-A6E4-6813F3CF6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automatic proxy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atic proxy d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ethod invocations that are checked at compil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methods to the delegatees does NOT mean that methods will appear in the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ynamic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ethods in the delegatee automatically appear available in the proxy at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 for JDK 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fe. Exceptions can be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using reflection to invoke a string on an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automatic Static 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s for type saf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gatee changes are discovered using introspection and cause a resynthesis of the proxy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Java source code synthesis that occurs at a pre-processing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time (input instance to the synthesiz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time (output proxy code to a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time (compile the new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time (dynamically link to the proxy and classes it u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ime (where invoke method in the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semi-automatic static proxy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nterface to a complex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han manual messag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o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using 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I in Jav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methods with the same signature then you must disambig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dowing is decided at compile-time using som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cal sorting is an automatic means of disambigu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I Con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Rad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);//in ra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D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 * Math.PI/18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nd Tr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onfusion extends TrigRad,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cos(9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 this is not allowed in Java bu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in C++ or Smalltalk. Or in Zeta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i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y can exist for topological sorting in 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lass is sub-classed by two other classes that are in turn sub-classed by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4320" y="32767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920" y="42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581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31360" y="4114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051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560" y="49435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724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90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x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that represents another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vote – slip that is sent to a central authority in lieu of appearing and voting in person. The proxy vote represents the vote of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delegate – simpler interface to a complex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the problems of 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for linking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for each instance g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overhead is in malloc or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s taken from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e base class (constant recompi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ood about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addition of features to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kits are easier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with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hat implements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the client and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have transparent distributed applications. Key for using R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ssage forwar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is passed from one plac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OP Message Forwarding m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method invocation and forwarding it to anothe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ammal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ov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, int 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_x, int _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_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_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ovableMammal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 m; Mammal 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Mammal(Movable _m, Mammal _mm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_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= _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x, int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move(x, 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m.hasHai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xy uses the implementation of anot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200400"/>
            <a:ext cx="10382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x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43400" y="34290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m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19720" y="4724280"/>
            <a:ext cx="1590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ov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380952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26708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6560" y="3505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920" y="5705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57240" y="562932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304812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Movable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7T23:24:19Z</dcterms:modified>
  <cp:revision>5</cp:revision>
  <dc:subject/>
  <dc:title>Exceptions</dc:title>
</cp:coreProperties>
</file>