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F26-A572-419E-BCDA-456F31BD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F79-ABEF-4C52-A8BC-68677503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565-08CB-474C-9DF1-6C338D0A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286-D1D5-416A-97D9-8DB730D1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C479-8E06-4851-8A08-322F4577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AEE3-94EB-47EC-89F9-9192C301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E0E9-00E2-4216-8800-8D01E05F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9606-AECF-437C-A5E5-681E15DB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08CF-61A0-4FF7-BB8E-0B4BB774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F927-FC51-42C8-8BFE-02ECDF7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660D-2945-4CD9-887E-5BC2C28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9FF-EFC7-4934-86BA-ABFF1ECE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06E4-340C-4A9E-AACC-D3AA25F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8D11-AE20-462D-86F0-D9846613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05C-1150-4E03-8FB4-C29B1961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2A28-50EC-4E16-80BD-3DCF776C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1DC7-F208-431C-9E19-5823D3E2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85B-C931-468C-B764-D6CFA12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661-E6A3-46A5-BF8C-97C3C7CD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46F-28E4-46C2-8C91-97725E0C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0A4-0F38-4533-B188-8BD34F8F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B0A-3173-44CE-9F91-826A770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EAA-ACEB-485B-9CA1-0F493761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8B9-5C21-4DAF-A8A0-0919AE7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1C9A-E1E2-4929-900F-D835C32D0D8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EF8-21FA-4C5F-8D36-0E8F0E1F38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8A6F-9063-41B3-B310-5E5102A0549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8023-4A68-488D-ACDB-4B1F9F94C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Data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6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B879-13A2-467A-BD12-CFBDD18544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37C57BA-4CF9-43F4-847C-BC586873F0A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example of a AKO hierarch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ions (go left, go forward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s (tent, building (house, sky scraper, warehouse) bridge (suspension, truss, trestle), stat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 (water, gasoline (unleaded, leaded, super, regular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065-3508-4FB9-8B32-E03710E3CE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F6967-CF4F-4F2A-81F1-0F030E6266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interfa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just like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uses the keyword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ontains specifications for methods, but no implementations, for meth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o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have static final 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012-7538-4A8B-8EFC-E523646298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80401-DFC3-47D0-8BE0-4507AD8050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interfac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at we can have a common specification for many different c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on specification enables reuse via a technique called polymorphism (Greek many shapes!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DA9-538B-4234-BD8B-17A108C61A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9D879-8469-477E-A1D3-C194C6582F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ppose we want to process functions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fcn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f(double 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1 implements fcn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f(double x) { return Math.sin(x)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722-9222-4005-83BD-34637B3BCE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F09C4-8958-484A-A59C-998BA9E47B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a reserved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es have n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s can have any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contain two el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676-5CE9-409A-ACC0-577E22F9EA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CFCB6-C217-4430-8AD6-F49F3F9A36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need a class to run a program in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1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2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73A-D19E-4467-8647-A784C86430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1DCE5-2CBF-40C8-9ED3-404D85FD8F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is it call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short for class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cations are used for sets of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et of the things allows for a sub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Java we make a subclass by extending a parent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F6C-934F-460B-81F3-420E18CDC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91B89-6D15-4B01-97D2-7B9DFDBD98CF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did the class idea star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67 – Simula – used for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ustrup was a Ph.D studen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using Simula for his thesis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liked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oo slow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e used B (a language that came before C) And it was very fast but hard ;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485-D7F1-49EF-8EB6-BA8FEBB386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F8587-0ABF-4C0C-8591-1D77A6ED66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tory contin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TL, Murray Hill N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C in 1971, on PDP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with classes....C++ became an ANSI standard (around 198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sling started fooling around with C++ extensions at Sun in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k was started and became project g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FAB-A4DD-4C33-A5E2-91637F2580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65118-457F-4DF5-922A-CC6438C042F0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allow for the creation of taxono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yclic Digraphic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B80-4C9D-47B9-9760-E702E5ABE9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8FFC9-ADF9-439C-99AF-C8FDFCCD845D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x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209680"/>
            <a:ext cx="4343400" cy="38102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505320"/>
            <a:ext cx="1981080" cy="1904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666880"/>
            <a:ext cx="1371600" cy="1752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800600"/>
            <a:ext cx="1219320" cy="10666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114800"/>
            <a:ext cx="114300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3581280"/>
            <a:ext cx="60984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52880" y="1600200"/>
            <a:ext cx="21621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uper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00600" y="3048120"/>
            <a:ext cx="120492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ub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9E2-E6BD-449B-9217-FC19B2D184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6D93C-F111-4BA2-AA14-25584AB54B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cardinality of a se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elements in the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dinality of a subset is &lt; card(superclas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AA5-BD34-458D-9956-B4A9E92752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FD371-C6DF-4754-8AE6-BFD8FCF260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3-02-26T01:03:28Z</dcterms:modified>
  <cp:revision>4</cp:revision>
  <dc:subject/>
  <dc:title>PowerPoint Presentation</dc:title>
</cp:coreProperties>
</file>