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6CFA-6EF3-48BD-96D9-1A9075AC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85D-CA0A-446E-8699-755C6F63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DEA2-E7FE-4B22-9E40-158F4828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46E-B757-4463-8C15-754F163B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B3E-A415-473A-A8D0-FBBD6469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6511-9B8D-45A0-BF9A-46D45CBA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5E32-7CEA-4099-A6D5-8F6E641D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312-C4D9-4BDE-A2E8-325584B6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7880-B302-4C45-B285-C38A7C4B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E469-AEF9-4F99-8674-95BB24C4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B5D-DAEE-4BD3-8425-39A4F4B1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397-5CD2-459D-94AA-0F5C6B83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9190-297D-4497-98F5-AC0822F9F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ant Ref.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iz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tring Tokeniz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that uses a string to create sub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rings are tok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input =“this is a sample string”; //– Garbag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output[] = {“this”, “is”, “a”, “sample”, “string”}; // - Garbage o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utput is a tokenized version of th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StringTokeniz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ackage java.ut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java.util.StringTokeniz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make a StringTokeniz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Tokenizer st = new StringTokenizer(“1,2,3,4 5\” –6”, “,\” 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find out how many tokens there 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tn = st.countTokens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I use the StringTokeniz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st.hasMoreTokens()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st.nextToken(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s = st.nextToken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t i=0; s != null; s = st.nextToken()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read a CSV F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Name, LastName, StAddress, City, State, ZIP, ph1, ph2, ph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record per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fn = Futil.getFileNam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f = new File(fn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InputStream fis = new FileInputStream(f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edReader br = new BufferedReader(fi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read a CSV File?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(String s = br.readLine()) != null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ALine(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.clos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09-11T23:25:10Z</dcterms:modified>
  <cp:revision>3</cp:revision>
  <dc:subject/>
  <dc:title>Exceptions</dc:title>
</cp:coreProperties>
</file>