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55B-71B6-4192-B2DE-EB36E3D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981-B8E3-4254-8C00-9C4D7F0E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8A8-669E-4B39-AA2D-47B2C9C7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86E-8CD8-492B-90F2-A1A9C3E8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5220-5A46-452C-A40A-027E9F37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4361-3EB7-4555-BA63-0040E7D7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A54-EA7D-4D6E-9D85-BE3F64C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41EF-C43D-4FC1-80E7-17ED721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844D-9624-43FA-B016-70D524EE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AAEB-F180-4717-9969-B3FB73F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E2E-4900-496B-A89A-AB049CC0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156-14EF-46D3-9AD2-0560F49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C24E-FB2C-4217-B347-DF6B668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06C-72BA-407D-8312-678D9B6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6780-7C73-411C-B89D-7384273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F46C-3D86-4663-91B2-DC8D0597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56EF-7332-452D-ADC1-E471DAAA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BCA-3ED8-40BA-88F5-60BCF04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D56-7FA5-4234-B3D4-35D2AB6A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D04-ACFF-4BB9-81BC-CADD8A9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88B-AEA9-48CA-9010-92AA01E8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44B-1D61-4637-BB3D-78EA20C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8C8-E895-4A87-91CE-A4BCB928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0C9-DF2F-43D5-A358-DB1E77C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C1C5-D108-421E-87E3-5E546C29A17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229B-74E6-408B-A2F6-4365F3C1B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883-A6C5-487B-B3CA-5DF77B0921B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9713-66F4-40D8-92C1-8B0A0740A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and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A97A-6102-490C-A14E-C8F479398F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1CD968F-4CD2-4570-A99A-34DE67156F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 Major vs. Column 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row major you access the rows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olumn major you access the cols fir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: They are next to each other in mem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93B-F10C-4965-9087-2BE0DEDED5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787D4-12CB-41EB-9A51-4158273D6C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as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es the Vector clas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od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F35-E64C-45E7-93EC-2B9B5D0ADC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D9876-9153-41D3-8772-056455E8D6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 vs.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have fixed size, vectors do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s can only store ref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ultidimensional ve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is more efficient for storing prim.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E48-9808-426B-A0EB-6F5793F037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C8463-40E6-4C37-BF8A-3E54F6830F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vecto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Vecto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size()); //returns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prints hello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9F7-ACD8-4FD3-B3ED-E6D42B7042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BF104-0903-4288-AF03-649CA09DD9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a vector in a for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Vector v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i=0; i &lt; v.size(); i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i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7A4-E499-490F-8DD7-8719E6A89B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90C18-9882-412C-8EEC-0095F353E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vector of custom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CDB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add(Customer c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addElement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ustomer getCustomer(int i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(Customer)v.elementAt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FCA-4770-423C-AC65-90FF6C6E3C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16B40-1951-4F4F-B812-F5312643E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ntain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a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Que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C96-37CF-4F38-8254-40DED93113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4C2A7-0E59-478D-B5FD-EE0ACF47B5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addresse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knows its own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has a fixed number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ainer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683-1FCC-405B-9ACE-541431EE71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2428E-621C-4781-B0F1-E47F76CF90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tor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 memory to pro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ex the data that w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583-E5D8-40B5-8B71-8BAD8B54DB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43AA2-E07E-48BA-A154-1FA8BF341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kind of stuff can we sto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ver you store, all the data typ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st b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C9C-67E6-4533-98BB-A80D588095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53C16-9B50-4FE2-8F90-CC8135215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a[] = {1,2,3,4,5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b[] = new int[1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”, “dick”, “har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CC5-7E4E-4297-852E-BE98251E61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DF155-5701-4B37-B7E3-C815715E66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use the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IntArra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ia[] = {1,2,3,4,5,6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int sum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s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ia.length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s + ia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1B4-1EC8-45B5-9A67-CBA7B30843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94E38-4E01-4186-B415-7037982AF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[] = new int [100]; //1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[][]=new int[100][100]; // 2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[][][]=new int[2][3][4]; // 3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[0]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.length i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D51-DF4F-4F3D-A813-F61E6E65DD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4063C-95B8-4F32-ACCD-DBD3B3760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k[][][] = new int [2][3][4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.length="+k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.length="+k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[0].length=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k[0]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length=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.length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[0].length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B3-2A61-4B68-B9F8-5DB4752A53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552F0-22FA-41C4-9451-1EE518C58D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4-02-02T19:45:15Z</dcterms:modified>
  <cp:revision>7</cp:revision>
  <dc:subject/>
  <dc:title>PowerPoint Presentation</dc:title>
</cp:coreProperties>
</file>