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C80-E485-48D4-9ED2-92855928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974-5695-41C5-A7A9-C84E6230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B4E-38BF-4DB3-8217-BE7072E1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EFD-9055-4E38-9629-67D87831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6896-24B0-412A-BB19-044211A5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C4BE-8FE2-4662-BB0B-E594BD75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E6D9-37A9-48BA-B0B9-30111977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D080-4C67-494C-88D5-7343F1A2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577C-B424-4257-AD6D-17D1F50E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677B-F7F7-401A-B137-902EC918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9C37-CE9D-440D-98A7-CD926B88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C18-152A-44F9-9C04-AA821EE3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13E7-12CE-4B13-AA40-5F299333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7FAA-AD29-4158-9568-56CC5D5D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B042-C515-4706-9145-9B6B10AB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5A3D-F329-4D18-B72A-C44B734D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7E1F-20F5-44CB-916F-C3F01FB9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7AE-E87D-46EC-B09A-6F9DFE52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DF9-DB72-48A5-A74B-3C3D7FDE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F472-884B-42E2-8AF9-1013AD17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373-8193-4329-8EA0-E2068A78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280-D260-4561-AA94-BE869A0A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8A7-FDB9-409C-A359-C27728AA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855-38F5-4185-860A-E1DA8A6B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5B01-419C-42DB-829C-C2293138754D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E39A-328C-4734-BB01-8C918106DDF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sted Clas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Interfa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 inner reference data typ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king an Anonymous local Inner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face Runnabl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read t = new Thread(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 Runnable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 { doStuffHere(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king an anonymous Member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OuterClass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namedMember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nnable r = new Runnable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void run() { // do stuff he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t use a named clas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 Job implements Runnable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void run() { do Stuff Here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read t = new Thread(new Job()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ke a 1000 classes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(int i=0; i &lt; 1000; i++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Thread(new Runnable(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void run(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a unique class..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mand Patter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commands reside in the instance, so the instance knows how to run itself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Job(2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doCommand() {...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nt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 Print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static void printFunction(Fcn fcn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(int x=0; x &lt; 100; x++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stem.out.println(fcn.f(x)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cn, The Interfa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interface Fcn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uble f(double x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nt.printFunction(new Fcn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uble f(double x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turn x*x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nButt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RunButton(“ok”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TheOKThing(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he Interface...for comma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Commando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Runnable getRunnable() { // factory patter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w Runnable() { // anonymous local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void run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ystem.out.println(“wow”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 // Commando c = new Commando(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 // Runnable r = c.getRunnable(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use Command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ando c = new Commando(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read t = new Thread(c.getRunnable()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.start(); //call back on the run meth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W409, Java Programming 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f. D. Lyon, Mc 203, 6:30 pm – 9:20 p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ttp://www.docjava.co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cal inner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lass defined inside of a meth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 accessible to outer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 the other methods in the same clas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I need local inner class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ctory pattern with an anonymous inner clas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example, a local anonymous inner class!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is pretty comm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1739880"/>
            <a:ext cx="70106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Runnable getRunnable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Runnable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void run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ystem.out.println(“wow”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90720" y="4495680"/>
            <a:ext cx="58672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ctory Patter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med Local Inner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RunnableThings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nnable getARunThing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Job implements Runnabl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{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turn new Job(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sted Interfa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class Roach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face killabl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olean isAlive(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Colony implements killabl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olean isAlive() {return true;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kinds of nest ref data typ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f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ocal inner interface not permitted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mber inner interfa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ocal inner class (named or anonymou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mber inner class (named or anonymou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gin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id=cr3200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w=Fall200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the different Nested Ref. Data Typ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Interfa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nested referenc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reference contained by another refer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reference contained by a meth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reference with no name -&gt;anonymo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onymous cla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I need a nested referenc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create a temporary refer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isolate the reference name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create a new reference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make use of new object-oriented desig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create a local refer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mplify interfaces (façade design pattern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the different types of Nested class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static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dynamic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kinds of access can I have for a static clas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– public ref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fault – package ref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vate – yes, you can have a private inner clas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tected – accessible to subclasses of the outer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static inner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Point3d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ic class Float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oat(float x, float y,  float z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ava.lang.Double d = new java.lang.Double(1.0);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ic class Double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uble (Double x, Double y, Double z) {...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3d.Float pf = new Point3d.Float(10,20,30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ner class instead of packages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java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awt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Fram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Component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21:59:50Z</dcterms:created>
  <dc:creator>lyon</dc:creator>
  <dc:description/>
  <dc:language>en-US</dc:language>
  <cp:lastModifiedBy>dlyon</cp:lastModifiedBy>
  <dcterms:modified xsi:type="dcterms:W3CDTF">2004-01-29T00:05:46Z</dcterms:modified>
  <cp:revision>9</cp:revision>
  <dc:subject/>
  <dc:title>Nested Classes</dc:title>
</cp:coreProperties>
</file>