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E4B-09BA-4C35-A9D6-25E210FD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B43-7869-4EE4-87A4-F5B45AC7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C5F-AA34-4532-8AE1-7EB9F89F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A1E-D991-4C8E-8AEA-319D6F93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D6A-DD88-4BC4-A722-6696F28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320-9ADB-4A8C-B8E2-D2611D4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582-6731-4B64-9A6C-942733F9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5A5-B79C-46B9-9E36-50C9DC48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715-2217-4658-B580-05667A5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1A2-C70E-4D43-9934-0D7DFDB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104-F671-4504-832C-14E1378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B69-25DF-41C9-9C35-3C39ADF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62B5-603D-4FD9-BCC4-92FB4A954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2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3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4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5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6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7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8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9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0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1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2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3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4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5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6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7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8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9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20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21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2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information about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load byte co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he file that holds the byte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use the reloader to load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pt the user for a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 has a directory of class files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oad the classes in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lass the classes for the mai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 u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called Class has many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class demonstrates many reflec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ff you can dis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-classe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method need for inv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method ret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must be loa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you must have access to the byte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system works on byte code driven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a source code drive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already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ru = new ReflectUtil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List is used to store all the methods and get information abou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 = o.getClass(); //supported for al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util.Date date = new java.util.Da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c = date.getClas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List ml = new MethodList(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mutators[] = ml.getWrite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ccessors[] = ml.getRead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comes the mutation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mutat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goes the accessor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access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057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4280"/>
            <a:ext cx="8077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or homewor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rite a program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// in Java. That can lis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// All of the methods that contai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// a method that is of  the signatur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/ public static voi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main(String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args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[]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 // These methods can be in many classe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// and all must reside in a package that is given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// For example: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// Class []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getMainClasses(Package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 p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 // Method m[] =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getMainMethods(Class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 []);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// returns a list of methods that are in the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get the classes in a Pack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p = Package.getPackage(“packageNam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load clas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.fo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default system class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Code loaders can loa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3-10-29T19:21:58Z</dcterms:modified>
  <cp:revision>8</cp:revision>
  <dc:subject/>
  <dc:title>Exceptions</dc:title>
</cp:coreProperties>
</file>