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F45C-D3CD-4A34-8E0D-6EAE85A1B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ML – extensible Markup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overcome limitations of HTML – define own tags for e-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ML already has so many tags that it is common to have more markup tha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s adding more tags to HTML would be a bad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ll formed XML has a close tag for every open ta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ML main use is exchange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ble – able to be extended. (Author creates the tags that are nee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SLT – extensible stylesheet languag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ts a document from one format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– Change a title element to a name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SLT is well formed X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ly need to learn new syntax to learn XSLT (if you know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TD – document type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s the allowed constructs in an XML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learn how to write DTD’s you had to learn new stru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Xpath to match patterns in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SLT arose from the W3C work on Extensibel Style Sheet Language (XS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SL specification covers the transformation and formatting of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3C realized that transformation was a significant area in it own right and broke out XSLT as a stand alon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PATH is a specialized language that provides ability to address parts of a XML document. It was originally part of XSLT specification but has since become a separate W3C recommen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XSLT is XML any program that can read XML can read XS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tools available to transform XML using XS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has provided abstraction layer through JAX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LST provides an easier to maintain and more readily extensibl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SLT is easier to learn than traditional programming languages for use by non-programmers, e.g., web ma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 to agree upon common schema DTD with all potential business partners in adv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Key Construct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shee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value-of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d/text(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cop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for-each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apply-template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mod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-unless-empt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ZeroFuelWeigh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Xalan XSLT processor in conjunction with Xerces parser. Both products are open source products by Apa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Demonstrating the transformation of an XML file into another XML format as well as 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7D0-C5DF-4970-BDF8-6FFE2191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EEE-F60C-46FC-86F7-F57D9918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1B9-5FAE-4135-A84F-0BFE085D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469-BDE7-475C-BFBB-4DE5B2AA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7FB-B619-4CA4-9757-C0EB294B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0CB-E654-49C5-A771-5CD61AD8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0B7-CAC6-47DD-B8B4-6329B4BC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DA6-AAEC-4AB7-9AE6-AF065BF1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13B-60A8-4DFE-8EBB-FA08180F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43A-1245-4840-B848-2A94966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F66-0EF0-4EE8-875D-1114337C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849-ABA3-4E64-9C11-748E324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63EA-E92E-45EC-A2A2-F0AFE58A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d Rosenthal And Dave P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ef Primer on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71625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0958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XS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8196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XSLT Relate to XM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SLT is well formed X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ly need to learn new syntax to learn XSLT (if you know X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s XML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one DT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TD – document typ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learn how to write DTD’s you had to learn new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XPath to match patterns in X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6483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4343400"/>
            <a:ext cx="5257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T is part of XS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into separ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s on XPath for some of its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4771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XS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dd functionality to program without recomp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 &amp; ease of code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LT is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 to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ibraries such as SAX used in conjunction with general purpose programming language such as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rogramming s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r integration with business partners, e.g., work with common DTD /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XSLT Style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32004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  <a:ea typeface="Arial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stylesheet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xmlns:xsl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w3.org/1999/XSL/Transform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version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apply-template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c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!--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 All other elements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|@*|text(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cop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apply-template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|@*|text(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cop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styleshee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  <a:ea typeface="Arial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colo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 Adam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ic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.99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ic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4290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  <a:ea typeface="Arial"/>
              </a:rPr>
              <a:t>&lt;?xml version="1.0" encoding="UTF-16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colo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 Adam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934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5:24:27Z</dcterms:created>
  <dc:creator>Ed Rosenthal</dc:creator>
  <dc:description/>
  <dc:language>en-US</dc:language>
  <cp:lastModifiedBy>Ed Rosenthal</cp:lastModifiedBy>
  <dcterms:modified xsi:type="dcterms:W3CDTF">2002-02-15T18:42:04Z</dcterms:modified>
  <cp:revision>20</cp:revision>
  <dc:subject/>
  <dc:title>Introduction to XSL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637660</vt:r8>
  </property>
  <property fmtid="{D5CDD505-2E9C-101B-9397-08002B2CF9AE}" pid="3" name="_AuthorEmail">
    <vt:lpwstr>edr@optonline.net</vt:lpwstr>
  </property>
  <property fmtid="{D5CDD505-2E9C-101B-9397-08002B2CF9AE}" pid="4" name="_AuthorEmailDisplayName">
    <vt:lpwstr>Ed Rosenthal</vt:lpwstr>
  </property>
  <property fmtid="{D5CDD505-2E9C-101B-9397-08002B2CF9AE}" pid="5" name="_EmailSubject">
    <vt:lpwstr>Here is Dave and My Presentation Number 1</vt:lpwstr>
  </property>
</Properties>
</file>