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E6D-C22E-46A3-9959-3C9580E1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20C-9922-44BC-8727-BDCE1D07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D60-215B-4E40-A874-40D04855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647-1BC8-4245-89E4-84D4A68D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889-74D1-405A-B0C4-826D40F6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9F3-C70D-4984-9AA1-22B6E0DE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5C1-BFDB-478B-AE46-FD4211AC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C6A-6664-4387-B5CB-C82A07C8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594-EEA1-47F8-8ED6-AE6AEB94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9B3-3ECB-47B4-AE2C-ED603D22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605-EE78-477A-9796-D93B3FC1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20A-306C-44C9-8ACE-C5537BA0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B0B6-37E4-4962-B7C8-925DA9425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al vs. Object-Oriented Desig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Cooking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es are assigned to different Objects in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itron role is to deliver the rol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itron role is to take the orders and deliver them to the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tchen cooks the meals and tolls the bel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the interru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ron services the bell interrupt by getting the meal and taking to the prope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ear division of labor and assignment of roles, this leads to limit of knowledge about the different implementations of the ro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needs procedural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needs an interface between objects with a clearly defined ro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a reduction of fragility in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face is th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enables reuse of the sub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hangeable parts use the same interfac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 Software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Engineering has been criticized for the lack of software reu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l design had reuse using subroutines and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ool kits were the only means of software re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 enable Component Conn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I had a standard for gun barr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ontract the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produce g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hangeable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s use standard interfaces to make use of a large set of related classes to solve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Runnable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program to the interface you c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 t = new Thread(r); //r is run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ImageProcessInterfac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mage process(Image img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a,b,c,e,f,g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String(x,y, “hello world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design requires that you know the parameters, their order and their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data structures were crea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ds), drawString(graphicObjec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ed by an input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some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t on data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ind of Procedural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sts design experiments that validate or invalidate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ineers design solutions to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is a p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n never survives the first encounter with the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and data structures resides in the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are used to communicate outside of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interfaces are made simpler than the system then you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ade design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ade Design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Oriented Design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implify the interface to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ell and order in the resta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gas, brake and ste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ndard interface to a car -&gt; I know how to drive all standard ca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 are not flexibl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good and b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because: leads to standards....all AC outlets are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 because: not all interfaces serve all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ne is different from a c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need to learn how to fly a pla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hange from one interface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apter design patte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ows one interface to be changed in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 uses 120 VAC in two pro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 uses 220 VAC with different shaped pro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dapters converts between the tw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 Oriented Design Patte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sign pattern is a recurring solution to a well understood problem in object oriented 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patterns have n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patterns formalize the object oriented designs so that they can be re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present the maturation of SW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atterns are Good becaus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menclature (i.e., jarg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mature discipline has a jarg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understood vocabulary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’s enable efficient communication about OOD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enable reuse of O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atterns change the way we THINK about desig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is a t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 improve the language tool and this alters how we thing about solving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 lot of design patter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ton Design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tern to have when you are only having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ton design pattern controls the total number of instances in a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instance can be crea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nstance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singleton design patte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 trademark like Doc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TO makes sure there is no duplication of a trademark. It uniquely identifies a business or product or ser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trademark can be issued for this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ming is different from desig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class SingletonExample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static SingletonExample se = new SingletonExampl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SingletonExample () {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SingletonExample getExample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s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terative process (many pla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ging process (the design improv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involves modeling and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requires a good problem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OD vs Proc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’t do singleton DP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need an OO language for th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e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id OOP st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rized by Simula (196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patterns are newer (1995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way to learn design patterns is by using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 time design patterns (introduce DP’s as they are need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ced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of 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st of actions that may contain cond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ocedural De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reation of p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ing out conditional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etching out multiple bluepr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ing several levels of detail for a software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al Design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these things, and MO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Problem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rives th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-wise refinement of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and more detail is used to define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ting more detail for the problem. Refining the problem spec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s follow from the spe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s are actions that are taken given some situation on some data or de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es are procedural elements that give dire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ing run the recipe procedure using ingredients and cooking utensi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ing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e is an algorithm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redients are data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nsils are like the subrout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bject Oriented De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procedural design  and add encaps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apsulation controls complex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limits the interface that the outside world sees in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3-26T22:09:12Z</dcterms:modified>
  <cp:revision>17</cp:revision>
  <dc:subject/>
  <dc:title>Exceptions</dc:title>
</cp:coreProperties>
</file>