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50B-5094-4E2B-BCBB-7544C8D1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F96-4E4D-45EA-8FB0-CF5526D5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0D0-DDDE-42F8-8FDB-FB3077A5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97A-9DE1-4D23-B279-1CF80250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D56-6AF4-4708-88FD-DFDA674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D69-B197-4A09-A90C-ED009355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8F1-526E-41C7-A0A6-27770774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857-3589-48ED-AF41-B636976C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C85-98E8-4D52-83BB-4693323C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AA3-AF79-4543-8000-6D11579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61E-0840-4BC5-8382-B3A97DE5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5DB-9C6A-456B-9954-4DF5986C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BD1F-F89F-4599-B59C-877A6E7FE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vs. Un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optional in the try-catch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finally { // this is op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 Rule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ALWAY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 the JVM fails for some out-side c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good for house kee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a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database connec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Dig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int getNumberOfDigits(String 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ca[] = s.toCharArray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nod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i=0; i &lt; ca.length; i++)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c = ca[i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Character.isDigit(c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no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a c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reditCardException extend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checkCreditCard(String 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s CreditCard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getNumberOfDigits(cc) != 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 new CreditCardExceptio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DigitExample.checkCreditCard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123467wefewfewewrwe890123456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MO MONEY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catch(CreditCardException cc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DEADBEAT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class SafeArra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String names[] =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Tom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Dick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Harry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 getNameAt(int i) throws OutOfBound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OfBoundException.checkRange(i, 0,names.length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names[i]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feArray sa = new SafeArra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(int i=0; i &lt; 5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.out.println(sa.getNameAt(i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 catch(OutOfBoundException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OutOfBoundException extends 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void checkRange(int x, int lowValue, int highValu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ws OutOfBound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(x &lt; lowValue) || (x &gt; highValu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w new OutOfBoundExceptio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s in Java.l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es of Exception are checked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-catch statements are requir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error handling until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guard the in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invert f(double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x==0) System.out.println(“danger x is zero!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1/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our ow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reditCardException extend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check (int i) throws CreditCardExcep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&lt;= 0) throw new CreditCardExcep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 the 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checkCard(int ccn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(CreditCard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try-c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throw a checked exception OR try to catch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Wow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rintCheck(int ccn) throws CreditCard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checking ccn:”+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Multipl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1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2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s many catches as you like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at leas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ways catch all exception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.stor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OException extends Exception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File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User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3-02-12T00:14:22Z</dcterms:modified>
  <cp:revision>4</cp:revision>
  <dc:subject/>
  <dc:title>Exceptions</dc:title>
</cp:coreProperties>
</file>