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F34-40D9-48CB-9A27-DD95AA11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906-DFE9-48E5-9162-BA87D64E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51E-3129-4D0C-B549-16B8A89D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F0D-00BD-41EA-AB2F-359CD48E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588-0DEB-426B-8863-0DBE1E8C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B37-5B16-488A-A1B2-706E9DC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C74-F3C3-49C9-A524-D6146692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67B-F705-4B56-8EF1-01C51C5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640-1430-4779-B437-306BCF2D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F31-E9E2-4E8B-A707-3076FA9A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C3C-A396-4B1B-8BED-7510021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C14-9FAA-42BF-A036-E259B027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349-2919-4572-9DC1-75692A2AE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 to 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vs AW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has lightweigh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weight components have no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nd feel variation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is heavywe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weight comps require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looks like the platform it runs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is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Output, a message di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6668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essageDialog(Object o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ptionPane.showMessageDialog(null, 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438280"/>
            <a:ext cx="883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I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String getString(Object o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JOptionPane.showInputDialog(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get an i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an 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36232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Int(Object o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Integer.parseIn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tring(o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lay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layou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do GUI's without layou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name a few layou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imple layo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der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se layouts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yout manag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le for positioning and resizing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outManager is an interface that resides in the java.aw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Layout Manag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't need a LayoutMa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t the Layout to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reposition and resize all components your 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a LayoutManager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s la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 layout resolution versa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 interface flex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a LayoutManger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layout manager works differ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they get components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dimensions are used to properly size and place the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impl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getMinimum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getMaximum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getPreferred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 on AWT (another big A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GUI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you don't like your LayoutManag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Layout ignores the min and max and preferred sizes! It takes the available space and evenly divides it among all the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ponents are grown to the availabl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id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71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43200" y="2381400"/>
            <a:ext cx="18576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mbine GridLayout with Preferred Siz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a fixed number of rows or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to use the preferred size of each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to resize the components only if I don't have enough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't want components to fill all availabl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your own LayoutManag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redSizeGridLayo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1838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of the java.awt.Component class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has a size, colo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can normall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mponent is painted it is visible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 extends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extends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extends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extends a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log extends a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el extends a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t extends a Pane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and AW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 is built on J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Component extends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Label, JButton, JCheckbox, etc all extend J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es JComponent extend Compon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 uses LightWeight Componen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T uses HeavyWeight componen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o good about a LightWeight Compon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awba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I still need AWT when using Sw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T has many useful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n together they form a Frame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AWT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60020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Scree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Dpi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kit t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kit.getDefaultToolk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.getScreenResolutio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the screen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59092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Dimension getSize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kit t = Toolkit.getDefaultToolk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.getScreen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3-26T02:22:52Z</dcterms:modified>
  <cp:revision>17</cp:revision>
  <dc:subject/>
  <dc:title>Exceptions</dc:title>
</cp:coreProperties>
</file>