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C7D-36CA-4366-A077-7D8E8743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902D-24BA-4F82-AA9E-EF557814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322-4C6E-4526-B79F-C9F2F822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93F-EF55-4408-A282-9E4C0F25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DF28-2368-49C9-97C5-34184EEF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4A59-F781-4FA8-95E9-BB5D8803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4D5D-5904-42C6-82A0-105DA6E4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4DE3-4336-48F2-8E96-50940790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E69D-396F-40CE-B0F5-11DDAF1B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6BA2-99DE-4DCE-B4F2-0CE94E80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DF73-1D33-4B36-A9CE-321F80F5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1CB-AE8F-4D17-8E25-68ADA131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32FA-FA32-46D2-B04F-218A0E9D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22D3-99EA-4325-BD96-045CE36A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1EC6-1467-4052-A89F-71599B4D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AF67-6E58-4583-89D9-CA994FAA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27D7-4AD9-4320-9E1D-239D9C2E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4FB-5954-44EF-959F-93CB8B79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4A7-FB3C-4907-A1EA-5039772E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15E-85D5-440D-A5CA-9571461A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493-3E02-4A2A-BC64-5D844B90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886-3324-4229-A381-37131DB3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8FA-C347-4C89-BCD5-70C4A2D2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C84-17EE-453C-8D70-64C9945E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718C-4E02-4447-A42E-B574E8AAC36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AE1E-E2D6-4780-BBFB-527C83176C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45DD-CF29-485B-9196-76FDF44B107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27B3-EEA6-40F5-A45F-7CDC6C13F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pter 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7E77-8BED-4EA7-A435-892CEF2FB2F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40504D8-C370-4227-A1D5-5B515AFEA3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stract classes, Cont’d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abstract class Wow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 extends Wow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 f = new Foo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77DB-D75F-435A-8B94-06F48B7A74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27B70-744F-4502-8E10-2F0EF0FAF7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I need an abstract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tain abstract methods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methods have a specification, but no implemen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method enable us to defer the implementation of a met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CAE-952F-4F05-98E6-3DBED776A3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ED71F-70FA-4903-8503-AFDFC47511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class Graphics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lean isVisible = fals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abstract void drawLine(int x, int y, int x1, int y1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setVisible(boolean b)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Visible=b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Postscript extends Graphics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drawLine(int x, int y, int x1, int y1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“ps:”+x+’,’+...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C75-1180-49FF-B197-FFE74954F7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6D661-BEF8-46A2-8B66-1EC2939154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stract rule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class contains an abstract method then the class must be declared abstra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92F-0298-404B-B7F6-BBFFE0FA09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B193F-3EBB-4730-85B9-6CA401863C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s a key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classes come later in the 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523-AA11-4740-ABE2-7675596FE3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DF285-CED7-44E6-83B0-3D537BC832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static variabl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 at Compil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s variables exist only at run-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fixed location inside of th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bal to all instances of a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referenced w/o instancing the outer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1A22-2C10-439E-AE65-2399C89A4A8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BD082-33D0-4E5F-8B9F-2C2F9CD3E8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 of static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use a S.V. before instan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Math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double cos(double x){...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x = Math.cos(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97C-16C4-40AE-8D00-419E3A8D38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DEEF2-3B26-4F4A-B68E-AD2E9B887E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o instance a dynamic el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must use 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 f = new Foo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f.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813-AF38-40F8-85ED-538AF0CCD6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77A9E-8D48-4CC3-935E-AB3DA04212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s for dynamic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must instance the containing class to gain access to the dynamic memb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8B2-F1FE-4524-B77D-CBB3C374FF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15FA1-C7A6-4706-BB05-15D236FC3F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uff about stati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ing new instances of classes that contain only static elements, no new memory is 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4D9-1328-4F9E-9243-991F0A3D30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C4957-C85B-492E-9299-BD90891F89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BEC-41E4-4889-A043-C492E3BA0B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EB659-F019-422A-BFB0-21CB176BCA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and mem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Foo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int i = 1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Test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test(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(int i=0; i &lt; 100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Foo(); // takes no more memor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D3E-DB4C-4D58-8077-18CCB9407C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E47FB-42D7-4AF0-AAE3-2151A61BE5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 Dyanmic va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i = 10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j = i + 100; // 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k = j; // b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4A7-7FB7-43FC-B1EC-E5304E76EAC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3AF44-2FB5-4921-986D-782A6B6B64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 dyanmic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get2()+8;//O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2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6A8-2CB1-4D6C-8125-292C85076D7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795C8-2CBE-444D-ACFA-603A809D98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. Dynamic, cont’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get2()+8; //b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get2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E8E-B453-435B-92EE-8CB4F206472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2C840-3712-4A68-ADDB-75298B52EC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 Dynamic Va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i = get10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10; //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512-AE8E-486B-8B69-1FEA281BFA3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2FCE0-342E-448B-8370-073DB9E07C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ynamic vars and static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get10(); //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10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470-FB2D-449A-974F-8EA4CEBB80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9AB57-E938-42DA-A5E7-965B2C087D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v and S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i = get10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get10() { ba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10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DA8-622B-4EA1-B229-5ED85848E6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E01A7-5DC6-4F28-881A-164C30C27E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M can invoke 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 can reference 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stuff can use static stu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tatic stuff cannot directly reference dynamic stu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E97-5AD2-4B37-A18F-9261266448A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18928-12B6-49BE-A2BF-6548E854A1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Patte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pattern has a n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pattern has a problem it sol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big books on design patte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1C5-CC70-4569-B8A0-E61A81E9534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030A9-F8EC-4803-84E9-EAAB2191E8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leton Patter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you only have one in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Foo() {} //don’t let other in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static Foo f = new Foo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Foo getFoo() {return f;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BFA-8F86-4642-92B3-67249AF0E7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299C0-7D3A-4C66-BC1F-02CE20DF1E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 cannot be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 cannot be chan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final int i = 10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= i + 1 // cannot work, since i is f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60C-4E2D-4BD2-909C-16F1EB4E88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3DCD6-E55E-4979-A5DF-6B7B477224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methods cannot be overridden by subclasses, this causes a syntax err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Print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static final void print(Object o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ut.println(o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56B-36CE-4AE4-9B0B-C2B2B83544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0C99A-6F92-495E-B183-63FB24B2D1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You cannot shadow a final metho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PrintStuff extends Print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print(Object args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“hi:”+arg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This does not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FB0-BF5A-43CD-9BAB-BBD15450F7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B7F7A-A321-4813-828F-C7A65BE7CC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nal classes cannot be subclass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final class Math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 extends Math {}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canno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CD2-761B-4844-B644-6BE14CACC2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3FCF5-73C2-4C37-989F-8ECE60ACDB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strac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is a key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not have an abstract vari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E85-55B8-4AA9-BE39-33230CA04D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82F44-0169-401A-8807-F787BA0D14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abstract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class that cannot be insta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class that can be subcla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declared us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abstract 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 f = new Foo(); // syntax err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356-2A03-4281-A168-8B5D85353F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EA572-8B23-4A71-83B4-487B5C1A3E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 of abstract subclas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classes of abstract class are non abstract if and only if they provide implements for the abstract method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065-B12E-494A-A172-EA8F06ABA0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A0D68-0B95-4964-AB37-714B63F477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on</cp:lastModifiedBy>
  <dcterms:modified xsi:type="dcterms:W3CDTF">2002-11-15T00:05:43Z</dcterms:modified>
  <cp:revision>5</cp:revision>
  <dc:subject/>
  <dc:title>PowerPoint Presentation</dc:title>
</cp:coreProperties>
</file>