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D09-ADF1-4B93-A60B-B5C13B00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599-C282-4206-B4C9-11CB3BA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6BD-0851-4B7E-85DF-ACFAF51F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5A2-29D8-4FDD-9C15-5762D56E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600-8937-461A-8136-A393489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ACC-16EC-4F99-B6B8-B5808214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5A4-FC7E-4BAE-9EC7-C4E23027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091-D3CD-4A86-831E-CFBAEE15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FED-59D3-42A8-B301-5B9076C7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B78-BDD6-433F-B8EE-92C828D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EC2-124E-4783-B5D5-F8CCA76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73E-3C48-49E6-9967-D63CC4E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B699-8ABF-479A-8FB0-156EB3B74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– world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– sub-class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– package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– only within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Only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ustome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String name = “J. Shmoe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Nam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ubli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const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PI = 3.1415926535896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double sin(double x){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cla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llows others to use your AP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otec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have a protected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have protected variables and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class authors can use protect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lass authors know what they are doing!??!? Trust them!?!?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iv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't trust the subclass autho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can be read but not 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can be written but not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control access to stat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axe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interestRate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getInterestRate() {// ac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interestR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greenSpanManeuv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interestRat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-only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axe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interestRate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etInterestRate(int  r) {// mut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greenSpanManeuv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interestRat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ivate meth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't want to publish the meth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the spec will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docu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careful what you make pub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ca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Speed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Odomet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Ga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setAcceleration(int 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setSteerWheelAngle(int degre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is eas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hing, it is defa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ot make everything defau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ne can use your stuff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stuff is unpublish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in an OOD is a function of class interdepend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encapsulate complex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ference organ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process that enables us to group classes and interfaces into isolated namesp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hare protected elem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d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ShareM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int i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protected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so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omeClass extends dl.ShareM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Class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solated namesp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 is an ident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space is place where identifiers are grou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olated namespace is an isolated identifie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olate identifier grou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reuse of identifiers w/o causing con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awt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l = new List(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his is an error, how do I fix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ous class name conflic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.List l = new java.awt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util.List ll = new java.util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just use unique identifi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we can’t control all the programmers who write libraries that we want to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ed grouping of reference identifiers (classes and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reate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d word “package” appears as the first java statement in a f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ppears on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com.docjava.fut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Foo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are ALWAYS public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package foo; //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foo; //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3-02-05T02:17:36Z</dcterms:modified>
  <cp:revision>7</cp:revision>
  <dc:subject/>
  <dc:title>Exceptions</dc:title>
</cp:coreProperties>
</file>