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CFC-AD28-4D28-B3E4-8F833EEC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2F5-C5C2-447D-A413-B8BA1FD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767-E17D-4DA0-9951-6D15D75A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86D-4540-45F8-94D7-21C81C1A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097-781E-46AF-A589-E97848CE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F11-B532-4D94-8881-C31CC0D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399-9FA8-408E-9C4F-1031A83F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A42-D143-433D-B549-3EF8614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BEC-46DA-48C6-BEB2-68309D3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52A-DB46-46E7-8E72-A7BC7CD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496-4A92-4234-9D71-61ACB44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BD4-1C7D-4126-B870-204A7B2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4649-8E6B-40E6-B463-49665A7B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XM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us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– extensible markup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ll-formed, parsable language able to convey structured textual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a language for defining hierarchical markup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Servlet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new users from the lo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add a register link when a user cannot login or first vists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at users are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32 on X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for next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XM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ook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itle&gt;Java for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&gt;&lt;title&gt;Java for morons&lt;/title&gt;&lt;/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ok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pec correct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’t have to (the parser is tolerent of bad 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syntax checking on parsing 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ld way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way XML Schema (is xml for defining xml!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Type Def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?xml version=“1.0” encoding=“ISO=8859-1” standalone=“yes” 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DOCTYPE nameOfItem [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follow 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the DOC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DOCTYPE Cart [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Product (Name, price,…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Product (#PCDATA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Name (#PCDATA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Price (#PCDATA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&gt; &lt;Cart&gt; ….products &lt;/Car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ar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Image Processing in Java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$45.00&lt;/Pr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ore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ar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yon</cp:lastModifiedBy>
  <dcterms:modified xsi:type="dcterms:W3CDTF">2003-12-05T00:33:25Z</dcterms:modified>
  <cp:revision>11</cp:revision>
  <dc:subject/>
  <dc:title>Introduction To Programming</dc:title>
</cp:coreProperties>
</file>