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F779-2E88-45B7-AEB9-A3CCB708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092D-6686-40E6-A683-0555E095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1BC-4070-4BB3-B844-5CE7EE67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2D3-A8B0-48B5-8BF8-E2B10B59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F2E-9B9B-4B89-8348-D049CE8E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F9D-83A0-40BA-AD7B-B15A108C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727-5543-43CC-BCE5-4F695AC0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E0B-5364-4361-B76F-E7E1F819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578-35AB-41DA-889F-50022DBD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5E8-AE41-4364-BBF0-818BA4AB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9462-AB3C-47AF-94C9-2AAC05BC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9DD3-B579-4D3C-89E3-032983FD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8388-8EB6-44A8-8578-44E3B0586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Sh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simple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ula for a cir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it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-xc)^2 + (Y-yc)^2 = R^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ric Formu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sin(t)+x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cos(t)+y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is in the range from 0 to 1 inclu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a GUI for displaying a sound. You can use an O-Scope for the design. In Swing! Use RunComponents with command patter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unctions you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a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the horizontal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the vertical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the time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the vertical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s cont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stance of the Graphics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s is ABSTRAC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extend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get instances of the Graphics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paint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n instance of an java.awt.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 java.awt.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a graphics cont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access to simple 2D draw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raw Business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raw Vectors into the scr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raw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raw java.awt.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imple shapes (2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can print vectors, and bit m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calls Pa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paint(Graphics g) {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the progra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the J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T Event Dispatcher (it runs in a threa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in response to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a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oc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in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int(1000); // paint invoked in 1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does the Damage control manager invokes repa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damage, damage control for the window causes repa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re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exp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 dem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int(int x, int y, int w, int 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mage control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3600" y="304812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T Dispat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75840" y="250524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572000" y="28195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43400" y="1981080"/>
            <a:ext cx="1295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1372320" y="396252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590920" y="3505320"/>
            <a:ext cx="15228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8640" y="5248440"/>
            <a:ext cx="24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mage ca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28280" y="402912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213372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27432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952880" y="4724280"/>
            <a:ext cx="377208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lti-threade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men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 have dim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mension d = w.getSiz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 have dimensions t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w = d.width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h = d.heigh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in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3505320"/>
            <a:ext cx="3352680" cy="190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90720" y="28861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760" y="5324400"/>
            <a:ext cx="9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,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3505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3505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91320" y="319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90720" y="5934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yon</cp:lastModifiedBy>
  <dcterms:modified xsi:type="dcterms:W3CDTF">2003-10-28T02:17:58Z</dcterms:modified>
  <cp:revision>8</cp:revision>
  <dc:subject/>
  <dc:title>Exceptions</dc:title>
</cp:coreProperties>
</file>