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2C9D-6029-46C8-A06B-24ED95065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B630-21DE-4775-A9B5-E6D79935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B2FF-F9A7-48F0-BFAB-60DC99D54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3768-374B-4E6E-BAE8-2149A739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EE82-B4A7-472E-BF64-B5CF4B05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63AD-5338-41BE-90F9-84CC9EF5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A82D-4725-440D-A9F4-73CCC35A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AD7E-4912-4942-9491-427C3EB3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20CE-1CA7-4561-A73F-10433205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E96A-20AF-4333-9909-B808CC7F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0B60-20E3-4433-88A9-BF12B877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7A49-CE6F-4E01-B9FD-9E183C0D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13C8-3072-49DE-B1E9-1ACED686D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 1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fy chairs in fron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rows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 that decodes HTML and presents it to the us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s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yn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Inter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llection of local area networ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often viewed using a brows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omputer net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ans of communicating between compu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3429000"/>
            <a:ext cx="9144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3352680"/>
            <a:ext cx="13716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38098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371600" y="4267080"/>
            <a:ext cx="10350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omputer1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29200" y="4419720"/>
            <a:ext cx="209556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Computer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=Inter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of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 forwarding on a data packet 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3429000"/>
            <a:ext cx="9144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3352680"/>
            <a:ext cx="13716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3809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371600" y="4267080"/>
            <a:ext cx="10350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omputer1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743200" y="4495680"/>
            <a:ext cx="209556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Computer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77" name=""/>
          <p:cNvSpPr/>
          <p:nvPr/>
        </p:nvSpPr>
        <p:spPr>
          <a:xfrm>
            <a:off x="4876920" y="27432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876920" y="3733920"/>
            <a:ext cx="838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No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590920" y="28191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28195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934320" y="274320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0" y="4343400"/>
            <a:ext cx="167652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43800" y="3657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9132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00800" y="3505320"/>
            <a:ext cx="11430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We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on 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HTML for presentation of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sers decode presentation data for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HTM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sers present data embedded in 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F, JPEG, PNG,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FF, AU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G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 Plugi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 that helps a browser process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ckw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P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va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to the number of formats we can de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the Java program automatically when we visit a web page using a browser with Ja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uld you run a program on Dema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ig security ris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ature Limits help us to be sec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sted programs can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rusted programs have big lim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file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access across the net to other mach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restrictions to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ompil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rogram that inputs a programming language and outputs another programming languag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language is lower level than input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Jav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ming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echnology that supports the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Java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ava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s java sourc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s BYT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run BYTE COD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is the command that invokes the JV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inputs BYTE CODES and RUNs them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s a By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llection of 8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itive Data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Data typ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 structured record that hold bits in a format that is defined by either the programmer or the language desig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. The bit is a data 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Digit = 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ymbolized by the numbers 0 or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use a bit to count, you use a two-state numbering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is a BI (two) state numbering (nary)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ina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numbere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S={0,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, 01, 10, 11 (bina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, 1, 2, 3 (decim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Hexidecim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 symbols in a numbering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S={0,1,2,3,4,5,6,7,8,9,A, B,C,D,E,F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EAD) base 16 (hexidecim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A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7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Oct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ase 8 number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S={0,1,2,3,4,5,6,7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77) (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7) + (1) = (10) base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0)+(7)=(17) base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7)+(1)=(20) base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symbols in a numbering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x of a numbering system is the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they call it the ba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ecimal we write: 4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2 = 4 * 10**1 + 2*10**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binary we write: 1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01 = 1 * 2 ** 3 + 1 * 2**2+0*2**1+1*2**0=8 + 4 +1=13 base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rogramming Langua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anguage that can run on a compu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vention that helps facilitate commun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, it helps people communicate with a compu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rimitive data typ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built in (to the language) data ty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means that the language comes with the primitive data ty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a primitive data typ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lds some value represented by bits in computer mem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elps with computations by stor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example of a PD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lean – true, fa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lean b = tru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lean t = fals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lean theChairsAreHard = tru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lean theExampleIsGettingSilly = tru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= sign means assig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are on the left hand side of the = si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are 8 primitive data typ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edFixedPoint (byte, short, int, lo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edFloatingPoint (float, doub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types of primitive data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sign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types of unsigned data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c = ‘t’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qwerty = ‘q’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thisIsGettingSilly = ‘w’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Java state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Java code followed by a ‘;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 fooBar = ‘e’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 fixed point PDTs are the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 byte, short, int,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uses 8 bits to store 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uses 16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uses 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 uses 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some exampl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b = 127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b = 128; // does not work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s range from –128...1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st significant bit is the sign b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thisIsGettingSilly = -128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use the sho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thisIsShort = 32767; //max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thisisTheSmallestShort = -32768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ompu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chine that processes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Brain= bio-comp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use the 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whatWouldYouDoWithoutInts = 2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thisIsTheBiggestInt = 2147483647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thisIsTheSmallestInt = -2147483648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add numb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i = 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j = 3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k = i + j; //k becomes 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s are written using “//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/ this is a com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subtract numb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at f1 = 2.5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at f2 = 3.4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at f3 = f1 - f2; // f3 = - 0.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multipl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d = 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thisIsTheSecondDouble = 1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a = d * thisIsTheSecondDoubl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’s value is: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divid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w = 5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r = 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q = w/2; //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2.5 can’t fit in a fixed point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lways truncates the part after the decimal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control the order of Evalu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= b * c + d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I evaluate c+d fir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= b * (c + d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= w / (q + r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= 2 /(1 + 3) = 0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= 2/1 + 3 =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print a random numb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Math.random(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output a number that ranges from 0 to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ositional not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system that multiples a symbol by the base raised to an exponent that represents the symbols pos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Operat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ymbol that performs the invocation of some method that manipulates some arg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a = b + c; // + is the addition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d = e – f; // - is the sub 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f = f / 2.0; // / is the division 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represents the assignment 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machi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evice that transforms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s use energy to perform information proces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, Wheel, human, brain=biological comput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operato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makes it easier to do compu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kind of ops are the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ops, take two arg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a + b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a – b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a / b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a * b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ry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++ is the same as a = a + 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– is the same as a = a – 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+=25; // a = a + 25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-= 25; // a = a – 25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/= 4; // a = a / 4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*= 3; // a = a * 3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twise O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, OR, NOT, X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143000" y="2590920"/>
          <a:ext cx="3209760" cy="242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590920"/>
                    <a:ext cx="3209760" cy="24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860000" y="2556000"/>
            <a:ext cx="229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ruth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Boolean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76920" y="4572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867280" y="3962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4572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467480" y="41148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772400" y="4572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24280" y="5029200"/>
            <a:ext cx="53352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5140440"/>
            <a:ext cx="1474920" cy="226800"/>
          </a:xfrm>
          <a:custGeom>
            <a:avLst/>
            <a:gdLst/>
            <a:ahLst/>
            <a:rect l="l" t="t" r="r" b="b"/>
            <a:pathLst>
              <a:path w="929" h="143">
                <a:moveTo>
                  <a:pt x="0" y="77"/>
                </a:moveTo>
                <a:cubicBezTo>
                  <a:pt x="154" y="91"/>
                  <a:pt x="235" y="98"/>
                  <a:pt x="400" y="89"/>
                </a:cubicBezTo>
                <a:cubicBezTo>
                  <a:pt x="412" y="81"/>
                  <a:pt x="431" y="78"/>
                  <a:pt x="435" y="65"/>
                </a:cubicBezTo>
                <a:cubicBezTo>
                  <a:pt x="440" y="50"/>
                  <a:pt x="438" y="23"/>
                  <a:pt x="423" y="18"/>
                </a:cubicBezTo>
                <a:cubicBezTo>
                  <a:pt x="367" y="0"/>
                  <a:pt x="306" y="10"/>
                  <a:pt x="247" y="6"/>
                </a:cubicBezTo>
                <a:cubicBezTo>
                  <a:pt x="227" y="20"/>
                  <a:pt x="118" y="86"/>
                  <a:pt x="188" y="124"/>
                </a:cubicBezTo>
                <a:cubicBezTo>
                  <a:pt x="223" y="143"/>
                  <a:pt x="267" y="132"/>
                  <a:pt x="306" y="136"/>
                </a:cubicBezTo>
                <a:cubicBezTo>
                  <a:pt x="487" y="128"/>
                  <a:pt x="551" y="133"/>
                  <a:pt x="694" y="89"/>
                </a:cubicBezTo>
                <a:cubicBezTo>
                  <a:pt x="916" y="101"/>
                  <a:pt x="855" y="50"/>
                  <a:pt x="929" y="1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199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7220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72200" y="5334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8610480" y="44953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572000" y="4571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5324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45344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12040" y="552780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AND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truth table in the Boolean Al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85800" y="4114800"/>
          <a:ext cx="2600280" cy="196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14800"/>
                    <a:ext cx="2600280" cy="19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4876920" y="4572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867280" y="3962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53080" y="4572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772400" y="4572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5029200"/>
            <a:ext cx="53352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5140440"/>
            <a:ext cx="1474920" cy="226800"/>
          </a:xfrm>
          <a:custGeom>
            <a:avLst/>
            <a:gdLst/>
            <a:ahLst/>
            <a:rect l="l" t="t" r="r" b="b"/>
            <a:pathLst>
              <a:path w="929" h="143">
                <a:moveTo>
                  <a:pt x="0" y="77"/>
                </a:moveTo>
                <a:cubicBezTo>
                  <a:pt x="154" y="91"/>
                  <a:pt x="235" y="98"/>
                  <a:pt x="400" y="89"/>
                </a:cubicBezTo>
                <a:cubicBezTo>
                  <a:pt x="412" y="81"/>
                  <a:pt x="431" y="78"/>
                  <a:pt x="435" y="65"/>
                </a:cubicBezTo>
                <a:cubicBezTo>
                  <a:pt x="440" y="50"/>
                  <a:pt x="438" y="23"/>
                  <a:pt x="423" y="18"/>
                </a:cubicBezTo>
                <a:cubicBezTo>
                  <a:pt x="367" y="0"/>
                  <a:pt x="306" y="10"/>
                  <a:pt x="247" y="6"/>
                </a:cubicBezTo>
                <a:cubicBezTo>
                  <a:pt x="227" y="20"/>
                  <a:pt x="118" y="86"/>
                  <a:pt x="188" y="124"/>
                </a:cubicBezTo>
                <a:cubicBezTo>
                  <a:pt x="223" y="143"/>
                  <a:pt x="267" y="132"/>
                  <a:pt x="306" y="136"/>
                </a:cubicBezTo>
                <a:cubicBezTo>
                  <a:pt x="487" y="128"/>
                  <a:pt x="551" y="133"/>
                  <a:pt x="694" y="89"/>
                </a:cubicBezTo>
                <a:cubicBezTo>
                  <a:pt x="916" y="101"/>
                  <a:pt x="855" y="50"/>
                  <a:pt x="929" y="1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199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7220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72200" y="5334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610480" y="44953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572000" y="4571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5324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952880" y="35049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952880" y="3047760"/>
            <a:ext cx="10670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19920" y="35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3505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7236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exclusive OR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3733920"/>
          <a:ext cx="3133440" cy="236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733920"/>
                    <a:ext cx="3133440" cy="23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ing Boolean Ops in Ja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x = y &amp; z; //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x = y | z; //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x = y ^ z; // bitwise xor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x = ~ y // bitwise n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ruth Tab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s the results of doing ops on a list of all the binary combin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 in binary to create the in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y a boolean alg. function to create the out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oolean O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, OR,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utput is true or 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&amp; // boolean AND (not bitwi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| // boolean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! // boolean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some exampl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= b &amp;&amp; c; //a is boolean, so is b and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= b || c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= ! (b || c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Machines Thin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ans think that they can thi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an brain is a kind of mach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 machines can thi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Augmented Operat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hort cut (that sometimes is unreadable!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*= 1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= i * 1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-= 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= i – 1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+=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= i + 1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&gt;&gt;=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= i &gt;&gt; 3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^=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= i ^ 9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Application of A programming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i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redients – data structures (&lt;-inp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 to follow -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-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Java 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l Data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HTM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pertext Markup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by a Brow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of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2T22:29:33Z</dcterms:created>
  <dc:creator>lyon</dc:creator>
  <dc:description/>
  <dc:language>en-US</dc:language>
  <cp:lastModifiedBy>dl</cp:lastModifiedBy>
  <dcterms:modified xsi:type="dcterms:W3CDTF">2003-01-09T18:46:07Z</dcterms:modified>
  <cp:revision>4</cp:revision>
  <dc:subject/>
  <dc:title>Introduction To Programming</dc:title>
</cp:coreProperties>
</file>