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3529-1261-48C0-883D-E16AC9E33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E7C7-50A2-4DB4-953D-B7FCE9466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45B8-2697-4D39-B283-ECCC0D99E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0BC5-89CE-42D9-8F6B-E89BF8C29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1B4B-3EBE-4F7C-BFED-B98FA2993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7877-E982-46DD-9CF9-226864863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7C5A-8ACB-4F0A-8A4B-C6E01075B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36BA-F303-432A-A29D-374D9473A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AC2B-DC22-44CB-9420-5891769DD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7142-EDA2-4425-9CB2-2E0F83BE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6039-E931-4AE4-876E-8CB2F3C7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AEAB-28D7-48C3-99DB-AB1067E1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A477B-F851-4527-AD6B-F973129A8C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urrency in 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memory sw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memory for a task is swapped to disk so that the next task can r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xt switching occurs during a memory swa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xt switch tak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rash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no progress is made because of the overhead in the context swit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n’t threads thrash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ads share mem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ads have a low-overhead context swit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ads can have their own schedul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can make thousands of threads with little slowd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eads and tas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47920" y="2514600"/>
            <a:ext cx="2057400" cy="2362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a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ad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 thread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48320" y="2590920"/>
            <a:ext cx="1371600" cy="2514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a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ad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ad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08760" y="5146560"/>
            <a:ext cx="9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785480" y="529920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deadloc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reads or tasks make no progress because of an unavailable resour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I make a threa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class the Thread class 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ad t = new Thread(Runnable r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Runnab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s interface that defines a method like th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void run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interface Runnable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void run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 I need Runnab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hread constructor wants an instance of a class that implements Runn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need this because the thread scheduler needs a call-back method to execute the Thre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the States of A threa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2819520"/>
            <a:ext cx="1676520" cy="91440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Th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14400" y="4648320"/>
            <a:ext cx="1676520" cy="91440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3733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29880" y="3809880"/>
            <a:ext cx="121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.start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114800" y="4648320"/>
            <a:ext cx="1676520" cy="91440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590920" y="51055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81080" y="4486320"/>
            <a:ext cx="10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.run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705720" y="4724280"/>
            <a:ext cx="1676160" cy="91440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791320" y="51055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15000" y="3505320"/>
            <a:ext cx="1523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 method retu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76920" y="1676520"/>
            <a:ext cx="1676160" cy="91440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4952880" y="2590560"/>
            <a:ext cx="60984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11880" y="2819520"/>
            <a:ext cx="254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.sleep(), t.wait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2514600" y="2286000"/>
            <a:ext cx="2362320" cy="236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72160" y="1905120"/>
            <a:ext cx="1724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.notify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ifyAll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daem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kind of thread that dies when main d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 Daemon threads will cause the JVM to keep runn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mult-task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ing more than one ta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readsaf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resource is synchronized other threads cannot use at the sam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prevents resource conten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it can cause deadlo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class Computations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nkAccount ba = new BankAccount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chronized void doInterest(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.doInterest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rue concurrenc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you do two or more things at the sam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 of Works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al Pentium computer has two process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-processor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al speed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33520" y="1523880"/>
          <a:ext cx="7619760" cy="415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523880"/>
                    <a:ext cx="7619760" cy="41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multi-thread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you have multiple threa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threa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task that exists in another ta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tas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n OS a task is a jo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job has its own memory address sp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called protected mem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one Job dies, the other jobs can contin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job get some resources according to a program called a schedul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task schedul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rogram that uses a discipline to decide what resources a job ge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ority allows for allocation of various CPU time sli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threa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ask that does not have protected mem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shares memory resource with other threads in a given ta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5T01:14:58Z</dcterms:created>
  <dc:creator>lyon</dc:creator>
  <dc:description/>
  <dc:language>en-US</dc:language>
  <cp:lastModifiedBy>dlyon</cp:lastModifiedBy>
  <dcterms:modified xsi:type="dcterms:W3CDTF">2004-01-29T01:04:10Z</dcterms:modified>
  <cp:revision>12</cp:revision>
  <dc:subject/>
  <dc:title>Exceptions</dc:title>
</cp:coreProperties>
</file>