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DFB-16DB-4048-8AB4-EC809820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59B-88F0-4DF1-AB63-6A27F62A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9FC-88EA-4422-936A-85D1F1FD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3C5-B89F-4833-A519-6137C41F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1F5-C47F-4090-A305-C8243617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3FA-E0D3-46AF-98DA-CE4015DD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B78-71CC-4655-A885-7E32632B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9A4-BF86-4098-AEB9-0868EBF9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B31-5E0E-4F9E-A0EF-484B4FE3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1DD-3077-49A0-B057-EED9AC6F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52E-7B4B-4A64-804A-D1B7901F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C40-AAEC-4D91-BF64-9462E9FE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711B-C7CB-443D-8107-4E465D567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design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r-obser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erface ActionListener extends EventListene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Invoked when an action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actionPerformed(ActionEvent 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stener is an Observ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actionPerformed(ActionEvent 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ableBut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abstract class RunButton ext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x.swing.JButton imp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.event.ActionListen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gnable, Run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Runnable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esign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way to solve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a problem that they must so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p's have a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MVC,single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make sure that I only have one instance of a cl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final class IDB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IDB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static IDB i = new IDB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IDB getIdb() { return 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to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tern to have when you are only have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of DP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ers-Observ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-Observer D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nd subscribe to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 that wires up Observers with Observ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combine the roles of mediator with observer and observ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gets conf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ed a wiring hu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Button jb = new JButton(“ok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b.addActionListener(new ActionListene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actionPerformed(ActionEvent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and P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nstance knows how to run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 that alters the interface of a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Button or JButton produce ActionEvents that are passed to the actionPerformed meth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02-03T20:12:16Z</dcterms:modified>
  <cp:revision>16</cp:revision>
  <dc:subject/>
  <dc:title>Exceptions</dc:title>
</cp:coreProperties>
</file>