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BF6-CFAD-4F59-9F8D-2856FECC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211-106C-40D9-B931-20A5B36A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B2D-BBEE-4BB6-A536-604A3B58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B98-3D5B-44C6-A2C1-17782123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4C1-8BA6-4A4B-94F2-64CA0E0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92F-80C3-4296-8E37-7CF385A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42F-2EB5-458D-A3A3-1D0E921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5DE-63F3-4A47-86CC-CD2C7E5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0BA-DFF2-4F9A-B59F-B4049F9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36F-B22A-46A8-B213-756FEFC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E36-231D-4003-95BD-78D4B6D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24F-E10C-4F4E-993C-51B7F39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E92-9609-4D33-B933-170AF091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v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 that runs in a Java web server and conforms to the servlet ap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class library that decodes and encodes http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featu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essio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sess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hange over from cookies to url rewriting, when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an object oriented interface to sess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e to pretend to write Serializble objects to th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servlet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ockets you can build http process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’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makes it easi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Services and features that ar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let Disp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isp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change in the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bexp1)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e if (bexp2) statemen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(int, char, short,) // very efficient but very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imited about swi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switch on a reference data type (i.e, st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 switch with a st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let dispatch, which takes a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a switch with st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he string with a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[] = {“s1”, “s2”,…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[0] = “s1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s correspond to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e a Hash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so great about a hashMa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! O(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– spac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ng space for time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ast is the if-else clause 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bexp1) statemen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N) where N is the number of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way to dispatch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is refl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C) because a hash map is used to map the string into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type safet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ile time check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TP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(get http 1.1 file nam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s (i.e., html output to a printer made from a socket output stre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server does this! Webservers manage the http query and synthesize a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build a parser based reflec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class name and instance the class then invoke som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because you are making new instances dynamically and that takes both speed and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an existing instance (singleton pattern) and invoke a method on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ommand to map to a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and response are the ar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atchProcessor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ispatchProcesso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ogin(Request,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ogOut(Request,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ommand(String, Request,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flection to map the String into a do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atchH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Entrypoint in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le to making sure that you have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s to dispatch pro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alterna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ispatchHub…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et(request, respons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command c =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.equals(doLogin)) doLogin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(c.equals(doLogout)) doLogout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(c.equals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ike if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oo slow for small numbers of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main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if-el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dd a com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expand the if-else clause by 1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have to add a method for th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You have to add a command to you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to be consistent in 3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o good about a reflection based dispat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Place a command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lace a method in the dispatch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n-tim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sl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 use the Command Patt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mmandString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s here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tring dispatc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.add(new CommandString(“doLogin”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Processong.doLogin(request, respon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.execute(“doLogin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n the HashMap is of any string that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ossible with ref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@*#&amp;@!*&amp;” -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doLogi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kind of features can I get from the servlet AP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interface to the http servlet requests and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ce way to parse input parameters from forms written in ht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classes is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.stringswitch.Switch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 moved to Utils or J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lass names reside in a xml file or a HTML file, then these must be changed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320 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a jar file in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ist the classes in the jar files that implement the Computabl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quire the user to select one of thos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Use the ByteCodeClassLoader to deploy the class to a comp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…Continue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 the compute method remotely and return the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te managemen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nagement enables the implementation of a finite state machine that is associate with a s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 is inherently without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ow do store the state without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-side stat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data in the browser (clie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es are sometimes enabled for storing data in the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es are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cook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ed by client tranmitted as a part of the http stream from web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s of a cook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(20 kB) per coo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(20 cookies per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ll browsers accept 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an be a problem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es have a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t the expiration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elete your old 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pload other peoples cook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alternative to cook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to have state manage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Rewriting can help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docjava.com/index.html&amp;2398rewnri328urh32i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unk at the end is a UUEncoded symbol that uniquely identifies the U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ncodes the ses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re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bly alters the URL and makes it impossible to bookm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ession enable automatic changeover from URL rewriting to Cookies, so you don’t have to decid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3-12-03T20:53:26Z</dcterms:modified>
  <cp:revision>9</cp:revision>
  <dc:subject/>
  <dc:title>Introduction To Programming</dc:title>
</cp:coreProperties>
</file>