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849-05AC-4658-A0AA-4A78572E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691-E8AC-4294-95DD-A6F64F6E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934-567D-4970-AB66-975DD3D6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FB4-CE91-41EA-A1AD-9A9ABDEC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B87-CBA3-4B8C-843E-0C5E6423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48A-2AB3-4C45-BA99-B3384DB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4B6-4205-4E44-9632-964BFD1B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7DF-2864-488E-994C-5A623668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0DD-721D-4678-8431-686312B5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5A4-F513-45F4-8262-FDFAF41B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DF9-1EAA-42C7-878E-A843357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EC4-9544-445D-9808-4FFAA00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E398-AF0F-48BB-AE8C-BA8500917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Ls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resid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 is a unix command (like DI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i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ies of data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ce fo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ce to obtain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in the java.io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the File class do not have to correspond to files in the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instance can correspond to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ully qualified file n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+file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home/lyon/fo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:\autoexec.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ing with a path sepa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h separator is OS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\' = windows path 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/' = unix path 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ompt the user for a direc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Futil.getDir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GetReadDir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testGetReadDir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ReadDirFile("select a file"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t the parent direc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File getReadDirFile(String prompt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Futil.getReadFile(promp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f.getParent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t a read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testGetRead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il.getReadFile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lect a file"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GetRead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ileNameFil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in java.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n implement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accept(File f, String nam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od is a FileNameFil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control of how files are listed in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 *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by directories in File instances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list();// files in a dire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list(fnf); // uses fnf to list the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1-30T01:10:49Z</dcterms:modified>
  <cp:revision>11</cp:revision>
  <dc:subject/>
  <dc:title>Exceptions</dc:title>
</cp:coreProperties>
</file>