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716-B2FD-448D-A650-243E1214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839-3A1E-44B2-956E-51A1D64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3E8-297C-483A-9647-CD1242BE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510-1410-4450-A4BB-6208DBF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D42-A8A7-4BAF-A192-C771F746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F21-4C21-4A67-BF57-F79C065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B1B-1676-4428-89F0-6976C97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503-64AA-4385-BD48-1671D07B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A6D-87A2-432B-8EEA-01ECCA0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496-9412-4B9A-86A6-3BB6FDD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B98-8CD8-4588-B9A2-75FA658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FC8-71E5-4678-9347-7827B6B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C35-243C-4934-B016-A51F74B90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mous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and Sca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mouse events with Key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the mouse spe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has a different even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event.Mouse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MotionListener, Mouse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Listener: mousePressed, mouseReleased, mouseEntered, mouseExited, mouseCli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MotionListe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being dragged, mous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ombine your interfaces into a single interface...Mouse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1:51:28Z</dcterms:modified>
  <cp:revision>18</cp:revision>
  <dc:subject/>
  <dc:title>Exceptions</dc:title>
</cp:coreProperties>
</file>