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A0C-6246-43D6-90C5-BEF96519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E86-78C2-410D-96FD-2794163E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505A-03AF-4BE4-9EA2-511ACDFC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AFF-194B-423B-B17D-66FDAF0E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C5E7-D926-42F4-AA64-96294D70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B0A-7C43-4665-812D-334C2582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E491-AFE4-479D-9EAF-D1226C21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FE5-1BED-47A5-957E-4FDF297A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91EE-F889-45A5-8471-0CC34297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D6A5-3237-4BC1-8097-F9FFCA29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EDF-8B61-4770-9DEC-EDCE3A0E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9E73-3730-41AA-8850-99CA9087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632D-FE0D-41B0-ACD3-CA8D848FB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key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board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board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.awt.event.Key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Events are passed to keyevent listen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keyevent generators (Components) or J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The key is p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component has FOCUS (is select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mouse to select a frame or the taskb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Ev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-p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-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-key is depressed (alt, ctrl, shif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KeyContro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KeyController implements a KeyListe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-backs for keyevents are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keyTyped(KeyEvent e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keyPressed(KeyEvent e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keyReleased(KeyEvent e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Typed = any character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process and implement keyEve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4p has a keyboard package with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</cp:lastModifiedBy>
  <dcterms:modified xsi:type="dcterms:W3CDTF">2003-03-27T01:45:17Z</dcterms:modified>
  <cp:revision>17</cp:revision>
  <dc:subject/>
  <dc:title>Exceptions</dc:title>
</cp:coreProperties>
</file>