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A7F-2DD4-4935-B59B-F22C7235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FB3-D562-41BD-8A08-1FAB162F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2AD-2F9C-4963-B64E-CCD67A88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A98-C455-4F9E-BC2C-E28E382B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E42-F2BA-4173-9903-84781B6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063-2397-4FD1-BCC0-D94DC54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AB8-118A-428F-84B7-FC4923D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A29-9A6B-4AE7-8CA5-BD46A732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5D7-4085-48C6-97A1-DA3441D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021-795A-40CD-983A-8229726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107-FDF1-4A23-9FE4-86EEFEC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A39-3B83-4144-AC3D-67A6070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136-244A-4BAA-AAE6-956B8FD5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erve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SO-OS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= International Standard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= Open Systems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– dlpdu (frames) no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IP (192.168.1.1) -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– TCP/IP, UDP/IP-trans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–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– http – iiop /corba, rmi, d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om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for network, tld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du, .com, .gov, .net, biz, org, name,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– maps domain names t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s or reverse look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using TCP/IP or UDP/IP along with a POR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bytes in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,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 virtual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puter has man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s are sometimes standard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– default web service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– 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–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– sn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etc/services – to see the ports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9T01:26:38Z</dcterms:modified>
  <cp:revision>6</cp:revision>
  <dc:subject/>
  <dc:title>Introduction To Programming</dc:title>
</cp:coreProperties>
</file>