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7A6E-7854-49EE-BB8D-ED04D396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A0D7-3C87-45CE-96FF-A666D8AA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CAA1-2CC9-43A0-9C53-9FA684D1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579F-83E5-4F1E-BD47-65E3C319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C70-666B-4F6F-B96F-77631F06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FF57-EA7C-4C35-8868-5CC7DBFE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A06C-159D-466D-969C-1B5F00A0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278E-94CB-4DF7-8C0A-0EAF296D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F50B-1588-4700-8ACF-E8F14EB9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0CED-0E40-4ECC-8945-A30234B4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033-79A7-4E68-924E-478E6840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C4D-F059-4BD1-9BC9-9464E53E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5DEB-04A0-4038-A0D7-6D3A3F22C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, output, FILE I/O, tokenization, serialization and com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y to write instance to a 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thing that implements the interface serializable can be serial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java core classes implement serializ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imitive data types can be serial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serializ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ce (data stor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via a 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computing (CORBA, RMI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tion is an application of stre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I use serializ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n instance of an ObjectOutput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OutputStream resides in java.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ad back use ObjectInputStre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o = ois.read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os.write(o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c = (Customer)o; //CN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control what is sav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need a special java keyword for thi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ent is a keyword...fo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Customer implements Serializabl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ent String name = nul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trea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unformat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quence of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unch of classes in the java.io.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would I want a strea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put and output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ing data is data that flows without stop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processing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kind of Streams are t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kin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Stream (FileInputStre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Stream (FileOutputStre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streams us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ket 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-based 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t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board and ter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er and the sca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use a FileInputStrea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leInputStream getFileInputStream(String prompt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ew FileInputStream(getReadFile(prompt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r: FileOutputStream in Futil.java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ing a fil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binaryCopyFile(FileInputStream f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OutputStream f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ws IO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buffer[] = new byte[512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coun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(count = fis.read(buffer)) &gt;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s.write(buffer, 0, count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out the by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writeBytes(File f, byte b[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OutputStream fos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s = new FileOutputStream(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s.write(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s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util.writeBytes,Could not open" + 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that f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available(File fil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InputStream fis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InBytes =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s = new FileInputStream(fil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InBytes = fis.availabl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s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util:Could not open fil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izeInByt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</cp:lastModifiedBy>
  <dcterms:modified xsi:type="dcterms:W3CDTF">2003-02-06T01:51:43Z</dcterms:modified>
  <cp:revision>9</cp:revision>
  <dc:subject/>
  <dc:title>Exceptions</dc:title>
</cp:coreProperties>
</file>