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A808-40FE-4DB5-886D-C11ECC5C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0DB4-A9D8-4CB9-B037-88DAB278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A4AF-2CDB-4896-ABBF-00FBA5B0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6D7C-64D8-40BB-8E85-F4046945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3228-F57F-4A5B-B6E9-2DC35344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D3E4-0F7D-400F-8F73-5D686D19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1BEF-882E-444D-A806-C51B09BC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6DCC-189F-4AE5-B2C4-B0CFE7CD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4983-9CAE-48B8-A8EA-7F4127E1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9A1-815B-4234-9230-414B8C21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9C7D-DCCC-41D1-B579-41965B4A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45E5-FE93-466B-BB19-0B1D8E25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0300-B354-44D9-BF6A-A96886DD1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ing HTML in S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ME identifies Data Typ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documents are of a specific typ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present process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 represents process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 represents process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not limit to the number of different data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ME is used to introduce the data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M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text/html" = html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text/rtf" = word RT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sound/aiff" = audio interchange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sound/au" = 8 bit voice grade format (S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.Lots of others....All documented in an RFC15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ME is used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sers use MIME (mapping to plugins or helper app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tP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text/html", "text/plain", "text/rtf", "image/gif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generate HTM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&lt;html&gt; &lt;body&gt; sdlkfdslfkj&lt;/body&gt; &lt;/html&gt;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type it i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way is to synthesize the HTM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write a toolkit for HTML synth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HTML Synthes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ring getHtml(String s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"&lt;html&gt;\n" + s + "\n&lt;/html&gt;"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s = getHtml("hello world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="&lt;html&gt;\n helloworld \n &lt;/html&gt;"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ing a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ring getListItem(String s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"&lt;li&gt;\n" + s + "\n&lt;/li&gt;"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= getHtml(getListItem(li1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html&gt;...&lt;li&gt; li1 &lt;li&gt; &lt;/html&gt;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will lea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build an HTML vie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MIME data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synthesize 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generate HTML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HTML vie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lication that renders HTML to the sc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Render HTM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Markup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es creation of a brow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es handy documentation vie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es debugging of HTML gen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render HTM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.html.HtmlVie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ders some canned 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es the HTML viewer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art of the HTML vie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x.swing.JEditorP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ed an instance of the JEP in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x.swing.JScrollP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p.setContentType("text/html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p.setText(s);/// then just displa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M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p.setContentType("text/html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s the type of data in the J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text" indicates there is text in th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html" indicates we have an HTML data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I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urpose Internet Mail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"string" with several predefined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we have MI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beginning MAIL was only ASCII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body wanted BINARY data to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TA = Mail Transfer Ag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TA is a program that moves mail from one NODE 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ode is just a computer than runs an M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</cp:lastModifiedBy>
  <dcterms:modified xsi:type="dcterms:W3CDTF">2003-03-27T00:58:22Z</dcterms:modified>
  <cp:revision>16</cp:revision>
  <dc:subject/>
  <dc:title>Exceptions</dc:title>
</cp:coreProperties>
</file>