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B75D-ECE0-41ED-8290-86DF51C82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61FE-C36A-40E0-967A-7B441D231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83AB-6C54-40E0-B2AA-57DCE96EA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C856-C216-4798-83A5-3B791F6A7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61996-F7D7-4951-85CB-46C17B21C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5FFEC-75B7-4734-9045-D2AA798F5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AA8FC-2D7D-4F5F-A1A5-7604AC8DD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71FB1-37CF-49C1-B052-9FD708FF0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49BD5-F3CF-4DE4-8C18-6BF5E6F6A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0A5FF-9BF1-49B9-8D7F-60C9C520B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64250-6660-41FD-A963-B666E6BD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A91C-56F1-45B3-A7BB-AEC4440FA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8FA28-FC9E-479C-B49F-13469143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13B8B-6BE9-497F-9CC5-F9E22954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10B76-2A75-4DB0-8620-40EA2BA0C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8733C-177C-4E8D-A6D9-F859860BB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86422-C9FB-4303-AC9E-79A2BAFED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E43B-9519-4A23-9CF6-C78B04476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2AC6-7646-4D97-9A11-D9C51F79F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4AF5-CA60-4ACA-A943-7F176C830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E535-14C6-40E5-A0DB-BEA6FA0DD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2712-55C7-4545-B832-DACBDDA6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2AFD-DFD8-477C-880C-C90D39DA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F3CC-E03E-4AE9-918E-83E630CC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721F5-71EE-4B74-917A-99AD85D50695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BD1AE-B21F-457F-A2FF-061C3B408AD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4A7E2-43CB-4765-9762-ACCC190C147F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DD819-BD7E-4089-9389-1E950B68F5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hapter 9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428640" y="2085840"/>
            <a:ext cx="563868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apper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E1159-EDBC-4926-9E07-6D4A775B1E9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7ED20F6-BB77-40F7-B6CF-CE9FBF87D48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ow do I converts and array of char to a String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r c[] = {‘h’,’e’,’l’,’l’,’o’}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ing hi = new String(c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ing hello = “hello world”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r c1[] = s.toCharArray(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olean b = hello instanceof c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r c2[] = "hello world".toCharArray(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olean b2 = c2.length == hello.length(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056E-E18D-4AE0-A645-09B9B5176DE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E6B088-AE84-4C80-BF59-B3866A726E6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ow do I replace all instance of a string with another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vert it to an array and search the arr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 lots copying for this, since the two strings are generally of difference siz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ing s = replaceString(s, “hello”, “hi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/ all instances of hello are replaced with h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vert it to a Vector of Characte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might be slow...and take lots of sp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A028-2A78-4F20-A1D9-B390D14B3B3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F30F7F-4275-494D-98EB-FC192383332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an we use the String methods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o help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ing s = “hello world”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 i = s.indexOf(“hello”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F021-7A18-4D55-B91B-63488067CBE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4C4A2F-1CF2-40B0-B9F6-26CDA32BE1F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placeStr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public static String replaceString (String s, String lookFor, String replace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for (int i= s.indexOf(lookFor); i &gt;= 0;i= s.indexOf(lookFor)) {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 =s.substring(0,i)+ replace +  s.substring(i+ lookFor.length()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ystem.out.println("hello="+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return 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25B4-882C-497C-9430-7E56CF75094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D49E7F-D628-4C80-BF4B-5F97FA439B9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is a StringTokenizer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erence data ty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resides in the java.util pack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 java.util.*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 java.util.StringTokenizer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va.util.StringTokenizer st = n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va.util.StringTokenizer(“hello world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6325-207C-4F94-82EB-E456EB6A96A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2EFC75-4A0D-4493-8FDF-7C78E74EE55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ow do I use a StringTokenizer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 java.util.*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.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ingTokenzier st = new StringTokenizer(“hello world”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 i= st.countTokens(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(int j=0; j &lt; i; j++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stem.out.println(st.nextToken()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DB2E-D3A0-451B-A8D0-17F20E3A64C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87BF6C-8ABD-4E7A-9878-F6CFB82D237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 java we write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ingTokenizer st = new StringTokenizer("hello hi this is a test world"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 i = st.countTokens(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(int j=0; j &lt; i ; j++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stem.out.println(st.nextToken());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43D6-919E-4372-9EE7-192A9F63519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FE8179-4013-4BD7-B116-C1256848275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ow do I tok on commas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ingTokenizer st = new StringTokenizer("hello,hi this,is a test,world",","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 i = st.countTokens(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(int j=0; j &lt; i ; j++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stem.out.println(st.nextToken()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7900-312B-4BE0-9DA7-7E62897BFAC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1F4085-7782-4E0F-ADF0-26E9448CA04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mportant ideas for you!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wrapper clas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a Str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an array of cha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BB39-9D0A-435B-B145-D8EE5CEE35A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591C8A-AC6A-41E4-A884-5D0F12D35B7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is a wrapper class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erence Data ty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motes prim data type to a ref data ty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8 of th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7062-3E5E-4083-9DC3-55B249CE6A7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F646FF-D5AA-44C7-BB8E-2D08C1949C0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are the wrapper classes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racter, Boole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te, Short, Integer, Lo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oat, Dou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A73C-080E-42F9-BF1D-85370372D3A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819778-80D2-47FA-89D0-2BC84F8F4E6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ow do we make wrappers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olean b = new Boolean(true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ger i = new Integer(3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uble d = new Double(2.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racter c = new Character(‘t’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B433-04DF-4FD5-B345-332D5CFAA36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7E49A6-F909-4F43-98FB-C6579FE99C9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y do we need wrappers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can store reference data types in container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ctor v = new Vector(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.addElement(new Integer(20)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.addElement(new Double(2.3)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B698-35A9-4281-9454-D00F4005A3D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61C059-8C38-4E43-8974-95B6AF7D8E7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y wrappers...cont’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appers have nice methods, that we can us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ger i = new Integer(2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 k = i.intValue(); //back to i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 j = Integer.parseInt(“234”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also have a corresponding set o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hods in each wrapper cla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B09B-16EF-4A56-8EAB-DB5D060F6D6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83EEF6-91C8-40A4-9E8D-7852919BE76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ow do I determine equality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 i = 100; int k = 200; boolean b = i == k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ger m= new Integer(i); Integer p = new Integer(k); boolean b2 = m.equals(p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9440-5595-4854-955B-A70AA0A4D6F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A6BBD1-2FBA-4275-A849-2C42741C77E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is a String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a reference data typ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a cla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resides in java.la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terals are formulated with quot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ing s = “this is a string”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 = s + “hello world”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 += “hello hello”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1DA7-EB53-4E15-9FEB-FCCF11F02B9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D62646-FFEA-4304-96C1-ECE3000EBA3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yon</cp:lastModifiedBy>
  <dcterms:modified xsi:type="dcterms:W3CDTF">2003-01-29T02:14:38Z</dcterms:modified>
  <cp:revision>7</cp:revision>
  <dc:subject/>
  <dc:title>PowerPoint Presentation</dc:title>
</cp:coreProperties>
</file>