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B6A-B004-4650-B2BD-9D19D9D9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DEA-0E9A-4269-A3D2-7876E12C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57B-4852-4915-8AD3-F37883B8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645-DFFC-4655-95ED-6B019A64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BC2-CF29-4B08-9D28-1D4C836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535-C391-49A8-842E-845A1C0A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281-4A4E-4B1D-9421-BBBC16AA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537-2E13-4CE3-81DA-C5EE7FB4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BDD-EF25-43AB-9557-E5412C0D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BCC-5585-40CA-A522-4CB22A3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B44-159A-4E70-A3C3-CE7E6C9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13C-6951-48E2-8DA6-A80AF51A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12D2-1CFF-427D-BCDC-7933FA19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read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ead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from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he translation from non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II – American Standard Code for Information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CDIC – Extended Binary Coded Decimal Interchang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build a rea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Reader br = new BufferedReader(new InputStreamReader(new FileInputStream(f)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10-17T01:24:57Z</dcterms:modified>
  <cp:revision>8</cp:revision>
  <dc:subject/>
  <dc:title>Exceptions</dc:title>
</cp:coreProperties>
</file>