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F6F-9D81-4A3E-940E-E99FE9D3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1B5-97A0-4B9E-8085-8AD08B0C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1F5-8959-482B-880A-406F15F7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0C9-E9ED-46FD-BC37-9E923B2D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A18-DC04-43DA-B394-23A9759D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8DC-FF98-47B3-8C4C-9FE96F16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628-1040-428A-944C-3C92F6C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26C-C026-436B-8F49-783E56D7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393-EC1C-4C8E-A009-F9317790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58D-63C2-4483-B954-3E3EB2E5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DE7-2C26-44DB-80BA-B1E23E9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FFE-E7EB-4677-A4C9-FF3CDB55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A297-C1FC-492E-A267-5FC69484F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v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 that runs in a Java web server and conforms to the servlet ap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class library that decodes and encodes http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ood featu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essio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sess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change over from cookies to url rewriting, when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an object oriented interface to sess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me to pretend to write Serializble objects to the cl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servlet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ockets you can build http processo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’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makes it easi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Services and features that are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let Disp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isp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change in the flow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bexp1)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e if (bexp2) statemen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(int, char, short,) // very efficient but very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limited about swi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switch on a reference data type (i.e, str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 switch with a st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let dispatch, which takes a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a switch with st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he string with a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[] = {“s1”, “s2”,…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[0] = “s1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s correspond to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e a Hash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so great about a hashMa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! O(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– spac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ng space for time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ast is the if-else clause 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bexp1) statemen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N) where N is the number of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way to dispatch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is refl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C) because a hash map is used to map the string into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type safet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mpile time check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TTP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(get http 1.1 file nam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s (i.e., html output to a printer made from a socket output strea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b server does this! Webservers manage the http query and synthesize a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I build a parser based reflec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class name and instance the class then invoke som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because you are making new instances dynamically and that takes both speed and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an existing instance (singleton pattern) and invoke a method on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command to map to a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and response are the ar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atchProcessor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ispatchProcesso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ogin(Request, Respo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ogOut(Request, Respo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ommand(String, Request, Respo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flection to map the String into a do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atchHu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Entrypoint into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le to making sure that you have a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forwards to dispatch proces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alterna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ispatchHub…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et(request, respons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command c =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c.equals(doLogin)) doLogin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(c.equals(doLogout)) doLogout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(c.equals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ike if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-tim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oo slow for small numbers of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maint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if-el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dd a comm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expand the if-else clause by 1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have to add a method for the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You have to add a command to you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to be consistent in 3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o good about a reflection based dispat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Place a command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Place a method in the dispatch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ype s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n-tim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sl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not use the Command Patt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mmandString(String s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s here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tring dispatc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.add(new CommandString(“doLogin”)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Processong.doLogin(request, respon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.execute(“doLogin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in the HashMap is of any string that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ossible with ref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@*#&amp;@!*&amp;” -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doLogi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kind of features can I get from the servlet AP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riented interface to the http servlet requests and respo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ce way to parse input parameters from forms written in ht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classes is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.stringswitch.Switch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 moved to Utils or J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lass names reside in a xml file or a HTML file, then these must be changed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320 Fi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a jar file in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ist the classes in the jar files that implement the Computabl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quire the user to select one of thos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Use the ByteCodeClassLoader to deploy the class to a comp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…Continued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 the compute method remotely and return the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te managemen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nagement enables the implementation of a finite state machine that is associate with a s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 is inherently without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ow do store the state without mem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-side stat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data in the browser (clie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es are sometimes enabled for storing data in the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es are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s a cooki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ored by client tranmitted as a part of the http stream from web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s of a cook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(20 kB) per cook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(20 cookies per dom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ll browsers accept 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an be a problem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es have a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t the expiration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elete your old 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pload other peoples cook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alternative to cook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to have state manage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Rewriting can help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docjava.com/index.html&amp;2398rewnri328urh32i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unk at the end is a UUEncoded symbol that uniquely identifies the U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ncodes the ses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re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bly alters the URL and makes it impossible to bookm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ession enable automatic changeover from URL rewriting to Cookies, so you don’t have to decid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yon</cp:lastModifiedBy>
  <dcterms:modified xsi:type="dcterms:W3CDTF">2003-12-03T20:53:26Z</dcterms:modified>
  <cp:revision>9</cp:revision>
  <dc:subject/>
  <dc:title>Introduction To Programming</dc:title>
</cp:coreProperties>
</file>