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187-5B55-46A3-B0B0-3EFEEE82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EF8-93A4-459E-86F7-4CD2AB9D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232-ABB9-470E-9706-38CC7D4C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79A-39E7-41E8-88EE-3E1E07A5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255-4616-49BD-A253-2A21DC8D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C0E-821D-41FD-AAA7-41A21641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A0B-664D-47F4-A30A-51D037B2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E26-B7E0-4F48-9A35-63A34BF8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2DA-1B58-4D07-8C86-6715064F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CAA-72B0-469A-9A95-F1FE5DD7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01A-767F-4725-9850-BE19E77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9F2-09A5-4E29-957F-5F8DCC7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D38-9E54-451D-BB0E-3EBEAC91C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Forw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automatic proxy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atic proxy d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method invocations that are checked at compil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methods to the delegatees does NOT mean that methods will appear in the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ynamic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ethods in the delegatee automatically appear available in the proxy at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 for JDK 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ype safe. Exceptions can be thr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using reflection to invoke a string on an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automatic Static 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-time checks for type saf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gatee changes are discovered using introspection and cause a resynthesis of the proxy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of Java source code synthesis that occurs at a pre-processing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time (input instance to the synthesiz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time (output proxy code to a f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 time (compile the new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time (dynamically link to the proxy and classes it u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ime (where invoke method in the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semi-automatic static proxy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nterface to a complex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ode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han manual message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to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using Multiple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I in Jav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re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methods with the same signature then you must disambig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dowing is decided at compile-time using som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ical sorting is an automatic means of disambigu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MI Con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Rad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);//in rad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D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 * Math.PI/180.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nd Tr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onfusion extends TrigRad,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cos(9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 this is not allowed in Java bu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in C++ or Smalltalk. Or in ZetaL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Si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guity can exist for topological sorting in 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class is sub-classed by two other classes that are in turn sub-classed by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4320" y="32767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920" y="4267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52680" y="35812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31360" y="41148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105160" y="3581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560" y="49435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724280" y="4572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90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x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that represents another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vote – slip that is sent to a central authority in lieu of appearing and voting in person. The proxy vote represents the vote of the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delegate – simpler interface to a complex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ll the problems of 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plex for linking s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for each instance g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overhead is in malloc or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s taken from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ile base class (constant recompi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ood about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addition of features to a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larg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kits are easier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dg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with an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hat implements th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the client and the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have transparent distributed applications. Key for using R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ssage forwar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ssage is passed from one plac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OP Message Forwarding m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 method invocation and forwarding it to anothe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ammal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ov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, int 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_x, int _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_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_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MovableMammal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 m; Mammal 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Mammal(Movable _m, Mammal _mm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_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= _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x, int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move(x, y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m.hasHair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xy uses the implementation of anoth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95280" y="3200400"/>
            <a:ext cx="10382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ox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43400" y="3429000"/>
            <a:ext cx="160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mma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19720" y="4724280"/>
            <a:ext cx="15904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ov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3809520"/>
            <a:ext cx="1752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426708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6560" y="3505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8920" y="5705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57240" y="562932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3040" y="304812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MovableMam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7T23:24:19Z</dcterms:modified>
  <cp:revision>5</cp:revision>
  <dc:subject/>
  <dc:title>Exceptions</dc:title>
</cp:coreProperties>
</file>