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B36A-1E9B-4601-AE8D-1AB88D32A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4440" y="687240"/>
            <a:ext cx="4569120" cy="342612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ng includes a special ActionListener called Action for defining the handling of action events. AbstractAction is a concrete implementation of the Action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directly supported by JMenu, JPopupMenu, and JToolBar to add components to these container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4440" y="687240"/>
            <a:ext cx="4569120" cy="342612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defined an action, you can add it directly to th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f you wish to disable the selection of controls associated with the action, maybe because the action isn’t appropriate for the current state of the system, you do NOT disable each component associated to the Action. Instead, you disable the Action and it notifying everyone associated to i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4440" y="687240"/>
            <a:ext cx="4569120" cy="342612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actions are special actions for handling text-handling events. With text actions, you ask a text component how it handles an event. This returns the text action, which you associate with ActionListener handl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int out about selection path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BB5DD-85C1-4E09-AA32-1DFFEE5F7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FAE55-F112-49D1-8AC8-610D559FE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3B4E5-699A-4325-A715-9FE3A23D0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92E7A-27B6-4FBD-8862-A60DE5612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4958E-B22B-4B33-850A-8330E36D3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99D03-EE22-407B-B19B-FFFB46E8F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C7029-7708-4D4B-B1A0-5C674B4B0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2B5DE-A22A-4E5C-8670-A98D6D69D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90E31-57C9-42B4-BB97-079034705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FCBD6-5057-4533-8463-75AD10A34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75253-E5BF-407D-8007-DB8454FCB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C7D66-F611-4552-8223-E8CAD342C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2CA4-971F-4A3D-8C2D-AE24E7ADF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design patter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er-observ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and Patter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instance knows how to run itsel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The RunButton knows how to run itsel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nMenuItem knows how to run itsel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ui.run package knows how to run itsel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pter design patter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a design pattern that alters the interface of a meth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Button or JButton produce ActionEvents that are passed to the actionPerformed metho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Listener</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interface ActionListener extends EventListener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Invoked when an action occu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void actionPerformed(ActionEvent e);</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Listener is an Observer!</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ublic void actionPerformed(ActionEvent 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u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Support</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ener classes in support of each even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vent has source(s) within Swing</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EventListenerList available to maintain list of all listener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ility of class maintaining list to provide type safety, and routine to notify all listener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herit Component/Container 1.1 ev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Action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rt of a button and a toolbar icon and an Action Event Listener rolled into 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ction</a:t>
            </a:r>
            <a:r>
              <a:rPr b="0" lang="en-US" sz="3200" spc="-1" strike="noStrike">
                <a:solidFill>
                  <a:srgbClr val="000000"/>
                </a:solidFill>
                <a:latin typeface="Times New Roman"/>
              </a:rPr>
              <a:t> interface extends </a:t>
            </a:r>
            <a:r>
              <a:rPr b="0" i="1" lang="en-US" sz="3200" spc="-1" strike="noStrike">
                <a:solidFill>
                  <a:srgbClr val="000000"/>
                </a:solidFill>
                <a:latin typeface="Times New Roman"/>
              </a:rPr>
              <a:t>ActionListen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when multiple controls need same behavi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bstractAction</a:t>
            </a:r>
            <a:r>
              <a:rPr b="0" lang="en-US" sz="2800" spc="-1" strike="noStrike">
                <a:solidFill>
                  <a:srgbClr val="000000"/>
                </a:solidFill>
                <a:latin typeface="Times New Roman"/>
              </a:rPr>
              <a:t> class </a:t>
            </a:r>
            <a:r>
              <a:rPr b="0" i="1" lang="en-US" sz="2800" spc="-1" strike="noStrike">
                <a:solidFill>
                  <a:srgbClr val="000000"/>
                </a:solidFill>
                <a:latin typeface="Times New Roman"/>
              </a:rPr>
              <a:t>Action</a:t>
            </a:r>
            <a:r>
              <a:rPr b="0" lang="en-US" sz="2800" spc="-1" strike="noStrike">
                <a:solidFill>
                  <a:srgbClr val="000000"/>
                </a:solidFill>
                <a:latin typeface="Times New Roman"/>
              </a:rPr>
              <a:t> implementa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s list of controls listening to ac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ng </a:t>
            </a:r>
            <a:r>
              <a:rPr b="0" i="1" lang="en-US" sz="2800" spc="-1" strike="noStrike">
                <a:solidFill>
                  <a:srgbClr val="000000"/>
                </a:solidFill>
                <a:latin typeface="Times New Roman"/>
              </a:rPr>
              <a:t>Action</a:t>
            </a:r>
            <a:r>
              <a:rPr b="0" lang="en-US" sz="2800" spc="-1" strike="noStrike">
                <a:solidFill>
                  <a:srgbClr val="000000"/>
                </a:solidFill>
                <a:latin typeface="Times New Roman"/>
              </a:rPr>
              <a:t>s supported by </a:t>
            </a:r>
            <a:r>
              <a:rPr b="0" i="1" lang="en-US" sz="2800" spc="-1" strike="noStrike">
                <a:solidFill>
                  <a:srgbClr val="000000"/>
                </a:solidFill>
                <a:latin typeface="Times New Roman"/>
              </a:rPr>
              <a:t>JMenu</a:t>
            </a:r>
            <a:r>
              <a:rPr b="0" lang="en-US" sz="2800" spc="-1" strike="noStrike">
                <a:solidFill>
                  <a:srgbClr val="000000"/>
                </a:solidFill>
                <a:latin typeface="Times New Roman"/>
              </a:rPr>
              <a:t>, </a:t>
            </a:r>
            <a:r>
              <a:rPr b="0" i="1" lang="en-US" sz="2800" spc="-1" strike="noStrike">
                <a:solidFill>
                  <a:srgbClr val="000000"/>
                </a:solidFill>
                <a:latin typeface="Times New Roman"/>
              </a:rPr>
              <a:t>JPopupMenu</a:t>
            </a:r>
            <a:r>
              <a:rPr b="0" lang="en-US" sz="2800" spc="-1" strike="noStrike">
                <a:solidFill>
                  <a:srgbClr val="000000"/>
                </a:solidFill>
                <a:latin typeface="Times New Roman"/>
              </a:rPr>
              <a:t>, and </a:t>
            </a:r>
            <a:r>
              <a:rPr b="0" i="1" lang="en-US" sz="2800" spc="-1" strike="noStrike">
                <a:solidFill>
                  <a:srgbClr val="000000"/>
                </a:solidFill>
                <a:latin typeface="Times New Roman"/>
              </a:rPr>
              <a:t>JToolB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dd an Action to a toolb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olbar makes a button for it and asks the Action what icon to 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separate behavior from UI</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ier to script or change program log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s Implemente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t>
            </a:r>
            <a:r>
              <a:rPr b="0" i="1" lang="en-US" sz="3200" spc="-1" strike="noStrike">
                <a:solidFill>
                  <a:srgbClr val="000000"/>
                </a:solidFill>
                <a:latin typeface="Times New Roman"/>
              </a:rPr>
              <a:t>Action</a:t>
            </a:r>
            <a:endParaRPr b="0" lang="en-US" sz="3200" spc="-1" strike="noStrike">
              <a:solidFill>
                <a:srgbClr val="000000"/>
              </a:solidFill>
              <a:latin typeface="Times New Roman"/>
            </a:endParaRPr>
          </a:p>
          <a:p>
            <a:pPr lvl="2" marL="1108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CutAction extends AbstractAction {</a:t>
            </a:r>
            <a:endParaRPr b="0" lang="en-US" sz="1800" spc="-1" strike="noStrike">
              <a:solidFill>
                <a:srgbClr val="000000"/>
              </a:solidFill>
              <a:latin typeface="Times New Roman"/>
            </a:endParaRPr>
          </a:p>
          <a:p>
            <a:pPr lvl="2" marL="1108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CutAction () {</a:t>
            </a:r>
            <a:endParaRPr b="0" lang="en-US" sz="1800" spc="-1" strike="noStrike">
              <a:solidFill>
                <a:srgbClr val="000000"/>
              </a:solidFill>
              <a:latin typeface="Times New Roman"/>
            </a:endParaRPr>
          </a:p>
          <a:p>
            <a:pPr lvl="2" marL="1108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per (“Cut”, new ImageIcon(“Scissors.gif”);</a:t>
            </a:r>
            <a:endParaRPr b="0" lang="en-US" sz="1800" spc="-1" strike="noStrike">
              <a:solidFill>
                <a:srgbClr val="000000"/>
              </a:solidFill>
              <a:latin typeface="Times New Roman"/>
            </a:endParaRPr>
          </a:p>
          <a:p>
            <a:pPr lvl="2" marL="1108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2" marL="1108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void actionPerformed (ActionEvent e) {</a:t>
            </a:r>
            <a:endParaRPr b="0" lang="en-US" sz="1800" spc="-1" strike="noStrike">
              <a:solidFill>
                <a:srgbClr val="000000"/>
              </a:solidFill>
              <a:latin typeface="Times New Roman"/>
            </a:endParaRPr>
          </a:p>
          <a:p>
            <a:pPr lvl="2" marL="1108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out.println ("Selected: " + getValue (Action.NAME));</a:t>
            </a:r>
            <a:endParaRPr b="0" lang="en-US" sz="1800" spc="-1" strike="noStrike">
              <a:solidFill>
                <a:srgbClr val="000000"/>
              </a:solidFill>
              <a:latin typeface="Times New Roman"/>
            </a:endParaRPr>
          </a:p>
          <a:p>
            <a:pPr lvl="2" marL="1108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2" marL="1108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o multiple places </a:t>
            </a:r>
            <a:r>
              <a:rPr b="0" lang="en-US" sz="1800" spc="-1" strike="noStrike">
                <a:solidFill>
                  <a:srgbClr val="000000"/>
                </a:solidFill>
                <a:latin typeface="Times New Roman"/>
              </a:rPr>
              <a:t>(Action a = new MyAction(...);)</a:t>
            </a:r>
            <a:endParaRPr b="0" lang="en-US" sz="1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JMenu.add (a)</a:t>
            </a:r>
            <a:r>
              <a:rPr b="0" lang="en-US" sz="2800" spc="-1" strike="noStrike">
                <a:solidFill>
                  <a:srgbClr val="000000"/>
                </a:solidFill>
                <a:latin typeface="Times New Roman"/>
              </a:rPr>
              <a:t> / </a:t>
            </a:r>
            <a:r>
              <a:rPr b="0" i="1" lang="en-US" sz="2800" spc="-1" strike="noStrike">
                <a:solidFill>
                  <a:srgbClr val="000000"/>
                </a:solidFill>
                <a:latin typeface="Times New Roman"/>
              </a:rPr>
              <a:t>aJToolBar.add (a)</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ble a, disables menu, toolb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Action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extAction</a:t>
            </a:r>
            <a:r>
              <a:rPr b="0" lang="en-US" sz="3200" spc="-1" strike="noStrike">
                <a:solidFill>
                  <a:srgbClr val="000000"/>
                </a:solidFill>
                <a:latin typeface="Times New Roman"/>
              </a:rPr>
              <a:t> extends </a:t>
            </a:r>
            <a:r>
              <a:rPr b="0" i="1" lang="en-US" sz="3200" spc="-1" strike="noStrike">
                <a:solidFill>
                  <a:srgbClr val="000000"/>
                </a:solidFill>
                <a:latin typeface="Times New Roman"/>
              </a:rPr>
              <a:t>AbstractActio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text component how to handle operatio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ction actions[] = aJTextComp.getActions();</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t>
            </a:r>
            <a:r>
              <a:rPr b="0" i="1" lang="en-US" sz="3200" spc="-1" strike="noStrike">
                <a:solidFill>
                  <a:srgbClr val="000000"/>
                </a:solidFill>
                <a:latin typeface="Times New Roman"/>
              </a:rPr>
              <a:t>Action</a:t>
            </a:r>
            <a:r>
              <a:rPr b="0" lang="en-US" sz="3200" spc="-1" strike="noStrike">
                <a:solidFill>
                  <a:srgbClr val="000000"/>
                </a:solidFill>
                <a:latin typeface="Times New Roman"/>
              </a:rPr>
              <a:t> to perform operatio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 through array</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ciate </a:t>
            </a:r>
            <a:r>
              <a:rPr b="0" i="1" lang="en-US" sz="3200" spc="-1" strike="noStrike">
                <a:solidFill>
                  <a:srgbClr val="000000"/>
                </a:solidFill>
                <a:latin typeface="Times New Roman"/>
              </a:rPr>
              <a:t>Action</a:t>
            </a:r>
            <a:r>
              <a:rPr b="0" lang="en-US" sz="3200" spc="-1" strike="noStrike">
                <a:solidFill>
                  <a:srgbClr val="000000"/>
                </a:solidFill>
                <a:latin typeface="Times New Roman"/>
              </a:rPr>
              <a:t> to component</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ddActionListe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Action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ction List</a:t>
            </a:r>
            <a:endParaRPr b="0" lang="en-US" sz="32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htable commands = new Hashtable();</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 actions = jt.getActions();</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int i = 0; i &lt; actions.length; i++) {</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tion a = actions[i];</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mmands.put(a.getValue(Action.NAME), a);</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ction / associate to component</a:t>
            </a:r>
            <a:endParaRPr b="0" lang="en-US" sz="32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Button cut = new JButton("Cut");</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 cutIt = (Action)commands.get (</a:t>
            </a:r>
            <a:r>
              <a:rPr b="1" i="1" lang="en-US" sz="1800" spc="-1" strike="noStrike">
                <a:solidFill>
                  <a:srgbClr val="000000"/>
                </a:solidFill>
                <a:latin typeface="Times New Roman"/>
              </a:rPr>
              <a:t>DefaultEditorKit.cutAction</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t.addActionListener (cut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design patte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ndard way to solve a probl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have a problem that they must sol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p's have a 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MVC,singlet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ableButt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abstract class RunButton exte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javax.swing.JButton impl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java.awt.event.ActionListe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ignable, Runn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abl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interface Runn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void ru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up a menu system</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I need men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rationale for a menu hierarc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menu items is too man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 I organize the construction?</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about a top-down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helper functions or cl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 forward to reuse implemen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small method bod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imple main method is best</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static void main(String args[])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osableJFrame cf = new ClosableJFrame("RunMenuItem");</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tainer c = cf.getContentPan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f.setJMenuBar(getMenuBa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setLayout(new java.awt.FlowLayou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f.setSize(200, 20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f.setVisible(tru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ce all the top-level menus in one method</a:t>
            </a:r>
            <a:br>
              <a:rPr sz="4000"/>
            </a:br>
            <a:r>
              <a:rPr b="0" lang="en-US" sz="4000" spc="-1" strike="noStrike">
                <a:solidFill>
                  <a:srgbClr val="000000"/>
                </a:solidFill>
                <a:latin typeface="Times New Roman"/>
              </a:rPr>
              <a:t>Don’t sub-class the Frame</a:t>
            </a:r>
            <a:br>
              <a:rPr sz="4000"/>
            </a:br>
            <a:r>
              <a:rPr b="0" lang="en-US" sz="4000" spc="-1" strike="noStrike">
                <a:solidFill>
                  <a:srgbClr val="000000"/>
                </a:solidFill>
                <a:latin typeface="Times New Roman"/>
              </a:rPr>
              <a:t>Do make use of helper func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l top-level menus are in one place.</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ublic static JMenuBar getMenuBa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JMenuBar mb = new JMenuBa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b.add(getFileMen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b.add(getEditMen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turn m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eak-down the menu construction</a:t>
            </a:r>
            <a:endParaRPr b="0" lang="en-US" sz="4000" spc="-1" strike="noStrike">
              <a:solidFill>
                <a:srgbClr val="000000"/>
              </a:solidFill>
              <a:latin typeface="Times New Roman"/>
            </a:endParaRPr>
          </a:p>
        </p:txBody>
      </p:sp>
      <p:pic>
        <p:nvPicPr>
          <p:cNvPr id="100" name="" descr=""/>
          <p:cNvPicPr/>
          <p:nvPr/>
        </p:nvPicPr>
        <p:blipFill>
          <a:blip r:embed="rId1"/>
          <a:stretch/>
        </p:blipFill>
        <p:spPr>
          <a:xfrm>
            <a:off x="1600200" y="1862280"/>
            <a:ext cx="5943600" cy="3133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Tree</a:t>
            </a: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Tree</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ee is a set of hierarchical node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p of this hierarchy is called “root”.</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ment that does not have children is called “leaf”.</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Tree</a:t>
            </a:r>
            <a:r>
              <a:rPr b="0" lang="en-US" sz="3200" spc="-1" strike="noStrike">
                <a:solidFill>
                  <a:srgbClr val="000000"/>
                </a:solidFill>
                <a:latin typeface="Times New Roman"/>
              </a:rPr>
              <a:t> nodes are managed by a “</a:t>
            </a:r>
            <a:r>
              <a:rPr b="1" lang="en-US" sz="3200" spc="-1" strike="noStrike">
                <a:solidFill>
                  <a:srgbClr val="000000"/>
                </a:solidFill>
                <a:latin typeface="Times New Roman"/>
              </a:rPr>
              <a:t>TreeMode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1" lang="en-US" sz="3200" spc="-1" strike="noStrike">
                <a:solidFill>
                  <a:srgbClr val="000000"/>
                </a:solidFill>
                <a:latin typeface="Times New Roman"/>
              </a:rPr>
              <a:t>TreeCellRenderer</a:t>
            </a:r>
            <a:r>
              <a:rPr b="0" lang="en-US" sz="3200" spc="-1" strike="noStrike">
                <a:solidFill>
                  <a:srgbClr val="000000"/>
                </a:solidFill>
                <a:latin typeface="Times New Roman"/>
              </a:rPr>
              <a:t>” converts an object to its visual representation in the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I make sure that I only have one instance of a clas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final class IDB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ivate IDB()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ivate static IDB i = new IDB();</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ublic static IDB getIdb() { return i;</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3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ee anatomy</a:t>
            </a:r>
            <a:endParaRPr b="0" lang="en-US" sz="4400" spc="-1" strike="noStrike">
              <a:solidFill>
                <a:srgbClr val="000000"/>
              </a:solidFill>
              <a:latin typeface="Times New Roman"/>
            </a:endParaRPr>
          </a:p>
        </p:txBody>
      </p:sp>
      <p:pic>
        <p:nvPicPr>
          <p:cNvPr id="106" name="" descr=""/>
          <p:cNvPicPr/>
          <p:nvPr/>
        </p:nvPicPr>
        <p:blipFill>
          <a:blip r:embed="rId1"/>
          <a:stretch/>
        </p:blipFill>
        <p:spPr>
          <a:xfrm>
            <a:off x="2090880" y="954000"/>
            <a:ext cx="4808520" cy="5904000"/>
          </a:xfrm>
          <a:prstGeom prst="rect">
            <a:avLst/>
          </a:prstGeom>
          <a:ln w="0">
            <a:noFill/>
          </a:ln>
        </p:spPr>
      </p:pic>
      <p:sp>
        <p:nvSpPr>
          <p:cNvPr id="107" name=""/>
          <p:cNvSpPr/>
          <p:nvPr/>
        </p:nvSpPr>
        <p:spPr>
          <a:xfrm>
            <a:off x="533520" y="1219320"/>
            <a:ext cx="1295280" cy="914400"/>
          </a:xfrm>
          <a:prstGeom prst="wedgeEllipseCallout">
            <a:avLst>
              <a:gd name="adj1" fmla="val 75365"/>
              <a:gd name="adj2" fmla="val -45486"/>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Root</a:t>
            </a:r>
            <a:endParaRPr b="0" lang="en-US" sz="2800" spc="-1" strike="noStrike">
              <a:solidFill>
                <a:srgbClr val="000000"/>
              </a:solidFill>
              <a:latin typeface="Times New Roman"/>
            </a:endParaRPr>
          </a:p>
        </p:txBody>
      </p:sp>
      <p:sp>
        <p:nvSpPr>
          <p:cNvPr id="108" name=""/>
          <p:cNvSpPr/>
          <p:nvPr/>
        </p:nvSpPr>
        <p:spPr>
          <a:xfrm>
            <a:off x="6400800" y="2665440"/>
            <a:ext cx="1905120" cy="1068480"/>
          </a:xfrm>
          <a:prstGeom prst="wedgeEllipseCallout">
            <a:avLst>
              <a:gd name="adj1" fmla="val -181916"/>
              <a:gd name="adj2" fmla="val 4532"/>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Leaf node</a:t>
            </a:r>
            <a:endParaRPr b="0" lang="en-US" sz="2400" spc="-1" strike="noStrike">
              <a:solidFill>
                <a:srgbClr val="000000"/>
              </a:solidFill>
              <a:latin typeface="Times New Roman"/>
            </a:endParaRPr>
          </a:p>
        </p:txBody>
      </p:sp>
      <p:sp>
        <p:nvSpPr>
          <p:cNvPr id="109" name=""/>
          <p:cNvSpPr/>
          <p:nvPr/>
        </p:nvSpPr>
        <p:spPr>
          <a:xfrm>
            <a:off x="457200" y="3429000"/>
            <a:ext cx="1905120" cy="1068480"/>
          </a:xfrm>
          <a:prstGeom prst="wedgeEllipseCallout">
            <a:avLst>
              <a:gd name="adj1" fmla="val 84833"/>
              <a:gd name="adj2" fmla="val 65601"/>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ran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Model Method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0720"/>
            <a:ext cx="7772400" cy="3495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getRoo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getChild(Object parent, int inde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getChildCount(Object par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lean isLeaf(Object nod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valueForPathChanged(TreePath path, Object newV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getIndexOfChild(Object parent, Object chil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addTreeModelListener(TreeModelListener 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removeTreeModelListener(TreeModelListener 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JTree</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981080"/>
            <a:ext cx="38178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a:t>
            </a:r>
            <a:r>
              <a:rPr b="1" lang="en-AU" sz="2800" spc="-1" strike="noStrike">
                <a:solidFill>
                  <a:srgbClr val="000000"/>
                </a:solidFill>
                <a:latin typeface="Times New Roman"/>
              </a:rPr>
              <a:t>JTree</a:t>
            </a:r>
            <a:r>
              <a:rPr b="0" lang="en-AU" sz="2800" spc="-1" strike="noStrike">
                <a:solidFill>
                  <a:srgbClr val="000000"/>
                </a:solidFill>
                <a:latin typeface="Times New Roman"/>
              </a:rPr>
              <a:t> can then be created with the root nod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JTree tree = new JTree (root);</a:t>
            </a:r>
            <a:endParaRPr b="0" lang="en-US" sz="24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tree</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Trees are usually displayed within a scroll pane (</a:t>
            </a:r>
            <a:r>
              <a:rPr b="1" lang="en-AU" sz="1800" spc="-1" strike="noStrike">
                <a:solidFill>
                  <a:srgbClr val="000000"/>
                </a:solidFill>
                <a:latin typeface="Times New Roman"/>
              </a:rPr>
              <a:t>JScrollPane</a:t>
            </a:r>
            <a:r>
              <a:rPr b="0" lang="en-AU" sz="1800" spc="-1" strike="noStrike">
                <a:solidFill>
                  <a:srgbClr val="000000"/>
                </a:solidFill>
                <a:latin typeface="Times New Roman"/>
              </a:rPr>
              <a:t>) because they can grow very large</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JScrollPane</a:t>
            </a:r>
            <a:r>
              <a:rPr b="1" lang="en-AU" sz="1600" spc="-1" strike="noStrike">
                <a:solidFill>
                  <a:srgbClr val="000000"/>
                </a:solidFill>
                <a:latin typeface="Courier New"/>
              </a:rPr>
              <a:t> treeView = new </a:t>
            </a:r>
            <a:r>
              <a:rPr b="1" lang="en-AU" sz="1600" spc="-1" strike="noStrike">
                <a:solidFill>
                  <a:srgbClr val="000000"/>
                </a:solidFill>
                <a:latin typeface="Courier New"/>
              </a:rPr>
              <a:t>JScrollPane</a:t>
            </a:r>
            <a:r>
              <a:rPr b="1" lang="en-AU" sz="1600" spc="-1" strike="noStrike">
                <a:solidFill>
                  <a:srgbClr val="000000"/>
                </a:solidFill>
                <a:latin typeface="Courier New"/>
              </a:rPr>
              <a:t> (tree);</a:t>
            </a:r>
            <a:endParaRPr b="0" lang="en-US" sz="16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Once a tree is displayed it is often useful to determine which node is selected or to listen to double click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Getting the currently selected components can be achieved by calling </a:t>
            </a:r>
            <a:r>
              <a:rPr b="1" lang="en-AU" sz="1800" spc="-1" strike="noStrike">
                <a:solidFill>
                  <a:srgbClr val="000000"/>
                </a:solidFill>
                <a:latin typeface="Times New Roman"/>
              </a:rPr>
              <a:t>getLastSelectedPathComponent</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DefaultMutableTreeNode n = (DefaultMutableTreeNode)tree.</a:t>
            </a:r>
            <a:r>
              <a:rPr b="1" lang="en-AU" sz="1600" spc="-1" strike="noStrike">
                <a:solidFill>
                  <a:srgbClr val="000000"/>
                </a:solidFill>
                <a:latin typeface="Courier New"/>
              </a:rPr>
              <a:t>getLastSelectedPathComponent</a:t>
            </a:r>
            <a:r>
              <a:rPr b="1" lang="en-AU"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Responding to double clicks involves registering a mouse listener with the tree</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tree</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ourier New"/>
              </a:rPr>
              <a:t>MouseListener ml = new MouseAdapter()</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ourier New"/>
              </a:rPr>
              <a:t>{</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ourier New"/>
              </a:rPr>
              <a:t>public void mouseClicked(MouseEvent e)</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ourier New"/>
              </a:rPr>
              <a:t>{</a:t>
            </a:r>
            <a:endParaRPr b="0" lang="en-US" sz="14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ourier New"/>
              </a:rPr>
              <a:t>int selRow = tree.getRowForLocation(e.getX(), e.getY());</a:t>
            </a:r>
            <a:endParaRPr b="0" lang="en-US" sz="12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ourier New"/>
              </a:rPr>
              <a:t>TreePath selPath = tree.getPathForLocation(e.getX(), e.getY());</a:t>
            </a:r>
            <a:endParaRPr b="0" lang="en-US" sz="12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ourier New"/>
              </a:rPr>
              <a:t>if(selRow != -1) </a:t>
            </a:r>
            <a:endParaRPr b="0" lang="en-US" sz="12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ourier New"/>
              </a:rPr>
              <a:t>{</a:t>
            </a:r>
            <a:endParaRPr b="0" lang="en-US" sz="1200" spc="-1" strike="noStrike">
              <a:solidFill>
                <a:srgbClr val="000000"/>
              </a:solidFill>
              <a:latin typeface="Times New Roman"/>
            </a:endParaRPr>
          </a:p>
          <a:p>
            <a:pPr lvl="3" marL="16002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ourier New"/>
              </a:rPr>
              <a:t>if(e.getClickCount() == 1) </a:t>
            </a:r>
            <a:endParaRPr b="0" lang="en-US" sz="1000" spc="-1" strike="noStrike">
              <a:solidFill>
                <a:srgbClr val="000000"/>
              </a:solidFill>
              <a:latin typeface="Times New Roman"/>
            </a:endParaRPr>
          </a:p>
          <a:p>
            <a:pPr lvl="3" marL="16002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ourier New"/>
              </a:rPr>
              <a:t>{</a:t>
            </a:r>
            <a:endParaRPr b="0" lang="en-US" sz="1000" spc="-1" strike="noStrike">
              <a:solidFill>
                <a:srgbClr val="000000"/>
              </a:solidFill>
              <a:latin typeface="Times New Roman"/>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ourier New"/>
              </a:rPr>
              <a:t>singleClick(selRow, selPath);</a:t>
            </a:r>
            <a:endParaRPr b="0" lang="en-US" sz="1000" spc="-1" strike="noStrike">
              <a:solidFill>
                <a:srgbClr val="000000"/>
              </a:solidFill>
              <a:latin typeface="Times New Roman"/>
            </a:endParaRPr>
          </a:p>
          <a:p>
            <a:pPr lvl="3" marL="16002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ourier New"/>
              </a:rPr>
              <a:t>}</a:t>
            </a:r>
            <a:endParaRPr b="0" lang="en-US" sz="1000" spc="-1" strike="noStrike">
              <a:solidFill>
                <a:srgbClr val="000000"/>
              </a:solidFill>
              <a:latin typeface="Times New Roman"/>
            </a:endParaRPr>
          </a:p>
          <a:p>
            <a:pPr lvl="3" marL="16002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ourier New"/>
              </a:rPr>
              <a:t>else if(e.getClickCount() == 2) </a:t>
            </a:r>
            <a:endParaRPr b="0" lang="en-US" sz="1000" spc="-1" strike="noStrike">
              <a:solidFill>
                <a:srgbClr val="000000"/>
              </a:solidFill>
              <a:latin typeface="Times New Roman"/>
            </a:endParaRPr>
          </a:p>
          <a:p>
            <a:pPr lvl="3" marL="16002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ourier New"/>
              </a:rPr>
              <a:t>{</a:t>
            </a:r>
            <a:endParaRPr b="0" lang="en-US" sz="1000" spc="-1" strike="noStrike">
              <a:solidFill>
                <a:srgbClr val="000000"/>
              </a:solidFill>
              <a:latin typeface="Times New Roman"/>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ourier New"/>
              </a:rPr>
              <a:t>doubleClick(selRow, selPath);</a:t>
            </a:r>
            <a:endParaRPr b="0" lang="en-US" sz="1000" spc="-1" strike="noStrike">
              <a:solidFill>
                <a:srgbClr val="000000"/>
              </a:solidFill>
              <a:latin typeface="Times New Roman"/>
            </a:endParaRPr>
          </a:p>
          <a:p>
            <a:pPr lvl="3" marL="16002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ourier New"/>
              </a:rPr>
              <a:t>}</a:t>
            </a:r>
            <a:endParaRPr b="0" lang="en-US" sz="10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ourier New"/>
              </a:rPr>
              <a:t>}</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ourier New"/>
              </a:rPr>
              <a: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ourier New"/>
              </a:rPr>
              <a:t>}</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Tree constructor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Tree()</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Tree(Object[] value)</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Tree(Vector value)</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Tree(Hashtable value)</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Tree(TreeNode root)</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Tree(TreeNode root, boolean asksAllowsChildren)</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Tree(TreeModel new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eNode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62624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tree model uses objects of TreeNode to represent the nodes in the tree.</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fault implementation of it is DefaultMutableTreeNode.</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eNode methods</a:t>
            </a:r>
            <a:endParaRPr b="0" lang="en-US" sz="20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eNode getChildAt(int childIndex)</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getChildCount()</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eNode getParent()</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getIndex(TreeNode node)</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lean getAllowsChildren()</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lean isLeaf()</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umeration children()</a:t>
            </a:r>
            <a:endParaRPr b="0" lang="en-US" sz="1800" spc="-1" strike="noStrike">
              <a:solidFill>
                <a:srgbClr val="000000"/>
              </a:solidFill>
              <a:latin typeface="Times New Roman"/>
            </a:endParaRPr>
          </a:p>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MutableTreeNode constructors</a:t>
            </a:r>
            <a:endParaRPr b="0" lang="en-US" sz="20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aultMutableTreeNode()</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aultMutableTreeNode(Object userObject)</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aultMutableTreeNode(Object userObject, boolean allowsChildr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Tree example</a:t>
            </a:r>
            <a:endParaRPr b="0" lang="en-US" sz="4000" spc="-1" strike="noStrike">
              <a:solidFill>
                <a:srgbClr val="000000"/>
              </a:solidFill>
              <a:latin typeface="Times New Roman"/>
            </a:endParaRPr>
          </a:p>
        </p:txBody>
      </p:sp>
      <p:sp>
        <p:nvSpPr>
          <p:cNvPr id="123" name="PlaceHolder 2"/>
          <p:cNvSpPr>
            <a:spLocks noGrp="1"/>
          </p:cNvSpPr>
          <p:nvPr>
            <p:ph/>
          </p:nvPr>
        </p:nvSpPr>
        <p:spPr>
          <a:xfrm>
            <a:off x="457200" y="907920"/>
            <a:ext cx="5843520" cy="583416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javax.swing.*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javax.swing.tre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java.awt.even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java.aw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java.util.*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blic class TreeNodeExample extends JPanel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TreeNodeExampl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DefaultMutableTreeNode rootNode = new DefaultMutableTreeNode("Categories")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DefaultMutableTreeNode parentNode = new DefaultMutableTreeNode("Metals")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rentNode.add(new DefaultMutableTreeNode("Gold",fals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rentNode.add(new DefaultMutableTreeNode("Silver",fals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rentNode.add(new DefaultMutableTreeNode("Bronze",fals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rentNode.add(new DefaultMutableTreeNode("Copper",fals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rentNode.add(new DefaultMutableTreeNode("Iron",fals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rentNode.add(new DefaultMutableTreeNode("Platinium",fals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rentNode.add(new DefaultMutableTreeNode("Titanium",fals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rootNode.add(parentNod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rentNode = new DefaultMutableTreeNode("Companies")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rentNode.add(new DefaultMutableTreeNode("Paradigm Research",fals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rentNode.add(new DefaultMutableTreeNode("JavaSoft",fals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rentNode.add(new DefaultMutableTreeNode("Wiley Press",fals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rootNode.add(parentNod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etLayout(new BorderLayout());</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add(new JScrollPane(new JTree(rootNode)),"Center")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Dimension getPreferredSize()</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return new Dimension(200,120) ;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args)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JFrame frame = new JFrame("Tree Node Exampl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reeNodeExample panel = new TreeNodeExampl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frame.setDefaultCloseOperation(JFrame.EXIT_ON_CLOS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frame.getContentPane().add(panel,"Center")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frame.setSize(panel.getPreferredSiz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frame.setVisible(tru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pic>
        <p:nvPicPr>
          <p:cNvPr id="124" name="" descr=""/>
          <p:cNvPicPr/>
          <p:nvPr/>
        </p:nvPicPr>
        <p:blipFill>
          <a:blip r:embed="rId1"/>
          <a:stretch/>
        </p:blipFill>
        <p:spPr>
          <a:xfrm>
            <a:off x="6300720" y="1341360"/>
            <a:ext cx="2679840" cy="3527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eModel Listener</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eModelListener method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treeNodesChanged(TreeModelEvent 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treeNodesInserted(TreeModelEvent 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treeNodesRemoved(TreeModelEvent 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treeStructureChanged(TreeModelEvent e)</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eModelEvent method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ePath getTreePath()</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getPath()</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getChildren()</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getChildInd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stom Tree Model Example</a:t>
            </a:r>
            <a:endParaRPr b="0" lang="en-US" sz="4000" spc="-1" strike="noStrike">
              <a:solidFill>
                <a:srgbClr val="000000"/>
              </a:solidFill>
              <a:latin typeface="Times New Roman"/>
            </a:endParaRPr>
          </a:p>
        </p:txBody>
      </p:sp>
      <p:sp>
        <p:nvSpPr>
          <p:cNvPr id="128" name="PlaceHolder 2"/>
          <p:cNvSpPr>
            <a:spLocks noGrp="1"/>
          </p:cNvSpPr>
          <p:nvPr>
            <p:ph/>
          </p:nvPr>
        </p:nvSpPr>
        <p:spPr>
          <a:xfrm>
            <a:off x="457200" y="1052280"/>
            <a:ext cx="8229600" cy="5616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java.io.*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java.util.*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FileHolder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le myFile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ctor children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c FileHolder(File f)</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yFile = f ;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c File getFile()</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turn myFile ;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c Vector getChildren()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myFile.isDirectory() &amp;&amp; (children==null))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max=0;</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ing lis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le curFile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leHolder curHolder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 new Vector()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 = myFile.lis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list!=null)</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x = list.length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nt i=0;i&lt;max;++i)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File = new File(myFile,list[i])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Holder = new FileHolder(curFile)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addElement(curHolder)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turn children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c String toStrin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turn myFile.getName() ;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ton Patter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tern to have when you are only have 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st of D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stom Tree Model Example</a:t>
            </a:r>
            <a:endParaRPr b="0" lang="en-US" sz="4000" spc="-1" strike="noStrike">
              <a:solidFill>
                <a:srgbClr val="000000"/>
              </a:solidFill>
              <a:latin typeface="Times New Roman"/>
            </a:endParaRPr>
          </a:p>
        </p:txBody>
      </p:sp>
      <p:sp>
        <p:nvSpPr>
          <p:cNvPr id="130" name="PlaceHolder 2"/>
          <p:cNvSpPr>
            <a:spLocks noGrp="1"/>
          </p:cNvSpPr>
          <p:nvPr>
            <p:ph/>
          </p:nvPr>
        </p:nvSpPr>
        <p:spPr>
          <a:xfrm>
            <a:off x="456840" y="981000"/>
            <a:ext cx="3970440" cy="56880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javax.swing.*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javax.swing.tre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javax.swing.even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java.io.*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java.util.*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FileSystemTreeModel implements TreeModel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tected FileHolder roo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tected Vector listeners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FileSystemTreeModel(File r)</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root = new FileHolder(r)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isteners = new Vector() ;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Object getRoot()</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return root ;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Object getChild(Object parent, int index)</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bject retVal=null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Vector children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parent instanceof FileHolder)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ildren = ((FileHolder)parent).getChildren()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children!=null)</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index&lt;children.size())</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Val=children.elementAt(index)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urn retVal ;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int getChildCount(Object parent)</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int retVal = 0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Vector children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parent instanceof FileHolder)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ildren = ((FileHolder)parent).getChildren()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children!=null)</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Val = children.size()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urn retVal ;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4716360" y="1052640"/>
            <a:ext cx="3970440" cy="5101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boolean isLeaf(Object node)</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boolean retVal = true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ile file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node instanceof FileHolder)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ile = ((FileHolder)node).getFile()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Val = file.isFile()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urn retVal ;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void valueForPathChanged(TreePath path, Object newVal)</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int getIndexOfChild(Object parent, Object child)</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int retVal = -1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Vector children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parent instanceof FileHolder)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ildren = ((FileHolder)parent).getChildren()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children!=null)</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Val = children.indexOf(child)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urn retVal ;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void addTreeModelListener(TreeModelListener l)</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if ((l!=null)&amp;&amp;!listeners.contains(l))</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isteners.addElement(l) ;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void removeTreeModelListener(TreeModelListener l)</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listeners.removeElement(l) ; }</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tom Tree Model Exampl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531504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javax.swing.*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java.awt.even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java.aw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java.io.*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java.util.*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ass FileTree extends JPanel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c FileTree(String startPath)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Tree tree = new JTree()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ee.setModel(new FileSystemTreeModel(new File(startPath)))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Layout(new BorderLayou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new JScrollPane(tree),"Center")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c Dimension getPreferredSize()</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turn new Dimension(250,200) ;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c static void main(String[]s)</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JFrame frame = new JFrame("File Tree Example")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leTree panel = new FileTree(s.length&gt;0?s[0]:"/")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ame.setDefaultCloseOperation(JFrame.EXIT_ON_CLOSE)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ame.getContentPane().add(panel,"Center")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ame.setSize(panel.getPreferredSize())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ame.setVisible(true) ;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4" name="" descr=""/>
          <p:cNvPicPr/>
          <p:nvPr/>
        </p:nvPicPr>
        <p:blipFill>
          <a:blip r:embed="rId1"/>
          <a:stretch/>
        </p:blipFill>
        <p:spPr>
          <a:xfrm>
            <a:off x="5940360" y="2997360"/>
            <a:ext cx="2916360" cy="259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ers-Observabl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P-Observer D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sh and subscribe to ev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tor</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P that wires up Observers with Observ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combine the roles of mediator with observer and observ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gets confu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need a wiring hu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ton</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Button jb = new JButton(“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b.addActionListener(new ActionListene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void actionPerformed(ActionEvent 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ng Events</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1603440" y="1600200"/>
            <a:ext cx="5949720" cy="443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ttern – pattern to have when you are only having 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er-observable design pattern- actionListeners, publish-subscribe relation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tor – hooks up observers and observab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5T01:14:58Z</dcterms:created>
  <dc:creator>lyon</dc:creator>
  <dc:description/>
  <dc:language>en-US</dc:language>
  <cp:lastModifiedBy>dlyon</cp:lastModifiedBy>
  <dcterms:modified xsi:type="dcterms:W3CDTF">2004-09-08T23:04:29Z</dcterms:modified>
  <cp:revision>21</cp:revision>
  <dc:subject/>
  <dc:title>Exceptions</dc:title>
</cp:coreProperties>
</file>