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7C8-2ED6-49D9-8199-B6AB0BBE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EDB-C13E-4748-9E05-B1DF4084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4C6-5AB4-4E47-B9CE-57478429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F7F-C24D-49C1-8673-ECBB9B60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0B12-ECF9-46B8-B8FF-437F630F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DF3-270F-418C-9E21-24F8C16B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72D-6288-41A6-B9DA-A84E2AB7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A54-4CA9-4F93-9C94-6A0F165C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E40-9C7E-4B8A-8C9B-55279458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38D-1560-4EC9-88CC-2610AD70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D043-05B8-43F5-BCA3-B446AA69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812-BF70-4484-9ECE-10841D59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7066-2F98-4E04-87FF-76BF966A5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ant Ref.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i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customers=“tom,dick,harry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v-&gt; String s[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tring Tokeniz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that uses a string to create sub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rings are tok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input =“this is a sample string”; //– Garbag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output[] = {“this”, “is”, “a”, “sample”, “string”}; // - Garbage o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utput is a tokenized version of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StringTokeniz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ackage java.ut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java.util.StringTokeniz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make a StringTokeniz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Tokenizer st = new StringTokenizer(“1,2,3,4 5\” –6”, “,\” 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find out how many tokens there 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tn = st.countTokens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I use the StringTokeniz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st.hasMoreTokens()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st.nextToken(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s = st.nextToken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t i=0; s != null; s = st.nextToken()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read a CSV F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Name, LastName, StAddress, City, State, ZIP, ph1, ph2, ph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record per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fn = Futil.getFileNam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f = new File(f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InputStream fis = new FileInputStream(f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edReader br = new BufferedReader(fi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read a CSV File?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(String s = br.readLine()) != null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ALine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.clos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yon</cp:lastModifiedBy>
  <dcterms:modified xsi:type="dcterms:W3CDTF">2004-09-13T19:56:01Z</dcterms:modified>
  <cp:revision>4</cp:revision>
  <dc:subject/>
  <dc:title>Exceptions</dc:title>
</cp:coreProperties>
</file>