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A9F-C536-47AD-ABCC-B9C249E1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08C-F910-451A-8DA0-A098EF5F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007-DAFB-4566-B63F-17BF06B6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4FA-A5C5-4D6A-AFC6-01BAC2B5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432-8A9E-422A-A335-9662C33B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15B8-45CA-448C-9F6C-81718B48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3066-E449-4F8D-B838-049BDA7D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833-82CA-4715-821C-E3F21CCD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7376-5E6E-4886-99A2-25D33213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F28-BBEE-4B35-8B92-62167902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186-CC2D-4E6D-9FE5-3B2FB905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9A5-AA18-47C3-9D29-AD61F32B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D555-9E18-4F08-89A7-9573E7112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XM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I need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I use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– extensible markup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ell-formed, parsable language able to convey structured textual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a language for defining hierarchical markup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Servlet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new users from the lo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, add a register link when a user cannot login or first vists the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that users are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chapter 32 on XM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for next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XM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produc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book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ook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itle&gt;Java for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book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ook&gt;&lt;title&gt;Java for morons&lt;/title&gt;&lt;/book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book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produc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spec correct x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don’t have to (the parser is tolerent of bad x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o syntax checking on parsing 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ld way D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 way XML Schema (is xml for defining xml!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Type Defn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?xml version=“1.0” encoding=“ISO=8859-1” standalone=“yes” 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!DOCTYPE nameOfItem [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follow ]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ing the DOC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!DOCTYPE Cart [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!ELEMENT Product (Name, price,…)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!ELEMENT Product (#PCDATA)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!ELEMENT Name (#PCDATA)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!ELEMENT Price (#PCDATA)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&gt; &lt;Cart&gt; ….products &lt;/Car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pping C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ar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Produc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Image Processing in Java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$45.00&lt;/Pr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ore stu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Produc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Car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dlyon</cp:lastModifiedBy>
  <dcterms:modified xsi:type="dcterms:W3CDTF">2003-12-05T00:33:25Z</dcterms:modified>
  <cp:revision>11</cp:revision>
  <dc:subject/>
  <dc:title>Introduction To Programming</dc:title>
</cp:coreProperties>
</file>