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527-CD8C-4EEC-B3CA-66B54EF7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93A-2FB9-43C0-BE55-36431F59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9F0-1C1E-40C2-B224-4F0F6692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AF38-3F63-40A9-A7AF-EE72E3D2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380-A92F-44D8-B8DE-5838D689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0C67-D1E3-4BE9-AFFF-40E25108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CC58-A324-4B0B-AF26-BB575B72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6BD5-C012-43A2-94AD-4784ECE8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E30-BD40-4F22-B9BA-84B044E0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59CB-3816-495A-8D7F-D7779F30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B98-1183-4315-BD0D-D090BDA7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176-EAE1-42C3-B6B3-54869FD1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D4FF-155B-4E19-8A42-95EE77DC9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Database Conne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dbc driver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needs to work with many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Server, etc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to a DS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with ODBC driver is called JDBC/ODBC (microsoft metho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 using a protocol and sub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formulate a connect UR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url =“jdbc:dbnet://show.docjava.com:356/addres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– primary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net – sub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.docjava.com – FQ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6 – standard port for RDBMS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Packages do I ne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 java.sql.*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RDBM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atabase management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other kinds of DB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is a GUI on a JET RBDMS back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for RBMS - &gt;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d Query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many standards for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92, SQL 89, SQL99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ommands exists for all the stand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ommands exists only for specific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JDB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s to a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DBMS 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API (porta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transmission of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help to process res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OOP language (y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le to store instances of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le to store blobs (unformatted sequences of by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BMS is good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programmer updates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DBC+RDBMS=2 tier comp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+ server = 2 tier compu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does connections, query and result processing from the RDB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uses SQ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 to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 SQL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SQL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SQL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connection to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tier system - distributed comp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286000"/>
            <a:ext cx="14479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2286000"/>
            <a:ext cx="19051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4191120"/>
            <a:ext cx="220968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04400" y="27846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152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5334120" y="3352320"/>
            <a:ext cx="3045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590560" y="2514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27360" y="18702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27520" y="3241800"/>
            <a:ext cx="12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/o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880" y="3429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22120" y="33177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lyon</cp:lastModifiedBy>
  <dcterms:modified xsi:type="dcterms:W3CDTF">2002-10-02T00:55:38Z</dcterms:modified>
  <cp:revision>5</cp:revision>
  <dc:subject/>
  <dc:title>Introduction To Programming</dc:title>
</cp:coreProperties>
</file>