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B5F-5ADE-48D1-990A-DFDDB6BB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07B-AD05-4A92-AC36-C2EA7E3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FD9-3C23-4A2C-9AAD-4ED8BCD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BF3-6FD0-4C56-B40B-D0FEB8E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1F7-188E-42F0-A6F3-92D56DB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C6C-4EAA-4363-9D84-4DE6086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F41-493C-4F3E-88F4-D7DAC41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172-2E4B-4CD5-A54E-20A4482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B79-09DA-4B03-BC1C-C83B9D2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8EB-98B8-446F-825C-B7EE8EC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C6D-0777-4D4E-9683-C092545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216-5B29-4CD7-9099-4C85EA2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372A-E64F-4832-8B02-4735B5D7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writ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ri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 of unicode ch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Writer bw = new BufferedWriter(new OutputStreamWriter(new FileOut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w.writeln(“this is a test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ing a String to a file (WriteUti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writeString(Strin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Writer fw = getFileWriter("enter output fi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.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catch (IO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Random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mpute a random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@param min  minimum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@param max  maximum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@return random int between &lt;code&gt;min&lt;/code&gt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&lt;code&gt;max&lt;/code&gt; inclu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rand(int min, int ma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(int) (Math.round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.random() * (max - min) + mi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2-25T23:40:14Z</dcterms:modified>
  <cp:revision>10</cp:revision>
  <dc:subject/>
  <dc:title>Exceptions</dc:title>
</cp:coreProperties>
</file>