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CFC-805E-4BA0-A3B8-E8E4C42E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C9A-6EA1-4CC1-B216-77A3FD93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ECA-564E-44F1-8BE6-CFDD8AB5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A76-C6D4-4BEA-B1BC-8F4CE0C1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C51-9987-4778-9D66-81AE3448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3F9-D2AE-48BA-86F7-388E641E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70F-9093-4A6A-8580-25C1235B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44C-B794-4D48-B1B6-47E3BA00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CF4-9A8F-483D-B645-05CFA5A9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C6F-7F5D-4BD4-8B83-5426B9AC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D7D-839C-4DE1-9C7C-A61ACE3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025-5AD8-4180-AB91-FAF2CF3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8785-3BFF-42B2-B389-D1BB80D3F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, output, FILE I/O, tokenization, serialization and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write instance to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that implements the interface serializable can be seri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java core classes implement serializ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imitive data types can be seri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erial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ce (data stor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via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 (CORBA, RMI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tion is an application of st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I use serial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n instance of an ObjectOut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OutputStream resides in java.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ad back use ObjectInputStr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 = ois.read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s.write(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c = (Customer)o; //CN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ontrol what is sav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need a special java keyword for th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ent is a keyword...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ustomer implements Serializ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ent String name = nu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ing Audio from a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o is stored in a file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way to open and play the audio is via the ULawCod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LawCodec resides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he main and it will open and play an au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java program that will prompt the user for a directory containing AU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 all au files contained in the directory or the subdirectories from the root selected by the u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sound.UlawCodec class to help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use the web to get multiple au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s a code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r + decoder = cod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 need a code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odec do I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writing my own code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hould I write my own code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the Ulaw Codec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UlawCodec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fileName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il.getReadFileName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elect an au file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AUFile(fileNam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you get the bytes from a fi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void readUlawDataFromAFile(String fileName) throw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InputStream fis = new FileInputStream(fileNam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wData = readData(fi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.clos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from an input st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byte[] readData(InputStream is) throws IOExcep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Stream as = new AudioStream(i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length = as.getLength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te b[] = new byte[length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.read(b, 0, length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unforma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quence of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everal stream oriented classed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ava.i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Stream –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Stream –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InputStream implements Input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play the sou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playFromFil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wCodec ulc = new UlawCodec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c.play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ulc.writeAU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play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play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Data audioDat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udioData(ulawDat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DataStream = new AudioDataStream(audioDat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Player.player.start(audioDataStrea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udio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 in package sun.aud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AudioDat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Format form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[] buff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AudioData(byte[] bytes) { /* compiled code */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Data(AudioFormat audioFormat, byte[] bytes) { /* compiled code */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udioData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AudioDataStream extends ByteArrayInputStre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Data 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AudioDataStream(AudioData audioData) { /* compiled code */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Data getAudioData() { /* compiled code */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udioPlay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class AudioPlayer extends Thread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 AudioDevice devAud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 static boolean DEBU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final AudioPlayer play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 static ThreadGroup getAudioThreadGroup() { /* compiled code */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 static AudioPlayer getAudioPlayer() { /* compiled code */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 AudioPlayer() { /* compiled code */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ynchronized void start(InputStream inputStream) { /* compiled code */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ynchronized void stop(InputStream inputStream) { /* compiled code */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void run() { /* compiled code */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dioPlayer(sun.audio.AudioPlayer$1 audioPlayer$1) { /* compiled code */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would I want a 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put and outpu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erform elementary data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ing data is data that flows without sto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data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tream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i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Stream (FileInput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Stream (FileOutput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a File instance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new instance of a FileInputStream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ileOutput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streams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ket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based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board and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er and the sc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a FileInput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leInputStream getFileInputStream(String prompt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ew FileInputStream(getReadFile(prompt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r: FileOutputStream in Futil.jav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 fil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binaryCopyFile(FileInputStream f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OutputStream f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uffer[] = new byte[512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cou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count = fis.read(buffer)) &gt;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.write(buffer, 0, coun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out the b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writeBytes(File f, byte b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OutputStream fos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 = new FileOutputStream(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.write(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util.writeBytes,Could not open" + 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that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available(File fil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InputStream fis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InBytes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s = new FileInputStream(fi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InBytes = fis.availab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s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util:Could not open fil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izeInBy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10-18T20:32:13Z</dcterms:modified>
  <cp:revision>12</cp:revision>
  <dc:subject/>
  <dc:title>Exceptions</dc:title>
</cp:coreProperties>
</file>