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D5D-C656-43B4-A222-B3DB4892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FBD-ED09-4DBF-8E17-2E590140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5BC-04E3-48D2-81C9-E45E069D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14B-12C6-4C30-8B39-886DA3DA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3C6-418E-4017-AF68-C0D80D5C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2BC-576F-4CCA-99F1-6CE95FCD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3A3-AF86-41E5-B858-6BE06E99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2AE-8C51-4A40-A898-F977B599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068-FBAD-4E03-BA36-50FE9C29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AFD-57D8-4124-BF34-01B47E78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5C1-9F6E-4A40-A3D6-8DA50CBA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CEBF-3B54-4A66-953D-EE9ECCD8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64CB-830B-44F9-96E6-91CB531D9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key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board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board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.awt.event.Key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Events are passed to keyevent listen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keyevent generators (Components) or J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The key is 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component has FOCUS (is select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mouse to select a frame or the taskb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Ev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-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-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key is depressed (alt, ctrl, shif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KeyContro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eyController implements a KeyListe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-backs for keyevents are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keyTyped(KeyEvent 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keyPressed(KeyEvent 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keyReleased(KeyEvent 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Typed = any character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process and implement keyEve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4p has a keyboard package with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3-27T01:45:17Z</dcterms:modified>
  <cp:revision>17</cp:revision>
  <dc:subject/>
  <dc:title>Exceptions</dc:title>
</cp:coreProperties>
</file>