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F96-626F-4A04-86BF-1B0F4736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3197-42FB-4162-BFAC-BD8CFB54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318-5C6D-4A20-8DAE-D485E7CB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9C4-2A43-4BC8-886C-07B39A6B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FE6A-E47F-4087-9E73-6AB9A9D1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8383-24A4-46EA-9EC7-99D14E71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42E9-2468-48B1-9D3E-BBCAA0C2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8C8B-F3AD-4022-8DFC-E6EAA37A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9235-717F-4589-9352-22384DE6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7250-F362-4E57-A252-D2EAAE05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CAD7-93FB-487A-BC6B-CD005633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80D-21B1-4148-83F9-BCC6E03D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F6FB-CE5D-48DC-B346-1E58504F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835B-D351-407C-B0F4-35FBA1D3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19F6-AA32-4FCF-A55E-D9F9B312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D627-C0F7-488B-9F23-CAD68AC6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BBF4-04A6-4265-B714-BB6B56AB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3A7-1128-4437-8A52-A2FD083E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C45-6AE1-4611-B91B-CD6247A7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264-2AF7-4BD2-B326-0889643E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72E-588C-4444-A008-1428C6CE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5F9-0335-4685-ADAC-32BB2515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0D2-8D92-4DE6-BA22-1BED4237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A49-9B4B-48CA-91D9-63F12E4A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77F3-F80C-4284-A2EC-474FF37C41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80E7-3395-4377-961A-098CCC810E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mi – Chapter 4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D. Ly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mic –d param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mic –d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ys output goes into the currently attached direc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are attached to the wrong spot, this will NOT 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HelloImplementation_Stub.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be cre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tination o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check your output. Look f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HelloImplementation_Stub.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use a full path name for destin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mic -v1.2 -d c:\lyon\j4p\classes net.rmi.armi.RemoteHello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#4, create a server class for the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RmiHelloImpl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emoteHello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java.rmi.Naming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miHelloServer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ai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String[] args)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ry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System.out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rintl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"Starting server.")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RmiHello hello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miHelloImpl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)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System.out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rintl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Binding remote instance.")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Naming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bind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"RmiHello",hello)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System.out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rintl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"Waiting for calls...")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Exception e)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System.out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rintl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"Error "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e)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binding a na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aming.rebind("RmiHello",hello)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s a reference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miHelloImp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miregist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rvice along with a nam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miregist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means for locating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miHell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rvic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(bind) instances to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miregist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#5: start the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rmiregistry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a DOS box and typ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art rmiregi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using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mand you will open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miregist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a new window. To kill the registry, typ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TRL+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#6: Start the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a DOS box in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miC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rectory and typ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java RmiHelloServ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#7: create the client instanc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emoteHello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java.rmi.Naming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miHelloClient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ai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String[] args)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//System.setSecurityManager(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miSecurityManager())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String rmiUrl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"rmi://localhost/"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* When running the client remotely, put in the n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f the remote server in in place of localhost. *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ry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RmiHello hello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RmiHello)Naming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ookup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"RmiHello")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System.out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rintl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hello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etMsg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))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Exception e)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System.out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rintl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"Error "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e);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#8: run the client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RmiHello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43.4. Wrapping Existing Java Cla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 interface that implemen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m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at has all of the functions you wish to expose remot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 class that implements that interface and that interface onl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ss will have to exte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icastRemote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s in this class will have to throw remote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your class as a member variable of the implementation class and forward all of the remote calls to the functions on that clas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with a NORMAL clas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class HelloWorld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HelloWorld(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static void main(String args[]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elloWorld hw =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HelloWorld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w.testGetMsg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String getMsg(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"Hello world"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void testGetMsg(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stem.out.println(getMsg(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RMI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MI= remote method inv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eans of distributing comp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the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interface RemoteHelloInterface extends Remote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String getMsg() throws RemoteExceptio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void testGetMsg() throws RemoteExceptio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the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class RemoteHello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tends UnicastRemote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s RemoteHelloInterfac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elloWorld hw = new HelloWorld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RemoteHelloImplementation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rows RemoteException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void testGetMsg() throws RemoteException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w.testGetMsg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String getMsg() throws RemoteException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hw.getMsg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the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ublic class RmiHelloServer {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// before you run this program,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// you must start the rmiregistry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// from the classpath roo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ublic static void main(String args[]){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tartServer()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} catch (RemoteException e) {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e.printStackTrace()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} catch (java.net.MalformedURLException e) {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e.printStackTrace()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rivate static void startServer(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throws RemoteException,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java.net.MalformedURLException {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rintln("starting server")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moteHelloInterface ro = new RemoteHelloImplementation()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rintln("binding remote instances")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Naming.rebind("RemoteHello",ro)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rintln("waiting for invocations")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ublic static void println(Object o){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ystem.out.println(o)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the cli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lic class RmiHelloClient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ivate String rmiUrl = nul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ivate RemoteHelloInterface rh = nul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lic RmiHelloClient(String locatio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miUrl = locatio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h = lookupDelgat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 catch (NotBound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.printStackTrac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 catch (java.net.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.printStackTrac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 catch (Remote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.printStackTrac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oking up the deleg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RemoteHelloInterface lookupDelgate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ws NotBoundExcepti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.net.MalformedURLExcepti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Exception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HelloInterface rh = (RemoteHelloInterfa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ing.lookup(rmiUrl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rh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 a main to the cli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static void main(String args[]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miHelloClient rhc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miHelloClient(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rmi://localhost/RemoteHello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hc.testGetMsg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catch (RemoteException 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printStackTrac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the RMIregist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tart rmiregis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is opens up the rmiregistry in its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wn wind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 rmic to create the stub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mic -v1.2 -d . net.rmi.armi.RemoteHello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he class path 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crea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HelloImplementation_Stub.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un your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\lyon\j4p\classes&gt;java net.rmi.armi.RmiHello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ing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remote in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ing for invo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un your cli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MI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06720" y="3341520"/>
            <a:ext cx="23241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t was Hard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You had to author several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iHello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iHello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Hello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MIRegist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ole of the rmiregistry is to locate objects on the h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iregistry is often run on the local host before the server is launch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forget to run the rmiregistry you will throw excep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have to REMEMBER to run the rmiregistry from the correct attach poi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utomating the RMIRegist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you create a singleton pattern class that returns an rmiregistry inst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you can bind to the local registry at run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.rmi.utils.RmiRegistryUt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 class with private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static void restart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isRegistryRunning(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Registry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static Registry getRegistry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r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registr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do we do i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static void startRegistry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ry = new sun.rmi.registry.RegistryIm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egistry.REGISTRY_PORT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catch (Exception 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.message("could not start registry..."+e.getMessage(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.exit(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// the common port is 10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do we use i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vate static void startServe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ows RemoteException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ln("starting server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teHelloInterface ro = new RemoteHelloImplementa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ln("binding remote instances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We don't need Naming any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Naming.rebind("RemoteHello",ro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stry r = RmiRegistryUtils.getRegistr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.rebind("RemoteHello", ro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ln("waiting for invocations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 // now registry is always starte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do we care about automa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miregistry is just on thing that can go wr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computing is already hard enoug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ing from inside the program assures us we have a correct class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less thing to rememb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mic, Use and ab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mic has several o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mic -v1.2 -d c:\lyon\j4p\classes net.rmi.armi.RemoteHello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–d for the destin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urrent attach point is used as the p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mic class p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the rmic classpath u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classpath &lt;path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ic -v1.2 -classpath c:\lyon\j4p\classes -d c:\lyon\j4p\classes net.rmi.armi.RemoteHello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ets you compile from any attach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utomating RM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ideas let you generate rmic stubs automaticall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intellij, for example you can select a compiler o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mi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 stub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133720" y="2743200"/>
          <a:ext cx="41148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743200"/>
                    <a:ext cx="4114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ting RMIC in intelli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92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ting RMIC Programmatical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also invoke RMIC from within Ja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llowing code has a bug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ug the code and get it to work, for hom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.rmi.utils.Compil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– with bu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ublic static void main(String args[]) {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micTester()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ublic static void rmicTester() {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tring version = "-v1.2"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tring classpath = "c:\\lyon\\j4p\\classes"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tring destination = "c:\\lyon\\j4p\\classes"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lass clazz = net.rmi.armi.RemoteHelloImplementation.class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mic(version, classpath, destination, clazz)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ublic static void rmic(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tring version,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tring classpath,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tring destination,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lass clazz) {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tring args[] = {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version,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"-classpath", classpath,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"-d", destination,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lazz.getName(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mic(args)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ublic static void rmic(String[] args) {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un.rmi.rmic.Main.main(args)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invoke rm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time rt = Runtime.getRuntime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args[] =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:\lyon\j4p&gt; rmic -v1.2 -classpath c:\lyon\j4p\classes –d c:\lyon\j4p\classes net.rmi.armi.RemoteHello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.exec(args)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/ returns an instance of a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working java application, what do need to make it remotely invokabl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interface – can we automate thi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iregistry - autom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ic based stubs – almost autom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uldn’t it be nice if we coul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utomate mor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need a way to generate Java code from instances of cla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egate synthesizer creates proxy classes that are composite cla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instances contained in a prox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local proxy != remote prox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egation synthesizer creates a composite class that message forwa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s to R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n interface(s) for the remote class(s). Compile thi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nd compile classes that implement the interf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Java rmic compiler to create stub class(es) from the implementation class(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server application and compile 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miregist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the server appl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steps to R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 client program that accesses the remote interface(s). Compile the client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the client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fine an interface(s) for the remote class(s). Compile this interf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 * Remote interface for the RmiHello application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/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moteHello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mpo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java.rmi.Remot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mpo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java.rmi.RemoteException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miHell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ten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mot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r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tMs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)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row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moteException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Save this in RmiHello.java file and comp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#2. Create a Java class that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/ // implements the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RmiHello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interfac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emoteHello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java.rmi.server.UnicastRemoteObject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miHelloImp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tend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UnicastRemoteObjec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plement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miHello {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String msg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"Hello World"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/** Creates new RmiHelloImpl *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miHelloImpl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row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emoteException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}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String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etMsg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row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emoteException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msg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#3. Use the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rmi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ompiler to create the stub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mic -v1.2 -d . net.rmi.armi.RemoteHello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‘-v1.2’ tells the compiler to compile for the RMI version 1.2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‘-d’ command tell the compiler where to put the generated stub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7:15:20Z</dcterms:created>
  <dc:creator>Jorg Janke</dc:creator>
  <dc:description/>
  <dc:language>en-US</dc:language>
  <cp:lastModifiedBy>dlyon</cp:lastModifiedBy>
  <dcterms:modified xsi:type="dcterms:W3CDTF">2004-10-19T20:31:05Z</dcterms:modified>
  <cp:revision>13</cp:revision>
  <dc:subject>Overview</dc:subject>
  <dc:title>Entity Java Beans</dc:title>
</cp:coreProperties>
</file>