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B781-4AD7-4E22-AADB-CED3A5638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4541-FD4D-43C0-B55A-ED8E6F51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552A-8965-4E84-AD14-0BFF8368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8D24-9B5E-4953-8861-B6C90704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CF7D-9414-4DF0-A6FF-B15E5785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DA06-C6AA-4E83-BEC5-A6A3212E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AB04-DF1F-41BC-9078-C3302A2C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0675-461A-454C-B3BA-0EC75010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0F4C-FEC3-4706-90A8-249EFB87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7AB3-F05C-4B19-8E51-AF48DC66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8CC8-0429-48E3-B14E-EAFF8435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CE46-0501-4A03-9C92-8E1BDC2E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EB6A-970B-4191-B58E-B377A09FF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.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ed vs. Unchec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l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 is optional in the try-catch bl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atch (Exception e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finally { // this is op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ly Rule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 is ALWAYS execu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less the JVM fails for some out-side ca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 is good for house kee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a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database connection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Dig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atic int getNumberOfDigits(String s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 ca[] = s.toCharArray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 nod =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(int i=0; i &lt; ca.length; i++)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 c = ca[i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(Character.isDigit(c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++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no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 a c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class CreditCardException extends Exception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checkCreditCard(String c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ows CreditCardException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getNumberOfDigits(cc) != 1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ow new CreditCardException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 ap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DigitExample.checkCreditCard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123467wefewfewewrwe890123456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.out.println("MO MONEY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catch(CreditCardException cce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.out.println("DEADBEAT!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3808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class SafeArray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vate String names[] =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Tom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Dick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Harry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ring getNameAt(int i) throws OutOfBoundExcepti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utOfBoundException.checkRange(i, 0,names.length-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names[i]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afeArray sa = new SafeArra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(int i=0; i &lt; 5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stem.out.println(sa.getNameAt(i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 catch(OutOfBoundException e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printStackTrac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 OutOfBoundException extends Excepti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static void checkRange(int x, int lowValue, int highValue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rows OutOfBoundExcepti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((x &lt; lowValue) || (x &gt; highValue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row new OutOfBoundException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ptio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ides in Java.l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classes of Exception are checked exce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-catch statements are requir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r error handling until l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{ doTheGoodThing()}catch(Exception e)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not guard the inpu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double invert f(double x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(x==0) System.out.println(“danger x is zero!”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1/x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e our own Ex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CreditCardException extends Exception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atic check (int i) throws CreditCardException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i &lt;= 0) throw new CreditCardException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 the 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checkCard(int ccn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tCardException.check(cc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ch(CreditCardException 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printStackTrac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try-cat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ust throw a checked exception OR try to catch i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class Wow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printCheck(int ccn) throws CreditCardException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.out.println(“checking ccn:”+ccn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ditCardException.check(ccn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ching Multiple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catch (Exception1 e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catch (Exception2 e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ch 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s many catches as you like, 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ust at least on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always catch all exception wi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catch (Exception e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printStackTrac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.store(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Ex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IOException extends Exception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FileIOException extends IOException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UserIOException extends IOException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dlyon</cp:lastModifiedBy>
  <dcterms:modified xsi:type="dcterms:W3CDTF">2004-09-20T19:54:34Z</dcterms:modified>
  <cp:revision>5</cp:revision>
  <dc:subject/>
  <dc:title>Exceptions</dc:title>
</cp:coreProperties>
</file>