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5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2.wmf" ContentType="image/x-wmf"/>
  <Override PartName="/ppt/media/image43.png" ContentType="image/png"/>
  <Override PartName="/ppt/media/image46.png" ContentType="image/png"/>
  <Override PartName="/ppt/media/image47.png" ContentType="image/png"/>
  <Override PartName="/ppt/media/image50.wmf" ContentType="image/x-wmf"/>
  <Override PartName="/ppt/media/image13.wmf" ContentType="image/x-wmf"/>
  <Override PartName="/ppt/media/image48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54.png" ContentType="image/png"/>
  <Override PartName="/ppt/media/image7.wmf" ContentType="image/x-wmf"/>
  <Override PartName="/ppt/media/image37.wmf" ContentType="image/x-wmf"/>
  <Override PartName="/ppt/media/image44.wmf" ContentType="image/x-wmf"/>
  <Override PartName="/ppt/media/image45.png" ContentType="image/png"/>
  <Override PartName="/ppt/media/image30.wmf" ContentType="image/x-wmf"/>
  <Override PartName="/ppt/media/image56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10.wmf" ContentType="image/x-wmf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16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32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write and distribute applications that run on all operating systems, versions, plat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inaries reside in all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inaries for user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228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652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840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228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652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76440" y="151920"/>
            <a:ext cx="64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143000"/>
            <a:ext cx="8458200" cy="152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33480"/>
            <a:ext cx="1079280" cy="1427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83680" y="640224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8DB-426D-4245-B5E1-EDB210DF4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760" y="1471680"/>
            <a:ext cx="121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) Rajkum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6720" y="2895480"/>
            <a:ext cx="281916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343400"/>
            <a:ext cx="807408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ajkumar Buy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chool of Computer Science and Software Engine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ash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lbourne,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ail: rajkumar@dgs.monash.edu.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RL: http://www.dgs.monash.edu.au/~rajku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nternet and Java</a:t>
            </a:r>
            <a:br>
              <a:rPr sz="40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oundations, Programming and Practice 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2120" y="1447920"/>
            <a:ext cx="2089080" cy="2212920"/>
            <a:chOff x="762120" y="1447920"/>
            <a:chExt cx="2089080" cy="22129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057320" y="1987560"/>
              <a:ext cx="1546200" cy="115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665360" y="1447920"/>
              <a:ext cx="385560" cy="498600"/>
              <a:chOff x="1665360" y="1447920"/>
              <a:chExt cx="385560" cy="498600"/>
            </a:xfrm>
          </p:grpSpPr>
          <p:sp>
            <p:nvSpPr>
              <p:cNvPr id="52" name=""/>
              <p:cNvSpPr/>
              <p:nvPr/>
            </p:nvSpPr>
            <p:spPr>
              <a:xfrm>
                <a:off x="1778040" y="1663920"/>
                <a:ext cx="166680" cy="75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1665360" y="1734840"/>
                <a:ext cx="384120" cy="211680"/>
                <a:chOff x="1665360" y="1734840"/>
                <a:chExt cx="384120" cy="211680"/>
              </a:xfrm>
            </p:grpSpPr>
            <p:sp>
              <p:nvSpPr>
                <p:cNvPr id="54" name=""/>
                <p:cNvSpPr/>
                <p:nvPr/>
              </p:nvSpPr>
              <p:spPr>
                <a:xfrm flipV="1">
                  <a:off x="1693800" y="1734840"/>
                  <a:ext cx="6048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1806840" y="173484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908360" y="1735200"/>
                  <a:ext cx="0" cy="131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65360" y="1866960"/>
                  <a:ext cx="334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785960" y="1860480"/>
                  <a:ext cx="39960" cy="8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886040" y="1857600"/>
                  <a:ext cx="36360" cy="83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016360" y="186696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 flipV="1">
                  <a:off x="1932120" y="1734840"/>
                  <a:ext cx="11736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665360" y="1447920"/>
                <a:ext cx="385560" cy="187200"/>
                <a:chOff x="1665360" y="1447920"/>
                <a:chExt cx="385560" cy="1872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95600" y="1548000"/>
                  <a:ext cx="6012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806840" y="1557360"/>
                  <a:ext cx="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908360" y="155268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665360" y="1454400"/>
                  <a:ext cx="3348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785960" y="1447920"/>
                  <a:ext cx="3996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86040" y="1451160"/>
                  <a:ext cx="3636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16360" y="1454400"/>
                  <a:ext cx="3168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1933200" y="1548000"/>
                  <a:ext cx="11772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2465640" y="1752840"/>
              <a:ext cx="385560" cy="495000"/>
              <a:chOff x="2465640" y="1752840"/>
              <a:chExt cx="385560" cy="495000"/>
            </a:xfrm>
          </p:grpSpPr>
          <p:sp>
            <p:nvSpPr>
              <p:cNvPr id="72" name=""/>
              <p:cNvSpPr/>
              <p:nvPr/>
            </p:nvSpPr>
            <p:spPr>
              <a:xfrm>
                <a:off x="2578320" y="1968480"/>
                <a:ext cx="16812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2465640" y="2038320"/>
                <a:ext cx="383760" cy="209520"/>
                <a:chOff x="2465640" y="2038320"/>
                <a:chExt cx="383760" cy="209520"/>
              </a:xfrm>
            </p:grpSpPr>
            <p:sp>
              <p:nvSpPr>
                <p:cNvPr id="74" name=""/>
                <p:cNvSpPr/>
                <p:nvPr/>
              </p:nvSpPr>
              <p:spPr>
                <a:xfrm flipV="1">
                  <a:off x="2495520" y="2039760"/>
                  <a:ext cx="6192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2606760" y="2041560"/>
                  <a:ext cx="0" cy="12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2705040" y="203832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465640" y="217188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586240" y="2163960"/>
                  <a:ext cx="38160" cy="83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87760" y="2160720"/>
                  <a:ext cx="3348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16280" y="217188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 flipV="1">
                  <a:off x="2731680" y="2039760"/>
                  <a:ext cx="11772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65640" y="1752840"/>
                <a:ext cx="385560" cy="187200"/>
                <a:chOff x="2465640" y="1752840"/>
                <a:chExt cx="385560" cy="1872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495520" y="1852560"/>
                  <a:ext cx="619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06760" y="186048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05040" y="185760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465640" y="175752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586240" y="1752840"/>
                  <a:ext cx="38160" cy="83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87760" y="1755720"/>
                  <a:ext cx="3348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16280" y="175752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2733840" y="1852560"/>
                  <a:ext cx="11736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2465640" y="2847960"/>
              <a:ext cx="385560" cy="496800"/>
              <a:chOff x="2465640" y="2847960"/>
              <a:chExt cx="385560" cy="496800"/>
            </a:xfrm>
          </p:grpSpPr>
          <p:sp>
            <p:nvSpPr>
              <p:cNvPr id="92" name=""/>
              <p:cNvSpPr/>
              <p:nvPr/>
            </p:nvSpPr>
            <p:spPr>
              <a:xfrm>
                <a:off x="2578320" y="3063960"/>
                <a:ext cx="16812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465640" y="3133800"/>
                <a:ext cx="383760" cy="210960"/>
                <a:chOff x="2465640" y="3133800"/>
                <a:chExt cx="383760" cy="210960"/>
              </a:xfrm>
            </p:grpSpPr>
            <p:sp>
              <p:nvSpPr>
                <p:cNvPr id="94" name=""/>
                <p:cNvSpPr/>
                <p:nvPr/>
              </p:nvSpPr>
              <p:spPr>
                <a:xfrm flipV="1">
                  <a:off x="2495520" y="3135240"/>
                  <a:ext cx="6192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2606760" y="313488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705040" y="313380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65640" y="326700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586240" y="3259080"/>
                  <a:ext cx="3816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87760" y="3257640"/>
                  <a:ext cx="3348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16280" y="326700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2731680" y="3135240"/>
                  <a:ext cx="11772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465640" y="2847960"/>
                <a:ext cx="385560" cy="187560"/>
                <a:chOff x="2465640" y="2847960"/>
                <a:chExt cx="385560" cy="1875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495520" y="2946600"/>
                  <a:ext cx="6192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606760" y="295776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705040" y="295452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65640" y="285444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586240" y="2847960"/>
                  <a:ext cx="3816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687760" y="2851200"/>
                  <a:ext cx="3348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16280" y="2854440"/>
                  <a:ext cx="31680" cy="71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2733840" y="2946600"/>
                  <a:ext cx="11736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676520" y="3162240"/>
              <a:ext cx="384120" cy="498600"/>
              <a:chOff x="1676520" y="3162240"/>
              <a:chExt cx="384120" cy="498600"/>
            </a:xfrm>
          </p:grpSpPr>
          <p:sp>
            <p:nvSpPr>
              <p:cNvPr id="112" name=""/>
              <p:cNvSpPr/>
              <p:nvPr/>
            </p:nvSpPr>
            <p:spPr>
              <a:xfrm>
                <a:off x="1785960" y="3381480"/>
                <a:ext cx="171720" cy="73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676520" y="3447720"/>
                <a:ext cx="384120" cy="213120"/>
                <a:chOff x="1676520" y="3447720"/>
                <a:chExt cx="384120" cy="21312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1704960" y="3449520"/>
                  <a:ext cx="6048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819440" y="345096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917720" y="3447720"/>
                  <a:ext cx="0" cy="133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76520" y="3581640"/>
                  <a:ext cx="3348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798920" y="3576600"/>
                  <a:ext cx="3780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97200" y="3573360"/>
                  <a:ext cx="33480" cy="8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24280" y="3581640"/>
                  <a:ext cx="34920" cy="72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1944720" y="3449520"/>
                  <a:ext cx="11592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676520" y="3162240"/>
                <a:ext cx="384120" cy="187560"/>
                <a:chOff x="1676520" y="3162240"/>
                <a:chExt cx="384120" cy="187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06760" y="3262320"/>
                  <a:ext cx="601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819440" y="327348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17720" y="326880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676520" y="3170160"/>
                  <a:ext cx="334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798920" y="3162240"/>
                  <a:ext cx="37800" cy="8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897200" y="3168720"/>
                  <a:ext cx="3348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24280" y="3170160"/>
                  <a:ext cx="3492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1944720" y="3262320"/>
                  <a:ext cx="1159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836640" y="2909880"/>
              <a:ext cx="387000" cy="495360"/>
              <a:chOff x="836640" y="2909880"/>
              <a:chExt cx="38700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947880" y="3125880"/>
                <a:ext cx="16992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836640" y="3195720"/>
                <a:ext cx="387000" cy="209520"/>
                <a:chOff x="836640" y="3195720"/>
                <a:chExt cx="387000" cy="209520"/>
              </a:xfrm>
            </p:grpSpPr>
            <p:sp>
              <p:nvSpPr>
                <p:cNvPr id="134" name=""/>
                <p:cNvSpPr/>
                <p:nvPr/>
              </p:nvSpPr>
              <p:spPr>
                <a:xfrm flipV="1">
                  <a:off x="866880" y="3196800"/>
                  <a:ext cx="60480" cy="135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979560" y="3198960"/>
                  <a:ext cx="0" cy="12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1079640" y="319572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36640" y="3326040"/>
                  <a:ext cx="3492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59040" y="3321000"/>
                  <a:ext cx="3960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7320" y="3318120"/>
                  <a:ext cx="3672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840" y="3326040"/>
                  <a:ext cx="334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1104480" y="3196800"/>
                  <a:ext cx="119160" cy="135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36640" y="2909880"/>
                <a:ext cx="387000" cy="184320"/>
                <a:chOff x="836640" y="2909880"/>
                <a:chExt cx="387000" cy="184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68320" y="3008520"/>
                  <a:ext cx="6048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979560" y="3017880"/>
                  <a:ext cx="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79640" y="3014640"/>
                  <a:ext cx="0" cy="79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36640" y="2914560"/>
                  <a:ext cx="3492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959040" y="2909880"/>
                  <a:ext cx="3960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57320" y="2913120"/>
                  <a:ext cx="3672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85840" y="2914560"/>
                  <a:ext cx="3348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104480" y="3008520"/>
                  <a:ext cx="11916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762120" y="1801800"/>
              <a:ext cx="385560" cy="495360"/>
              <a:chOff x="762120" y="1801800"/>
              <a:chExt cx="385560" cy="495360"/>
            </a:xfrm>
          </p:grpSpPr>
          <p:sp>
            <p:nvSpPr>
              <p:cNvPr id="152" name=""/>
              <p:cNvSpPr/>
              <p:nvPr/>
            </p:nvSpPr>
            <p:spPr>
              <a:xfrm>
                <a:off x="874800" y="2017800"/>
                <a:ext cx="168480" cy="76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762120" y="2087640"/>
                <a:ext cx="384120" cy="209520"/>
                <a:chOff x="762120" y="2087640"/>
                <a:chExt cx="384120" cy="20952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792360" y="2089080"/>
                  <a:ext cx="6012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905040" y="2088720"/>
                  <a:ext cx="0" cy="12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1005120" y="2087640"/>
                  <a:ext cx="0" cy="13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2120" y="222084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4520" y="2212920"/>
                  <a:ext cx="3636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984240" y="2211480"/>
                  <a:ext cx="3492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13120" y="2220840"/>
                  <a:ext cx="31680" cy="71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1028880" y="2089080"/>
                  <a:ext cx="117360" cy="1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2120" y="1801800"/>
                <a:ext cx="385560" cy="187560"/>
                <a:chOff x="762120" y="1801800"/>
                <a:chExt cx="385560" cy="1875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3800" y="1901880"/>
                  <a:ext cx="6048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05040" y="1911600"/>
                  <a:ext cx="0" cy="75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05120" y="1906560"/>
                  <a:ext cx="0" cy="8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2120" y="1808280"/>
                  <a:ext cx="3168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84520" y="1801800"/>
                  <a:ext cx="36360" cy="84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84240" y="1805040"/>
                  <a:ext cx="34920" cy="85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13120" y="1808280"/>
                  <a:ext cx="31680" cy="73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1029960" y="1901880"/>
                  <a:ext cx="11772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144792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big_ieee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85716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cslogo" descr=""/>
          <p:cNvPicPr/>
          <p:nvPr/>
        </p:nvPicPr>
        <p:blipFill>
          <a:blip r:embed="rId4"/>
          <a:stretch/>
        </p:blipFill>
        <p:spPr>
          <a:xfrm>
            <a:off x="495288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18880" y="2282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Too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rowsers- A tool used to view documents on the WWW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servers - Machines which run the HTTP-server Software that respond to HTTP requests which it  receiv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ng Tools - Editors specially made for editing HTML docu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ters -Tools to convert legacy documents to HTML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cripting -Languages used for scrip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AIS- Wide Area Information Servers (WAIS) for indexing and doing full text searche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keyword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th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a clas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5" name=""/>
          <p:cNvSpPr/>
          <p:nvPr/>
        </p:nvSpPr>
        <p:spPr>
          <a:xfrm>
            <a:off x="1971720" y="1542960"/>
            <a:ext cx="67942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ss Employee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ring nam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uble salar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raise(double dd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ary += salary * dd/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Employee ( … ) { … 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n: cannot create class Manager as a subclass of class Employee (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ll are equ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962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bstract classes and interfac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696680" y="199404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bstract clas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have both implemented and non-implemente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fac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only non-implemente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concrete classes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all their method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962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ample abstract clas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9" name=""/>
          <p:cNvSpPr/>
          <p:nvPr/>
        </p:nvSpPr>
        <p:spPr>
          <a:xfrm>
            <a:off x="1731960" y="1374840"/>
            <a:ext cx="68709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ss TwoDimensionalGeoFigure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double area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double perimeter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printInfo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OutlineColor(Color cc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code to set the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InsideColor(Color cc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code to set the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962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ample interfac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1" name=""/>
          <p:cNvSpPr/>
          <p:nvPr/>
        </p:nvSpPr>
        <p:spPr>
          <a:xfrm>
            <a:off x="1992240" y="1519200"/>
            <a:ext cx="6937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onceToMouseClick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mouseDown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mouseUp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mouseDoubleClick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ConcreteMouseClic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plem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ToMouse Click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all above methods implemented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7134120" cy="58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ceptions (error handling)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3" name=""/>
          <p:cNvSpPr/>
          <p:nvPr/>
        </p:nvSpPr>
        <p:spPr>
          <a:xfrm>
            <a:off x="1584360" y="1596960"/>
            <a:ext cx="3646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de without exce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 = 7, b = 0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( b != 0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 = a/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se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b is zer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276880" y="2301840"/>
            <a:ext cx="3646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de with exce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 = 7, b = 0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 = a/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ArithmeticException e )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b is zer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5233680" y="2057400"/>
            <a:ext cx="4680" cy="430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387520" y="1403280"/>
            <a:ext cx="57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ice way to handle errors in Java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823760" y="351000"/>
            <a:ext cx="713412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ceptions (cont’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8" name=""/>
          <p:cNvSpPr/>
          <p:nvPr/>
        </p:nvSpPr>
        <p:spPr>
          <a:xfrm>
            <a:off x="2054160" y="1366920"/>
            <a:ext cx="65642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 = 7, b = 0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 = a/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/ more code .. reading from 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ArithmeticException e )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b is zer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IOException e 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“Can’t read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finall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ytem.out.println(“Closing fil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/ code to close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5549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methods throwing excep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0" name=""/>
          <p:cNvSpPr/>
          <p:nvPr/>
        </p:nvSpPr>
        <p:spPr>
          <a:xfrm>
            <a:off x="990720" y="1981080"/>
            <a:ext cx="7475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int divide (int x, int y 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hrow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ithmeticException {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y == 0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ro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ew ArithmeticException(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a/b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divid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698480" y="151920"/>
            <a:ext cx="74455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efining your own exception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2" name=""/>
          <p:cNvSpPr/>
          <p:nvPr/>
        </p:nvSpPr>
        <p:spPr>
          <a:xfrm>
            <a:off x="1557360" y="2906640"/>
            <a:ext cx="7475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int divide (int x, int y ) throws MyException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y == 0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w new MyException(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a/b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divid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824120" y="1422360"/>
            <a:ext cx="651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yExcep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xtends ArithmeticException {}f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485720" y="3580920"/>
            <a:ext cx="6438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UI Programming in Java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AWT and Event Handling)</a:t>
            </a:r>
            <a:br>
              <a:rPr sz="2000"/>
            </a:b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WT - Abstract Windowing       Toolki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Windowing Interface on Multiple Platfor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pports functions common to all window 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s Underlying Native Window system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WT provi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UI wid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vent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tainers for wid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yout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aphic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does the Web work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19280" y="17330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-Designed around Client/Server Architect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Clients ( Web Browsers ) -send requests for documents to any Web Serv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Server -Program that responds to  HTTP request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lin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client connects to the specified Web Serv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e server responds by sending the information asked f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e Browser formats the received HTML data and displays i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WT - Abstract Window Toolki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 GUI - preserves native look &amp; fe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andard GUI Components (buttons…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tainers - Panels, Frames, Dialog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aphics class for custom draw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youts responsible for actual positioning of component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orderLayout, GridLayout, FlowLayout, null layo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ding Components via Layou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setLayout(new BorderLayout(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Add text field to top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dd("North",new TextField(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Create the panel with buttons at the bottom..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anel p = new Panel();   // FlowLayout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.add(new Button("OK"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.add(new Button("Cancel")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dd("South",p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ding Components via Layou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842" name="" descr=""/>
          <p:cNvPicPr/>
          <p:nvPr/>
        </p:nvPicPr>
        <p:blipFill>
          <a:blip r:embed="rId1"/>
          <a:stretch/>
        </p:blipFill>
        <p:spPr>
          <a:xfrm>
            <a:off x="190440" y="175248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142920" y="4114800"/>
            <a:ext cx="2460600" cy="2451240"/>
          </a:xfrm>
          <a:prstGeom prst="rect">
            <a:avLst/>
          </a:prstGeom>
          <a:ln w="0">
            <a:noFill/>
          </a:ln>
        </p:spPr>
      </p:pic>
      <p:pic>
        <p:nvPicPr>
          <p:cNvPr id="1844" name="" descr=""/>
          <p:cNvPicPr/>
          <p:nvPr/>
        </p:nvPicPr>
        <p:blipFill>
          <a:blip r:embed="rId3"/>
          <a:stretch/>
        </p:blipFill>
        <p:spPr>
          <a:xfrm>
            <a:off x="2209680" y="1704960"/>
            <a:ext cx="2184480" cy="2003400"/>
          </a:xfrm>
          <a:prstGeom prst="rect">
            <a:avLst/>
          </a:prstGeom>
          <a:ln w="0">
            <a:noFill/>
          </a:ln>
        </p:spPr>
      </p:pic>
      <p:pic>
        <p:nvPicPr>
          <p:cNvPr id="1845" name="" descr=""/>
          <p:cNvPicPr/>
          <p:nvPr/>
        </p:nvPicPr>
        <p:blipFill>
          <a:blip r:embed="rId4"/>
          <a:stretch/>
        </p:blipFill>
        <p:spPr>
          <a:xfrm>
            <a:off x="2933640" y="4076640"/>
            <a:ext cx="2489400" cy="2718000"/>
          </a:xfrm>
          <a:prstGeom prst="rect">
            <a:avLst/>
          </a:prstGeom>
          <a:ln w="0">
            <a:noFill/>
          </a:ln>
        </p:spPr>
      </p:pic>
      <p:pic>
        <p:nvPicPr>
          <p:cNvPr id="1846" name="" descr=""/>
          <p:cNvPicPr/>
          <p:nvPr/>
        </p:nvPicPr>
        <p:blipFill>
          <a:blip r:embed="rId5"/>
          <a:stretch/>
        </p:blipFill>
        <p:spPr>
          <a:xfrm>
            <a:off x="6800760" y="1666800"/>
            <a:ext cx="1793880" cy="1917720"/>
          </a:xfrm>
          <a:prstGeom prst="rect">
            <a:avLst/>
          </a:prstGeom>
          <a:ln w="0">
            <a:noFill/>
          </a:ln>
        </p:spPr>
      </p:pic>
      <p:pic>
        <p:nvPicPr>
          <p:cNvPr id="1847" name="" descr=""/>
          <p:cNvPicPr/>
          <p:nvPr/>
        </p:nvPicPr>
        <p:blipFill>
          <a:blip r:embed="rId6"/>
          <a:stretch/>
        </p:blipFill>
        <p:spPr>
          <a:xfrm>
            <a:off x="4691160" y="167652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1848" name="" descr=""/>
          <p:cNvPicPr/>
          <p:nvPr/>
        </p:nvPicPr>
        <p:blipFill>
          <a:blip r:embed="rId7"/>
          <a:stretch/>
        </p:blipFill>
        <p:spPr>
          <a:xfrm>
            <a:off x="5638680" y="4114800"/>
            <a:ext cx="2832120" cy="2451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4455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uilding Graphical User Interfac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370160" y="189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ort java.awt.*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ssemble the GU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UI component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components (e.g., Button, TextFie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s (Frame, Pa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the positioning of the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Layout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ttach ev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GUI prog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52" name=""/>
          <p:cNvSpPr/>
          <p:nvPr/>
        </p:nvSpPr>
        <p:spPr>
          <a:xfrm>
            <a:off x="1371600" y="1706400"/>
            <a:ext cx="7594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Gui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[] s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f = new  Frame (“My Frame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Field tf = new TextField(“George”, 20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setLayout(new FlowLayout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add(b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add(t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setSize(300, 30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setVisible(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3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08800" cy="4443480"/>
          </a:xfrm>
          <a:prstGeom prst="rect">
            <a:avLst/>
          </a:prstGeom>
          <a:ln w="0">
            <a:noFill/>
          </a:ln>
        </p:spPr>
      </p:pic>
      <p:sp>
        <p:nvSpPr>
          <p:cNvPr id="1854" name=""/>
          <p:cNvSpPr/>
          <p:nvPr/>
        </p:nvSpPr>
        <p:spPr>
          <a:xfrm>
            <a:off x="2598840" y="573120"/>
            <a:ext cx="394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v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56" name=""/>
          <p:cNvSpPr/>
          <p:nvPr/>
        </p:nvSpPr>
        <p:spPr>
          <a:xfrm>
            <a:off x="3212640" y="2211480"/>
            <a:ext cx="448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addActionListe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  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1"/>
          <a:stretch/>
        </p:blipFill>
        <p:spPr>
          <a:xfrm>
            <a:off x="6827760" y="2352600"/>
            <a:ext cx="426960" cy="39996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3084120" y="3583080"/>
            <a:ext cx="31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 to add a 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4443480" y="2806560"/>
            <a:ext cx="92160" cy="80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269040" y="3583080"/>
            <a:ext cx="190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en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 flipV="1">
            <a:off x="7062480" y="2843280"/>
            <a:ext cx="73080" cy="80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879200" y="341784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2521080" y="2695680"/>
            <a:ext cx="787320" cy="76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195000" y="5143680"/>
            <a:ext cx="470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.addWindowListe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  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2"/>
          <a:stretch/>
        </p:blipFill>
        <p:spPr>
          <a:xfrm>
            <a:off x="6997680" y="5202360"/>
            <a:ext cx="426960" cy="39996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7135920" y="4070520"/>
            <a:ext cx="73080" cy="104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498920" y="4033800"/>
            <a:ext cx="493920" cy="1135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484360" y="4510080"/>
            <a:ext cx="824040" cy="750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932840" y="4006800"/>
            <a:ext cx="96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343400" y="228600"/>
            <a:ext cx="457200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v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6767640" cy="39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ach GUI component (e.g., a Button) that wishes to respond to an event type (e.g., click), must register an event handler, called a Listener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 listener is an object of a "Listener" interface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Listener class can be created by subclassing (through "implements") one of Listener interfaces (all listener inrefaces are in the java.awt.event package = &gt; must import java.awt.event.*; 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 registration of the listener is done by a call to a method such as addActionListener(&lt;Listener Object&gt;). Each GUI component class has one or more such add…() methods, where applicable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stener Interfa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73" name=""/>
          <p:cNvSpPr/>
          <p:nvPr/>
        </p:nvSpPr>
        <p:spPr>
          <a:xfrm>
            <a:off x="2036880" y="1833480"/>
            <a:ext cx="6280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 NAME (IN JAVA.AWT.EVEN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1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2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m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3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Motion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4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5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6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7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ustment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8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9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10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11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stener Interfa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75" name=""/>
          <p:cNvSpPr/>
          <p:nvPr/>
        </p:nvSpPr>
        <p:spPr>
          <a:xfrm>
            <a:off x="1587600" y="2100240"/>
            <a:ext cx="710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listener interface has methods that need to be implemented for handling different kinds of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41600" y="3273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514520" y="439092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seDragg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useEvent) - Invoked when a mouse button is pressed on a component and then dragge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seMov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useEvent) - Invoked when the mouse button has been moved on a component (with no buttons dow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549440" y="3346560"/>
            <a:ext cx="75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useMotionListe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 has two method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35080" y="1530360"/>
            <a:ext cx="8750160" cy="5245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6bf69"/>
            </a:solidFill>
            <a:miter/>
          </a:ln>
          <a:effectLst>
            <a:outerShdw dist="107932" dir="2700000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17680" y="2965320"/>
            <a:ext cx="1612800" cy="1300320"/>
            <a:chOff x="517680" y="2965320"/>
            <a:chExt cx="1612800" cy="1300320"/>
          </a:xfrm>
        </p:grpSpPr>
        <p:grpSp>
          <p:nvGrpSpPr>
            <p:cNvPr id="398" name=""/>
            <p:cNvGrpSpPr/>
            <p:nvPr/>
          </p:nvGrpSpPr>
          <p:grpSpPr>
            <a:xfrm>
              <a:off x="689040" y="2965320"/>
              <a:ext cx="1195200" cy="898200"/>
              <a:chOff x="689040" y="2965320"/>
              <a:chExt cx="1195200" cy="8982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89040" y="3014640"/>
                <a:ext cx="311040" cy="843120"/>
                <a:chOff x="689040" y="3014640"/>
                <a:chExt cx="311040" cy="8431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689040" y="3057480"/>
                  <a:ext cx="213840" cy="703440"/>
                  <a:chOff x="689040" y="3057480"/>
                  <a:chExt cx="213840" cy="7034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704880" y="3057480"/>
                    <a:ext cx="19368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443">
                        <a:moveTo>
                          <a:pt x="121" y="442"/>
                        </a:moveTo>
                        <a:lnTo>
                          <a:pt x="29" y="416"/>
                        </a:lnTo>
                        <a:lnTo>
                          <a:pt x="16" y="243"/>
                        </a:lnTo>
                        <a:lnTo>
                          <a:pt x="0" y="36"/>
                        </a:lnTo>
                        <a:lnTo>
                          <a:pt x="76" y="0"/>
                        </a:lnTo>
                        <a:lnTo>
                          <a:pt x="121" y="442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689040" y="3143160"/>
                    <a:ext cx="213840" cy="596880"/>
                    <a:chOff x="689040" y="3143160"/>
                    <a:chExt cx="213840" cy="596880"/>
                  </a:xfrm>
                </p:grpSpPr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689040" y="3143160"/>
                      <a:ext cx="213840" cy="596880"/>
                      <a:chOff x="689040" y="3143160"/>
                      <a:chExt cx="213840" cy="596880"/>
                    </a:xfrm>
                  </p:grpSpPr>
                  <p:grpSp>
                    <p:nvGrpSpPr>
                      <p:cNvPr id="404" name=""/>
                      <p:cNvGrpSpPr/>
                      <p:nvPr/>
                    </p:nvGrpSpPr>
                    <p:grpSpPr>
                      <a:xfrm>
                        <a:off x="703440" y="3381480"/>
                        <a:ext cx="199440" cy="358560"/>
                        <a:chOff x="703440" y="3381480"/>
                        <a:chExt cx="199440" cy="358560"/>
                      </a:xfrm>
                    </p:grpSpPr>
                    <p:grpSp>
                      <p:nvGrpSpPr>
                        <p:cNvPr id="405" name=""/>
                        <p:cNvGrpSpPr/>
                        <p:nvPr/>
                      </p:nvGrpSpPr>
                      <p:grpSpPr>
                        <a:xfrm>
                          <a:off x="715680" y="3543120"/>
                          <a:ext cx="187200" cy="196920"/>
                          <a:chOff x="715680" y="3543120"/>
                          <a:chExt cx="187200" cy="196920"/>
                        </a:xfrm>
                      </p:grpSpPr>
                      <p:sp>
                        <p:nvSpPr>
                          <p:cNvPr id="406" name=""/>
                          <p:cNvSpPr/>
                          <p:nvPr/>
                        </p:nvSpPr>
                        <p:spPr>
                          <a:xfrm flipH="1" flipV="1">
                            <a:off x="726840" y="3678120"/>
                            <a:ext cx="176040" cy="61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" name=""/>
                          <p:cNvSpPr/>
                          <p:nvPr/>
                        </p:nvSpPr>
                        <p:spPr>
                          <a:xfrm flipH="1" flipV="1">
                            <a:off x="725400" y="3650760"/>
                            <a:ext cx="176400" cy="57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/>
                          <p:nvPr/>
                        </p:nvSpPr>
                        <p:spPr>
                          <a:xfrm flipH="1" flipV="1">
                            <a:off x="720360" y="3625560"/>
                            <a:ext cx="176040" cy="52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400" bIns="5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9" name=""/>
                          <p:cNvSpPr/>
                          <p:nvPr/>
                        </p:nvSpPr>
                        <p:spPr>
                          <a:xfrm flipH="1" flipV="1">
                            <a:off x="718920" y="3595320"/>
                            <a:ext cx="176040" cy="507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0" name=""/>
                          <p:cNvSpPr/>
                          <p:nvPr/>
                        </p:nvSpPr>
                        <p:spPr>
                          <a:xfrm flipH="1" flipV="1">
                            <a:off x="715680" y="3568320"/>
                            <a:ext cx="174600" cy="49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 flipH="1" flipV="1">
                            <a:off x="716040" y="3543120"/>
                            <a:ext cx="171360" cy="42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 flipH="1" flipV="1">
                          <a:off x="711360" y="3484440"/>
                          <a:ext cx="180720" cy="3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flipH="1" flipV="1">
                          <a:off x="711000" y="3457080"/>
                          <a:ext cx="174600" cy="3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flipH="1" flipV="1">
                          <a:off x="709560" y="3427200"/>
                          <a:ext cx="17640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 flipH="1">
                          <a:off x="708120" y="3413160"/>
                          <a:ext cx="1728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flipH="1">
                          <a:off x="703440" y="3381480"/>
                          <a:ext cx="17136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7" name=""/>
                      <p:cNvGrpSpPr/>
                      <p:nvPr/>
                    </p:nvGrpSpPr>
                    <p:grpSpPr>
                      <a:xfrm>
                        <a:off x="689040" y="3143160"/>
                        <a:ext cx="180720" cy="214560"/>
                        <a:chOff x="689040" y="3143160"/>
                        <a:chExt cx="180720" cy="214560"/>
                      </a:xfrm>
                    </p:grpSpPr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 flipH="1">
                          <a:off x="703080" y="3349800"/>
                          <a:ext cx="16668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>
                          <a:off x="701280" y="3322800"/>
                          <a:ext cx="165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>
                          <a:off x="700200" y="3290760"/>
                          <a:ext cx="16344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flipH="1">
                          <a:off x="696960" y="3262320"/>
                          <a:ext cx="16200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>
                          <a:off x="696960" y="3232080"/>
                          <a:ext cx="156960" cy="9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>
                          <a:off x="691920" y="3205080"/>
                          <a:ext cx="158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flipH="1">
                          <a:off x="692280" y="3174840"/>
                          <a:ext cx="15696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 flipH="1">
                          <a:off x="689040" y="3143160"/>
                          <a:ext cx="15408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712440" y="3511440"/>
                      <a:ext cx="174600" cy="3816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826920" y="3014640"/>
                  <a:ext cx="173160" cy="843120"/>
                  <a:chOff x="826920" y="3014640"/>
                  <a:chExt cx="173160" cy="8431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826920" y="3014640"/>
                    <a:ext cx="1731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531">
                        <a:moveTo>
                          <a:pt x="108" y="530"/>
                        </a:moveTo>
                        <a:lnTo>
                          <a:pt x="47" y="510"/>
                        </a:lnTo>
                        <a:lnTo>
                          <a:pt x="41" y="504"/>
                        </a:lnTo>
                        <a:lnTo>
                          <a:pt x="0" y="30"/>
                        </a:lnTo>
                        <a:lnTo>
                          <a:pt x="8" y="23"/>
                        </a:lnTo>
                        <a:lnTo>
                          <a:pt x="63" y="0"/>
                        </a:lnTo>
                        <a:lnTo>
                          <a:pt x="57" y="10"/>
                        </a:lnTo>
                        <a:lnTo>
                          <a:pt x="57" y="16"/>
                        </a:lnTo>
                        <a:lnTo>
                          <a:pt x="108" y="53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10380000">
                    <a:off x="891720" y="3806280"/>
                    <a:ext cx="12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529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52942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0" name=""/>
              <p:cNvSpPr/>
              <p:nvPr/>
            </p:nvSpPr>
            <p:spPr>
              <a:xfrm>
                <a:off x="1063800" y="3092400"/>
                <a:ext cx="715680" cy="631800"/>
              </a:xfrm>
              <a:custGeom>
                <a:avLst/>
                <a:gdLst/>
                <a:ahLst/>
                <a:rect l="l" t="t" r="r" b="b"/>
                <a:pathLst>
                  <a:path w="451" h="398">
                    <a:moveTo>
                      <a:pt x="450" y="345"/>
                    </a:moveTo>
                    <a:lnTo>
                      <a:pt x="29" y="397"/>
                    </a:lnTo>
                    <a:lnTo>
                      <a:pt x="0" y="31"/>
                    </a:lnTo>
                    <a:lnTo>
                      <a:pt x="426" y="0"/>
                    </a:lnTo>
                    <a:lnTo>
                      <a:pt x="450" y="34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928800" y="2965320"/>
                <a:ext cx="955440" cy="898200"/>
                <a:chOff x="928800" y="2965320"/>
                <a:chExt cx="955440" cy="89820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928800" y="2965320"/>
                  <a:ext cx="955440" cy="898200"/>
                  <a:chOff x="928800" y="2965320"/>
                  <a:chExt cx="955440" cy="89820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928800" y="2965320"/>
                    <a:ext cx="955440" cy="898200"/>
                    <a:chOff x="928800" y="2965320"/>
                    <a:chExt cx="955440" cy="89820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928800" y="2965320"/>
                      <a:ext cx="946080" cy="89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6" h="561">
                          <a:moveTo>
                            <a:pt x="578" y="497"/>
                          </a:moveTo>
                          <a:lnTo>
                            <a:pt x="527" y="506"/>
                          </a:lnTo>
                          <a:lnTo>
                            <a:pt x="460" y="518"/>
                          </a:lnTo>
                          <a:lnTo>
                            <a:pt x="391" y="530"/>
                          </a:lnTo>
                          <a:lnTo>
                            <a:pt x="308" y="539"/>
                          </a:lnTo>
                          <a:lnTo>
                            <a:pt x="250" y="545"/>
                          </a:lnTo>
                          <a:lnTo>
                            <a:pt x="159" y="554"/>
                          </a:lnTo>
                          <a:lnTo>
                            <a:pt x="74" y="559"/>
                          </a:lnTo>
                          <a:lnTo>
                            <a:pt x="53" y="560"/>
                          </a:lnTo>
                          <a:lnTo>
                            <a:pt x="48" y="560"/>
                          </a:lnTo>
                          <a:lnTo>
                            <a:pt x="44" y="558"/>
                          </a:lnTo>
                          <a:lnTo>
                            <a:pt x="41" y="554"/>
                          </a:lnTo>
                          <a:lnTo>
                            <a:pt x="41" y="549"/>
                          </a:lnTo>
                          <a:lnTo>
                            <a:pt x="0" y="41"/>
                          </a:lnTo>
                          <a:lnTo>
                            <a:pt x="3" y="32"/>
                          </a:lnTo>
                          <a:lnTo>
                            <a:pt x="9" y="28"/>
                          </a:lnTo>
                          <a:lnTo>
                            <a:pt x="198" y="19"/>
                          </a:lnTo>
                          <a:lnTo>
                            <a:pt x="384" y="10"/>
                          </a:lnTo>
                          <a:lnTo>
                            <a:pt x="555" y="0"/>
                          </a:lnTo>
                          <a:lnTo>
                            <a:pt x="565" y="13"/>
                          </a:lnTo>
                          <a:lnTo>
                            <a:pt x="595" y="477"/>
                          </a:lnTo>
                          <a:lnTo>
                            <a:pt x="578" y="497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10380000">
                      <a:off x="997560" y="3836520"/>
                      <a:ext cx="34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22" y="44"/>
                          </a:moveTo>
                          <a:arcTo wR="10800" hR="10800" stAng="-5711666" swAng="52419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22" y="44"/>
                          </a:moveTo>
                          <a:arcTo wR="10800" hR="10800" stAng="-5711666" swAng="524192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10380000">
                      <a:off x="1801800" y="3702600"/>
                      <a:ext cx="792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66" y="9607"/>
                          </a:moveTo>
                          <a:arcTo wR="10800" hR="10800" stAng="-10419588" swAng="48821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66" y="9607"/>
                          </a:moveTo>
                          <a:arcTo wR="10800" hR="10800" stAng="-10419588" swAng="488215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10380000">
                      <a:off x="1802520" y="2967480"/>
                      <a:ext cx="255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341" y="21501"/>
                          </a:moveTo>
                          <a:arcTo wR="10800" hR="10800" stAng="5865910" swAng="55018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341" y="21501"/>
                          </a:moveTo>
                          <a:arcTo wR="10800" hR="10800" stAng="5865910" swAng="550183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1055520" y="3084480"/>
                    <a:ext cx="730440" cy="639720"/>
                    <a:chOff x="1055520" y="3084480"/>
                    <a:chExt cx="730440" cy="63972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1055520" y="3084480"/>
                      <a:ext cx="730440" cy="639720"/>
                      <a:chOff x="1055520" y="3084480"/>
                      <a:chExt cx="730440" cy="63972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1109520" y="3639960"/>
                        <a:ext cx="6685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1" h="53">
                            <a:moveTo>
                              <a:pt x="420" y="0"/>
                            </a:moveTo>
                            <a:lnTo>
                              <a:pt x="0" y="52"/>
                            </a:lnTo>
                            <a:lnTo>
                              <a:pt x="9" y="51"/>
                            </a:lnTo>
                            <a:lnTo>
                              <a:pt x="411" y="2"/>
                            </a:lnTo>
                            <a:lnTo>
                              <a:pt x="42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1055520" y="3143160"/>
                        <a:ext cx="61920" cy="58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366">
                            <a:moveTo>
                              <a:pt x="38" y="357"/>
                            </a:moveTo>
                            <a:lnTo>
                              <a:pt x="33" y="365"/>
                            </a:lnTo>
                            <a:lnTo>
                              <a:pt x="15" y="167"/>
                            </a:lnTo>
                            <a:lnTo>
                              <a:pt x="0" y="0"/>
                            </a:lnTo>
                            <a:lnTo>
                              <a:pt x="8" y="10"/>
                            </a:lnTo>
                            <a:lnTo>
                              <a:pt x="38" y="35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1063800" y="3084480"/>
                        <a:ext cx="6760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44">
                            <a:moveTo>
                              <a:pt x="415" y="8"/>
                            </a:moveTo>
                            <a:lnTo>
                              <a:pt x="425" y="0"/>
                            </a:lnTo>
                            <a:lnTo>
                              <a:pt x="0" y="36"/>
                            </a:lnTo>
                            <a:lnTo>
                              <a:pt x="11" y="43"/>
                            </a:lnTo>
                            <a:lnTo>
                              <a:pt x="415" y="8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1730520" y="3092400"/>
                        <a:ext cx="55440" cy="54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46">
                            <a:moveTo>
                              <a:pt x="34" y="345"/>
                            </a:moveTo>
                            <a:lnTo>
                              <a:pt x="28" y="337"/>
                            </a:lnTo>
                            <a:lnTo>
                              <a:pt x="0" y="11"/>
                            </a:lnTo>
                            <a:lnTo>
                              <a:pt x="5" y="0"/>
                            </a:lnTo>
                            <a:lnTo>
                              <a:pt x="34" y="345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1081080" y="3110040"/>
                      <a:ext cx="682560" cy="600120"/>
                      <a:chOff x="1081080" y="3110040"/>
                      <a:chExt cx="682560" cy="600120"/>
                    </a:xfrm>
                  </p:grpSpPr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1081080" y="3110040"/>
                        <a:ext cx="682560" cy="60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0" h="378">
                            <a:moveTo>
                              <a:pt x="429" y="328"/>
                            </a:moveTo>
                            <a:lnTo>
                              <a:pt x="26" y="377"/>
                            </a:lnTo>
                            <a:lnTo>
                              <a:pt x="0" y="30"/>
                            </a:lnTo>
                            <a:lnTo>
                              <a:pt x="406" y="0"/>
                            </a:lnTo>
                            <a:lnTo>
                              <a:pt x="429" y="32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1106640" y="3129120"/>
                        <a:ext cx="634680" cy="55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350">
                            <a:moveTo>
                              <a:pt x="399" y="303"/>
                            </a:moveTo>
                            <a:lnTo>
                              <a:pt x="22" y="349"/>
                            </a:lnTo>
                            <a:lnTo>
                              <a:pt x="0" y="29"/>
                            </a:lnTo>
                            <a:lnTo>
                              <a:pt x="377" y="0"/>
                            </a:lnTo>
                            <a:lnTo>
                              <a:pt x="399" y="30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1131840" y="3144960"/>
                        <a:ext cx="596880" cy="50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6" h="319">
                            <a:moveTo>
                              <a:pt x="375" y="274"/>
                            </a:moveTo>
                            <a:lnTo>
                              <a:pt x="20" y="318"/>
                            </a:lnTo>
                            <a:lnTo>
                              <a:pt x="0" y="30"/>
                            </a:lnTo>
                            <a:lnTo>
                              <a:pt x="355" y="0"/>
                            </a:lnTo>
                            <a:lnTo>
                              <a:pt x="375" y="274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8" name=""/>
                <p:cNvSpPr/>
                <p:nvPr/>
              </p:nvSpPr>
              <p:spPr>
                <a:xfrm>
                  <a:off x="1044720" y="3052800"/>
                  <a:ext cx="28440" cy="64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7" y="0"/>
                      </a:moveTo>
                      <a:lnTo>
                        <a:pt x="0" y="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" name=""/>
            <p:cNvSpPr/>
            <p:nvPr/>
          </p:nvSpPr>
          <p:spPr>
            <a:xfrm>
              <a:off x="1971720" y="3983040"/>
              <a:ext cx="158760" cy="792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1" y="1"/>
                  </a:moveTo>
                  <a:lnTo>
                    <a:pt x="24" y="0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64" y="3"/>
                  </a:lnTo>
                  <a:lnTo>
                    <a:pt x="75" y="5"/>
                  </a:lnTo>
                  <a:lnTo>
                    <a:pt x="83" y="8"/>
                  </a:lnTo>
                  <a:lnTo>
                    <a:pt x="88" y="9"/>
                  </a:lnTo>
                  <a:lnTo>
                    <a:pt x="94" y="13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96" y="26"/>
                  </a:lnTo>
                  <a:lnTo>
                    <a:pt x="91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66" y="29"/>
                  </a:lnTo>
                  <a:lnTo>
                    <a:pt x="57" y="28"/>
                  </a:lnTo>
                  <a:lnTo>
                    <a:pt x="46" y="30"/>
                  </a:lnTo>
                  <a:lnTo>
                    <a:pt x="39" y="30"/>
                  </a:lnTo>
                  <a:lnTo>
                    <a:pt x="31" y="33"/>
                  </a:lnTo>
                  <a:lnTo>
                    <a:pt x="22" y="35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0" y="48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685800" y="3733920"/>
              <a:ext cx="1311120" cy="419040"/>
              <a:chOff x="685800" y="3733920"/>
              <a:chExt cx="1311120" cy="419040"/>
            </a:xfrm>
          </p:grpSpPr>
          <p:sp>
            <p:nvSpPr>
              <p:cNvPr id="451" name=""/>
              <p:cNvSpPr/>
              <p:nvPr/>
            </p:nvSpPr>
            <p:spPr>
              <a:xfrm>
                <a:off x="685800" y="3936960"/>
                <a:ext cx="1300320" cy="216000"/>
              </a:xfrm>
              <a:custGeom>
                <a:avLst/>
                <a:gdLst/>
                <a:ahLst/>
                <a:rect l="l" t="t" r="r" b="b"/>
                <a:pathLst>
                  <a:path w="819" h="136">
                    <a:moveTo>
                      <a:pt x="817" y="0"/>
                    </a:moveTo>
                    <a:lnTo>
                      <a:pt x="818" y="51"/>
                    </a:lnTo>
                    <a:lnTo>
                      <a:pt x="158" y="135"/>
                    </a:lnTo>
                    <a:lnTo>
                      <a:pt x="1" y="69"/>
                    </a:lnTo>
                    <a:lnTo>
                      <a:pt x="0" y="25"/>
                    </a:lnTo>
                    <a:lnTo>
                      <a:pt x="162" y="79"/>
                    </a:lnTo>
                    <a:lnTo>
                      <a:pt x="81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32040" y="3733920"/>
                <a:ext cx="1060200" cy="325440"/>
              </a:xfrm>
              <a:custGeom>
                <a:avLst/>
                <a:gdLst/>
                <a:ahLst/>
                <a:rect l="l" t="t" r="r" b="b"/>
                <a:pathLst>
                  <a:path w="668" h="205">
                    <a:moveTo>
                      <a:pt x="664" y="0"/>
                    </a:moveTo>
                    <a:lnTo>
                      <a:pt x="0" y="66"/>
                    </a:lnTo>
                    <a:lnTo>
                      <a:pt x="4" y="204"/>
                    </a:lnTo>
                    <a:lnTo>
                      <a:pt x="667" y="127"/>
                    </a:lnTo>
                    <a:lnTo>
                      <a:pt x="66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911160" y="3801960"/>
                <a:ext cx="1085760" cy="130320"/>
                <a:chOff x="911160" y="3801960"/>
                <a:chExt cx="1085760" cy="130320"/>
              </a:xfrm>
            </p:grpSpPr>
            <p:sp>
              <p:nvSpPr>
                <p:cNvPr id="454" name=""/>
                <p:cNvSpPr/>
                <p:nvPr/>
              </p:nvSpPr>
              <p:spPr>
                <a:xfrm flipH="1">
                  <a:off x="911160" y="3801960"/>
                  <a:ext cx="10828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971640" y="3881520"/>
                  <a:ext cx="2491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1231920" y="3852720"/>
                  <a:ext cx="24768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911160" y="3841920"/>
                  <a:ext cx="10857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17680" y="4137120"/>
              <a:ext cx="393480" cy="128520"/>
              <a:chOff x="517680" y="4137120"/>
              <a:chExt cx="393480" cy="128520"/>
            </a:xfrm>
          </p:grpSpPr>
          <p:sp>
            <p:nvSpPr>
              <p:cNvPr id="459" name=""/>
              <p:cNvSpPr/>
              <p:nvPr/>
            </p:nvSpPr>
            <p:spPr>
              <a:xfrm>
                <a:off x="517680" y="4137120"/>
                <a:ext cx="393480" cy="100080"/>
              </a:xfrm>
              <a:custGeom>
                <a:avLst/>
                <a:gdLst/>
                <a:ahLst/>
                <a:rect l="l" t="t" r="r" b="b"/>
                <a:pathLst>
                  <a:path w="248" h="63">
                    <a:moveTo>
                      <a:pt x="247" y="0"/>
                    </a:moveTo>
                    <a:lnTo>
                      <a:pt x="202" y="5"/>
                    </a:lnTo>
                    <a:lnTo>
                      <a:pt x="168" y="8"/>
                    </a:lnTo>
                    <a:lnTo>
                      <a:pt x="137" y="11"/>
                    </a:lnTo>
                    <a:lnTo>
                      <a:pt x="105" y="16"/>
                    </a:lnTo>
                    <a:lnTo>
                      <a:pt x="84" y="19"/>
                    </a:lnTo>
                    <a:lnTo>
                      <a:pt x="57" y="23"/>
                    </a:lnTo>
                    <a:lnTo>
                      <a:pt x="44" y="25"/>
                    </a:lnTo>
                    <a:lnTo>
                      <a:pt x="32" y="29"/>
                    </a:lnTo>
                    <a:lnTo>
                      <a:pt x="26" y="30"/>
                    </a:lnTo>
                    <a:lnTo>
                      <a:pt x="19" y="30"/>
                    </a:lnTo>
                    <a:lnTo>
                      <a:pt x="14" y="34"/>
                    </a:lnTo>
                    <a:lnTo>
                      <a:pt x="9" y="37"/>
                    </a:lnTo>
                    <a:lnTo>
                      <a:pt x="2" y="40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8" y="54"/>
                    </a:lnTo>
                    <a:lnTo>
                      <a:pt x="11" y="56"/>
                    </a:lnTo>
                    <a:lnTo>
                      <a:pt x="16" y="59"/>
                    </a:lnTo>
                    <a:lnTo>
                      <a:pt x="22" y="60"/>
                    </a:lnTo>
                    <a:lnTo>
                      <a:pt x="29" y="61"/>
                    </a:lnTo>
                    <a:lnTo>
                      <a:pt x="36" y="62"/>
                    </a:lnTo>
                    <a:lnTo>
                      <a:pt x="44" y="62"/>
                    </a:lnTo>
                    <a:lnTo>
                      <a:pt x="54" y="60"/>
                    </a:lnTo>
                    <a:lnTo>
                      <a:pt x="67" y="57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609120" y="4181400"/>
                <a:ext cx="298440" cy="84240"/>
                <a:chOff x="609120" y="4181400"/>
                <a:chExt cx="298440" cy="842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628560" y="4181400"/>
                  <a:ext cx="270000" cy="84240"/>
                  <a:chOff x="628560" y="4181400"/>
                  <a:chExt cx="270000" cy="842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736560" y="4183200"/>
                    <a:ext cx="162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3">
                        <a:moveTo>
                          <a:pt x="101" y="16"/>
                        </a:moveTo>
                        <a:lnTo>
                          <a:pt x="73" y="0"/>
                        </a:lnTo>
                        <a:lnTo>
                          <a:pt x="0" y="13"/>
                        </a:lnTo>
                        <a:lnTo>
                          <a:pt x="28" y="32"/>
                        </a:lnTo>
                        <a:lnTo>
                          <a:pt x="101" y="16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87320" y="4213080"/>
                    <a:ext cx="1112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2">
                        <a:moveTo>
                          <a:pt x="68" y="0"/>
                        </a:moveTo>
                        <a:lnTo>
                          <a:pt x="69" y="17"/>
                        </a:lnTo>
                        <a:lnTo>
                          <a:pt x="68" y="17"/>
                        </a:lnTo>
                        <a:lnTo>
                          <a:pt x="0" y="31"/>
                        </a:lnTo>
                        <a:lnTo>
                          <a:pt x="1" y="15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28560" y="4206960"/>
                    <a:ext cx="15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7">
                        <a:moveTo>
                          <a:pt x="93" y="19"/>
                        </a:moveTo>
                        <a:lnTo>
                          <a:pt x="61" y="0"/>
                        </a:lnTo>
                        <a:lnTo>
                          <a:pt x="0" y="6"/>
                        </a:lnTo>
                        <a:lnTo>
                          <a:pt x="1" y="22"/>
                        </a:lnTo>
                        <a:lnTo>
                          <a:pt x="94" y="36"/>
                        </a:lnTo>
                        <a:lnTo>
                          <a:pt x="93" y="19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30360" y="4181400"/>
                    <a:ext cx="218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7">
                        <a:moveTo>
                          <a:pt x="137" y="0"/>
                        </a:moveTo>
                        <a:lnTo>
                          <a:pt x="69" y="7"/>
                        </a:lnTo>
                        <a:lnTo>
                          <a:pt x="0" y="16"/>
                        </a:lnTo>
                        <a:lnTo>
                          <a:pt x="62" y="11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609120" y="4201920"/>
                  <a:ext cx="298440" cy="58680"/>
                  <a:chOff x="609120" y="4201920"/>
                  <a:chExt cx="298440" cy="586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>
                    <a:off x="764640" y="4233960"/>
                    <a:ext cx="142920" cy="144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711360" y="4201920"/>
                    <a:ext cx="77760" cy="586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609120" y="4214880"/>
                    <a:ext cx="125640" cy="79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0" name=""/>
            <p:cNvSpPr/>
            <p:nvPr/>
          </p:nvSpPr>
          <p:spPr>
            <a:xfrm>
              <a:off x="733320" y="3984480"/>
              <a:ext cx="233640" cy="169920"/>
            </a:xfrm>
            <a:custGeom>
              <a:avLst/>
              <a:gdLst/>
              <a:ahLst/>
              <a:rect l="l" t="t" r="r" b="b"/>
              <a:pathLst>
                <a:path w="147" h="107">
                  <a:moveTo>
                    <a:pt x="144" y="51"/>
                  </a:moveTo>
                  <a:lnTo>
                    <a:pt x="0" y="0"/>
                  </a:lnTo>
                  <a:lnTo>
                    <a:pt x="2" y="45"/>
                  </a:lnTo>
                  <a:lnTo>
                    <a:pt x="146" y="106"/>
                  </a:lnTo>
                  <a:lnTo>
                    <a:pt x="144" y="5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2160" y="3809880"/>
              <a:ext cx="244800" cy="257400"/>
            </a:xfrm>
            <a:custGeom>
              <a:avLst/>
              <a:gdLst/>
              <a:ahLst/>
              <a:rect l="l" t="t" r="r" b="b"/>
              <a:pathLst>
                <a:path w="154" h="162">
                  <a:moveTo>
                    <a:pt x="149" y="32"/>
                  </a:moveTo>
                  <a:lnTo>
                    <a:pt x="0" y="0"/>
                  </a:lnTo>
                  <a:lnTo>
                    <a:pt x="3" y="110"/>
                  </a:lnTo>
                  <a:lnTo>
                    <a:pt x="153" y="161"/>
                  </a:lnTo>
                  <a:lnTo>
                    <a:pt x="149" y="3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09720" y="3986280"/>
              <a:ext cx="1125360" cy="209520"/>
            </a:xfrm>
            <a:custGeom>
              <a:avLst/>
              <a:gdLst/>
              <a:ahLst/>
              <a:rect l="l" t="t" r="r" b="b"/>
              <a:pathLst>
                <a:path w="709" h="132">
                  <a:moveTo>
                    <a:pt x="590" y="0"/>
                  </a:moveTo>
                  <a:lnTo>
                    <a:pt x="0" y="65"/>
                  </a:lnTo>
                  <a:lnTo>
                    <a:pt x="41" y="107"/>
                  </a:lnTo>
                  <a:lnTo>
                    <a:pt x="84" y="131"/>
                  </a:lnTo>
                  <a:lnTo>
                    <a:pt x="708" y="53"/>
                  </a:lnTo>
                  <a:lnTo>
                    <a:pt x="660" y="39"/>
                  </a:lnTo>
                  <a:lnTo>
                    <a:pt x="590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699840" y="3814560"/>
              <a:ext cx="272880" cy="237960"/>
              <a:chOff x="699840" y="3814560"/>
              <a:chExt cx="272880" cy="237960"/>
            </a:xfrm>
          </p:grpSpPr>
          <p:sp>
            <p:nvSpPr>
              <p:cNvPr id="474" name=""/>
              <p:cNvSpPr/>
              <p:nvPr/>
            </p:nvSpPr>
            <p:spPr>
              <a:xfrm flipH="1" flipV="1">
                <a:off x="703080" y="3881160"/>
                <a:ext cx="26964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704880" y="3905280"/>
                <a:ext cx="225360" cy="77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705960" y="3924000"/>
                <a:ext cx="22572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704520" y="3943080"/>
                <a:ext cx="228600" cy="90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705960" y="3963600"/>
                <a:ext cx="22572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704520" y="3863880"/>
                <a:ext cx="227160" cy="74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99840" y="3844440"/>
                <a:ext cx="22860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703440" y="3814560"/>
                <a:ext cx="226800" cy="66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19080" y="3867120"/>
                <a:ext cx="4680" cy="182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882720" y="3984120"/>
              <a:ext cx="1160280" cy="243360"/>
              <a:chOff x="882720" y="3984120"/>
              <a:chExt cx="1160280" cy="243360"/>
            </a:xfrm>
          </p:grpSpPr>
          <p:sp>
            <p:nvSpPr>
              <p:cNvPr id="484" name=""/>
              <p:cNvSpPr/>
              <p:nvPr/>
            </p:nvSpPr>
            <p:spPr>
              <a:xfrm>
                <a:off x="988920" y="4083120"/>
                <a:ext cx="263520" cy="8892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00" y="0"/>
                    </a:moveTo>
                    <a:lnTo>
                      <a:pt x="141" y="30"/>
                    </a:lnTo>
                    <a:lnTo>
                      <a:pt x="165" y="42"/>
                    </a:lnTo>
                    <a:lnTo>
                      <a:pt x="58" y="55"/>
                    </a:lnTo>
                    <a:lnTo>
                      <a:pt x="33" y="38"/>
                    </a:lnTo>
                    <a:lnTo>
                      <a:pt x="0" y="1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882720" y="3984120"/>
                <a:ext cx="1160280" cy="243360"/>
                <a:chOff x="882720" y="3984120"/>
                <a:chExt cx="1160280" cy="2433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044720" y="4070520"/>
                  <a:ext cx="988920" cy="155520"/>
                </a:xfrm>
                <a:custGeom>
                  <a:avLst/>
                  <a:gdLst/>
                  <a:ahLst/>
                  <a:rect l="l" t="t" r="r" b="b"/>
                  <a:pathLst>
                    <a:path w="623" h="98">
                      <a:moveTo>
                        <a:pt x="621" y="0"/>
                      </a:moveTo>
                      <a:lnTo>
                        <a:pt x="622" y="22"/>
                      </a:lnTo>
                      <a:lnTo>
                        <a:pt x="0" y="97"/>
                      </a:lnTo>
                      <a:lnTo>
                        <a:pt x="2" y="77"/>
                      </a:lnTo>
                      <a:lnTo>
                        <a:pt x="6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907920" y="4094280"/>
                  <a:ext cx="128880" cy="133200"/>
                </a:xfrm>
                <a:custGeom>
                  <a:avLst/>
                  <a:gdLst/>
                  <a:ahLst/>
                  <a:rect l="l" t="t" r="r" b="b"/>
                  <a:pathLst>
                    <a:path w="81" h="84">
                      <a:moveTo>
                        <a:pt x="79" y="63"/>
                      </a:moveTo>
                      <a:lnTo>
                        <a:pt x="80" y="83"/>
                      </a:lnTo>
                      <a:lnTo>
                        <a:pt x="46" y="65"/>
                      </a:lnTo>
                      <a:lnTo>
                        <a:pt x="31" y="54"/>
                      </a:lnTo>
                      <a:lnTo>
                        <a:pt x="0" y="23"/>
                      </a:lnTo>
                      <a:lnTo>
                        <a:pt x="2" y="0"/>
                      </a:lnTo>
                      <a:lnTo>
                        <a:pt x="40" y="39"/>
                      </a:lnTo>
                      <a:lnTo>
                        <a:pt x="79" y="6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1019160" y="4098960"/>
                  <a:ext cx="1023840" cy="982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988920" y="3984120"/>
                  <a:ext cx="979560" cy="207000"/>
                  <a:chOff x="988920" y="3984120"/>
                  <a:chExt cx="979560" cy="2070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1233360" y="4003560"/>
                    <a:ext cx="73512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86">
                        <a:moveTo>
                          <a:pt x="381" y="0"/>
                        </a:moveTo>
                        <a:lnTo>
                          <a:pt x="437" y="30"/>
                        </a:lnTo>
                        <a:lnTo>
                          <a:pt x="462" y="39"/>
                        </a:lnTo>
                        <a:lnTo>
                          <a:pt x="71" y="85"/>
                        </a:lnTo>
                        <a:lnTo>
                          <a:pt x="42" y="70"/>
                        </a:lnTo>
                        <a:lnTo>
                          <a:pt x="0" y="41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988920" y="3984120"/>
                    <a:ext cx="971640" cy="207000"/>
                    <a:chOff x="988920" y="3984120"/>
                    <a:chExt cx="971640" cy="207000"/>
                  </a:xfrm>
                </p:grpSpPr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1227240" y="3984120"/>
                      <a:ext cx="715680" cy="171720"/>
                      <a:chOff x="1227240" y="3984120"/>
                      <a:chExt cx="715680" cy="171720"/>
                    </a:xfrm>
                  </p:grpSpPr>
                  <p:grpSp>
                    <p:nvGrpSpPr>
                      <p:cNvPr id="493" name=""/>
                      <p:cNvGrpSpPr/>
                      <p:nvPr/>
                    </p:nvGrpSpPr>
                    <p:grpSpPr>
                      <a:xfrm>
                        <a:off x="1773360" y="3984120"/>
                        <a:ext cx="169560" cy="106920"/>
                        <a:chOff x="1773360" y="3984120"/>
                        <a:chExt cx="169560" cy="106920"/>
                      </a:xfrm>
                    </p:grpSpPr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 flipH="1" flipV="1">
                          <a:off x="1872720" y="4046400"/>
                          <a:ext cx="70200" cy="44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 flipH="1" flipV="1">
                          <a:off x="1773360" y="3984120"/>
                          <a:ext cx="123840" cy="86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1714320" y="3992040"/>
                        <a:ext cx="169920" cy="106560"/>
                        <a:chOff x="1714320" y="3992040"/>
                        <a:chExt cx="169920" cy="106560"/>
                      </a:xfrm>
                    </p:grpSpPr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H="1" flipV="1">
                          <a:off x="1814400" y="405576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H="1" flipV="1">
                          <a:off x="1714320" y="3992040"/>
                          <a:ext cx="123480" cy="86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9" name=""/>
                      <p:cNvGrpSpPr/>
                      <p:nvPr/>
                    </p:nvGrpSpPr>
                    <p:grpSpPr>
                      <a:xfrm>
                        <a:off x="1655280" y="4000680"/>
                        <a:ext cx="173160" cy="102600"/>
                        <a:chOff x="1655280" y="4000680"/>
                        <a:chExt cx="173160" cy="102600"/>
                      </a:xfrm>
                    </p:grpSpPr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H="1" flipV="1">
                          <a:off x="1755360" y="4061880"/>
                          <a:ext cx="7308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H="1" flipV="1">
                          <a:off x="1655280" y="4000680"/>
                          <a:ext cx="1256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" name=""/>
                      <p:cNvGrpSpPr/>
                      <p:nvPr/>
                    </p:nvGrpSpPr>
                    <p:grpSpPr>
                      <a:xfrm>
                        <a:off x="1604520" y="4006440"/>
                        <a:ext cx="173160" cy="103320"/>
                        <a:chOff x="1604520" y="4006440"/>
                        <a:chExt cx="173160" cy="103320"/>
                      </a:xfrm>
                    </p:grpSpPr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flipH="1" flipV="1">
                          <a:off x="1706040" y="4068360"/>
                          <a:ext cx="7164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 flipV="1">
                          <a:off x="1604520" y="4006440"/>
                          <a:ext cx="12564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547280" y="4010040"/>
                        <a:ext cx="169920" cy="105840"/>
                        <a:chOff x="1547280" y="4010040"/>
                        <a:chExt cx="169920" cy="10584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 flipV="1">
                          <a:off x="1649160" y="4073040"/>
                          <a:ext cx="680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 flipV="1">
                          <a:off x="1547280" y="4010040"/>
                          <a:ext cx="1256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8" name=""/>
                      <p:cNvGrpSpPr/>
                      <p:nvPr/>
                    </p:nvGrpSpPr>
                    <p:grpSpPr>
                      <a:xfrm>
                        <a:off x="1492200" y="4016520"/>
                        <a:ext cx="172800" cy="105840"/>
                        <a:chOff x="1492200" y="4016520"/>
                        <a:chExt cx="172800" cy="105840"/>
                      </a:xfrm>
                    </p:grpSpPr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 flipV="1">
                          <a:off x="1593360" y="4079520"/>
                          <a:ext cx="716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 flipV="1">
                          <a:off x="1492200" y="4016520"/>
                          <a:ext cx="1238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1" name=""/>
                      <p:cNvGrpSpPr/>
                      <p:nvPr/>
                    </p:nvGrpSpPr>
                    <p:grpSpPr>
                      <a:xfrm>
                        <a:off x="1439640" y="4019040"/>
                        <a:ext cx="169920" cy="106920"/>
                        <a:chOff x="1439640" y="4019040"/>
                        <a:chExt cx="169920" cy="106920"/>
                      </a:xfrm>
                    </p:grpSpPr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 flipV="1">
                          <a:off x="1536840" y="4086360"/>
                          <a:ext cx="7272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 flipV="1">
                          <a:off x="1439640" y="4019040"/>
                          <a:ext cx="1220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4" name=""/>
                      <p:cNvGrpSpPr/>
                      <p:nvPr/>
                    </p:nvGrpSpPr>
                    <p:grpSpPr>
                      <a:xfrm>
                        <a:off x="1386000" y="4032000"/>
                        <a:ext cx="172800" cy="102960"/>
                        <a:chOff x="1386000" y="4032000"/>
                        <a:chExt cx="172800" cy="102960"/>
                      </a:xfrm>
                    </p:grpSpPr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H="1" flipV="1">
                          <a:off x="1486080" y="4090680"/>
                          <a:ext cx="7272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H="1" flipV="1">
                          <a:off x="1386000" y="4032000"/>
                          <a:ext cx="123840" cy="83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7" name=""/>
                      <p:cNvGrpSpPr/>
                      <p:nvPr/>
                    </p:nvGrpSpPr>
                    <p:grpSpPr>
                      <a:xfrm>
                        <a:off x="1334880" y="4041720"/>
                        <a:ext cx="172800" cy="102960"/>
                        <a:chOff x="1334880" y="4041720"/>
                        <a:chExt cx="172800" cy="102960"/>
                      </a:xfrm>
                    </p:grpSpPr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H="1" flipV="1">
                          <a:off x="1433160" y="4101840"/>
                          <a:ext cx="7452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 flipH="1" flipV="1">
                          <a:off x="1334880" y="4041720"/>
                          <a:ext cx="122040" cy="8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0" name=""/>
                      <p:cNvGrpSpPr/>
                      <p:nvPr/>
                    </p:nvGrpSpPr>
                    <p:grpSpPr>
                      <a:xfrm>
                        <a:off x="1278000" y="4039920"/>
                        <a:ext cx="172800" cy="113040"/>
                        <a:chOff x="1278000" y="4039920"/>
                        <a:chExt cx="172800" cy="113040"/>
                      </a:xfrm>
                    </p:grpSpPr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 flipH="1" flipV="1">
                          <a:off x="1378080" y="4106880"/>
                          <a:ext cx="7272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 flipH="1" flipV="1">
                          <a:off x="1278000" y="4039920"/>
                          <a:ext cx="1238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3" name=""/>
                      <p:cNvGrpSpPr/>
                      <p:nvPr/>
                    </p:nvGrpSpPr>
                    <p:grpSpPr>
                      <a:xfrm>
                        <a:off x="1227240" y="4049640"/>
                        <a:ext cx="169920" cy="106200"/>
                        <a:chOff x="1227240" y="4049640"/>
                        <a:chExt cx="169920" cy="106200"/>
                      </a:xfrm>
                    </p:grpSpPr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 flipH="1" flipV="1">
                          <a:off x="1327320" y="411300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 flipH="1" flipV="1">
                          <a:off x="1227240" y="4049640"/>
                          <a:ext cx="1238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993600" y="4068360"/>
                      <a:ext cx="236880" cy="122760"/>
                      <a:chOff x="993600" y="4068360"/>
                      <a:chExt cx="236880" cy="122760"/>
                    </a:xfrm>
                  </p:grpSpPr>
                  <p:grpSp>
                    <p:nvGrpSpPr>
                      <p:cNvPr id="527" name=""/>
                      <p:cNvGrpSpPr/>
                      <p:nvPr/>
                    </p:nvGrpSpPr>
                    <p:grpSpPr>
                      <a:xfrm>
                        <a:off x="993600" y="4075200"/>
                        <a:ext cx="150480" cy="115920"/>
                        <a:chOff x="993600" y="4075200"/>
                        <a:chExt cx="150480" cy="115920"/>
                      </a:xfrm>
                    </p:grpSpPr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 flipH="1" flipV="1">
                          <a:off x="1077480" y="4145040"/>
                          <a:ext cx="666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 flipH="1" flipV="1">
                          <a:off x="993600" y="4075200"/>
                          <a:ext cx="108000" cy="9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1036800" y="4071600"/>
                        <a:ext cx="150120" cy="113040"/>
                        <a:chOff x="1036800" y="4071600"/>
                        <a:chExt cx="150120" cy="11304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 flipH="1" flipV="1">
                          <a:off x="1120320" y="4137120"/>
                          <a:ext cx="6660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 flipH="1" flipV="1">
                          <a:off x="1036800" y="4071600"/>
                          <a:ext cx="109440" cy="90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3" name=""/>
                      <p:cNvGrpSpPr/>
                      <p:nvPr/>
                    </p:nvGrpSpPr>
                    <p:grpSpPr>
                      <a:xfrm>
                        <a:off x="1085400" y="4068360"/>
                        <a:ext cx="145080" cy="109800"/>
                        <a:chOff x="1085400" y="4068360"/>
                        <a:chExt cx="145080" cy="109800"/>
                      </a:xfrm>
                    </p:grpSpPr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 flipH="1" flipV="1">
                          <a:off x="1163520" y="4130640"/>
                          <a:ext cx="669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H="1" flipV="1">
                          <a:off x="1085400" y="4068360"/>
                          <a:ext cx="10332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36" name=""/>
                    <p:cNvSpPr/>
                    <p:nvPr/>
                  </p:nvSpPr>
                  <p:spPr>
                    <a:xfrm flipH="1">
                      <a:off x="988920" y="4037040"/>
                      <a:ext cx="906480" cy="698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1006200" y="4054320"/>
                      <a:ext cx="917640" cy="730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>
                      <a:off x="1031760" y="4068720"/>
                      <a:ext cx="928800" cy="842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882720" y="4094280"/>
                  <a:ext cx="162000" cy="128160"/>
                  <a:chOff x="882720" y="4094280"/>
                  <a:chExt cx="162000" cy="1281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flipV="1">
                    <a:off x="954000" y="4157280"/>
                    <a:ext cx="90720" cy="651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882720" y="4094280"/>
                    <a:ext cx="92160" cy="856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42" name=""/>
          <p:cNvGrpSpPr/>
          <p:nvPr/>
        </p:nvGrpSpPr>
        <p:grpSpPr>
          <a:xfrm>
            <a:off x="6878520" y="3157560"/>
            <a:ext cx="1729080" cy="1351080"/>
            <a:chOff x="6878520" y="3157560"/>
            <a:chExt cx="1729080" cy="1351080"/>
          </a:xfrm>
        </p:grpSpPr>
        <p:sp>
          <p:nvSpPr>
            <p:cNvPr id="543" name=""/>
            <p:cNvSpPr/>
            <p:nvPr/>
          </p:nvSpPr>
          <p:spPr>
            <a:xfrm>
              <a:off x="6878520" y="4205160"/>
              <a:ext cx="169920" cy="10656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6" y="2"/>
                  </a:moveTo>
                  <a:lnTo>
                    <a:pt x="82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39" y="4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1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4" y="37"/>
                  </a:lnTo>
                  <a:lnTo>
                    <a:pt x="23" y="38"/>
                  </a:lnTo>
                  <a:lnTo>
                    <a:pt x="32" y="38"/>
                  </a:lnTo>
                  <a:lnTo>
                    <a:pt x="44" y="37"/>
                  </a:lnTo>
                  <a:lnTo>
                    <a:pt x="55" y="39"/>
                  </a:lnTo>
                  <a:lnTo>
                    <a:pt x="63" y="41"/>
                  </a:lnTo>
                  <a:lnTo>
                    <a:pt x="72" y="43"/>
                  </a:lnTo>
                  <a:lnTo>
                    <a:pt x="80" y="48"/>
                  </a:lnTo>
                  <a:lnTo>
                    <a:pt x="104" y="66"/>
                  </a:lnTo>
                  <a:lnTo>
                    <a:pt x="103" y="66"/>
                  </a:lnTo>
                  <a:lnTo>
                    <a:pt x="103" y="64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023240" y="3873600"/>
              <a:ext cx="1344600" cy="530280"/>
              <a:chOff x="7023240" y="3873600"/>
              <a:chExt cx="1344600" cy="530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026120" y="4121280"/>
                <a:ext cx="1341720" cy="282600"/>
              </a:xfrm>
              <a:custGeom>
                <a:avLst/>
                <a:gdLst/>
                <a:ahLst/>
                <a:rect l="l" t="t" r="r" b="b"/>
                <a:pathLst>
                  <a:path w="845" h="178">
                    <a:moveTo>
                      <a:pt x="4" y="0"/>
                    </a:moveTo>
                    <a:lnTo>
                      <a:pt x="0" y="60"/>
                    </a:lnTo>
                    <a:lnTo>
                      <a:pt x="676" y="177"/>
                    </a:lnTo>
                    <a:lnTo>
                      <a:pt x="840" y="104"/>
                    </a:lnTo>
                    <a:lnTo>
                      <a:pt x="844" y="50"/>
                    </a:lnTo>
                    <a:lnTo>
                      <a:pt x="675" y="1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23240" y="3873600"/>
                <a:ext cx="1096920" cy="422280"/>
              </a:xfrm>
              <a:custGeom>
                <a:avLst/>
                <a:gdLst/>
                <a:ahLst/>
                <a:rect l="l" t="t" r="r" b="b"/>
                <a:pathLst>
                  <a:path w="691" h="266">
                    <a:moveTo>
                      <a:pt x="11" y="0"/>
                    </a:moveTo>
                    <a:lnTo>
                      <a:pt x="690" y="95"/>
                    </a:lnTo>
                    <a:lnTo>
                      <a:pt x="678" y="265"/>
                    </a:lnTo>
                    <a:lnTo>
                      <a:pt x="0" y="15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7050240" y="3952800"/>
                <a:ext cx="1062000" cy="192240"/>
                <a:chOff x="7050240" y="3952800"/>
                <a:chExt cx="1062000" cy="1922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7053120" y="3952800"/>
                  <a:ext cx="1059120" cy="13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850160" y="4075200"/>
                  <a:ext cx="20016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583400" y="4035600"/>
                  <a:ext cx="2016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050240" y="4000680"/>
                  <a:ext cx="1060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26120" y="3852720"/>
              <a:ext cx="1344600" cy="163800"/>
              <a:chOff x="7026120" y="3852720"/>
              <a:chExt cx="1344600" cy="163800"/>
            </a:xfrm>
          </p:grpSpPr>
          <p:sp>
            <p:nvSpPr>
              <p:cNvPr id="553" name=""/>
              <p:cNvSpPr/>
              <p:nvPr/>
            </p:nvSpPr>
            <p:spPr>
              <a:xfrm>
                <a:off x="7026120" y="3852720"/>
                <a:ext cx="1344600" cy="163800"/>
              </a:xfrm>
              <a:custGeom>
                <a:avLst/>
                <a:gdLst/>
                <a:ahLst/>
                <a:rect l="l" t="t" r="r" b="b"/>
                <a:pathLst>
                  <a:path w="847" h="103">
                    <a:moveTo>
                      <a:pt x="0" y="9"/>
                    </a:moveTo>
                    <a:lnTo>
                      <a:pt x="680" y="102"/>
                    </a:lnTo>
                    <a:lnTo>
                      <a:pt x="846" y="71"/>
                    </a:lnTo>
                    <a:lnTo>
                      <a:pt x="790" y="61"/>
                    </a:lnTo>
                    <a:lnTo>
                      <a:pt x="26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34280" y="3878280"/>
                <a:ext cx="987480" cy="119160"/>
              </a:xfrm>
              <a:custGeom>
                <a:avLst/>
                <a:gdLst/>
                <a:ahLst/>
                <a:rect l="l" t="t" r="r" b="b"/>
                <a:pathLst>
                  <a:path w="622" h="75">
                    <a:moveTo>
                      <a:pt x="50" y="0"/>
                    </a:moveTo>
                    <a:lnTo>
                      <a:pt x="0" y="12"/>
                    </a:lnTo>
                    <a:lnTo>
                      <a:pt x="498" y="74"/>
                    </a:lnTo>
                    <a:lnTo>
                      <a:pt x="581" y="61"/>
                    </a:lnTo>
                    <a:lnTo>
                      <a:pt x="575" y="57"/>
                    </a:lnTo>
                    <a:lnTo>
                      <a:pt x="621" y="49"/>
                    </a:lnTo>
                    <a:lnTo>
                      <a:pt x="593" y="4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8104320" y="3178080"/>
              <a:ext cx="280800" cy="763560"/>
              <a:chOff x="8104320" y="3178080"/>
              <a:chExt cx="280800" cy="7635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204040" y="3281400"/>
                <a:ext cx="181080" cy="638280"/>
                <a:chOff x="8204040" y="3281400"/>
                <a:chExt cx="181080" cy="6382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204040" y="3281400"/>
                  <a:ext cx="181080" cy="638280"/>
                </a:xfrm>
                <a:custGeom>
                  <a:avLst/>
                  <a:gdLst/>
                  <a:ahLst/>
                  <a:rect l="l" t="t" r="r" b="b"/>
                  <a:pathLst>
                    <a:path w="114" h="402">
                      <a:moveTo>
                        <a:pt x="36" y="0"/>
                      </a:moveTo>
                      <a:lnTo>
                        <a:pt x="113" y="39"/>
                      </a:lnTo>
                      <a:lnTo>
                        <a:pt x="95" y="195"/>
                      </a:lnTo>
                      <a:lnTo>
                        <a:pt x="73" y="384"/>
                      </a:lnTo>
                      <a:lnTo>
                        <a:pt x="0" y="401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8223120" y="3325680"/>
                  <a:ext cx="157320" cy="541440"/>
                  <a:chOff x="8223120" y="3325680"/>
                  <a:chExt cx="157320" cy="54144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8223120" y="3325680"/>
                    <a:ext cx="157320" cy="541440"/>
                    <a:chOff x="8223120" y="3325680"/>
                    <a:chExt cx="157320" cy="541440"/>
                  </a:xfrm>
                </p:grpSpPr>
                <p:grpSp>
                  <p:nvGrpSpPr>
                    <p:cNvPr id="560" name=""/>
                    <p:cNvGrpSpPr/>
                    <p:nvPr/>
                  </p:nvGrpSpPr>
                  <p:grpSpPr>
                    <a:xfrm>
                      <a:off x="8240760" y="3325680"/>
                      <a:ext cx="139680" cy="314280"/>
                      <a:chOff x="8240760" y="3325680"/>
                      <a:chExt cx="139680" cy="314280"/>
                    </a:xfrm>
                  </p:grpSpPr>
                  <p:grpSp>
                    <p:nvGrpSpPr>
                      <p:cNvPr id="561" name=""/>
                      <p:cNvGrpSpPr/>
                      <p:nvPr/>
                    </p:nvGrpSpPr>
                    <p:grpSpPr>
                      <a:xfrm>
                        <a:off x="8263080" y="3325680"/>
                        <a:ext cx="117360" cy="155880"/>
                        <a:chOff x="8263080" y="3325680"/>
                        <a:chExt cx="117360" cy="155880"/>
                      </a:xfrm>
                    </p:grpSpPr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8275680" y="3325680"/>
                          <a:ext cx="10476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8272440" y="3351240"/>
                          <a:ext cx="10332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8271000" y="3379680"/>
                          <a:ext cx="10296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8267760" y="3409920"/>
                          <a:ext cx="10476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8264520" y="3436920"/>
                          <a:ext cx="104760" cy="20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8263080" y="3465360"/>
                          <a:ext cx="101520" cy="16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8" name=""/>
                      <p:cNvSpPr/>
                      <p:nvPr/>
                    </p:nvSpPr>
                    <p:spPr>
                      <a:xfrm>
                        <a:off x="8247240" y="3522600"/>
                        <a:ext cx="109440" cy="97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" name=""/>
                      <p:cNvSpPr/>
                      <p:nvPr/>
                    </p:nvSpPr>
                    <p:spPr>
                      <a:xfrm>
                        <a:off x="8245440" y="3551400"/>
                        <a:ext cx="10800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8244000" y="3579840"/>
                        <a:ext cx="1080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>
                        <a:off x="8242200" y="3603600"/>
                        <a:ext cx="106560" cy="97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8240760" y="3632040"/>
                        <a:ext cx="10620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8223120" y="3662280"/>
                      <a:ext cx="119160" cy="204840"/>
                      <a:chOff x="8223120" y="3662280"/>
                      <a:chExt cx="119160" cy="204840"/>
                    </a:xfrm>
                  </p:grpSpPr>
                  <p:sp>
                    <p:nvSpPr>
                      <p:cNvPr id="574" name=""/>
                      <p:cNvSpPr/>
                      <p:nvPr/>
                    </p:nvSpPr>
                    <p:spPr>
                      <a:xfrm>
                        <a:off x="8238960" y="3662280"/>
                        <a:ext cx="103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>
                        <a:off x="8240760" y="3689280"/>
                        <a:ext cx="9828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8234280" y="3714840"/>
                        <a:ext cx="10008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8232840" y="3743280"/>
                        <a:ext cx="100080" cy="64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8231040" y="3770280"/>
                        <a:ext cx="986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228160" y="3784680"/>
                        <a:ext cx="98280" cy="252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 flipV="1">
                        <a:off x="8224920" y="3809880"/>
                        <a:ext cx="10008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 flipV="1">
                        <a:off x="8223120" y="3835440"/>
                        <a:ext cx="9540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82" name=""/>
                  <p:cNvSpPr/>
                  <p:nvPr/>
                </p:nvSpPr>
                <p:spPr>
                  <a:xfrm>
                    <a:off x="8256600" y="3495600"/>
                    <a:ext cx="103320" cy="111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8104320" y="3178080"/>
                <a:ext cx="176040" cy="763560"/>
                <a:chOff x="8104320" y="3178080"/>
                <a:chExt cx="176040" cy="763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8104320" y="3178080"/>
                  <a:ext cx="172800" cy="763560"/>
                </a:xfrm>
                <a:custGeom>
                  <a:avLst/>
                  <a:gdLst/>
                  <a:ahLst/>
                  <a:rect l="l" t="t" r="r" b="b"/>
                  <a:pathLst>
                    <a:path w="109" h="481">
                      <a:moveTo>
                        <a:pt x="52" y="0"/>
                      </a:moveTo>
                      <a:lnTo>
                        <a:pt x="103" y="30"/>
                      </a:lnTo>
                      <a:lnTo>
                        <a:pt x="108" y="34"/>
                      </a:lnTo>
                      <a:lnTo>
                        <a:pt x="62" y="464"/>
                      </a:lnTo>
                      <a:lnTo>
                        <a:pt x="54" y="468"/>
                      </a:lnTo>
                      <a:lnTo>
                        <a:pt x="0" y="480"/>
                      </a:lnTo>
                      <a:lnTo>
                        <a:pt x="8" y="472"/>
                      </a:lnTo>
                      <a:lnTo>
                        <a:pt x="8" y="46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240000">
                  <a:off x="8270280" y="3226680"/>
                  <a:ext cx="9360" cy="1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85" y="554"/>
                      </a:moveTo>
                      <a:arcTo wR="10800" hR="10800" stAng="-6506097" swAng="65060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85" y="554"/>
                      </a:moveTo>
                      <a:arcTo wR="10800" hR="10800" stAng="-6506097" swAng="6506097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6" name=""/>
            <p:cNvGrpSpPr/>
            <p:nvPr/>
          </p:nvGrpSpPr>
          <p:grpSpPr>
            <a:xfrm>
              <a:off x="8188200" y="4341960"/>
              <a:ext cx="419400" cy="166680"/>
              <a:chOff x="8188200" y="4341960"/>
              <a:chExt cx="419400" cy="16668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200" y="4341960"/>
                <a:ext cx="419400" cy="136440"/>
              </a:xfrm>
              <a:custGeom>
                <a:avLst/>
                <a:gdLst/>
                <a:ahLst/>
                <a:rect l="l" t="t" r="r" b="b"/>
                <a:pathLst>
                  <a:path w="264" h="86">
                    <a:moveTo>
                      <a:pt x="0" y="0"/>
                    </a:moveTo>
                    <a:lnTo>
                      <a:pt x="50" y="6"/>
                    </a:lnTo>
                    <a:lnTo>
                      <a:pt x="86" y="11"/>
                    </a:lnTo>
                    <a:lnTo>
                      <a:pt x="119" y="16"/>
                    </a:lnTo>
                    <a:lnTo>
                      <a:pt x="152" y="23"/>
                    </a:lnTo>
                    <a:lnTo>
                      <a:pt x="174" y="28"/>
                    </a:lnTo>
                    <a:lnTo>
                      <a:pt x="202" y="35"/>
                    </a:lnTo>
                    <a:lnTo>
                      <a:pt x="218" y="39"/>
                    </a:lnTo>
                    <a:lnTo>
                      <a:pt x="230" y="42"/>
                    </a:lnTo>
                    <a:lnTo>
                      <a:pt x="236" y="44"/>
                    </a:lnTo>
                    <a:lnTo>
                      <a:pt x="241" y="46"/>
                    </a:lnTo>
                    <a:lnTo>
                      <a:pt x="247" y="48"/>
                    </a:lnTo>
                    <a:lnTo>
                      <a:pt x="254" y="52"/>
                    </a:lnTo>
                    <a:lnTo>
                      <a:pt x="260" y="55"/>
                    </a:lnTo>
                    <a:lnTo>
                      <a:pt x="263" y="59"/>
                    </a:lnTo>
                    <a:lnTo>
                      <a:pt x="263" y="62"/>
                    </a:lnTo>
                    <a:lnTo>
                      <a:pt x="261" y="66"/>
                    </a:lnTo>
                    <a:lnTo>
                      <a:pt x="259" y="71"/>
                    </a:lnTo>
                    <a:lnTo>
                      <a:pt x="255" y="75"/>
                    </a:lnTo>
                    <a:lnTo>
                      <a:pt x="251" y="78"/>
                    </a:lnTo>
                    <a:lnTo>
                      <a:pt x="245" y="81"/>
                    </a:lnTo>
                    <a:lnTo>
                      <a:pt x="239" y="84"/>
                    </a:lnTo>
                    <a:lnTo>
                      <a:pt x="231" y="83"/>
                    </a:lnTo>
                    <a:lnTo>
                      <a:pt x="223" y="85"/>
                    </a:lnTo>
                    <a:lnTo>
                      <a:pt x="214" y="84"/>
                    </a:lnTo>
                    <a:lnTo>
                      <a:pt x="204" y="82"/>
                    </a:lnTo>
                    <a:lnTo>
                      <a:pt x="190" y="79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8197920" y="4400640"/>
                <a:ext cx="288720" cy="108000"/>
                <a:chOff x="8197920" y="4400640"/>
                <a:chExt cx="288720" cy="1080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8197920" y="4400640"/>
                  <a:ext cx="288720" cy="108000"/>
                  <a:chOff x="8197920" y="4400640"/>
                  <a:chExt cx="288720" cy="1080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8199360" y="4400640"/>
                    <a:ext cx="1746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3">
                        <a:moveTo>
                          <a:pt x="0" y="20"/>
                        </a:moveTo>
                        <a:lnTo>
                          <a:pt x="30" y="0"/>
                        </a:lnTo>
                        <a:lnTo>
                          <a:pt x="109" y="18"/>
                        </a:lnTo>
                        <a:lnTo>
                          <a:pt x="75" y="42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8197920" y="4440240"/>
                    <a:ext cx="119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3">
                        <a:moveTo>
                          <a:pt x="1" y="0"/>
                        </a:move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73" y="42"/>
                        </a:lnTo>
                        <a:lnTo>
                          <a:pt x="74" y="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8326440" y="4433760"/>
                    <a:ext cx="158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7">
                        <a:moveTo>
                          <a:pt x="1" y="25"/>
                        </a:moveTo>
                        <a:lnTo>
                          <a:pt x="34" y="0"/>
                        </a:lnTo>
                        <a:lnTo>
                          <a:pt x="99" y="12"/>
                        </a:lnTo>
                        <a:lnTo>
                          <a:pt x="98" y="32"/>
                        </a:lnTo>
                        <a:lnTo>
                          <a:pt x="0" y="46"/>
                        </a:lnTo>
                        <a:lnTo>
                          <a:pt x="1" y="2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8250120" y="4402080"/>
                    <a:ext cx="236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6">
                        <a:moveTo>
                          <a:pt x="0" y="0"/>
                        </a:moveTo>
                        <a:lnTo>
                          <a:pt x="75" y="8"/>
                        </a:lnTo>
                        <a:lnTo>
                          <a:pt x="148" y="25"/>
                        </a:lnTo>
                        <a:lnTo>
                          <a:pt x="81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8215200" y="4431960"/>
                  <a:ext cx="266760" cy="66600"/>
                  <a:chOff x="8215200" y="4431960"/>
                  <a:chExt cx="266760" cy="666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8215200" y="4465800"/>
                    <a:ext cx="100080" cy="93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8340840" y="4431960"/>
                    <a:ext cx="31680" cy="666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8402760" y="4452840"/>
                    <a:ext cx="79200" cy="18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98" name=""/>
            <p:cNvSpPr/>
            <p:nvPr/>
          </p:nvSpPr>
          <p:spPr>
            <a:xfrm>
              <a:off x="8115480" y="4156200"/>
              <a:ext cx="260280" cy="21096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5" y="61"/>
                  </a:moveTo>
                  <a:lnTo>
                    <a:pt x="163" y="0"/>
                  </a:lnTo>
                  <a:lnTo>
                    <a:pt x="159" y="57"/>
                  </a:lnTo>
                  <a:lnTo>
                    <a:pt x="0" y="132"/>
                  </a:lnTo>
                  <a:lnTo>
                    <a:pt x="5" y="6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09000" y="3932280"/>
              <a:ext cx="276120" cy="32364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12" y="34"/>
                  </a:moveTo>
                  <a:lnTo>
                    <a:pt x="173" y="0"/>
                  </a:lnTo>
                  <a:lnTo>
                    <a:pt x="163" y="143"/>
                  </a:lnTo>
                  <a:lnTo>
                    <a:pt x="0" y="203"/>
                  </a:lnTo>
                  <a:lnTo>
                    <a:pt x="12" y="3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92960" y="3270240"/>
              <a:ext cx="674640" cy="571680"/>
            </a:xfrm>
            <a:custGeom>
              <a:avLst/>
              <a:gdLst/>
              <a:ahLst/>
              <a:rect l="l" t="t" r="r" b="b"/>
              <a:pathLst>
                <a:path w="425" h="360">
                  <a:moveTo>
                    <a:pt x="38" y="0"/>
                  </a:moveTo>
                  <a:lnTo>
                    <a:pt x="424" y="27"/>
                  </a:lnTo>
                  <a:lnTo>
                    <a:pt x="384" y="359"/>
                  </a:lnTo>
                  <a:lnTo>
                    <a:pt x="0" y="312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85080" y="4170240"/>
              <a:ext cx="1200240" cy="295560"/>
            </a:xfrm>
            <a:custGeom>
              <a:avLst/>
              <a:gdLst/>
              <a:ahLst/>
              <a:rect l="l" t="t" r="r" b="b"/>
              <a:pathLst>
                <a:path w="756" h="186">
                  <a:moveTo>
                    <a:pt x="128" y="0"/>
                  </a:moveTo>
                  <a:lnTo>
                    <a:pt x="755" y="104"/>
                  </a:lnTo>
                  <a:lnTo>
                    <a:pt x="706" y="155"/>
                  </a:lnTo>
                  <a:lnTo>
                    <a:pt x="661" y="185"/>
                  </a:lnTo>
                  <a:lnTo>
                    <a:pt x="0" y="66"/>
                  </a:lnTo>
                  <a:lnTo>
                    <a:pt x="51" y="48"/>
                  </a:lnTo>
                  <a:lnTo>
                    <a:pt x="128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8134200" y="3944520"/>
              <a:ext cx="244800" cy="292680"/>
              <a:chOff x="8134200" y="3944520"/>
              <a:chExt cx="244800" cy="29268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8134200" y="4030560"/>
                <a:ext cx="23976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8175600" y="4056120"/>
                <a:ext cx="193680" cy="92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8174160" y="4082760"/>
                <a:ext cx="193680" cy="96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174160" y="4108320"/>
                <a:ext cx="19512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8170920" y="4132080"/>
                <a:ext cx="195120" cy="10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8180280" y="4001760"/>
                <a:ext cx="19368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8185320" y="3973320"/>
                <a:ext cx="191880" cy="7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8186760" y="3944520"/>
                <a:ext cx="192240" cy="71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8143560" y="3995640"/>
                <a:ext cx="42840" cy="241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299360" y="3157560"/>
              <a:ext cx="889200" cy="819000"/>
              <a:chOff x="7299360" y="3157560"/>
              <a:chExt cx="889200" cy="8190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299360" y="3157560"/>
                <a:ext cx="889200" cy="819000"/>
                <a:chOff x="7299360" y="3157560"/>
                <a:chExt cx="889200" cy="8190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299360" y="3157560"/>
                  <a:ext cx="889200" cy="819000"/>
                  <a:chOff x="7299360" y="3157560"/>
                  <a:chExt cx="889200" cy="8190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299360" y="3157560"/>
                    <a:ext cx="888840" cy="81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16">
                        <a:moveTo>
                          <a:pt x="73" y="0"/>
                        </a:moveTo>
                        <a:lnTo>
                          <a:pt x="118" y="2"/>
                        </a:lnTo>
                        <a:lnTo>
                          <a:pt x="180" y="1"/>
                        </a:lnTo>
                        <a:lnTo>
                          <a:pt x="244" y="4"/>
                        </a:lnTo>
                        <a:lnTo>
                          <a:pt x="320" y="10"/>
                        </a:lnTo>
                        <a:lnTo>
                          <a:pt x="373" y="14"/>
                        </a:lnTo>
                        <a:lnTo>
                          <a:pt x="454" y="22"/>
                        </a:lnTo>
                        <a:lnTo>
                          <a:pt x="531" y="33"/>
                        </a:lnTo>
                        <a:lnTo>
                          <a:pt x="550" y="35"/>
                        </a:lnTo>
                        <a:lnTo>
                          <a:pt x="553" y="36"/>
                        </a:lnTo>
                        <a:lnTo>
                          <a:pt x="556" y="38"/>
                        </a:lnTo>
                        <a:lnTo>
                          <a:pt x="559" y="43"/>
                        </a:lnTo>
                        <a:lnTo>
                          <a:pt x="559" y="47"/>
                        </a:lnTo>
                        <a:lnTo>
                          <a:pt x="506" y="506"/>
                        </a:lnTo>
                        <a:lnTo>
                          <a:pt x="504" y="513"/>
                        </a:lnTo>
                        <a:lnTo>
                          <a:pt x="497" y="515"/>
                        </a:lnTo>
                        <a:lnTo>
                          <a:pt x="328" y="491"/>
                        </a:lnTo>
                        <a:lnTo>
                          <a:pt x="161" y="467"/>
                        </a:lnTo>
                        <a:lnTo>
                          <a:pt x="7" y="446"/>
                        </a:lnTo>
                        <a:lnTo>
                          <a:pt x="0" y="435"/>
                        </a:lnTo>
                        <a:lnTo>
                          <a:pt x="54" y="14"/>
                        </a:lnTo>
                        <a:lnTo>
                          <a:pt x="7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240000">
                    <a:off x="8155800" y="3215520"/>
                    <a:ext cx="31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58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5884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240000">
                    <a:off x="7385400" y="3163320"/>
                    <a:ext cx="734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3" y="9460"/>
                        </a:moveTo>
                        <a:arcTo wR="10800" hR="10800" stAng="-10372499" swAng="48231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3" y="9460"/>
                        </a:moveTo>
                        <a:arcTo wR="10800" hR="10800" stAng="-10372499" swAng="482312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240000">
                    <a:off x="7302960" y="3830760"/>
                    <a:ext cx="219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7394400" y="3268800"/>
                  <a:ext cx="673200" cy="571320"/>
                  <a:chOff x="7394400" y="3268800"/>
                  <a:chExt cx="673200" cy="571320"/>
                </a:xfrm>
              </p:grpSpPr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7394400" y="3268800"/>
                    <a:ext cx="673200" cy="571320"/>
                    <a:chOff x="7394400" y="3268800"/>
                    <a:chExt cx="673200" cy="5713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7454880" y="3268800"/>
                      <a:ext cx="6127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28">
                          <a:moveTo>
                            <a:pt x="0" y="1"/>
                          </a:moveTo>
                          <a:lnTo>
                            <a:pt x="385" y="27"/>
                          </a:lnTo>
                          <a:lnTo>
                            <a:pt x="376" y="26"/>
                          </a:lnTo>
                          <a:lnTo>
                            <a:pt x="8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8002440" y="3311640"/>
                      <a:ext cx="65160" cy="52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33">
                          <a:moveTo>
                            <a:pt x="33" y="7"/>
                          </a:moveTo>
                          <a:lnTo>
                            <a:pt x="40" y="0"/>
                          </a:lnTo>
                          <a:lnTo>
                            <a:pt x="22" y="181"/>
                          </a:lnTo>
                          <a:lnTo>
                            <a:pt x="6" y="332"/>
                          </a:lnTo>
                          <a:lnTo>
                            <a:pt x="0" y="322"/>
                          </a:lnTo>
                          <a:lnTo>
                            <a:pt x="33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7394400" y="3765600"/>
                      <a:ext cx="6112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46">
                          <a:moveTo>
                            <a:pt x="8" y="0"/>
                          </a:moveTo>
                          <a:lnTo>
                            <a:pt x="0" y="5"/>
                          </a:lnTo>
                          <a:lnTo>
                            <a:pt x="384" y="45"/>
                          </a:lnTo>
                          <a:lnTo>
                            <a:pt x="375" y="3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7394400" y="3268800"/>
                      <a:ext cx="60480" cy="49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313">
                          <a:moveTo>
                            <a:pt x="33" y="0"/>
                          </a:moveTo>
                          <a:lnTo>
                            <a:pt x="37" y="8"/>
                          </a:lnTo>
                          <a:lnTo>
                            <a:pt x="6" y="305"/>
                          </a:lnTo>
                          <a:lnTo>
                            <a:pt x="0" y="312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7408800" y="3281400"/>
                    <a:ext cx="642960" cy="542880"/>
                    <a:chOff x="7408800" y="3281400"/>
                    <a:chExt cx="642960" cy="5428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7408800" y="3281400"/>
                      <a:ext cx="64296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5" h="342">
                          <a:moveTo>
                            <a:pt x="36" y="0"/>
                          </a:moveTo>
                          <a:lnTo>
                            <a:pt x="404" y="26"/>
                          </a:lnTo>
                          <a:lnTo>
                            <a:pt x="366" y="341"/>
                          </a:lnTo>
                          <a:lnTo>
                            <a:pt x="0" y="297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429680" y="3303720"/>
                      <a:ext cx="599760" cy="50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" h="315">
                          <a:moveTo>
                            <a:pt x="33" y="0"/>
                          </a:moveTo>
                          <a:lnTo>
                            <a:pt x="377" y="24"/>
                          </a:lnTo>
                          <a:lnTo>
                            <a:pt x="341" y="314"/>
                          </a:lnTo>
                          <a:lnTo>
                            <a:pt x="0" y="275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440480" y="3330720"/>
                      <a:ext cx="563760" cy="45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286">
                          <a:moveTo>
                            <a:pt x="30" y="0"/>
                          </a:moveTo>
                          <a:lnTo>
                            <a:pt x="354" y="23"/>
                          </a:lnTo>
                          <a:lnTo>
                            <a:pt x="322" y="285"/>
                          </a:lnTo>
                          <a:lnTo>
                            <a:pt x="0" y="248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29" name=""/>
              <p:cNvSpPr/>
              <p:nvPr/>
            </p:nvSpPr>
            <p:spPr>
              <a:xfrm>
                <a:off x="7983360" y="3914640"/>
                <a:ext cx="24120" cy="324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985080" y="4177800"/>
              <a:ext cx="1201680" cy="330840"/>
              <a:chOff x="6985080" y="4177800"/>
              <a:chExt cx="1201680" cy="330840"/>
            </a:xfrm>
          </p:grpSpPr>
          <p:sp>
            <p:nvSpPr>
              <p:cNvPr id="631" name=""/>
              <p:cNvSpPr/>
              <p:nvPr/>
            </p:nvSpPr>
            <p:spPr>
              <a:xfrm>
                <a:off x="7816680" y="4319640"/>
                <a:ext cx="282600" cy="11412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71" y="0"/>
                    </a:moveTo>
                    <a:lnTo>
                      <a:pt x="28" y="37"/>
                    </a:lnTo>
                    <a:lnTo>
                      <a:pt x="0" y="52"/>
                    </a:lnTo>
                    <a:lnTo>
                      <a:pt x="113" y="71"/>
                    </a:lnTo>
                    <a:lnTo>
                      <a:pt x="142" y="52"/>
                    </a:lnTo>
                    <a:lnTo>
                      <a:pt x="177" y="16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6985080" y="4177800"/>
                <a:ext cx="1201680" cy="330840"/>
                <a:chOff x="6985080" y="4177800"/>
                <a:chExt cx="1201680" cy="33084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985080" y="4280040"/>
                  <a:ext cx="1050840" cy="228600"/>
                </a:xfrm>
                <a:custGeom>
                  <a:avLst/>
                  <a:gdLst/>
                  <a:ahLst/>
                  <a:rect l="l" t="t" r="r" b="b"/>
                  <a:pathLst>
                    <a:path w="662" h="144">
                      <a:moveTo>
                        <a:pt x="2" y="0"/>
                      </a:moveTo>
                      <a:lnTo>
                        <a:pt x="0" y="25"/>
                      </a:lnTo>
                      <a:lnTo>
                        <a:pt x="659" y="143"/>
                      </a:lnTo>
                      <a:lnTo>
                        <a:pt x="661" y="11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043840" y="4340160"/>
                  <a:ext cx="142920" cy="168480"/>
                </a:xfrm>
                <a:custGeom>
                  <a:avLst/>
                  <a:gdLst/>
                  <a:ahLst/>
                  <a:rect l="l" t="t" r="r" b="b"/>
                  <a:pathLst>
                    <a:path w="90" h="106">
                      <a:moveTo>
                        <a:pt x="2" y="80"/>
                      </a:moveTo>
                      <a:lnTo>
                        <a:pt x="0" y="105"/>
                      </a:lnTo>
                      <a:lnTo>
                        <a:pt x="37" y="83"/>
                      </a:lnTo>
                      <a:lnTo>
                        <a:pt x="52" y="69"/>
                      </a:lnTo>
                      <a:lnTo>
                        <a:pt x="87" y="32"/>
                      </a:lnTo>
                      <a:lnTo>
                        <a:pt x="89" y="0"/>
                      </a:lnTo>
                      <a:lnTo>
                        <a:pt x="44" y="50"/>
                      </a:lnTo>
                      <a:lnTo>
                        <a:pt x="2" y="8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002360" y="4309920"/>
                  <a:ext cx="1032120" cy="1666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6" name=""/>
                <p:cNvGrpSpPr/>
                <p:nvPr/>
              </p:nvGrpSpPr>
              <p:grpSpPr>
                <a:xfrm>
                  <a:off x="7059600" y="4177800"/>
                  <a:ext cx="1012680" cy="278280"/>
                  <a:chOff x="7059600" y="4177800"/>
                  <a:chExt cx="1012680" cy="27828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059600" y="4194000"/>
                    <a:ext cx="781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20">
                        <a:moveTo>
                          <a:pt x="88" y="0"/>
                        </a:moveTo>
                        <a:lnTo>
                          <a:pt x="26" y="38"/>
                        </a:lnTo>
                        <a:lnTo>
                          <a:pt x="0" y="48"/>
                        </a:lnTo>
                        <a:lnTo>
                          <a:pt x="413" y="119"/>
                        </a:lnTo>
                        <a:lnTo>
                          <a:pt x="444" y="103"/>
                        </a:lnTo>
                        <a:lnTo>
                          <a:pt x="491" y="67"/>
                        </a:lnTo>
                        <a:lnTo>
                          <a:pt x="88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7093080" y="4177800"/>
                    <a:ext cx="979200" cy="278280"/>
                    <a:chOff x="7093080" y="4177800"/>
                    <a:chExt cx="979200" cy="27828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7108920" y="4177800"/>
                      <a:ext cx="712800" cy="222480"/>
                      <a:chOff x="7108920" y="4177800"/>
                      <a:chExt cx="712800" cy="22248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7108920" y="4177800"/>
                        <a:ext cx="135000" cy="126000"/>
                        <a:chOff x="7108920" y="4177800"/>
                        <a:chExt cx="135000" cy="12600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7108920" y="425772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7159680" y="4177800"/>
                          <a:ext cx="8424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7165800" y="4188960"/>
                        <a:ext cx="135000" cy="126000"/>
                        <a:chOff x="7165800" y="4188960"/>
                        <a:chExt cx="135000" cy="126000"/>
                      </a:xfrm>
                    </p:grpSpPr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7165800" y="4268880"/>
                          <a:ext cx="255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V="1">
                          <a:off x="7219800" y="4188960"/>
                          <a:ext cx="810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7229520" y="4196880"/>
                        <a:ext cx="131760" cy="126000"/>
                        <a:chOff x="7229520" y="4196880"/>
                        <a:chExt cx="131760" cy="126000"/>
                      </a:xfrm>
                    </p:grpSpPr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V="1">
                          <a:off x="7229520" y="427680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7278840" y="4196880"/>
                          <a:ext cx="8244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" name=""/>
                      <p:cNvGrpSpPr/>
                      <p:nvPr/>
                    </p:nvGrpSpPr>
                    <p:grpSpPr>
                      <a:xfrm>
                        <a:off x="7281720" y="4208400"/>
                        <a:ext cx="138240" cy="125280"/>
                        <a:chOff x="7281720" y="4208400"/>
                        <a:chExt cx="138240" cy="125280"/>
                      </a:xfrm>
                    </p:grpSpPr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7281720" y="4285800"/>
                          <a:ext cx="255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7335720" y="420840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2" name=""/>
                      <p:cNvGrpSpPr/>
                      <p:nvPr/>
                    </p:nvGrpSpPr>
                    <p:grpSpPr>
                      <a:xfrm>
                        <a:off x="7346880" y="4214520"/>
                        <a:ext cx="135000" cy="128880"/>
                        <a:chOff x="7346880" y="4214520"/>
                        <a:chExt cx="135000" cy="128880"/>
                      </a:xfrm>
                    </p:grpSpPr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V="1">
                          <a:off x="7346880" y="429732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V="1">
                          <a:off x="7397640" y="4214520"/>
                          <a:ext cx="84240" cy="104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5" name=""/>
                      <p:cNvGrpSpPr/>
                      <p:nvPr/>
                    </p:nvGrpSpPr>
                    <p:grpSpPr>
                      <a:xfrm>
                        <a:off x="7402680" y="4224240"/>
                        <a:ext cx="137880" cy="125280"/>
                        <a:chOff x="7402680" y="4224240"/>
                        <a:chExt cx="137880" cy="125280"/>
                      </a:xfrm>
                    </p:grpSpPr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V="1">
                          <a:off x="7402680" y="4301640"/>
                          <a:ext cx="2520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V="1">
                          <a:off x="7456320" y="422424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8" name=""/>
                      <p:cNvGrpSpPr/>
                      <p:nvPr/>
                    </p:nvGrpSpPr>
                    <p:grpSpPr>
                      <a:xfrm>
                        <a:off x="7459560" y="4235400"/>
                        <a:ext cx="135000" cy="125280"/>
                        <a:chOff x="7459560" y="4235400"/>
                        <a:chExt cx="135000" cy="125280"/>
                      </a:xfrm>
                    </p:grpSpPr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 flipV="1">
                          <a:off x="7459560" y="4312800"/>
                          <a:ext cx="255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 flipV="1">
                          <a:off x="7512120" y="4235400"/>
                          <a:ext cx="824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1" name=""/>
                      <p:cNvGrpSpPr/>
                      <p:nvPr/>
                    </p:nvGrpSpPr>
                    <p:grpSpPr>
                      <a:xfrm>
                        <a:off x="7513560" y="4246560"/>
                        <a:ext cx="135000" cy="125280"/>
                        <a:chOff x="7513560" y="4246560"/>
                        <a:chExt cx="135000" cy="125280"/>
                      </a:xfrm>
                    </p:grpSpPr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V="1">
                          <a:off x="7513560" y="432432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V="1">
                          <a:off x="7566120" y="4246560"/>
                          <a:ext cx="824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4" name=""/>
                      <p:cNvGrpSpPr/>
                      <p:nvPr/>
                    </p:nvGrpSpPr>
                    <p:grpSpPr>
                      <a:xfrm>
                        <a:off x="7574040" y="4258800"/>
                        <a:ext cx="135000" cy="125640"/>
                        <a:chOff x="7574040" y="4258800"/>
                        <a:chExt cx="135000" cy="125640"/>
                      </a:xfrm>
                    </p:grpSpPr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V="1">
                          <a:off x="7574040" y="4336560"/>
                          <a:ext cx="237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V="1">
                          <a:off x="7624800" y="4258800"/>
                          <a:ext cx="8424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7" name=""/>
                      <p:cNvGrpSpPr/>
                      <p:nvPr/>
                    </p:nvGrpSpPr>
                    <p:grpSpPr>
                      <a:xfrm>
                        <a:off x="7629480" y="4266720"/>
                        <a:ext cx="135000" cy="126000"/>
                        <a:chOff x="7629480" y="4266720"/>
                        <a:chExt cx="135000" cy="126000"/>
                      </a:xfrm>
                    </p:grpSpPr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V="1">
                          <a:off x="7629480" y="4346640"/>
                          <a:ext cx="270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V="1">
                          <a:off x="7682040" y="4266720"/>
                          <a:ext cx="8244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0" name=""/>
                      <p:cNvGrpSpPr/>
                      <p:nvPr/>
                    </p:nvGrpSpPr>
                    <p:grpSpPr>
                      <a:xfrm>
                        <a:off x="7686720" y="4274640"/>
                        <a:ext cx="135000" cy="125640"/>
                        <a:chOff x="7686720" y="4274640"/>
                        <a:chExt cx="135000" cy="125640"/>
                      </a:xfrm>
                    </p:grpSpPr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V="1">
                          <a:off x="7686720" y="4352400"/>
                          <a:ext cx="237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7737480" y="4274640"/>
                          <a:ext cx="8424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3" name=""/>
                    <p:cNvGrpSpPr/>
                    <p:nvPr/>
                  </p:nvGrpSpPr>
                  <p:grpSpPr>
                    <a:xfrm>
                      <a:off x="7864560" y="4302000"/>
                      <a:ext cx="201600" cy="154080"/>
                      <a:chOff x="7864560" y="4302000"/>
                      <a:chExt cx="201600" cy="154080"/>
                    </a:xfrm>
                  </p:grpSpPr>
                  <p:grpSp>
                    <p:nvGrpSpPr>
                      <p:cNvPr id="674" name=""/>
                      <p:cNvGrpSpPr/>
                      <p:nvPr/>
                    </p:nvGrpSpPr>
                    <p:grpSpPr>
                      <a:xfrm>
                        <a:off x="7956720" y="4317480"/>
                        <a:ext cx="109440" cy="138600"/>
                        <a:chOff x="7956720" y="4317480"/>
                        <a:chExt cx="109440" cy="138600"/>
                      </a:xfrm>
                    </p:grpSpPr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V="1">
                          <a:off x="7956720" y="4402080"/>
                          <a:ext cx="17280" cy="5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V="1">
                          <a:off x="7999560" y="4317480"/>
                          <a:ext cx="66600" cy="10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7" name=""/>
                      <p:cNvGrpSpPr/>
                      <p:nvPr/>
                    </p:nvGrpSpPr>
                    <p:grpSpPr>
                      <a:xfrm>
                        <a:off x="7910640" y="4311720"/>
                        <a:ext cx="112680" cy="137520"/>
                        <a:chOff x="7910640" y="4311720"/>
                        <a:chExt cx="112680" cy="137520"/>
                      </a:xfrm>
                    </p:grpSpPr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V="1">
                          <a:off x="7910640" y="4397040"/>
                          <a:ext cx="15840" cy="5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V="1">
                          <a:off x="7954920" y="4311720"/>
                          <a:ext cx="68400" cy="109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0" name=""/>
                      <p:cNvGrpSpPr/>
                      <p:nvPr/>
                    </p:nvGrpSpPr>
                    <p:grpSpPr>
                      <a:xfrm>
                        <a:off x="7864560" y="4302000"/>
                        <a:ext cx="106200" cy="138240"/>
                        <a:chOff x="7864560" y="4302000"/>
                        <a:chExt cx="106200" cy="138240"/>
                      </a:xfrm>
                    </p:grpSpPr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V="1">
                          <a:off x="7864560" y="4387680"/>
                          <a:ext cx="19080" cy="52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V="1">
                          <a:off x="7910640" y="4302000"/>
                          <a:ext cx="60120" cy="108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167600" y="4230720"/>
                      <a:ext cx="904680" cy="1303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130880" y="4253040"/>
                      <a:ext cx="924120" cy="13176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093080" y="4273560"/>
                      <a:ext cx="933480" cy="1429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8061480" y="4344480"/>
                  <a:ext cx="120600" cy="157320"/>
                  <a:chOff x="8061480" y="4344480"/>
                  <a:chExt cx="120600" cy="15732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 flipV="1">
                    <a:off x="8061480" y="4422240"/>
                    <a:ext cx="48960" cy="795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8139240" y="4344480"/>
                    <a:ext cx="42840" cy="1018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89" name=""/>
          <p:cNvSpPr/>
          <p:nvPr/>
        </p:nvSpPr>
        <p:spPr>
          <a:xfrm>
            <a:off x="1676520" y="2354400"/>
            <a:ext cx="7240320" cy="1000080"/>
          </a:xfrm>
          <a:custGeom>
            <a:avLst/>
            <a:gdLst/>
            <a:ahLst/>
            <a:rect l="l" t="t" r="r" b="b"/>
            <a:pathLst>
              <a:path w="4561" h="630">
                <a:moveTo>
                  <a:pt x="0" y="474"/>
                </a:moveTo>
                <a:lnTo>
                  <a:pt x="10" y="400"/>
                </a:lnTo>
                <a:lnTo>
                  <a:pt x="27" y="374"/>
                </a:lnTo>
                <a:lnTo>
                  <a:pt x="61" y="343"/>
                </a:lnTo>
                <a:lnTo>
                  <a:pt x="89" y="319"/>
                </a:lnTo>
                <a:lnTo>
                  <a:pt x="130" y="295"/>
                </a:lnTo>
                <a:lnTo>
                  <a:pt x="177" y="272"/>
                </a:lnTo>
                <a:lnTo>
                  <a:pt x="228" y="251"/>
                </a:lnTo>
                <a:lnTo>
                  <a:pt x="293" y="225"/>
                </a:lnTo>
                <a:lnTo>
                  <a:pt x="382" y="194"/>
                </a:lnTo>
                <a:lnTo>
                  <a:pt x="467" y="171"/>
                </a:lnTo>
                <a:lnTo>
                  <a:pt x="562" y="147"/>
                </a:lnTo>
                <a:lnTo>
                  <a:pt x="641" y="131"/>
                </a:lnTo>
                <a:lnTo>
                  <a:pt x="733" y="113"/>
                </a:lnTo>
                <a:lnTo>
                  <a:pt x="804" y="100"/>
                </a:lnTo>
                <a:lnTo>
                  <a:pt x="907" y="86"/>
                </a:lnTo>
                <a:lnTo>
                  <a:pt x="999" y="73"/>
                </a:lnTo>
                <a:lnTo>
                  <a:pt x="1101" y="60"/>
                </a:lnTo>
                <a:lnTo>
                  <a:pt x="1183" y="51"/>
                </a:lnTo>
                <a:lnTo>
                  <a:pt x="1298" y="39"/>
                </a:lnTo>
                <a:lnTo>
                  <a:pt x="1428" y="27"/>
                </a:lnTo>
                <a:lnTo>
                  <a:pt x="1554" y="19"/>
                </a:lnTo>
                <a:lnTo>
                  <a:pt x="1663" y="13"/>
                </a:lnTo>
                <a:lnTo>
                  <a:pt x="1789" y="7"/>
                </a:lnTo>
                <a:lnTo>
                  <a:pt x="1922" y="2"/>
                </a:lnTo>
                <a:lnTo>
                  <a:pt x="2093" y="0"/>
                </a:lnTo>
                <a:lnTo>
                  <a:pt x="2239" y="2"/>
                </a:lnTo>
                <a:lnTo>
                  <a:pt x="2362" y="5"/>
                </a:lnTo>
                <a:lnTo>
                  <a:pt x="2488" y="8"/>
                </a:lnTo>
                <a:lnTo>
                  <a:pt x="2624" y="15"/>
                </a:lnTo>
                <a:lnTo>
                  <a:pt x="2740" y="22"/>
                </a:lnTo>
                <a:lnTo>
                  <a:pt x="2846" y="30"/>
                </a:lnTo>
                <a:lnTo>
                  <a:pt x="2982" y="43"/>
                </a:lnTo>
                <a:lnTo>
                  <a:pt x="3132" y="59"/>
                </a:lnTo>
                <a:lnTo>
                  <a:pt x="3255" y="75"/>
                </a:lnTo>
                <a:lnTo>
                  <a:pt x="3357" y="89"/>
                </a:lnTo>
                <a:lnTo>
                  <a:pt x="3459" y="107"/>
                </a:lnTo>
                <a:lnTo>
                  <a:pt x="3541" y="123"/>
                </a:lnTo>
                <a:lnTo>
                  <a:pt x="3633" y="143"/>
                </a:lnTo>
                <a:lnTo>
                  <a:pt x="3742" y="168"/>
                </a:lnTo>
                <a:lnTo>
                  <a:pt x="3824" y="192"/>
                </a:lnTo>
                <a:lnTo>
                  <a:pt x="3916" y="219"/>
                </a:lnTo>
                <a:lnTo>
                  <a:pt x="4049" y="274"/>
                </a:lnTo>
                <a:lnTo>
                  <a:pt x="4131" y="320"/>
                </a:lnTo>
                <a:lnTo>
                  <a:pt x="4192" y="369"/>
                </a:lnTo>
                <a:lnTo>
                  <a:pt x="4223" y="409"/>
                </a:lnTo>
                <a:lnTo>
                  <a:pt x="4243" y="460"/>
                </a:lnTo>
                <a:lnTo>
                  <a:pt x="4560" y="460"/>
                </a:lnTo>
                <a:lnTo>
                  <a:pt x="3834" y="629"/>
                </a:lnTo>
                <a:lnTo>
                  <a:pt x="3101" y="458"/>
                </a:lnTo>
                <a:lnTo>
                  <a:pt x="3429" y="458"/>
                </a:lnTo>
                <a:lnTo>
                  <a:pt x="3408" y="407"/>
                </a:lnTo>
                <a:lnTo>
                  <a:pt x="3367" y="369"/>
                </a:lnTo>
                <a:lnTo>
                  <a:pt x="3306" y="330"/>
                </a:lnTo>
                <a:lnTo>
                  <a:pt x="3173" y="274"/>
                </a:lnTo>
                <a:lnTo>
                  <a:pt x="3084" y="249"/>
                </a:lnTo>
                <a:lnTo>
                  <a:pt x="2989" y="224"/>
                </a:lnTo>
                <a:lnTo>
                  <a:pt x="2880" y="203"/>
                </a:lnTo>
                <a:lnTo>
                  <a:pt x="2774" y="182"/>
                </a:lnTo>
                <a:lnTo>
                  <a:pt x="2672" y="166"/>
                </a:lnTo>
                <a:lnTo>
                  <a:pt x="2559" y="152"/>
                </a:lnTo>
                <a:lnTo>
                  <a:pt x="2427" y="137"/>
                </a:lnTo>
                <a:lnTo>
                  <a:pt x="2273" y="123"/>
                </a:lnTo>
                <a:lnTo>
                  <a:pt x="2130" y="114"/>
                </a:lnTo>
                <a:lnTo>
                  <a:pt x="2001" y="109"/>
                </a:lnTo>
                <a:lnTo>
                  <a:pt x="1837" y="104"/>
                </a:lnTo>
                <a:lnTo>
                  <a:pt x="1680" y="104"/>
                </a:lnTo>
                <a:lnTo>
                  <a:pt x="1571" y="105"/>
                </a:lnTo>
                <a:lnTo>
                  <a:pt x="1455" y="108"/>
                </a:lnTo>
                <a:lnTo>
                  <a:pt x="1316" y="114"/>
                </a:lnTo>
                <a:lnTo>
                  <a:pt x="1183" y="122"/>
                </a:lnTo>
                <a:lnTo>
                  <a:pt x="1057" y="131"/>
                </a:lnTo>
                <a:lnTo>
                  <a:pt x="934" y="144"/>
                </a:lnTo>
                <a:lnTo>
                  <a:pt x="753" y="167"/>
                </a:lnTo>
                <a:lnTo>
                  <a:pt x="634" y="186"/>
                </a:lnTo>
                <a:lnTo>
                  <a:pt x="508" y="211"/>
                </a:lnTo>
                <a:lnTo>
                  <a:pt x="399" y="236"/>
                </a:lnTo>
                <a:lnTo>
                  <a:pt x="331" y="255"/>
                </a:lnTo>
                <a:lnTo>
                  <a:pt x="259" y="278"/>
                </a:lnTo>
                <a:lnTo>
                  <a:pt x="204" y="299"/>
                </a:lnTo>
                <a:lnTo>
                  <a:pt x="164" y="317"/>
                </a:lnTo>
                <a:lnTo>
                  <a:pt x="126" y="334"/>
                </a:lnTo>
                <a:lnTo>
                  <a:pt x="95" y="357"/>
                </a:lnTo>
                <a:lnTo>
                  <a:pt x="75" y="377"/>
                </a:lnTo>
                <a:lnTo>
                  <a:pt x="44" y="404"/>
                </a:lnTo>
                <a:lnTo>
                  <a:pt x="0" y="474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17680" y="4946760"/>
            <a:ext cx="1612800" cy="1299960"/>
            <a:chOff x="517680" y="4946760"/>
            <a:chExt cx="1612800" cy="1299960"/>
          </a:xfrm>
        </p:grpSpPr>
        <p:grpSp>
          <p:nvGrpSpPr>
            <p:cNvPr id="691" name=""/>
            <p:cNvGrpSpPr/>
            <p:nvPr/>
          </p:nvGrpSpPr>
          <p:grpSpPr>
            <a:xfrm>
              <a:off x="689040" y="4946760"/>
              <a:ext cx="1195200" cy="897840"/>
              <a:chOff x="689040" y="4946760"/>
              <a:chExt cx="1195200" cy="897840"/>
            </a:xfrm>
          </p:grpSpPr>
          <p:grpSp>
            <p:nvGrpSpPr>
              <p:cNvPr id="692" name=""/>
              <p:cNvGrpSpPr/>
              <p:nvPr/>
            </p:nvGrpSpPr>
            <p:grpSpPr>
              <a:xfrm>
                <a:off x="689040" y="4995720"/>
                <a:ext cx="311040" cy="843120"/>
                <a:chOff x="689040" y="4995720"/>
                <a:chExt cx="311040" cy="84312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689040" y="5038560"/>
                  <a:ext cx="213840" cy="703440"/>
                  <a:chOff x="689040" y="5038560"/>
                  <a:chExt cx="213840" cy="70344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704880" y="5038560"/>
                    <a:ext cx="19368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443">
                        <a:moveTo>
                          <a:pt x="121" y="442"/>
                        </a:moveTo>
                        <a:lnTo>
                          <a:pt x="29" y="416"/>
                        </a:lnTo>
                        <a:lnTo>
                          <a:pt x="16" y="243"/>
                        </a:lnTo>
                        <a:lnTo>
                          <a:pt x="0" y="36"/>
                        </a:lnTo>
                        <a:lnTo>
                          <a:pt x="76" y="0"/>
                        </a:lnTo>
                        <a:lnTo>
                          <a:pt x="121" y="442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689040" y="5124600"/>
                    <a:ext cx="213840" cy="596880"/>
                    <a:chOff x="689040" y="5124600"/>
                    <a:chExt cx="213840" cy="596880"/>
                  </a:xfrm>
                </p:grpSpPr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689040" y="5124600"/>
                      <a:ext cx="213840" cy="596880"/>
                      <a:chOff x="689040" y="5124600"/>
                      <a:chExt cx="213840" cy="596880"/>
                    </a:xfrm>
                  </p:grpSpPr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703440" y="5362560"/>
                        <a:ext cx="199440" cy="358920"/>
                        <a:chOff x="703440" y="5362560"/>
                        <a:chExt cx="199440" cy="358920"/>
                      </a:xfrm>
                    </p:grpSpPr>
                    <p:grpSp>
                      <p:nvGrpSpPr>
                        <p:cNvPr id="698" name=""/>
                        <p:cNvGrpSpPr/>
                        <p:nvPr/>
                      </p:nvGrpSpPr>
                      <p:grpSpPr>
                        <a:xfrm>
                          <a:off x="715680" y="5524200"/>
                          <a:ext cx="187200" cy="197280"/>
                          <a:chOff x="715680" y="5524200"/>
                          <a:chExt cx="187200" cy="197280"/>
                        </a:xfrm>
                      </p:grpSpPr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 flipH="1" flipV="1">
                            <a:off x="726840" y="5659560"/>
                            <a:ext cx="176040" cy="61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 flipH="1" flipV="1">
                            <a:off x="725400" y="5632560"/>
                            <a:ext cx="176400" cy="56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080" bIns="10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 flipH="1" flipV="1">
                            <a:off x="720360" y="5607000"/>
                            <a:ext cx="176040" cy="525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760" bIns="5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2" name=""/>
                          <p:cNvSpPr/>
                          <p:nvPr/>
                        </p:nvSpPr>
                        <p:spPr>
                          <a:xfrm flipH="1" flipV="1">
                            <a:off x="718920" y="5576400"/>
                            <a:ext cx="176040" cy="507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 flipH="1" flipV="1">
                            <a:off x="715680" y="5549400"/>
                            <a:ext cx="174600" cy="49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 flipH="1" flipV="1">
                            <a:off x="716040" y="5524200"/>
                            <a:ext cx="171360" cy="42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05" name=""/>
                        <p:cNvSpPr/>
                        <p:nvPr/>
                      </p:nvSpPr>
                      <p:spPr>
                        <a:xfrm flipH="1" flipV="1">
                          <a:off x="711360" y="5465520"/>
                          <a:ext cx="18072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 flipH="1" flipV="1">
                          <a:off x="711000" y="5438880"/>
                          <a:ext cx="174600" cy="31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flipH="1" flipV="1">
                          <a:off x="709560" y="5408280"/>
                          <a:ext cx="17640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flipH="1">
                          <a:off x="708120" y="5394240"/>
                          <a:ext cx="1728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 flipH="1">
                          <a:off x="703440" y="5362560"/>
                          <a:ext cx="17136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10" name=""/>
                      <p:cNvGrpSpPr/>
                      <p:nvPr/>
                    </p:nvGrpSpPr>
                    <p:grpSpPr>
                      <a:xfrm>
                        <a:off x="689040" y="5124600"/>
                        <a:ext cx="180720" cy="214200"/>
                        <a:chOff x="689040" y="5124600"/>
                        <a:chExt cx="180720" cy="214200"/>
                      </a:xfrm>
                    </p:grpSpPr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 flipH="1">
                          <a:off x="703080" y="5330880"/>
                          <a:ext cx="16668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 flipH="1">
                          <a:off x="701280" y="5303880"/>
                          <a:ext cx="165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 flipH="1">
                          <a:off x="700200" y="5272200"/>
                          <a:ext cx="16344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 flipH="1">
                          <a:off x="696960" y="5243400"/>
                          <a:ext cx="16200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 flipH="1">
                          <a:off x="696960" y="5213520"/>
                          <a:ext cx="156960" cy="9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 flipH="1">
                          <a:off x="691920" y="5186520"/>
                          <a:ext cx="158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 flipH="1">
                          <a:off x="692280" y="5156280"/>
                          <a:ext cx="15696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 flipH="1">
                          <a:off x="689040" y="5124600"/>
                          <a:ext cx="154080" cy="6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19" name=""/>
                    <p:cNvSpPr/>
                    <p:nvPr/>
                  </p:nvSpPr>
                  <p:spPr>
                    <a:xfrm flipH="1" flipV="1">
                      <a:off x="712440" y="5492520"/>
                      <a:ext cx="174600" cy="3780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826920" y="4995720"/>
                  <a:ext cx="173160" cy="843120"/>
                  <a:chOff x="826920" y="4995720"/>
                  <a:chExt cx="173160" cy="84312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826920" y="4995720"/>
                    <a:ext cx="1731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531">
                        <a:moveTo>
                          <a:pt x="108" y="530"/>
                        </a:moveTo>
                        <a:lnTo>
                          <a:pt x="47" y="510"/>
                        </a:lnTo>
                        <a:lnTo>
                          <a:pt x="41" y="504"/>
                        </a:lnTo>
                        <a:lnTo>
                          <a:pt x="0" y="30"/>
                        </a:lnTo>
                        <a:lnTo>
                          <a:pt x="8" y="23"/>
                        </a:lnTo>
                        <a:lnTo>
                          <a:pt x="63" y="0"/>
                        </a:lnTo>
                        <a:lnTo>
                          <a:pt x="57" y="10"/>
                        </a:lnTo>
                        <a:lnTo>
                          <a:pt x="57" y="16"/>
                        </a:lnTo>
                        <a:lnTo>
                          <a:pt x="108" y="53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10380000">
                    <a:off x="891720" y="5787720"/>
                    <a:ext cx="12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529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52942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3" name=""/>
              <p:cNvSpPr/>
              <p:nvPr/>
            </p:nvSpPr>
            <p:spPr>
              <a:xfrm>
                <a:off x="1063800" y="5073480"/>
                <a:ext cx="715680" cy="632160"/>
              </a:xfrm>
              <a:custGeom>
                <a:avLst/>
                <a:gdLst/>
                <a:ahLst/>
                <a:rect l="l" t="t" r="r" b="b"/>
                <a:pathLst>
                  <a:path w="451" h="398">
                    <a:moveTo>
                      <a:pt x="450" y="345"/>
                    </a:moveTo>
                    <a:lnTo>
                      <a:pt x="29" y="397"/>
                    </a:lnTo>
                    <a:lnTo>
                      <a:pt x="0" y="31"/>
                    </a:lnTo>
                    <a:lnTo>
                      <a:pt x="426" y="0"/>
                    </a:lnTo>
                    <a:lnTo>
                      <a:pt x="450" y="34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928800" y="4946760"/>
                <a:ext cx="955440" cy="897840"/>
                <a:chOff x="928800" y="4946760"/>
                <a:chExt cx="955440" cy="89784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928800" y="4946760"/>
                  <a:ext cx="955440" cy="897840"/>
                  <a:chOff x="928800" y="4946760"/>
                  <a:chExt cx="955440" cy="897840"/>
                </a:xfrm>
              </p:grpSpPr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928800" y="4946760"/>
                    <a:ext cx="955440" cy="897840"/>
                    <a:chOff x="928800" y="4946760"/>
                    <a:chExt cx="955440" cy="8978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928800" y="4946760"/>
                      <a:ext cx="946080" cy="89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6" h="561">
                          <a:moveTo>
                            <a:pt x="578" y="497"/>
                          </a:moveTo>
                          <a:lnTo>
                            <a:pt x="527" y="506"/>
                          </a:lnTo>
                          <a:lnTo>
                            <a:pt x="460" y="518"/>
                          </a:lnTo>
                          <a:lnTo>
                            <a:pt x="391" y="530"/>
                          </a:lnTo>
                          <a:lnTo>
                            <a:pt x="308" y="539"/>
                          </a:lnTo>
                          <a:lnTo>
                            <a:pt x="250" y="545"/>
                          </a:lnTo>
                          <a:lnTo>
                            <a:pt x="159" y="554"/>
                          </a:lnTo>
                          <a:lnTo>
                            <a:pt x="74" y="559"/>
                          </a:lnTo>
                          <a:lnTo>
                            <a:pt x="53" y="560"/>
                          </a:lnTo>
                          <a:lnTo>
                            <a:pt x="48" y="560"/>
                          </a:lnTo>
                          <a:lnTo>
                            <a:pt x="44" y="558"/>
                          </a:lnTo>
                          <a:lnTo>
                            <a:pt x="41" y="554"/>
                          </a:lnTo>
                          <a:lnTo>
                            <a:pt x="41" y="549"/>
                          </a:lnTo>
                          <a:lnTo>
                            <a:pt x="0" y="41"/>
                          </a:lnTo>
                          <a:lnTo>
                            <a:pt x="3" y="32"/>
                          </a:lnTo>
                          <a:lnTo>
                            <a:pt x="9" y="28"/>
                          </a:lnTo>
                          <a:lnTo>
                            <a:pt x="198" y="19"/>
                          </a:lnTo>
                          <a:lnTo>
                            <a:pt x="384" y="10"/>
                          </a:lnTo>
                          <a:lnTo>
                            <a:pt x="555" y="0"/>
                          </a:lnTo>
                          <a:lnTo>
                            <a:pt x="565" y="13"/>
                          </a:lnTo>
                          <a:lnTo>
                            <a:pt x="595" y="477"/>
                          </a:lnTo>
                          <a:lnTo>
                            <a:pt x="578" y="497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10380000">
                      <a:off x="997560" y="5817600"/>
                      <a:ext cx="34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22" y="44"/>
                          </a:moveTo>
                          <a:arcTo wR="10800" hR="10800" stAng="-5711666" swAng="52419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22" y="44"/>
                          </a:moveTo>
                          <a:arcTo wR="10800" hR="10800" stAng="-5711666" swAng="524192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rot="10380000">
                      <a:off x="1801800" y="5684040"/>
                      <a:ext cx="7920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66" y="9607"/>
                          </a:moveTo>
                          <a:arcTo wR="10800" hR="10800" stAng="-10419588" swAng="48821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66" y="9607"/>
                          </a:moveTo>
                          <a:arcTo wR="10800" hR="10800" stAng="-10419588" swAng="488215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0380000">
                      <a:off x="1802520" y="4948560"/>
                      <a:ext cx="255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341" y="21501"/>
                          </a:moveTo>
                          <a:arcTo wR="10800" hR="10800" stAng="5865910" swAng="55018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341" y="21501"/>
                          </a:moveTo>
                          <a:arcTo wR="10800" hR="10800" stAng="5865910" swAng="550183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1055520" y="5065560"/>
                    <a:ext cx="730440" cy="640080"/>
                    <a:chOff x="1055520" y="5065560"/>
                    <a:chExt cx="730440" cy="640080"/>
                  </a:xfrm>
                </p:grpSpPr>
                <p:grpSp>
                  <p:nvGrpSpPr>
                    <p:cNvPr id="732" name=""/>
                    <p:cNvGrpSpPr/>
                    <p:nvPr/>
                  </p:nvGrpSpPr>
                  <p:grpSpPr>
                    <a:xfrm>
                      <a:off x="1055520" y="5065560"/>
                      <a:ext cx="730440" cy="640080"/>
                      <a:chOff x="1055520" y="5065560"/>
                      <a:chExt cx="730440" cy="640080"/>
                    </a:xfrm>
                  </p:grpSpPr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1109520" y="5621400"/>
                        <a:ext cx="6685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1" h="53">
                            <a:moveTo>
                              <a:pt x="420" y="0"/>
                            </a:moveTo>
                            <a:lnTo>
                              <a:pt x="0" y="52"/>
                            </a:lnTo>
                            <a:lnTo>
                              <a:pt x="9" y="51"/>
                            </a:lnTo>
                            <a:lnTo>
                              <a:pt x="411" y="2"/>
                            </a:lnTo>
                            <a:lnTo>
                              <a:pt x="42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1055520" y="5124600"/>
                        <a:ext cx="61920" cy="58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366">
                            <a:moveTo>
                              <a:pt x="38" y="357"/>
                            </a:moveTo>
                            <a:lnTo>
                              <a:pt x="33" y="365"/>
                            </a:lnTo>
                            <a:lnTo>
                              <a:pt x="15" y="167"/>
                            </a:lnTo>
                            <a:lnTo>
                              <a:pt x="0" y="0"/>
                            </a:lnTo>
                            <a:lnTo>
                              <a:pt x="8" y="10"/>
                            </a:lnTo>
                            <a:lnTo>
                              <a:pt x="38" y="35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1063800" y="5065560"/>
                        <a:ext cx="6760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44">
                            <a:moveTo>
                              <a:pt x="415" y="8"/>
                            </a:moveTo>
                            <a:lnTo>
                              <a:pt x="425" y="0"/>
                            </a:lnTo>
                            <a:lnTo>
                              <a:pt x="0" y="36"/>
                            </a:lnTo>
                            <a:lnTo>
                              <a:pt x="11" y="43"/>
                            </a:lnTo>
                            <a:lnTo>
                              <a:pt x="415" y="8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1730520" y="5073480"/>
                        <a:ext cx="55440" cy="54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46">
                            <a:moveTo>
                              <a:pt x="34" y="345"/>
                            </a:moveTo>
                            <a:lnTo>
                              <a:pt x="28" y="337"/>
                            </a:lnTo>
                            <a:lnTo>
                              <a:pt x="0" y="11"/>
                            </a:lnTo>
                            <a:lnTo>
                              <a:pt x="5" y="0"/>
                            </a:lnTo>
                            <a:lnTo>
                              <a:pt x="34" y="345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7" name=""/>
                    <p:cNvGrpSpPr/>
                    <p:nvPr/>
                  </p:nvGrpSpPr>
                  <p:grpSpPr>
                    <a:xfrm>
                      <a:off x="1081080" y="5091120"/>
                      <a:ext cx="682560" cy="600120"/>
                      <a:chOff x="1081080" y="5091120"/>
                      <a:chExt cx="682560" cy="600120"/>
                    </a:xfrm>
                  </p:grpSpPr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1081080" y="5091120"/>
                        <a:ext cx="682560" cy="60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0" h="378">
                            <a:moveTo>
                              <a:pt x="429" y="328"/>
                            </a:moveTo>
                            <a:lnTo>
                              <a:pt x="26" y="377"/>
                            </a:lnTo>
                            <a:lnTo>
                              <a:pt x="0" y="30"/>
                            </a:lnTo>
                            <a:lnTo>
                              <a:pt x="406" y="0"/>
                            </a:lnTo>
                            <a:lnTo>
                              <a:pt x="429" y="32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1106640" y="5110200"/>
                        <a:ext cx="634680" cy="55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350">
                            <a:moveTo>
                              <a:pt x="399" y="303"/>
                            </a:moveTo>
                            <a:lnTo>
                              <a:pt x="22" y="349"/>
                            </a:lnTo>
                            <a:lnTo>
                              <a:pt x="0" y="29"/>
                            </a:lnTo>
                            <a:lnTo>
                              <a:pt x="377" y="0"/>
                            </a:lnTo>
                            <a:lnTo>
                              <a:pt x="399" y="30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1131840" y="5126040"/>
                        <a:ext cx="596880" cy="50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6" h="319">
                            <a:moveTo>
                              <a:pt x="375" y="274"/>
                            </a:moveTo>
                            <a:lnTo>
                              <a:pt x="20" y="318"/>
                            </a:lnTo>
                            <a:lnTo>
                              <a:pt x="0" y="30"/>
                            </a:lnTo>
                            <a:lnTo>
                              <a:pt x="355" y="0"/>
                            </a:lnTo>
                            <a:lnTo>
                              <a:pt x="375" y="274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41" name=""/>
                <p:cNvSpPr/>
                <p:nvPr/>
              </p:nvSpPr>
              <p:spPr>
                <a:xfrm>
                  <a:off x="1044720" y="5033880"/>
                  <a:ext cx="28440" cy="64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7" y="0"/>
                      </a:moveTo>
                      <a:lnTo>
                        <a:pt x="0" y="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2" name=""/>
            <p:cNvSpPr/>
            <p:nvPr/>
          </p:nvSpPr>
          <p:spPr>
            <a:xfrm>
              <a:off x="1971720" y="5964120"/>
              <a:ext cx="158760" cy="7956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1" y="1"/>
                  </a:moveTo>
                  <a:lnTo>
                    <a:pt x="24" y="0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64" y="3"/>
                  </a:lnTo>
                  <a:lnTo>
                    <a:pt x="75" y="5"/>
                  </a:lnTo>
                  <a:lnTo>
                    <a:pt x="83" y="8"/>
                  </a:lnTo>
                  <a:lnTo>
                    <a:pt x="88" y="9"/>
                  </a:lnTo>
                  <a:lnTo>
                    <a:pt x="94" y="13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96" y="26"/>
                  </a:lnTo>
                  <a:lnTo>
                    <a:pt x="91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66" y="29"/>
                  </a:lnTo>
                  <a:lnTo>
                    <a:pt x="57" y="28"/>
                  </a:lnTo>
                  <a:lnTo>
                    <a:pt x="46" y="30"/>
                  </a:lnTo>
                  <a:lnTo>
                    <a:pt x="39" y="30"/>
                  </a:lnTo>
                  <a:lnTo>
                    <a:pt x="31" y="33"/>
                  </a:lnTo>
                  <a:lnTo>
                    <a:pt x="22" y="35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0" y="48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85800" y="5715000"/>
              <a:ext cx="1311120" cy="419040"/>
              <a:chOff x="685800" y="5715000"/>
              <a:chExt cx="1311120" cy="419040"/>
            </a:xfrm>
          </p:grpSpPr>
          <p:sp>
            <p:nvSpPr>
              <p:cNvPr id="744" name=""/>
              <p:cNvSpPr/>
              <p:nvPr/>
            </p:nvSpPr>
            <p:spPr>
              <a:xfrm>
                <a:off x="685800" y="5918040"/>
                <a:ext cx="1300320" cy="216000"/>
              </a:xfrm>
              <a:custGeom>
                <a:avLst/>
                <a:gdLst/>
                <a:ahLst/>
                <a:rect l="l" t="t" r="r" b="b"/>
                <a:pathLst>
                  <a:path w="819" h="136">
                    <a:moveTo>
                      <a:pt x="817" y="0"/>
                    </a:moveTo>
                    <a:lnTo>
                      <a:pt x="818" y="51"/>
                    </a:lnTo>
                    <a:lnTo>
                      <a:pt x="158" y="135"/>
                    </a:lnTo>
                    <a:lnTo>
                      <a:pt x="1" y="69"/>
                    </a:lnTo>
                    <a:lnTo>
                      <a:pt x="0" y="25"/>
                    </a:lnTo>
                    <a:lnTo>
                      <a:pt x="162" y="79"/>
                    </a:lnTo>
                    <a:lnTo>
                      <a:pt x="81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32040" y="5715000"/>
                <a:ext cx="1060200" cy="325440"/>
              </a:xfrm>
              <a:custGeom>
                <a:avLst/>
                <a:gdLst/>
                <a:ahLst/>
                <a:rect l="l" t="t" r="r" b="b"/>
                <a:pathLst>
                  <a:path w="668" h="205">
                    <a:moveTo>
                      <a:pt x="664" y="0"/>
                    </a:moveTo>
                    <a:lnTo>
                      <a:pt x="0" y="66"/>
                    </a:lnTo>
                    <a:lnTo>
                      <a:pt x="4" y="204"/>
                    </a:lnTo>
                    <a:lnTo>
                      <a:pt x="667" y="127"/>
                    </a:lnTo>
                    <a:lnTo>
                      <a:pt x="66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911160" y="5783400"/>
                <a:ext cx="1085760" cy="129960"/>
                <a:chOff x="911160" y="5783400"/>
                <a:chExt cx="1085760" cy="129960"/>
              </a:xfrm>
            </p:grpSpPr>
            <p:sp>
              <p:nvSpPr>
                <p:cNvPr id="747" name=""/>
                <p:cNvSpPr/>
                <p:nvPr/>
              </p:nvSpPr>
              <p:spPr>
                <a:xfrm flipH="1">
                  <a:off x="911160" y="5783400"/>
                  <a:ext cx="10828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971640" y="5862600"/>
                  <a:ext cx="2491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1231920" y="5834160"/>
                  <a:ext cx="24768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911160" y="5823000"/>
                  <a:ext cx="10857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517680" y="6118200"/>
              <a:ext cx="393480" cy="128520"/>
              <a:chOff x="517680" y="6118200"/>
              <a:chExt cx="393480" cy="128520"/>
            </a:xfrm>
          </p:grpSpPr>
          <p:sp>
            <p:nvSpPr>
              <p:cNvPr id="752" name=""/>
              <p:cNvSpPr/>
              <p:nvPr/>
            </p:nvSpPr>
            <p:spPr>
              <a:xfrm>
                <a:off x="517680" y="6118200"/>
                <a:ext cx="393480" cy="100080"/>
              </a:xfrm>
              <a:custGeom>
                <a:avLst/>
                <a:gdLst/>
                <a:ahLst/>
                <a:rect l="l" t="t" r="r" b="b"/>
                <a:pathLst>
                  <a:path w="248" h="63">
                    <a:moveTo>
                      <a:pt x="247" y="0"/>
                    </a:moveTo>
                    <a:lnTo>
                      <a:pt x="202" y="5"/>
                    </a:lnTo>
                    <a:lnTo>
                      <a:pt x="168" y="8"/>
                    </a:lnTo>
                    <a:lnTo>
                      <a:pt x="137" y="11"/>
                    </a:lnTo>
                    <a:lnTo>
                      <a:pt x="105" y="16"/>
                    </a:lnTo>
                    <a:lnTo>
                      <a:pt x="84" y="19"/>
                    </a:lnTo>
                    <a:lnTo>
                      <a:pt x="57" y="23"/>
                    </a:lnTo>
                    <a:lnTo>
                      <a:pt x="44" y="25"/>
                    </a:lnTo>
                    <a:lnTo>
                      <a:pt x="32" y="29"/>
                    </a:lnTo>
                    <a:lnTo>
                      <a:pt x="26" y="30"/>
                    </a:lnTo>
                    <a:lnTo>
                      <a:pt x="19" y="30"/>
                    </a:lnTo>
                    <a:lnTo>
                      <a:pt x="14" y="34"/>
                    </a:lnTo>
                    <a:lnTo>
                      <a:pt x="9" y="37"/>
                    </a:lnTo>
                    <a:lnTo>
                      <a:pt x="2" y="40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8" y="54"/>
                    </a:lnTo>
                    <a:lnTo>
                      <a:pt x="11" y="56"/>
                    </a:lnTo>
                    <a:lnTo>
                      <a:pt x="16" y="59"/>
                    </a:lnTo>
                    <a:lnTo>
                      <a:pt x="22" y="60"/>
                    </a:lnTo>
                    <a:lnTo>
                      <a:pt x="29" y="61"/>
                    </a:lnTo>
                    <a:lnTo>
                      <a:pt x="36" y="62"/>
                    </a:lnTo>
                    <a:lnTo>
                      <a:pt x="44" y="62"/>
                    </a:lnTo>
                    <a:lnTo>
                      <a:pt x="54" y="60"/>
                    </a:lnTo>
                    <a:lnTo>
                      <a:pt x="67" y="57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3" name=""/>
              <p:cNvGrpSpPr/>
              <p:nvPr/>
            </p:nvGrpSpPr>
            <p:grpSpPr>
              <a:xfrm>
                <a:off x="609120" y="6162840"/>
                <a:ext cx="298440" cy="83880"/>
                <a:chOff x="609120" y="6162840"/>
                <a:chExt cx="298440" cy="8388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628560" y="6162840"/>
                  <a:ext cx="270000" cy="83880"/>
                  <a:chOff x="628560" y="6162840"/>
                  <a:chExt cx="270000" cy="838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736560" y="6164280"/>
                    <a:ext cx="162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3">
                        <a:moveTo>
                          <a:pt x="101" y="16"/>
                        </a:moveTo>
                        <a:lnTo>
                          <a:pt x="73" y="0"/>
                        </a:lnTo>
                        <a:lnTo>
                          <a:pt x="0" y="13"/>
                        </a:lnTo>
                        <a:lnTo>
                          <a:pt x="28" y="32"/>
                        </a:lnTo>
                        <a:lnTo>
                          <a:pt x="101" y="16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787320" y="6194520"/>
                    <a:ext cx="111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2">
                        <a:moveTo>
                          <a:pt x="68" y="0"/>
                        </a:moveTo>
                        <a:lnTo>
                          <a:pt x="69" y="17"/>
                        </a:lnTo>
                        <a:lnTo>
                          <a:pt x="68" y="17"/>
                        </a:lnTo>
                        <a:lnTo>
                          <a:pt x="0" y="31"/>
                        </a:lnTo>
                        <a:lnTo>
                          <a:pt x="1" y="15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28560" y="6188040"/>
                    <a:ext cx="15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7">
                        <a:moveTo>
                          <a:pt x="93" y="19"/>
                        </a:moveTo>
                        <a:lnTo>
                          <a:pt x="61" y="0"/>
                        </a:lnTo>
                        <a:lnTo>
                          <a:pt x="0" y="6"/>
                        </a:lnTo>
                        <a:lnTo>
                          <a:pt x="1" y="22"/>
                        </a:lnTo>
                        <a:lnTo>
                          <a:pt x="94" y="36"/>
                        </a:lnTo>
                        <a:lnTo>
                          <a:pt x="93" y="19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30360" y="6162840"/>
                    <a:ext cx="218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7">
                        <a:moveTo>
                          <a:pt x="137" y="0"/>
                        </a:moveTo>
                        <a:lnTo>
                          <a:pt x="69" y="7"/>
                        </a:lnTo>
                        <a:lnTo>
                          <a:pt x="0" y="16"/>
                        </a:lnTo>
                        <a:lnTo>
                          <a:pt x="62" y="11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609120" y="6183000"/>
                  <a:ext cx="298440" cy="58680"/>
                  <a:chOff x="609120" y="6183000"/>
                  <a:chExt cx="298440" cy="58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flipH="1">
                    <a:off x="764640" y="6215040"/>
                    <a:ext cx="142920" cy="144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711360" y="6183000"/>
                    <a:ext cx="77760" cy="586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609120" y="6195960"/>
                    <a:ext cx="125640" cy="79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63" name=""/>
            <p:cNvSpPr/>
            <p:nvPr/>
          </p:nvSpPr>
          <p:spPr>
            <a:xfrm>
              <a:off x="733320" y="5965920"/>
              <a:ext cx="233640" cy="169920"/>
            </a:xfrm>
            <a:custGeom>
              <a:avLst/>
              <a:gdLst/>
              <a:ahLst/>
              <a:rect l="l" t="t" r="r" b="b"/>
              <a:pathLst>
                <a:path w="147" h="107">
                  <a:moveTo>
                    <a:pt x="144" y="51"/>
                  </a:moveTo>
                  <a:lnTo>
                    <a:pt x="0" y="0"/>
                  </a:lnTo>
                  <a:lnTo>
                    <a:pt x="2" y="45"/>
                  </a:lnTo>
                  <a:lnTo>
                    <a:pt x="146" y="106"/>
                  </a:lnTo>
                  <a:lnTo>
                    <a:pt x="144" y="5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160" y="5791320"/>
              <a:ext cx="244800" cy="257040"/>
            </a:xfrm>
            <a:custGeom>
              <a:avLst/>
              <a:gdLst/>
              <a:ahLst/>
              <a:rect l="l" t="t" r="r" b="b"/>
              <a:pathLst>
                <a:path w="154" h="162">
                  <a:moveTo>
                    <a:pt x="149" y="32"/>
                  </a:moveTo>
                  <a:lnTo>
                    <a:pt x="0" y="0"/>
                  </a:lnTo>
                  <a:lnTo>
                    <a:pt x="3" y="110"/>
                  </a:lnTo>
                  <a:lnTo>
                    <a:pt x="153" y="161"/>
                  </a:lnTo>
                  <a:lnTo>
                    <a:pt x="149" y="3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9720" y="5967360"/>
              <a:ext cx="1125360" cy="209520"/>
            </a:xfrm>
            <a:custGeom>
              <a:avLst/>
              <a:gdLst/>
              <a:ahLst/>
              <a:rect l="l" t="t" r="r" b="b"/>
              <a:pathLst>
                <a:path w="709" h="132">
                  <a:moveTo>
                    <a:pt x="590" y="0"/>
                  </a:moveTo>
                  <a:lnTo>
                    <a:pt x="0" y="65"/>
                  </a:lnTo>
                  <a:lnTo>
                    <a:pt x="41" y="107"/>
                  </a:lnTo>
                  <a:lnTo>
                    <a:pt x="84" y="131"/>
                  </a:lnTo>
                  <a:lnTo>
                    <a:pt x="708" y="53"/>
                  </a:lnTo>
                  <a:lnTo>
                    <a:pt x="660" y="39"/>
                  </a:lnTo>
                  <a:lnTo>
                    <a:pt x="590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699840" y="5795640"/>
              <a:ext cx="272880" cy="237960"/>
              <a:chOff x="699840" y="5795640"/>
              <a:chExt cx="272880" cy="237960"/>
            </a:xfrm>
          </p:grpSpPr>
          <p:sp>
            <p:nvSpPr>
              <p:cNvPr id="767" name=""/>
              <p:cNvSpPr/>
              <p:nvPr/>
            </p:nvSpPr>
            <p:spPr>
              <a:xfrm flipH="1" flipV="1">
                <a:off x="703080" y="5862240"/>
                <a:ext cx="26964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704880" y="5886360"/>
                <a:ext cx="225360" cy="77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705960" y="5905080"/>
                <a:ext cx="22572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704520" y="5924160"/>
                <a:ext cx="228600" cy="90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705960" y="5944680"/>
                <a:ext cx="225720" cy="8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704520" y="5844960"/>
                <a:ext cx="227160" cy="74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699840" y="5826240"/>
                <a:ext cx="22860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703440" y="5795640"/>
                <a:ext cx="226800" cy="66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19080" y="5848200"/>
                <a:ext cx="4680" cy="182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882720" y="5965920"/>
              <a:ext cx="1160280" cy="242640"/>
              <a:chOff x="882720" y="5965920"/>
              <a:chExt cx="1160280" cy="242640"/>
            </a:xfrm>
          </p:grpSpPr>
          <p:sp>
            <p:nvSpPr>
              <p:cNvPr id="777" name=""/>
              <p:cNvSpPr/>
              <p:nvPr/>
            </p:nvSpPr>
            <p:spPr>
              <a:xfrm>
                <a:off x="988920" y="6064200"/>
                <a:ext cx="263520" cy="8892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00" y="0"/>
                    </a:moveTo>
                    <a:lnTo>
                      <a:pt x="141" y="30"/>
                    </a:lnTo>
                    <a:lnTo>
                      <a:pt x="165" y="42"/>
                    </a:lnTo>
                    <a:lnTo>
                      <a:pt x="58" y="55"/>
                    </a:lnTo>
                    <a:lnTo>
                      <a:pt x="33" y="38"/>
                    </a:lnTo>
                    <a:lnTo>
                      <a:pt x="0" y="1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882720" y="5965920"/>
                <a:ext cx="1160280" cy="242640"/>
                <a:chOff x="882720" y="5965920"/>
                <a:chExt cx="1160280" cy="2426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044720" y="6051600"/>
                  <a:ext cx="988920" cy="155520"/>
                </a:xfrm>
                <a:custGeom>
                  <a:avLst/>
                  <a:gdLst/>
                  <a:ahLst/>
                  <a:rect l="l" t="t" r="r" b="b"/>
                  <a:pathLst>
                    <a:path w="623" h="98">
                      <a:moveTo>
                        <a:pt x="621" y="0"/>
                      </a:moveTo>
                      <a:lnTo>
                        <a:pt x="622" y="22"/>
                      </a:lnTo>
                      <a:lnTo>
                        <a:pt x="0" y="97"/>
                      </a:lnTo>
                      <a:lnTo>
                        <a:pt x="2" y="77"/>
                      </a:lnTo>
                      <a:lnTo>
                        <a:pt x="6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907920" y="6075360"/>
                  <a:ext cx="128880" cy="133200"/>
                </a:xfrm>
                <a:custGeom>
                  <a:avLst/>
                  <a:gdLst/>
                  <a:ahLst/>
                  <a:rect l="l" t="t" r="r" b="b"/>
                  <a:pathLst>
                    <a:path w="81" h="84">
                      <a:moveTo>
                        <a:pt x="79" y="63"/>
                      </a:moveTo>
                      <a:lnTo>
                        <a:pt x="80" y="83"/>
                      </a:lnTo>
                      <a:lnTo>
                        <a:pt x="46" y="65"/>
                      </a:lnTo>
                      <a:lnTo>
                        <a:pt x="31" y="54"/>
                      </a:lnTo>
                      <a:lnTo>
                        <a:pt x="0" y="23"/>
                      </a:lnTo>
                      <a:lnTo>
                        <a:pt x="2" y="0"/>
                      </a:lnTo>
                      <a:lnTo>
                        <a:pt x="40" y="39"/>
                      </a:lnTo>
                      <a:lnTo>
                        <a:pt x="79" y="6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1019160" y="6080040"/>
                  <a:ext cx="1023840" cy="986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988920" y="5965920"/>
                  <a:ext cx="979560" cy="206280"/>
                  <a:chOff x="988920" y="5965920"/>
                  <a:chExt cx="979560" cy="20628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1233360" y="5985000"/>
                    <a:ext cx="735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86">
                        <a:moveTo>
                          <a:pt x="381" y="0"/>
                        </a:moveTo>
                        <a:lnTo>
                          <a:pt x="437" y="30"/>
                        </a:lnTo>
                        <a:lnTo>
                          <a:pt x="462" y="39"/>
                        </a:lnTo>
                        <a:lnTo>
                          <a:pt x="71" y="85"/>
                        </a:lnTo>
                        <a:lnTo>
                          <a:pt x="42" y="70"/>
                        </a:lnTo>
                        <a:lnTo>
                          <a:pt x="0" y="41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988920" y="5965920"/>
                    <a:ext cx="971640" cy="206280"/>
                    <a:chOff x="988920" y="5965920"/>
                    <a:chExt cx="971640" cy="206280"/>
                  </a:xfrm>
                </p:grpSpPr>
                <p:grpSp>
                  <p:nvGrpSpPr>
                    <p:cNvPr id="785" name=""/>
                    <p:cNvGrpSpPr/>
                    <p:nvPr/>
                  </p:nvGrpSpPr>
                  <p:grpSpPr>
                    <a:xfrm>
                      <a:off x="1227240" y="5965920"/>
                      <a:ext cx="715680" cy="171000"/>
                      <a:chOff x="1227240" y="5965920"/>
                      <a:chExt cx="715680" cy="171000"/>
                    </a:xfrm>
                  </p:grpSpPr>
                  <p:grpSp>
                    <p:nvGrpSpPr>
                      <p:cNvPr id="786" name=""/>
                      <p:cNvGrpSpPr/>
                      <p:nvPr/>
                    </p:nvGrpSpPr>
                    <p:grpSpPr>
                      <a:xfrm>
                        <a:off x="1773360" y="5965920"/>
                        <a:ext cx="169560" cy="105840"/>
                        <a:chOff x="1773360" y="5965920"/>
                        <a:chExt cx="169560" cy="105840"/>
                      </a:xfrm>
                    </p:grpSpPr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flipH="1" flipV="1">
                          <a:off x="1872720" y="6027480"/>
                          <a:ext cx="7020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 flipH="1" flipV="1">
                          <a:off x="1773360" y="5965920"/>
                          <a:ext cx="1238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1714320" y="5973840"/>
                        <a:ext cx="169920" cy="105840"/>
                        <a:chOff x="1714320" y="5973840"/>
                        <a:chExt cx="169920" cy="1058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H="1" flipV="1">
                          <a:off x="1814400" y="603684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H="1" flipV="1">
                          <a:off x="1714320" y="5973840"/>
                          <a:ext cx="12348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2" name=""/>
                      <p:cNvGrpSpPr/>
                      <p:nvPr/>
                    </p:nvGrpSpPr>
                    <p:grpSpPr>
                      <a:xfrm>
                        <a:off x="1655280" y="5981760"/>
                        <a:ext cx="173160" cy="102960"/>
                        <a:chOff x="1655280" y="5981760"/>
                        <a:chExt cx="173160" cy="102960"/>
                      </a:xfrm>
                    </p:grpSpPr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 flipH="1" flipV="1">
                          <a:off x="1755360" y="6043680"/>
                          <a:ext cx="73080" cy="4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4" name=""/>
                        <p:cNvSpPr/>
                        <p:nvPr/>
                      </p:nvSpPr>
                      <p:spPr>
                        <a:xfrm flipH="1" flipV="1">
                          <a:off x="1655280" y="5981760"/>
                          <a:ext cx="1256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5" name=""/>
                      <p:cNvGrpSpPr/>
                      <p:nvPr/>
                    </p:nvGrpSpPr>
                    <p:grpSpPr>
                      <a:xfrm>
                        <a:off x="1604520" y="5987520"/>
                        <a:ext cx="173160" cy="103320"/>
                        <a:chOff x="1604520" y="5987520"/>
                        <a:chExt cx="173160" cy="103320"/>
                      </a:xfrm>
                    </p:grpSpPr>
                    <p:sp>
                      <p:nvSpPr>
                        <p:cNvPr id="796" name=""/>
                        <p:cNvSpPr/>
                        <p:nvPr/>
                      </p:nvSpPr>
                      <p:spPr>
                        <a:xfrm flipH="1" flipV="1">
                          <a:off x="1706040" y="6049440"/>
                          <a:ext cx="7164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7" name=""/>
                        <p:cNvSpPr/>
                        <p:nvPr/>
                      </p:nvSpPr>
                      <p:spPr>
                        <a:xfrm flipH="1" flipV="1">
                          <a:off x="1604520" y="5987520"/>
                          <a:ext cx="12564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8" name=""/>
                      <p:cNvGrpSpPr/>
                      <p:nvPr/>
                    </p:nvGrpSpPr>
                    <p:grpSpPr>
                      <a:xfrm>
                        <a:off x="1547280" y="5991120"/>
                        <a:ext cx="169920" cy="106200"/>
                        <a:chOff x="1547280" y="5991120"/>
                        <a:chExt cx="169920" cy="106200"/>
                      </a:xfrm>
                    </p:grpSpPr>
                    <p:sp>
                      <p:nvSpPr>
                        <p:cNvPr id="799" name=""/>
                        <p:cNvSpPr/>
                        <p:nvPr/>
                      </p:nvSpPr>
                      <p:spPr>
                        <a:xfrm flipH="1" flipV="1">
                          <a:off x="1649160" y="6054480"/>
                          <a:ext cx="680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0" name=""/>
                        <p:cNvSpPr/>
                        <p:nvPr/>
                      </p:nvSpPr>
                      <p:spPr>
                        <a:xfrm flipH="1" flipV="1">
                          <a:off x="1547280" y="5991120"/>
                          <a:ext cx="1256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1" name=""/>
                      <p:cNvGrpSpPr/>
                      <p:nvPr/>
                    </p:nvGrpSpPr>
                    <p:grpSpPr>
                      <a:xfrm>
                        <a:off x="1492200" y="5997600"/>
                        <a:ext cx="172800" cy="105840"/>
                        <a:chOff x="1492200" y="5997600"/>
                        <a:chExt cx="172800" cy="105840"/>
                      </a:xfrm>
                    </p:grpSpPr>
                    <p:sp>
                      <p:nvSpPr>
                        <p:cNvPr id="802" name=""/>
                        <p:cNvSpPr/>
                        <p:nvPr/>
                      </p:nvSpPr>
                      <p:spPr>
                        <a:xfrm flipH="1" flipV="1">
                          <a:off x="1593360" y="6060600"/>
                          <a:ext cx="716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 flipH="1" flipV="1">
                          <a:off x="1492200" y="5997600"/>
                          <a:ext cx="12384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4" name=""/>
                      <p:cNvGrpSpPr/>
                      <p:nvPr/>
                    </p:nvGrpSpPr>
                    <p:grpSpPr>
                      <a:xfrm>
                        <a:off x="1439640" y="6000480"/>
                        <a:ext cx="169920" cy="106560"/>
                        <a:chOff x="1439640" y="6000480"/>
                        <a:chExt cx="169920" cy="106560"/>
                      </a:xfrm>
                    </p:grpSpPr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H="1" flipV="1">
                          <a:off x="1536840" y="6067440"/>
                          <a:ext cx="7272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H="1" flipV="1">
                          <a:off x="1439640" y="6000480"/>
                          <a:ext cx="1220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7" name=""/>
                      <p:cNvGrpSpPr/>
                      <p:nvPr/>
                    </p:nvGrpSpPr>
                    <p:grpSpPr>
                      <a:xfrm>
                        <a:off x="1386000" y="6013440"/>
                        <a:ext cx="172800" cy="103320"/>
                        <a:chOff x="1386000" y="6013440"/>
                        <a:chExt cx="172800" cy="103320"/>
                      </a:xfrm>
                    </p:grpSpPr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H="1" flipV="1">
                          <a:off x="1486080" y="6072120"/>
                          <a:ext cx="72720" cy="44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H="1" flipV="1">
                          <a:off x="1386000" y="6013440"/>
                          <a:ext cx="123840" cy="8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0" name=""/>
                      <p:cNvGrpSpPr/>
                      <p:nvPr/>
                    </p:nvGrpSpPr>
                    <p:grpSpPr>
                      <a:xfrm>
                        <a:off x="1334880" y="6022800"/>
                        <a:ext cx="172800" cy="102960"/>
                        <a:chOff x="1334880" y="6022800"/>
                        <a:chExt cx="172800" cy="102960"/>
                      </a:xfrm>
                    </p:grpSpPr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H="1" flipV="1">
                          <a:off x="1433160" y="6082920"/>
                          <a:ext cx="7452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H="1" flipV="1">
                          <a:off x="1334880" y="6022800"/>
                          <a:ext cx="122040" cy="8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3" name=""/>
                      <p:cNvGrpSpPr/>
                      <p:nvPr/>
                    </p:nvGrpSpPr>
                    <p:grpSpPr>
                      <a:xfrm>
                        <a:off x="1278000" y="6021000"/>
                        <a:ext cx="172800" cy="113040"/>
                        <a:chOff x="1278000" y="6021000"/>
                        <a:chExt cx="172800" cy="113040"/>
                      </a:xfrm>
                    </p:grpSpPr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H="1" flipV="1">
                          <a:off x="1378080" y="6087960"/>
                          <a:ext cx="7272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H="1" flipV="1">
                          <a:off x="1278000" y="6021000"/>
                          <a:ext cx="123840" cy="88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6" name=""/>
                      <p:cNvGrpSpPr/>
                      <p:nvPr/>
                    </p:nvGrpSpPr>
                    <p:grpSpPr>
                      <a:xfrm>
                        <a:off x="1227240" y="6031080"/>
                        <a:ext cx="169920" cy="105840"/>
                        <a:chOff x="1227240" y="6031080"/>
                        <a:chExt cx="169920" cy="105840"/>
                      </a:xfrm>
                    </p:grpSpPr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 flipH="1" flipV="1">
                          <a:off x="1327320" y="6094080"/>
                          <a:ext cx="6984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H="1" flipV="1">
                          <a:off x="1227240" y="6031080"/>
                          <a:ext cx="123840" cy="85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993600" y="6049440"/>
                      <a:ext cx="236880" cy="122760"/>
                      <a:chOff x="993600" y="6049440"/>
                      <a:chExt cx="236880" cy="122760"/>
                    </a:xfrm>
                  </p:grpSpPr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993600" y="6056280"/>
                        <a:ext cx="150480" cy="115920"/>
                        <a:chOff x="993600" y="6056280"/>
                        <a:chExt cx="150480" cy="115920"/>
                      </a:xfrm>
                    </p:grpSpPr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 flipV="1">
                          <a:off x="1077480" y="6126120"/>
                          <a:ext cx="666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 flipV="1">
                          <a:off x="993600" y="6056280"/>
                          <a:ext cx="108000" cy="9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3" name=""/>
                      <p:cNvGrpSpPr/>
                      <p:nvPr/>
                    </p:nvGrpSpPr>
                    <p:grpSpPr>
                      <a:xfrm>
                        <a:off x="1036800" y="6053040"/>
                        <a:ext cx="150120" cy="112680"/>
                        <a:chOff x="1036800" y="6053040"/>
                        <a:chExt cx="150120" cy="112680"/>
                      </a:xfrm>
                    </p:grpSpPr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 flipV="1">
                          <a:off x="1120320" y="6118200"/>
                          <a:ext cx="6660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 flipV="1">
                          <a:off x="1036800" y="6053040"/>
                          <a:ext cx="109440" cy="90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1085400" y="6049440"/>
                        <a:ext cx="145080" cy="109800"/>
                        <a:chOff x="1085400" y="6049440"/>
                        <a:chExt cx="145080" cy="10980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 flipV="1">
                          <a:off x="1163520" y="6111360"/>
                          <a:ext cx="66960" cy="47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 flipV="1">
                          <a:off x="1085400" y="6049440"/>
                          <a:ext cx="103320" cy="8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29" name=""/>
                    <p:cNvSpPr/>
                    <p:nvPr/>
                  </p:nvSpPr>
                  <p:spPr>
                    <a:xfrm flipH="1">
                      <a:off x="988920" y="6018120"/>
                      <a:ext cx="906480" cy="698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>
                      <a:off x="1006200" y="6035760"/>
                      <a:ext cx="917640" cy="730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flipH="1">
                      <a:off x="1031760" y="6049800"/>
                      <a:ext cx="928800" cy="8424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882720" y="6075360"/>
                  <a:ext cx="162000" cy="128160"/>
                  <a:chOff x="882720" y="6075360"/>
                  <a:chExt cx="162000" cy="1281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 flipV="1">
                    <a:off x="954000" y="6138360"/>
                    <a:ext cx="90720" cy="651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 flipV="1">
                    <a:off x="882720" y="6075360"/>
                    <a:ext cx="92160" cy="856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35" name=""/>
          <p:cNvGrpSpPr/>
          <p:nvPr/>
        </p:nvGrpSpPr>
        <p:grpSpPr>
          <a:xfrm>
            <a:off x="6726240" y="4834080"/>
            <a:ext cx="1728720" cy="1350720"/>
            <a:chOff x="6726240" y="4834080"/>
            <a:chExt cx="1728720" cy="1350720"/>
          </a:xfrm>
        </p:grpSpPr>
        <p:sp>
          <p:nvSpPr>
            <p:cNvPr id="836" name=""/>
            <p:cNvSpPr/>
            <p:nvPr/>
          </p:nvSpPr>
          <p:spPr>
            <a:xfrm>
              <a:off x="6726240" y="5881680"/>
              <a:ext cx="169920" cy="10620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6" y="2"/>
                  </a:moveTo>
                  <a:lnTo>
                    <a:pt x="82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39" y="4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1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4" y="37"/>
                  </a:lnTo>
                  <a:lnTo>
                    <a:pt x="23" y="38"/>
                  </a:lnTo>
                  <a:lnTo>
                    <a:pt x="32" y="38"/>
                  </a:lnTo>
                  <a:lnTo>
                    <a:pt x="44" y="37"/>
                  </a:lnTo>
                  <a:lnTo>
                    <a:pt x="55" y="39"/>
                  </a:lnTo>
                  <a:lnTo>
                    <a:pt x="63" y="41"/>
                  </a:lnTo>
                  <a:lnTo>
                    <a:pt x="72" y="43"/>
                  </a:lnTo>
                  <a:lnTo>
                    <a:pt x="80" y="48"/>
                  </a:lnTo>
                  <a:lnTo>
                    <a:pt x="104" y="66"/>
                  </a:lnTo>
                  <a:lnTo>
                    <a:pt x="103" y="66"/>
                  </a:lnTo>
                  <a:lnTo>
                    <a:pt x="103" y="64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870600" y="5549760"/>
              <a:ext cx="1344600" cy="530280"/>
              <a:chOff x="6870600" y="5549760"/>
              <a:chExt cx="1344600" cy="530280"/>
            </a:xfrm>
          </p:grpSpPr>
          <p:sp>
            <p:nvSpPr>
              <p:cNvPr id="838" name=""/>
              <p:cNvSpPr/>
              <p:nvPr/>
            </p:nvSpPr>
            <p:spPr>
              <a:xfrm>
                <a:off x="6873840" y="5797440"/>
                <a:ext cx="1341360" cy="282600"/>
              </a:xfrm>
              <a:custGeom>
                <a:avLst/>
                <a:gdLst/>
                <a:ahLst/>
                <a:rect l="l" t="t" r="r" b="b"/>
                <a:pathLst>
                  <a:path w="845" h="178">
                    <a:moveTo>
                      <a:pt x="4" y="0"/>
                    </a:moveTo>
                    <a:lnTo>
                      <a:pt x="0" y="60"/>
                    </a:lnTo>
                    <a:lnTo>
                      <a:pt x="676" y="177"/>
                    </a:lnTo>
                    <a:lnTo>
                      <a:pt x="840" y="104"/>
                    </a:lnTo>
                    <a:lnTo>
                      <a:pt x="844" y="50"/>
                    </a:lnTo>
                    <a:lnTo>
                      <a:pt x="675" y="1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870600" y="5549760"/>
                <a:ext cx="1096920" cy="422280"/>
              </a:xfrm>
              <a:custGeom>
                <a:avLst/>
                <a:gdLst/>
                <a:ahLst/>
                <a:rect l="l" t="t" r="r" b="b"/>
                <a:pathLst>
                  <a:path w="691" h="266">
                    <a:moveTo>
                      <a:pt x="11" y="0"/>
                    </a:moveTo>
                    <a:lnTo>
                      <a:pt x="690" y="95"/>
                    </a:lnTo>
                    <a:lnTo>
                      <a:pt x="678" y="265"/>
                    </a:lnTo>
                    <a:lnTo>
                      <a:pt x="0" y="15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6897600" y="5629320"/>
                <a:ext cx="1062000" cy="191880"/>
                <a:chOff x="6897600" y="5629320"/>
                <a:chExt cx="1062000" cy="19188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6900840" y="5629320"/>
                  <a:ext cx="1058760" cy="13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697880" y="5751360"/>
                  <a:ext cx="1998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431120" y="5711760"/>
                  <a:ext cx="2016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897600" y="5676840"/>
                  <a:ext cx="106056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6873840" y="5529240"/>
              <a:ext cx="1344600" cy="163440"/>
              <a:chOff x="6873840" y="5529240"/>
              <a:chExt cx="1344600" cy="163440"/>
            </a:xfrm>
          </p:grpSpPr>
          <p:sp>
            <p:nvSpPr>
              <p:cNvPr id="846" name=""/>
              <p:cNvSpPr/>
              <p:nvPr/>
            </p:nvSpPr>
            <p:spPr>
              <a:xfrm>
                <a:off x="6873840" y="5529240"/>
                <a:ext cx="1344600" cy="163440"/>
              </a:xfrm>
              <a:custGeom>
                <a:avLst/>
                <a:gdLst/>
                <a:ahLst/>
                <a:rect l="l" t="t" r="r" b="b"/>
                <a:pathLst>
                  <a:path w="847" h="103">
                    <a:moveTo>
                      <a:pt x="0" y="9"/>
                    </a:moveTo>
                    <a:lnTo>
                      <a:pt x="680" y="102"/>
                    </a:lnTo>
                    <a:lnTo>
                      <a:pt x="846" y="71"/>
                    </a:lnTo>
                    <a:lnTo>
                      <a:pt x="790" y="61"/>
                    </a:lnTo>
                    <a:lnTo>
                      <a:pt x="26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82000" y="5554800"/>
                <a:ext cx="987120" cy="118800"/>
              </a:xfrm>
              <a:custGeom>
                <a:avLst/>
                <a:gdLst/>
                <a:ahLst/>
                <a:rect l="l" t="t" r="r" b="b"/>
                <a:pathLst>
                  <a:path w="622" h="75">
                    <a:moveTo>
                      <a:pt x="50" y="0"/>
                    </a:moveTo>
                    <a:lnTo>
                      <a:pt x="0" y="12"/>
                    </a:lnTo>
                    <a:lnTo>
                      <a:pt x="498" y="74"/>
                    </a:lnTo>
                    <a:lnTo>
                      <a:pt x="581" y="61"/>
                    </a:lnTo>
                    <a:lnTo>
                      <a:pt x="575" y="57"/>
                    </a:lnTo>
                    <a:lnTo>
                      <a:pt x="621" y="49"/>
                    </a:lnTo>
                    <a:lnTo>
                      <a:pt x="593" y="4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7951680" y="4854600"/>
              <a:ext cx="281160" cy="763560"/>
              <a:chOff x="7951680" y="4854600"/>
              <a:chExt cx="281160" cy="76356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8051760" y="4957920"/>
                <a:ext cx="181080" cy="637920"/>
                <a:chOff x="8051760" y="4957920"/>
                <a:chExt cx="181080" cy="6379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8051760" y="4957920"/>
                  <a:ext cx="181080" cy="637920"/>
                </a:xfrm>
                <a:custGeom>
                  <a:avLst/>
                  <a:gdLst/>
                  <a:ahLst/>
                  <a:rect l="l" t="t" r="r" b="b"/>
                  <a:pathLst>
                    <a:path w="114" h="402">
                      <a:moveTo>
                        <a:pt x="36" y="0"/>
                      </a:moveTo>
                      <a:lnTo>
                        <a:pt x="113" y="39"/>
                      </a:lnTo>
                      <a:lnTo>
                        <a:pt x="95" y="195"/>
                      </a:lnTo>
                      <a:lnTo>
                        <a:pt x="73" y="384"/>
                      </a:lnTo>
                      <a:lnTo>
                        <a:pt x="0" y="401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1" name=""/>
                <p:cNvGrpSpPr/>
                <p:nvPr/>
              </p:nvGrpSpPr>
              <p:grpSpPr>
                <a:xfrm>
                  <a:off x="8070840" y="5002200"/>
                  <a:ext cx="157320" cy="541440"/>
                  <a:chOff x="8070840" y="5002200"/>
                  <a:chExt cx="157320" cy="541440"/>
                </a:xfrm>
              </p:grpSpPr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8070840" y="5002200"/>
                    <a:ext cx="157320" cy="541440"/>
                    <a:chOff x="8070840" y="5002200"/>
                    <a:chExt cx="157320" cy="541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8088480" y="5002200"/>
                      <a:ext cx="139680" cy="314280"/>
                      <a:chOff x="8088480" y="5002200"/>
                      <a:chExt cx="139680" cy="31428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8110440" y="5002200"/>
                        <a:ext cx="117720" cy="155520"/>
                        <a:chOff x="8110440" y="5002200"/>
                        <a:chExt cx="117720" cy="155520"/>
                      </a:xfrm>
                    </p:grpSpPr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>
                          <a:off x="8123400" y="5002200"/>
                          <a:ext cx="10476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8120160" y="5027760"/>
                          <a:ext cx="10296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8118360" y="5056200"/>
                          <a:ext cx="10332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8115480" y="5086440"/>
                          <a:ext cx="104760" cy="21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>
                          <a:off x="8112240" y="5113440"/>
                          <a:ext cx="104760" cy="20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8110440" y="5141880"/>
                          <a:ext cx="101520" cy="15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61" name=""/>
                      <p:cNvSpPr/>
                      <p:nvPr/>
                    </p:nvSpPr>
                    <p:spPr>
                      <a:xfrm>
                        <a:off x="8094600" y="5199120"/>
                        <a:ext cx="10944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8093160" y="5227560"/>
                        <a:ext cx="10800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8091360" y="5256360"/>
                        <a:ext cx="108000" cy="28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8089920" y="5280120"/>
                        <a:ext cx="10620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8088480" y="5308560"/>
                        <a:ext cx="10620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6" name=""/>
                    <p:cNvGrpSpPr/>
                    <p:nvPr/>
                  </p:nvGrpSpPr>
                  <p:grpSpPr>
                    <a:xfrm>
                      <a:off x="8070840" y="5338800"/>
                      <a:ext cx="119160" cy="204840"/>
                      <a:chOff x="8070840" y="5338800"/>
                      <a:chExt cx="119160" cy="204840"/>
                    </a:xfrm>
                  </p:grpSpPr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8086680" y="5338800"/>
                        <a:ext cx="103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8088480" y="5365800"/>
                        <a:ext cx="982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8082000" y="5391000"/>
                        <a:ext cx="10008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8080200" y="5419800"/>
                        <a:ext cx="100080" cy="61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8078760" y="5446800"/>
                        <a:ext cx="982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075520" y="5460480"/>
                        <a:ext cx="98640" cy="255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072280" y="5486400"/>
                        <a:ext cx="10008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 flipV="1">
                        <a:off x="8070840" y="5511960"/>
                        <a:ext cx="9540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75" name=""/>
                  <p:cNvSpPr/>
                  <p:nvPr/>
                </p:nvSpPr>
                <p:spPr>
                  <a:xfrm>
                    <a:off x="8104320" y="5172120"/>
                    <a:ext cx="102960" cy="111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7951680" y="4854600"/>
                <a:ext cx="176400" cy="763560"/>
                <a:chOff x="7951680" y="4854600"/>
                <a:chExt cx="176400" cy="7635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951680" y="4854600"/>
                  <a:ext cx="173160" cy="763560"/>
                </a:xfrm>
                <a:custGeom>
                  <a:avLst/>
                  <a:gdLst/>
                  <a:ahLst/>
                  <a:rect l="l" t="t" r="r" b="b"/>
                  <a:pathLst>
                    <a:path w="109" h="481">
                      <a:moveTo>
                        <a:pt x="52" y="0"/>
                      </a:moveTo>
                      <a:lnTo>
                        <a:pt x="103" y="30"/>
                      </a:lnTo>
                      <a:lnTo>
                        <a:pt x="108" y="34"/>
                      </a:lnTo>
                      <a:lnTo>
                        <a:pt x="62" y="464"/>
                      </a:lnTo>
                      <a:lnTo>
                        <a:pt x="54" y="468"/>
                      </a:lnTo>
                      <a:lnTo>
                        <a:pt x="0" y="480"/>
                      </a:lnTo>
                      <a:lnTo>
                        <a:pt x="8" y="472"/>
                      </a:lnTo>
                      <a:lnTo>
                        <a:pt x="8" y="46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240000">
                  <a:off x="8118000" y="4903200"/>
                  <a:ext cx="9360" cy="1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85" y="554"/>
                      </a:moveTo>
                      <a:arcTo wR="10800" hR="10800" stAng="-6506097" swAng="65060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85" y="554"/>
                      </a:moveTo>
                      <a:arcTo wR="10800" hR="10800" stAng="-6506097" swAng="6506097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"/>
            <p:cNvGrpSpPr/>
            <p:nvPr/>
          </p:nvGrpSpPr>
          <p:grpSpPr>
            <a:xfrm>
              <a:off x="8035920" y="6018120"/>
              <a:ext cx="419040" cy="166680"/>
              <a:chOff x="8035920" y="6018120"/>
              <a:chExt cx="419040" cy="166680"/>
            </a:xfrm>
          </p:grpSpPr>
          <p:sp>
            <p:nvSpPr>
              <p:cNvPr id="880" name=""/>
              <p:cNvSpPr/>
              <p:nvPr/>
            </p:nvSpPr>
            <p:spPr>
              <a:xfrm>
                <a:off x="8035920" y="6018120"/>
                <a:ext cx="419040" cy="136440"/>
              </a:xfrm>
              <a:custGeom>
                <a:avLst/>
                <a:gdLst/>
                <a:ahLst/>
                <a:rect l="l" t="t" r="r" b="b"/>
                <a:pathLst>
                  <a:path w="264" h="86">
                    <a:moveTo>
                      <a:pt x="0" y="0"/>
                    </a:moveTo>
                    <a:lnTo>
                      <a:pt x="50" y="6"/>
                    </a:lnTo>
                    <a:lnTo>
                      <a:pt x="86" y="11"/>
                    </a:lnTo>
                    <a:lnTo>
                      <a:pt x="119" y="16"/>
                    </a:lnTo>
                    <a:lnTo>
                      <a:pt x="152" y="23"/>
                    </a:lnTo>
                    <a:lnTo>
                      <a:pt x="174" y="28"/>
                    </a:lnTo>
                    <a:lnTo>
                      <a:pt x="202" y="35"/>
                    </a:lnTo>
                    <a:lnTo>
                      <a:pt x="218" y="39"/>
                    </a:lnTo>
                    <a:lnTo>
                      <a:pt x="230" y="42"/>
                    </a:lnTo>
                    <a:lnTo>
                      <a:pt x="236" y="44"/>
                    </a:lnTo>
                    <a:lnTo>
                      <a:pt x="241" y="46"/>
                    </a:lnTo>
                    <a:lnTo>
                      <a:pt x="247" y="48"/>
                    </a:lnTo>
                    <a:lnTo>
                      <a:pt x="254" y="52"/>
                    </a:lnTo>
                    <a:lnTo>
                      <a:pt x="260" y="55"/>
                    </a:lnTo>
                    <a:lnTo>
                      <a:pt x="263" y="59"/>
                    </a:lnTo>
                    <a:lnTo>
                      <a:pt x="263" y="62"/>
                    </a:lnTo>
                    <a:lnTo>
                      <a:pt x="261" y="66"/>
                    </a:lnTo>
                    <a:lnTo>
                      <a:pt x="259" y="71"/>
                    </a:lnTo>
                    <a:lnTo>
                      <a:pt x="255" y="75"/>
                    </a:lnTo>
                    <a:lnTo>
                      <a:pt x="251" y="78"/>
                    </a:lnTo>
                    <a:lnTo>
                      <a:pt x="245" y="81"/>
                    </a:lnTo>
                    <a:lnTo>
                      <a:pt x="239" y="84"/>
                    </a:lnTo>
                    <a:lnTo>
                      <a:pt x="231" y="83"/>
                    </a:lnTo>
                    <a:lnTo>
                      <a:pt x="223" y="85"/>
                    </a:lnTo>
                    <a:lnTo>
                      <a:pt x="214" y="84"/>
                    </a:lnTo>
                    <a:lnTo>
                      <a:pt x="204" y="82"/>
                    </a:lnTo>
                    <a:lnTo>
                      <a:pt x="190" y="79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8045280" y="6076800"/>
                <a:ext cx="289080" cy="108000"/>
                <a:chOff x="8045280" y="6076800"/>
                <a:chExt cx="289080" cy="10800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8045280" y="6076800"/>
                  <a:ext cx="289080" cy="108000"/>
                  <a:chOff x="8045280" y="6076800"/>
                  <a:chExt cx="289080" cy="10800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8047080" y="6076800"/>
                    <a:ext cx="1746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3">
                        <a:moveTo>
                          <a:pt x="0" y="20"/>
                        </a:moveTo>
                        <a:lnTo>
                          <a:pt x="30" y="0"/>
                        </a:lnTo>
                        <a:lnTo>
                          <a:pt x="109" y="18"/>
                        </a:lnTo>
                        <a:lnTo>
                          <a:pt x="75" y="42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8045280" y="6116760"/>
                    <a:ext cx="11916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3">
                        <a:moveTo>
                          <a:pt x="1" y="0"/>
                        </a:move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73" y="42"/>
                        </a:lnTo>
                        <a:lnTo>
                          <a:pt x="74" y="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8174160" y="6110280"/>
                    <a:ext cx="1587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7">
                        <a:moveTo>
                          <a:pt x="1" y="25"/>
                        </a:moveTo>
                        <a:lnTo>
                          <a:pt x="34" y="0"/>
                        </a:lnTo>
                        <a:lnTo>
                          <a:pt x="99" y="12"/>
                        </a:lnTo>
                        <a:lnTo>
                          <a:pt x="98" y="32"/>
                        </a:lnTo>
                        <a:lnTo>
                          <a:pt x="0" y="46"/>
                        </a:lnTo>
                        <a:lnTo>
                          <a:pt x="1" y="2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8097840" y="6078600"/>
                    <a:ext cx="2365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6">
                        <a:moveTo>
                          <a:pt x="0" y="0"/>
                        </a:moveTo>
                        <a:lnTo>
                          <a:pt x="75" y="8"/>
                        </a:lnTo>
                        <a:lnTo>
                          <a:pt x="148" y="25"/>
                        </a:lnTo>
                        <a:lnTo>
                          <a:pt x="81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8062920" y="6108480"/>
                  <a:ext cx="266760" cy="66600"/>
                  <a:chOff x="8062920" y="6108480"/>
                  <a:chExt cx="266760" cy="66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8062920" y="6141960"/>
                    <a:ext cx="100080" cy="972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V="1">
                    <a:off x="8188200" y="6108480"/>
                    <a:ext cx="32040" cy="666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8250120" y="6129360"/>
                    <a:ext cx="79560" cy="14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91" name=""/>
            <p:cNvSpPr/>
            <p:nvPr/>
          </p:nvSpPr>
          <p:spPr>
            <a:xfrm>
              <a:off x="7962840" y="5832360"/>
              <a:ext cx="260280" cy="21132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5" y="61"/>
                  </a:moveTo>
                  <a:lnTo>
                    <a:pt x="163" y="0"/>
                  </a:lnTo>
                  <a:lnTo>
                    <a:pt x="159" y="57"/>
                  </a:lnTo>
                  <a:lnTo>
                    <a:pt x="0" y="132"/>
                  </a:lnTo>
                  <a:lnTo>
                    <a:pt x="5" y="61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956720" y="5608800"/>
              <a:ext cx="276120" cy="32364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12" y="34"/>
                  </a:moveTo>
                  <a:lnTo>
                    <a:pt x="173" y="0"/>
                  </a:lnTo>
                  <a:lnTo>
                    <a:pt x="163" y="143"/>
                  </a:lnTo>
                  <a:lnTo>
                    <a:pt x="0" y="203"/>
                  </a:lnTo>
                  <a:lnTo>
                    <a:pt x="12" y="3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40680" y="4946760"/>
              <a:ext cx="674640" cy="571320"/>
            </a:xfrm>
            <a:custGeom>
              <a:avLst/>
              <a:gdLst/>
              <a:ahLst/>
              <a:rect l="l" t="t" r="r" b="b"/>
              <a:pathLst>
                <a:path w="425" h="360">
                  <a:moveTo>
                    <a:pt x="38" y="0"/>
                  </a:moveTo>
                  <a:lnTo>
                    <a:pt x="424" y="27"/>
                  </a:lnTo>
                  <a:lnTo>
                    <a:pt x="384" y="359"/>
                  </a:lnTo>
                  <a:lnTo>
                    <a:pt x="0" y="312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32440" y="5846760"/>
              <a:ext cx="1200240" cy="295200"/>
            </a:xfrm>
            <a:custGeom>
              <a:avLst/>
              <a:gdLst/>
              <a:ahLst/>
              <a:rect l="l" t="t" r="r" b="b"/>
              <a:pathLst>
                <a:path w="756" h="186">
                  <a:moveTo>
                    <a:pt x="128" y="0"/>
                  </a:moveTo>
                  <a:lnTo>
                    <a:pt x="755" y="104"/>
                  </a:lnTo>
                  <a:lnTo>
                    <a:pt x="706" y="155"/>
                  </a:lnTo>
                  <a:lnTo>
                    <a:pt x="661" y="185"/>
                  </a:lnTo>
                  <a:lnTo>
                    <a:pt x="0" y="66"/>
                  </a:lnTo>
                  <a:lnTo>
                    <a:pt x="51" y="48"/>
                  </a:lnTo>
                  <a:lnTo>
                    <a:pt x="128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7981920" y="5621400"/>
              <a:ext cx="244440" cy="291960"/>
              <a:chOff x="7981920" y="5621400"/>
              <a:chExt cx="244440" cy="291960"/>
            </a:xfrm>
          </p:grpSpPr>
          <p:sp>
            <p:nvSpPr>
              <p:cNvPr id="896" name=""/>
              <p:cNvSpPr/>
              <p:nvPr/>
            </p:nvSpPr>
            <p:spPr>
              <a:xfrm flipV="1">
                <a:off x="7981920" y="5707080"/>
                <a:ext cx="23976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8023320" y="5732280"/>
                <a:ext cx="193680" cy="91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8021520" y="5758920"/>
                <a:ext cx="193680" cy="96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8021520" y="5784840"/>
                <a:ext cx="19548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8018640" y="5808240"/>
                <a:ext cx="195120" cy="10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8028000" y="5678280"/>
                <a:ext cx="193680" cy="82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8032680" y="5649840"/>
                <a:ext cx="192240" cy="76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8034480" y="5621400"/>
                <a:ext cx="191880" cy="71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991280" y="5672160"/>
                <a:ext cx="42840" cy="241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7147080" y="4834080"/>
              <a:ext cx="889200" cy="819000"/>
              <a:chOff x="7147080" y="4834080"/>
              <a:chExt cx="889200" cy="8190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7147080" y="4834080"/>
                <a:ext cx="889200" cy="819000"/>
                <a:chOff x="7147080" y="4834080"/>
                <a:chExt cx="889200" cy="81900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7147080" y="4834080"/>
                  <a:ext cx="889200" cy="819000"/>
                  <a:chOff x="7147080" y="4834080"/>
                  <a:chExt cx="889200" cy="8190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7147080" y="4834080"/>
                    <a:ext cx="888840" cy="81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16">
                        <a:moveTo>
                          <a:pt x="73" y="0"/>
                        </a:moveTo>
                        <a:lnTo>
                          <a:pt x="118" y="2"/>
                        </a:lnTo>
                        <a:lnTo>
                          <a:pt x="180" y="1"/>
                        </a:lnTo>
                        <a:lnTo>
                          <a:pt x="244" y="4"/>
                        </a:lnTo>
                        <a:lnTo>
                          <a:pt x="320" y="10"/>
                        </a:lnTo>
                        <a:lnTo>
                          <a:pt x="373" y="14"/>
                        </a:lnTo>
                        <a:lnTo>
                          <a:pt x="454" y="22"/>
                        </a:lnTo>
                        <a:lnTo>
                          <a:pt x="531" y="33"/>
                        </a:lnTo>
                        <a:lnTo>
                          <a:pt x="550" y="35"/>
                        </a:lnTo>
                        <a:lnTo>
                          <a:pt x="553" y="36"/>
                        </a:lnTo>
                        <a:lnTo>
                          <a:pt x="556" y="38"/>
                        </a:lnTo>
                        <a:lnTo>
                          <a:pt x="559" y="43"/>
                        </a:lnTo>
                        <a:lnTo>
                          <a:pt x="559" y="47"/>
                        </a:lnTo>
                        <a:lnTo>
                          <a:pt x="506" y="506"/>
                        </a:lnTo>
                        <a:lnTo>
                          <a:pt x="504" y="513"/>
                        </a:lnTo>
                        <a:lnTo>
                          <a:pt x="497" y="515"/>
                        </a:lnTo>
                        <a:lnTo>
                          <a:pt x="328" y="491"/>
                        </a:lnTo>
                        <a:lnTo>
                          <a:pt x="161" y="467"/>
                        </a:lnTo>
                        <a:lnTo>
                          <a:pt x="7" y="446"/>
                        </a:lnTo>
                        <a:lnTo>
                          <a:pt x="0" y="435"/>
                        </a:lnTo>
                        <a:lnTo>
                          <a:pt x="54" y="14"/>
                        </a:lnTo>
                        <a:lnTo>
                          <a:pt x="7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240000">
                    <a:off x="8003520" y="4892040"/>
                    <a:ext cx="31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58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5884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240000">
                    <a:off x="7233120" y="4839840"/>
                    <a:ext cx="734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3" y="9460"/>
                        </a:moveTo>
                        <a:arcTo wR="10800" hR="10800" stAng="-10372499" swAng="48231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3" y="9460"/>
                        </a:moveTo>
                        <a:arcTo wR="10800" hR="10800" stAng="-10372499" swAng="482312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240000">
                    <a:off x="7150320" y="5507640"/>
                    <a:ext cx="2196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242120" y="4944960"/>
                  <a:ext cx="673200" cy="571680"/>
                  <a:chOff x="7242120" y="4944960"/>
                  <a:chExt cx="673200" cy="571680"/>
                </a:xfrm>
              </p:grpSpPr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7242120" y="4944960"/>
                    <a:ext cx="673200" cy="571680"/>
                    <a:chOff x="7242120" y="4944960"/>
                    <a:chExt cx="673200" cy="57168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7302600" y="4944960"/>
                      <a:ext cx="6127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28">
                          <a:moveTo>
                            <a:pt x="0" y="1"/>
                          </a:moveTo>
                          <a:lnTo>
                            <a:pt x="385" y="27"/>
                          </a:lnTo>
                          <a:lnTo>
                            <a:pt x="376" y="26"/>
                          </a:lnTo>
                          <a:lnTo>
                            <a:pt x="8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7850160" y="4987800"/>
                      <a:ext cx="651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33">
                          <a:moveTo>
                            <a:pt x="33" y="7"/>
                          </a:moveTo>
                          <a:lnTo>
                            <a:pt x="40" y="0"/>
                          </a:lnTo>
                          <a:lnTo>
                            <a:pt x="22" y="181"/>
                          </a:lnTo>
                          <a:lnTo>
                            <a:pt x="6" y="332"/>
                          </a:lnTo>
                          <a:lnTo>
                            <a:pt x="0" y="322"/>
                          </a:lnTo>
                          <a:lnTo>
                            <a:pt x="33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7242120" y="5442120"/>
                      <a:ext cx="61128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46">
                          <a:moveTo>
                            <a:pt x="8" y="0"/>
                          </a:moveTo>
                          <a:lnTo>
                            <a:pt x="0" y="5"/>
                          </a:lnTo>
                          <a:lnTo>
                            <a:pt x="384" y="45"/>
                          </a:lnTo>
                          <a:lnTo>
                            <a:pt x="375" y="3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7242120" y="4944960"/>
                      <a:ext cx="60480" cy="49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313">
                          <a:moveTo>
                            <a:pt x="33" y="0"/>
                          </a:moveTo>
                          <a:lnTo>
                            <a:pt x="37" y="8"/>
                          </a:lnTo>
                          <a:lnTo>
                            <a:pt x="6" y="305"/>
                          </a:lnTo>
                          <a:lnTo>
                            <a:pt x="0" y="312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7256520" y="4957920"/>
                    <a:ext cx="642960" cy="542880"/>
                    <a:chOff x="7256520" y="4957920"/>
                    <a:chExt cx="642960" cy="54288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7256520" y="4957920"/>
                      <a:ext cx="64296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5" h="342">
                          <a:moveTo>
                            <a:pt x="36" y="0"/>
                          </a:moveTo>
                          <a:lnTo>
                            <a:pt x="404" y="26"/>
                          </a:lnTo>
                          <a:lnTo>
                            <a:pt x="366" y="341"/>
                          </a:lnTo>
                          <a:lnTo>
                            <a:pt x="0" y="297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7277040" y="4979880"/>
                      <a:ext cx="600120" cy="50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" h="315">
                          <a:moveTo>
                            <a:pt x="33" y="0"/>
                          </a:moveTo>
                          <a:lnTo>
                            <a:pt x="377" y="24"/>
                          </a:lnTo>
                          <a:lnTo>
                            <a:pt x="341" y="314"/>
                          </a:lnTo>
                          <a:lnTo>
                            <a:pt x="0" y="275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7288200" y="5006880"/>
                      <a:ext cx="563400" cy="45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286">
                          <a:moveTo>
                            <a:pt x="30" y="0"/>
                          </a:moveTo>
                          <a:lnTo>
                            <a:pt x="354" y="23"/>
                          </a:lnTo>
                          <a:lnTo>
                            <a:pt x="322" y="285"/>
                          </a:lnTo>
                          <a:lnTo>
                            <a:pt x="0" y="248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22" name=""/>
              <p:cNvSpPr/>
              <p:nvPr/>
            </p:nvSpPr>
            <p:spPr>
              <a:xfrm>
                <a:off x="7831080" y="559116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832440" y="5854320"/>
              <a:ext cx="1202040" cy="330480"/>
              <a:chOff x="6832440" y="5854320"/>
              <a:chExt cx="1202040" cy="330480"/>
            </a:xfrm>
          </p:grpSpPr>
          <p:sp>
            <p:nvSpPr>
              <p:cNvPr id="924" name=""/>
              <p:cNvSpPr/>
              <p:nvPr/>
            </p:nvSpPr>
            <p:spPr>
              <a:xfrm>
                <a:off x="7664400" y="5996160"/>
                <a:ext cx="282600" cy="11412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71" y="0"/>
                    </a:moveTo>
                    <a:lnTo>
                      <a:pt x="28" y="37"/>
                    </a:lnTo>
                    <a:lnTo>
                      <a:pt x="0" y="52"/>
                    </a:lnTo>
                    <a:lnTo>
                      <a:pt x="113" y="71"/>
                    </a:lnTo>
                    <a:lnTo>
                      <a:pt x="142" y="52"/>
                    </a:lnTo>
                    <a:lnTo>
                      <a:pt x="177" y="16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6832440" y="5854320"/>
                <a:ext cx="1202040" cy="330480"/>
                <a:chOff x="6832440" y="5854320"/>
                <a:chExt cx="1202040" cy="3304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6832440" y="5956200"/>
                  <a:ext cx="1051200" cy="228600"/>
                </a:xfrm>
                <a:custGeom>
                  <a:avLst/>
                  <a:gdLst/>
                  <a:ahLst/>
                  <a:rect l="l" t="t" r="r" b="b"/>
                  <a:pathLst>
                    <a:path w="662" h="144">
                      <a:moveTo>
                        <a:pt x="2" y="0"/>
                      </a:moveTo>
                      <a:lnTo>
                        <a:pt x="0" y="25"/>
                      </a:lnTo>
                      <a:lnTo>
                        <a:pt x="659" y="143"/>
                      </a:lnTo>
                      <a:lnTo>
                        <a:pt x="661" y="11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891560" y="6016680"/>
                  <a:ext cx="142920" cy="168120"/>
                </a:xfrm>
                <a:custGeom>
                  <a:avLst/>
                  <a:gdLst/>
                  <a:ahLst/>
                  <a:rect l="l" t="t" r="r" b="b"/>
                  <a:pathLst>
                    <a:path w="90" h="106">
                      <a:moveTo>
                        <a:pt x="2" y="80"/>
                      </a:moveTo>
                      <a:lnTo>
                        <a:pt x="0" y="105"/>
                      </a:lnTo>
                      <a:lnTo>
                        <a:pt x="37" y="83"/>
                      </a:lnTo>
                      <a:lnTo>
                        <a:pt x="52" y="69"/>
                      </a:lnTo>
                      <a:lnTo>
                        <a:pt x="87" y="32"/>
                      </a:lnTo>
                      <a:lnTo>
                        <a:pt x="89" y="0"/>
                      </a:lnTo>
                      <a:lnTo>
                        <a:pt x="44" y="50"/>
                      </a:lnTo>
                      <a:lnTo>
                        <a:pt x="2" y="8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850080" y="5986440"/>
                  <a:ext cx="1031760" cy="1666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9" name=""/>
                <p:cNvGrpSpPr/>
                <p:nvPr/>
              </p:nvGrpSpPr>
              <p:grpSpPr>
                <a:xfrm>
                  <a:off x="6907320" y="5854320"/>
                  <a:ext cx="1012680" cy="278280"/>
                  <a:chOff x="6907320" y="5854320"/>
                  <a:chExt cx="1012680" cy="2782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6907320" y="5870520"/>
                    <a:ext cx="7808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20">
                        <a:moveTo>
                          <a:pt x="88" y="0"/>
                        </a:moveTo>
                        <a:lnTo>
                          <a:pt x="26" y="38"/>
                        </a:lnTo>
                        <a:lnTo>
                          <a:pt x="0" y="48"/>
                        </a:lnTo>
                        <a:lnTo>
                          <a:pt x="413" y="119"/>
                        </a:lnTo>
                        <a:lnTo>
                          <a:pt x="444" y="103"/>
                        </a:lnTo>
                        <a:lnTo>
                          <a:pt x="491" y="67"/>
                        </a:lnTo>
                        <a:lnTo>
                          <a:pt x="88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940440" y="5854320"/>
                    <a:ext cx="979560" cy="278280"/>
                    <a:chOff x="6940440" y="5854320"/>
                    <a:chExt cx="979560" cy="278280"/>
                  </a:xfrm>
                </p:grpSpPr>
                <p:grpSp>
                  <p:nvGrpSpPr>
                    <p:cNvPr id="932" name=""/>
                    <p:cNvGrpSpPr/>
                    <p:nvPr/>
                  </p:nvGrpSpPr>
                  <p:grpSpPr>
                    <a:xfrm>
                      <a:off x="6956280" y="5854320"/>
                      <a:ext cx="712800" cy="222480"/>
                      <a:chOff x="6956280" y="5854320"/>
                      <a:chExt cx="712800" cy="222480"/>
                    </a:xfrm>
                  </p:grpSpPr>
                  <p:grpSp>
                    <p:nvGrpSpPr>
                      <p:cNvPr id="933" name=""/>
                      <p:cNvGrpSpPr/>
                      <p:nvPr/>
                    </p:nvGrpSpPr>
                    <p:grpSpPr>
                      <a:xfrm>
                        <a:off x="6956280" y="5854320"/>
                        <a:ext cx="135000" cy="125280"/>
                        <a:chOff x="6956280" y="5854320"/>
                        <a:chExt cx="135000" cy="125280"/>
                      </a:xfrm>
                    </p:grpSpPr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flipV="1">
                          <a:off x="6956280" y="5933880"/>
                          <a:ext cx="24120" cy="45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V="1">
                          <a:off x="7007400" y="5854320"/>
                          <a:ext cx="8388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6" name=""/>
                      <p:cNvGrpSpPr/>
                      <p:nvPr/>
                    </p:nvGrpSpPr>
                    <p:grpSpPr>
                      <a:xfrm>
                        <a:off x="7013520" y="5865480"/>
                        <a:ext cx="135000" cy="125640"/>
                        <a:chOff x="7013520" y="5865480"/>
                        <a:chExt cx="135000" cy="125640"/>
                      </a:xfrm>
                    </p:grpSpPr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V="1">
                          <a:off x="7013520" y="5945040"/>
                          <a:ext cx="255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V="1">
                          <a:off x="7067520" y="5865480"/>
                          <a:ext cx="810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9" name=""/>
                      <p:cNvGrpSpPr/>
                      <p:nvPr/>
                    </p:nvGrpSpPr>
                    <p:grpSpPr>
                      <a:xfrm>
                        <a:off x="7077240" y="5873400"/>
                        <a:ext cx="131760" cy="125640"/>
                        <a:chOff x="7077240" y="5873400"/>
                        <a:chExt cx="131760" cy="125640"/>
                      </a:xfrm>
                    </p:grpSpPr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V="1">
                          <a:off x="7077240" y="595296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V="1">
                          <a:off x="7126200" y="5873400"/>
                          <a:ext cx="828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2" name=""/>
                      <p:cNvGrpSpPr/>
                      <p:nvPr/>
                    </p:nvGrpSpPr>
                    <p:grpSpPr>
                      <a:xfrm>
                        <a:off x="7129440" y="5884920"/>
                        <a:ext cx="138240" cy="125280"/>
                        <a:chOff x="7129440" y="5884920"/>
                        <a:chExt cx="138240" cy="125280"/>
                      </a:xfrm>
                    </p:grpSpPr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V="1">
                          <a:off x="7129440" y="596268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V="1">
                          <a:off x="7183440" y="588492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7194600" y="5891040"/>
                        <a:ext cx="135000" cy="128880"/>
                        <a:chOff x="7194600" y="5891040"/>
                        <a:chExt cx="135000" cy="12888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V="1">
                          <a:off x="7194600" y="5973840"/>
                          <a:ext cx="2376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flipV="1">
                          <a:off x="7245360" y="5891040"/>
                          <a:ext cx="84240" cy="105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8" name=""/>
                      <p:cNvGrpSpPr/>
                      <p:nvPr/>
                    </p:nvGrpSpPr>
                    <p:grpSpPr>
                      <a:xfrm>
                        <a:off x="7250040" y="5900760"/>
                        <a:ext cx="138240" cy="125280"/>
                        <a:chOff x="7250040" y="5900760"/>
                        <a:chExt cx="138240" cy="125280"/>
                      </a:xfrm>
                    </p:grpSpPr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flipV="1">
                          <a:off x="7250040" y="597852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flipV="1">
                          <a:off x="7304040" y="5900760"/>
                          <a:ext cx="8424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1" name=""/>
                      <p:cNvGrpSpPr/>
                      <p:nvPr/>
                    </p:nvGrpSpPr>
                    <p:grpSpPr>
                      <a:xfrm>
                        <a:off x="7307280" y="5911920"/>
                        <a:ext cx="135000" cy="125280"/>
                        <a:chOff x="7307280" y="5911920"/>
                        <a:chExt cx="135000" cy="125280"/>
                      </a:xfrm>
                    </p:grpSpPr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 flipV="1">
                          <a:off x="7307280" y="5989680"/>
                          <a:ext cx="255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V="1">
                          <a:off x="7359480" y="5911920"/>
                          <a:ext cx="8280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4" name=""/>
                      <p:cNvGrpSpPr/>
                      <p:nvPr/>
                    </p:nvGrpSpPr>
                    <p:grpSpPr>
                      <a:xfrm>
                        <a:off x="7361280" y="5923080"/>
                        <a:ext cx="135000" cy="125280"/>
                        <a:chOff x="7361280" y="5923080"/>
                        <a:chExt cx="135000" cy="125280"/>
                      </a:xfrm>
                    </p:grpSpPr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 flipV="1">
                          <a:off x="7361280" y="6000840"/>
                          <a:ext cx="2520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 flipV="1">
                          <a:off x="7413480" y="5923080"/>
                          <a:ext cx="8280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7" name=""/>
                      <p:cNvGrpSpPr/>
                      <p:nvPr/>
                    </p:nvGrpSpPr>
                    <p:grpSpPr>
                      <a:xfrm>
                        <a:off x="7421400" y="5935680"/>
                        <a:ext cx="135000" cy="125280"/>
                        <a:chOff x="7421400" y="5935680"/>
                        <a:chExt cx="135000" cy="125280"/>
                      </a:xfrm>
                    </p:grpSpPr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 flipV="1">
                          <a:off x="7421400" y="6013440"/>
                          <a:ext cx="2412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 flipV="1">
                          <a:off x="7472520" y="5935680"/>
                          <a:ext cx="8388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0" name=""/>
                      <p:cNvGrpSpPr/>
                      <p:nvPr/>
                    </p:nvGrpSpPr>
                    <p:grpSpPr>
                      <a:xfrm>
                        <a:off x="7477200" y="5943240"/>
                        <a:ext cx="135000" cy="125640"/>
                        <a:chOff x="7477200" y="5943240"/>
                        <a:chExt cx="135000" cy="125640"/>
                      </a:xfrm>
                    </p:grpSpPr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 flipV="1">
                          <a:off x="7477200" y="6022800"/>
                          <a:ext cx="2700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 flipV="1">
                          <a:off x="7529400" y="5943240"/>
                          <a:ext cx="82800" cy="103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3" name=""/>
                      <p:cNvGrpSpPr/>
                      <p:nvPr/>
                    </p:nvGrpSpPr>
                    <p:grpSpPr>
                      <a:xfrm>
                        <a:off x="7534440" y="5951520"/>
                        <a:ext cx="134640" cy="125280"/>
                        <a:chOff x="7534440" y="5951520"/>
                        <a:chExt cx="134640" cy="125280"/>
                      </a:xfrm>
                    </p:grpSpPr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 flipV="1">
                          <a:off x="7534440" y="6029280"/>
                          <a:ext cx="2376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 flipV="1">
                          <a:off x="7585200" y="5951520"/>
                          <a:ext cx="83880" cy="101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7711920" y="5978520"/>
                      <a:ext cx="201600" cy="154080"/>
                      <a:chOff x="7711920" y="5978520"/>
                      <a:chExt cx="201600" cy="15408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7804080" y="5994360"/>
                        <a:ext cx="109440" cy="138240"/>
                        <a:chOff x="7804080" y="5994360"/>
                        <a:chExt cx="109440" cy="13824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 flipV="1">
                          <a:off x="7804080" y="6078600"/>
                          <a:ext cx="17640" cy="5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 flipV="1">
                          <a:off x="7846920" y="5994360"/>
                          <a:ext cx="66600" cy="109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0" name=""/>
                      <p:cNvGrpSpPr/>
                      <p:nvPr/>
                    </p:nvGrpSpPr>
                    <p:grpSpPr>
                      <a:xfrm>
                        <a:off x="7758000" y="5987520"/>
                        <a:ext cx="112680" cy="138240"/>
                        <a:chOff x="7758000" y="5987520"/>
                        <a:chExt cx="112680" cy="138240"/>
                      </a:xfrm>
                    </p:grpSpPr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 flipV="1">
                          <a:off x="7758000" y="6073560"/>
                          <a:ext cx="15840" cy="5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 flipV="1">
                          <a:off x="7802640" y="5987520"/>
                          <a:ext cx="68040" cy="10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3" name=""/>
                      <p:cNvGrpSpPr/>
                      <p:nvPr/>
                    </p:nvGrpSpPr>
                    <p:grpSpPr>
                      <a:xfrm>
                        <a:off x="7711920" y="5978520"/>
                        <a:ext cx="106560" cy="138240"/>
                        <a:chOff x="7711920" y="5978520"/>
                        <a:chExt cx="106560" cy="138240"/>
                      </a:xfrm>
                    </p:grpSpPr>
                    <p:sp>
                      <p:nvSpPr>
                        <p:cNvPr id="974" name=""/>
                        <p:cNvSpPr/>
                        <p:nvPr/>
                      </p:nvSpPr>
                      <p:spPr>
                        <a:xfrm flipV="1">
                          <a:off x="7711920" y="6064200"/>
                          <a:ext cx="19080" cy="52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" name=""/>
                        <p:cNvSpPr/>
                        <p:nvPr/>
                      </p:nvSpPr>
                      <p:spPr>
                        <a:xfrm flipV="1">
                          <a:off x="7758000" y="5978520"/>
                          <a:ext cx="60480" cy="108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7015320" y="5907240"/>
                      <a:ext cx="904680" cy="12996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978600" y="5929200"/>
                      <a:ext cx="924120" cy="13176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940440" y="5950080"/>
                      <a:ext cx="933480" cy="1429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7908840" y="6021360"/>
                  <a:ext cx="120600" cy="156960"/>
                  <a:chOff x="7908840" y="6021360"/>
                  <a:chExt cx="120600" cy="1569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flipV="1">
                    <a:off x="7908840" y="6098760"/>
                    <a:ext cx="49320" cy="795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V="1">
                    <a:off x="7986600" y="6021360"/>
                    <a:ext cx="42840" cy="10152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82" name=""/>
          <p:cNvSpPr/>
          <p:nvPr/>
        </p:nvSpPr>
        <p:spPr>
          <a:xfrm>
            <a:off x="457200" y="4449600"/>
            <a:ext cx="7048440" cy="733680"/>
          </a:xfrm>
          <a:custGeom>
            <a:avLst/>
            <a:gdLst/>
            <a:ahLst/>
            <a:rect l="l" t="t" r="r" b="b"/>
            <a:pathLst>
              <a:path w="4440" h="462">
                <a:moveTo>
                  <a:pt x="4438" y="438"/>
                </a:moveTo>
                <a:lnTo>
                  <a:pt x="4439" y="379"/>
                </a:lnTo>
                <a:lnTo>
                  <a:pt x="4426" y="358"/>
                </a:lnTo>
                <a:lnTo>
                  <a:pt x="4396" y="332"/>
                </a:lnTo>
                <a:lnTo>
                  <a:pt x="4374" y="312"/>
                </a:lnTo>
                <a:lnTo>
                  <a:pt x="4338" y="292"/>
                </a:lnTo>
                <a:lnTo>
                  <a:pt x="4294" y="272"/>
                </a:lnTo>
                <a:lnTo>
                  <a:pt x="4248" y="254"/>
                </a:lnTo>
                <a:lnTo>
                  <a:pt x="4189" y="232"/>
                </a:lnTo>
                <a:lnTo>
                  <a:pt x="4106" y="205"/>
                </a:lnTo>
                <a:lnTo>
                  <a:pt x="4027" y="184"/>
                </a:lnTo>
                <a:lnTo>
                  <a:pt x="3937" y="162"/>
                </a:lnTo>
                <a:lnTo>
                  <a:pt x="3863" y="147"/>
                </a:lnTo>
                <a:lnTo>
                  <a:pt x="3777" y="130"/>
                </a:lnTo>
                <a:lnTo>
                  <a:pt x="3708" y="118"/>
                </a:lnTo>
                <a:lnTo>
                  <a:pt x="3611" y="104"/>
                </a:lnTo>
                <a:lnTo>
                  <a:pt x="3524" y="91"/>
                </a:lnTo>
                <a:lnTo>
                  <a:pt x="3424" y="79"/>
                </a:lnTo>
                <a:lnTo>
                  <a:pt x="3348" y="68"/>
                </a:lnTo>
                <a:lnTo>
                  <a:pt x="3236" y="56"/>
                </a:lnTo>
                <a:lnTo>
                  <a:pt x="3111" y="43"/>
                </a:lnTo>
                <a:lnTo>
                  <a:pt x="2990" y="33"/>
                </a:lnTo>
                <a:lnTo>
                  <a:pt x="2886" y="25"/>
                </a:lnTo>
                <a:lnTo>
                  <a:pt x="2763" y="17"/>
                </a:lnTo>
                <a:lnTo>
                  <a:pt x="2634" y="10"/>
                </a:lnTo>
                <a:lnTo>
                  <a:pt x="2469" y="4"/>
                </a:lnTo>
                <a:lnTo>
                  <a:pt x="2326" y="1"/>
                </a:lnTo>
                <a:lnTo>
                  <a:pt x="2206" y="0"/>
                </a:lnTo>
                <a:lnTo>
                  <a:pt x="2081" y="0"/>
                </a:lnTo>
                <a:lnTo>
                  <a:pt x="1948" y="2"/>
                </a:lnTo>
                <a:lnTo>
                  <a:pt x="1835" y="4"/>
                </a:lnTo>
                <a:lnTo>
                  <a:pt x="1730" y="8"/>
                </a:lnTo>
                <a:lnTo>
                  <a:pt x="1597" y="14"/>
                </a:lnTo>
                <a:lnTo>
                  <a:pt x="1449" y="23"/>
                </a:lnTo>
                <a:lnTo>
                  <a:pt x="1327" y="33"/>
                </a:lnTo>
                <a:lnTo>
                  <a:pt x="1224" y="42"/>
                </a:lnTo>
                <a:lnTo>
                  <a:pt x="1123" y="53"/>
                </a:lnTo>
                <a:lnTo>
                  <a:pt x="1041" y="64"/>
                </a:lnTo>
                <a:lnTo>
                  <a:pt x="948" y="78"/>
                </a:lnTo>
                <a:lnTo>
                  <a:pt x="838" y="95"/>
                </a:lnTo>
                <a:lnTo>
                  <a:pt x="755" y="112"/>
                </a:lnTo>
                <a:lnTo>
                  <a:pt x="662" y="130"/>
                </a:lnTo>
                <a:lnTo>
                  <a:pt x="524" y="172"/>
                </a:lnTo>
                <a:lnTo>
                  <a:pt x="437" y="206"/>
                </a:lnTo>
                <a:lnTo>
                  <a:pt x="371" y="244"/>
                </a:lnTo>
                <a:lnTo>
                  <a:pt x="336" y="275"/>
                </a:lnTo>
                <a:lnTo>
                  <a:pt x="309" y="315"/>
                </a:lnTo>
                <a:lnTo>
                  <a:pt x="0" y="306"/>
                </a:lnTo>
                <a:lnTo>
                  <a:pt x="683" y="461"/>
                </a:lnTo>
                <a:lnTo>
                  <a:pt x="1420" y="343"/>
                </a:lnTo>
                <a:lnTo>
                  <a:pt x="1102" y="335"/>
                </a:lnTo>
                <a:lnTo>
                  <a:pt x="1129" y="295"/>
                </a:lnTo>
                <a:lnTo>
                  <a:pt x="1174" y="266"/>
                </a:lnTo>
                <a:lnTo>
                  <a:pt x="1239" y="235"/>
                </a:lnTo>
                <a:lnTo>
                  <a:pt x="1377" y="195"/>
                </a:lnTo>
                <a:lnTo>
                  <a:pt x="1467" y="176"/>
                </a:lnTo>
                <a:lnTo>
                  <a:pt x="1564" y="159"/>
                </a:lnTo>
                <a:lnTo>
                  <a:pt x="1672" y="146"/>
                </a:lnTo>
                <a:lnTo>
                  <a:pt x="1778" y="132"/>
                </a:lnTo>
                <a:lnTo>
                  <a:pt x="1881" y="122"/>
                </a:lnTo>
                <a:lnTo>
                  <a:pt x="1992" y="113"/>
                </a:lnTo>
                <a:lnTo>
                  <a:pt x="2123" y="105"/>
                </a:lnTo>
                <a:lnTo>
                  <a:pt x="2275" y="98"/>
                </a:lnTo>
                <a:lnTo>
                  <a:pt x="2415" y="94"/>
                </a:lnTo>
                <a:lnTo>
                  <a:pt x="2542" y="93"/>
                </a:lnTo>
                <a:lnTo>
                  <a:pt x="2702" y="94"/>
                </a:lnTo>
                <a:lnTo>
                  <a:pt x="2856" y="98"/>
                </a:lnTo>
                <a:lnTo>
                  <a:pt x="2961" y="102"/>
                </a:lnTo>
                <a:lnTo>
                  <a:pt x="3073" y="107"/>
                </a:lnTo>
                <a:lnTo>
                  <a:pt x="3208" y="116"/>
                </a:lnTo>
                <a:lnTo>
                  <a:pt x="3337" y="125"/>
                </a:lnTo>
                <a:lnTo>
                  <a:pt x="3458" y="136"/>
                </a:lnTo>
                <a:lnTo>
                  <a:pt x="3575" y="150"/>
                </a:lnTo>
                <a:lnTo>
                  <a:pt x="3748" y="173"/>
                </a:lnTo>
                <a:lnTo>
                  <a:pt x="3862" y="192"/>
                </a:lnTo>
                <a:lnTo>
                  <a:pt x="3982" y="215"/>
                </a:lnTo>
                <a:lnTo>
                  <a:pt x="4083" y="238"/>
                </a:lnTo>
                <a:lnTo>
                  <a:pt x="4148" y="255"/>
                </a:lnTo>
                <a:lnTo>
                  <a:pt x="4214" y="275"/>
                </a:lnTo>
                <a:lnTo>
                  <a:pt x="4263" y="293"/>
                </a:lnTo>
                <a:lnTo>
                  <a:pt x="4302" y="308"/>
                </a:lnTo>
                <a:lnTo>
                  <a:pt x="4334" y="323"/>
                </a:lnTo>
                <a:lnTo>
                  <a:pt x="4362" y="342"/>
                </a:lnTo>
                <a:lnTo>
                  <a:pt x="4379" y="359"/>
                </a:lnTo>
                <a:lnTo>
                  <a:pt x="4404" y="382"/>
                </a:lnTo>
                <a:lnTo>
                  <a:pt x="4438" y="438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71440" y="2347920"/>
            <a:ext cx="101052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62480" y="1501920"/>
            <a:ext cx="53996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d the “INFORMATION ABOUT  C-DAC ACT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49680" y="3511440"/>
            <a:ext cx="3416040" cy="21970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679920" y="4419720"/>
            <a:ext cx="1658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-DAC   A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782720" y="2895480"/>
            <a:ext cx="5102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lient sends an HTTP message to a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ning a Web Server program and asks for a docu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11920" y="6172200"/>
            <a:ext cx="6211800" cy="57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web server sends the hypermedia HTML documents to the cli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end up seeing the document on your scr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800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does the Web Work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587600" y="1967040"/>
            <a:ext cx="7518240" cy="183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Activat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activat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Clos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has been clos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Clos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in the process of being clos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Deactivat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de-activat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Deiconifi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de-iconifi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Iconifi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is iconified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)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ndowOpe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WindowEvent) - Invoked when a window has been opened.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0" name=""/>
          <p:cNvSpPr/>
          <p:nvPr/>
        </p:nvSpPr>
        <p:spPr>
          <a:xfrm>
            <a:off x="2008080" y="671400"/>
            <a:ext cx="713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ndowListe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 has seven metho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641320" y="151920"/>
            <a:ext cx="627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to create an object of a listener interfac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2" name=""/>
          <p:cNvSpPr/>
          <p:nvPr/>
        </p:nvSpPr>
        <p:spPr>
          <a:xfrm>
            <a:off x="1983600" y="2612880"/>
            <a:ext cx="42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 cannot be instantia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64520" y="3548160"/>
            <a:ext cx="581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o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w WindowListene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989000" y="4408560"/>
            <a:ext cx="695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, have to subclass the interface and then create object of the sub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606320" y="152280"/>
            <a:ext cx="753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mplementing the ActionListener Interface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and attaching an event handler to a butto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6" name=""/>
          <p:cNvSpPr/>
          <p:nvPr/>
        </p:nvSpPr>
        <p:spPr>
          <a:xfrm>
            <a:off x="1600200" y="1752480"/>
            <a:ext cx="709776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Ap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l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onListe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[] s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go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go(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addActionListener(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actionPerformed(ActionEvent e 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what to do when the button is cli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( e.getSource() == b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{  System.out.println(“OK pressed");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537680" cy="38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ass MyApp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implemen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ActionListene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WindowListene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{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ame f = new Frame(“My Frame”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static void main(String [] s ) {(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.go();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o() {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.addActionListener(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.addWindowListener( this 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tionPerformed(ActionEvent e 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Activated(WindowEvent e ) 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Closed(WindowEvent e ) 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Closing(WindowEvent e ) 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Deactivated(WindowEvent e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Deiconified(WindowEvent e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Iconified(WindowEvent e) { …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dowOpened(WindowEvent e) { … }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8" name=""/>
          <p:cNvSpPr/>
          <p:nvPr/>
        </p:nvSpPr>
        <p:spPr>
          <a:xfrm>
            <a:off x="1604880" y="241200"/>
            <a:ext cx="7234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mplementing 2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370160" y="369360"/>
            <a:ext cx="7772400" cy="5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r … use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Adap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0" name=""/>
          <p:cNvSpPr/>
          <p:nvPr/>
        </p:nvSpPr>
        <p:spPr>
          <a:xfrm>
            <a:off x="1604880" y="1460520"/>
            <a:ext cx="753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MyApp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tend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WindowAdap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me f = new Frame(“My Fram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[] s ) {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.go(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(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.addWindowListener( this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owClosing(WindowEvent e ) 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57280" y="4721400"/>
            <a:ext cx="75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only implement the method(s) that are required, instead of all seven methods of the WindowListen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698480" y="-360"/>
            <a:ext cx="7445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But, we can only use one Adapter at a time (no multiple inheritance)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3" name=""/>
          <p:cNvSpPr/>
          <p:nvPr/>
        </p:nvSpPr>
        <p:spPr>
          <a:xfrm>
            <a:off x="1782720" y="2733840"/>
            <a:ext cx="4307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e.,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nno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ave 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604880" y="4226040"/>
            <a:ext cx="75376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MyApp extends  WindowAdapter, MouseAdapter, ... {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370160" y="24084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owever … can use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inner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classe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instead !!!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6" name=""/>
          <p:cNvSpPr/>
          <p:nvPr/>
        </p:nvSpPr>
        <p:spPr>
          <a:xfrm>
            <a:off x="1604880" y="1442880"/>
            <a:ext cx="75376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MyApp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ton b = new Button(“OK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me f = new Frame(“My Fram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[] s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w MyApp(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.go(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  go(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.addWindowListener( new FrameHandler()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addMouseListener( new ButtonHandler()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uttonHandler extends MouseAdapter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mousePressed (MouseEvent e ) 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ameHandler extends WindowAdapter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windowClosing (WindowEvent e ) 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104840" y="0"/>
            <a:ext cx="802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opup Menu and Event Handling.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popup.java: popup menu and event handling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pplet.Applet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w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wt.even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popup extends Frame implements ActionListener, MouseListen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extField text1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Menu popup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 menuitem1, menuitem2, menuitem3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popup(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uper( "Popup Menu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tLayout(new FlowLayout()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tBounds(10, 10, 300, 200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tVisible(true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i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init(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 = new PopupMenu("Resource Usage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opup Menu and Event Handling.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1 = new MenuItem("CPU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1.addAction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2 = new MenuItem("Disk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2.addAction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3 = new MenuItem("Memory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menuitem3.addAction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add(menuitem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add(menuitem2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add(menuitem3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dd(popup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ext1 = new TextField(20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ext1.setBounds(20, 40, 120, 30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dd(text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ddMouseListener(this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Pressed(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Modifiers() != 0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.show(this, e.getX(), e.getY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opup Menu and Event Handl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139400" y="1523520"/>
            <a:ext cx="7967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Released( 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System.out.print("Mouse Released\n" 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Entered( 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System.out.print("Mouse Entered\n" );  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mouseExited( Mouse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 System.out.print("Mouse Exited\n" );  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void actionPerformed( ActionEvent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Source() == menuitem1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text1.setText("CPU"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Source() == menuitem2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text1.setText("Disk"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e.getSource() == menuitem3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text1.setText("Memory"); 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tatic void main( String args[]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pup p = new popup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TML documen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06768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TITLE&gt;Centre for Development of Advanced Compu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/TITLE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BODY BGCOLOR=“#E7CCCC” TEXT=“#000000” LINK=“#0000FF”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A HREF=“mailto:webmaster@cdacb.ernet.in&gt; webmaster&lt;/A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/BODY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&lt;/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s and GUI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370160" y="3506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WT &amp; Apple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5" name=""/>
          <p:cNvSpPr/>
          <p:nvPr/>
        </p:nvSpPr>
        <p:spPr>
          <a:xfrm>
            <a:off x="1752480" y="1219320"/>
            <a:ext cx="703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pplet is a Java program capable of running from within a web page (HTML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s to incorporate and run an apple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Have MyApplet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javac MyApplet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Have MyApplet.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Cre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yApplet.htm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190520" y="4359240"/>
            <a:ext cx="7604280" cy="824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applet code = MyApplet.class width = 200 height = 300 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/applet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533600" y="5388120"/>
            <a:ext cx="741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appletviewer MyApplet.html  (or open MyApplet.html in browsers like Netscape/I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 method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09" name=""/>
          <p:cNvSpPr/>
          <p:nvPr/>
        </p:nvSpPr>
        <p:spPr>
          <a:xfrm>
            <a:off x="1523880" y="1752480"/>
            <a:ext cx="70153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 Applications, Applets do not have main(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ead, they have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pd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tro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ethods need not be implemented -- there are default versions for all of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176480" y="4952880"/>
            <a:ext cx="79675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etContex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9160" indent="-189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et” derived from AWT 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189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oks into Browser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189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n be used to link to another Web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sample Apple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520640" y="1447920"/>
            <a:ext cx="61750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// HelloApplet.java: for processing applet methods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import java.awt.*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import java.applet.*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class HelloApplet extends Applet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init()   {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 u="sng">
                <a:solidFill>
                  <a:srgbClr val="fafd00"/>
                </a:solidFill>
                <a:uFillTx/>
                <a:latin typeface="Courier New"/>
              </a:rPr>
              <a:t>setBackground(Color.yellow)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init() method invoked")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start()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start() method invoked");                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paint( Graphics g )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paint() method invoked");                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 u="sng">
                <a:solidFill>
                  <a:srgbClr val="fafd00"/>
                </a:solidFill>
                <a:uFillTx/>
                <a:latin typeface="Courier New"/>
              </a:rPr>
              <a:t>g.drawString( "Hi there", 24, 25 );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public void stop()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System.out.println("stop() method invoked");                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268280" y="42048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ample Appl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14" name="" descr=""/>
          <p:cNvPicPr/>
          <p:nvPr/>
        </p:nvPicPr>
        <p:blipFill>
          <a:blip r:embed="rId1"/>
          <a:stretch/>
        </p:blipFill>
        <p:spPr>
          <a:xfrm>
            <a:off x="2308320" y="1547640"/>
            <a:ext cx="5673600" cy="4602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5943600" cy="8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nother sample Applet (run in Applet  Viewer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2154240" y="1693800"/>
            <a:ext cx="5938920" cy="481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4648320" cy="6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ample Appl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ning within Netscap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1722600" y="1208160"/>
            <a:ext cx="6954840" cy="5451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370160" y="334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ample Applet co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0" name=""/>
          <p:cNvSpPr/>
          <p:nvPr/>
        </p:nvSpPr>
        <p:spPr>
          <a:xfrm>
            <a:off x="1836720" y="1492200"/>
            <a:ext cx="725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ort java.app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*; // for Applet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port java.aw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*;      // for Graphics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 MyApple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tends App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Graphics g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String("Hi there", 40, 4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Oval(40, 60, 45, 4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Rect(100, 60, 50, 5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Line(170, 60, 250, 17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pain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Background(Color.yellow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class My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nother examp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044720" y="15998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MyApplet.java: draws rectangle with yellow color fill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pple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aw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MyApplet extends Apple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ynchronized void paint(Graphics g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 x,y,width,height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imension dm = siz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x = dm.width/4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y = dm.height / 4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idth = dm.width / 2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height = dm.height / 2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Draw the rectangle in the center with colors!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setColor(Color.blue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drawRect(x,y,width,height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setColor(Color.yellow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g.fillRect(x + 1,y + 1,width - 2,height - 2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rder of Applet method execu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4" name=""/>
          <p:cNvSpPr/>
          <p:nvPr/>
        </p:nvSpPr>
        <p:spPr>
          <a:xfrm>
            <a:off x="1731960" y="2503440"/>
            <a:ext cx="7410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oon as the browser (or Appletviewer) accesses the page that contains the apple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lls init(), fi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lls start(), seco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lls paint(), thi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1371600" y="152280"/>
            <a:ext cx="6870600" cy="6566040"/>
            <a:chOff x="1371600" y="152280"/>
            <a:chExt cx="6870600" cy="6566040"/>
          </a:xfrm>
        </p:grpSpPr>
        <p:pic>
          <p:nvPicPr>
            <p:cNvPr id="993" name="" descr=""/>
            <p:cNvPicPr/>
            <p:nvPr/>
          </p:nvPicPr>
          <p:blipFill>
            <a:blip r:embed="rId1"/>
            <a:stretch/>
          </p:blipFill>
          <p:spPr>
            <a:xfrm>
              <a:off x="1371600" y="152280"/>
              <a:ext cx="6870600" cy="65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1461960" y="196920"/>
              <a:ext cx="6677280" cy="64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rder of Applet method execution (cont’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6" name=""/>
          <p:cNvSpPr/>
          <p:nvPr/>
        </p:nvSpPr>
        <p:spPr>
          <a:xfrm>
            <a:off x="1646280" y="2589120"/>
            <a:ext cx="741024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above three initial calls, invocation of the other methods depends on user's activity while in the brows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 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none of the methods is invo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ave to a different U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stop() is invoked (and if later come back to this URL, then start() will be invoke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lose down the brow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destroy() is invo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ne of the abo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&gt; either paint() or update() or repaint() is invok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3200040" y="-360"/>
            <a:ext cx="5637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Incorporating Images and sound in Applet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548240" cy="501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ample Applet with soun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0" name=""/>
          <p:cNvSpPr/>
          <p:nvPr/>
        </p:nvSpPr>
        <p:spPr>
          <a:xfrm>
            <a:off x="2054160" y="2833560"/>
            <a:ext cx="568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… …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yAppletSound.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to do that …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2" name=""/>
          <p:cNvSpPr/>
          <p:nvPr/>
        </p:nvSpPr>
        <p:spPr>
          <a:xfrm>
            <a:off x="2039400" y="2378160"/>
            <a:ext cx="64180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p 1 : LOAD (image of sound fi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p 2 : DISPLAY -or-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370160" y="3175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 that displays imag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4" name=""/>
          <p:cNvSpPr/>
          <p:nvPr/>
        </p:nvSpPr>
        <p:spPr>
          <a:xfrm>
            <a:off x="1646280" y="1136520"/>
            <a:ext cx="7461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pple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MyApplet1  extends Apple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im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init 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m = getImage(getDocumentBase(),"BOTTOMDOLLAR.JPG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Background(Color.yellow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paint(Graphics g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.drawImage(im, 50, 50, this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class MyApplet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370160" y="2995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et that plays soun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6" name=""/>
          <p:cNvSpPr/>
          <p:nvPr/>
        </p:nvSpPr>
        <p:spPr>
          <a:xfrm>
            <a:off x="1662840" y="1011240"/>
            <a:ext cx="74822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pple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MyAppletSound  extends Apple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oClip ac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init 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 = getAudioClip(getDocumentBase(), "chirp1.au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tart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.loop(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top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.stop()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stop the sound upon leaving this web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class MyAppletSou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485720" y="3276360"/>
            <a:ext cx="6438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ultithreading in Java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A built-in feature in Java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ngle and Multithreaded Process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39" name=""/>
          <p:cNvSpPr/>
          <p:nvPr/>
        </p:nvSpPr>
        <p:spPr>
          <a:xfrm>
            <a:off x="768240" y="2825640"/>
            <a:ext cx="2578320" cy="21970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914480" y="3581280"/>
            <a:ext cx="68400" cy="40824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61960" y="3657600"/>
            <a:ext cx="35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43760" y="2347920"/>
            <a:ext cx="312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-threaded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71400" y="5091120"/>
            <a:ext cx="389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instruction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873760" y="2825640"/>
            <a:ext cx="2577960" cy="21970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324560" y="3505320"/>
            <a:ext cx="68400" cy="40788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872400" y="3581280"/>
            <a:ext cx="35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8010360" y="3733920"/>
            <a:ext cx="68400" cy="40788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634160" y="3962520"/>
            <a:ext cx="35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486480" y="3505320"/>
            <a:ext cx="68400" cy="407880"/>
          </a:xfrm>
          <a:custGeom>
            <a:avLst/>
            <a:gdLst/>
            <a:ahLst/>
            <a:rect l="l" t="t" r="r" b="b"/>
            <a:pathLst>
              <a:path w="43" h="257">
                <a:moveTo>
                  <a:pt x="24" y="0"/>
                </a:moveTo>
                <a:lnTo>
                  <a:pt x="14" y="27"/>
                </a:lnTo>
                <a:lnTo>
                  <a:pt x="0" y="48"/>
                </a:lnTo>
                <a:lnTo>
                  <a:pt x="14" y="75"/>
                </a:lnTo>
                <a:lnTo>
                  <a:pt x="35" y="96"/>
                </a:lnTo>
                <a:lnTo>
                  <a:pt x="42" y="117"/>
                </a:lnTo>
                <a:lnTo>
                  <a:pt x="28" y="138"/>
                </a:lnTo>
                <a:lnTo>
                  <a:pt x="21" y="159"/>
                </a:lnTo>
                <a:lnTo>
                  <a:pt x="14" y="187"/>
                </a:lnTo>
                <a:lnTo>
                  <a:pt x="14" y="215"/>
                </a:lnTo>
                <a:lnTo>
                  <a:pt x="35" y="235"/>
                </a:lnTo>
                <a:lnTo>
                  <a:pt x="42" y="25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110280" y="3809880"/>
            <a:ext cx="35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548320" y="5030640"/>
            <a:ext cx="351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nstruction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548320" y="2363760"/>
            <a:ext cx="3289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threaded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946680" y="2728800"/>
            <a:ext cx="149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947400" y="5243400"/>
            <a:ext cx="1985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 flipV="1">
            <a:off x="3036600" y="4408560"/>
            <a:ext cx="1090440" cy="86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2960640" y="3062160"/>
            <a:ext cx="938160" cy="65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5119560" y="4103280"/>
            <a:ext cx="1116000" cy="116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H="1" flipV="1">
            <a:off x="5436720" y="2998800"/>
            <a:ext cx="900360" cy="442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520280" y="1371600"/>
            <a:ext cx="74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eads are light-weight processes within a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has built in thread support for Multithre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nchronization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ead Schedul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-Thread Communic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urrentThrea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ar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tPri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yiel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etPri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lee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o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s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s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 Garbage Collector is a low-priority threa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370160" y="33804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 stat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63" name=""/>
          <p:cNvSpPr/>
          <p:nvPr/>
        </p:nvSpPr>
        <p:spPr>
          <a:xfrm>
            <a:off x="1533600" y="1581120"/>
            <a:ext cx="1177920" cy="684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364440" y="3519360"/>
            <a:ext cx="2282760" cy="1109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446120" y="5626080"/>
            <a:ext cx="1351080" cy="824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666800" y="3381480"/>
            <a:ext cx="1774800" cy="121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708200" y="1701720"/>
            <a:ext cx="7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909800" y="3706920"/>
            <a:ext cx="143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554160" y="3774960"/>
            <a:ext cx="20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un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3178080" y="3071880"/>
            <a:ext cx="424080" cy="458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86320" y="3071880"/>
            <a:ext cx="2601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188040" y="3071880"/>
            <a:ext cx="595440" cy="52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139840" y="2255760"/>
            <a:ext cx="187560" cy="11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2054160" y="4533840"/>
            <a:ext cx="357120" cy="1089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 flipV="1">
            <a:off x="2887200" y="4619160"/>
            <a:ext cx="647640" cy="62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567240" y="5246640"/>
            <a:ext cx="2824200" cy="1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6374880" y="4600440"/>
            <a:ext cx="693720" cy="64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808280" y="578160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095720" y="2239920"/>
            <a:ext cx="1479600" cy="155556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29200" y="4602240"/>
            <a:ext cx="1479600" cy="155556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801800" y="2508120"/>
            <a:ext cx="923760" cy="458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700280" y="4786200"/>
            <a:ext cx="923760" cy="458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R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RLs- The Hypertext links we use today are known as Universal Resource Loca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RLs-Each name is unique across the Intern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 URL looks like thi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Century Gothic"/>
              </a:rPr>
              <a:t>http://system.domain.ext:999/dir1/dir2/dir3/file.html?blue#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ts of a URL are,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ice type, System Name, Port, Directory path, Filename,Search Components or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ice type, System Name, Directory path are the required parts of the UR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810800" y="209160"/>
            <a:ext cx="7301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ing Mechanism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139400" y="1447560"/>
            <a:ext cx="7967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e a class that extends the Thread clas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e a class that implements the Runnable interface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>
            <a:off x="1076400" y="2419200"/>
            <a:ext cx="6775200" cy="407052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 flipV="1">
            <a:off x="1905120" y="417996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810800" y="209160"/>
            <a:ext cx="7301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1st method: Extending Thread clas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987480" y="13903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st Method: Extending the Thread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class MyThread extends Thread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ublic void run(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thread body of executio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ting thread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MyThread thr1 = new MyThread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rt Execution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thr1.start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exampl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0" name=""/>
          <p:cNvSpPr/>
          <p:nvPr/>
        </p:nvSpPr>
        <p:spPr>
          <a:xfrm>
            <a:off x="1542960" y="1812960"/>
            <a:ext cx="741672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lass MyThread extends Thread {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// the 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ublic voi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ystem.out.println(" this thread is running ... 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} // end class My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 ThreadEx2 {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// a program that utilizes the 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note, the created object myThreadObject IS A Thread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yThread t = new MyThread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due to extending the Thread class (abo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I can call start(), and this will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 run(). start() is a method in class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 // en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       // end class ThreadE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2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2nd method: Threads by implementing Runnable interfac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44720" y="140940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class MyThread implements Runnable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....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ublic void run(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// thread body of executio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ing Object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MyThread myObject = new MyThread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reating Thread Object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 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Thread thr1 = new Thread( myObject 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Start Execution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thr1.start()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3701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exampl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4" name=""/>
          <p:cNvSpPr/>
          <p:nvPr/>
        </p:nvSpPr>
        <p:spPr>
          <a:xfrm>
            <a:off x="1531800" y="1569960"/>
            <a:ext cx="73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ass MyThread implements Runnable 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void ru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ystem.out.println(" this thread is running ...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 // end class My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ThreadEx21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read t = new Thread(new MyThread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due to implementing the Runnable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 can call start(), and this will call run(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// en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   // end class ThreadEx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284120" y="24912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with two thread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96" name=""/>
          <p:cNvSpPr/>
          <p:nvPr/>
        </p:nvSpPr>
        <p:spPr>
          <a:xfrm>
            <a:off x="1219320" y="1447920"/>
            <a:ext cx="742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class MyThread implements Runnable 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public void run() { System.out.println("This is 'MyThread' ); 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class YourThread implements Runnable 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public void run() { System.out.println("This is 'YourThread');  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ass ThreadEx4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read t1 = new Thread(new MyThread()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Thread t2 = new Thread(new YourThread()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1.start();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ffcc00"/>
                </a:solidFill>
                <a:latin typeface="Times New Roman"/>
              </a:rPr>
              <a:t>t2.start(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       // end class ThreadEx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onitor model (for Syncronisation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4654440" y="1905120"/>
            <a:ext cx="3282840" cy="1288800"/>
            <a:chOff x="4654440" y="1905120"/>
            <a:chExt cx="3282840" cy="1288800"/>
          </a:xfrm>
        </p:grpSpPr>
        <p:sp>
          <p:nvSpPr>
            <p:cNvPr id="1999" name=""/>
            <p:cNvSpPr/>
            <p:nvPr/>
          </p:nvSpPr>
          <p:spPr>
            <a:xfrm flipH="1">
              <a:off x="4712760" y="1905120"/>
              <a:ext cx="322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724280" y="1919160"/>
              <a:ext cx="0" cy="11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654440" y="3054240"/>
              <a:ext cx="139680" cy="139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4654440" y="4425840"/>
            <a:ext cx="3282840" cy="1301400"/>
            <a:chOff x="4654440" y="4425840"/>
            <a:chExt cx="3282840" cy="1301400"/>
          </a:xfrm>
        </p:grpSpPr>
        <p:sp>
          <p:nvSpPr>
            <p:cNvPr id="2003" name=""/>
            <p:cNvSpPr/>
            <p:nvPr/>
          </p:nvSpPr>
          <p:spPr>
            <a:xfrm flipH="1">
              <a:off x="4712760" y="5715000"/>
              <a:ext cx="322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4724280" y="4560480"/>
              <a:ext cx="0" cy="11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654440" y="4425840"/>
              <a:ext cx="139680" cy="139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006" name=""/>
          <p:cNvGraphicFramePr/>
          <p:nvPr/>
        </p:nvGraphicFramePr>
        <p:xfrm>
          <a:off x="5334120" y="2300400"/>
          <a:ext cx="20095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00400"/>
                    <a:ext cx="2009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8" name=""/>
          <p:cNvGrpSpPr/>
          <p:nvPr/>
        </p:nvGrpSpPr>
        <p:grpSpPr>
          <a:xfrm>
            <a:off x="6386400" y="3352680"/>
            <a:ext cx="1978200" cy="776160"/>
            <a:chOff x="6386400" y="3352680"/>
            <a:chExt cx="1978200" cy="776160"/>
          </a:xfrm>
        </p:grpSpPr>
        <p:grpSp>
          <p:nvGrpSpPr>
            <p:cNvPr id="2009" name=""/>
            <p:cNvGrpSpPr/>
            <p:nvPr/>
          </p:nvGrpSpPr>
          <p:grpSpPr>
            <a:xfrm>
              <a:off x="7102440" y="3376440"/>
              <a:ext cx="270000" cy="155880"/>
              <a:chOff x="7102440" y="3376440"/>
              <a:chExt cx="270000" cy="155880"/>
            </a:xfrm>
          </p:grpSpPr>
          <p:sp>
            <p:nvSpPr>
              <p:cNvPr id="2010" name=""/>
              <p:cNvSpPr/>
              <p:nvPr/>
            </p:nvSpPr>
            <p:spPr>
              <a:xfrm>
                <a:off x="7102440" y="3376440"/>
                <a:ext cx="44640" cy="146160"/>
              </a:xfrm>
              <a:custGeom>
                <a:avLst/>
                <a:gdLst/>
                <a:ahLst/>
                <a:rect l="l" t="t" r="r" b="b"/>
                <a:pathLst>
                  <a:path w="28" h="92">
                    <a:moveTo>
                      <a:pt x="0" y="0"/>
                    </a:moveTo>
                    <a:lnTo>
                      <a:pt x="5" y="5"/>
                    </a:lnTo>
                    <a:lnTo>
                      <a:pt x="17" y="55"/>
                    </a:lnTo>
                    <a:lnTo>
                      <a:pt x="27" y="91"/>
                    </a:lnTo>
                    <a:lnTo>
                      <a:pt x="20" y="8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262640" y="3379680"/>
                <a:ext cx="109800" cy="15264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15" y="0"/>
                    </a:moveTo>
                    <a:lnTo>
                      <a:pt x="68" y="95"/>
                    </a:lnTo>
                    <a:lnTo>
                      <a:pt x="46" y="94"/>
                    </a:lnTo>
                    <a:lnTo>
                      <a:pt x="0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6718320" y="3411360"/>
              <a:ext cx="1036440" cy="257400"/>
              <a:chOff x="6718320" y="3411360"/>
              <a:chExt cx="1036440" cy="257400"/>
            </a:xfrm>
          </p:grpSpPr>
          <p:sp>
            <p:nvSpPr>
              <p:cNvPr id="2013" name=""/>
              <p:cNvSpPr/>
              <p:nvPr/>
            </p:nvSpPr>
            <p:spPr>
              <a:xfrm>
                <a:off x="6718320" y="3489480"/>
                <a:ext cx="1003320" cy="131760"/>
              </a:xfrm>
              <a:custGeom>
                <a:avLst/>
                <a:gdLst/>
                <a:ahLst/>
                <a:rect l="l" t="t" r="r" b="b"/>
                <a:pathLst>
                  <a:path w="632" h="83">
                    <a:moveTo>
                      <a:pt x="278" y="22"/>
                    </a:moveTo>
                    <a:lnTo>
                      <a:pt x="267" y="13"/>
                    </a:lnTo>
                    <a:lnTo>
                      <a:pt x="259" y="7"/>
                    </a:lnTo>
                    <a:lnTo>
                      <a:pt x="250" y="4"/>
                    </a:lnTo>
                    <a:lnTo>
                      <a:pt x="238" y="0"/>
                    </a:lnTo>
                    <a:lnTo>
                      <a:pt x="221" y="0"/>
                    </a:lnTo>
                    <a:lnTo>
                      <a:pt x="58" y="8"/>
                    </a:lnTo>
                    <a:lnTo>
                      <a:pt x="43" y="9"/>
                    </a:lnTo>
                    <a:lnTo>
                      <a:pt x="35" y="11"/>
                    </a:lnTo>
                    <a:lnTo>
                      <a:pt x="28" y="12"/>
                    </a:lnTo>
                    <a:lnTo>
                      <a:pt x="21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8" y="25"/>
                    </a:lnTo>
                    <a:lnTo>
                      <a:pt x="5" y="30"/>
                    </a:lnTo>
                    <a:lnTo>
                      <a:pt x="0" y="40"/>
                    </a:lnTo>
                    <a:lnTo>
                      <a:pt x="5" y="62"/>
                    </a:lnTo>
                    <a:lnTo>
                      <a:pt x="250" y="82"/>
                    </a:lnTo>
                    <a:lnTo>
                      <a:pt x="423" y="62"/>
                    </a:lnTo>
                    <a:lnTo>
                      <a:pt x="631" y="39"/>
                    </a:lnTo>
                    <a:lnTo>
                      <a:pt x="439" y="25"/>
                    </a:lnTo>
                    <a:lnTo>
                      <a:pt x="315" y="24"/>
                    </a:lnTo>
                    <a:lnTo>
                      <a:pt x="278" y="22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4" name=""/>
              <p:cNvGrpSpPr/>
              <p:nvPr/>
            </p:nvGrpSpPr>
            <p:grpSpPr>
              <a:xfrm>
                <a:off x="6940440" y="3411360"/>
                <a:ext cx="814320" cy="257400"/>
                <a:chOff x="6940440" y="3411360"/>
                <a:chExt cx="814320" cy="257400"/>
              </a:xfrm>
            </p:grpSpPr>
            <p:grpSp>
              <p:nvGrpSpPr>
                <p:cNvPr id="2015" name=""/>
                <p:cNvGrpSpPr/>
                <p:nvPr/>
              </p:nvGrpSpPr>
              <p:grpSpPr>
                <a:xfrm>
                  <a:off x="6940440" y="3411360"/>
                  <a:ext cx="574920" cy="257400"/>
                  <a:chOff x="6940440" y="3411360"/>
                  <a:chExt cx="574920" cy="257400"/>
                </a:xfrm>
              </p:grpSpPr>
              <p:grpSp>
                <p:nvGrpSpPr>
                  <p:cNvPr id="2016" name=""/>
                  <p:cNvGrpSpPr/>
                  <p:nvPr/>
                </p:nvGrpSpPr>
                <p:grpSpPr>
                  <a:xfrm>
                    <a:off x="6940440" y="3424320"/>
                    <a:ext cx="330480" cy="244440"/>
                    <a:chOff x="6940440" y="3424320"/>
                    <a:chExt cx="330480" cy="244440"/>
                  </a:xfrm>
                </p:grpSpPr>
                <p:grpSp>
                  <p:nvGrpSpPr>
                    <p:cNvPr id="2017" name=""/>
                    <p:cNvGrpSpPr/>
                    <p:nvPr/>
                  </p:nvGrpSpPr>
                  <p:grpSpPr>
                    <a:xfrm>
                      <a:off x="6997680" y="3478320"/>
                      <a:ext cx="57240" cy="4680"/>
                      <a:chOff x="6997680" y="3478320"/>
                      <a:chExt cx="57240" cy="4680"/>
                    </a:xfrm>
                  </p:grpSpPr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7050240" y="3478320"/>
                        <a:ext cx="468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9" name=""/>
                      <p:cNvSpPr/>
                      <p:nvPr/>
                    </p:nvSpPr>
                    <p:spPr>
                      <a:xfrm>
                        <a:off x="6997680" y="3481560"/>
                        <a:ext cx="32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6940440" y="3478320"/>
                      <a:ext cx="33048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20">
                          <a:moveTo>
                            <a:pt x="147" y="45"/>
                          </a:moveTo>
                          <a:lnTo>
                            <a:pt x="141" y="38"/>
                          </a:lnTo>
                          <a:lnTo>
                            <a:pt x="135" y="31"/>
                          </a:lnTo>
                          <a:lnTo>
                            <a:pt x="112" y="5"/>
                          </a:lnTo>
                          <a:lnTo>
                            <a:pt x="108" y="3"/>
                          </a:lnTo>
                          <a:lnTo>
                            <a:pt x="106" y="2"/>
                          </a:lnTo>
                          <a:lnTo>
                            <a:pt x="103" y="1"/>
                          </a:lnTo>
                          <a:lnTo>
                            <a:pt x="98" y="0"/>
                          </a:lnTo>
                          <a:lnTo>
                            <a:pt x="94" y="1"/>
                          </a:lnTo>
                          <a:lnTo>
                            <a:pt x="26" y="4"/>
                          </a:lnTo>
                          <a:lnTo>
                            <a:pt x="23" y="4"/>
                          </a:lnTo>
                          <a:lnTo>
                            <a:pt x="17" y="5"/>
                          </a:lnTo>
                          <a:lnTo>
                            <a:pt x="13" y="5"/>
                          </a:lnTo>
                          <a:lnTo>
                            <a:pt x="8" y="6"/>
                          </a:lnTo>
                          <a:lnTo>
                            <a:pt x="5" y="8"/>
                          </a:lnTo>
                          <a:lnTo>
                            <a:pt x="2" y="10"/>
                          </a:lnTo>
                          <a:lnTo>
                            <a:pt x="2" y="13"/>
                          </a:lnTo>
                          <a:lnTo>
                            <a:pt x="0" y="18"/>
                          </a:lnTo>
                          <a:lnTo>
                            <a:pt x="1" y="21"/>
                          </a:lnTo>
                          <a:lnTo>
                            <a:pt x="2" y="25"/>
                          </a:lnTo>
                          <a:lnTo>
                            <a:pt x="20" y="51"/>
                          </a:lnTo>
                          <a:lnTo>
                            <a:pt x="27" y="60"/>
                          </a:lnTo>
                          <a:lnTo>
                            <a:pt x="32" y="67"/>
                          </a:lnTo>
                          <a:lnTo>
                            <a:pt x="37" y="75"/>
                          </a:lnTo>
                          <a:lnTo>
                            <a:pt x="44" y="83"/>
                          </a:lnTo>
                          <a:lnTo>
                            <a:pt x="51" y="90"/>
                          </a:lnTo>
                          <a:lnTo>
                            <a:pt x="84" y="119"/>
                          </a:lnTo>
                          <a:lnTo>
                            <a:pt x="207" y="103"/>
                          </a:lnTo>
                          <a:lnTo>
                            <a:pt x="163" y="59"/>
                          </a:lnTo>
                          <a:lnTo>
                            <a:pt x="155" y="52"/>
                          </a:lnTo>
                          <a:lnTo>
                            <a:pt x="147" y="45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6967440" y="3424320"/>
                      <a:ext cx="1112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8">
                          <a:moveTo>
                            <a:pt x="61" y="2"/>
                          </a:moveTo>
                          <a:lnTo>
                            <a:pt x="69" y="17"/>
                          </a:lnTo>
                          <a:lnTo>
                            <a:pt x="69" y="19"/>
                          </a:lnTo>
                          <a:lnTo>
                            <a:pt x="68" y="21"/>
                          </a:lnTo>
                          <a:lnTo>
                            <a:pt x="67" y="23"/>
                          </a:lnTo>
                          <a:lnTo>
                            <a:pt x="65" y="24"/>
                          </a:lnTo>
                          <a:lnTo>
                            <a:pt x="11" y="27"/>
                          </a:lnTo>
                          <a:lnTo>
                            <a:pt x="8" y="26"/>
                          </a:lnTo>
                          <a:lnTo>
                            <a:pt x="5" y="26"/>
                          </a:lnTo>
                          <a:lnTo>
                            <a:pt x="2" y="24"/>
                          </a:lnTo>
                          <a:lnTo>
                            <a:pt x="1" y="23"/>
                          </a:lnTo>
                          <a:lnTo>
                            <a:pt x="0" y="20"/>
                          </a:lnTo>
                          <a:lnTo>
                            <a:pt x="2" y="4"/>
                          </a:lnTo>
                          <a:lnTo>
                            <a:pt x="7" y="1"/>
                          </a:lnTo>
                          <a:lnTo>
                            <a:pt x="10" y="0"/>
                          </a:lnTo>
                          <a:lnTo>
                            <a:pt x="14" y="0"/>
                          </a:lnTo>
                          <a:lnTo>
                            <a:pt x="56" y="1"/>
                          </a:lnTo>
                          <a:lnTo>
                            <a:pt x="59" y="1"/>
                          </a:lnTo>
                          <a:lnTo>
                            <a:pt x="61" y="2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2" name=""/>
                  <p:cNvGrpSpPr/>
                  <p:nvPr/>
                </p:nvGrpSpPr>
                <p:grpSpPr>
                  <a:xfrm>
                    <a:off x="7186680" y="3411360"/>
                    <a:ext cx="328680" cy="244800"/>
                    <a:chOff x="7186680" y="3411360"/>
                    <a:chExt cx="328680" cy="244800"/>
                  </a:xfrm>
                </p:grpSpPr>
                <p:grpSp>
                  <p:nvGrpSpPr>
                    <p:cNvPr id="2023" name=""/>
                    <p:cNvGrpSpPr/>
                    <p:nvPr/>
                  </p:nvGrpSpPr>
                  <p:grpSpPr>
                    <a:xfrm>
                      <a:off x="7240680" y="3462480"/>
                      <a:ext cx="52200" cy="4680"/>
                      <a:chOff x="7240680" y="3462480"/>
                      <a:chExt cx="52200" cy="4680"/>
                    </a:xfrm>
                  </p:grpSpPr>
                  <p:sp>
                    <p:nvSpPr>
                      <p:cNvPr id="2024" name=""/>
                      <p:cNvSpPr/>
                      <p:nvPr/>
                    </p:nvSpPr>
                    <p:spPr>
                      <a:xfrm>
                        <a:off x="7291440" y="3462480"/>
                        <a:ext cx="14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5" name=""/>
                      <p:cNvSpPr/>
                      <p:nvPr/>
                    </p:nvSpPr>
                    <p:spPr>
                      <a:xfrm>
                        <a:off x="7240680" y="3465360"/>
                        <a:ext cx="14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201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7186680" y="3467160"/>
                      <a:ext cx="32868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7" h="119">
                          <a:moveTo>
                            <a:pt x="147" y="45"/>
                          </a:moveTo>
                          <a:lnTo>
                            <a:pt x="141" y="38"/>
                          </a:lnTo>
                          <a:lnTo>
                            <a:pt x="135" y="31"/>
                          </a:lnTo>
                          <a:lnTo>
                            <a:pt x="111" y="5"/>
                          </a:lnTo>
                          <a:lnTo>
                            <a:pt x="109" y="2"/>
                          </a:lnTo>
                          <a:lnTo>
                            <a:pt x="106" y="1"/>
                          </a:lnTo>
                          <a:lnTo>
                            <a:pt x="103" y="1"/>
                          </a:lnTo>
                          <a:lnTo>
                            <a:pt x="98" y="0"/>
                          </a:lnTo>
                          <a:lnTo>
                            <a:pt x="95" y="0"/>
                          </a:lnTo>
                          <a:lnTo>
                            <a:pt x="26" y="3"/>
                          </a:lnTo>
                          <a:lnTo>
                            <a:pt x="23" y="4"/>
                          </a:lnTo>
                          <a:lnTo>
                            <a:pt x="17" y="5"/>
                          </a:lnTo>
                          <a:lnTo>
                            <a:pt x="13" y="5"/>
                          </a:lnTo>
                          <a:lnTo>
                            <a:pt x="8" y="6"/>
                          </a:lnTo>
                          <a:lnTo>
                            <a:pt x="5" y="8"/>
                          </a:lnTo>
                          <a:lnTo>
                            <a:pt x="2" y="10"/>
                          </a:lnTo>
                          <a:lnTo>
                            <a:pt x="1" y="13"/>
                          </a:lnTo>
                          <a:lnTo>
                            <a:pt x="0" y="18"/>
                          </a:lnTo>
                          <a:lnTo>
                            <a:pt x="1" y="21"/>
                          </a:lnTo>
                          <a:lnTo>
                            <a:pt x="2" y="24"/>
                          </a:lnTo>
                          <a:lnTo>
                            <a:pt x="20" y="50"/>
                          </a:lnTo>
                          <a:lnTo>
                            <a:pt x="27" y="59"/>
                          </a:lnTo>
                          <a:lnTo>
                            <a:pt x="32" y="65"/>
                          </a:lnTo>
                          <a:lnTo>
                            <a:pt x="36" y="74"/>
                          </a:lnTo>
                          <a:lnTo>
                            <a:pt x="44" y="82"/>
                          </a:lnTo>
                          <a:lnTo>
                            <a:pt x="51" y="88"/>
                          </a:lnTo>
                          <a:lnTo>
                            <a:pt x="84" y="118"/>
                          </a:lnTo>
                          <a:lnTo>
                            <a:pt x="206" y="101"/>
                          </a:lnTo>
                          <a:lnTo>
                            <a:pt x="162" y="58"/>
                          </a:lnTo>
                          <a:lnTo>
                            <a:pt x="156" y="52"/>
                          </a:lnTo>
                          <a:lnTo>
                            <a:pt x="147" y="45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7" name=""/>
                    <p:cNvSpPr/>
                    <p:nvPr/>
                  </p:nvSpPr>
                  <p:spPr>
                    <a:xfrm>
                      <a:off x="7213680" y="3411360"/>
                      <a:ext cx="1108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30">
                          <a:moveTo>
                            <a:pt x="61" y="3"/>
                          </a:moveTo>
                          <a:lnTo>
                            <a:pt x="69" y="19"/>
                          </a:lnTo>
                          <a:lnTo>
                            <a:pt x="69" y="21"/>
                          </a:lnTo>
                          <a:lnTo>
                            <a:pt x="68" y="22"/>
                          </a:lnTo>
                          <a:lnTo>
                            <a:pt x="67" y="24"/>
                          </a:lnTo>
                          <a:lnTo>
                            <a:pt x="65" y="25"/>
                          </a:lnTo>
                          <a:lnTo>
                            <a:pt x="11" y="29"/>
                          </a:lnTo>
                          <a:lnTo>
                            <a:pt x="8" y="28"/>
                          </a:lnTo>
                          <a:lnTo>
                            <a:pt x="5" y="28"/>
                          </a:lnTo>
                          <a:lnTo>
                            <a:pt x="2" y="26"/>
                          </a:lnTo>
                          <a:lnTo>
                            <a:pt x="1" y="24"/>
                          </a:lnTo>
                          <a:lnTo>
                            <a:pt x="0" y="22"/>
                          </a:lnTo>
                          <a:lnTo>
                            <a:pt x="2" y="5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4" y="0"/>
                          </a:lnTo>
                          <a:lnTo>
                            <a:pt x="56" y="1"/>
                          </a:lnTo>
                          <a:lnTo>
                            <a:pt x="59" y="1"/>
                          </a:lnTo>
                          <a:lnTo>
                            <a:pt x="61" y="3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28" name=""/>
                <p:cNvSpPr/>
                <p:nvPr/>
              </p:nvSpPr>
              <p:spPr>
                <a:xfrm>
                  <a:off x="7164360" y="3552840"/>
                  <a:ext cx="590400" cy="57240"/>
                </a:xfrm>
                <a:custGeom>
                  <a:avLst/>
                  <a:gdLst/>
                  <a:ahLst/>
                  <a:rect l="l" t="t" r="r" b="b"/>
                  <a:pathLst>
                    <a:path w="372" h="36">
                      <a:moveTo>
                        <a:pt x="353" y="3"/>
                      </a:moveTo>
                      <a:lnTo>
                        <a:pt x="324" y="1"/>
                      </a:lnTo>
                      <a:lnTo>
                        <a:pt x="305" y="0"/>
                      </a:lnTo>
                      <a:lnTo>
                        <a:pt x="292" y="0"/>
                      </a:lnTo>
                      <a:lnTo>
                        <a:pt x="224" y="2"/>
                      </a:lnTo>
                      <a:lnTo>
                        <a:pt x="214" y="2"/>
                      </a:lnTo>
                      <a:lnTo>
                        <a:pt x="205" y="1"/>
                      </a:lnTo>
                      <a:lnTo>
                        <a:pt x="198" y="0"/>
                      </a:lnTo>
                      <a:lnTo>
                        <a:pt x="191" y="0"/>
                      </a:lnTo>
                      <a:lnTo>
                        <a:pt x="152" y="0"/>
                      </a:lnTo>
                      <a:lnTo>
                        <a:pt x="111" y="3"/>
                      </a:lnTo>
                      <a:lnTo>
                        <a:pt x="97" y="5"/>
                      </a:lnTo>
                      <a:lnTo>
                        <a:pt x="84" y="6"/>
                      </a:lnTo>
                      <a:lnTo>
                        <a:pt x="70" y="9"/>
                      </a:lnTo>
                      <a:lnTo>
                        <a:pt x="55" y="12"/>
                      </a:lnTo>
                      <a:lnTo>
                        <a:pt x="40" y="16"/>
                      </a:lnTo>
                      <a:lnTo>
                        <a:pt x="28" y="21"/>
                      </a:lnTo>
                      <a:lnTo>
                        <a:pt x="0" y="33"/>
                      </a:lnTo>
                      <a:lnTo>
                        <a:pt x="76" y="35"/>
                      </a:lnTo>
                      <a:lnTo>
                        <a:pt x="371" y="6"/>
                      </a:lnTo>
                      <a:lnTo>
                        <a:pt x="353" y="3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9" name=""/>
            <p:cNvGrpSpPr/>
            <p:nvPr/>
          </p:nvGrpSpPr>
          <p:grpSpPr>
            <a:xfrm>
              <a:off x="6788160" y="3398760"/>
              <a:ext cx="39600" cy="157320"/>
              <a:chOff x="6788160" y="3398760"/>
              <a:chExt cx="39600" cy="157320"/>
            </a:xfrm>
          </p:grpSpPr>
          <p:sp>
            <p:nvSpPr>
              <p:cNvPr id="2030" name=""/>
              <p:cNvSpPr/>
              <p:nvPr/>
            </p:nvSpPr>
            <p:spPr>
              <a:xfrm>
                <a:off x="6791400" y="3398760"/>
                <a:ext cx="36360" cy="157320"/>
              </a:xfrm>
              <a:custGeom>
                <a:avLst/>
                <a:gdLst/>
                <a:ahLst/>
                <a:rect l="l" t="t" r="r" b="b"/>
                <a:pathLst>
                  <a:path w="23" h="99">
                    <a:moveTo>
                      <a:pt x="18" y="2"/>
                    </a:moveTo>
                    <a:lnTo>
                      <a:pt x="17" y="6"/>
                    </a:lnTo>
                    <a:lnTo>
                      <a:pt x="14" y="18"/>
                    </a:lnTo>
                    <a:lnTo>
                      <a:pt x="12" y="29"/>
                    </a:lnTo>
                    <a:lnTo>
                      <a:pt x="10" y="36"/>
                    </a:lnTo>
                    <a:lnTo>
                      <a:pt x="8" y="47"/>
                    </a:lnTo>
                    <a:lnTo>
                      <a:pt x="6" y="56"/>
                    </a:lnTo>
                    <a:lnTo>
                      <a:pt x="4" y="72"/>
                    </a:lnTo>
                    <a:lnTo>
                      <a:pt x="0" y="98"/>
                    </a:lnTo>
                    <a:lnTo>
                      <a:pt x="5" y="98"/>
                    </a:lnTo>
                    <a:lnTo>
                      <a:pt x="7" y="82"/>
                    </a:lnTo>
                    <a:lnTo>
                      <a:pt x="10" y="56"/>
                    </a:lnTo>
                    <a:lnTo>
                      <a:pt x="12" y="46"/>
                    </a:lnTo>
                    <a:lnTo>
                      <a:pt x="14" y="37"/>
                    </a:lnTo>
                    <a:lnTo>
                      <a:pt x="16" y="27"/>
                    </a:lnTo>
                    <a:lnTo>
                      <a:pt x="17" y="17"/>
                    </a:lnTo>
                    <a:lnTo>
                      <a:pt x="22" y="0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788160" y="3398760"/>
                <a:ext cx="36360" cy="157320"/>
              </a:xfrm>
              <a:custGeom>
                <a:avLst/>
                <a:gdLst/>
                <a:ahLst/>
                <a:rect l="l" t="t" r="r" b="b"/>
                <a:pathLst>
                  <a:path w="23" h="99">
                    <a:moveTo>
                      <a:pt x="18" y="2"/>
                    </a:moveTo>
                    <a:lnTo>
                      <a:pt x="17" y="6"/>
                    </a:lnTo>
                    <a:lnTo>
                      <a:pt x="14" y="18"/>
                    </a:lnTo>
                    <a:lnTo>
                      <a:pt x="12" y="29"/>
                    </a:lnTo>
                    <a:lnTo>
                      <a:pt x="10" y="36"/>
                    </a:lnTo>
                    <a:lnTo>
                      <a:pt x="8" y="47"/>
                    </a:lnTo>
                    <a:lnTo>
                      <a:pt x="6" y="56"/>
                    </a:lnTo>
                    <a:lnTo>
                      <a:pt x="5" y="72"/>
                    </a:lnTo>
                    <a:lnTo>
                      <a:pt x="0" y="98"/>
                    </a:lnTo>
                    <a:lnTo>
                      <a:pt x="5" y="98"/>
                    </a:lnTo>
                    <a:lnTo>
                      <a:pt x="7" y="82"/>
                    </a:lnTo>
                    <a:lnTo>
                      <a:pt x="10" y="56"/>
                    </a:lnTo>
                    <a:lnTo>
                      <a:pt x="12" y="46"/>
                    </a:lnTo>
                    <a:lnTo>
                      <a:pt x="14" y="37"/>
                    </a:lnTo>
                    <a:lnTo>
                      <a:pt x="16" y="27"/>
                    </a:lnTo>
                    <a:lnTo>
                      <a:pt x="17" y="17"/>
                    </a:lnTo>
                    <a:lnTo>
                      <a:pt x="22" y="0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6967440" y="3395520"/>
              <a:ext cx="49320" cy="174600"/>
              <a:chOff x="6967440" y="3395520"/>
              <a:chExt cx="49320" cy="174600"/>
            </a:xfrm>
          </p:grpSpPr>
          <p:sp>
            <p:nvSpPr>
              <p:cNvPr id="2033" name=""/>
              <p:cNvSpPr/>
              <p:nvPr/>
            </p:nvSpPr>
            <p:spPr>
              <a:xfrm>
                <a:off x="6972480" y="3397320"/>
                <a:ext cx="44280" cy="172800"/>
              </a:xfrm>
              <a:custGeom>
                <a:avLst/>
                <a:gdLst/>
                <a:ahLst/>
                <a:rect l="l" t="t" r="r" b="b"/>
                <a:pathLst>
                  <a:path w="28" h="109">
                    <a:moveTo>
                      <a:pt x="19" y="0"/>
                    </a:moveTo>
                    <a:lnTo>
                      <a:pt x="15" y="17"/>
                    </a:lnTo>
                    <a:lnTo>
                      <a:pt x="11" y="31"/>
                    </a:lnTo>
                    <a:lnTo>
                      <a:pt x="7" y="55"/>
                    </a:lnTo>
                    <a:lnTo>
                      <a:pt x="3" y="77"/>
                    </a:lnTo>
                    <a:lnTo>
                      <a:pt x="1" y="89"/>
                    </a:lnTo>
                    <a:lnTo>
                      <a:pt x="0" y="108"/>
                    </a:lnTo>
                    <a:lnTo>
                      <a:pt x="13" y="108"/>
                    </a:lnTo>
                    <a:lnTo>
                      <a:pt x="15" y="85"/>
                    </a:lnTo>
                    <a:lnTo>
                      <a:pt x="16" y="69"/>
                    </a:lnTo>
                    <a:lnTo>
                      <a:pt x="20" y="45"/>
                    </a:lnTo>
                    <a:lnTo>
                      <a:pt x="23" y="23"/>
                    </a:lnTo>
                    <a:lnTo>
                      <a:pt x="27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967440" y="3395520"/>
                <a:ext cx="46080" cy="174600"/>
              </a:xfrm>
              <a:custGeom>
                <a:avLst/>
                <a:gdLst/>
                <a:ahLst/>
                <a:rect l="l" t="t" r="r" b="b"/>
                <a:pathLst>
                  <a:path w="29" h="110">
                    <a:moveTo>
                      <a:pt x="19" y="0"/>
                    </a:moveTo>
                    <a:lnTo>
                      <a:pt x="15" y="17"/>
                    </a:lnTo>
                    <a:lnTo>
                      <a:pt x="12" y="31"/>
                    </a:lnTo>
                    <a:lnTo>
                      <a:pt x="7" y="56"/>
                    </a:lnTo>
                    <a:lnTo>
                      <a:pt x="3" y="77"/>
                    </a:lnTo>
                    <a:lnTo>
                      <a:pt x="2" y="90"/>
                    </a:lnTo>
                    <a:lnTo>
                      <a:pt x="0" y="108"/>
                    </a:lnTo>
                    <a:lnTo>
                      <a:pt x="13" y="109"/>
                    </a:lnTo>
                    <a:lnTo>
                      <a:pt x="15" y="85"/>
                    </a:lnTo>
                    <a:lnTo>
                      <a:pt x="16" y="70"/>
                    </a:lnTo>
                    <a:lnTo>
                      <a:pt x="20" y="45"/>
                    </a:lnTo>
                    <a:lnTo>
                      <a:pt x="23" y="23"/>
                    </a:lnTo>
                    <a:lnTo>
                      <a:pt x="28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6516720" y="3668760"/>
              <a:ext cx="1685880" cy="460080"/>
              <a:chOff x="6516720" y="3668760"/>
              <a:chExt cx="1685880" cy="46008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7950240" y="3765600"/>
                <a:ext cx="252360" cy="252360"/>
                <a:chOff x="7950240" y="3765600"/>
                <a:chExt cx="252360" cy="25236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7986600" y="3765600"/>
                  <a:ext cx="216000" cy="247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7950240" y="3770280"/>
                  <a:ext cx="214200" cy="247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9" name=""/>
              <p:cNvGrpSpPr/>
              <p:nvPr/>
            </p:nvGrpSpPr>
            <p:grpSpPr>
              <a:xfrm>
                <a:off x="7377120" y="3728880"/>
                <a:ext cx="333000" cy="399960"/>
                <a:chOff x="7377120" y="3728880"/>
                <a:chExt cx="333000" cy="39996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7377120" y="3728880"/>
                  <a:ext cx="244440" cy="212760"/>
                </a:xfrm>
                <a:custGeom>
                  <a:avLst/>
                  <a:gdLst/>
                  <a:ahLst/>
                  <a:rect l="l" t="t" r="r" b="b"/>
                  <a:pathLst>
                    <a:path w="154" h="134">
                      <a:moveTo>
                        <a:pt x="153" y="27"/>
                      </a:moveTo>
                      <a:lnTo>
                        <a:pt x="135" y="13"/>
                      </a:lnTo>
                      <a:lnTo>
                        <a:pt x="117" y="7"/>
                      </a:lnTo>
                      <a:lnTo>
                        <a:pt x="94" y="2"/>
                      </a:lnTo>
                      <a:lnTo>
                        <a:pt x="77" y="0"/>
                      </a:lnTo>
                      <a:lnTo>
                        <a:pt x="57" y="2"/>
                      </a:lnTo>
                      <a:lnTo>
                        <a:pt x="41" y="8"/>
                      </a:lnTo>
                      <a:lnTo>
                        <a:pt x="24" y="20"/>
                      </a:lnTo>
                      <a:lnTo>
                        <a:pt x="14" y="32"/>
                      </a:lnTo>
                      <a:lnTo>
                        <a:pt x="8" y="47"/>
                      </a:lnTo>
                      <a:lnTo>
                        <a:pt x="1" y="74"/>
                      </a:lnTo>
                      <a:lnTo>
                        <a:pt x="0" y="93"/>
                      </a:lnTo>
                      <a:lnTo>
                        <a:pt x="1" y="125"/>
                      </a:lnTo>
                      <a:lnTo>
                        <a:pt x="3" y="133"/>
                      </a:lnTo>
                      <a:lnTo>
                        <a:pt x="151" y="76"/>
                      </a:lnTo>
                      <a:lnTo>
                        <a:pt x="15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1" name=""/>
                <p:cNvGrpSpPr/>
                <p:nvPr/>
              </p:nvGrpSpPr>
              <p:grpSpPr>
                <a:xfrm>
                  <a:off x="7405560" y="3774960"/>
                  <a:ext cx="304560" cy="353880"/>
                  <a:chOff x="7405560" y="3774960"/>
                  <a:chExt cx="304560" cy="35388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>
                    <a:off x="7405560" y="3774960"/>
                    <a:ext cx="304560" cy="35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57" y="498"/>
                        </a:moveTo>
                        <a:arcTo wR="10800" hR="10800" stAng="-6448401" swAng="119935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57" y="498"/>
                        </a:moveTo>
                        <a:arcTo wR="10800" hR="10800" stAng="-6448401" swAng="11993508"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7410600" y="3780000"/>
                    <a:ext cx="241200" cy="347400"/>
                    <a:chOff x="7410600" y="3780000"/>
                    <a:chExt cx="241200" cy="34740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7410600" y="3780000"/>
                      <a:ext cx="241200" cy="34740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7424640" y="3795840"/>
                      <a:ext cx="209520" cy="3175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7464600" y="3854520"/>
                      <a:ext cx="117360" cy="20628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7497720" y="3876840"/>
                      <a:ext cx="73080" cy="145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8" name=""/>
                    <p:cNvGrpSpPr/>
                    <p:nvPr/>
                  </p:nvGrpSpPr>
                  <p:grpSpPr>
                    <a:xfrm>
                      <a:off x="7523280" y="3933720"/>
                      <a:ext cx="21960" cy="41400"/>
                      <a:chOff x="7523280" y="3933720"/>
                      <a:chExt cx="21960" cy="41400"/>
                    </a:xfrm>
                  </p:grpSpPr>
                  <p:sp>
                    <p:nvSpPr>
                      <p:cNvPr id="2049" name=""/>
                      <p:cNvSpPr/>
                      <p:nvPr/>
                    </p:nvSpPr>
                    <p:spPr>
                      <a:xfrm>
                        <a:off x="7527960" y="3935520"/>
                        <a:ext cx="17280" cy="396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0" name=""/>
                      <p:cNvSpPr/>
                      <p:nvPr/>
                    </p:nvSpPr>
                    <p:spPr>
                      <a:xfrm>
                        <a:off x="7523280" y="3933720"/>
                        <a:ext cx="15840" cy="3996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360" bIns="-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051" name=""/>
              <p:cNvGrpSpPr/>
              <p:nvPr/>
            </p:nvGrpSpPr>
            <p:grpSpPr>
              <a:xfrm>
                <a:off x="6516720" y="3668760"/>
                <a:ext cx="234720" cy="270720"/>
                <a:chOff x="6516720" y="3668760"/>
                <a:chExt cx="234720" cy="2707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6516720" y="3668760"/>
                  <a:ext cx="135000" cy="128520"/>
                </a:xfrm>
                <a:custGeom>
                  <a:avLst/>
                  <a:gdLst/>
                  <a:ahLst/>
                  <a:rect l="l" t="t" r="r" b="b"/>
                  <a:pathLst>
                    <a:path w="85" h="81">
                      <a:moveTo>
                        <a:pt x="84" y="10"/>
                      </a:moveTo>
                      <a:lnTo>
                        <a:pt x="75" y="4"/>
                      </a:lnTo>
                      <a:lnTo>
                        <a:pt x="59" y="0"/>
                      </a:lnTo>
                      <a:lnTo>
                        <a:pt x="42" y="0"/>
                      </a:lnTo>
                      <a:lnTo>
                        <a:pt x="25" y="3"/>
                      </a:lnTo>
                      <a:lnTo>
                        <a:pt x="14" y="12"/>
                      </a:lnTo>
                      <a:lnTo>
                        <a:pt x="5" y="26"/>
                      </a:lnTo>
                      <a:lnTo>
                        <a:pt x="2" y="42"/>
                      </a:lnTo>
                      <a:lnTo>
                        <a:pt x="0" y="53"/>
                      </a:lnTo>
                      <a:lnTo>
                        <a:pt x="1" y="71"/>
                      </a:lnTo>
                      <a:lnTo>
                        <a:pt x="2" y="80"/>
                      </a:lnTo>
                      <a:lnTo>
                        <a:pt x="66" y="66"/>
                      </a:lnTo>
                      <a:lnTo>
                        <a:pt x="84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6524640" y="3678120"/>
                  <a:ext cx="226800" cy="261360"/>
                  <a:chOff x="6524640" y="3678120"/>
                  <a:chExt cx="226800" cy="26136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6524640" y="3678120"/>
                    <a:ext cx="226800" cy="261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34" y="506"/>
                        </a:moveTo>
                        <a:arcTo wR="10800" hR="10800" stAng="-6456278" swAng="120031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34" y="506"/>
                        </a:moveTo>
                        <a:arcTo wR="10800" hR="10800" stAng="-6456278" swAng="12003101"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55" name=""/>
                  <p:cNvGrpSpPr/>
                  <p:nvPr/>
                </p:nvGrpSpPr>
                <p:grpSpPr>
                  <a:xfrm>
                    <a:off x="6531120" y="3678120"/>
                    <a:ext cx="176040" cy="258840"/>
                    <a:chOff x="6531120" y="3678120"/>
                    <a:chExt cx="176040" cy="258840"/>
                  </a:xfrm>
                </p:grpSpPr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6531120" y="3678120"/>
                      <a:ext cx="176040" cy="25884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>
                      <a:off x="6541920" y="3691080"/>
                      <a:ext cx="152640" cy="2347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8" name=""/>
                    <p:cNvSpPr/>
                    <p:nvPr/>
                  </p:nvSpPr>
                  <p:spPr>
                    <a:xfrm>
                      <a:off x="6572160" y="3735360"/>
                      <a:ext cx="84240" cy="15084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9" name=""/>
                    <p:cNvSpPr/>
                    <p:nvPr/>
                  </p:nvSpPr>
                  <p:spPr>
                    <a:xfrm>
                      <a:off x="6595920" y="3751200"/>
                      <a:ext cx="51120" cy="10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60" name=""/>
                    <p:cNvGrpSpPr/>
                    <p:nvPr/>
                  </p:nvGrpSpPr>
                  <p:grpSpPr>
                    <a:xfrm>
                      <a:off x="6613560" y="3795840"/>
                      <a:ext cx="14400" cy="27000"/>
                      <a:chOff x="6613560" y="3795840"/>
                      <a:chExt cx="14400" cy="27000"/>
                    </a:xfrm>
                  </p:grpSpPr>
                  <p:sp>
                    <p:nvSpPr>
                      <p:cNvPr id="2061" name=""/>
                      <p:cNvSpPr/>
                      <p:nvPr/>
                    </p:nvSpPr>
                    <p:spPr>
                      <a:xfrm>
                        <a:off x="6618240" y="3795840"/>
                        <a:ext cx="9720" cy="270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2" name=""/>
                      <p:cNvSpPr/>
                      <p:nvPr/>
                    </p:nvSpPr>
                    <p:spPr>
                      <a:xfrm>
                        <a:off x="6613560" y="3795840"/>
                        <a:ext cx="9360" cy="2700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063" name=""/>
            <p:cNvGrpSpPr/>
            <p:nvPr/>
          </p:nvGrpSpPr>
          <p:grpSpPr>
            <a:xfrm>
              <a:off x="6431040" y="3352680"/>
              <a:ext cx="1903320" cy="630360"/>
              <a:chOff x="6431040" y="3352680"/>
              <a:chExt cx="1903320" cy="630360"/>
            </a:xfrm>
          </p:grpSpPr>
          <p:grpSp>
            <p:nvGrpSpPr>
              <p:cNvPr id="2064" name=""/>
              <p:cNvGrpSpPr/>
              <p:nvPr/>
            </p:nvGrpSpPr>
            <p:grpSpPr>
              <a:xfrm>
                <a:off x="6431040" y="3352680"/>
                <a:ext cx="1903320" cy="630360"/>
                <a:chOff x="6431040" y="3352680"/>
                <a:chExt cx="1903320" cy="630360"/>
              </a:xfrm>
            </p:grpSpPr>
            <p:grpSp>
              <p:nvGrpSpPr>
                <p:cNvPr id="2065" name=""/>
                <p:cNvGrpSpPr/>
                <p:nvPr/>
              </p:nvGrpSpPr>
              <p:grpSpPr>
                <a:xfrm>
                  <a:off x="6431040" y="3352680"/>
                  <a:ext cx="1903320" cy="630360"/>
                  <a:chOff x="6431040" y="3352680"/>
                  <a:chExt cx="1903320" cy="630360"/>
                </a:xfrm>
              </p:grpSpPr>
              <p:sp>
                <p:nvSpPr>
                  <p:cNvPr id="2066" name=""/>
                  <p:cNvSpPr/>
                  <p:nvPr/>
                </p:nvSpPr>
                <p:spPr>
                  <a:xfrm>
                    <a:off x="7523280" y="3384720"/>
                    <a:ext cx="2142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08">
                        <a:moveTo>
                          <a:pt x="10" y="3"/>
                        </a:moveTo>
                        <a:lnTo>
                          <a:pt x="134" y="105"/>
                        </a:lnTo>
                        <a:lnTo>
                          <a:pt x="128" y="107"/>
                        </a:lnTo>
                        <a:lnTo>
                          <a:pt x="119" y="107"/>
                        </a:lnTo>
                        <a:lnTo>
                          <a:pt x="0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0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7" name=""/>
                  <p:cNvGrpSpPr/>
                  <p:nvPr/>
                </p:nvGrpSpPr>
                <p:grpSpPr>
                  <a:xfrm>
                    <a:off x="6431040" y="3352680"/>
                    <a:ext cx="1903320" cy="630360"/>
                    <a:chOff x="6431040" y="3352680"/>
                    <a:chExt cx="1903320" cy="630360"/>
                  </a:xfrm>
                </p:grpSpPr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6431040" y="3352680"/>
                      <a:ext cx="1901880" cy="62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8" h="395">
                          <a:moveTo>
                            <a:pt x="1197" y="231"/>
                          </a:moveTo>
                          <a:lnTo>
                            <a:pt x="1197" y="228"/>
                          </a:lnTo>
                          <a:lnTo>
                            <a:pt x="1197" y="225"/>
                          </a:lnTo>
                          <a:lnTo>
                            <a:pt x="1195" y="222"/>
                          </a:lnTo>
                          <a:lnTo>
                            <a:pt x="1194" y="220"/>
                          </a:lnTo>
                          <a:lnTo>
                            <a:pt x="1190" y="218"/>
                          </a:lnTo>
                          <a:lnTo>
                            <a:pt x="1185" y="216"/>
                          </a:lnTo>
                          <a:lnTo>
                            <a:pt x="1166" y="206"/>
                          </a:lnTo>
                          <a:lnTo>
                            <a:pt x="1151" y="202"/>
                          </a:lnTo>
                          <a:lnTo>
                            <a:pt x="1141" y="198"/>
                          </a:lnTo>
                          <a:lnTo>
                            <a:pt x="1130" y="194"/>
                          </a:lnTo>
                          <a:lnTo>
                            <a:pt x="1118" y="190"/>
                          </a:lnTo>
                          <a:lnTo>
                            <a:pt x="1105" y="186"/>
                          </a:lnTo>
                          <a:lnTo>
                            <a:pt x="1062" y="172"/>
                          </a:lnTo>
                          <a:lnTo>
                            <a:pt x="1047" y="168"/>
                          </a:lnTo>
                          <a:lnTo>
                            <a:pt x="1031" y="164"/>
                          </a:lnTo>
                          <a:lnTo>
                            <a:pt x="1019" y="160"/>
                          </a:lnTo>
                          <a:lnTo>
                            <a:pt x="1006" y="158"/>
                          </a:lnTo>
                          <a:lnTo>
                            <a:pt x="981" y="153"/>
                          </a:lnTo>
                          <a:lnTo>
                            <a:pt x="963" y="150"/>
                          </a:lnTo>
                          <a:lnTo>
                            <a:pt x="943" y="146"/>
                          </a:lnTo>
                          <a:lnTo>
                            <a:pt x="908" y="140"/>
                          </a:lnTo>
                          <a:lnTo>
                            <a:pt x="893" y="137"/>
                          </a:lnTo>
                          <a:lnTo>
                            <a:pt x="880" y="135"/>
                          </a:lnTo>
                          <a:lnTo>
                            <a:pt x="871" y="133"/>
                          </a:lnTo>
                          <a:lnTo>
                            <a:pt x="862" y="132"/>
                          </a:lnTo>
                          <a:lnTo>
                            <a:pt x="855" y="132"/>
                          </a:lnTo>
                          <a:lnTo>
                            <a:pt x="842" y="130"/>
                          </a:lnTo>
                          <a:lnTo>
                            <a:pt x="836" y="129"/>
                          </a:lnTo>
                          <a:lnTo>
                            <a:pt x="830" y="127"/>
                          </a:lnTo>
                          <a:lnTo>
                            <a:pt x="826" y="126"/>
                          </a:lnTo>
                          <a:lnTo>
                            <a:pt x="695" y="24"/>
                          </a:lnTo>
                          <a:lnTo>
                            <a:pt x="820" y="129"/>
                          </a:lnTo>
                          <a:lnTo>
                            <a:pt x="667" y="136"/>
                          </a:lnTo>
                          <a:lnTo>
                            <a:pt x="648" y="138"/>
                          </a:lnTo>
                          <a:lnTo>
                            <a:pt x="628" y="140"/>
                          </a:lnTo>
                          <a:lnTo>
                            <a:pt x="611" y="141"/>
                          </a:lnTo>
                          <a:lnTo>
                            <a:pt x="597" y="142"/>
                          </a:lnTo>
                          <a:lnTo>
                            <a:pt x="583" y="145"/>
                          </a:lnTo>
                          <a:lnTo>
                            <a:pt x="572" y="146"/>
                          </a:lnTo>
                          <a:lnTo>
                            <a:pt x="559" y="148"/>
                          </a:lnTo>
                          <a:lnTo>
                            <a:pt x="548" y="148"/>
                          </a:lnTo>
                          <a:lnTo>
                            <a:pt x="538" y="148"/>
                          </a:lnTo>
                          <a:lnTo>
                            <a:pt x="534" y="147"/>
                          </a:lnTo>
                          <a:lnTo>
                            <a:pt x="530" y="145"/>
                          </a:lnTo>
                          <a:lnTo>
                            <a:pt x="526" y="141"/>
                          </a:lnTo>
                          <a:lnTo>
                            <a:pt x="519" y="130"/>
                          </a:lnTo>
                          <a:lnTo>
                            <a:pt x="494" y="79"/>
                          </a:lnTo>
                          <a:lnTo>
                            <a:pt x="487" y="61"/>
                          </a:lnTo>
                          <a:lnTo>
                            <a:pt x="485" y="56"/>
                          </a:lnTo>
                          <a:lnTo>
                            <a:pt x="482" y="49"/>
                          </a:lnTo>
                          <a:lnTo>
                            <a:pt x="481" y="44"/>
                          </a:lnTo>
                          <a:lnTo>
                            <a:pt x="481" y="39"/>
                          </a:lnTo>
                          <a:lnTo>
                            <a:pt x="482" y="35"/>
                          </a:lnTo>
                          <a:lnTo>
                            <a:pt x="484" y="32"/>
                          </a:lnTo>
                          <a:lnTo>
                            <a:pt x="487" y="30"/>
                          </a:lnTo>
                          <a:lnTo>
                            <a:pt x="495" y="26"/>
                          </a:lnTo>
                          <a:lnTo>
                            <a:pt x="512" y="23"/>
                          </a:lnTo>
                          <a:lnTo>
                            <a:pt x="530" y="20"/>
                          </a:lnTo>
                          <a:lnTo>
                            <a:pt x="549" y="18"/>
                          </a:lnTo>
                          <a:lnTo>
                            <a:pt x="572" y="17"/>
                          </a:lnTo>
                          <a:lnTo>
                            <a:pt x="595" y="16"/>
                          </a:lnTo>
                          <a:lnTo>
                            <a:pt x="626" y="16"/>
                          </a:lnTo>
                          <a:lnTo>
                            <a:pt x="644" y="17"/>
                          </a:lnTo>
                          <a:lnTo>
                            <a:pt x="661" y="19"/>
                          </a:lnTo>
                          <a:lnTo>
                            <a:pt x="675" y="20"/>
                          </a:lnTo>
                          <a:lnTo>
                            <a:pt x="685" y="21"/>
                          </a:lnTo>
                          <a:lnTo>
                            <a:pt x="695" y="23"/>
                          </a:lnTo>
                          <a:lnTo>
                            <a:pt x="688" y="20"/>
                          </a:lnTo>
                          <a:lnTo>
                            <a:pt x="681" y="17"/>
                          </a:lnTo>
                          <a:lnTo>
                            <a:pt x="673" y="16"/>
                          </a:lnTo>
                          <a:lnTo>
                            <a:pt x="663" y="14"/>
                          </a:lnTo>
                          <a:lnTo>
                            <a:pt x="646" y="12"/>
                          </a:lnTo>
                          <a:lnTo>
                            <a:pt x="628" y="9"/>
                          </a:lnTo>
                          <a:lnTo>
                            <a:pt x="603" y="7"/>
                          </a:lnTo>
                          <a:lnTo>
                            <a:pt x="589" y="5"/>
                          </a:lnTo>
                          <a:lnTo>
                            <a:pt x="571" y="4"/>
                          </a:lnTo>
                          <a:lnTo>
                            <a:pt x="555" y="2"/>
                          </a:lnTo>
                          <a:lnTo>
                            <a:pt x="537" y="2"/>
                          </a:lnTo>
                          <a:lnTo>
                            <a:pt x="520" y="0"/>
                          </a:lnTo>
                          <a:lnTo>
                            <a:pt x="501" y="0"/>
                          </a:lnTo>
                          <a:lnTo>
                            <a:pt x="488" y="0"/>
                          </a:lnTo>
                          <a:lnTo>
                            <a:pt x="426" y="31"/>
                          </a:lnTo>
                          <a:lnTo>
                            <a:pt x="436" y="33"/>
                          </a:lnTo>
                          <a:lnTo>
                            <a:pt x="446" y="35"/>
                          </a:lnTo>
                          <a:lnTo>
                            <a:pt x="453" y="38"/>
                          </a:lnTo>
                          <a:lnTo>
                            <a:pt x="458" y="40"/>
                          </a:lnTo>
                          <a:lnTo>
                            <a:pt x="460" y="44"/>
                          </a:lnTo>
                          <a:lnTo>
                            <a:pt x="463" y="46"/>
                          </a:lnTo>
                          <a:lnTo>
                            <a:pt x="467" y="53"/>
                          </a:lnTo>
                          <a:lnTo>
                            <a:pt x="483" y="88"/>
                          </a:lnTo>
                          <a:lnTo>
                            <a:pt x="501" y="123"/>
                          </a:lnTo>
                          <a:lnTo>
                            <a:pt x="502" y="130"/>
                          </a:lnTo>
                          <a:lnTo>
                            <a:pt x="504" y="136"/>
                          </a:lnTo>
                          <a:lnTo>
                            <a:pt x="505" y="141"/>
                          </a:lnTo>
                          <a:lnTo>
                            <a:pt x="505" y="144"/>
                          </a:lnTo>
                          <a:lnTo>
                            <a:pt x="504" y="148"/>
                          </a:lnTo>
                          <a:lnTo>
                            <a:pt x="502" y="150"/>
                          </a:lnTo>
                          <a:lnTo>
                            <a:pt x="501" y="151"/>
                          </a:lnTo>
                          <a:lnTo>
                            <a:pt x="497" y="152"/>
                          </a:lnTo>
                          <a:lnTo>
                            <a:pt x="491" y="153"/>
                          </a:lnTo>
                          <a:lnTo>
                            <a:pt x="204" y="128"/>
                          </a:lnTo>
                          <a:lnTo>
                            <a:pt x="196" y="127"/>
                          </a:lnTo>
                          <a:lnTo>
                            <a:pt x="191" y="126"/>
                          </a:lnTo>
                          <a:lnTo>
                            <a:pt x="187" y="122"/>
                          </a:lnTo>
                          <a:lnTo>
                            <a:pt x="184" y="119"/>
                          </a:lnTo>
                          <a:lnTo>
                            <a:pt x="180" y="114"/>
                          </a:lnTo>
                          <a:lnTo>
                            <a:pt x="179" y="109"/>
                          </a:lnTo>
                          <a:lnTo>
                            <a:pt x="179" y="104"/>
                          </a:lnTo>
                          <a:lnTo>
                            <a:pt x="180" y="100"/>
                          </a:lnTo>
                          <a:lnTo>
                            <a:pt x="182" y="96"/>
                          </a:lnTo>
                          <a:lnTo>
                            <a:pt x="185" y="93"/>
                          </a:lnTo>
                          <a:lnTo>
                            <a:pt x="189" y="88"/>
                          </a:lnTo>
                          <a:lnTo>
                            <a:pt x="197" y="78"/>
                          </a:lnTo>
                          <a:lnTo>
                            <a:pt x="213" y="58"/>
                          </a:lnTo>
                          <a:lnTo>
                            <a:pt x="235" y="39"/>
                          </a:lnTo>
                          <a:lnTo>
                            <a:pt x="238" y="35"/>
                          </a:lnTo>
                          <a:lnTo>
                            <a:pt x="241" y="33"/>
                          </a:lnTo>
                          <a:lnTo>
                            <a:pt x="247" y="30"/>
                          </a:lnTo>
                          <a:lnTo>
                            <a:pt x="251" y="30"/>
                          </a:lnTo>
                          <a:lnTo>
                            <a:pt x="256" y="28"/>
                          </a:lnTo>
                          <a:lnTo>
                            <a:pt x="264" y="27"/>
                          </a:lnTo>
                          <a:lnTo>
                            <a:pt x="272" y="26"/>
                          </a:lnTo>
                          <a:lnTo>
                            <a:pt x="351" y="26"/>
                          </a:lnTo>
                          <a:lnTo>
                            <a:pt x="372" y="28"/>
                          </a:lnTo>
                          <a:lnTo>
                            <a:pt x="391" y="28"/>
                          </a:lnTo>
                          <a:lnTo>
                            <a:pt x="413" y="30"/>
                          </a:lnTo>
                          <a:lnTo>
                            <a:pt x="426" y="31"/>
                          </a:lnTo>
                          <a:lnTo>
                            <a:pt x="488" y="0"/>
                          </a:lnTo>
                          <a:lnTo>
                            <a:pt x="469" y="0"/>
                          </a:lnTo>
                          <a:lnTo>
                            <a:pt x="452" y="0"/>
                          </a:lnTo>
                          <a:lnTo>
                            <a:pt x="434" y="0"/>
                          </a:lnTo>
                          <a:lnTo>
                            <a:pt x="417" y="1"/>
                          </a:lnTo>
                          <a:lnTo>
                            <a:pt x="405" y="1"/>
                          </a:lnTo>
                          <a:lnTo>
                            <a:pt x="390" y="2"/>
                          </a:lnTo>
                          <a:lnTo>
                            <a:pt x="372" y="2"/>
                          </a:lnTo>
                          <a:lnTo>
                            <a:pt x="350" y="2"/>
                          </a:lnTo>
                          <a:lnTo>
                            <a:pt x="335" y="3"/>
                          </a:lnTo>
                          <a:lnTo>
                            <a:pt x="322" y="4"/>
                          </a:lnTo>
                          <a:lnTo>
                            <a:pt x="312" y="5"/>
                          </a:lnTo>
                          <a:lnTo>
                            <a:pt x="302" y="6"/>
                          </a:lnTo>
                          <a:lnTo>
                            <a:pt x="290" y="7"/>
                          </a:lnTo>
                          <a:lnTo>
                            <a:pt x="276" y="9"/>
                          </a:lnTo>
                          <a:lnTo>
                            <a:pt x="266" y="11"/>
                          </a:lnTo>
                          <a:lnTo>
                            <a:pt x="257" y="12"/>
                          </a:lnTo>
                          <a:lnTo>
                            <a:pt x="248" y="14"/>
                          </a:lnTo>
                          <a:lnTo>
                            <a:pt x="244" y="15"/>
                          </a:lnTo>
                          <a:lnTo>
                            <a:pt x="240" y="16"/>
                          </a:lnTo>
                          <a:lnTo>
                            <a:pt x="235" y="18"/>
                          </a:lnTo>
                          <a:lnTo>
                            <a:pt x="233" y="20"/>
                          </a:lnTo>
                          <a:lnTo>
                            <a:pt x="230" y="21"/>
                          </a:lnTo>
                          <a:lnTo>
                            <a:pt x="227" y="25"/>
                          </a:lnTo>
                          <a:lnTo>
                            <a:pt x="225" y="26"/>
                          </a:lnTo>
                          <a:lnTo>
                            <a:pt x="205" y="45"/>
                          </a:lnTo>
                          <a:lnTo>
                            <a:pt x="162" y="93"/>
                          </a:lnTo>
                          <a:lnTo>
                            <a:pt x="158" y="100"/>
                          </a:lnTo>
                          <a:lnTo>
                            <a:pt x="152" y="105"/>
                          </a:lnTo>
                          <a:lnTo>
                            <a:pt x="148" y="109"/>
                          </a:lnTo>
                          <a:lnTo>
                            <a:pt x="143" y="112"/>
                          </a:lnTo>
                          <a:lnTo>
                            <a:pt x="139" y="114"/>
                          </a:lnTo>
                          <a:lnTo>
                            <a:pt x="135" y="116"/>
                          </a:lnTo>
                          <a:lnTo>
                            <a:pt x="130" y="118"/>
                          </a:lnTo>
                          <a:lnTo>
                            <a:pt x="123" y="118"/>
                          </a:lnTo>
                          <a:lnTo>
                            <a:pt x="113" y="119"/>
                          </a:lnTo>
                          <a:lnTo>
                            <a:pt x="107" y="119"/>
                          </a:lnTo>
                          <a:lnTo>
                            <a:pt x="100" y="120"/>
                          </a:lnTo>
                          <a:lnTo>
                            <a:pt x="91" y="121"/>
                          </a:lnTo>
                          <a:lnTo>
                            <a:pt x="86" y="121"/>
                          </a:lnTo>
                          <a:lnTo>
                            <a:pt x="80" y="122"/>
                          </a:lnTo>
                          <a:lnTo>
                            <a:pt x="73" y="123"/>
                          </a:lnTo>
                          <a:lnTo>
                            <a:pt x="64" y="124"/>
                          </a:lnTo>
                          <a:lnTo>
                            <a:pt x="56" y="127"/>
                          </a:lnTo>
                          <a:lnTo>
                            <a:pt x="44" y="128"/>
                          </a:lnTo>
                          <a:lnTo>
                            <a:pt x="32" y="132"/>
                          </a:lnTo>
                          <a:lnTo>
                            <a:pt x="26" y="133"/>
                          </a:lnTo>
                          <a:lnTo>
                            <a:pt x="22" y="136"/>
                          </a:lnTo>
                          <a:lnTo>
                            <a:pt x="17" y="137"/>
                          </a:lnTo>
                          <a:lnTo>
                            <a:pt x="13" y="141"/>
                          </a:lnTo>
                          <a:lnTo>
                            <a:pt x="10" y="143"/>
                          </a:lnTo>
                          <a:lnTo>
                            <a:pt x="7" y="145"/>
                          </a:lnTo>
                          <a:lnTo>
                            <a:pt x="0" y="170"/>
                          </a:lnTo>
                          <a:lnTo>
                            <a:pt x="3" y="179"/>
                          </a:lnTo>
                          <a:lnTo>
                            <a:pt x="6" y="185"/>
                          </a:lnTo>
                          <a:lnTo>
                            <a:pt x="7" y="191"/>
                          </a:lnTo>
                          <a:lnTo>
                            <a:pt x="7" y="198"/>
                          </a:lnTo>
                          <a:lnTo>
                            <a:pt x="6" y="206"/>
                          </a:lnTo>
                          <a:lnTo>
                            <a:pt x="29" y="252"/>
                          </a:lnTo>
                          <a:lnTo>
                            <a:pt x="34" y="262"/>
                          </a:lnTo>
                          <a:lnTo>
                            <a:pt x="37" y="267"/>
                          </a:lnTo>
                          <a:lnTo>
                            <a:pt x="41" y="271"/>
                          </a:lnTo>
                          <a:lnTo>
                            <a:pt x="44" y="273"/>
                          </a:lnTo>
                          <a:lnTo>
                            <a:pt x="51" y="277"/>
                          </a:lnTo>
                          <a:lnTo>
                            <a:pt x="56" y="280"/>
                          </a:lnTo>
                          <a:lnTo>
                            <a:pt x="57" y="269"/>
                          </a:lnTo>
                          <a:lnTo>
                            <a:pt x="58" y="262"/>
                          </a:lnTo>
                          <a:lnTo>
                            <a:pt x="59" y="254"/>
                          </a:lnTo>
                          <a:lnTo>
                            <a:pt x="61" y="247"/>
                          </a:lnTo>
                          <a:lnTo>
                            <a:pt x="62" y="240"/>
                          </a:lnTo>
                          <a:lnTo>
                            <a:pt x="64" y="232"/>
                          </a:lnTo>
                          <a:lnTo>
                            <a:pt x="66" y="225"/>
                          </a:lnTo>
                          <a:lnTo>
                            <a:pt x="70" y="218"/>
                          </a:lnTo>
                          <a:lnTo>
                            <a:pt x="76" y="211"/>
                          </a:lnTo>
                          <a:lnTo>
                            <a:pt x="82" y="206"/>
                          </a:lnTo>
                          <a:lnTo>
                            <a:pt x="89" y="203"/>
                          </a:lnTo>
                          <a:lnTo>
                            <a:pt x="95" y="202"/>
                          </a:lnTo>
                          <a:lnTo>
                            <a:pt x="101" y="202"/>
                          </a:lnTo>
                          <a:lnTo>
                            <a:pt x="109" y="203"/>
                          </a:lnTo>
                          <a:lnTo>
                            <a:pt x="116" y="205"/>
                          </a:lnTo>
                          <a:lnTo>
                            <a:pt x="123" y="206"/>
                          </a:lnTo>
                          <a:lnTo>
                            <a:pt x="128" y="209"/>
                          </a:lnTo>
                          <a:lnTo>
                            <a:pt x="132" y="212"/>
                          </a:lnTo>
                          <a:lnTo>
                            <a:pt x="137" y="216"/>
                          </a:lnTo>
                          <a:lnTo>
                            <a:pt x="141" y="219"/>
                          </a:lnTo>
                          <a:lnTo>
                            <a:pt x="144" y="223"/>
                          </a:lnTo>
                          <a:lnTo>
                            <a:pt x="148" y="227"/>
                          </a:lnTo>
                          <a:lnTo>
                            <a:pt x="152" y="231"/>
                          </a:lnTo>
                          <a:lnTo>
                            <a:pt x="156" y="237"/>
                          </a:lnTo>
                          <a:lnTo>
                            <a:pt x="159" y="243"/>
                          </a:lnTo>
                          <a:lnTo>
                            <a:pt x="162" y="248"/>
                          </a:lnTo>
                          <a:lnTo>
                            <a:pt x="164" y="255"/>
                          </a:lnTo>
                          <a:lnTo>
                            <a:pt x="167" y="264"/>
                          </a:lnTo>
                          <a:lnTo>
                            <a:pt x="170" y="272"/>
                          </a:lnTo>
                          <a:lnTo>
                            <a:pt x="174" y="281"/>
                          </a:lnTo>
                          <a:lnTo>
                            <a:pt x="177" y="287"/>
                          </a:lnTo>
                          <a:lnTo>
                            <a:pt x="181" y="293"/>
                          </a:lnTo>
                          <a:lnTo>
                            <a:pt x="186" y="299"/>
                          </a:lnTo>
                          <a:lnTo>
                            <a:pt x="191" y="304"/>
                          </a:lnTo>
                          <a:lnTo>
                            <a:pt x="206" y="305"/>
                          </a:lnTo>
                          <a:lnTo>
                            <a:pt x="598" y="372"/>
                          </a:lnTo>
                          <a:lnTo>
                            <a:pt x="597" y="368"/>
                          </a:lnTo>
                          <a:lnTo>
                            <a:pt x="596" y="361"/>
                          </a:lnTo>
                          <a:lnTo>
                            <a:pt x="596" y="350"/>
                          </a:lnTo>
                          <a:lnTo>
                            <a:pt x="596" y="341"/>
                          </a:lnTo>
                          <a:lnTo>
                            <a:pt x="597" y="331"/>
                          </a:lnTo>
                          <a:lnTo>
                            <a:pt x="598" y="323"/>
                          </a:lnTo>
                          <a:lnTo>
                            <a:pt x="599" y="317"/>
                          </a:lnTo>
                          <a:lnTo>
                            <a:pt x="601" y="308"/>
                          </a:lnTo>
                          <a:lnTo>
                            <a:pt x="603" y="301"/>
                          </a:lnTo>
                          <a:lnTo>
                            <a:pt x="605" y="294"/>
                          </a:lnTo>
                          <a:lnTo>
                            <a:pt x="608" y="285"/>
                          </a:lnTo>
                          <a:lnTo>
                            <a:pt x="612" y="280"/>
                          </a:lnTo>
                          <a:lnTo>
                            <a:pt x="615" y="273"/>
                          </a:lnTo>
                          <a:lnTo>
                            <a:pt x="619" y="267"/>
                          </a:lnTo>
                          <a:lnTo>
                            <a:pt x="624" y="262"/>
                          </a:lnTo>
                          <a:lnTo>
                            <a:pt x="628" y="258"/>
                          </a:lnTo>
                          <a:lnTo>
                            <a:pt x="634" y="253"/>
                          </a:lnTo>
                          <a:lnTo>
                            <a:pt x="641" y="251"/>
                          </a:lnTo>
                          <a:lnTo>
                            <a:pt x="647" y="248"/>
                          </a:lnTo>
                          <a:lnTo>
                            <a:pt x="654" y="246"/>
                          </a:lnTo>
                          <a:lnTo>
                            <a:pt x="661" y="244"/>
                          </a:lnTo>
                          <a:lnTo>
                            <a:pt x="668" y="243"/>
                          </a:lnTo>
                          <a:lnTo>
                            <a:pt x="675" y="243"/>
                          </a:lnTo>
                          <a:lnTo>
                            <a:pt x="683" y="243"/>
                          </a:lnTo>
                          <a:lnTo>
                            <a:pt x="691" y="244"/>
                          </a:lnTo>
                          <a:lnTo>
                            <a:pt x="698" y="247"/>
                          </a:lnTo>
                          <a:lnTo>
                            <a:pt x="705" y="248"/>
                          </a:lnTo>
                          <a:lnTo>
                            <a:pt x="716" y="252"/>
                          </a:lnTo>
                          <a:lnTo>
                            <a:pt x="724" y="255"/>
                          </a:lnTo>
                          <a:lnTo>
                            <a:pt x="731" y="259"/>
                          </a:lnTo>
                          <a:lnTo>
                            <a:pt x="738" y="264"/>
                          </a:lnTo>
                          <a:lnTo>
                            <a:pt x="743" y="268"/>
                          </a:lnTo>
                          <a:lnTo>
                            <a:pt x="749" y="273"/>
                          </a:lnTo>
                          <a:lnTo>
                            <a:pt x="755" y="279"/>
                          </a:lnTo>
                          <a:lnTo>
                            <a:pt x="760" y="285"/>
                          </a:lnTo>
                          <a:lnTo>
                            <a:pt x="768" y="293"/>
                          </a:lnTo>
                          <a:lnTo>
                            <a:pt x="773" y="302"/>
                          </a:lnTo>
                          <a:lnTo>
                            <a:pt x="778" y="310"/>
                          </a:lnTo>
                          <a:lnTo>
                            <a:pt x="783" y="319"/>
                          </a:lnTo>
                          <a:lnTo>
                            <a:pt x="787" y="327"/>
                          </a:lnTo>
                          <a:lnTo>
                            <a:pt x="792" y="335"/>
                          </a:lnTo>
                          <a:lnTo>
                            <a:pt x="795" y="343"/>
                          </a:lnTo>
                          <a:lnTo>
                            <a:pt x="800" y="355"/>
                          </a:lnTo>
                          <a:lnTo>
                            <a:pt x="803" y="364"/>
                          </a:lnTo>
                          <a:lnTo>
                            <a:pt x="806" y="373"/>
                          </a:lnTo>
                          <a:lnTo>
                            <a:pt x="808" y="379"/>
                          </a:lnTo>
                          <a:lnTo>
                            <a:pt x="811" y="383"/>
                          </a:lnTo>
                          <a:lnTo>
                            <a:pt x="814" y="386"/>
                          </a:lnTo>
                          <a:lnTo>
                            <a:pt x="820" y="388"/>
                          </a:lnTo>
                          <a:lnTo>
                            <a:pt x="826" y="391"/>
                          </a:lnTo>
                          <a:lnTo>
                            <a:pt x="833" y="392"/>
                          </a:lnTo>
                          <a:lnTo>
                            <a:pt x="841" y="393"/>
                          </a:lnTo>
                          <a:lnTo>
                            <a:pt x="880" y="394"/>
                          </a:lnTo>
                          <a:lnTo>
                            <a:pt x="884" y="394"/>
                          </a:lnTo>
                          <a:lnTo>
                            <a:pt x="890" y="392"/>
                          </a:lnTo>
                          <a:lnTo>
                            <a:pt x="914" y="333"/>
                          </a:lnTo>
                          <a:lnTo>
                            <a:pt x="910" y="332"/>
                          </a:lnTo>
                          <a:lnTo>
                            <a:pt x="908" y="331"/>
                          </a:lnTo>
                          <a:lnTo>
                            <a:pt x="896" y="283"/>
                          </a:lnTo>
                          <a:lnTo>
                            <a:pt x="983" y="281"/>
                          </a:lnTo>
                          <a:lnTo>
                            <a:pt x="993" y="281"/>
                          </a:lnTo>
                          <a:lnTo>
                            <a:pt x="1001" y="280"/>
                          </a:lnTo>
                          <a:lnTo>
                            <a:pt x="1012" y="280"/>
                          </a:lnTo>
                          <a:lnTo>
                            <a:pt x="1025" y="279"/>
                          </a:lnTo>
                          <a:lnTo>
                            <a:pt x="1035" y="277"/>
                          </a:lnTo>
                          <a:lnTo>
                            <a:pt x="1045" y="276"/>
                          </a:lnTo>
                          <a:lnTo>
                            <a:pt x="1060" y="274"/>
                          </a:lnTo>
                          <a:lnTo>
                            <a:pt x="1074" y="271"/>
                          </a:lnTo>
                          <a:lnTo>
                            <a:pt x="1088" y="269"/>
                          </a:lnTo>
                          <a:lnTo>
                            <a:pt x="1103" y="266"/>
                          </a:lnTo>
                          <a:lnTo>
                            <a:pt x="1116" y="263"/>
                          </a:lnTo>
                          <a:lnTo>
                            <a:pt x="1136" y="257"/>
                          </a:lnTo>
                          <a:lnTo>
                            <a:pt x="1142" y="255"/>
                          </a:lnTo>
                          <a:lnTo>
                            <a:pt x="1151" y="253"/>
                          </a:lnTo>
                          <a:lnTo>
                            <a:pt x="1159" y="249"/>
                          </a:lnTo>
                          <a:lnTo>
                            <a:pt x="1166" y="248"/>
                          </a:lnTo>
                          <a:lnTo>
                            <a:pt x="1172" y="245"/>
                          </a:lnTo>
                          <a:lnTo>
                            <a:pt x="1178" y="243"/>
                          </a:lnTo>
                          <a:lnTo>
                            <a:pt x="1184" y="240"/>
                          </a:lnTo>
                          <a:lnTo>
                            <a:pt x="1189" y="237"/>
                          </a:lnTo>
                          <a:lnTo>
                            <a:pt x="1193" y="234"/>
                          </a:lnTo>
                          <a:lnTo>
                            <a:pt x="1197" y="231"/>
                          </a:lnTo>
                        </a:path>
                      </a:pathLst>
                    </a:custGeom>
                    <a:solidFill>
                      <a:srgbClr val="000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"/>
                    <p:cNvSpPr/>
                    <p:nvPr/>
                  </p:nvSpPr>
                  <p:spPr>
                    <a:xfrm>
                      <a:off x="6431040" y="3622680"/>
                      <a:ext cx="1481040" cy="3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3" h="227">
                          <a:moveTo>
                            <a:pt x="898" y="115"/>
                          </a:moveTo>
                          <a:lnTo>
                            <a:pt x="820" y="89"/>
                          </a:lnTo>
                          <a:lnTo>
                            <a:pt x="804" y="83"/>
                          </a:lnTo>
                          <a:lnTo>
                            <a:pt x="775" y="75"/>
                          </a:lnTo>
                          <a:lnTo>
                            <a:pt x="754" y="69"/>
                          </a:lnTo>
                          <a:lnTo>
                            <a:pt x="733" y="63"/>
                          </a:lnTo>
                          <a:lnTo>
                            <a:pt x="725" y="62"/>
                          </a:lnTo>
                          <a:lnTo>
                            <a:pt x="718" y="60"/>
                          </a:lnTo>
                          <a:lnTo>
                            <a:pt x="712" y="59"/>
                          </a:lnTo>
                          <a:lnTo>
                            <a:pt x="700" y="57"/>
                          </a:lnTo>
                          <a:lnTo>
                            <a:pt x="689" y="56"/>
                          </a:lnTo>
                          <a:lnTo>
                            <a:pt x="679" y="56"/>
                          </a:lnTo>
                          <a:lnTo>
                            <a:pt x="668" y="56"/>
                          </a:lnTo>
                          <a:lnTo>
                            <a:pt x="654" y="58"/>
                          </a:lnTo>
                          <a:lnTo>
                            <a:pt x="645" y="59"/>
                          </a:lnTo>
                          <a:lnTo>
                            <a:pt x="635" y="59"/>
                          </a:lnTo>
                          <a:lnTo>
                            <a:pt x="477" y="41"/>
                          </a:lnTo>
                          <a:lnTo>
                            <a:pt x="391" y="33"/>
                          </a:lnTo>
                          <a:lnTo>
                            <a:pt x="297" y="23"/>
                          </a:lnTo>
                          <a:lnTo>
                            <a:pt x="181" y="11"/>
                          </a:lnTo>
                          <a:lnTo>
                            <a:pt x="137" y="7"/>
                          </a:lnTo>
                          <a:lnTo>
                            <a:pt x="106" y="5"/>
                          </a:lnTo>
                          <a:lnTo>
                            <a:pt x="87" y="3"/>
                          </a:lnTo>
                          <a:lnTo>
                            <a:pt x="62" y="1"/>
                          </a:lnTo>
                          <a:lnTo>
                            <a:pt x="46" y="0"/>
                          </a:lnTo>
                          <a:lnTo>
                            <a:pt x="24" y="0"/>
                          </a:lnTo>
                          <a:lnTo>
                            <a:pt x="13" y="0"/>
                          </a:lnTo>
                          <a:lnTo>
                            <a:pt x="0" y="4"/>
                          </a:lnTo>
                          <a:lnTo>
                            <a:pt x="10" y="5"/>
                          </a:lnTo>
                          <a:lnTo>
                            <a:pt x="22" y="7"/>
                          </a:lnTo>
                          <a:lnTo>
                            <a:pt x="32" y="10"/>
                          </a:lnTo>
                          <a:lnTo>
                            <a:pt x="38" y="12"/>
                          </a:lnTo>
                          <a:lnTo>
                            <a:pt x="42" y="14"/>
                          </a:lnTo>
                          <a:lnTo>
                            <a:pt x="47" y="16"/>
                          </a:lnTo>
                          <a:lnTo>
                            <a:pt x="53" y="20"/>
                          </a:lnTo>
                          <a:lnTo>
                            <a:pt x="60" y="20"/>
                          </a:lnTo>
                          <a:lnTo>
                            <a:pt x="66" y="21"/>
                          </a:lnTo>
                          <a:lnTo>
                            <a:pt x="78" y="21"/>
                          </a:lnTo>
                          <a:lnTo>
                            <a:pt x="72" y="28"/>
                          </a:lnTo>
                          <a:lnTo>
                            <a:pt x="69" y="32"/>
                          </a:lnTo>
                          <a:lnTo>
                            <a:pt x="65" y="37"/>
                          </a:lnTo>
                          <a:lnTo>
                            <a:pt x="61" y="46"/>
                          </a:lnTo>
                          <a:lnTo>
                            <a:pt x="60" y="56"/>
                          </a:lnTo>
                          <a:lnTo>
                            <a:pt x="58" y="64"/>
                          </a:lnTo>
                          <a:lnTo>
                            <a:pt x="53" y="68"/>
                          </a:lnTo>
                          <a:lnTo>
                            <a:pt x="46" y="72"/>
                          </a:lnTo>
                          <a:lnTo>
                            <a:pt x="27" y="80"/>
                          </a:lnTo>
                          <a:lnTo>
                            <a:pt x="31" y="89"/>
                          </a:lnTo>
                          <a:lnTo>
                            <a:pt x="35" y="95"/>
                          </a:lnTo>
                          <a:lnTo>
                            <a:pt x="40" y="102"/>
                          </a:lnTo>
                          <a:lnTo>
                            <a:pt x="47" y="106"/>
                          </a:lnTo>
                          <a:lnTo>
                            <a:pt x="56" y="111"/>
                          </a:lnTo>
                          <a:lnTo>
                            <a:pt x="56" y="98"/>
                          </a:lnTo>
                          <a:lnTo>
                            <a:pt x="58" y="84"/>
                          </a:lnTo>
                          <a:lnTo>
                            <a:pt x="60" y="72"/>
                          </a:lnTo>
                          <a:lnTo>
                            <a:pt x="64" y="61"/>
                          </a:lnTo>
                          <a:lnTo>
                            <a:pt x="68" y="52"/>
                          </a:lnTo>
                          <a:lnTo>
                            <a:pt x="73" y="45"/>
                          </a:lnTo>
                          <a:lnTo>
                            <a:pt x="76" y="37"/>
                          </a:lnTo>
                          <a:lnTo>
                            <a:pt x="82" y="32"/>
                          </a:lnTo>
                          <a:lnTo>
                            <a:pt x="89" y="28"/>
                          </a:lnTo>
                          <a:lnTo>
                            <a:pt x="99" y="25"/>
                          </a:lnTo>
                          <a:lnTo>
                            <a:pt x="108" y="24"/>
                          </a:lnTo>
                          <a:lnTo>
                            <a:pt x="116" y="25"/>
                          </a:lnTo>
                          <a:lnTo>
                            <a:pt x="125" y="28"/>
                          </a:lnTo>
                          <a:lnTo>
                            <a:pt x="134" y="32"/>
                          </a:lnTo>
                          <a:lnTo>
                            <a:pt x="142" y="37"/>
                          </a:lnTo>
                          <a:lnTo>
                            <a:pt x="149" y="45"/>
                          </a:lnTo>
                          <a:lnTo>
                            <a:pt x="154" y="52"/>
                          </a:lnTo>
                          <a:lnTo>
                            <a:pt x="159" y="61"/>
                          </a:lnTo>
                          <a:lnTo>
                            <a:pt x="161" y="68"/>
                          </a:lnTo>
                          <a:lnTo>
                            <a:pt x="164" y="79"/>
                          </a:lnTo>
                          <a:lnTo>
                            <a:pt x="165" y="88"/>
                          </a:lnTo>
                          <a:lnTo>
                            <a:pt x="167" y="99"/>
                          </a:lnTo>
                          <a:lnTo>
                            <a:pt x="171" y="109"/>
                          </a:lnTo>
                          <a:lnTo>
                            <a:pt x="176" y="116"/>
                          </a:lnTo>
                          <a:lnTo>
                            <a:pt x="181" y="123"/>
                          </a:lnTo>
                          <a:lnTo>
                            <a:pt x="184" y="129"/>
                          </a:lnTo>
                          <a:lnTo>
                            <a:pt x="189" y="136"/>
                          </a:lnTo>
                          <a:lnTo>
                            <a:pt x="207" y="138"/>
                          </a:lnTo>
                          <a:lnTo>
                            <a:pt x="596" y="201"/>
                          </a:lnTo>
                          <a:lnTo>
                            <a:pt x="594" y="174"/>
                          </a:lnTo>
                          <a:lnTo>
                            <a:pt x="593" y="156"/>
                          </a:lnTo>
                          <a:lnTo>
                            <a:pt x="592" y="143"/>
                          </a:lnTo>
                          <a:lnTo>
                            <a:pt x="593" y="133"/>
                          </a:lnTo>
                          <a:lnTo>
                            <a:pt x="596" y="122"/>
                          </a:lnTo>
                          <a:lnTo>
                            <a:pt x="600" y="111"/>
                          </a:lnTo>
                          <a:lnTo>
                            <a:pt x="606" y="101"/>
                          </a:lnTo>
                          <a:lnTo>
                            <a:pt x="612" y="90"/>
                          </a:lnTo>
                          <a:lnTo>
                            <a:pt x="621" y="82"/>
                          </a:lnTo>
                          <a:lnTo>
                            <a:pt x="629" y="75"/>
                          </a:lnTo>
                          <a:lnTo>
                            <a:pt x="640" y="69"/>
                          </a:lnTo>
                          <a:lnTo>
                            <a:pt x="646" y="67"/>
                          </a:lnTo>
                          <a:lnTo>
                            <a:pt x="654" y="64"/>
                          </a:lnTo>
                          <a:lnTo>
                            <a:pt x="662" y="63"/>
                          </a:lnTo>
                          <a:lnTo>
                            <a:pt x="671" y="62"/>
                          </a:lnTo>
                          <a:lnTo>
                            <a:pt x="682" y="61"/>
                          </a:lnTo>
                          <a:lnTo>
                            <a:pt x="689" y="61"/>
                          </a:lnTo>
                          <a:lnTo>
                            <a:pt x="700" y="62"/>
                          </a:lnTo>
                          <a:lnTo>
                            <a:pt x="711" y="64"/>
                          </a:lnTo>
                          <a:lnTo>
                            <a:pt x="721" y="67"/>
                          </a:lnTo>
                          <a:lnTo>
                            <a:pt x="731" y="70"/>
                          </a:lnTo>
                          <a:lnTo>
                            <a:pt x="740" y="74"/>
                          </a:lnTo>
                          <a:lnTo>
                            <a:pt x="747" y="79"/>
                          </a:lnTo>
                          <a:lnTo>
                            <a:pt x="755" y="85"/>
                          </a:lnTo>
                          <a:lnTo>
                            <a:pt x="763" y="92"/>
                          </a:lnTo>
                          <a:lnTo>
                            <a:pt x="771" y="101"/>
                          </a:lnTo>
                          <a:lnTo>
                            <a:pt x="780" y="111"/>
                          </a:lnTo>
                          <a:lnTo>
                            <a:pt x="786" y="122"/>
                          </a:lnTo>
                          <a:lnTo>
                            <a:pt x="791" y="132"/>
                          </a:lnTo>
                          <a:lnTo>
                            <a:pt x="796" y="146"/>
                          </a:lnTo>
                          <a:lnTo>
                            <a:pt x="799" y="159"/>
                          </a:lnTo>
                          <a:lnTo>
                            <a:pt x="801" y="170"/>
                          </a:lnTo>
                          <a:lnTo>
                            <a:pt x="800" y="176"/>
                          </a:lnTo>
                          <a:lnTo>
                            <a:pt x="799" y="185"/>
                          </a:lnTo>
                          <a:lnTo>
                            <a:pt x="799" y="190"/>
                          </a:lnTo>
                          <a:lnTo>
                            <a:pt x="801" y="196"/>
                          </a:lnTo>
                          <a:lnTo>
                            <a:pt x="804" y="204"/>
                          </a:lnTo>
                          <a:lnTo>
                            <a:pt x="808" y="211"/>
                          </a:lnTo>
                          <a:lnTo>
                            <a:pt x="810" y="215"/>
                          </a:lnTo>
                          <a:lnTo>
                            <a:pt x="814" y="218"/>
                          </a:lnTo>
                          <a:lnTo>
                            <a:pt x="817" y="221"/>
                          </a:lnTo>
                          <a:lnTo>
                            <a:pt x="822" y="223"/>
                          </a:lnTo>
                          <a:lnTo>
                            <a:pt x="828" y="224"/>
                          </a:lnTo>
                          <a:lnTo>
                            <a:pt x="835" y="225"/>
                          </a:lnTo>
                          <a:lnTo>
                            <a:pt x="842" y="226"/>
                          </a:lnTo>
                          <a:lnTo>
                            <a:pt x="847" y="226"/>
                          </a:lnTo>
                          <a:lnTo>
                            <a:pt x="857" y="226"/>
                          </a:lnTo>
                          <a:lnTo>
                            <a:pt x="872" y="226"/>
                          </a:lnTo>
                          <a:lnTo>
                            <a:pt x="888" y="225"/>
                          </a:lnTo>
                          <a:lnTo>
                            <a:pt x="932" y="198"/>
                          </a:lnTo>
                          <a:lnTo>
                            <a:pt x="898" y="115"/>
                          </a:lnTo>
                        </a:path>
                      </a:pathLst>
                    </a:custGeom>
                    <a:solidFill>
                      <a:srgbClr val="000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"/>
                    <p:cNvSpPr/>
                    <p:nvPr/>
                  </p:nvSpPr>
                  <p:spPr>
                    <a:xfrm>
                      <a:off x="7283520" y="3557520"/>
                      <a:ext cx="10508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2" h="151">
                          <a:moveTo>
                            <a:pt x="661" y="101"/>
                          </a:moveTo>
                          <a:lnTo>
                            <a:pt x="661" y="98"/>
                          </a:lnTo>
                          <a:lnTo>
                            <a:pt x="660" y="95"/>
                          </a:lnTo>
                          <a:lnTo>
                            <a:pt x="659" y="92"/>
                          </a:lnTo>
                          <a:lnTo>
                            <a:pt x="657" y="91"/>
                          </a:lnTo>
                          <a:lnTo>
                            <a:pt x="654" y="88"/>
                          </a:lnTo>
                          <a:lnTo>
                            <a:pt x="649" y="86"/>
                          </a:lnTo>
                          <a:lnTo>
                            <a:pt x="629" y="77"/>
                          </a:lnTo>
                          <a:lnTo>
                            <a:pt x="616" y="72"/>
                          </a:lnTo>
                          <a:lnTo>
                            <a:pt x="605" y="69"/>
                          </a:lnTo>
                          <a:lnTo>
                            <a:pt x="593" y="65"/>
                          </a:lnTo>
                          <a:lnTo>
                            <a:pt x="583" y="61"/>
                          </a:lnTo>
                          <a:lnTo>
                            <a:pt x="569" y="57"/>
                          </a:lnTo>
                          <a:lnTo>
                            <a:pt x="526" y="43"/>
                          </a:lnTo>
                          <a:lnTo>
                            <a:pt x="512" y="39"/>
                          </a:lnTo>
                          <a:lnTo>
                            <a:pt x="496" y="35"/>
                          </a:lnTo>
                          <a:lnTo>
                            <a:pt x="484" y="33"/>
                          </a:lnTo>
                          <a:lnTo>
                            <a:pt x="471" y="30"/>
                          </a:lnTo>
                          <a:lnTo>
                            <a:pt x="446" y="25"/>
                          </a:lnTo>
                          <a:lnTo>
                            <a:pt x="428" y="22"/>
                          </a:lnTo>
                          <a:lnTo>
                            <a:pt x="408" y="18"/>
                          </a:lnTo>
                          <a:lnTo>
                            <a:pt x="374" y="12"/>
                          </a:lnTo>
                          <a:lnTo>
                            <a:pt x="358" y="10"/>
                          </a:lnTo>
                          <a:lnTo>
                            <a:pt x="345" y="7"/>
                          </a:lnTo>
                          <a:lnTo>
                            <a:pt x="337" y="6"/>
                          </a:lnTo>
                          <a:lnTo>
                            <a:pt x="328" y="6"/>
                          </a:lnTo>
                          <a:lnTo>
                            <a:pt x="320" y="4"/>
                          </a:lnTo>
                          <a:lnTo>
                            <a:pt x="307" y="3"/>
                          </a:lnTo>
                          <a:lnTo>
                            <a:pt x="300" y="2"/>
                          </a:lnTo>
                          <a:lnTo>
                            <a:pt x="295" y="0"/>
                          </a:lnTo>
                          <a:lnTo>
                            <a:pt x="290" y="2"/>
                          </a:lnTo>
                          <a:lnTo>
                            <a:pt x="286" y="2"/>
                          </a:lnTo>
                          <a:lnTo>
                            <a:pt x="134" y="9"/>
                          </a:lnTo>
                          <a:lnTo>
                            <a:pt x="115" y="10"/>
                          </a:lnTo>
                          <a:lnTo>
                            <a:pt x="94" y="13"/>
                          </a:lnTo>
                          <a:lnTo>
                            <a:pt x="78" y="14"/>
                          </a:lnTo>
                          <a:lnTo>
                            <a:pt x="64" y="15"/>
                          </a:lnTo>
                          <a:lnTo>
                            <a:pt x="50" y="17"/>
                          </a:lnTo>
                          <a:lnTo>
                            <a:pt x="39" y="18"/>
                          </a:lnTo>
                          <a:lnTo>
                            <a:pt x="26" y="20"/>
                          </a:lnTo>
                          <a:lnTo>
                            <a:pt x="15" y="20"/>
                          </a:lnTo>
                          <a:lnTo>
                            <a:pt x="5" y="20"/>
                          </a:lnTo>
                          <a:lnTo>
                            <a:pt x="0" y="19"/>
                          </a:lnTo>
                          <a:lnTo>
                            <a:pt x="8" y="26"/>
                          </a:lnTo>
                          <a:lnTo>
                            <a:pt x="13" y="28"/>
                          </a:lnTo>
                          <a:lnTo>
                            <a:pt x="51" y="34"/>
                          </a:lnTo>
                          <a:lnTo>
                            <a:pt x="92" y="40"/>
                          </a:lnTo>
                          <a:lnTo>
                            <a:pt x="130" y="47"/>
                          </a:lnTo>
                          <a:lnTo>
                            <a:pt x="153" y="50"/>
                          </a:lnTo>
                          <a:lnTo>
                            <a:pt x="176" y="54"/>
                          </a:lnTo>
                          <a:lnTo>
                            <a:pt x="207" y="60"/>
                          </a:lnTo>
                          <a:lnTo>
                            <a:pt x="229" y="66"/>
                          </a:lnTo>
                          <a:lnTo>
                            <a:pt x="246" y="70"/>
                          </a:lnTo>
                          <a:lnTo>
                            <a:pt x="271" y="77"/>
                          </a:lnTo>
                          <a:lnTo>
                            <a:pt x="308" y="88"/>
                          </a:lnTo>
                          <a:lnTo>
                            <a:pt x="334" y="97"/>
                          </a:lnTo>
                          <a:lnTo>
                            <a:pt x="385" y="115"/>
                          </a:lnTo>
                          <a:lnTo>
                            <a:pt x="404" y="123"/>
                          </a:lnTo>
                          <a:lnTo>
                            <a:pt x="418" y="129"/>
                          </a:lnTo>
                          <a:lnTo>
                            <a:pt x="448" y="150"/>
                          </a:lnTo>
                          <a:lnTo>
                            <a:pt x="458" y="150"/>
                          </a:lnTo>
                          <a:lnTo>
                            <a:pt x="465" y="149"/>
                          </a:lnTo>
                          <a:lnTo>
                            <a:pt x="477" y="148"/>
                          </a:lnTo>
                          <a:lnTo>
                            <a:pt x="489" y="148"/>
                          </a:lnTo>
                          <a:lnTo>
                            <a:pt x="499" y="146"/>
                          </a:lnTo>
                          <a:lnTo>
                            <a:pt x="510" y="144"/>
                          </a:lnTo>
                          <a:lnTo>
                            <a:pt x="524" y="143"/>
                          </a:lnTo>
                          <a:lnTo>
                            <a:pt x="539" y="140"/>
                          </a:lnTo>
                          <a:lnTo>
                            <a:pt x="553" y="137"/>
                          </a:lnTo>
                          <a:lnTo>
                            <a:pt x="567" y="135"/>
                          </a:lnTo>
                          <a:lnTo>
                            <a:pt x="580" y="132"/>
                          </a:lnTo>
                          <a:lnTo>
                            <a:pt x="601" y="126"/>
                          </a:lnTo>
                          <a:lnTo>
                            <a:pt x="607" y="124"/>
                          </a:lnTo>
                          <a:lnTo>
                            <a:pt x="615" y="121"/>
                          </a:lnTo>
                          <a:lnTo>
                            <a:pt x="622" y="119"/>
                          </a:lnTo>
                          <a:lnTo>
                            <a:pt x="630" y="116"/>
                          </a:lnTo>
                          <a:lnTo>
                            <a:pt x="636" y="115"/>
                          </a:lnTo>
                          <a:lnTo>
                            <a:pt x="641" y="112"/>
                          </a:lnTo>
                          <a:lnTo>
                            <a:pt x="648" y="110"/>
                          </a:lnTo>
                          <a:lnTo>
                            <a:pt x="653" y="107"/>
                          </a:lnTo>
                          <a:lnTo>
                            <a:pt x="656" y="104"/>
                          </a:lnTo>
                          <a:lnTo>
                            <a:pt x="661" y="101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71" name=""/>
                <p:cNvGrpSpPr/>
                <p:nvPr/>
              </p:nvGrpSpPr>
              <p:grpSpPr>
                <a:xfrm>
                  <a:off x="6645240" y="3532320"/>
                  <a:ext cx="1114560" cy="366480"/>
                  <a:chOff x="6645240" y="3532320"/>
                  <a:chExt cx="1114560" cy="366480"/>
                </a:xfrm>
              </p:grpSpPr>
              <p:grpSp>
                <p:nvGrpSpPr>
                  <p:cNvPr id="2072" name=""/>
                  <p:cNvGrpSpPr/>
                  <p:nvPr/>
                </p:nvGrpSpPr>
                <p:grpSpPr>
                  <a:xfrm>
                    <a:off x="7718400" y="3805200"/>
                    <a:ext cx="41400" cy="23760"/>
                    <a:chOff x="7718400" y="3805200"/>
                    <a:chExt cx="41400" cy="23760"/>
                  </a:xfrm>
                </p:grpSpPr>
                <p:sp>
                  <p:nvSpPr>
                    <p:cNvPr id="2073" name=""/>
                    <p:cNvSpPr/>
                    <p:nvPr/>
                  </p:nvSpPr>
                  <p:spPr>
                    <a:xfrm>
                      <a:off x="7718400" y="3805200"/>
                      <a:ext cx="414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5">
                          <a:moveTo>
                            <a:pt x="25" y="4"/>
                          </a:move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24" y="5"/>
                          </a:lnTo>
                          <a:lnTo>
                            <a:pt x="24" y="14"/>
                          </a:lnTo>
                          <a:lnTo>
                            <a:pt x="25" y="13"/>
                          </a:lnTo>
                          <a:lnTo>
                            <a:pt x="25" y="4"/>
                          </a:lnTo>
                        </a:path>
                      </a:pathLst>
                    </a:cu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7718400" y="3805200"/>
                      <a:ext cx="381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5">
                          <a:moveTo>
                            <a:pt x="23" y="5"/>
                          </a:moveTo>
                          <a:lnTo>
                            <a:pt x="0" y="0"/>
                          </a:lnTo>
                          <a:lnTo>
                            <a:pt x="0" y="9"/>
                          </a:lnTo>
                          <a:lnTo>
                            <a:pt x="23" y="14"/>
                          </a:lnTo>
                          <a:lnTo>
                            <a:pt x="23" y="5"/>
                          </a:lnTo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5" name=""/>
                  <p:cNvGrpSpPr/>
                  <p:nvPr/>
                </p:nvGrpSpPr>
                <p:grpSpPr>
                  <a:xfrm>
                    <a:off x="6645240" y="3532320"/>
                    <a:ext cx="633600" cy="366480"/>
                    <a:chOff x="6645240" y="3532320"/>
                    <a:chExt cx="633600" cy="366480"/>
                  </a:xfrm>
                </p:grpSpPr>
                <p:grpSp>
                  <p:nvGrpSpPr>
                    <p:cNvPr id="2076" name=""/>
                    <p:cNvGrpSpPr/>
                    <p:nvPr/>
                  </p:nvGrpSpPr>
                  <p:grpSpPr>
                    <a:xfrm>
                      <a:off x="7088040" y="3532320"/>
                      <a:ext cx="119160" cy="99720"/>
                      <a:chOff x="7088040" y="3532320"/>
                      <a:chExt cx="119160" cy="99720"/>
                    </a:xfrm>
                  </p:grpSpPr>
                  <p:sp>
                    <p:nvSpPr>
                      <p:cNvPr id="2077" name=""/>
                      <p:cNvSpPr/>
                      <p:nvPr/>
                    </p:nvSpPr>
                    <p:spPr>
                      <a:xfrm>
                        <a:off x="7088040" y="35892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26">
                            <a:moveTo>
                              <a:pt x="65" y="25"/>
                            </a:moveTo>
                            <a:lnTo>
                              <a:pt x="54" y="24"/>
                            </a:lnTo>
                            <a:lnTo>
                              <a:pt x="46" y="20"/>
                            </a:lnTo>
                            <a:lnTo>
                              <a:pt x="36" y="17"/>
                            </a:lnTo>
                            <a:lnTo>
                              <a:pt x="28" y="16"/>
                            </a:lnTo>
                            <a:lnTo>
                              <a:pt x="25" y="16"/>
                            </a:lnTo>
                            <a:lnTo>
                              <a:pt x="17" y="18"/>
                            </a:lnTo>
                            <a:lnTo>
                              <a:pt x="8" y="21"/>
                            </a:lnTo>
                            <a:lnTo>
                              <a:pt x="3" y="22"/>
                            </a:lnTo>
                            <a:lnTo>
                              <a:pt x="1" y="21"/>
                            </a:lnTo>
                            <a:lnTo>
                              <a:pt x="0" y="19"/>
                            </a:lnTo>
                            <a:lnTo>
                              <a:pt x="0" y="15"/>
                            </a:lnTo>
                            <a:lnTo>
                              <a:pt x="1" y="12"/>
                            </a:lnTo>
                            <a:lnTo>
                              <a:pt x="5" y="7"/>
                            </a:lnTo>
                            <a:lnTo>
                              <a:pt x="9" y="3"/>
                            </a:lnTo>
                            <a:lnTo>
                              <a:pt x="10" y="0"/>
                            </a:lnTo>
                            <a:lnTo>
                              <a:pt x="50" y="3"/>
                            </a:lnTo>
                            <a:lnTo>
                              <a:pt x="46" y="7"/>
                            </a:lnTo>
                            <a:lnTo>
                              <a:pt x="46" y="9"/>
                            </a:lnTo>
                            <a:lnTo>
                              <a:pt x="47" y="12"/>
                            </a:lnTo>
                            <a:lnTo>
                              <a:pt x="50" y="16"/>
                            </a:lnTo>
                            <a:lnTo>
                              <a:pt x="55" y="18"/>
                            </a:lnTo>
                            <a:lnTo>
                              <a:pt x="65" y="25"/>
                            </a:lnTo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78" name=""/>
                      <p:cNvGrpSpPr/>
                      <p:nvPr/>
                    </p:nvGrpSpPr>
                    <p:grpSpPr>
                      <a:xfrm>
                        <a:off x="7102440" y="3532320"/>
                        <a:ext cx="104760" cy="99720"/>
                        <a:chOff x="7102440" y="3532320"/>
                        <a:chExt cx="104760" cy="99720"/>
                      </a:xfrm>
                    </p:grpSpPr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7102440" y="3532320"/>
                          <a:ext cx="104760" cy="9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63">
                              <a:moveTo>
                                <a:pt x="65" y="48"/>
                              </a:moveTo>
                              <a:lnTo>
                                <a:pt x="64" y="56"/>
                              </a:lnTo>
                              <a:lnTo>
                                <a:pt x="63" y="59"/>
                              </a:lnTo>
                              <a:lnTo>
                                <a:pt x="62" y="60"/>
                              </a:lnTo>
                              <a:lnTo>
                                <a:pt x="60" y="61"/>
                              </a:lnTo>
                              <a:lnTo>
                                <a:pt x="57" y="62"/>
                              </a:lnTo>
                              <a:lnTo>
                                <a:pt x="52" y="61"/>
                              </a:lnTo>
                              <a:lnTo>
                                <a:pt x="49" y="60"/>
                              </a:lnTo>
                              <a:lnTo>
                                <a:pt x="48" y="58"/>
                              </a:lnTo>
                              <a:lnTo>
                                <a:pt x="48" y="51"/>
                              </a:lnTo>
                              <a:lnTo>
                                <a:pt x="48" y="44"/>
                              </a:lnTo>
                              <a:lnTo>
                                <a:pt x="48" y="41"/>
                              </a:lnTo>
                              <a:lnTo>
                                <a:pt x="47" y="38"/>
                              </a:lnTo>
                              <a:lnTo>
                                <a:pt x="46" y="34"/>
                              </a:lnTo>
                              <a:lnTo>
                                <a:pt x="44" y="33"/>
                              </a:lnTo>
                              <a:lnTo>
                                <a:pt x="42" y="33"/>
                              </a:lnTo>
                              <a:lnTo>
                                <a:pt x="37" y="34"/>
                              </a:lnTo>
                              <a:lnTo>
                                <a:pt x="29" y="35"/>
                              </a:lnTo>
                              <a:lnTo>
                                <a:pt x="23" y="37"/>
                              </a:lnTo>
                              <a:lnTo>
                                <a:pt x="17" y="37"/>
                              </a:lnTo>
                              <a:lnTo>
                                <a:pt x="11" y="37"/>
                              </a:lnTo>
                              <a:lnTo>
                                <a:pt x="8" y="35"/>
                              </a:lnTo>
                              <a:lnTo>
                                <a:pt x="5" y="34"/>
                              </a:lnTo>
                              <a:lnTo>
                                <a:pt x="2" y="31"/>
                              </a:lnTo>
                              <a:lnTo>
                                <a:pt x="2" y="28"/>
                              </a:lnTo>
                              <a:lnTo>
                                <a:pt x="0" y="11"/>
                              </a:lnTo>
                              <a:lnTo>
                                <a:pt x="1" y="7"/>
                              </a:lnTo>
                              <a:lnTo>
                                <a:pt x="2" y="5"/>
                              </a:lnTo>
                              <a:lnTo>
                                <a:pt x="5" y="3"/>
                              </a:lnTo>
                              <a:lnTo>
                                <a:pt x="10" y="2"/>
                              </a:lnTo>
                              <a:lnTo>
                                <a:pt x="26" y="0"/>
                              </a:lnTo>
                              <a:lnTo>
                                <a:pt x="41" y="0"/>
                              </a:lnTo>
                              <a:lnTo>
                                <a:pt x="49" y="0"/>
                              </a:lnTo>
                              <a:lnTo>
                                <a:pt x="51" y="2"/>
                              </a:lnTo>
                              <a:lnTo>
                                <a:pt x="53" y="4"/>
                              </a:lnTo>
                              <a:lnTo>
                                <a:pt x="54" y="8"/>
                              </a:lnTo>
                              <a:lnTo>
                                <a:pt x="54" y="21"/>
                              </a:lnTo>
                              <a:lnTo>
                                <a:pt x="54" y="27"/>
                              </a:lnTo>
                              <a:lnTo>
                                <a:pt x="52" y="29"/>
                              </a:lnTo>
                              <a:lnTo>
                                <a:pt x="52" y="30"/>
                              </a:lnTo>
                              <a:lnTo>
                                <a:pt x="57" y="38"/>
                              </a:lnTo>
                              <a:lnTo>
                                <a:pt x="62" y="43"/>
                              </a:lnTo>
                              <a:lnTo>
                                <a:pt x="65" y="45"/>
                              </a:lnTo>
                              <a:lnTo>
                                <a:pt x="65" y="4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080" name=""/>
                        <p:cNvGrpSpPr/>
                        <p:nvPr/>
                      </p:nvGrpSpPr>
                      <p:grpSpPr>
                        <a:xfrm>
                          <a:off x="7102440" y="3538440"/>
                          <a:ext cx="104760" cy="93600"/>
                          <a:chOff x="7102440" y="3538440"/>
                          <a:chExt cx="104760" cy="93600"/>
                        </a:xfrm>
                      </p:grpSpPr>
                      <p:sp>
                        <p:nvSpPr>
                          <p:cNvPr id="2081" name=""/>
                          <p:cNvSpPr/>
                          <p:nvPr/>
                        </p:nvSpPr>
                        <p:spPr>
                          <a:xfrm>
                            <a:off x="7186680" y="3562200"/>
                            <a:ext cx="7920" cy="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4" y="0"/>
                                </a:moveTo>
                                <a:lnTo>
                                  <a:pt x="1" y="0"/>
                                </a:lnTo>
                                <a:lnTo>
                                  <a:pt x="0" y="1"/>
                                </a:lnTo>
                                <a:lnTo>
                                  <a:pt x="0" y="3"/>
                                </a:lnTo>
                                <a:lnTo>
                                  <a:pt x="0" y="6"/>
                                </a:lnTo>
                                <a:lnTo>
                                  <a:pt x="1" y="8"/>
                                </a:lnTo>
                                <a:lnTo>
                                  <a:pt x="4" y="7"/>
                                </a:lnTo>
                                <a:lnTo>
                                  <a:pt x="4" y="5"/>
                                </a:lnTo>
                                <a:lnTo>
                                  <a:pt x="4" y="0"/>
                                </a:lnTo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2" name=""/>
                          <p:cNvSpPr/>
                          <p:nvPr/>
                        </p:nvSpPr>
                        <p:spPr>
                          <a:xfrm>
                            <a:off x="7107120" y="3565440"/>
                            <a:ext cx="52560" cy="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8">
                                <a:moveTo>
                                  <a:pt x="32" y="3"/>
                                </a:moveTo>
                                <a:lnTo>
                                  <a:pt x="22" y="2"/>
                                </a:lnTo>
                                <a:lnTo>
                                  <a:pt x="15" y="0"/>
                                </a:lnTo>
                                <a:lnTo>
                                  <a:pt x="10" y="0"/>
                                </a:lnTo>
                                <a:lnTo>
                                  <a:pt x="5" y="0"/>
                                </a:lnTo>
                                <a:lnTo>
                                  <a:pt x="0" y="0"/>
                                </a:lnTo>
                                <a:lnTo>
                                  <a:pt x="1" y="4"/>
                                </a:lnTo>
                                <a:lnTo>
                                  <a:pt x="5" y="7"/>
                                </a:lnTo>
                                <a:lnTo>
                                  <a:pt x="12" y="7"/>
                                </a:lnTo>
                                <a:lnTo>
                                  <a:pt x="25" y="5"/>
                                </a:lnTo>
                                <a:lnTo>
                                  <a:pt x="32" y="3"/>
                                </a:lnTo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3" name=""/>
                          <p:cNvSpPr/>
                          <p:nvPr/>
                        </p:nvSpPr>
                        <p:spPr>
                          <a:xfrm>
                            <a:off x="7102440" y="3538440"/>
                            <a:ext cx="104760" cy="9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59">
                                <a:moveTo>
                                  <a:pt x="65" y="44"/>
                                </a:moveTo>
                                <a:lnTo>
                                  <a:pt x="64" y="52"/>
                                </a:lnTo>
                                <a:lnTo>
                                  <a:pt x="63" y="55"/>
                                </a:lnTo>
                                <a:lnTo>
                                  <a:pt x="62" y="56"/>
                                </a:lnTo>
                                <a:lnTo>
                                  <a:pt x="60" y="57"/>
                                </a:lnTo>
                                <a:lnTo>
                                  <a:pt x="57" y="58"/>
                                </a:lnTo>
                                <a:lnTo>
                                  <a:pt x="52" y="57"/>
                                </a:lnTo>
                                <a:lnTo>
                                  <a:pt x="49" y="56"/>
                                </a:lnTo>
                                <a:lnTo>
                                  <a:pt x="48" y="54"/>
                                </a:lnTo>
                                <a:lnTo>
                                  <a:pt x="48" y="47"/>
                                </a:lnTo>
                                <a:lnTo>
                                  <a:pt x="48" y="41"/>
                                </a:lnTo>
                                <a:lnTo>
                                  <a:pt x="48" y="37"/>
                                </a:lnTo>
                                <a:lnTo>
                                  <a:pt x="47" y="35"/>
                                </a:lnTo>
                                <a:lnTo>
                                  <a:pt x="46" y="31"/>
                                </a:lnTo>
                                <a:lnTo>
                                  <a:pt x="44" y="29"/>
                                </a:lnTo>
                                <a:lnTo>
                                  <a:pt x="42" y="29"/>
                                </a:lnTo>
                                <a:lnTo>
                                  <a:pt x="37" y="30"/>
                                </a:lnTo>
                                <a:lnTo>
                                  <a:pt x="29" y="32"/>
                                </a:lnTo>
                                <a:lnTo>
                                  <a:pt x="23" y="33"/>
                                </a:lnTo>
                                <a:lnTo>
                                  <a:pt x="17" y="33"/>
                                </a:lnTo>
                                <a:lnTo>
                                  <a:pt x="11" y="33"/>
                                </a:lnTo>
                                <a:lnTo>
                                  <a:pt x="8" y="32"/>
                                </a:lnTo>
                                <a:lnTo>
                                  <a:pt x="5" y="30"/>
                                </a:lnTo>
                                <a:lnTo>
                                  <a:pt x="2" y="28"/>
                                </a:lnTo>
                                <a:lnTo>
                                  <a:pt x="2" y="25"/>
                                </a:lnTo>
                                <a:lnTo>
                                  <a:pt x="0" y="8"/>
                                </a:lnTo>
                                <a:lnTo>
                                  <a:pt x="1" y="4"/>
                                </a:lnTo>
                                <a:lnTo>
                                  <a:pt x="2" y="2"/>
                                </a:lnTo>
                                <a:lnTo>
                                  <a:pt x="5" y="0"/>
                                </a:lnTo>
                                <a:lnTo>
                                  <a:pt x="2" y="6"/>
                                </a:lnTo>
                                <a:lnTo>
                                  <a:pt x="2" y="9"/>
                                </a:lnTo>
                                <a:lnTo>
                                  <a:pt x="2" y="11"/>
                                </a:lnTo>
                                <a:lnTo>
                                  <a:pt x="3" y="15"/>
                                </a:lnTo>
                                <a:lnTo>
                                  <a:pt x="4" y="21"/>
                                </a:lnTo>
                                <a:lnTo>
                                  <a:pt x="6" y="23"/>
                                </a:lnTo>
                                <a:lnTo>
                                  <a:pt x="9" y="25"/>
                                </a:lnTo>
                                <a:lnTo>
                                  <a:pt x="13" y="26"/>
                                </a:lnTo>
                                <a:lnTo>
                                  <a:pt x="16" y="25"/>
                                </a:lnTo>
                                <a:lnTo>
                                  <a:pt x="20" y="24"/>
                                </a:lnTo>
                                <a:lnTo>
                                  <a:pt x="25" y="23"/>
                                </a:lnTo>
                                <a:lnTo>
                                  <a:pt x="30" y="22"/>
                                </a:lnTo>
                                <a:lnTo>
                                  <a:pt x="35" y="20"/>
                                </a:lnTo>
                                <a:lnTo>
                                  <a:pt x="39" y="20"/>
                                </a:lnTo>
                                <a:lnTo>
                                  <a:pt x="44" y="20"/>
                                </a:lnTo>
                                <a:lnTo>
                                  <a:pt x="46" y="23"/>
                                </a:lnTo>
                                <a:lnTo>
                                  <a:pt x="48" y="28"/>
                                </a:lnTo>
                                <a:lnTo>
                                  <a:pt x="49" y="32"/>
                                </a:lnTo>
                                <a:lnTo>
                                  <a:pt x="52" y="38"/>
                                </a:lnTo>
                                <a:lnTo>
                                  <a:pt x="54" y="41"/>
                                </a:lnTo>
                                <a:lnTo>
                                  <a:pt x="57" y="44"/>
                                </a:lnTo>
                                <a:lnTo>
                                  <a:pt x="60" y="44"/>
                                </a:lnTo>
                                <a:lnTo>
                                  <a:pt x="63" y="45"/>
                                </a:lnTo>
                                <a:lnTo>
                                  <a:pt x="65" y="44"/>
                                </a:lnTo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084" name=""/>
                    <p:cNvGrpSpPr/>
                    <p:nvPr/>
                  </p:nvGrpSpPr>
                  <p:grpSpPr>
                    <a:xfrm>
                      <a:off x="6696000" y="3579840"/>
                      <a:ext cx="306360" cy="41400"/>
                      <a:chOff x="6696000" y="3579840"/>
                      <a:chExt cx="306360" cy="41400"/>
                    </a:xfrm>
                  </p:grpSpPr>
                  <p:grpSp>
                    <p:nvGrpSpPr>
                      <p:cNvPr id="2085" name=""/>
                      <p:cNvGrpSpPr/>
                      <p:nvPr/>
                    </p:nvGrpSpPr>
                    <p:grpSpPr>
                      <a:xfrm>
                        <a:off x="6958080" y="3605040"/>
                        <a:ext cx="44280" cy="16200"/>
                        <a:chOff x="6958080" y="3605040"/>
                        <a:chExt cx="44280" cy="16200"/>
                      </a:xfrm>
                    </p:grpSpPr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>
                          <a:off x="6958080" y="3616200"/>
                          <a:ext cx="381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3">
                              <a:moveTo>
                                <a:pt x="23" y="1"/>
                              </a:moveTo>
                              <a:lnTo>
                                <a:pt x="21" y="2"/>
                              </a:lnTo>
                              <a:lnTo>
                                <a:pt x="0" y="2"/>
                              </a:lnTo>
                              <a:lnTo>
                                <a:pt x="2" y="0"/>
                              </a:lnTo>
                              <a:lnTo>
                                <a:pt x="23" y="1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>
                          <a:off x="6958080" y="3605040"/>
                          <a:ext cx="4428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">
                              <a:moveTo>
                                <a:pt x="27" y="1"/>
                              </a:moveTo>
                              <a:lnTo>
                                <a:pt x="5" y="0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24" y="3"/>
                              </a:lnTo>
                              <a:lnTo>
                                <a:pt x="25" y="2"/>
                              </a:lnTo>
                              <a:lnTo>
                                <a:pt x="27" y="1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8" name=""/>
                      <p:cNvGrpSpPr/>
                      <p:nvPr/>
                    </p:nvGrpSpPr>
                    <p:grpSpPr>
                      <a:xfrm>
                        <a:off x="6696000" y="3579840"/>
                        <a:ext cx="44640" cy="15840"/>
                        <a:chOff x="6696000" y="3579840"/>
                        <a:chExt cx="44640" cy="15840"/>
                      </a:xfrm>
                    </p:grpSpPr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>
                          <a:off x="6696000" y="3589200"/>
                          <a:ext cx="3816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4">
                              <a:moveTo>
                                <a:pt x="23" y="1"/>
                              </a:moveTo>
                              <a:lnTo>
                                <a:pt x="21" y="3"/>
                              </a:lnTo>
                              <a:lnTo>
                                <a:pt x="0" y="2"/>
                              </a:lnTo>
                              <a:lnTo>
                                <a:pt x="2" y="0"/>
                              </a:lnTo>
                              <a:lnTo>
                                <a:pt x="23" y="1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>
                          <a:off x="6696000" y="3579840"/>
                          <a:ext cx="4464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">
                              <a:moveTo>
                                <a:pt x="27" y="0"/>
                              </a:moveTo>
                              <a:lnTo>
                                <a:pt x="5" y="0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23" y="3"/>
                              </a:lnTo>
                              <a:lnTo>
                                <a:pt x="26" y="2"/>
                              </a:lnTo>
                              <a:lnTo>
                                <a:pt x="27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91" name=""/>
                    <p:cNvGrpSpPr/>
                    <p:nvPr/>
                  </p:nvGrpSpPr>
                  <p:grpSpPr>
                    <a:xfrm>
                      <a:off x="6645240" y="3554280"/>
                      <a:ext cx="633600" cy="344520"/>
                      <a:chOff x="6645240" y="3554280"/>
                      <a:chExt cx="633600" cy="344520"/>
                    </a:xfrm>
                  </p:grpSpPr>
                  <p:sp>
                    <p:nvSpPr>
                      <p:cNvPr id="2092" name=""/>
                      <p:cNvSpPr/>
                      <p:nvPr/>
                    </p:nvSpPr>
                    <p:spPr>
                      <a:xfrm>
                        <a:off x="6921360" y="3579840"/>
                        <a:ext cx="3348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69">
                            <a:moveTo>
                              <a:pt x="20" y="0"/>
                            </a:moveTo>
                            <a:lnTo>
                              <a:pt x="16" y="8"/>
                            </a:lnTo>
                            <a:lnTo>
                              <a:pt x="13" y="14"/>
                            </a:lnTo>
                            <a:lnTo>
                              <a:pt x="12" y="20"/>
                            </a:lnTo>
                            <a:lnTo>
                              <a:pt x="10" y="25"/>
                            </a:lnTo>
                            <a:lnTo>
                              <a:pt x="8" y="31"/>
                            </a:lnTo>
                            <a:lnTo>
                              <a:pt x="8" y="38"/>
                            </a:lnTo>
                            <a:lnTo>
                              <a:pt x="6" y="43"/>
                            </a:lnTo>
                            <a:lnTo>
                              <a:pt x="5" y="49"/>
                            </a:lnTo>
                            <a:lnTo>
                              <a:pt x="3" y="53"/>
                            </a:lnTo>
                            <a:lnTo>
                              <a:pt x="3" y="59"/>
                            </a:lnTo>
                            <a:lnTo>
                              <a:pt x="3" y="65"/>
                            </a:lnTo>
                            <a:lnTo>
                              <a:pt x="3" y="74"/>
                            </a:lnTo>
                            <a:lnTo>
                              <a:pt x="3" y="84"/>
                            </a:lnTo>
                            <a:lnTo>
                              <a:pt x="1" y="103"/>
                            </a:lnTo>
                            <a:lnTo>
                              <a:pt x="0" y="120"/>
                            </a:lnTo>
                            <a:lnTo>
                              <a:pt x="0" y="132"/>
                            </a:lnTo>
                            <a:lnTo>
                              <a:pt x="2" y="145"/>
                            </a:lnTo>
                            <a:lnTo>
                              <a:pt x="3" y="155"/>
                            </a:lnTo>
                            <a:lnTo>
                              <a:pt x="5" y="16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3" name=""/>
                      <p:cNvSpPr/>
                      <p:nvPr/>
                    </p:nvSpPr>
                    <p:spPr>
                      <a:xfrm>
                        <a:off x="6645240" y="3554280"/>
                        <a:ext cx="633600" cy="34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9" h="217">
                            <a:moveTo>
                              <a:pt x="362" y="26"/>
                            </a:moveTo>
                            <a:lnTo>
                              <a:pt x="376" y="28"/>
                            </a:lnTo>
                            <a:lnTo>
                              <a:pt x="386" y="30"/>
                            </a:lnTo>
                            <a:lnTo>
                              <a:pt x="398" y="30"/>
                            </a:lnTo>
                            <a:lnTo>
                              <a:pt x="395" y="42"/>
                            </a:lnTo>
                            <a:lnTo>
                              <a:pt x="392" y="50"/>
                            </a:lnTo>
                            <a:lnTo>
                              <a:pt x="390" y="61"/>
                            </a:lnTo>
                            <a:lnTo>
                              <a:pt x="388" y="71"/>
                            </a:lnTo>
                            <a:lnTo>
                              <a:pt x="385" y="84"/>
                            </a:lnTo>
                            <a:lnTo>
                              <a:pt x="380" y="90"/>
                            </a:lnTo>
                            <a:lnTo>
                              <a:pt x="385" y="94"/>
                            </a:lnTo>
                            <a:lnTo>
                              <a:pt x="385" y="105"/>
                            </a:lnTo>
                            <a:lnTo>
                              <a:pt x="384" y="116"/>
                            </a:lnTo>
                            <a:lnTo>
                              <a:pt x="383" y="131"/>
                            </a:lnTo>
                            <a:lnTo>
                              <a:pt x="381" y="158"/>
                            </a:lnTo>
                            <a:lnTo>
                              <a:pt x="381" y="183"/>
                            </a:lnTo>
                            <a:lnTo>
                              <a:pt x="382" y="197"/>
                            </a:lnTo>
                            <a:lnTo>
                              <a:pt x="383" y="208"/>
                            </a:lnTo>
                            <a:lnTo>
                              <a:pt x="384" y="216"/>
                            </a:lnTo>
                            <a:lnTo>
                              <a:pt x="66" y="165"/>
                            </a:lnTo>
                            <a:lnTo>
                              <a:pt x="51" y="161"/>
                            </a:lnTo>
                            <a:lnTo>
                              <a:pt x="52" y="152"/>
                            </a:lnTo>
                            <a:lnTo>
                              <a:pt x="50" y="142"/>
                            </a:lnTo>
                            <a:lnTo>
                              <a:pt x="49" y="135"/>
                            </a:lnTo>
                            <a:lnTo>
                              <a:pt x="45" y="123"/>
                            </a:lnTo>
                            <a:lnTo>
                              <a:pt x="41" y="115"/>
                            </a:lnTo>
                            <a:lnTo>
                              <a:pt x="35" y="103"/>
                            </a:lnTo>
                            <a:lnTo>
                              <a:pt x="28" y="94"/>
                            </a:lnTo>
                            <a:lnTo>
                              <a:pt x="23" y="85"/>
                            </a:lnTo>
                            <a:lnTo>
                              <a:pt x="16" y="75"/>
                            </a:lnTo>
                            <a:lnTo>
                              <a:pt x="9" y="67"/>
                            </a:lnTo>
                            <a:lnTo>
                              <a:pt x="3" y="59"/>
                            </a:lnTo>
                            <a:lnTo>
                              <a:pt x="0" y="53"/>
                            </a:lnTo>
                            <a:lnTo>
                              <a:pt x="3" y="49"/>
                            </a:lnTo>
                            <a:lnTo>
                              <a:pt x="4" y="42"/>
                            </a:lnTo>
                            <a:lnTo>
                              <a:pt x="7" y="31"/>
                            </a:lnTo>
                            <a:lnTo>
                              <a:pt x="10" y="21"/>
                            </a:lnTo>
                            <a:lnTo>
                              <a:pt x="14" y="12"/>
                            </a:lnTo>
                            <a:lnTo>
                              <a:pt x="20" y="5"/>
                            </a:lnTo>
                            <a:lnTo>
                              <a:pt x="23" y="0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094" name=""/>
              <p:cNvGrpSpPr/>
              <p:nvPr/>
            </p:nvGrpSpPr>
            <p:grpSpPr>
              <a:xfrm>
                <a:off x="7859880" y="3697200"/>
                <a:ext cx="474480" cy="211320"/>
                <a:chOff x="7859880" y="3697200"/>
                <a:chExt cx="474480" cy="21132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7864560" y="3699360"/>
                  <a:ext cx="466560" cy="209160"/>
                  <a:chOff x="7864560" y="3699360"/>
                  <a:chExt cx="466560" cy="209160"/>
                </a:xfrm>
              </p:grpSpPr>
              <p:grpSp>
                <p:nvGrpSpPr>
                  <p:cNvPr id="2096" name=""/>
                  <p:cNvGrpSpPr/>
                  <p:nvPr/>
                </p:nvGrpSpPr>
                <p:grpSpPr>
                  <a:xfrm>
                    <a:off x="7899480" y="3699360"/>
                    <a:ext cx="379440" cy="209160"/>
                    <a:chOff x="7899480" y="3699360"/>
                    <a:chExt cx="379440" cy="209160"/>
                  </a:xfrm>
                </p:grpSpPr>
                <p:sp>
                  <p:nvSpPr>
                    <p:cNvPr id="2097" name=""/>
                    <p:cNvSpPr/>
                    <p:nvPr/>
                  </p:nvSpPr>
                  <p:spPr>
                    <a:xfrm>
                      <a:off x="7996320" y="3738600"/>
                      <a:ext cx="2826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07">
                          <a:moveTo>
                            <a:pt x="177" y="0"/>
                          </a:moveTo>
                          <a:lnTo>
                            <a:pt x="177" y="65"/>
                          </a:lnTo>
                          <a:lnTo>
                            <a:pt x="0" y="106"/>
                          </a:lnTo>
                          <a:lnTo>
                            <a:pt x="0" y="34"/>
                          </a:lnTo>
                          <a:lnTo>
                            <a:pt x="177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98" name=""/>
                    <p:cNvGrpSpPr/>
                    <p:nvPr/>
                  </p:nvGrpSpPr>
                  <p:grpSpPr>
                    <a:xfrm>
                      <a:off x="7899480" y="3699360"/>
                      <a:ext cx="353880" cy="148320"/>
                      <a:chOff x="7899480" y="3699360"/>
                      <a:chExt cx="353880" cy="148320"/>
                    </a:xfrm>
                  </p:grpSpPr>
                  <p:sp>
                    <p:nvSpPr>
                      <p:cNvPr id="2099" name=""/>
                      <p:cNvSpPr/>
                      <p:nvPr/>
                    </p:nvSpPr>
                    <p:spPr>
                      <a:xfrm>
                        <a:off x="7907400" y="3711960"/>
                        <a:ext cx="3459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21"/>
                            </a:moveTo>
                            <a:arcTo wR="10800" hR="10800" stAng="133989" swAng="63200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21"/>
                            </a:moveTo>
                            <a:arcTo wR="10800" hR="10800" stAng="133989" swAng="6320048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0" name=""/>
                      <p:cNvSpPr/>
                      <p:nvPr/>
                    </p:nvSpPr>
                    <p:spPr>
                      <a:xfrm>
                        <a:off x="7904160" y="3725640"/>
                        <a:ext cx="34596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21"/>
                            </a:moveTo>
                            <a:arcTo wR="10800" hR="10800" stAng="133989" swAng="63200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21"/>
                            </a:moveTo>
                            <a:arcTo wR="10800" hR="10800" stAng="133989" swAng="6320048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1" name=""/>
                      <p:cNvSpPr/>
                      <p:nvPr/>
                    </p:nvSpPr>
                    <p:spPr>
                      <a:xfrm>
                        <a:off x="7899840" y="3740040"/>
                        <a:ext cx="3484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645403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6454037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2" name=""/>
                      <p:cNvSpPr/>
                      <p:nvPr/>
                    </p:nvSpPr>
                    <p:spPr>
                      <a:xfrm>
                        <a:off x="7899480" y="3752640"/>
                        <a:ext cx="3456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19"/>
                            </a:moveTo>
                            <a:arcTo wR="10800" hR="10800" stAng="133379" swAng="62940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19"/>
                            </a:moveTo>
                            <a:arcTo wR="10800" hR="10800" stAng="133379" swAng="6294077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3" name=""/>
                      <p:cNvSpPr/>
                      <p:nvPr/>
                    </p:nvSpPr>
                    <p:spPr>
                      <a:xfrm>
                        <a:off x="7901280" y="3765960"/>
                        <a:ext cx="34560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19"/>
                            </a:moveTo>
                            <a:arcTo wR="10800" hR="10800" stAng="133379" swAng="62940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19"/>
                            </a:moveTo>
                            <a:arcTo wR="10800" hR="10800" stAng="133379" swAng="6294077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4" name=""/>
                      <p:cNvSpPr/>
                      <p:nvPr/>
                    </p:nvSpPr>
                    <p:spPr>
                      <a:xfrm>
                        <a:off x="7905600" y="3699360"/>
                        <a:ext cx="3459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2" y="11205"/>
                            </a:moveTo>
                            <a:arcTo wR="10800" hR="10800" stAng="129032" swAng="632196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2" y="11205"/>
                            </a:moveTo>
                            <a:arcTo wR="10800" hR="10800" stAng="129032" swAng="6321962"/>
                          </a:path>
                        </a:pathLst>
                      </a:custGeom>
                      <a:noFill/>
                      <a:ln cap="rnd" w="126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05" name=""/>
                  <p:cNvGrpSpPr/>
                  <p:nvPr/>
                </p:nvGrpSpPr>
                <p:grpSpPr>
                  <a:xfrm>
                    <a:off x="7864560" y="3727440"/>
                    <a:ext cx="466560" cy="162000"/>
                    <a:chOff x="7864560" y="3727440"/>
                    <a:chExt cx="466560" cy="162000"/>
                  </a:xfrm>
                </p:grpSpPr>
                <p:grpSp>
                  <p:nvGrpSpPr>
                    <p:cNvPr id="2106" name=""/>
                    <p:cNvGrpSpPr/>
                    <p:nvPr/>
                  </p:nvGrpSpPr>
                  <p:grpSpPr>
                    <a:xfrm>
                      <a:off x="8261280" y="3727440"/>
                      <a:ext cx="69840" cy="115920"/>
                      <a:chOff x="8261280" y="3727440"/>
                      <a:chExt cx="69840" cy="115920"/>
                    </a:xfrm>
                  </p:grpSpPr>
                  <p:sp>
                    <p:nvSpPr>
                      <p:cNvPr id="2107" name=""/>
                      <p:cNvSpPr/>
                      <p:nvPr/>
                    </p:nvSpPr>
                    <p:spPr>
                      <a:xfrm>
                        <a:off x="8264520" y="3728880"/>
                        <a:ext cx="6048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67">
                            <a:moveTo>
                              <a:pt x="37" y="0"/>
                            </a:moveTo>
                            <a:lnTo>
                              <a:pt x="32" y="50"/>
                            </a:lnTo>
                            <a:lnTo>
                              <a:pt x="0" y="66"/>
                            </a:lnTo>
                            <a:lnTo>
                              <a:pt x="3" y="8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8" name=""/>
                      <p:cNvSpPr/>
                      <p:nvPr/>
                    </p:nvSpPr>
                    <p:spPr>
                      <a:xfrm>
                        <a:off x="8326440" y="3727440"/>
                        <a:ext cx="4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3">
                            <a:moveTo>
                              <a:pt x="2" y="0"/>
                            </a:moveTo>
                            <a:lnTo>
                              <a:pt x="0" y="52"/>
                            </a:lnTo>
                            <a:lnTo>
                              <a:pt x="1" y="3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9" name=""/>
                      <p:cNvSpPr/>
                      <p:nvPr/>
                    </p:nvSpPr>
                    <p:spPr>
                      <a:xfrm>
                        <a:off x="8261280" y="3740040"/>
                        <a:ext cx="144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5">
                            <a:moveTo>
                              <a:pt x="8" y="0"/>
                            </a:moveTo>
                            <a:lnTo>
                              <a:pt x="5" y="60"/>
                            </a:lnTo>
                            <a:lnTo>
                              <a:pt x="0" y="64"/>
                            </a:lnTo>
                            <a:lnTo>
                              <a:pt x="2" y="1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10" name=""/>
                    <p:cNvGrpSpPr/>
                    <p:nvPr/>
                  </p:nvGrpSpPr>
                  <p:grpSpPr>
                    <a:xfrm>
                      <a:off x="7864560" y="3795840"/>
                      <a:ext cx="160200" cy="93600"/>
                      <a:chOff x="7864560" y="3795840"/>
                      <a:chExt cx="160200" cy="93600"/>
                    </a:xfrm>
                  </p:grpSpPr>
                  <p:sp>
                    <p:nvSpPr>
                      <p:cNvPr id="2111" name=""/>
                      <p:cNvSpPr/>
                      <p:nvPr/>
                    </p:nvSpPr>
                    <p:spPr>
                      <a:xfrm>
                        <a:off x="7996320" y="3795840"/>
                        <a:ext cx="2844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59">
                            <a:moveTo>
                              <a:pt x="17" y="1"/>
                            </a:moveTo>
                            <a:lnTo>
                              <a:pt x="13" y="57"/>
                            </a:lnTo>
                            <a:lnTo>
                              <a:pt x="0" y="58"/>
                            </a:lnTo>
                            <a:lnTo>
                              <a:pt x="5" y="0"/>
                            </a:lnTo>
                            <a:lnTo>
                              <a:pt x="17" y="1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2" name=""/>
                      <p:cNvSpPr/>
                      <p:nvPr/>
                    </p:nvSpPr>
                    <p:spPr>
                      <a:xfrm>
                        <a:off x="7918560" y="3795840"/>
                        <a:ext cx="8568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59">
                            <a:moveTo>
                              <a:pt x="53" y="0"/>
                            </a:moveTo>
                            <a:lnTo>
                              <a:pt x="47" y="57"/>
                            </a:lnTo>
                            <a:lnTo>
                              <a:pt x="0" y="58"/>
                            </a:lnTo>
                            <a:lnTo>
                              <a:pt x="5" y="1"/>
                            </a:lnTo>
                            <a:lnTo>
                              <a:pt x="53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3" name=""/>
                      <p:cNvSpPr/>
                      <p:nvPr/>
                    </p:nvSpPr>
                    <p:spPr>
                      <a:xfrm>
                        <a:off x="7864560" y="3805200"/>
                        <a:ext cx="54000" cy="7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49">
                            <a:moveTo>
                              <a:pt x="33" y="0"/>
                            </a:moveTo>
                            <a:lnTo>
                              <a:pt x="30" y="48"/>
                            </a:lnTo>
                            <a:lnTo>
                              <a:pt x="10" y="48"/>
                            </a:lnTo>
                            <a:lnTo>
                              <a:pt x="0" y="1"/>
                            </a:lnTo>
                            <a:lnTo>
                              <a:pt x="33" y="0"/>
                            </a:lnTo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960" bIns="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14" name=""/>
                <p:cNvSpPr/>
                <p:nvPr/>
              </p:nvSpPr>
              <p:spPr>
                <a:xfrm>
                  <a:off x="7859880" y="3697200"/>
                  <a:ext cx="474480" cy="104760"/>
                </a:xfrm>
                <a:custGeom>
                  <a:avLst/>
                  <a:gdLst/>
                  <a:ahLst/>
                  <a:rect l="l" t="t" r="r" b="b"/>
                  <a:pathLst>
                    <a:path w="299" h="66">
                      <a:moveTo>
                        <a:pt x="281" y="0"/>
                      </a:moveTo>
                      <a:lnTo>
                        <a:pt x="284" y="1"/>
                      </a:lnTo>
                      <a:lnTo>
                        <a:pt x="287" y="2"/>
                      </a:lnTo>
                      <a:lnTo>
                        <a:pt x="290" y="4"/>
                      </a:lnTo>
                      <a:lnTo>
                        <a:pt x="293" y="6"/>
                      </a:lnTo>
                      <a:lnTo>
                        <a:pt x="296" y="8"/>
                      </a:lnTo>
                      <a:lnTo>
                        <a:pt x="297" y="10"/>
                      </a:lnTo>
                      <a:lnTo>
                        <a:pt x="298" y="13"/>
                      </a:lnTo>
                      <a:lnTo>
                        <a:pt x="298" y="16"/>
                      </a:lnTo>
                      <a:lnTo>
                        <a:pt x="296" y="18"/>
                      </a:lnTo>
                      <a:lnTo>
                        <a:pt x="293" y="20"/>
                      </a:lnTo>
                      <a:lnTo>
                        <a:pt x="289" y="22"/>
                      </a:lnTo>
                      <a:lnTo>
                        <a:pt x="283" y="25"/>
                      </a:lnTo>
                      <a:lnTo>
                        <a:pt x="277" y="28"/>
                      </a:lnTo>
                      <a:lnTo>
                        <a:pt x="270" y="30"/>
                      </a:lnTo>
                      <a:lnTo>
                        <a:pt x="261" y="33"/>
                      </a:lnTo>
                      <a:lnTo>
                        <a:pt x="253" y="35"/>
                      </a:lnTo>
                      <a:lnTo>
                        <a:pt x="243" y="38"/>
                      </a:lnTo>
                      <a:lnTo>
                        <a:pt x="234" y="41"/>
                      </a:lnTo>
                      <a:lnTo>
                        <a:pt x="223" y="44"/>
                      </a:lnTo>
                      <a:lnTo>
                        <a:pt x="214" y="46"/>
                      </a:lnTo>
                      <a:lnTo>
                        <a:pt x="205" y="48"/>
                      </a:lnTo>
                      <a:lnTo>
                        <a:pt x="195" y="50"/>
                      </a:lnTo>
                      <a:lnTo>
                        <a:pt x="185" y="52"/>
                      </a:lnTo>
                      <a:lnTo>
                        <a:pt x="176" y="54"/>
                      </a:lnTo>
                      <a:lnTo>
                        <a:pt x="162" y="56"/>
                      </a:lnTo>
                      <a:lnTo>
                        <a:pt x="150" y="57"/>
                      </a:lnTo>
                      <a:lnTo>
                        <a:pt x="136" y="60"/>
                      </a:lnTo>
                      <a:lnTo>
                        <a:pt x="122" y="61"/>
                      </a:lnTo>
                      <a:lnTo>
                        <a:pt x="111" y="62"/>
                      </a:lnTo>
                      <a:lnTo>
                        <a:pt x="100" y="63"/>
                      </a:lnTo>
                      <a:lnTo>
                        <a:pt x="78" y="63"/>
                      </a:lnTo>
                      <a:lnTo>
                        <a:pt x="16" y="65"/>
                      </a:lnTo>
                      <a:lnTo>
                        <a:pt x="0" y="63"/>
                      </a:lnTo>
                      <a:lnTo>
                        <a:pt x="54" y="43"/>
                      </a:lnTo>
                      <a:lnTo>
                        <a:pt x="60" y="41"/>
                      </a:lnTo>
                      <a:lnTo>
                        <a:pt x="67" y="41"/>
                      </a:lnTo>
                      <a:lnTo>
                        <a:pt x="73" y="41"/>
                      </a:lnTo>
                      <a:lnTo>
                        <a:pt x="79" y="41"/>
                      </a:lnTo>
                      <a:lnTo>
                        <a:pt x="87" y="41"/>
                      </a:lnTo>
                      <a:lnTo>
                        <a:pt x="95" y="41"/>
                      </a:lnTo>
                      <a:lnTo>
                        <a:pt x="103" y="41"/>
                      </a:lnTo>
                      <a:lnTo>
                        <a:pt x="126" y="37"/>
                      </a:lnTo>
                      <a:lnTo>
                        <a:pt x="140" y="37"/>
                      </a:lnTo>
                      <a:lnTo>
                        <a:pt x="155" y="34"/>
                      </a:lnTo>
                      <a:lnTo>
                        <a:pt x="171" y="32"/>
                      </a:lnTo>
                      <a:lnTo>
                        <a:pt x="186" y="30"/>
                      </a:lnTo>
                      <a:lnTo>
                        <a:pt x="205" y="27"/>
                      </a:lnTo>
                      <a:lnTo>
                        <a:pt x="220" y="22"/>
                      </a:lnTo>
                      <a:lnTo>
                        <a:pt x="233" y="19"/>
                      </a:lnTo>
                      <a:lnTo>
                        <a:pt x="244" y="16"/>
                      </a:lnTo>
                      <a:lnTo>
                        <a:pt x="255" y="13"/>
                      </a:lnTo>
                      <a:lnTo>
                        <a:pt x="263" y="10"/>
                      </a:lnTo>
                      <a:lnTo>
                        <a:pt x="270" y="7"/>
                      </a:lnTo>
                      <a:lnTo>
                        <a:pt x="274" y="5"/>
                      </a:lnTo>
                      <a:lnTo>
                        <a:pt x="277" y="3"/>
                      </a:lnTo>
                      <a:lnTo>
                        <a:pt x="281" y="0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5" name=""/>
            <p:cNvGrpSpPr/>
            <p:nvPr/>
          </p:nvGrpSpPr>
          <p:grpSpPr>
            <a:xfrm>
              <a:off x="6386400" y="3638880"/>
              <a:ext cx="1978200" cy="344160"/>
              <a:chOff x="6386400" y="3638880"/>
              <a:chExt cx="1978200" cy="344160"/>
            </a:xfrm>
          </p:grpSpPr>
          <p:grpSp>
            <p:nvGrpSpPr>
              <p:cNvPr id="2116" name=""/>
              <p:cNvGrpSpPr/>
              <p:nvPr/>
            </p:nvGrpSpPr>
            <p:grpSpPr>
              <a:xfrm>
                <a:off x="6386400" y="3673440"/>
                <a:ext cx="133560" cy="82440"/>
                <a:chOff x="6386400" y="3673440"/>
                <a:chExt cx="133560" cy="82440"/>
              </a:xfrm>
            </p:grpSpPr>
            <p:grpSp>
              <p:nvGrpSpPr>
                <p:cNvPr id="2117" name=""/>
                <p:cNvGrpSpPr/>
                <p:nvPr/>
              </p:nvGrpSpPr>
              <p:grpSpPr>
                <a:xfrm>
                  <a:off x="6386400" y="3673440"/>
                  <a:ext cx="133560" cy="82440"/>
                  <a:chOff x="6386400" y="3673440"/>
                  <a:chExt cx="133560" cy="8244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6386400" y="3673440"/>
                    <a:ext cx="133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2">
                        <a:moveTo>
                          <a:pt x="33" y="0"/>
                        </a:moveTo>
                        <a:lnTo>
                          <a:pt x="31" y="4"/>
                        </a:lnTo>
                        <a:lnTo>
                          <a:pt x="28" y="6"/>
                        </a:lnTo>
                        <a:lnTo>
                          <a:pt x="22" y="8"/>
                        </a:lnTo>
                        <a:lnTo>
                          <a:pt x="16" y="10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1" y="16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6" y="37"/>
                        </a:lnTo>
                        <a:lnTo>
                          <a:pt x="10" y="39"/>
                        </a:lnTo>
                        <a:lnTo>
                          <a:pt x="16" y="42"/>
                        </a:lnTo>
                        <a:lnTo>
                          <a:pt x="24" y="44"/>
                        </a:lnTo>
                        <a:lnTo>
                          <a:pt x="36" y="47"/>
                        </a:lnTo>
                        <a:lnTo>
                          <a:pt x="47" y="50"/>
                        </a:lnTo>
                        <a:lnTo>
                          <a:pt x="53" y="50"/>
                        </a:lnTo>
                        <a:lnTo>
                          <a:pt x="58" y="51"/>
                        </a:lnTo>
                        <a:lnTo>
                          <a:pt x="66" y="51"/>
                        </a:lnTo>
                        <a:lnTo>
                          <a:pt x="71" y="51"/>
                        </a:lnTo>
                        <a:lnTo>
                          <a:pt x="74" y="50"/>
                        </a:lnTo>
                        <a:lnTo>
                          <a:pt x="76" y="49"/>
                        </a:lnTo>
                        <a:lnTo>
                          <a:pt x="78" y="46"/>
                        </a:lnTo>
                        <a:lnTo>
                          <a:pt x="83" y="20"/>
                        </a:lnTo>
                        <a:lnTo>
                          <a:pt x="80" y="18"/>
                        </a:lnTo>
                        <a:lnTo>
                          <a:pt x="74" y="17"/>
                        </a:lnTo>
                        <a:lnTo>
                          <a:pt x="64" y="16"/>
                        </a:lnTo>
                        <a:lnTo>
                          <a:pt x="59" y="15"/>
                        </a:lnTo>
                        <a:lnTo>
                          <a:pt x="53" y="13"/>
                        </a:lnTo>
                        <a:lnTo>
                          <a:pt x="49" y="12"/>
                        </a:lnTo>
                        <a:lnTo>
                          <a:pt x="43" y="10"/>
                        </a:lnTo>
                        <a:lnTo>
                          <a:pt x="41" y="9"/>
                        </a:lnTo>
                        <a:lnTo>
                          <a:pt x="37" y="7"/>
                        </a:lnTo>
                        <a:lnTo>
                          <a:pt x="35" y="5"/>
                        </a:lnTo>
                        <a:lnTo>
                          <a:pt x="33" y="3"/>
                        </a:lnTo>
                        <a:lnTo>
                          <a:pt x="33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6394320" y="3686040"/>
                    <a:ext cx="1177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1">
                        <a:moveTo>
                          <a:pt x="25" y="5"/>
                        </a:moveTo>
                        <a:lnTo>
                          <a:pt x="22" y="3"/>
                        </a:lnTo>
                        <a:lnTo>
                          <a:pt x="18" y="0"/>
                        </a:lnTo>
                        <a:lnTo>
                          <a:pt x="12" y="2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8"/>
                        </a:lnTo>
                        <a:lnTo>
                          <a:pt x="7" y="10"/>
                        </a:lnTo>
                        <a:lnTo>
                          <a:pt x="13" y="12"/>
                        </a:lnTo>
                        <a:lnTo>
                          <a:pt x="20" y="15"/>
                        </a:lnTo>
                        <a:lnTo>
                          <a:pt x="28" y="16"/>
                        </a:lnTo>
                        <a:lnTo>
                          <a:pt x="35" y="17"/>
                        </a:lnTo>
                        <a:lnTo>
                          <a:pt x="41" y="18"/>
                        </a:lnTo>
                        <a:lnTo>
                          <a:pt x="48" y="19"/>
                        </a:lnTo>
                        <a:lnTo>
                          <a:pt x="57" y="20"/>
                        </a:lnTo>
                        <a:lnTo>
                          <a:pt x="63" y="20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3" y="16"/>
                        </a:lnTo>
                        <a:lnTo>
                          <a:pt x="73" y="14"/>
                        </a:lnTo>
                        <a:lnTo>
                          <a:pt x="71" y="13"/>
                        </a:lnTo>
                        <a:lnTo>
                          <a:pt x="68" y="12"/>
                        </a:lnTo>
                        <a:lnTo>
                          <a:pt x="63" y="12"/>
                        </a:lnTo>
                        <a:lnTo>
                          <a:pt x="59" y="12"/>
                        </a:lnTo>
                        <a:lnTo>
                          <a:pt x="52" y="11"/>
                        </a:lnTo>
                        <a:lnTo>
                          <a:pt x="47" y="10"/>
                        </a:lnTo>
                        <a:lnTo>
                          <a:pt x="41" y="10"/>
                        </a:lnTo>
                        <a:lnTo>
                          <a:pt x="37" y="9"/>
                        </a:lnTo>
                        <a:lnTo>
                          <a:pt x="32" y="7"/>
                        </a:lnTo>
                        <a:lnTo>
                          <a:pt x="28" y="6"/>
                        </a:lnTo>
                        <a:lnTo>
                          <a:pt x="25" y="5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0" name=""/>
                <p:cNvSpPr/>
                <p:nvPr/>
              </p:nvSpPr>
              <p:spPr>
                <a:xfrm>
                  <a:off x="6392880" y="3708360"/>
                  <a:ext cx="101520" cy="22320"/>
                </a:xfrm>
                <a:custGeom>
                  <a:avLst/>
                  <a:gdLst/>
                  <a:ahLst/>
                  <a:rect l="l" t="t" r="r" b="b"/>
                  <a:pathLst>
                    <a:path w="64" h="14">
                      <a:moveTo>
                        <a:pt x="63" y="13"/>
                      </a:moveTo>
                      <a:lnTo>
                        <a:pt x="52" y="13"/>
                      </a:lnTo>
                      <a:lnTo>
                        <a:pt x="38" y="12"/>
                      </a:lnTo>
                      <a:lnTo>
                        <a:pt x="26" y="10"/>
                      </a:lnTo>
                      <a:lnTo>
                        <a:pt x="17" y="8"/>
                      </a:lnTo>
                      <a:lnTo>
                        <a:pt x="7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e0e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1" name=""/>
              <p:cNvGrpSpPr/>
              <p:nvPr/>
            </p:nvGrpSpPr>
            <p:grpSpPr>
              <a:xfrm>
                <a:off x="7542360" y="3638880"/>
                <a:ext cx="822240" cy="344160"/>
                <a:chOff x="7542360" y="3638880"/>
                <a:chExt cx="822240" cy="344160"/>
              </a:xfrm>
            </p:grpSpPr>
            <p:grpSp>
              <p:nvGrpSpPr>
                <p:cNvPr id="2122" name=""/>
                <p:cNvGrpSpPr/>
                <p:nvPr/>
              </p:nvGrpSpPr>
              <p:grpSpPr>
                <a:xfrm>
                  <a:off x="7542360" y="3638880"/>
                  <a:ext cx="822240" cy="344160"/>
                  <a:chOff x="7542360" y="3638880"/>
                  <a:chExt cx="822240" cy="344160"/>
                </a:xfrm>
              </p:grpSpPr>
              <p:sp>
                <p:nvSpPr>
                  <p:cNvPr id="2123" name=""/>
                  <p:cNvSpPr/>
                  <p:nvPr/>
                </p:nvSpPr>
                <p:spPr>
                  <a:xfrm>
                    <a:off x="7718400" y="3807000"/>
                    <a:ext cx="636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111">
                        <a:moveTo>
                          <a:pt x="379" y="0"/>
                        </a:moveTo>
                        <a:lnTo>
                          <a:pt x="383" y="1"/>
                        </a:lnTo>
                        <a:lnTo>
                          <a:pt x="388" y="3"/>
                        </a:lnTo>
                        <a:lnTo>
                          <a:pt x="392" y="6"/>
                        </a:lnTo>
                        <a:lnTo>
                          <a:pt x="396" y="9"/>
                        </a:lnTo>
                        <a:lnTo>
                          <a:pt x="398" y="12"/>
                        </a:lnTo>
                        <a:lnTo>
                          <a:pt x="399" y="14"/>
                        </a:lnTo>
                        <a:lnTo>
                          <a:pt x="400" y="18"/>
                        </a:lnTo>
                        <a:lnTo>
                          <a:pt x="400" y="40"/>
                        </a:lnTo>
                        <a:lnTo>
                          <a:pt x="399" y="43"/>
                        </a:lnTo>
                        <a:lnTo>
                          <a:pt x="397" y="47"/>
                        </a:lnTo>
                        <a:lnTo>
                          <a:pt x="393" y="50"/>
                        </a:lnTo>
                        <a:lnTo>
                          <a:pt x="389" y="54"/>
                        </a:lnTo>
                        <a:lnTo>
                          <a:pt x="382" y="57"/>
                        </a:lnTo>
                        <a:lnTo>
                          <a:pt x="362" y="64"/>
                        </a:lnTo>
                        <a:lnTo>
                          <a:pt x="347" y="70"/>
                        </a:lnTo>
                        <a:lnTo>
                          <a:pt x="326" y="77"/>
                        </a:lnTo>
                        <a:lnTo>
                          <a:pt x="302" y="83"/>
                        </a:lnTo>
                        <a:lnTo>
                          <a:pt x="284" y="89"/>
                        </a:lnTo>
                        <a:lnTo>
                          <a:pt x="262" y="93"/>
                        </a:lnTo>
                        <a:lnTo>
                          <a:pt x="236" y="97"/>
                        </a:lnTo>
                        <a:lnTo>
                          <a:pt x="223" y="100"/>
                        </a:lnTo>
                        <a:lnTo>
                          <a:pt x="212" y="101"/>
                        </a:lnTo>
                        <a:lnTo>
                          <a:pt x="201" y="103"/>
                        </a:lnTo>
                        <a:lnTo>
                          <a:pt x="193" y="104"/>
                        </a:lnTo>
                        <a:lnTo>
                          <a:pt x="184" y="105"/>
                        </a:lnTo>
                        <a:lnTo>
                          <a:pt x="176" y="105"/>
                        </a:lnTo>
                        <a:lnTo>
                          <a:pt x="155" y="107"/>
                        </a:lnTo>
                        <a:lnTo>
                          <a:pt x="137" y="108"/>
                        </a:lnTo>
                        <a:lnTo>
                          <a:pt x="121" y="109"/>
                        </a:lnTo>
                        <a:lnTo>
                          <a:pt x="103" y="110"/>
                        </a:lnTo>
                        <a:lnTo>
                          <a:pt x="81" y="110"/>
                        </a:lnTo>
                        <a:lnTo>
                          <a:pt x="63" y="109"/>
                        </a:lnTo>
                        <a:lnTo>
                          <a:pt x="52" y="109"/>
                        </a:lnTo>
                        <a:lnTo>
                          <a:pt x="40" y="107"/>
                        </a:lnTo>
                        <a:lnTo>
                          <a:pt x="29" y="105"/>
                        </a:lnTo>
                        <a:lnTo>
                          <a:pt x="22" y="102"/>
                        </a:lnTo>
                        <a:lnTo>
                          <a:pt x="18" y="99"/>
                        </a:lnTo>
                        <a:lnTo>
                          <a:pt x="12" y="95"/>
                        </a:lnTo>
                        <a:lnTo>
                          <a:pt x="8" y="89"/>
                        </a:lnTo>
                        <a:lnTo>
                          <a:pt x="5" y="85"/>
                        </a:lnTo>
                        <a:lnTo>
                          <a:pt x="2" y="77"/>
                        </a:lnTo>
                        <a:lnTo>
                          <a:pt x="1" y="69"/>
                        </a:lnTo>
                        <a:lnTo>
                          <a:pt x="0" y="62"/>
                        </a:lnTo>
                        <a:lnTo>
                          <a:pt x="1" y="55"/>
                        </a:lnTo>
                        <a:lnTo>
                          <a:pt x="2" y="49"/>
                        </a:lnTo>
                        <a:lnTo>
                          <a:pt x="26" y="54"/>
                        </a:lnTo>
                        <a:lnTo>
                          <a:pt x="34" y="55"/>
                        </a:lnTo>
                        <a:lnTo>
                          <a:pt x="48" y="56"/>
                        </a:lnTo>
                        <a:lnTo>
                          <a:pt x="58" y="57"/>
                        </a:lnTo>
                        <a:lnTo>
                          <a:pt x="67" y="57"/>
                        </a:lnTo>
                        <a:lnTo>
                          <a:pt x="78" y="56"/>
                        </a:lnTo>
                        <a:lnTo>
                          <a:pt x="85" y="56"/>
                        </a:lnTo>
                        <a:lnTo>
                          <a:pt x="92" y="54"/>
                        </a:lnTo>
                        <a:lnTo>
                          <a:pt x="97" y="54"/>
                        </a:lnTo>
                        <a:lnTo>
                          <a:pt x="102" y="51"/>
                        </a:lnTo>
                        <a:lnTo>
                          <a:pt x="105" y="48"/>
                        </a:lnTo>
                        <a:lnTo>
                          <a:pt x="145" y="48"/>
                        </a:lnTo>
                        <a:lnTo>
                          <a:pt x="163" y="47"/>
                        </a:lnTo>
                        <a:lnTo>
                          <a:pt x="172" y="47"/>
                        </a:lnTo>
                        <a:lnTo>
                          <a:pt x="184" y="46"/>
                        </a:lnTo>
                        <a:lnTo>
                          <a:pt x="200" y="44"/>
                        </a:lnTo>
                        <a:lnTo>
                          <a:pt x="218" y="43"/>
                        </a:lnTo>
                        <a:lnTo>
                          <a:pt x="231" y="40"/>
                        </a:lnTo>
                        <a:lnTo>
                          <a:pt x="244" y="39"/>
                        </a:lnTo>
                        <a:lnTo>
                          <a:pt x="256" y="37"/>
                        </a:lnTo>
                        <a:lnTo>
                          <a:pt x="275" y="34"/>
                        </a:lnTo>
                        <a:lnTo>
                          <a:pt x="294" y="30"/>
                        </a:lnTo>
                        <a:lnTo>
                          <a:pt x="312" y="26"/>
                        </a:lnTo>
                        <a:lnTo>
                          <a:pt x="326" y="22"/>
                        </a:lnTo>
                        <a:lnTo>
                          <a:pt x="342" y="18"/>
                        </a:lnTo>
                        <a:lnTo>
                          <a:pt x="356" y="13"/>
                        </a:lnTo>
                        <a:lnTo>
                          <a:pt x="365" y="10"/>
                        </a:lnTo>
                        <a:lnTo>
                          <a:pt x="370" y="7"/>
                        </a:lnTo>
                        <a:lnTo>
                          <a:pt x="373" y="6"/>
                        </a:lnTo>
                        <a:lnTo>
                          <a:pt x="375" y="3"/>
                        </a:lnTo>
                        <a:lnTo>
                          <a:pt x="376" y="0"/>
                        </a:lnTo>
                        <a:lnTo>
                          <a:pt x="379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7718400" y="3832200"/>
                    <a:ext cx="6364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95">
                        <a:moveTo>
                          <a:pt x="365" y="16"/>
                        </a:moveTo>
                        <a:lnTo>
                          <a:pt x="372" y="14"/>
                        </a:lnTo>
                        <a:lnTo>
                          <a:pt x="379" y="12"/>
                        </a:lnTo>
                        <a:lnTo>
                          <a:pt x="386" y="9"/>
                        </a:lnTo>
                        <a:lnTo>
                          <a:pt x="392" y="5"/>
                        </a:lnTo>
                        <a:lnTo>
                          <a:pt x="397" y="2"/>
                        </a:lnTo>
                        <a:lnTo>
                          <a:pt x="399" y="0"/>
                        </a:lnTo>
                        <a:lnTo>
                          <a:pt x="400" y="4"/>
                        </a:lnTo>
                        <a:lnTo>
                          <a:pt x="400" y="25"/>
                        </a:lnTo>
                        <a:lnTo>
                          <a:pt x="399" y="28"/>
                        </a:lnTo>
                        <a:lnTo>
                          <a:pt x="397" y="32"/>
                        </a:lnTo>
                        <a:lnTo>
                          <a:pt x="393" y="35"/>
                        </a:lnTo>
                        <a:lnTo>
                          <a:pt x="389" y="39"/>
                        </a:lnTo>
                        <a:lnTo>
                          <a:pt x="382" y="42"/>
                        </a:lnTo>
                        <a:lnTo>
                          <a:pt x="362" y="49"/>
                        </a:lnTo>
                        <a:lnTo>
                          <a:pt x="347" y="54"/>
                        </a:lnTo>
                        <a:lnTo>
                          <a:pt x="326" y="61"/>
                        </a:lnTo>
                        <a:lnTo>
                          <a:pt x="302" y="68"/>
                        </a:lnTo>
                        <a:lnTo>
                          <a:pt x="284" y="73"/>
                        </a:lnTo>
                        <a:lnTo>
                          <a:pt x="262" y="78"/>
                        </a:lnTo>
                        <a:lnTo>
                          <a:pt x="241" y="82"/>
                        </a:lnTo>
                        <a:lnTo>
                          <a:pt x="223" y="84"/>
                        </a:lnTo>
                        <a:lnTo>
                          <a:pt x="212" y="86"/>
                        </a:lnTo>
                        <a:lnTo>
                          <a:pt x="201" y="87"/>
                        </a:lnTo>
                        <a:lnTo>
                          <a:pt x="193" y="89"/>
                        </a:lnTo>
                        <a:lnTo>
                          <a:pt x="184" y="89"/>
                        </a:lnTo>
                        <a:lnTo>
                          <a:pt x="175" y="89"/>
                        </a:lnTo>
                        <a:lnTo>
                          <a:pt x="155" y="91"/>
                        </a:lnTo>
                        <a:lnTo>
                          <a:pt x="137" y="92"/>
                        </a:lnTo>
                        <a:lnTo>
                          <a:pt x="121" y="93"/>
                        </a:lnTo>
                        <a:lnTo>
                          <a:pt x="103" y="94"/>
                        </a:lnTo>
                        <a:lnTo>
                          <a:pt x="81" y="94"/>
                        </a:lnTo>
                        <a:lnTo>
                          <a:pt x="63" y="93"/>
                        </a:lnTo>
                        <a:lnTo>
                          <a:pt x="52" y="93"/>
                        </a:lnTo>
                        <a:lnTo>
                          <a:pt x="44" y="92"/>
                        </a:lnTo>
                        <a:lnTo>
                          <a:pt x="38" y="91"/>
                        </a:lnTo>
                        <a:lnTo>
                          <a:pt x="29" y="89"/>
                        </a:lnTo>
                        <a:lnTo>
                          <a:pt x="22" y="86"/>
                        </a:lnTo>
                        <a:lnTo>
                          <a:pt x="17" y="83"/>
                        </a:lnTo>
                        <a:lnTo>
                          <a:pt x="12" y="79"/>
                        </a:lnTo>
                        <a:lnTo>
                          <a:pt x="8" y="74"/>
                        </a:lnTo>
                        <a:lnTo>
                          <a:pt x="5" y="69"/>
                        </a:lnTo>
                        <a:lnTo>
                          <a:pt x="2" y="61"/>
                        </a:lnTo>
                        <a:lnTo>
                          <a:pt x="1" y="54"/>
                        </a:lnTo>
                        <a:lnTo>
                          <a:pt x="0" y="47"/>
                        </a:lnTo>
                        <a:lnTo>
                          <a:pt x="1" y="40"/>
                        </a:lnTo>
                        <a:lnTo>
                          <a:pt x="2" y="34"/>
                        </a:lnTo>
                        <a:lnTo>
                          <a:pt x="3" y="39"/>
                        </a:lnTo>
                        <a:lnTo>
                          <a:pt x="6" y="44"/>
                        </a:lnTo>
                        <a:lnTo>
                          <a:pt x="11" y="47"/>
                        </a:lnTo>
                        <a:lnTo>
                          <a:pt x="17" y="48"/>
                        </a:lnTo>
                        <a:lnTo>
                          <a:pt x="24" y="50"/>
                        </a:lnTo>
                        <a:lnTo>
                          <a:pt x="33" y="51"/>
                        </a:lnTo>
                        <a:lnTo>
                          <a:pt x="44" y="53"/>
                        </a:lnTo>
                        <a:lnTo>
                          <a:pt x="55" y="54"/>
                        </a:lnTo>
                        <a:lnTo>
                          <a:pt x="70" y="54"/>
                        </a:lnTo>
                        <a:lnTo>
                          <a:pt x="82" y="54"/>
                        </a:lnTo>
                        <a:lnTo>
                          <a:pt x="92" y="54"/>
                        </a:lnTo>
                        <a:lnTo>
                          <a:pt x="105" y="54"/>
                        </a:lnTo>
                        <a:lnTo>
                          <a:pt x="121" y="54"/>
                        </a:lnTo>
                        <a:lnTo>
                          <a:pt x="133" y="54"/>
                        </a:lnTo>
                        <a:lnTo>
                          <a:pt x="144" y="54"/>
                        </a:lnTo>
                        <a:lnTo>
                          <a:pt x="154" y="53"/>
                        </a:lnTo>
                        <a:lnTo>
                          <a:pt x="168" y="53"/>
                        </a:lnTo>
                        <a:lnTo>
                          <a:pt x="181" y="52"/>
                        </a:lnTo>
                        <a:lnTo>
                          <a:pt x="196" y="51"/>
                        </a:lnTo>
                        <a:lnTo>
                          <a:pt x="212" y="49"/>
                        </a:lnTo>
                        <a:lnTo>
                          <a:pt x="226" y="48"/>
                        </a:lnTo>
                        <a:lnTo>
                          <a:pt x="239" y="46"/>
                        </a:lnTo>
                        <a:lnTo>
                          <a:pt x="253" y="44"/>
                        </a:lnTo>
                        <a:lnTo>
                          <a:pt x="267" y="41"/>
                        </a:lnTo>
                        <a:lnTo>
                          <a:pt x="279" y="39"/>
                        </a:lnTo>
                        <a:lnTo>
                          <a:pt x="291" y="37"/>
                        </a:lnTo>
                        <a:lnTo>
                          <a:pt x="301" y="34"/>
                        </a:lnTo>
                        <a:lnTo>
                          <a:pt x="315" y="30"/>
                        </a:lnTo>
                        <a:lnTo>
                          <a:pt x="326" y="27"/>
                        </a:lnTo>
                        <a:lnTo>
                          <a:pt x="334" y="25"/>
                        </a:lnTo>
                        <a:lnTo>
                          <a:pt x="344" y="23"/>
                        </a:lnTo>
                        <a:lnTo>
                          <a:pt x="351" y="20"/>
                        </a:lnTo>
                        <a:lnTo>
                          <a:pt x="359" y="18"/>
                        </a:lnTo>
                        <a:lnTo>
                          <a:pt x="365" y="16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7542360" y="3638880"/>
                    <a:ext cx="82224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882" y="16645"/>
                        </a:moveTo>
                        <a:arcTo wR="10800" hR="10800" stAng="1965923" swAng="41040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882" y="16645"/>
                        </a:moveTo>
                        <a:arcTo wR="10800" hR="10800" stAng="1965923" swAng="4104001"/>
                      </a:path>
                    </a:pathLst>
                  </a:custGeom>
                  <a:noFill/>
                  <a:ln cap="rnd" w="1260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6" name=""/>
                <p:cNvGrpSpPr/>
                <p:nvPr/>
              </p:nvGrpSpPr>
              <p:grpSpPr>
                <a:xfrm>
                  <a:off x="7924680" y="3862440"/>
                  <a:ext cx="405000" cy="98280"/>
                  <a:chOff x="7924680" y="3862440"/>
                  <a:chExt cx="405000" cy="98280"/>
                </a:xfrm>
              </p:grpSpPr>
              <p:grpSp>
                <p:nvGrpSpPr>
                  <p:cNvPr id="2127" name=""/>
                  <p:cNvGrpSpPr/>
                  <p:nvPr/>
                </p:nvGrpSpPr>
                <p:grpSpPr>
                  <a:xfrm>
                    <a:off x="7924680" y="3941640"/>
                    <a:ext cx="69840" cy="19080"/>
                    <a:chOff x="7924680" y="3941640"/>
                    <a:chExt cx="69840" cy="19080"/>
                  </a:xfrm>
                </p:grpSpPr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7924680" y="3941640"/>
                      <a:ext cx="69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2">
                          <a:moveTo>
                            <a:pt x="43" y="0"/>
                          </a:moveTo>
                          <a:lnTo>
                            <a:pt x="43" y="11"/>
                          </a:lnTo>
                          <a:lnTo>
                            <a:pt x="0" y="11"/>
                          </a:lnTo>
                          <a:lnTo>
                            <a:pt x="0" y="9"/>
                          </a:lnTo>
                          <a:lnTo>
                            <a:pt x="37" y="8"/>
                          </a:lnTo>
                          <a:lnTo>
                            <a:pt x="37" y="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7924680" y="3941640"/>
                      <a:ext cx="604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1">
                          <a:moveTo>
                            <a:pt x="37" y="0"/>
                          </a:moveTo>
                          <a:lnTo>
                            <a:pt x="1" y="0"/>
                          </a:lnTo>
                          <a:lnTo>
                            <a:pt x="0" y="10"/>
                          </a:lnTo>
                          <a:lnTo>
                            <a:pt x="37" y="9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0" name=""/>
                  <p:cNvGrpSpPr/>
                  <p:nvPr/>
                </p:nvGrpSpPr>
                <p:grpSpPr>
                  <a:xfrm>
                    <a:off x="8305920" y="3862440"/>
                    <a:ext cx="23760" cy="23760"/>
                    <a:chOff x="8305920" y="3862440"/>
                    <a:chExt cx="23760" cy="23760"/>
                  </a:xfrm>
                </p:grpSpPr>
                <p:sp>
                  <p:nvSpPr>
                    <p:cNvPr id="2131" name=""/>
                    <p:cNvSpPr/>
                    <p:nvPr/>
                  </p:nvSpPr>
                  <p:spPr>
                    <a:xfrm>
                      <a:off x="8305920" y="3862440"/>
                      <a:ext cx="23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5">
                          <a:moveTo>
                            <a:pt x="14" y="0"/>
                          </a:moveTo>
                          <a:lnTo>
                            <a:pt x="14" y="8"/>
                          </a:lnTo>
                          <a:lnTo>
                            <a:pt x="0" y="14"/>
                          </a:lnTo>
                          <a:lnTo>
                            <a:pt x="0" y="12"/>
                          </a:lnTo>
                          <a:lnTo>
                            <a:pt x="13" y="7"/>
                          </a:lnTo>
                          <a:lnTo>
                            <a:pt x="13" y="1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2" name=""/>
                    <p:cNvSpPr/>
                    <p:nvPr/>
                  </p:nvSpPr>
                  <p:spPr>
                    <a:xfrm>
                      <a:off x="8305920" y="3863880"/>
                      <a:ext cx="219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2">
                          <a:moveTo>
                            <a:pt x="13" y="0"/>
                          </a:move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1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33" name=""/>
          <p:cNvGrpSpPr/>
          <p:nvPr/>
        </p:nvGrpSpPr>
        <p:grpSpPr>
          <a:xfrm>
            <a:off x="5703840" y="4676760"/>
            <a:ext cx="1992240" cy="636120"/>
            <a:chOff x="5703840" y="4676760"/>
            <a:chExt cx="1992240" cy="636120"/>
          </a:xfrm>
        </p:grpSpPr>
        <p:grpSp>
          <p:nvGrpSpPr>
            <p:cNvPr id="2134" name=""/>
            <p:cNvGrpSpPr/>
            <p:nvPr/>
          </p:nvGrpSpPr>
          <p:grpSpPr>
            <a:xfrm>
              <a:off x="5954760" y="4937040"/>
              <a:ext cx="1643040" cy="375840"/>
              <a:chOff x="5954760" y="4937040"/>
              <a:chExt cx="1643040" cy="375840"/>
            </a:xfrm>
          </p:grpSpPr>
          <p:grpSp>
            <p:nvGrpSpPr>
              <p:cNvPr id="2135" name=""/>
              <p:cNvGrpSpPr/>
              <p:nvPr/>
            </p:nvGrpSpPr>
            <p:grpSpPr>
              <a:xfrm>
                <a:off x="6389640" y="4937040"/>
                <a:ext cx="1208160" cy="236520"/>
                <a:chOff x="6389640" y="4937040"/>
                <a:chExt cx="1208160" cy="23652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7383600" y="4937040"/>
                  <a:ext cx="214200" cy="209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6389640" y="4964040"/>
                  <a:ext cx="366840" cy="209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8" name=""/>
              <p:cNvGrpSpPr/>
              <p:nvPr/>
            </p:nvGrpSpPr>
            <p:grpSpPr>
              <a:xfrm>
                <a:off x="5954760" y="4945680"/>
                <a:ext cx="1635840" cy="367200"/>
                <a:chOff x="5954760" y="4945680"/>
                <a:chExt cx="1635840" cy="367200"/>
              </a:xfrm>
            </p:grpSpPr>
            <p:grpSp>
              <p:nvGrpSpPr>
                <p:cNvPr id="2139" name=""/>
                <p:cNvGrpSpPr/>
                <p:nvPr/>
              </p:nvGrpSpPr>
              <p:grpSpPr>
                <a:xfrm>
                  <a:off x="6408720" y="4945680"/>
                  <a:ext cx="1181880" cy="367200"/>
                  <a:chOff x="6408720" y="4945680"/>
                  <a:chExt cx="1181880" cy="367200"/>
                </a:xfrm>
              </p:grpSpPr>
              <p:grpSp>
                <p:nvGrpSpPr>
                  <p:cNvPr id="2140" name=""/>
                  <p:cNvGrpSpPr/>
                  <p:nvPr/>
                </p:nvGrpSpPr>
                <p:grpSpPr>
                  <a:xfrm>
                    <a:off x="6408720" y="4945680"/>
                    <a:ext cx="335880" cy="367200"/>
                    <a:chOff x="6408720" y="4945680"/>
                    <a:chExt cx="335880" cy="367200"/>
                  </a:xfrm>
                </p:grpSpPr>
                <p:grpSp>
                  <p:nvGrpSpPr>
                    <p:cNvPr id="2141" name=""/>
                    <p:cNvGrpSpPr/>
                    <p:nvPr/>
                  </p:nvGrpSpPr>
                  <p:grpSpPr>
                    <a:xfrm>
                      <a:off x="6408720" y="4945680"/>
                      <a:ext cx="335880" cy="367200"/>
                      <a:chOff x="6408720" y="4945680"/>
                      <a:chExt cx="335880" cy="367200"/>
                    </a:xfrm>
                  </p:grpSpPr>
                  <p:sp>
                    <p:nvSpPr>
                      <p:cNvPr id="2142" name=""/>
                      <p:cNvSpPr/>
                      <p:nvPr/>
                    </p:nvSpPr>
                    <p:spPr>
                      <a:xfrm>
                        <a:off x="6443640" y="5002200"/>
                        <a:ext cx="257040" cy="306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3" name=""/>
                      <p:cNvSpPr/>
                      <p:nvPr/>
                    </p:nvSpPr>
                    <p:spPr>
                      <a:xfrm>
                        <a:off x="6410160" y="4945680"/>
                        <a:ext cx="285120" cy="36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488" y="21467"/>
                            </a:moveTo>
                            <a:arcTo wR="10800" hR="10800" stAng="4860335" swAng="602855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488" y="21467"/>
                            </a:moveTo>
                            <a:arcTo wR="10800" hR="10800" stAng="4860335" swAng="602855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4" name=""/>
                      <p:cNvSpPr/>
                      <p:nvPr/>
                    </p:nvSpPr>
                    <p:spPr>
                      <a:xfrm>
                        <a:off x="6408720" y="5005440"/>
                        <a:ext cx="33588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" y="10537"/>
                            </a:moveTo>
                            <a:arcTo wR="10800" hR="10800" stAng="-10716169" swAng="528373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" y="10537"/>
                            </a:moveTo>
                            <a:arcTo wR="10800" hR="10800" stAng="-10716169" swAng="5283738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5" name=""/>
                    <p:cNvGrpSpPr/>
                    <p:nvPr/>
                  </p:nvGrpSpPr>
                  <p:grpSpPr>
                    <a:xfrm>
                      <a:off x="6499080" y="5064120"/>
                      <a:ext cx="147960" cy="182520"/>
                      <a:chOff x="6499080" y="5064120"/>
                      <a:chExt cx="147960" cy="182520"/>
                    </a:xfrm>
                  </p:grpSpPr>
                  <p:sp>
                    <p:nvSpPr>
                      <p:cNvPr id="2146" name=""/>
                      <p:cNvSpPr/>
                      <p:nvPr/>
                    </p:nvSpPr>
                    <p:spPr>
                      <a:xfrm>
                        <a:off x="6505560" y="5064120"/>
                        <a:ext cx="141480" cy="179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47" name=""/>
                      <p:cNvGrpSpPr/>
                      <p:nvPr/>
                    </p:nvGrpSpPr>
                    <p:grpSpPr>
                      <a:xfrm>
                        <a:off x="6499080" y="5065560"/>
                        <a:ext cx="146160" cy="181080"/>
                        <a:chOff x="6499080" y="5065560"/>
                        <a:chExt cx="146160" cy="181080"/>
                      </a:xfrm>
                    </p:grpSpPr>
                    <p:sp>
                      <p:nvSpPr>
                        <p:cNvPr id="2148" name=""/>
                        <p:cNvSpPr/>
                        <p:nvPr/>
                      </p:nvSpPr>
                      <p:spPr>
                        <a:xfrm>
                          <a:off x="6499080" y="5065560"/>
                          <a:ext cx="146160" cy="18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114">
                              <a:moveTo>
                                <a:pt x="57" y="1"/>
                              </a:moveTo>
                              <a:lnTo>
                                <a:pt x="60" y="46"/>
                              </a:lnTo>
                              <a:lnTo>
                                <a:pt x="89" y="41"/>
                              </a:lnTo>
                              <a:lnTo>
                                <a:pt x="91" y="47"/>
                              </a:lnTo>
                              <a:lnTo>
                                <a:pt x="91" y="53"/>
                              </a:lnTo>
                              <a:lnTo>
                                <a:pt x="67" y="68"/>
                              </a:lnTo>
                              <a:lnTo>
                                <a:pt x="76" y="104"/>
                              </a:lnTo>
                              <a:lnTo>
                                <a:pt x="71" y="109"/>
                              </a:lnTo>
                              <a:lnTo>
                                <a:pt x="67" y="113"/>
                              </a:lnTo>
                              <a:lnTo>
                                <a:pt x="50" y="75"/>
                              </a:lnTo>
                              <a:lnTo>
                                <a:pt x="22" y="112"/>
                              </a:lnTo>
                              <a:lnTo>
                                <a:pt x="17" y="108"/>
                              </a:lnTo>
                              <a:lnTo>
                                <a:pt x="12" y="101"/>
                              </a:lnTo>
                              <a:lnTo>
                                <a:pt x="34" y="66"/>
                              </a:lnTo>
                              <a:lnTo>
                                <a:pt x="0" y="44"/>
                              </a:lnTo>
                              <a:lnTo>
                                <a:pt x="3" y="34"/>
                              </a:lnTo>
                              <a:lnTo>
                                <a:pt x="7" y="31"/>
                              </a:lnTo>
                              <a:lnTo>
                                <a:pt x="39" y="45"/>
                              </a:lnTo>
                              <a:lnTo>
                                <a:pt x="44" y="0"/>
                              </a:lnTo>
                              <a:lnTo>
                                <a:pt x="57" y="1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9" name=""/>
                        <p:cNvGrpSpPr/>
                        <p:nvPr/>
                      </p:nvGrpSpPr>
                      <p:grpSpPr>
                        <a:xfrm>
                          <a:off x="6600960" y="5146560"/>
                          <a:ext cx="4680" cy="3240"/>
                          <a:chOff x="6600960" y="5146560"/>
                          <a:chExt cx="4680" cy="3240"/>
                        </a:xfrm>
                      </p:grpSpPr>
                      <p:sp>
                        <p:nvSpPr>
                          <p:cNvPr id="2150" name=""/>
                          <p:cNvSpPr/>
                          <p:nvPr/>
                        </p:nvSpPr>
                        <p:spPr>
                          <a:xfrm>
                            <a:off x="6600960" y="514656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1" name=""/>
                          <p:cNvSpPr/>
                          <p:nvPr/>
                        </p:nvSpPr>
                        <p:spPr>
                          <a:xfrm>
                            <a:off x="6602400" y="5146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2" name=""/>
                        <p:cNvGrpSpPr/>
                        <p:nvPr/>
                      </p:nvGrpSpPr>
                      <p:grpSpPr>
                        <a:xfrm>
                          <a:off x="6558120" y="5143680"/>
                          <a:ext cx="4680" cy="4680"/>
                          <a:chOff x="6558120" y="5143680"/>
                          <a:chExt cx="4680" cy="4680"/>
                        </a:xfrm>
                      </p:grpSpPr>
                      <p:sp>
                        <p:nvSpPr>
                          <p:cNvPr id="2153" name=""/>
                          <p:cNvSpPr/>
                          <p:nvPr/>
                        </p:nvSpPr>
                        <p:spPr>
                          <a:xfrm>
                            <a:off x="6558120" y="514368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4" name=""/>
                          <p:cNvSpPr/>
                          <p:nvPr/>
                        </p:nvSpPr>
                        <p:spPr>
                          <a:xfrm>
                            <a:off x="6558120" y="5145120"/>
                            <a:ext cx="288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5" name=""/>
                        <p:cNvGrpSpPr/>
                        <p:nvPr/>
                      </p:nvGrpSpPr>
                      <p:grpSpPr>
                        <a:xfrm>
                          <a:off x="6581880" y="5127480"/>
                          <a:ext cx="4680" cy="5040"/>
                          <a:chOff x="6581880" y="5127480"/>
                          <a:chExt cx="4680" cy="5040"/>
                        </a:xfrm>
                      </p:grpSpPr>
                      <p:sp>
                        <p:nvSpPr>
                          <p:cNvPr id="2156" name=""/>
                          <p:cNvSpPr/>
                          <p:nvPr/>
                        </p:nvSpPr>
                        <p:spPr>
                          <a:xfrm>
                            <a:off x="6581880" y="5127480"/>
                            <a:ext cx="468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7" name=""/>
                          <p:cNvSpPr/>
                          <p:nvPr/>
                        </p:nvSpPr>
                        <p:spPr>
                          <a:xfrm>
                            <a:off x="6581880" y="512928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8" name=""/>
                        <p:cNvGrpSpPr/>
                        <p:nvPr/>
                      </p:nvGrpSpPr>
                      <p:grpSpPr>
                        <a:xfrm>
                          <a:off x="6564240" y="5173560"/>
                          <a:ext cx="4680" cy="5040"/>
                          <a:chOff x="6564240" y="5173560"/>
                          <a:chExt cx="4680" cy="5040"/>
                        </a:xfrm>
                      </p:grpSpPr>
                      <p:sp>
                        <p:nvSpPr>
                          <p:cNvPr id="2159" name=""/>
                          <p:cNvSpPr/>
                          <p:nvPr/>
                        </p:nvSpPr>
                        <p:spPr>
                          <a:xfrm>
                            <a:off x="6564240" y="5173560"/>
                            <a:ext cx="468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0" name=""/>
                          <p:cNvSpPr/>
                          <p:nvPr/>
                        </p:nvSpPr>
                        <p:spPr>
                          <a:xfrm>
                            <a:off x="6564240" y="5173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61" name=""/>
                        <p:cNvSpPr/>
                        <p:nvPr/>
                      </p:nvSpPr>
                      <p:spPr>
                        <a:xfrm>
                          <a:off x="6572160" y="5146560"/>
                          <a:ext cx="19080" cy="17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4200" bIns="-34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62" name=""/>
                        <p:cNvGrpSpPr/>
                        <p:nvPr/>
                      </p:nvGrpSpPr>
                      <p:grpSpPr>
                        <a:xfrm>
                          <a:off x="6595920" y="5173560"/>
                          <a:ext cx="5040" cy="5040"/>
                          <a:chOff x="6595920" y="5173560"/>
                          <a:chExt cx="5040" cy="5040"/>
                        </a:xfrm>
                      </p:grpSpPr>
                      <p:sp>
                        <p:nvSpPr>
                          <p:cNvPr id="2163" name=""/>
                          <p:cNvSpPr/>
                          <p:nvPr/>
                        </p:nvSpPr>
                        <p:spPr>
                          <a:xfrm>
                            <a:off x="6595920" y="5173560"/>
                            <a:ext cx="504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4" name=""/>
                          <p:cNvSpPr/>
                          <p:nvPr/>
                        </p:nvSpPr>
                        <p:spPr>
                          <a:xfrm>
                            <a:off x="6597720" y="5173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5" name=""/>
                        <p:cNvGrpSpPr/>
                        <p:nvPr/>
                      </p:nvGrpSpPr>
                      <p:grpSpPr>
                        <a:xfrm>
                          <a:off x="6556320" y="5146560"/>
                          <a:ext cx="58680" cy="38160"/>
                          <a:chOff x="6556320" y="5146560"/>
                          <a:chExt cx="58680" cy="38160"/>
                        </a:xfrm>
                      </p:grpSpPr>
                      <p:sp>
                        <p:nvSpPr>
                          <p:cNvPr id="2166" name=""/>
                          <p:cNvSpPr/>
                          <p:nvPr/>
                        </p:nvSpPr>
                        <p:spPr>
                          <a:xfrm flipH="1">
                            <a:off x="6565680" y="5149800"/>
                            <a:ext cx="378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7" name=""/>
                          <p:cNvSpPr/>
                          <p:nvPr/>
                        </p:nvSpPr>
                        <p:spPr>
                          <a:xfrm>
                            <a:off x="6564240" y="5146560"/>
                            <a:ext cx="97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8" name=""/>
                          <p:cNvSpPr/>
                          <p:nvPr/>
                        </p:nvSpPr>
                        <p:spPr>
                          <a:xfrm flipH="1" flipV="1">
                            <a:off x="6566040" y="5151600"/>
                            <a:ext cx="4896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9" name=""/>
                          <p:cNvSpPr/>
                          <p:nvPr/>
                        </p:nvSpPr>
                        <p:spPr>
                          <a:xfrm flipV="1">
                            <a:off x="6556320" y="5151240"/>
                            <a:ext cx="7920" cy="28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0" name=""/>
                          <p:cNvSpPr/>
                          <p:nvPr/>
                        </p:nvSpPr>
                        <p:spPr>
                          <a:xfrm flipH="1">
                            <a:off x="6566040" y="5180040"/>
                            <a:ext cx="25200" cy="4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171" name=""/>
                  <p:cNvGrpSpPr/>
                  <p:nvPr/>
                </p:nvGrpSpPr>
                <p:grpSpPr>
                  <a:xfrm>
                    <a:off x="7321680" y="4981680"/>
                    <a:ext cx="268920" cy="264600"/>
                    <a:chOff x="7321680" y="4981680"/>
                    <a:chExt cx="268920" cy="264600"/>
                  </a:xfrm>
                </p:grpSpPr>
                <p:grpSp>
                  <p:nvGrpSpPr>
                    <p:cNvPr id="2172" name=""/>
                    <p:cNvGrpSpPr/>
                    <p:nvPr/>
                  </p:nvGrpSpPr>
                  <p:grpSpPr>
                    <a:xfrm>
                      <a:off x="7321680" y="4981680"/>
                      <a:ext cx="268920" cy="264600"/>
                      <a:chOff x="7321680" y="4981680"/>
                      <a:chExt cx="268920" cy="264600"/>
                    </a:xfrm>
                  </p:grpSpPr>
                  <p:sp>
                    <p:nvSpPr>
                      <p:cNvPr id="2173" name=""/>
                      <p:cNvSpPr/>
                      <p:nvPr/>
                    </p:nvSpPr>
                    <p:spPr>
                      <a:xfrm>
                        <a:off x="7350120" y="4981680"/>
                        <a:ext cx="222120" cy="261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4" name=""/>
                      <p:cNvSpPr/>
                      <p:nvPr/>
                    </p:nvSpPr>
                    <p:spPr>
                      <a:xfrm>
                        <a:off x="7321680" y="5034240"/>
                        <a:ext cx="268920" cy="21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671" y="21599"/>
                            </a:moveTo>
                            <a:arcTo wR="10800" hR="10800" stAng="5441055" swAng="546153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671" y="21599"/>
                            </a:moveTo>
                            <a:arcTo wR="10800" hR="10800" stAng="5441055" swAng="5461534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75" name=""/>
                    <p:cNvGrpSpPr/>
                    <p:nvPr/>
                  </p:nvGrpSpPr>
                  <p:grpSpPr>
                    <a:xfrm>
                      <a:off x="7367760" y="5037120"/>
                      <a:ext cx="163440" cy="160200"/>
                      <a:chOff x="7367760" y="5037120"/>
                      <a:chExt cx="163440" cy="160200"/>
                    </a:xfrm>
                  </p:grpSpPr>
                  <p:sp>
                    <p:nvSpPr>
                      <p:cNvPr id="2176" name=""/>
                      <p:cNvSpPr/>
                      <p:nvPr/>
                    </p:nvSpPr>
                    <p:spPr>
                      <a:xfrm>
                        <a:off x="7380360" y="5038560"/>
                        <a:ext cx="149040" cy="150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7" name=""/>
                      <p:cNvSpPr/>
                      <p:nvPr/>
                    </p:nvSpPr>
                    <p:spPr>
                      <a:xfrm>
                        <a:off x="7367760" y="5037120"/>
                        <a:ext cx="163440" cy="16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1">
                            <a:moveTo>
                              <a:pt x="63" y="0"/>
                            </a:moveTo>
                            <a:lnTo>
                              <a:pt x="63" y="43"/>
                            </a:lnTo>
                            <a:lnTo>
                              <a:pt x="99" y="36"/>
                            </a:lnTo>
                            <a:lnTo>
                              <a:pt x="102" y="41"/>
                            </a:lnTo>
                            <a:lnTo>
                              <a:pt x="102" y="48"/>
                            </a:lnTo>
                            <a:lnTo>
                              <a:pt x="67" y="60"/>
                            </a:lnTo>
                            <a:lnTo>
                              <a:pt x="84" y="92"/>
                            </a:lnTo>
                            <a:lnTo>
                              <a:pt x="78" y="97"/>
                            </a:lnTo>
                            <a:lnTo>
                              <a:pt x="71" y="100"/>
                            </a:lnTo>
                            <a:lnTo>
                              <a:pt x="52" y="74"/>
                            </a:lnTo>
                            <a:lnTo>
                              <a:pt x="27" y="97"/>
                            </a:lnTo>
                            <a:lnTo>
                              <a:pt x="21" y="94"/>
                            </a:lnTo>
                            <a:lnTo>
                              <a:pt x="16" y="88"/>
                            </a:lnTo>
                            <a:lnTo>
                              <a:pt x="39" y="59"/>
                            </a:lnTo>
                            <a:lnTo>
                              <a:pt x="6" y="43"/>
                            </a:lnTo>
                            <a:lnTo>
                              <a:pt x="0" y="41"/>
                            </a:lnTo>
                            <a:lnTo>
                              <a:pt x="3" y="32"/>
                            </a:lnTo>
                            <a:lnTo>
                              <a:pt x="5" y="29"/>
                            </a:lnTo>
                            <a:lnTo>
                              <a:pt x="47" y="42"/>
                            </a:lnTo>
                            <a:lnTo>
                              <a:pt x="49" y="0"/>
                            </a:lnTo>
                            <a:lnTo>
                              <a:pt x="56" y="0"/>
                            </a:lnTo>
                            <a:lnTo>
                              <a:pt x="6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78" name=""/>
                      <p:cNvGrpSpPr/>
                      <p:nvPr/>
                    </p:nvGrpSpPr>
                    <p:grpSpPr>
                      <a:xfrm>
                        <a:off x="7434360" y="5091120"/>
                        <a:ext cx="48960" cy="52560"/>
                        <a:chOff x="7434360" y="5091120"/>
                        <a:chExt cx="48960" cy="52560"/>
                      </a:xfrm>
                    </p:grpSpPr>
                    <p:grpSp>
                      <p:nvGrpSpPr>
                        <p:cNvPr id="2179" name=""/>
                        <p:cNvGrpSpPr/>
                        <p:nvPr/>
                      </p:nvGrpSpPr>
                      <p:grpSpPr>
                        <a:xfrm>
                          <a:off x="7478640" y="5110200"/>
                          <a:ext cx="4680" cy="4680"/>
                          <a:chOff x="7478640" y="5110200"/>
                          <a:chExt cx="4680" cy="4680"/>
                        </a:xfrm>
                      </p:grpSpPr>
                      <p:sp>
                        <p:nvSpPr>
                          <p:cNvPr id="2180" name=""/>
                          <p:cNvSpPr/>
                          <p:nvPr/>
                        </p:nvSpPr>
                        <p:spPr>
                          <a:xfrm>
                            <a:off x="7478640" y="511020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1" name=""/>
                          <p:cNvSpPr/>
                          <p:nvPr/>
                        </p:nvSpPr>
                        <p:spPr>
                          <a:xfrm>
                            <a:off x="7478640" y="511020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82" name=""/>
                        <p:cNvGrpSpPr/>
                        <p:nvPr/>
                      </p:nvGrpSpPr>
                      <p:grpSpPr>
                        <a:xfrm>
                          <a:off x="7434360" y="5106960"/>
                          <a:ext cx="4680" cy="4680"/>
                          <a:chOff x="7434360" y="5106960"/>
                          <a:chExt cx="4680" cy="4680"/>
                        </a:xfrm>
                      </p:grpSpPr>
                      <p:sp>
                        <p:nvSpPr>
                          <p:cNvPr id="2183" name=""/>
                          <p:cNvSpPr/>
                          <p:nvPr/>
                        </p:nvSpPr>
                        <p:spPr>
                          <a:xfrm>
                            <a:off x="7434360" y="510696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4" name=""/>
                          <p:cNvSpPr/>
                          <p:nvPr/>
                        </p:nvSpPr>
                        <p:spPr>
                          <a:xfrm>
                            <a:off x="7435800" y="510840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85" name=""/>
                        <p:cNvGrpSpPr/>
                        <p:nvPr/>
                      </p:nvGrpSpPr>
                      <p:grpSpPr>
                        <a:xfrm>
                          <a:off x="7458120" y="5091120"/>
                          <a:ext cx="4680" cy="4680"/>
                          <a:chOff x="7458120" y="5091120"/>
                          <a:chExt cx="4680" cy="4680"/>
                        </a:xfrm>
                      </p:grpSpPr>
                      <p:sp>
                        <p:nvSpPr>
                          <p:cNvPr id="2186" name=""/>
                          <p:cNvSpPr/>
                          <p:nvPr/>
                        </p:nvSpPr>
                        <p:spPr>
                          <a:xfrm>
                            <a:off x="7458120" y="5091120"/>
                            <a:ext cx="468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7" name=""/>
                          <p:cNvSpPr/>
                          <p:nvPr/>
                        </p:nvSpPr>
                        <p:spPr>
                          <a:xfrm>
                            <a:off x="7459560" y="509256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88" name=""/>
                        <p:cNvGrpSpPr/>
                        <p:nvPr/>
                      </p:nvGrpSpPr>
                      <p:grpSpPr>
                        <a:xfrm>
                          <a:off x="7440480" y="5137200"/>
                          <a:ext cx="5040" cy="4680"/>
                          <a:chOff x="7440480" y="5137200"/>
                          <a:chExt cx="5040" cy="4680"/>
                        </a:xfrm>
                      </p:grpSpPr>
                      <p:sp>
                        <p:nvSpPr>
                          <p:cNvPr id="2189" name=""/>
                          <p:cNvSpPr/>
                          <p:nvPr/>
                        </p:nvSpPr>
                        <p:spPr>
                          <a:xfrm>
                            <a:off x="7440480" y="5137200"/>
                            <a:ext cx="5040" cy="4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560" bIns="-43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0" name=""/>
                          <p:cNvSpPr/>
                          <p:nvPr/>
                        </p:nvSpPr>
                        <p:spPr>
                          <a:xfrm>
                            <a:off x="7442280" y="513720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91" name=""/>
                        <p:cNvGrpSpPr/>
                        <p:nvPr/>
                      </p:nvGrpSpPr>
                      <p:grpSpPr>
                        <a:xfrm>
                          <a:off x="7467480" y="5138640"/>
                          <a:ext cx="5040" cy="5040"/>
                          <a:chOff x="7467480" y="5138640"/>
                          <a:chExt cx="5040" cy="5040"/>
                        </a:xfrm>
                      </p:grpSpPr>
                      <p:sp>
                        <p:nvSpPr>
                          <p:cNvPr id="2192" name=""/>
                          <p:cNvSpPr/>
                          <p:nvPr/>
                        </p:nvSpPr>
                        <p:spPr>
                          <a:xfrm>
                            <a:off x="7467480" y="5138640"/>
                            <a:ext cx="5040" cy="50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3" name=""/>
                          <p:cNvSpPr/>
                          <p:nvPr/>
                        </p:nvSpPr>
                        <p:spPr>
                          <a:xfrm>
                            <a:off x="7469280" y="5140440"/>
                            <a:ext cx="3240" cy="3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94" name=""/>
                      <p:cNvGrpSpPr/>
                      <p:nvPr/>
                    </p:nvGrpSpPr>
                    <p:grpSpPr>
                      <a:xfrm>
                        <a:off x="7432560" y="5110200"/>
                        <a:ext cx="49320" cy="42840"/>
                        <a:chOff x="7432560" y="5110200"/>
                        <a:chExt cx="49320" cy="42840"/>
                      </a:xfrm>
                    </p:grpSpPr>
                    <p:grpSp>
                      <p:nvGrpSpPr>
                        <p:cNvPr id="2195" name=""/>
                        <p:cNvGrpSpPr/>
                        <p:nvPr/>
                      </p:nvGrpSpPr>
                      <p:grpSpPr>
                        <a:xfrm>
                          <a:off x="7432560" y="5110200"/>
                          <a:ext cx="49320" cy="36000"/>
                          <a:chOff x="7432560" y="5110200"/>
                          <a:chExt cx="49320" cy="36000"/>
                        </a:xfrm>
                      </p:grpSpPr>
                      <p:sp>
                        <p:nvSpPr>
                          <p:cNvPr id="2196" name=""/>
                          <p:cNvSpPr/>
                          <p:nvPr/>
                        </p:nvSpPr>
                        <p:spPr>
                          <a:xfrm>
                            <a:off x="7450200" y="5110200"/>
                            <a:ext cx="17280" cy="172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4560" bIns="-34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7" name=""/>
                          <p:cNvSpPr/>
                          <p:nvPr/>
                        </p:nvSpPr>
                        <p:spPr>
                          <a:xfrm flipH="1">
                            <a:off x="7443720" y="5113440"/>
                            <a:ext cx="38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8" name=""/>
                          <p:cNvSpPr/>
                          <p:nvPr/>
                        </p:nvSpPr>
                        <p:spPr>
                          <a:xfrm>
                            <a:off x="7440480" y="5110200"/>
                            <a:ext cx="97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9" name=""/>
                          <p:cNvSpPr/>
                          <p:nvPr/>
                        </p:nvSpPr>
                        <p:spPr>
                          <a:xfrm flipH="1" flipV="1">
                            <a:off x="7446600" y="5116320"/>
                            <a:ext cx="34920" cy="29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0" name=""/>
                          <p:cNvSpPr/>
                          <p:nvPr/>
                        </p:nvSpPr>
                        <p:spPr>
                          <a:xfrm flipV="1">
                            <a:off x="7432560" y="5117760"/>
                            <a:ext cx="7920" cy="270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01" name=""/>
                        <p:cNvSpPr/>
                        <p:nvPr/>
                      </p:nvSpPr>
                      <p:spPr>
                        <a:xfrm flipH="1">
                          <a:off x="7440120" y="5145120"/>
                          <a:ext cx="255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202" name=""/>
                <p:cNvGrpSpPr/>
                <p:nvPr/>
              </p:nvGrpSpPr>
              <p:grpSpPr>
                <a:xfrm>
                  <a:off x="5954760" y="4951440"/>
                  <a:ext cx="1393920" cy="306360"/>
                  <a:chOff x="5954760" y="4951440"/>
                  <a:chExt cx="1393920" cy="306360"/>
                </a:xfrm>
              </p:grpSpPr>
              <p:grpSp>
                <p:nvGrpSpPr>
                  <p:cNvPr id="2203" name=""/>
                  <p:cNvGrpSpPr/>
                  <p:nvPr/>
                </p:nvGrpSpPr>
                <p:grpSpPr>
                  <a:xfrm>
                    <a:off x="5954760" y="4951440"/>
                    <a:ext cx="1393920" cy="306360"/>
                    <a:chOff x="5954760" y="4951440"/>
                    <a:chExt cx="1393920" cy="306360"/>
                  </a:xfrm>
                </p:grpSpPr>
                <p:grpSp>
                  <p:nvGrpSpPr>
                    <p:cNvPr id="2204" name=""/>
                    <p:cNvGrpSpPr/>
                    <p:nvPr/>
                  </p:nvGrpSpPr>
                  <p:grpSpPr>
                    <a:xfrm>
                      <a:off x="5954760" y="4951440"/>
                      <a:ext cx="1184400" cy="306360"/>
                      <a:chOff x="5954760" y="4951440"/>
                      <a:chExt cx="1184400" cy="306360"/>
                    </a:xfrm>
                  </p:grpSpPr>
                  <p:sp>
                    <p:nvSpPr>
                      <p:cNvPr id="2205" name=""/>
                      <p:cNvSpPr/>
                      <p:nvPr/>
                    </p:nvSpPr>
                    <p:spPr>
                      <a:xfrm>
                        <a:off x="5954760" y="4951440"/>
                        <a:ext cx="258840" cy="306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6" name=""/>
                      <p:cNvSpPr/>
                      <p:nvPr/>
                    </p:nvSpPr>
                    <p:spPr>
                      <a:xfrm>
                        <a:off x="6899400" y="5037120"/>
                        <a:ext cx="239760" cy="181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07" name=""/>
                    <p:cNvSpPr/>
                    <p:nvPr/>
                  </p:nvSpPr>
                  <p:spPr>
                    <a:xfrm>
                      <a:off x="7081920" y="5127480"/>
                      <a:ext cx="2667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7">
                          <a:moveTo>
                            <a:pt x="161" y="24"/>
                          </a:moveTo>
                          <a:lnTo>
                            <a:pt x="0" y="26"/>
                          </a:lnTo>
                          <a:lnTo>
                            <a:pt x="0" y="0"/>
                          </a:lnTo>
                          <a:lnTo>
                            <a:pt x="167" y="6"/>
                          </a:lnTo>
                          <a:lnTo>
                            <a:pt x="161" y="2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08" name=""/>
                  <p:cNvSpPr/>
                  <p:nvPr/>
                </p:nvSpPr>
                <p:spPr>
                  <a:xfrm>
                    <a:off x="5985000" y="5135400"/>
                    <a:ext cx="4521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2">
                        <a:moveTo>
                          <a:pt x="272" y="41"/>
                        </a:moveTo>
                        <a:lnTo>
                          <a:pt x="18" y="27"/>
                        </a:lnTo>
                        <a:lnTo>
                          <a:pt x="0" y="0"/>
                        </a:lnTo>
                        <a:lnTo>
                          <a:pt x="284" y="14"/>
                        </a:lnTo>
                        <a:lnTo>
                          <a:pt x="272" y="4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09" name=""/>
            <p:cNvGrpSpPr/>
            <p:nvPr/>
          </p:nvGrpSpPr>
          <p:grpSpPr>
            <a:xfrm>
              <a:off x="5703840" y="4676760"/>
              <a:ext cx="1992240" cy="536760"/>
              <a:chOff x="5703840" y="4676760"/>
              <a:chExt cx="1992240" cy="536760"/>
            </a:xfrm>
          </p:grpSpPr>
          <p:grpSp>
            <p:nvGrpSpPr>
              <p:cNvPr id="2210" name=""/>
              <p:cNvGrpSpPr/>
              <p:nvPr/>
            </p:nvGrpSpPr>
            <p:grpSpPr>
              <a:xfrm>
                <a:off x="6045120" y="4689360"/>
                <a:ext cx="1203480" cy="184320"/>
                <a:chOff x="6045120" y="4689360"/>
                <a:chExt cx="1203480" cy="18432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6675480" y="4702320"/>
                  <a:ext cx="573120" cy="171360"/>
                </a:xfrm>
                <a:custGeom>
                  <a:avLst/>
                  <a:gdLst/>
                  <a:ahLst/>
                  <a:rect l="l" t="t" r="r" b="b"/>
                  <a:pathLst>
                    <a:path w="361" h="108">
                      <a:moveTo>
                        <a:pt x="345" y="94"/>
                      </a:moveTo>
                      <a:lnTo>
                        <a:pt x="323" y="80"/>
                      </a:lnTo>
                      <a:lnTo>
                        <a:pt x="299" y="66"/>
                      </a:lnTo>
                      <a:lnTo>
                        <a:pt x="276" y="52"/>
                      </a:lnTo>
                      <a:lnTo>
                        <a:pt x="257" y="40"/>
                      </a:lnTo>
                      <a:lnTo>
                        <a:pt x="235" y="27"/>
                      </a:lnTo>
                      <a:lnTo>
                        <a:pt x="222" y="20"/>
                      </a:lnTo>
                      <a:lnTo>
                        <a:pt x="214" y="16"/>
                      </a:lnTo>
                      <a:lnTo>
                        <a:pt x="205" y="13"/>
                      </a:lnTo>
                      <a:lnTo>
                        <a:pt x="200" y="11"/>
                      </a:lnTo>
                      <a:lnTo>
                        <a:pt x="194" y="10"/>
                      </a:lnTo>
                      <a:lnTo>
                        <a:pt x="179" y="7"/>
                      </a:lnTo>
                      <a:lnTo>
                        <a:pt x="130" y="3"/>
                      </a:lnTo>
                      <a:lnTo>
                        <a:pt x="100" y="2"/>
                      </a:lnTo>
                      <a:lnTo>
                        <a:pt x="66" y="0"/>
                      </a:lnTo>
                      <a:lnTo>
                        <a:pt x="45" y="0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5" y="3"/>
                      </a:lnTo>
                      <a:lnTo>
                        <a:pt x="21" y="6"/>
                      </a:lnTo>
                      <a:lnTo>
                        <a:pt x="19" y="8"/>
                      </a:lnTo>
                      <a:lnTo>
                        <a:pt x="16" y="16"/>
                      </a:lnTo>
                      <a:lnTo>
                        <a:pt x="14" y="22"/>
                      </a:lnTo>
                      <a:lnTo>
                        <a:pt x="11" y="31"/>
                      </a:lnTo>
                      <a:lnTo>
                        <a:pt x="3" y="77"/>
                      </a:lnTo>
                      <a:lnTo>
                        <a:pt x="2" y="83"/>
                      </a:lnTo>
                      <a:lnTo>
                        <a:pt x="1" y="87"/>
                      </a:lnTo>
                      <a:lnTo>
                        <a:pt x="0" y="91"/>
                      </a:lnTo>
                      <a:lnTo>
                        <a:pt x="0" y="94"/>
                      </a:lnTo>
                      <a:lnTo>
                        <a:pt x="1" y="97"/>
                      </a:lnTo>
                      <a:lnTo>
                        <a:pt x="5" y="100"/>
                      </a:lnTo>
                      <a:lnTo>
                        <a:pt x="12" y="100"/>
                      </a:lnTo>
                      <a:lnTo>
                        <a:pt x="82" y="101"/>
                      </a:lnTo>
                      <a:lnTo>
                        <a:pt x="181" y="104"/>
                      </a:lnTo>
                      <a:lnTo>
                        <a:pt x="338" y="106"/>
                      </a:lnTo>
                      <a:lnTo>
                        <a:pt x="309" y="96"/>
                      </a:lnTo>
                      <a:lnTo>
                        <a:pt x="113" y="91"/>
                      </a:lnTo>
                      <a:lnTo>
                        <a:pt x="110" y="81"/>
                      </a:lnTo>
                      <a:lnTo>
                        <a:pt x="108" y="74"/>
                      </a:lnTo>
                      <a:lnTo>
                        <a:pt x="104" y="64"/>
                      </a:lnTo>
                      <a:lnTo>
                        <a:pt x="101" y="57"/>
                      </a:lnTo>
                      <a:lnTo>
                        <a:pt x="70" y="61"/>
                      </a:lnTo>
                      <a:lnTo>
                        <a:pt x="51" y="61"/>
                      </a:lnTo>
                      <a:lnTo>
                        <a:pt x="20" y="30"/>
                      </a:lnTo>
                      <a:lnTo>
                        <a:pt x="28" y="29"/>
                      </a:lnTo>
                      <a:lnTo>
                        <a:pt x="57" y="30"/>
                      </a:lnTo>
                      <a:lnTo>
                        <a:pt x="61" y="37"/>
                      </a:lnTo>
                      <a:lnTo>
                        <a:pt x="66" y="47"/>
                      </a:lnTo>
                      <a:lnTo>
                        <a:pt x="68" y="54"/>
                      </a:lnTo>
                      <a:lnTo>
                        <a:pt x="71" y="61"/>
                      </a:lnTo>
                      <a:lnTo>
                        <a:pt x="101" y="57"/>
                      </a:lnTo>
                      <a:lnTo>
                        <a:pt x="97" y="47"/>
                      </a:lnTo>
                      <a:lnTo>
                        <a:pt x="91" y="36"/>
                      </a:lnTo>
                      <a:lnTo>
                        <a:pt x="86" y="28"/>
                      </a:lnTo>
                      <a:lnTo>
                        <a:pt x="179" y="31"/>
                      </a:lnTo>
                      <a:lnTo>
                        <a:pt x="204" y="33"/>
                      </a:lnTo>
                      <a:lnTo>
                        <a:pt x="212" y="33"/>
                      </a:lnTo>
                      <a:lnTo>
                        <a:pt x="225" y="40"/>
                      </a:lnTo>
                      <a:lnTo>
                        <a:pt x="243" y="50"/>
                      </a:lnTo>
                      <a:lnTo>
                        <a:pt x="261" y="62"/>
                      </a:lnTo>
                      <a:lnTo>
                        <a:pt x="278" y="74"/>
                      </a:lnTo>
                      <a:lnTo>
                        <a:pt x="296" y="86"/>
                      </a:lnTo>
                      <a:lnTo>
                        <a:pt x="309" y="96"/>
                      </a:lnTo>
                      <a:lnTo>
                        <a:pt x="338" y="106"/>
                      </a:lnTo>
                      <a:lnTo>
                        <a:pt x="360" y="107"/>
                      </a:lnTo>
                      <a:lnTo>
                        <a:pt x="345" y="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6045120" y="4689360"/>
                  <a:ext cx="495360" cy="136800"/>
                </a:xfrm>
                <a:custGeom>
                  <a:avLst/>
                  <a:gdLst/>
                  <a:ahLst/>
                  <a:rect l="l" t="t" r="r" b="b"/>
                  <a:pathLst>
                    <a:path w="312" h="86">
                      <a:moveTo>
                        <a:pt x="295" y="1"/>
                      </a:moveTo>
                      <a:lnTo>
                        <a:pt x="300" y="1"/>
                      </a:lnTo>
                      <a:lnTo>
                        <a:pt x="305" y="3"/>
                      </a:lnTo>
                      <a:lnTo>
                        <a:pt x="308" y="5"/>
                      </a:lnTo>
                      <a:lnTo>
                        <a:pt x="310" y="8"/>
                      </a:lnTo>
                      <a:lnTo>
                        <a:pt x="311" y="13"/>
                      </a:lnTo>
                      <a:lnTo>
                        <a:pt x="310" y="17"/>
                      </a:lnTo>
                      <a:lnTo>
                        <a:pt x="307" y="26"/>
                      </a:lnTo>
                      <a:lnTo>
                        <a:pt x="304" y="34"/>
                      </a:lnTo>
                      <a:lnTo>
                        <a:pt x="298" y="31"/>
                      </a:lnTo>
                      <a:lnTo>
                        <a:pt x="290" y="31"/>
                      </a:lnTo>
                      <a:lnTo>
                        <a:pt x="278" y="31"/>
                      </a:lnTo>
                      <a:lnTo>
                        <a:pt x="259" y="31"/>
                      </a:lnTo>
                      <a:lnTo>
                        <a:pt x="255" y="34"/>
                      </a:lnTo>
                      <a:lnTo>
                        <a:pt x="253" y="39"/>
                      </a:lnTo>
                      <a:lnTo>
                        <a:pt x="250" y="45"/>
                      </a:lnTo>
                      <a:lnTo>
                        <a:pt x="248" y="49"/>
                      </a:lnTo>
                      <a:lnTo>
                        <a:pt x="245" y="56"/>
                      </a:lnTo>
                      <a:lnTo>
                        <a:pt x="242" y="62"/>
                      </a:lnTo>
                      <a:lnTo>
                        <a:pt x="240" y="68"/>
                      </a:lnTo>
                      <a:lnTo>
                        <a:pt x="240" y="72"/>
                      </a:lnTo>
                      <a:lnTo>
                        <a:pt x="238" y="83"/>
                      </a:lnTo>
                      <a:lnTo>
                        <a:pt x="212" y="85"/>
                      </a:lnTo>
                      <a:lnTo>
                        <a:pt x="198" y="85"/>
                      </a:lnTo>
                      <a:lnTo>
                        <a:pt x="202" y="69"/>
                      </a:lnTo>
                      <a:lnTo>
                        <a:pt x="204" y="61"/>
                      </a:lnTo>
                      <a:lnTo>
                        <a:pt x="207" y="53"/>
                      </a:lnTo>
                      <a:lnTo>
                        <a:pt x="210" y="46"/>
                      </a:lnTo>
                      <a:lnTo>
                        <a:pt x="215" y="34"/>
                      </a:lnTo>
                      <a:lnTo>
                        <a:pt x="207" y="35"/>
                      </a:lnTo>
                      <a:lnTo>
                        <a:pt x="198" y="37"/>
                      </a:lnTo>
                      <a:lnTo>
                        <a:pt x="189" y="41"/>
                      </a:lnTo>
                      <a:lnTo>
                        <a:pt x="180" y="47"/>
                      </a:lnTo>
                      <a:lnTo>
                        <a:pt x="171" y="53"/>
                      </a:lnTo>
                      <a:lnTo>
                        <a:pt x="163" y="59"/>
                      </a:lnTo>
                      <a:lnTo>
                        <a:pt x="156" y="67"/>
                      </a:lnTo>
                      <a:lnTo>
                        <a:pt x="142" y="85"/>
                      </a:lnTo>
                      <a:lnTo>
                        <a:pt x="71" y="85"/>
                      </a:lnTo>
                      <a:lnTo>
                        <a:pt x="0" y="85"/>
                      </a:lnTo>
                      <a:lnTo>
                        <a:pt x="64" y="47"/>
                      </a:lnTo>
                      <a:lnTo>
                        <a:pt x="99" y="27"/>
                      </a:lnTo>
                      <a:lnTo>
                        <a:pt x="120" y="16"/>
                      </a:lnTo>
                      <a:lnTo>
                        <a:pt x="136" y="9"/>
                      </a:lnTo>
                      <a:lnTo>
                        <a:pt x="145" y="7"/>
                      </a:lnTo>
                      <a:lnTo>
                        <a:pt x="157" y="5"/>
                      </a:lnTo>
                      <a:lnTo>
                        <a:pt x="199" y="4"/>
                      </a:lnTo>
                      <a:lnTo>
                        <a:pt x="262" y="0"/>
                      </a:lnTo>
                      <a:lnTo>
                        <a:pt x="290" y="0"/>
                      </a:lnTo>
                      <a:lnTo>
                        <a:pt x="295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3" name=""/>
              <p:cNvSpPr/>
              <p:nvPr/>
            </p:nvSpPr>
            <p:spPr>
              <a:xfrm>
                <a:off x="5703840" y="4676760"/>
                <a:ext cx="1992240" cy="536760"/>
              </a:xfrm>
              <a:custGeom>
                <a:avLst/>
                <a:gdLst/>
                <a:ahLst/>
                <a:rect l="l" t="t" r="r" b="b"/>
                <a:pathLst>
                  <a:path w="1255" h="338">
                    <a:moveTo>
                      <a:pt x="1238" y="219"/>
                    </a:moveTo>
                    <a:lnTo>
                      <a:pt x="1222" y="182"/>
                    </a:lnTo>
                    <a:lnTo>
                      <a:pt x="1218" y="175"/>
                    </a:lnTo>
                    <a:lnTo>
                      <a:pt x="1211" y="169"/>
                    </a:lnTo>
                    <a:lnTo>
                      <a:pt x="1202" y="165"/>
                    </a:lnTo>
                    <a:lnTo>
                      <a:pt x="1171" y="155"/>
                    </a:lnTo>
                    <a:lnTo>
                      <a:pt x="1123" y="144"/>
                    </a:lnTo>
                    <a:lnTo>
                      <a:pt x="1070" y="133"/>
                    </a:lnTo>
                    <a:lnTo>
                      <a:pt x="1022" y="123"/>
                    </a:lnTo>
                    <a:lnTo>
                      <a:pt x="975" y="115"/>
                    </a:lnTo>
                    <a:lnTo>
                      <a:pt x="966" y="128"/>
                    </a:lnTo>
                    <a:lnTo>
                      <a:pt x="951" y="131"/>
                    </a:lnTo>
                    <a:lnTo>
                      <a:pt x="932" y="131"/>
                    </a:lnTo>
                    <a:lnTo>
                      <a:pt x="869" y="129"/>
                    </a:lnTo>
                    <a:lnTo>
                      <a:pt x="773" y="128"/>
                    </a:lnTo>
                    <a:lnTo>
                      <a:pt x="647" y="125"/>
                    </a:lnTo>
                    <a:lnTo>
                      <a:pt x="614" y="125"/>
                    </a:lnTo>
                    <a:lnTo>
                      <a:pt x="608" y="124"/>
                    </a:lnTo>
                    <a:lnTo>
                      <a:pt x="605" y="121"/>
                    </a:lnTo>
                    <a:lnTo>
                      <a:pt x="603" y="117"/>
                    </a:lnTo>
                    <a:lnTo>
                      <a:pt x="603" y="113"/>
                    </a:lnTo>
                    <a:lnTo>
                      <a:pt x="604" y="110"/>
                    </a:lnTo>
                    <a:lnTo>
                      <a:pt x="605" y="107"/>
                    </a:lnTo>
                    <a:lnTo>
                      <a:pt x="606" y="102"/>
                    </a:lnTo>
                    <a:lnTo>
                      <a:pt x="615" y="48"/>
                    </a:lnTo>
                    <a:lnTo>
                      <a:pt x="620" y="32"/>
                    </a:lnTo>
                    <a:lnTo>
                      <a:pt x="623" y="24"/>
                    </a:lnTo>
                    <a:lnTo>
                      <a:pt x="628" y="19"/>
                    </a:lnTo>
                    <a:lnTo>
                      <a:pt x="633" y="17"/>
                    </a:lnTo>
                    <a:lnTo>
                      <a:pt x="641" y="16"/>
                    </a:lnTo>
                    <a:lnTo>
                      <a:pt x="658" y="16"/>
                    </a:lnTo>
                    <a:lnTo>
                      <a:pt x="701" y="17"/>
                    </a:lnTo>
                    <a:lnTo>
                      <a:pt x="738" y="19"/>
                    </a:lnTo>
                    <a:lnTo>
                      <a:pt x="782" y="24"/>
                    </a:lnTo>
                    <a:lnTo>
                      <a:pt x="794" y="25"/>
                    </a:lnTo>
                    <a:lnTo>
                      <a:pt x="805" y="27"/>
                    </a:lnTo>
                    <a:lnTo>
                      <a:pt x="814" y="30"/>
                    </a:lnTo>
                    <a:lnTo>
                      <a:pt x="824" y="33"/>
                    </a:lnTo>
                    <a:lnTo>
                      <a:pt x="834" y="39"/>
                    </a:lnTo>
                    <a:lnTo>
                      <a:pt x="876" y="65"/>
                    </a:lnTo>
                    <a:lnTo>
                      <a:pt x="967" y="123"/>
                    </a:lnTo>
                    <a:lnTo>
                      <a:pt x="972" y="116"/>
                    </a:lnTo>
                    <a:lnTo>
                      <a:pt x="918" y="81"/>
                    </a:lnTo>
                    <a:lnTo>
                      <a:pt x="884" y="59"/>
                    </a:lnTo>
                    <a:lnTo>
                      <a:pt x="834" y="29"/>
                    </a:lnTo>
                    <a:lnTo>
                      <a:pt x="823" y="24"/>
                    </a:lnTo>
                    <a:lnTo>
                      <a:pt x="814" y="20"/>
                    </a:lnTo>
                    <a:lnTo>
                      <a:pt x="805" y="18"/>
                    </a:lnTo>
                    <a:lnTo>
                      <a:pt x="798" y="16"/>
                    </a:lnTo>
                    <a:lnTo>
                      <a:pt x="785" y="14"/>
                    </a:lnTo>
                    <a:lnTo>
                      <a:pt x="763" y="11"/>
                    </a:lnTo>
                    <a:lnTo>
                      <a:pt x="696" y="4"/>
                    </a:lnTo>
                    <a:lnTo>
                      <a:pt x="633" y="0"/>
                    </a:lnTo>
                    <a:lnTo>
                      <a:pt x="573" y="0"/>
                    </a:lnTo>
                    <a:lnTo>
                      <a:pt x="518" y="0"/>
                    </a:lnTo>
                    <a:lnTo>
                      <a:pt x="484" y="1"/>
                    </a:lnTo>
                    <a:lnTo>
                      <a:pt x="432" y="4"/>
                    </a:lnTo>
                    <a:lnTo>
                      <a:pt x="399" y="6"/>
                    </a:lnTo>
                    <a:lnTo>
                      <a:pt x="385" y="8"/>
                    </a:lnTo>
                    <a:lnTo>
                      <a:pt x="373" y="10"/>
                    </a:lnTo>
                    <a:lnTo>
                      <a:pt x="362" y="13"/>
                    </a:lnTo>
                    <a:lnTo>
                      <a:pt x="354" y="16"/>
                    </a:lnTo>
                    <a:lnTo>
                      <a:pt x="365" y="14"/>
                    </a:lnTo>
                    <a:lnTo>
                      <a:pt x="375" y="14"/>
                    </a:lnTo>
                    <a:lnTo>
                      <a:pt x="389" y="13"/>
                    </a:lnTo>
                    <a:lnTo>
                      <a:pt x="412" y="11"/>
                    </a:lnTo>
                    <a:lnTo>
                      <a:pt x="443" y="9"/>
                    </a:lnTo>
                    <a:lnTo>
                      <a:pt x="491" y="7"/>
                    </a:lnTo>
                    <a:lnTo>
                      <a:pt x="505" y="8"/>
                    </a:lnTo>
                    <a:lnTo>
                      <a:pt x="514" y="9"/>
                    </a:lnTo>
                    <a:lnTo>
                      <a:pt x="519" y="11"/>
                    </a:lnTo>
                    <a:lnTo>
                      <a:pt x="522" y="13"/>
                    </a:lnTo>
                    <a:lnTo>
                      <a:pt x="525" y="16"/>
                    </a:lnTo>
                    <a:lnTo>
                      <a:pt x="526" y="19"/>
                    </a:lnTo>
                    <a:lnTo>
                      <a:pt x="526" y="23"/>
                    </a:lnTo>
                    <a:lnTo>
                      <a:pt x="525" y="28"/>
                    </a:lnTo>
                    <a:lnTo>
                      <a:pt x="506" y="79"/>
                    </a:lnTo>
                    <a:lnTo>
                      <a:pt x="501" y="88"/>
                    </a:lnTo>
                    <a:lnTo>
                      <a:pt x="498" y="91"/>
                    </a:lnTo>
                    <a:lnTo>
                      <a:pt x="495" y="94"/>
                    </a:lnTo>
                    <a:lnTo>
                      <a:pt x="492" y="97"/>
                    </a:lnTo>
                    <a:lnTo>
                      <a:pt x="487" y="99"/>
                    </a:lnTo>
                    <a:lnTo>
                      <a:pt x="482" y="100"/>
                    </a:lnTo>
                    <a:lnTo>
                      <a:pt x="474" y="100"/>
                    </a:lnTo>
                    <a:lnTo>
                      <a:pt x="462" y="101"/>
                    </a:lnTo>
                    <a:lnTo>
                      <a:pt x="437" y="101"/>
                    </a:lnTo>
                    <a:lnTo>
                      <a:pt x="399" y="102"/>
                    </a:lnTo>
                    <a:lnTo>
                      <a:pt x="368" y="102"/>
                    </a:lnTo>
                    <a:lnTo>
                      <a:pt x="330" y="102"/>
                    </a:lnTo>
                    <a:lnTo>
                      <a:pt x="288" y="102"/>
                    </a:lnTo>
                    <a:lnTo>
                      <a:pt x="242" y="102"/>
                    </a:lnTo>
                    <a:lnTo>
                      <a:pt x="218" y="102"/>
                    </a:lnTo>
                    <a:lnTo>
                      <a:pt x="206" y="101"/>
                    </a:lnTo>
                    <a:lnTo>
                      <a:pt x="184" y="103"/>
                    </a:lnTo>
                    <a:lnTo>
                      <a:pt x="156" y="105"/>
                    </a:lnTo>
                    <a:lnTo>
                      <a:pt x="132" y="107"/>
                    </a:lnTo>
                    <a:lnTo>
                      <a:pt x="110" y="110"/>
                    </a:lnTo>
                    <a:lnTo>
                      <a:pt x="70" y="116"/>
                    </a:lnTo>
                    <a:lnTo>
                      <a:pt x="59" y="118"/>
                    </a:lnTo>
                    <a:lnTo>
                      <a:pt x="55" y="120"/>
                    </a:lnTo>
                    <a:lnTo>
                      <a:pt x="49" y="124"/>
                    </a:lnTo>
                    <a:lnTo>
                      <a:pt x="44" y="130"/>
                    </a:lnTo>
                    <a:lnTo>
                      <a:pt x="41" y="135"/>
                    </a:lnTo>
                    <a:lnTo>
                      <a:pt x="38" y="142"/>
                    </a:lnTo>
                    <a:lnTo>
                      <a:pt x="36" y="151"/>
                    </a:lnTo>
                    <a:lnTo>
                      <a:pt x="34" y="160"/>
                    </a:lnTo>
                    <a:lnTo>
                      <a:pt x="38" y="160"/>
                    </a:lnTo>
                    <a:lnTo>
                      <a:pt x="38" y="185"/>
                    </a:lnTo>
                    <a:lnTo>
                      <a:pt x="39" y="199"/>
                    </a:lnTo>
                    <a:lnTo>
                      <a:pt x="40" y="203"/>
                    </a:lnTo>
                    <a:lnTo>
                      <a:pt x="33" y="209"/>
                    </a:lnTo>
                    <a:lnTo>
                      <a:pt x="33" y="216"/>
                    </a:lnTo>
                    <a:lnTo>
                      <a:pt x="36" y="219"/>
                    </a:lnTo>
                    <a:lnTo>
                      <a:pt x="39" y="222"/>
                    </a:lnTo>
                    <a:lnTo>
                      <a:pt x="40" y="224"/>
                    </a:lnTo>
                    <a:lnTo>
                      <a:pt x="25" y="227"/>
                    </a:lnTo>
                    <a:lnTo>
                      <a:pt x="17" y="230"/>
                    </a:lnTo>
                    <a:lnTo>
                      <a:pt x="9" y="234"/>
                    </a:lnTo>
                    <a:lnTo>
                      <a:pt x="2" y="238"/>
                    </a:lnTo>
                    <a:lnTo>
                      <a:pt x="0" y="252"/>
                    </a:lnTo>
                    <a:lnTo>
                      <a:pt x="12" y="287"/>
                    </a:lnTo>
                    <a:lnTo>
                      <a:pt x="15" y="294"/>
                    </a:lnTo>
                    <a:lnTo>
                      <a:pt x="19" y="299"/>
                    </a:lnTo>
                    <a:lnTo>
                      <a:pt x="24" y="302"/>
                    </a:lnTo>
                    <a:lnTo>
                      <a:pt x="32" y="304"/>
                    </a:lnTo>
                    <a:lnTo>
                      <a:pt x="69" y="306"/>
                    </a:lnTo>
                    <a:lnTo>
                      <a:pt x="95" y="307"/>
                    </a:lnTo>
                    <a:lnTo>
                      <a:pt x="130" y="311"/>
                    </a:lnTo>
                    <a:lnTo>
                      <a:pt x="161" y="315"/>
                    </a:lnTo>
                    <a:lnTo>
                      <a:pt x="182" y="320"/>
                    </a:lnTo>
                    <a:lnTo>
                      <a:pt x="211" y="322"/>
                    </a:lnTo>
                    <a:lnTo>
                      <a:pt x="242" y="324"/>
                    </a:lnTo>
                    <a:lnTo>
                      <a:pt x="280" y="326"/>
                    </a:lnTo>
                    <a:lnTo>
                      <a:pt x="342" y="327"/>
                    </a:lnTo>
                    <a:lnTo>
                      <a:pt x="431" y="331"/>
                    </a:lnTo>
                    <a:lnTo>
                      <a:pt x="445" y="274"/>
                    </a:lnTo>
                    <a:lnTo>
                      <a:pt x="455" y="255"/>
                    </a:lnTo>
                    <a:lnTo>
                      <a:pt x="466" y="235"/>
                    </a:lnTo>
                    <a:lnTo>
                      <a:pt x="478" y="223"/>
                    </a:lnTo>
                    <a:lnTo>
                      <a:pt x="493" y="213"/>
                    </a:lnTo>
                    <a:lnTo>
                      <a:pt x="515" y="205"/>
                    </a:lnTo>
                    <a:lnTo>
                      <a:pt x="540" y="201"/>
                    </a:lnTo>
                    <a:lnTo>
                      <a:pt x="563" y="202"/>
                    </a:lnTo>
                    <a:lnTo>
                      <a:pt x="582" y="207"/>
                    </a:lnTo>
                    <a:lnTo>
                      <a:pt x="598" y="214"/>
                    </a:lnTo>
                    <a:lnTo>
                      <a:pt x="606" y="221"/>
                    </a:lnTo>
                    <a:lnTo>
                      <a:pt x="613" y="229"/>
                    </a:lnTo>
                    <a:lnTo>
                      <a:pt x="621" y="245"/>
                    </a:lnTo>
                    <a:lnTo>
                      <a:pt x="629" y="264"/>
                    </a:lnTo>
                    <a:lnTo>
                      <a:pt x="633" y="284"/>
                    </a:lnTo>
                    <a:lnTo>
                      <a:pt x="633" y="306"/>
                    </a:lnTo>
                    <a:lnTo>
                      <a:pt x="629" y="337"/>
                    </a:lnTo>
                    <a:lnTo>
                      <a:pt x="1023" y="313"/>
                    </a:lnTo>
                    <a:lnTo>
                      <a:pt x="1030" y="299"/>
                    </a:lnTo>
                    <a:lnTo>
                      <a:pt x="1035" y="284"/>
                    </a:lnTo>
                    <a:lnTo>
                      <a:pt x="1038" y="272"/>
                    </a:lnTo>
                    <a:lnTo>
                      <a:pt x="1041" y="260"/>
                    </a:lnTo>
                    <a:lnTo>
                      <a:pt x="1043" y="246"/>
                    </a:lnTo>
                    <a:lnTo>
                      <a:pt x="1048" y="234"/>
                    </a:lnTo>
                    <a:lnTo>
                      <a:pt x="1052" y="224"/>
                    </a:lnTo>
                    <a:lnTo>
                      <a:pt x="1057" y="216"/>
                    </a:lnTo>
                    <a:lnTo>
                      <a:pt x="1064" y="209"/>
                    </a:lnTo>
                    <a:lnTo>
                      <a:pt x="1070" y="201"/>
                    </a:lnTo>
                    <a:lnTo>
                      <a:pt x="1076" y="196"/>
                    </a:lnTo>
                    <a:lnTo>
                      <a:pt x="1086" y="193"/>
                    </a:lnTo>
                    <a:lnTo>
                      <a:pt x="1100" y="191"/>
                    </a:lnTo>
                    <a:lnTo>
                      <a:pt x="1114" y="191"/>
                    </a:lnTo>
                    <a:lnTo>
                      <a:pt x="1128" y="193"/>
                    </a:lnTo>
                    <a:lnTo>
                      <a:pt x="1137" y="196"/>
                    </a:lnTo>
                    <a:lnTo>
                      <a:pt x="1145" y="204"/>
                    </a:lnTo>
                    <a:lnTo>
                      <a:pt x="1152" y="211"/>
                    </a:lnTo>
                    <a:lnTo>
                      <a:pt x="1158" y="221"/>
                    </a:lnTo>
                    <a:lnTo>
                      <a:pt x="1162" y="232"/>
                    </a:lnTo>
                    <a:lnTo>
                      <a:pt x="1164" y="241"/>
                    </a:lnTo>
                    <a:lnTo>
                      <a:pt x="1165" y="257"/>
                    </a:lnTo>
                    <a:lnTo>
                      <a:pt x="1166" y="268"/>
                    </a:lnTo>
                    <a:lnTo>
                      <a:pt x="1165" y="283"/>
                    </a:lnTo>
                    <a:lnTo>
                      <a:pt x="1166" y="300"/>
                    </a:lnTo>
                    <a:lnTo>
                      <a:pt x="1219" y="298"/>
                    </a:lnTo>
                    <a:lnTo>
                      <a:pt x="1223" y="296"/>
                    </a:lnTo>
                    <a:lnTo>
                      <a:pt x="1226" y="292"/>
                    </a:lnTo>
                    <a:lnTo>
                      <a:pt x="1229" y="281"/>
                    </a:lnTo>
                    <a:lnTo>
                      <a:pt x="1235" y="277"/>
                    </a:lnTo>
                    <a:lnTo>
                      <a:pt x="1241" y="272"/>
                    </a:lnTo>
                    <a:lnTo>
                      <a:pt x="1248" y="263"/>
                    </a:lnTo>
                    <a:lnTo>
                      <a:pt x="1249" y="246"/>
                    </a:lnTo>
                    <a:lnTo>
                      <a:pt x="1254" y="243"/>
                    </a:lnTo>
                    <a:lnTo>
                      <a:pt x="1253" y="229"/>
                    </a:lnTo>
                    <a:lnTo>
                      <a:pt x="1238" y="219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561440" y="5040360"/>
                <a:ext cx="134640" cy="15840"/>
              </a:xfrm>
              <a:custGeom>
                <a:avLst/>
                <a:gdLst/>
                <a:ahLst/>
                <a:rect l="l" t="t" r="r" b="b"/>
                <a:pathLst>
                  <a:path w="85" h="10">
                    <a:moveTo>
                      <a:pt x="82" y="0"/>
                    </a:moveTo>
                    <a:lnTo>
                      <a:pt x="84" y="3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3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31" y="1"/>
                    </a:lnTo>
                    <a:lnTo>
                      <a:pt x="70" y="1"/>
                    </a:lnTo>
                    <a:lnTo>
                      <a:pt x="8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5" name=""/>
              <p:cNvGrpSpPr/>
              <p:nvPr/>
            </p:nvGrpSpPr>
            <p:grpSpPr>
              <a:xfrm>
                <a:off x="5767560" y="4681440"/>
                <a:ext cx="1928160" cy="514440"/>
                <a:chOff x="5767560" y="4681440"/>
                <a:chExt cx="1928160" cy="51444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6195960" y="4916520"/>
                  <a:ext cx="1446120" cy="46080"/>
                </a:xfrm>
                <a:custGeom>
                  <a:avLst/>
                  <a:gdLst/>
                  <a:ahLst/>
                  <a:rect l="l" t="t" r="r" b="b"/>
                  <a:pathLst>
                    <a:path w="911" h="29">
                      <a:moveTo>
                        <a:pt x="910" y="28"/>
                      </a:moveTo>
                      <a:lnTo>
                        <a:pt x="883" y="24"/>
                      </a:lnTo>
                      <a:lnTo>
                        <a:pt x="856" y="19"/>
                      </a:lnTo>
                      <a:lnTo>
                        <a:pt x="829" y="16"/>
                      </a:lnTo>
                      <a:lnTo>
                        <a:pt x="754" y="11"/>
                      </a:lnTo>
                      <a:lnTo>
                        <a:pt x="642" y="6"/>
                      </a:lnTo>
                      <a:lnTo>
                        <a:pt x="315" y="0"/>
                      </a:lnTo>
                      <a:lnTo>
                        <a:pt x="198" y="0"/>
                      </a:lnTo>
                      <a:lnTo>
                        <a:pt x="26" y="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H="1">
                  <a:off x="7536960" y="5075280"/>
                  <a:ext cx="158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8" name=""/>
                <p:cNvGrpSpPr/>
                <p:nvPr/>
              </p:nvGrpSpPr>
              <p:grpSpPr>
                <a:xfrm>
                  <a:off x="5767560" y="4681440"/>
                  <a:ext cx="1601280" cy="514440"/>
                  <a:chOff x="5767560" y="4681440"/>
                  <a:chExt cx="1601280" cy="514440"/>
                </a:xfrm>
              </p:grpSpPr>
              <p:sp>
                <p:nvSpPr>
                  <p:cNvPr id="2219" name=""/>
                  <p:cNvSpPr/>
                  <p:nvPr/>
                </p:nvSpPr>
                <p:spPr>
                  <a:xfrm>
                    <a:off x="6002280" y="4681440"/>
                    <a:ext cx="5479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">
                        <a:moveTo>
                          <a:pt x="192" y="7"/>
                        </a:moveTo>
                        <a:lnTo>
                          <a:pt x="224" y="5"/>
                        </a:lnTo>
                        <a:lnTo>
                          <a:pt x="261" y="2"/>
                        </a:lnTo>
                        <a:lnTo>
                          <a:pt x="300" y="1"/>
                        </a:lnTo>
                        <a:lnTo>
                          <a:pt x="316" y="0"/>
                        </a:lnTo>
                        <a:lnTo>
                          <a:pt x="326" y="1"/>
                        </a:lnTo>
                        <a:lnTo>
                          <a:pt x="334" y="3"/>
                        </a:lnTo>
                        <a:lnTo>
                          <a:pt x="339" y="6"/>
                        </a:lnTo>
                        <a:lnTo>
                          <a:pt x="342" y="10"/>
                        </a:lnTo>
                        <a:lnTo>
                          <a:pt x="344" y="16"/>
                        </a:lnTo>
                        <a:lnTo>
                          <a:pt x="344" y="22"/>
                        </a:lnTo>
                        <a:lnTo>
                          <a:pt x="325" y="76"/>
                        </a:lnTo>
                        <a:lnTo>
                          <a:pt x="322" y="81"/>
                        </a:lnTo>
                        <a:lnTo>
                          <a:pt x="319" y="87"/>
                        </a:lnTo>
                        <a:lnTo>
                          <a:pt x="315" y="92"/>
                        </a:lnTo>
                        <a:lnTo>
                          <a:pt x="310" y="97"/>
                        </a:lnTo>
                        <a:lnTo>
                          <a:pt x="304" y="100"/>
                        </a:lnTo>
                        <a:lnTo>
                          <a:pt x="297" y="103"/>
                        </a:lnTo>
                        <a:lnTo>
                          <a:pt x="286" y="104"/>
                        </a:lnTo>
                        <a:lnTo>
                          <a:pt x="185" y="103"/>
                        </a:lnTo>
                        <a:lnTo>
                          <a:pt x="132" y="102"/>
                        </a:lnTo>
                        <a:lnTo>
                          <a:pt x="82" y="102"/>
                        </a:lnTo>
                        <a:lnTo>
                          <a:pt x="0" y="10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6804000" y="4861080"/>
                    <a:ext cx="51444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208">
                        <a:moveTo>
                          <a:pt x="279" y="0"/>
                        </a:moveTo>
                        <a:lnTo>
                          <a:pt x="291" y="11"/>
                        </a:lnTo>
                        <a:lnTo>
                          <a:pt x="298" y="19"/>
                        </a:lnTo>
                        <a:lnTo>
                          <a:pt x="303" y="25"/>
                        </a:lnTo>
                        <a:lnTo>
                          <a:pt x="308" y="31"/>
                        </a:lnTo>
                        <a:lnTo>
                          <a:pt x="312" y="38"/>
                        </a:lnTo>
                        <a:lnTo>
                          <a:pt x="315" y="44"/>
                        </a:lnTo>
                        <a:lnTo>
                          <a:pt x="319" y="65"/>
                        </a:lnTo>
                        <a:lnTo>
                          <a:pt x="321" y="87"/>
                        </a:lnTo>
                        <a:lnTo>
                          <a:pt x="323" y="104"/>
                        </a:lnTo>
                        <a:lnTo>
                          <a:pt x="323" y="114"/>
                        </a:lnTo>
                        <a:lnTo>
                          <a:pt x="323" y="132"/>
                        </a:lnTo>
                        <a:lnTo>
                          <a:pt x="321" y="147"/>
                        </a:lnTo>
                        <a:lnTo>
                          <a:pt x="318" y="160"/>
                        </a:lnTo>
                        <a:lnTo>
                          <a:pt x="316" y="171"/>
                        </a:lnTo>
                        <a:lnTo>
                          <a:pt x="312" y="181"/>
                        </a:lnTo>
                        <a:lnTo>
                          <a:pt x="308" y="190"/>
                        </a:lnTo>
                        <a:lnTo>
                          <a:pt x="256" y="193"/>
                        </a:lnTo>
                        <a:lnTo>
                          <a:pt x="0" y="207"/>
                        </a:lnTo>
                        <a:lnTo>
                          <a:pt x="7" y="165"/>
                        </a:lnTo>
                        <a:lnTo>
                          <a:pt x="11" y="122"/>
                        </a:lnTo>
                        <a:lnTo>
                          <a:pt x="13" y="39"/>
                        </a:lnTo>
                        <a:lnTo>
                          <a:pt x="12" y="32"/>
                        </a:lnTo>
                        <a:lnTo>
                          <a:pt x="10" y="23"/>
                        </a:lnTo>
                        <a:lnTo>
                          <a:pt x="7" y="15"/>
                        </a:lnTo>
                        <a:lnTo>
                          <a:pt x="2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6648480" y="4695840"/>
                    <a:ext cx="61740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28">
                        <a:moveTo>
                          <a:pt x="220" y="15"/>
                        </a:moveTo>
                        <a:lnTo>
                          <a:pt x="239" y="24"/>
                        </a:lnTo>
                        <a:lnTo>
                          <a:pt x="257" y="34"/>
                        </a:lnTo>
                        <a:lnTo>
                          <a:pt x="275" y="46"/>
                        </a:lnTo>
                        <a:lnTo>
                          <a:pt x="293" y="57"/>
                        </a:lnTo>
                        <a:lnTo>
                          <a:pt x="310" y="69"/>
                        </a:lnTo>
                        <a:lnTo>
                          <a:pt x="329" y="80"/>
                        </a:lnTo>
                        <a:lnTo>
                          <a:pt x="348" y="92"/>
                        </a:lnTo>
                        <a:lnTo>
                          <a:pt x="365" y="104"/>
                        </a:lnTo>
                        <a:lnTo>
                          <a:pt x="377" y="114"/>
                        </a:lnTo>
                        <a:lnTo>
                          <a:pt x="388" y="126"/>
                        </a:lnTo>
                        <a:lnTo>
                          <a:pt x="327" y="127"/>
                        </a:lnTo>
                        <a:lnTo>
                          <a:pt x="107" y="124"/>
                        </a:lnTo>
                        <a:lnTo>
                          <a:pt x="20" y="123"/>
                        </a:lnTo>
                        <a:lnTo>
                          <a:pt x="13" y="122"/>
                        </a:lnTo>
                        <a:lnTo>
                          <a:pt x="7" y="120"/>
                        </a:lnTo>
                        <a:lnTo>
                          <a:pt x="2" y="116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0" y="100"/>
                        </a:lnTo>
                        <a:lnTo>
                          <a:pt x="2" y="94"/>
                        </a:lnTo>
                        <a:lnTo>
                          <a:pt x="17" y="24"/>
                        </a:lnTo>
                        <a:lnTo>
                          <a:pt x="19" y="18"/>
                        </a:lnTo>
                        <a:lnTo>
                          <a:pt x="20" y="14"/>
                        </a:lnTo>
                        <a:lnTo>
                          <a:pt x="23" y="9"/>
                        </a:lnTo>
                        <a:lnTo>
                          <a:pt x="26" y="6"/>
                        </a:lnTo>
                        <a:lnTo>
                          <a:pt x="30" y="2"/>
                        </a:lnTo>
                        <a:lnTo>
                          <a:pt x="34" y="1"/>
                        </a:lnTo>
                        <a:lnTo>
                          <a:pt x="41" y="0"/>
                        </a:lnTo>
                        <a:lnTo>
                          <a:pt x="51" y="0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 flipH="1">
                    <a:off x="6684480" y="5079960"/>
                    <a:ext cx="684360" cy="9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3" name=""/>
                  <p:cNvGrpSpPr/>
                  <p:nvPr/>
                </p:nvGrpSpPr>
                <p:grpSpPr>
                  <a:xfrm>
                    <a:off x="5767560" y="4846680"/>
                    <a:ext cx="685800" cy="349200"/>
                    <a:chOff x="5767560" y="4846680"/>
                    <a:chExt cx="685800" cy="349200"/>
                  </a:xfrm>
                </p:grpSpPr>
                <p:sp>
                  <p:nvSpPr>
                    <p:cNvPr id="2224" name=""/>
                    <p:cNvSpPr/>
                    <p:nvPr/>
                  </p:nvSpPr>
                  <p:spPr>
                    <a:xfrm>
                      <a:off x="6103800" y="4846680"/>
                      <a:ext cx="3495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57">
                          <a:moveTo>
                            <a:pt x="219" y="0"/>
                          </a:moveTo>
                          <a:lnTo>
                            <a:pt x="136" y="3"/>
                          </a:lnTo>
                          <a:lnTo>
                            <a:pt x="102" y="5"/>
                          </a:lnTo>
                          <a:lnTo>
                            <a:pt x="77" y="6"/>
                          </a:lnTo>
                          <a:lnTo>
                            <a:pt x="56" y="8"/>
                          </a:lnTo>
                          <a:lnTo>
                            <a:pt x="34" y="9"/>
                          </a:lnTo>
                          <a:lnTo>
                            <a:pt x="25" y="11"/>
                          </a:lnTo>
                          <a:lnTo>
                            <a:pt x="18" y="16"/>
                          </a:lnTo>
                          <a:lnTo>
                            <a:pt x="13" y="21"/>
                          </a:lnTo>
                          <a:lnTo>
                            <a:pt x="9" y="26"/>
                          </a:lnTo>
                          <a:lnTo>
                            <a:pt x="6" y="32"/>
                          </a:lnTo>
                          <a:lnTo>
                            <a:pt x="3" y="37"/>
                          </a:lnTo>
                          <a:lnTo>
                            <a:pt x="1" y="45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5" name=""/>
                    <p:cNvSpPr/>
                    <p:nvPr/>
                  </p:nvSpPr>
                  <p:spPr>
                    <a:xfrm>
                      <a:off x="6211800" y="5094360"/>
                      <a:ext cx="3492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64">
                          <a:moveTo>
                            <a:pt x="21" y="0"/>
                          </a:moveTo>
                          <a:lnTo>
                            <a:pt x="21" y="15"/>
                          </a:lnTo>
                          <a:lnTo>
                            <a:pt x="20" y="24"/>
                          </a:lnTo>
                          <a:lnTo>
                            <a:pt x="19" y="34"/>
                          </a:lnTo>
                          <a:lnTo>
                            <a:pt x="17" y="43"/>
                          </a:lnTo>
                          <a:lnTo>
                            <a:pt x="13" y="50"/>
                          </a:lnTo>
                          <a:lnTo>
                            <a:pt x="8" y="57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6" name=""/>
                    <p:cNvSpPr/>
                    <p:nvPr/>
                  </p:nvSpPr>
                  <p:spPr>
                    <a:xfrm>
                      <a:off x="5948280" y="5092560"/>
                      <a:ext cx="4608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59">
                          <a:moveTo>
                            <a:pt x="0" y="0"/>
                          </a:moveTo>
                          <a:lnTo>
                            <a:pt x="1" y="7"/>
                          </a:lnTo>
                          <a:lnTo>
                            <a:pt x="1" y="17"/>
                          </a:lnTo>
                          <a:lnTo>
                            <a:pt x="3" y="25"/>
                          </a:lnTo>
                          <a:lnTo>
                            <a:pt x="5" y="35"/>
                          </a:lnTo>
                          <a:lnTo>
                            <a:pt x="11" y="43"/>
                          </a:lnTo>
                          <a:lnTo>
                            <a:pt x="16" y="50"/>
                          </a:lnTo>
                          <a:lnTo>
                            <a:pt x="21" y="54"/>
                          </a:lnTo>
                          <a:lnTo>
                            <a:pt x="28" y="5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>
                      <a:off x="5797440" y="4863960"/>
                      <a:ext cx="3492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2">
                          <a:moveTo>
                            <a:pt x="219" y="0"/>
                          </a:moveTo>
                          <a:lnTo>
                            <a:pt x="124" y="1"/>
                          </a:lnTo>
                          <a:lnTo>
                            <a:pt x="27" y="1"/>
                          </a:lnTo>
                          <a:lnTo>
                            <a:pt x="18" y="1"/>
                          </a:lnTo>
                          <a:lnTo>
                            <a:pt x="8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8" name=""/>
                    <p:cNvSpPr/>
                    <p:nvPr/>
                  </p:nvSpPr>
                  <p:spPr>
                    <a:xfrm>
                      <a:off x="5946840" y="5097600"/>
                      <a:ext cx="4730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7">
                          <a:moveTo>
                            <a:pt x="297" y="2"/>
                          </a:moveTo>
                          <a:lnTo>
                            <a:pt x="237" y="3"/>
                          </a:lnTo>
                          <a:lnTo>
                            <a:pt x="215" y="4"/>
                          </a:lnTo>
                          <a:lnTo>
                            <a:pt x="192" y="4"/>
                          </a:lnTo>
                          <a:lnTo>
                            <a:pt x="167" y="5"/>
                          </a:lnTo>
                          <a:lnTo>
                            <a:pt x="144" y="5"/>
                          </a:lnTo>
                          <a:lnTo>
                            <a:pt x="124" y="6"/>
                          </a:lnTo>
                          <a:lnTo>
                            <a:pt x="10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9" name=""/>
                    <p:cNvSpPr/>
                    <p:nvPr/>
                  </p:nvSpPr>
                  <p:spPr>
                    <a:xfrm>
                      <a:off x="5767560" y="5035680"/>
                      <a:ext cx="4838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8">
                          <a:moveTo>
                            <a:pt x="304" y="7"/>
                          </a:moveTo>
                          <a:lnTo>
                            <a:pt x="196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30" name=""/>
              <p:cNvSpPr/>
              <p:nvPr/>
            </p:nvSpPr>
            <p:spPr>
              <a:xfrm>
                <a:off x="6699240" y="5043600"/>
                <a:ext cx="669960" cy="28440"/>
              </a:xfrm>
              <a:custGeom>
                <a:avLst/>
                <a:gdLst/>
                <a:ahLst/>
                <a:rect l="l" t="t" r="r" b="b"/>
                <a:pathLst>
                  <a:path w="422" h="18">
                    <a:moveTo>
                      <a:pt x="421" y="0"/>
                    </a:moveTo>
                    <a:lnTo>
                      <a:pt x="214" y="2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8" y="17"/>
                    </a:lnTo>
                    <a:lnTo>
                      <a:pt x="196" y="15"/>
                    </a:lnTo>
                    <a:lnTo>
                      <a:pt x="414" y="12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719680" y="5037120"/>
                <a:ext cx="722520" cy="52560"/>
              </a:xfrm>
              <a:custGeom>
                <a:avLst/>
                <a:gdLst/>
                <a:ahLst/>
                <a:rect l="l" t="t" r="r" b="b"/>
                <a:pathLst>
                  <a:path w="455" h="33">
                    <a:moveTo>
                      <a:pt x="454" y="9"/>
                    </a:moveTo>
                    <a:lnTo>
                      <a:pt x="345" y="13"/>
                    </a:lnTo>
                    <a:lnTo>
                      <a:pt x="285" y="14"/>
                    </a:lnTo>
                    <a:lnTo>
                      <a:pt x="170" y="14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21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7" y="6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7"/>
                    </a:lnTo>
                    <a:lnTo>
                      <a:pt x="8" y="19"/>
                    </a:lnTo>
                    <a:lnTo>
                      <a:pt x="14" y="21"/>
                    </a:lnTo>
                    <a:lnTo>
                      <a:pt x="21" y="22"/>
                    </a:lnTo>
                    <a:lnTo>
                      <a:pt x="251" y="32"/>
                    </a:lnTo>
                    <a:lnTo>
                      <a:pt x="440" y="28"/>
                    </a:lnTo>
                    <a:lnTo>
                      <a:pt x="454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2" name=""/>
              <p:cNvGrpSpPr/>
              <p:nvPr/>
            </p:nvGrpSpPr>
            <p:grpSpPr>
              <a:xfrm>
                <a:off x="5746320" y="4930920"/>
                <a:ext cx="497160" cy="107640"/>
                <a:chOff x="5746320" y="4930920"/>
                <a:chExt cx="497160" cy="10764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5756400" y="4930920"/>
                  <a:ext cx="487080" cy="107640"/>
                </a:xfrm>
                <a:custGeom>
                  <a:avLst/>
                  <a:gdLst/>
                  <a:ahLst/>
                  <a:rect l="l" t="t" r="r" b="b"/>
                  <a:pathLst>
                    <a:path w="307" h="68">
                      <a:moveTo>
                        <a:pt x="306" y="64"/>
                      </a:moveTo>
                      <a:lnTo>
                        <a:pt x="291" y="26"/>
                      </a:lnTo>
                      <a:lnTo>
                        <a:pt x="285" y="0"/>
                      </a:lnTo>
                      <a:lnTo>
                        <a:pt x="5" y="0"/>
                      </a:lnTo>
                      <a:lnTo>
                        <a:pt x="6" y="34"/>
                      </a:lnTo>
                      <a:lnTo>
                        <a:pt x="6" y="39"/>
                      </a:lnTo>
                      <a:lnTo>
                        <a:pt x="6" y="44"/>
                      </a:lnTo>
                      <a:lnTo>
                        <a:pt x="0" y="49"/>
                      </a:lnTo>
                      <a:lnTo>
                        <a:pt x="0" y="58"/>
                      </a:lnTo>
                      <a:lnTo>
                        <a:pt x="130" y="64"/>
                      </a:lnTo>
                      <a:lnTo>
                        <a:pt x="220" y="67"/>
                      </a:lnTo>
                      <a:lnTo>
                        <a:pt x="306" y="64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4" name=""/>
                <p:cNvGrpSpPr/>
                <p:nvPr/>
              </p:nvGrpSpPr>
              <p:grpSpPr>
                <a:xfrm>
                  <a:off x="5746320" y="4938840"/>
                  <a:ext cx="483120" cy="55440"/>
                  <a:chOff x="5746320" y="4938840"/>
                  <a:chExt cx="483120" cy="5544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 flipH="1">
                    <a:off x="5746320" y="4938840"/>
                    <a:ext cx="476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 flipH="1">
                    <a:off x="5749560" y="4944960"/>
                    <a:ext cx="474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 flipH="1">
                    <a:off x="5748120" y="4952880"/>
                    <a:ext cx="476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H="1" flipV="1">
                    <a:off x="5748120" y="4947840"/>
                    <a:ext cx="47628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H="1">
                    <a:off x="5748480" y="4970520"/>
                    <a:ext cx="48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5765760" y="4976640"/>
                    <a:ext cx="4557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4">
                        <a:moveTo>
                          <a:pt x="286" y="0"/>
                        </a:moveTo>
                        <a:lnTo>
                          <a:pt x="233" y="3"/>
                        </a:lnTo>
                        <a:lnTo>
                          <a:pt x="215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5764320" y="4986360"/>
                    <a:ext cx="46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5">
                        <a:moveTo>
                          <a:pt x="290" y="1"/>
                        </a:moveTo>
                        <a:lnTo>
                          <a:pt x="241" y="4"/>
                        </a:lnTo>
                        <a:lnTo>
                          <a:pt x="214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2" name=""/>
              <p:cNvGrpSpPr/>
              <p:nvPr/>
            </p:nvGrpSpPr>
            <p:grpSpPr>
              <a:xfrm>
                <a:off x="5770440" y="4886280"/>
                <a:ext cx="262080" cy="265320"/>
                <a:chOff x="5770440" y="4886280"/>
                <a:chExt cx="262080" cy="265320"/>
              </a:xfrm>
            </p:grpSpPr>
            <p:sp>
              <p:nvSpPr>
                <p:cNvPr id="2243" name=""/>
                <p:cNvSpPr/>
                <p:nvPr/>
              </p:nvSpPr>
              <p:spPr>
                <a:xfrm>
                  <a:off x="5821200" y="5083200"/>
                  <a:ext cx="24120" cy="68400"/>
                </a:xfrm>
                <a:custGeom>
                  <a:avLst/>
                  <a:gdLst/>
                  <a:ahLst/>
                  <a:rect l="l" t="t" r="r" b="b"/>
                  <a:pathLst>
                    <a:path w="15" h="43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18"/>
                      </a:lnTo>
                      <a:lnTo>
                        <a:pt x="3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4" y="42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4" name=""/>
                <p:cNvGrpSpPr/>
                <p:nvPr/>
              </p:nvGrpSpPr>
              <p:grpSpPr>
                <a:xfrm>
                  <a:off x="5770440" y="4886280"/>
                  <a:ext cx="262080" cy="257400"/>
                  <a:chOff x="5770440" y="4886280"/>
                  <a:chExt cx="262080" cy="257400"/>
                </a:xfrm>
              </p:grpSpPr>
              <p:sp>
                <p:nvSpPr>
                  <p:cNvPr id="2245" name=""/>
                  <p:cNvSpPr/>
                  <p:nvPr/>
                </p:nvSpPr>
                <p:spPr>
                  <a:xfrm>
                    <a:off x="5978520" y="5105520"/>
                    <a:ext cx="54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4">
                        <a:moveTo>
                          <a:pt x="26" y="1"/>
                        </a:moveTo>
                        <a:lnTo>
                          <a:pt x="26" y="7"/>
                        </a:lnTo>
                        <a:lnTo>
                          <a:pt x="27" y="13"/>
                        </a:lnTo>
                        <a:lnTo>
                          <a:pt x="30" y="17"/>
                        </a:lnTo>
                        <a:lnTo>
                          <a:pt x="33" y="23"/>
                        </a:lnTo>
                        <a:lnTo>
                          <a:pt x="6" y="21"/>
                        </a:lnTo>
                        <a:lnTo>
                          <a:pt x="2" y="18"/>
                        </a:lnTo>
                        <a:lnTo>
                          <a:pt x="1" y="13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6" y="1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5770440" y="509112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8">
                        <a:moveTo>
                          <a:pt x="18" y="1"/>
                        </a:moveTo>
                        <a:lnTo>
                          <a:pt x="18" y="4"/>
                        </a:lnTo>
                        <a:lnTo>
                          <a:pt x="18" y="8"/>
                        </a:lnTo>
                        <a:lnTo>
                          <a:pt x="19" y="13"/>
                        </a:lnTo>
                        <a:lnTo>
                          <a:pt x="22" y="17"/>
                        </a:lnTo>
                        <a:lnTo>
                          <a:pt x="4" y="16"/>
                        </a:lnTo>
                        <a:lnTo>
                          <a:pt x="2" y="13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8" y="1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5911920" y="4886280"/>
                    <a:ext cx="22320" cy="19080"/>
                  </a:xfrm>
                  <a:prstGeom prst="ellipse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8" name=""/>
              <p:cNvGrpSpPr/>
              <p:nvPr/>
            </p:nvGrpSpPr>
            <p:grpSpPr>
              <a:xfrm>
                <a:off x="6729480" y="4702320"/>
                <a:ext cx="123840" cy="177480"/>
                <a:chOff x="6729480" y="4702320"/>
                <a:chExt cx="123840" cy="17748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6729480" y="4702320"/>
                  <a:ext cx="123840" cy="177480"/>
                </a:xfrm>
                <a:custGeom>
                  <a:avLst/>
                  <a:gdLst/>
                  <a:ahLst/>
                  <a:rect l="l" t="t" r="r" b="b"/>
                  <a:pathLst>
                    <a:path w="78" h="112">
                      <a:moveTo>
                        <a:pt x="28" y="0"/>
                      </a:moveTo>
                      <a:lnTo>
                        <a:pt x="36" y="13"/>
                      </a:lnTo>
                      <a:lnTo>
                        <a:pt x="43" y="27"/>
                      </a:lnTo>
                      <a:lnTo>
                        <a:pt x="50" y="40"/>
                      </a:lnTo>
                      <a:lnTo>
                        <a:pt x="58" y="54"/>
                      </a:lnTo>
                      <a:lnTo>
                        <a:pt x="64" y="68"/>
                      </a:lnTo>
                      <a:lnTo>
                        <a:pt x="67" y="75"/>
                      </a:lnTo>
                      <a:lnTo>
                        <a:pt x="70" y="83"/>
                      </a:lnTo>
                      <a:lnTo>
                        <a:pt x="74" y="98"/>
                      </a:lnTo>
                      <a:lnTo>
                        <a:pt x="77" y="111"/>
                      </a:lnTo>
                      <a:lnTo>
                        <a:pt x="58" y="110"/>
                      </a:lnTo>
                      <a:lnTo>
                        <a:pt x="43" y="109"/>
                      </a:lnTo>
                      <a:lnTo>
                        <a:pt x="40" y="95"/>
                      </a:lnTo>
                      <a:lnTo>
                        <a:pt x="36" y="78"/>
                      </a:lnTo>
                      <a:lnTo>
                        <a:pt x="31" y="66"/>
                      </a:lnTo>
                      <a:lnTo>
                        <a:pt x="24" y="50"/>
                      </a:lnTo>
                      <a:lnTo>
                        <a:pt x="16" y="31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6786720" y="4711680"/>
                  <a:ext cx="45720" cy="152280"/>
                </a:xfrm>
                <a:custGeom>
                  <a:avLst/>
                  <a:gdLst/>
                  <a:ahLst/>
                  <a:rect l="l" t="t" r="r" b="b"/>
                  <a:pathLst>
                    <a:path w="29" h="96">
                      <a:moveTo>
                        <a:pt x="0" y="0"/>
                      </a:moveTo>
                      <a:lnTo>
                        <a:pt x="7" y="17"/>
                      </a:lnTo>
                      <a:lnTo>
                        <a:pt x="12" y="28"/>
                      </a:lnTo>
                      <a:lnTo>
                        <a:pt x="16" y="42"/>
                      </a:lnTo>
                      <a:lnTo>
                        <a:pt x="20" y="50"/>
                      </a:lnTo>
                      <a:lnTo>
                        <a:pt x="23" y="58"/>
                      </a:lnTo>
                      <a:lnTo>
                        <a:pt x="25" y="66"/>
                      </a:lnTo>
                      <a:lnTo>
                        <a:pt x="27" y="73"/>
                      </a:lnTo>
                      <a:lnTo>
                        <a:pt x="27" y="80"/>
                      </a:lnTo>
                      <a:lnTo>
                        <a:pt x="28" y="89"/>
                      </a:lnTo>
                      <a:lnTo>
                        <a:pt x="27" y="95"/>
                      </a:lnTo>
                      <a:lnTo>
                        <a:pt x="23" y="95"/>
                      </a:lnTo>
                      <a:lnTo>
                        <a:pt x="25" y="86"/>
                      </a:lnTo>
                      <a:lnTo>
                        <a:pt x="25" y="80"/>
                      </a:lnTo>
                      <a:lnTo>
                        <a:pt x="25" y="71"/>
                      </a:lnTo>
                      <a:lnTo>
                        <a:pt x="23" y="63"/>
                      </a:lnTo>
                      <a:lnTo>
                        <a:pt x="20" y="53"/>
                      </a:lnTo>
                      <a:lnTo>
                        <a:pt x="10" y="27"/>
                      </a:lnTo>
                      <a:lnTo>
                        <a:pt x="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6856560" y="4834080"/>
                <a:ext cx="407880" cy="106200"/>
                <a:chOff x="6856560" y="4834080"/>
                <a:chExt cx="407880" cy="106200"/>
              </a:xfrm>
            </p:grpSpPr>
            <p:grpSp>
              <p:nvGrpSpPr>
                <p:cNvPr id="2252" name=""/>
                <p:cNvGrpSpPr/>
                <p:nvPr/>
              </p:nvGrpSpPr>
              <p:grpSpPr>
                <a:xfrm>
                  <a:off x="6856560" y="4932360"/>
                  <a:ext cx="33120" cy="7920"/>
                  <a:chOff x="6856560" y="4932360"/>
                  <a:chExt cx="33120" cy="7920"/>
                </a:xfrm>
              </p:grpSpPr>
              <p:sp>
                <p:nvSpPr>
                  <p:cNvPr id="2253" name=""/>
                  <p:cNvSpPr/>
                  <p:nvPr/>
                </p:nvSpPr>
                <p:spPr>
                  <a:xfrm>
                    <a:off x="6856560" y="4937040"/>
                    <a:ext cx="33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">
                        <a:moveTo>
                          <a:pt x="19" y="0"/>
                        </a:moveTo>
                        <a:lnTo>
                          <a:pt x="2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6856560" y="4932360"/>
                    <a:ext cx="33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">
                        <a:moveTo>
                          <a:pt x="20" y="0"/>
                        </a:moveTo>
                        <a:lnTo>
                          <a:pt x="20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7184880" y="4834080"/>
                  <a:ext cx="79560" cy="72720"/>
                  <a:chOff x="7184880" y="4834080"/>
                  <a:chExt cx="79560" cy="7272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7184880" y="4834080"/>
                    <a:ext cx="79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6">
                        <a:moveTo>
                          <a:pt x="45" y="20"/>
                        </a:moveTo>
                        <a:lnTo>
                          <a:pt x="31" y="7"/>
                        </a:lnTo>
                        <a:lnTo>
                          <a:pt x="28" y="4"/>
                        </a:lnTo>
                        <a:lnTo>
                          <a:pt x="22" y="2"/>
                        </a:lnTo>
                        <a:lnTo>
                          <a:pt x="7" y="0"/>
                        </a:lnTo>
                        <a:lnTo>
                          <a:pt x="2" y="1"/>
                        </a:lnTo>
                        <a:lnTo>
                          <a:pt x="0" y="37"/>
                        </a:lnTo>
                        <a:lnTo>
                          <a:pt x="4" y="42"/>
                        </a:lnTo>
                        <a:lnTo>
                          <a:pt x="11" y="45"/>
                        </a:lnTo>
                        <a:lnTo>
                          <a:pt x="24" y="45"/>
                        </a:lnTo>
                        <a:lnTo>
                          <a:pt x="33" y="42"/>
                        </a:lnTo>
                        <a:lnTo>
                          <a:pt x="47" y="29"/>
                        </a:lnTo>
                        <a:lnTo>
                          <a:pt x="49" y="25"/>
                        </a:lnTo>
                        <a:lnTo>
                          <a:pt x="45" y="2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7184880" y="4873680"/>
                    <a:ext cx="795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1">
                        <a:moveTo>
                          <a:pt x="49" y="0"/>
                        </a:moveTo>
                        <a:lnTo>
                          <a:pt x="38" y="3"/>
                        </a:lnTo>
                        <a:lnTo>
                          <a:pt x="28" y="7"/>
                        </a:lnTo>
                        <a:lnTo>
                          <a:pt x="21" y="7"/>
                        </a:lnTo>
                        <a:lnTo>
                          <a:pt x="11" y="8"/>
                        </a:lnTo>
                        <a:lnTo>
                          <a:pt x="4" y="6"/>
                        </a:lnTo>
                        <a:lnTo>
                          <a:pt x="1" y="1"/>
                        </a:lnTo>
                        <a:lnTo>
                          <a:pt x="0" y="12"/>
                        </a:lnTo>
                        <a:lnTo>
                          <a:pt x="4" y="17"/>
                        </a:lnTo>
                        <a:lnTo>
                          <a:pt x="11" y="20"/>
                        </a:lnTo>
                        <a:lnTo>
                          <a:pt x="24" y="20"/>
                        </a:lnTo>
                        <a:lnTo>
                          <a:pt x="34" y="17"/>
                        </a:lnTo>
                        <a:lnTo>
                          <a:pt x="46" y="6"/>
                        </a:lnTo>
                        <a:lnTo>
                          <a:pt x="48" y="4"/>
                        </a:lnTo>
                        <a:lnTo>
                          <a:pt x="49" y="0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258" name=""/>
          <p:cNvSpPr/>
          <p:nvPr/>
        </p:nvSpPr>
        <p:spPr>
          <a:xfrm>
            <a:off x="5471280" y="1967040"/>
            <a:ext cx="135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537960" y="2957400"/>
            <a:ext cx="135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157080" y="4329000"/>
            <a:ext cx="113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1" name=""/>
          <p:cNvGraphicFramePr/>
          <p:nvPr/>
        </p:nvGraphicFramePr>
        <p:xfrm>
          <a:off x="1117440" y="3276720"/>
          <a:ext cx="54612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7440" y="3276720"/>
                    <a:ext cx="5461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3" name=""/>
          <p:cNvGraphicFramePr/>
          <p:nvPr/>
        </p:nvGraphicFramePr>
        <p:xfrm>
          <a:off x="2349360" y="3435480"/>
          <a:ext cx="579600" cy="13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9360" y="3435480"/>
                    <a:ext cx="57960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5" name=""/>
          <p:cNvGrpSpPr/>
          <p:nvPr/>
        </p:nvGrpSpPr>
        <p:grpSpPr>
          <a:xfrm>
            <a:off x="3090960" y="3200400"/>
            <a:ext cx="374400" cy="1220760"/>
            <a:chOff x="3090960" y="3200400"/>
            <a:chExt cx="374400" cy="1220760"/>
          </a:xfrm>
        </p:grpSpPr>
        <p:sp>
          <p:nvSpPr>
            <p:cNvPr id="2266" name=""/>
            <p:cNvSpPr/>
            <p:nvPr/>
          </p:nvSpPr>
          <p:spPr>
            <a:xfrm>
              <a:off x="3322800" y="3333600"/>
              <a:ext cx="36360" cy="478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4" y="9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10" y="24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9" y="13"/>
                  </a:lnTo>
                  <a:lnTo>
                    <a:pt x="12" y="0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7" name=""/>
            <p:cNvGrpSpPr/>
            <p:nvPr/>
          </p:nvGrpSpPr>
          <p:grpSpPr>
            <a:xfrm>
              <a:off x="3090960" y="3900240"/>
              <a:ext cx="142920" cy="297000"/>
              <a:chOff x="3090960" y="3900240"/>
              <a:chExt cx="142920" cy="297000"/>
            </a:xfrm>
          </p:grpSpPr>
          <p:grpSp>
            <p:nvGrpSpPr>
              <p:cNvPr id="2268" name=""/>
              <p:cNvGrpSpPr/>
              <p:nvPr/>
            </p:nvGrpSpPr>
            <p:grpSpPr>
              <a:xfrm>
                <a:off x="3090960" y="3900240"/>
                <a:ext cx="142920" cy="297000"/>
                <a:chOff x="3090960" y="3900240"/>
                <a:chExt cx="142920" cy="297000"/>
              </a:xfrm>
            </p:grpSpPr>
            <p:grpSp>
              <p:nvGrpSpPr>
                <p:cNvPr id="2269" name=""/>
                <p:cNvGrpSpPr/>
                <p:nvPr/>
              </p:nvGrpSpPr>
              <p:grpSpPr>
                <a:xfrm>
                  <a:off x="3090960" y="3908520"/>
                  <a:ext cx="142920" cy="288720"/>
                  <a:chOff x="3090960" y="3908520"/>
                  <a:chExt cx="142920" cy="288720"/>
                </a:xfrm>
              </p:grpSpPr>
              <p:sp>
                <p:nvSpPr>
                  <p:cNvPr id="2270" name=""/>
                  <p:cNvSpPr/>
                  <p:nvPr/>
                </p:nvSpPr>
                <p:spPr>
                  <a:xfrm>
                    <a:off x="3094200" y="3908520"/>
                    <a:ext cx="123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4">
                        <a:moveTo>
                          <a:pt x="0" y="33"/>
                        </a:moveTo>
                        <a:lnTo>
                          <a:pt x="47" y="2"/>
                        </a:lnTo>
                        <a:lnTo>
                          <a:pt x="51" y="2"/>
                        </a:lnTo>
                        <a:lnTo>
                          <a:pt x="76" y="0"/>
                        </a:lnTo>
                        <a:lnTo>
                          <a:pt x="77" y="2"/>
                        </a:lnTo>
                        <a:lnTo>
                          <a:pt x="40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7f5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3156120" y="3911760"/>
                    <a:ext cx="777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79">
                        <a:moveTo>
                          <a:pt x="37" y="0"/>
                        </a:moveTo>
                        <a:lnTo>
                          <a:pt x="41" y="0"/>
                        </a:lnTo>
                        <a:lnTo>
                          <a:pt x="48" y="125"/>
                        </a:lnTo>
                        <a:lnTo>
                          <a:pt x="48" y="129"/>
                        </a:lnTo>
                        <a:lnTo>
                          <a:pt x="48" y="130"/>
                        </a:lnTo>
                        <a:lnTo>
                          <a:pt x="46" y="134"/>
                        </a:lnTo>
                        <a:lnTo>
                          <a:pt x="7" y="178"/>
                        </a:lnTo>
                        <a:lnTo>
                          <a:pt x="0" y="30"/>
                        </a:lnTo>
                        <a:lnTo>
                          <a:pt x="37" y="0"/>
                        </a:lnTo>
                      </a:path>
                    </a:pathLst>
                  </a:custGeom>
                  <a:solidFill>
                    <a:srgbClr val="5f3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3090960" y="3957480"/>
                    <a:ext cx="838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1">
                        <a:moveTo>
                          <a:pt x="3" y="2"/>
                        </a:moveTo>
                        <a:lnTo>
                          <a:pt x="8" y="1"/>
                        </a:lnTo>
                        <a:lnTo>
                          <a:pt x="37" y="0"/>
                        </a:ln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4" y="8"/>
                        </a:lnTo>
                        <a:lnTo>
                          <a:pt x="52" y="143"/>
                        </a:lnTo>
                        <a:lnTo>
                          <a:pt x="51" y="147"/>
                        </a:lnTo>
                        <a:lnTo>
                          <a:pt x="49" y="149"/>
                        </a:lnTo>
                        <a:lnTo>
                          <a:pt x="14" y="150"/>
                        </a:lnTo>
                        <a:lnTo>
                          <a:pt x="10" y="147"/>
                        </a:lnTo>
                        <a:lnTo>
                          <a:pt x="8" y="145"/>
                        </a:lnTo>
                        <a:lnTo>
                          <a:pt x="8" y="141"/>
                        </a:lnTo>
                        <a:lnTo>
                          <a:pt x="8" y="137"/>
                        </a:lnTo>
                        <a:lnTo>
                          <a:pt x="0" y="11"/>
                        </a:lnTo>
                        <a:lnTo>
                          <a:pt x="0" y="5"/>
                        </a:lnTo>
                        <a:lnTo>
                          <a:pt x="3" y="2"/>
                        </a:lnTo>
                      </a:path>
                    </a:pathLst>
                  </a:custGeom>
                  <a:solidFill>
                    <a:srgbClr val="bf7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3" name=""/>
                <p:cNvGrpSpPr/>
                <p:nvPr/>
              </p:nvGrpSpPr>
              <p:grpSpPr>
                <a:xfrm>
                  <a:off x="3130560" y="3900240"/>
                  <a:ext cx="46080" cy="281160"/>
                  <a:chOff x="3130560" y="3900240"/>
                  <a:chExt cx="46080" cy="281160"/>
                </a:xfrm>
              </p:grpSpPr>
              <p:sp>
                <p:nvSpPr>
                  <p:cNvPr id="2274" name=""/>
                  <p:cNvSpPr/>
                  <p:nvPr/>
                </p:nvSpPr>
                <p:spPr>
                  <a:xfrm flipV="1">
                    <a:off x="3143160" y="3900240"/>
                    <a:ext cx="33480" cy="6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3130560" y="3975120"/>
                    <a:ext cx="1440" cy="20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6" name=""/>
              <p:cNvSpPr/>
              <p:nvPr/>
            </p:nvSpPr>
            <p:spPr>
              <a:xfrm>
                <a:off x="3124080" y="3941640"/>
                <a:ext cx="42840" cy="972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4"/>
                    </a:moveTo>
                    <a:lnTo>
                      <a:pt x="7" y="0"/>
                    </a:lnTo>
                    <a:lnTo>
                      <a:pt x="26" y="1"/>
                    </a:lnTo>
                    <a:lnTo>
                      <a:pt x="19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b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3129120" y="3814920"/>
              <a:ext cx="60120" cy="123840"/>
              <a:chOff x="3129120" y="3814920"/>
              <a:chExt cx="60120" cy="123840"/>
            </a:xfrm>
          </p:grpSpPr>
          <p:sp>
            <p:nvSpPr>
              <p:cNvPr id="2278" name=""/>
              <p:cNvSpPr/>
              <p:nvPr/>
            </p:nvSpPr>
            <p:spPr>
              <a:xfrm>
                <a:off x="3129120" y="381492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28" y="43"/>
                    </a:moveTo>
                    <a:lnTo>
                      <a:pt x="24" y="43"/>
                    </a:lnTo>
                    <a:lnTo>
                      <a:pt x="24" y="38"/>
                    </a:lnTo>
                    <a:lnTo>
                      <a:pt x="26" y="30"/>
                    </a:lnTo>
                    <a:lnTo>
                      <a:pt x="25" y="22"/>
                    </a:lnTo>
                    <a:lnTo>
                      <a:pt x="24" y="19"/>
                    </a:lnTo>
                    <a:lnTo>
                      <a:pt x="23" y="13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9" y="0"/>
                    </a:lnTo>
                    <a:lnTo>
                      <a:pt x="8" y="9"/>
                    </a:lnTo>
                    <a:lnTo>
                      <a:pt x="7" y="17"/>
                    </a:lnTo>
                    <a:lnTo>
                      <a:pt x="6" y="21"/>
                    </a:lnTo>
                    <a:lnTo>
                      <a:pt x="6" y="26"/>
                    </a:lnTo>
                    <a:lnTo>
                      <a:pt x="6" y="31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9" y="58"/>
                    </a:lnTo>
                    <a:lnTo>
                      <a:pt x="11" y="61"/>
                    </a:lnTo>
                    <a:lnTo>
                      <a:pt x="13" y="62"/>
                    </a:lnTo>
                    <a:lnTo>
                      <a:pt x="17" y="63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5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5" y="49"/>
                    </a:lnTo>
                    <a:lnTo>
                      <a:pt x="37" y="48"/>
                    </a:lnTo>
                    <a:lnTo>
                      <a:pt x="36" y="45"/>
                    </a:lnTo>
                    <a:lnTo>
                      <a:pt x="35" y="45"/>
                    </a:lnTo>
                    <a:lnTo>
                      <a:pt x="32" y="44"/>
                    </a:lnTo>
                    <a:lnTo>
                      <a:pt x="30" y="44"/>
                    </a:lnTo>
                    <a:lnTo>
                      <a:pt x="28" y="43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141720" y="387972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33"/>
                    </a:moveTo>
                    <a:lnTo>
                      <a:pt x="3" y="36"/>
                    </a:lnTo>
                    <a:lnTo>
                      <a:pt x="6" y="36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27"/>
                    </a:lnTo>
                    <a:lnTo>
                      <a:pt x="9" y="17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80" name=""/>
              <p:cNvGrpSpPr/>
              <p:nvPr/>
            </p:nvGrpSpPr>
            <p:grpSpPr>
              <a:xfrm>
                <a:off x="3149640" y="3854520"/>
                <a:ext cx="17280" cy="34920"/>
                <a:chOff x="3149640" y="3854520"/>
                <a:chExt cx="17280" cy="3492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3149640" y="3857760"/>
                  <a:ext cx="7920" cy="1908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1" y="0"/>
                      </a:move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149640" y="3854520"/>
                  <a:ext cx="17280" cy="3492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3" y="0"/>
                      </a:move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1" y="13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3" y="21"/>
                      </a:lnTo>
                      <a:lnTo>
                        <a:pt x="6" y="21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10" y="14"/>
                      </a:lnTo>
                      <a:lnTo>
                        <a:pt x="9" y="9"/>
                      </a:lnTo>
                      <a:lnTo>
                        <a:pt x="9" y="6"/>
                      </a:lnTo>
                      <a:lnTo>
                        <a:pt x="10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3" name=""/>
              <p:cNvSpPr/>
              <p:nvPr/>
            </p:nvSpPr>
            <p:spPr>
              <a:xfrm>
                <a:off x="3154320" y="38782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5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3289320" y="4106880"/>
              <a:ext cx="85680" cy="244440"/>
              <a:chOff x="3289320" y="4106880"/>
              <a:chExt cx="85680" cy="244440"/>
            </a:xfrm>
          </p:grpSpPr>
          <p:sp>
            <p:nvSpPr>
              <p:cNvPr id="2285" name=""/>
              <p:cNvSpPr/>
              <p:nvPr/>
            </p:nvSpPr>
            <p:spPr>
              <a:xfrm>
                <a:off x="3289320" y="4254480"/>
                <a:ext cx="85680" cy="9684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32" y="12"/>
                    </a:moveTo>
                    <a:lnTo>
                      <a:pt x="36" y="22"/>
                    </a:lnTo>
                    <a:lnTo>
                      <a:pt x="42" y="30"/>
                    </a:lnTo>
                    <a:lnTo>
                      <a:pt x="44" y="40"/>
                    </a:lnTo>
                    <a:lnTo>
                      <a:pt x="48" y="46"/>
                    </a:lnTo>
                    <a:lnTo>
                      <a:pt x="51" y="50"/>
                    </a:lnTo>
                    <a:lnTo>
                      <a:pt x="53" y="53"/>
                    </a:lnTo>
                    <a:lnTo>
                      <a:pt x="53" y="55"/>
                    </a:lnTo>
                    <a:lnTo>
                      <a:pt x="51" y="58"/>
                    </a:lnTo>
                    <a:lnTo>
                      <a:pt x="47" y="59"/>
                    </a:lnTo>
                    <a:lnTo>
                      <a:pt x="40" y="60"/>
                    </a:lnTo>
                    <a:lnTo>
                      <a:pt x="32" y="58"/>
                    </a:lnTo>
                    <a:lnTo>
                      <a:pt x="25" y="54"/>
                    </a:lnTo>
                    <a:lnTo>
                      <a:pt x="20" y="50"/>
                    </a:lnTo>
                    <a:lnTo>
                      <a:pt x="13" y="43"/>
                    </a:lnTo>
                    <a:lnTo>
                      <a:pt x="7" y="34"/>
                    </a:lnTo>
                    <a:lnTo>
                      <a:pt x="4" y="26"/>
                    </a:lnTo>
                    <a:lnTo>
                      <a:pt x="2" y="21"/>
                    </a:lnTo>
                    <a:lnTo>
                      <a:pt x="0" y="14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1"/>
                    </a:lnTo>
                    <a:lnTo>
                      <a:pt x="28" y="5"/>
                    </a:lnTo>
                    <a:lnTo>
                      <a:pt x="32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297240" y="4106880"/>
                <a:ext cx="65160" cy="214200"/>
              </a:xfrm>
              <a:custGeom>
                <a:avLst/>
                <a:gdLst/>
                <a:ahLst/>
                <a:rect l="l" t="t" r="r" b="b"/>
                <a:pathLst>
                  <a:path w="41" h="135">
                    <a:moveTo>
                      <a:pt x="40" y="0"/>
                    </a:moveTo>
                    <a:lnTo>
                      <a:pt x="38" y="16"/>
                    </a:lnTo>
                    <a:lnTo>
                      <a:pt x="32" y="35"/>
                    </a:lnTo>
                    <a:lnTo>
                      <a:pt x="28" y="58"/>
                    </a:lnTo>
                    <a:lnTo>
                      <a:pt x="24" y="71"/>
                    </a:lnTo>
                    <a:lnTo>
                      <a:pt x="22" y="86"/>
                    </a:lnTo>
                    <a:lnTo>
                      <a:pt x="24" y="94"/>
                    </a:lnTo>
                    <a:lnTo>
                      <a:pt x="26" y="99"/>
                    </a:lnTo>
                    <a:lnTo>
                      <a:pt x="26" y="103"/>
                    </a:lnTo>
                    <a:lnTo>
                      <a:pt x="27" y="109"/>
                    </a:lnTo>
                    <a:lnTo>
                      <a:pt x="31" y="117"/>
                    </a:lnTo>
                    <a:lnTo>
                      <a:pt x="34" y="125"/>
                    </a:lnTo>
                    <a:lnTo>
                      <a:pt x="34" y="131"/>
                    </a:lnTo>
                    <a:lnTo>
                      <a:pt x="32" y="133"/>
                    </a:lnTo>
                    <a:lnTo>
                      <a:pt x="27" y="134"/>
                    </a:lnTo>
                    <a:lnTo>
                      <a:pt x="22" y="132"/>
                    </a:lnTo>
                    <a:lnTo>
                      <a:pt x="18" y="130"/>
                    </a:lnTo>
                    <a:lnTo>
                      <a:pt x="11" y="123"/>
                    </a:lnTo>
                    <a:lnTo>
                      <a:pt x="8" y="116"/>
                    </a:lnTo>
                    <a:lnTo>
                      <a:pt x="4" y="108"/>
                    </a:lnTo>
                    <a:lnTo>
                      <a:pt x="2" y="101"/>
                    </a:lnTo>
                    <a:lnTo>
                      <a:pt x="0" y="91"/>
                    </a:lnTo>
                    <a:lnTo>
                      <a:pt x="2" y="77"/>
                    </a:lnTo>
                    <a:lnTo>
                      <a:pt x="3" y="47"/>
                    </a:lnTo>
                    <a:lnTo>
                      <a:pt x="4" y="26"/>
                    </a:lnTo>
                    <a:lnTo>
                      <a:pt x="3" y="16"/>
                    </a:lnTo>
                    <a:lnTo>
                      <a:pt x="2" y="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7" name=""/>
            <p:cNvGrpSpPr/>
            <p:nvPr/>
          </p:nvGrpSpPr>
          <p:grpSpPr>
            <a:xfrm>
              <a:off x="3232080" y="4141800"/>
              <a:ext cx="96840" cy="279360"/>
              <a:chOff x="3232080" y="4141800"/>
              <a:chExt cx="96840" cy="279360"/>
            </a:xfrm>
          </p:grpSpPr>
          <p:sp>
            <p:nvSpPr>
              <p:cNvPr id="2288" name=""/>
              <p:cNvSpPr/>
              <p:nvPr/>
            </p:nvSpPr>
            <p:spPr>
              <a:xfrm>
                <a:off x="3267000" y="4300560"/>
                <a:ext cx="61920" cy="120600"/>
              </a:xfrm>
              <a:custGeom>
                <a:avLst/>
                <a:gdLst/>
                <a:ahLst/>
                <a:rect l="l" t="t" r="r" b="b"/>
                <a:pathLst>
                  <a:path w="39" h="76">
                    <a:moveTo>
                      <a:pt x="6" y="19"/>
                    </a:moveTo>
                    <a:lnTo>
                      <a:pt x="3" y="31"/>
                    </a:lnTo>
                    <a:lnTo>
                      <a:pt x="2" y="40"/>
                    </a:lnTo>
                    <a:lnTo>
                      <a:pt x="0" y="52"/>
                    </a:lnTo>
                    <a:lnTo>
                      <a:pt x="2" y="58"/>
                    </a:lnTo>
                    <a:lnTo>
                      <a:pt x="3" y="65"/>
                    </a:lnTo>
                    <a:lnTo>
                      <a:pt x="8" y="70"/>
                    </a:lnTo>
                    <a:lnTo>
                      <a:pt x="13" y="75"/>
                    </a:lnTo>
                    <a:lnTo>
                      <a:pt x="21" y="75"/>
                    </a:lnTo>
                    <a:lnTo>
                      <a:pt x="27" y="75"/>
                    </a:lnTo>
                    <a:lnTo>
                      <a:pt x="33" y="71"/>
                    </a:lnTo>
                    <a:lnTo>
                      <a:pt x="37" y="65"/>
                    </a:lnTo>
                    <a:lnTo>
                      <a:pt x="38" y="58"/>
                    </a:lnTo>
                    <a:lnTo>
                      <a:pt x="38" y="48"/>
                    </a:lnTo>
                    <a:lnTo>
                      <a:pt x="38" y="35"/>
                    </a:lnTo>
                    <a:lnTo>
                      <a:pt x="37" y="24"/>
                    </a:lnTo>
                    <a:lnTo>
                      <a:pt x="37" y="16"/>
                    </a:lnTo>
                    <a:lnTo>
                      <a:pt x="36" y="8"/>
                    </a:lnTo>
                    <a:lnTo>
                      <a:pt x="32" y="4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6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232080" y="4141800"/>
                <a:ext cx="93600" cy="249120"/>
              </a:xfrm>
              <a:custGeom>
                <a:avLst/>
                <a:gdLst/>
                <a:ahLst/>
                <a:rect l="l" t="t" r="r" b="b"/>
                <a:pathLst>
                  <a:path w="59" h="157">
                    <a:moveTo>
                      <a:pt x="0" y="10"/>
                    </a:moveTo>
                    <a:lnTo>
                      <a:pt x="6" y="29"/>
                    </a:lnTo>
                    <a:lnTo>
                      <a:pt x="13" y="51"/>
                    </a:lnTo>
                    <a:lnTo>
                      <a:pt x="18" y="67"/>
                    </a:lnTo>
                    <a:lnTo>
                      <a:pt x="24" y="78"/>
                    </a:lnTo>
                    <a:lnTo>
                      <a:pt x="27" y="88"/>
                    </a:lnTo>
                    <a:lnTo>
                      <a:pt x="27" y="98"/>
                    </a:lnTo>
                    <a:lnTo>
                      <a:pt x="27" y="113"/>
                    </a:lnTo>
                    <a:lnTo>
                      <a:pt x="28" y="120"/>
                    </a:lnTo>
                    <a:lnTo>
                      <a:pt x="27" y="131"/>
                    </a:lnTo>
                    <a:lnTo>
                      <a:pt x="27" y="141"/>
                    </a:lnTo>
                    <a:lnTo>
                      <a:pt x="27" y="150"/>
                    </a:lnTo>
                    <a:lnTo>
                      <a:pt x="31" y="154"/>
                    </a:lnTo>
                    <a:lnTo>
                      <a:pt x="38" y="156"/>
                    </a:lnTo>
                    <a:lnTo>
                      <a:pt x="48" y="156"/>
                    </a:lnTo>
                    <a:lnTo>
                      <a:pt x="54" y="154"/>
                    </a:lnTo>
                    <a:lnTo>
                      <a:pt x="57" y="149"/>
                    </a:lnTo>
                    <a:lnTo>
                      <a:pt x="56" y="141"/>
                    </a:lnTo>
                    <a:lnTo>
                      <a:pt x="57" y="134"/>
                    </a:lnTo>
                    <a:lnTo>
                      <a:pt x="58" y="128"/>
                    </a:lnTo>
                    <a:lnTo>
                      <a:pt x="58" y="121"/>
                    </a:lnTo>
                    <a:lnTo>
                      <a:pt x="56" y="111"/>
                    </a:lnTo>
                    <a:lnTo>
                      <a:pt x="56" y="103"/>
                    </a:lnTo>
                    <a:lnTo>
                      <a:pt x="53" y="98"/>
                    </a:lnTo>
                    <a:lnTo>
                      <a:pt x="51" y="92"/>
                    </a:lnTo>
                    <a:lnTo>
                      <a:pt x="48" y="82"/>
                    </a:lnTo>
                    <a:lnTo>
                      <a:pt x="48" y="70"/>
                    </a:lnTo>
                    <a:lnTo>
                      <a:pt x="46" y="53"/>
                    </a:lnTo>
                    <a:lnTo>
                      <a:pt x="46" y="30"/>
                    </a:lnTo>
                    <a:lnTo>
                      <a:pt x="47" y="14"/>
                    </a:lnTo>
                    <a:lnTo>
                      <a:pt x="47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0" name=""/>
            <p:cNvSpPr/>
            <p:nvPr/>
          </p:nvSpPr>
          <p:spPr>
            <a:xfrm>
              <a:off x="3168720" y="3835440"/>
              <a:ext cx="239760" cy="331920"/>
            </a:xfrm>
            <a:custGeom>
              <a:avLst/>
              <a:gdLst/>
              <a:ahLst/>
              <a:rect l="l" t="t" r="r" b="b"/>
              <a:pathLst>
                <a:path w="151" h="209">
                  <a:moveTo>
                    <a:pt x="3" y="35"/>
                  </a:moveTo>
                  <a:lnTo>
                    <a:pt x="7" y="68"/>
                  </a:lnTo>
                  <a:lnTo>
                    <a:pt x="10" y="98"/>
                  </a:lnTo>
                  <a:lnTo>
                    <a:pt x="10" y="131"/>
                  </a:lnTo>
                  <a:lnTo>
                    <a:pt x="12" y="150"/>
                  </a:lnTo>
                  <a:lnTo>
                    <a:pt x="12" y="179"/>
                  </a:lnTo>
                  <a:lnTo>
                    <a:pt x="12" y="190"/>
                  </a:lnTo>
                  <a:lnTo>
                    <a:pt x="23" y="201"/>
                  </a:lnTo>
                  <a:lnTo>
                    <a:pt x="37" y="206"/>
                  </a:lnTo>
                  <a:lnTo>
                    <a:pt x="58" y="208"/>
                  </a:lnTo>
                  <a:lnTo>
                    <a:pt x="85" y="203"/>
                  </a:lnTo>
                  <a:lnTo>
                    <a:pt x="105" y="192"/>
                  </a:lnTo>
                  <a:lnTo>
                    <a:pt x="114" y="183"/>
                  </a:lnTo>
                  <a:lnTo>
                    <a:pt x="122" y="174"/>
                  </a:lnTo>
                  <a:lnTo>
                    <a:pt x="127" y="162"/>
                  </a:lnTo>
                  <a:lnTo>
                    <a:pt x="130" y="138"/>
                  </a:lnTo>
                  <a:lnTo>
                    <a:pt x="135" y="98"/>
                  </a:lnTo>
                  <a:lnTo>
                    <a:pt x="140" y="74"/>
                  </a:lnTo>
                  <a:lnTo>
                    <a:pt x="144" y="35"/>
                  </a:lnTo>
                  <a:lnTo>
                    <a:pt x="150" y="0"/>
                  </a:lnTo>
                  <a:lnTo>
                    <a:pt x="127" y="2"/>
                  </a:lnTo>
                  <a:lnTo>
                    <a:pt x="109" y="6"/>
                  </a:lnTo>
                  <a:lnTo>
                    <a:pt x="83" y="8"/>
                  </a:lnTo>
                  <a:lnTo>
                    <a:pt x="57" y="11"/>
                  </a:lnTo>
                  <a:lnTo>
                    <a:pt x="26" y="11"/>
                  </a:lnTo>
                  <a:lnTo>
                    <a:pt x="10" y="7"/>
                  </a:lnTo>
                  <a:lnTo>
                    <a:pt x="0" y="4"/>
                  </a:lnTo>
                  <a:lnTo>
                    <a:pt x="3" y="35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413160" y="3763800"/>
              <a:ext cx="50760" cy="155880"/>
            </a:xfrm>
            <a:custGeom>
              <a:avLst/>
              <a:gdLst/>
              <a:ahLst/>
              <a:rect l="l" t="t" r="r" b="b"/>
              <a:pathLst>
                <a:path w="32" h="98">
                  <a:moveTo>
                    <a:pt x="2" y="31"/>
                  </a:moveTo>
                  <a:lnTo>
                    <a:pt x="2" y="42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1"/>
                  </a:lnTo>
                  <a:lnTo>
                    <a:pt x="2" y="73"/>
                  </a:lnTo>
                  <a:lnTo>
                    <a:pt x="6" y="72"/>
                  </a:lnTo>
                  <a:lnTo>
                    <a:pt x="9" y="66"/>
                  </a:lnTo>
                  <a:lnTo>
                    <a:pt x="9" y="60"/>
                  </a:lnTo>
                  <a:lnTo>
                    <a:pt x="9" y="56"/>
                  </a:lnTo>
                  <a:lnTo>
                    <a:pt x="10" y="52"/>
                  </a:lnTo>
                  <a:lnTo>
                    <a:pt x="14" y="59"/>
                  </a:lnTo>
                  <a:lnTo>
                    <a:pt x="15" y="67"/>
                  </a:lnTo>
                  <a:lnTo>
                    <a:pt x="15" y="74"/>
                  </a:lnTo>
                  <a:lnTo>
                    <a:pt x="16" y="78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0" y="92"/>
                  </a:lnTo>
                  <a:lnTo>
                    <a:pt x="10" y="93"/>
                  </a:lnTo>
                  <a:lnTo>
                    <a:pt x="14" y="96"/>
                  </a:lnTo>
                  <a:lnTo>
                    <a:pt x="17" y="93"/>
                  </a:lnTo>
                  <a:lnTo>
                    <a:pt x="17" y="96"/>
                  </a:lnTo>
                  <a:lnTo>
                    <a:pt x="20" y="97"/>
                  </a:lnTo>
                  <a:lnTo>
                    <a:pt x="24" y="91"/>
                  </a:lnTo>
                  <a:lnTo>
                    <a:pt x="28" y="87"/>
                  </a:lnTo>
                  <a:lnTo>
                    <a:pt x="31" y="77"/>
                  </a:lnTo>
                  <a:lnTo>
                    <a:pt x="31" y="71"/>
                  </a:lnTo>
                  <a:lnTo>
                    <a:pt x="30" y="57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0" y="0"/>
                  </a:lnTo>
                  <a:lnTo>
                    <a:pt x="4" y="0"/>
                  </a:lnTo>
                  <a:lnTo>
                    <a:pt x="6" y="19"/>
                  </a:lnTo>
                  <a:lnTo>
                    <a:pt x="2" y="31"/>
                  </a:lnTo>
                </a:path>
              </a:pathLst>
            </a:custGeom>
            <a:solidFill>
              <a:srgbClr val="f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2" name=""/>
            <p:cNvGrpSpPr/>
            <p:nvPr/>
          </p:nvGrpSpPr>
          <p:grpSpPr>
            <a:xfrm>
              <a:off x="3125880" y="3370320"/>
              <a:ext cx="339480" cy="514440"/>
              <a:chOff x="3125880" y="3370320"/>
              <a:chExt cx="339480" cy="514440"/>
            </a:xfrm>
          </p:grpSpPr>
          <p:grpSp>
            <p:nvGrpSpPr>
              <p:cNvPr id="2293" name=""/>
              <p:cNvGrpSpPr/>
              <p:nvPr/>
            </p:nvGrpSpPr>
            <p:grpSpPr>
              <a:xfrm>
                <a:off x="3125880" y="3370320"/>
                <a:ext cx="339480" cy="514440"/>
                <a:chOff x="3125880" y="3370320"/>
                <a:chExt cx="339480" cy="51444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3125880" y="3370320"/>
                  <a:ext cx="339480" cy="514440"/>
                </a:xfrm>
                <a:custGeom>
                  <a:avLst/>
                  <a:gdLst/>
                  <a:ahLst/>
                  <a:rect l="l" t="t" r="r" b="b"/>
                  <a:pathLst>
                    <a:path w="214" h="324">
                      <a:moveTo>
                        <a:pt x="72" y="12"/>
                      </a:moveTo>
                      <a:lnTo>
                        <a:pt x="63" y="20"/>
                      </a:lnTo>
                      <a:lnTo>
                        <a:pt x="50" y="26"/>
                      </a:lnTo>
                      <a:lnTo>
                        <a:pt x="35" y="31"/>
                      </a:lnTo>
                      <a:lnTo>
                        <a:pt x="26" y="34"/>
                      </a:lnTo>
                      <a:lnTo>
                        <a:pt x="22" y="38"/>
                      </a:lnTo>
                      <a:lnTo>
                        <a:pt x="19" y="40"/>
                      </a:lnTo>
                      <a:lnTo>
                        <a:pt x="16" y="45"/>
                      </a:lnTo>
                      <a:lnTo>
                        <a:pt x="15" y="57"/>
                      </a:lnTo>
                      <a:lnTo>
                        <a:pt x="14" y="80"/>
                      </a:lnTo>
                      <a:lnTo>
                        <a:pt x="15" y="94"/>
                      </a:lnTo>
                      <a:lnTo>
                        <a:pt x="11" y="110"/>
                      </a:lnTo>
                      <a:lnTo>
                        <a:pt x="9" y="133"/>
                      </a:lnTo>
                      <a:lnTo>
                        <a:pt x="9" y="152"/>
                      </a:lnTo>
                      <a:lnTo>
                        <a:pt x="11" y="167"/>
                      </a:lnTo>
                      <a:lnTo>
                        <a:pt x="11" y="175"/>
                      </a:lnTo>
                      <a:lnTo>
                        <a:pt x="9" y="186"/>
                      </a:lnTo>
                      <a:lnTo>
                        <a:pt x="8" y="211"/>
                      </a:lnTo>
                      <a:lnTo>
                        <a:pt x="6" y="238"/>
                      </a:lnTo>
                      <a:lnTo>
                        <a:pt x="6" y="249"/>
                      </a:lnTo>
                      <a:lnTo>
                        <a:pt x="2" y="260"/>
                      </a:lnTo>
                      <a:lnTo>
                        <a:pt x="2" y="272"/>
                      </a:lnTo>
                      <a:lnTo>
                        <a:pt x="2" y="282"/>
                      </a:lnTo>
                      <a:lnTo>
                        <a:pt x="0" y="286"/>
                      </a:lnTo>
                      <a:lnTo>
                        <a:pt x="8" y="292"/>
                      </a:lnTo>
                      <a:lnTo>
                        <a:pt x="18" y="294"/>
                      </a:lnTo>
                      <a:lnTo>
                        <a:pt x="25" y="292"/>
                      </a:lnTo>
                      <a:lnTo>
                        <a:pt x="26" y="318"/>
                      </a:lnTo>
                      <a:lnTo>
                        <a:pt x="29" y="320"/>
                      </a:lnTo>
                      <a:lnTo>
                        <a:pt x="49" y="321"/>
                      </a:lnTo>
                      <a:lnTo>
                        <a:pt x="61" y="322"/>
                      </a:lnTo>
                      <a:lnTo>
                        <a:pt x="66" y="305"/>
                      </a:lnTo>
                      <a:lnTo>
                        <a:pt x="72" y="321"/>
                      </a:lnTo>
                      <a:lnTo>
                        <a:pt x="101" y="323"/>
                      </a:lnTo>
                      <a:lnTo>
                        <a:pt x="116" y="321"/>
                      </a:lnTo>
                      <a:lnTo>
                        <a:pt x="135" y="320"/>
                      </a:lnTo>
                      <a:lnTo>
                        <a:pt x="150" y="315"/>
                      </a:lnTo>
                      <a:lnTo>
                        <a:pt x="165" y="313"/>
                      </a:lnTo>
                      <a:lnTo>
                        <a:pt x="175" y="308"/>
                      </a:lnTo>
                      <a:lnTo>
                        <a:pt x="179" y="286"/>
                      </a:lnTo>
                      <a:lnTo>
                        <a:pt x="178" y="280"/>
                      </a:lnTo>
                      <a:lnTo>
                        <a:pt x="183" y="279"/>
                      </a:lnTo>
                      <a:lnTo>
                        <a:pt x="196" y="279"/>
                      </a:lnTo>
                      <a:lnTo>
                        <a:pt x="205" y="283"/>
                      </a:lnTo>
                      <a:lnTo>
                        <a:pt x="207" y="286"/>
                      </a:lnTo>
                      <a:lnTo>
                        <a:pt x="209" y="290"/>
                      </a:lnTo>
                      <a:lnTo>
                        <a:pt x="213" y="285"/>
                      </a:lnTo>
                      <a:lnTo>
                        <a:pt x="213" y="280"/>
                      </a:lnTo>
                      <a:lnTo>
                        <a:pt x="213" y="255"/>
                      </a:lnTo>
                      <a:lnTo>
                        <a:pt x="213" y="219"/>
                      </a:lnTo>
                      <a:lnTo>
                        <a:pt x="213" y="195"/>
                      </a:lnTo>
                      <a:lnTo>
                        <a:pt x="213" y="175"/>
                      </a:lnTo>
                      <a:lnTo>
                        <a:pt x="209" y="145"/>
                      </a:lnTo>
                      <a:lnTo>
                        <a:pt x="206" y="130"/>
                      </a:lnTo>
                      <a:lnTo>
                        <a:pt x="206" y="109"/>
                      </a:lnTo>
                      <a:lnTo>
                        <a:pt x="206" y="81"/>
                      </a:lnTo>
                      <a:lnTo>
                        <a:pt x="203" y="46"/>
                      </a:lnTo>
                      <a:lnTo>
                        <a:pt x="196" y="30"/>
                      </a:lnTo>
                      <a:lnTo>
                        <a:pt x="194" y="20"/>
                      </a:lnTo>
                      <a:lnTo>
                        <a:pt x="183" y="18"/>
                      </a:lnTo>
                      <a:lnTo>
                        <a:pt x="164" y="12"/>
                      </a:lnTo>
                      <a:lnTo>
                        <a:pt x="159" y="14"/>
                      </a:lnTo>
                      <a:lnTo>
                        <a:pt x="143" y="6"/>
                      </a:lnTo>
                      <a:lnTo>
                        <a:pt x="136" y="2"/>
                      </a:lnTo>
                      <a:lnTo>
                        <a:pt x="127" y="0"/>
                      </a:lnTo>
                      <a:lnTo>
                        <a:pt x="77" y="5"/>
                      </a:lnTo>
                      <a:lnTo>
                        <a:pt x="72" y="12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164040" y="3473280"/>
                  <a:ext cx="18720" cy="343080"/>
                </a:xfrm>
                <a:custGeom>
                  <a:avLst/>
                  <a:gdLst/>
                  <a:ahLst/>
                  <a:rect l="l" t="t" r="r" b="b"/>
                  <a:pathLst>
                    <a:path w="12" h="216">
                      <a:moveTo>
                        <a:pt x="2" y="215"/>
                      </a:moveTo>
                      <a:lnTo>
                        <a:pt x="2" y="193"/>
                      </a:lnTo>
                      <a:lnTo>
                        <a:pt x="0" y="176"/>
                      </a:lnTo>
                      <a:lnTo>
                        <a:pt x="5" y="155"/>
                      </a:lnTo>
                      <a:lnTo>
                        <a:pt x="8" y="132"/>
                      </a:lnTo>
                      <a:lnTo>
                        <a:pt x="11" y="106"/>
                      </a:lnTo>
                      <a:lnTo>
                        <a:pt x="8" y="95"/>
                      </a:lnTo>
                      <a:lnTo>
                        <a:pt x="7" y="80"/>
                      </a:lnTo>
                      <a:lnTo>
                        <a:pt x="3" y="64"/>
                      </a:lnTo>
                      <a:lnTo>
                        <a:pt x="8" y="45"/>
                      </a:lnTo>
                      <a:lnTo>
                        <a:pt x="8" y="37"/>
                      </a:lnTo>
                      <a:lnTo>
                        <a:pt x="11" y="11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405240" y="3427560"/>
                  <a:ext cx="12600" cy="388800"/>
                </a:xfrm>
                <a:custGeom>
                  <a:avLst/>
                  <a:gdLst/>
                  <a:ahLst/>
                  <a:rect l="l" t="t" r="r" b="b"/>
                  <a:pathLst>
                    <a:path w="8" h="245">
                      <a:moveTo>
                        <a:pt x="3" y="244"/>
                      </a:moveTo>
                      <a:lnTo>
                        <a:pt x="5" y="214"/>
                      </a:lnTo>
                      <a:lnTo>
                        <a:pt x="5" y="186"/>
                      </a:lnTo>
                      <a:lnTo>
                        <a:pt x="5" y="168"/>
                      </a:lnTo>
                      <a:lnTo>
                        <a:pt x="3" y="144"/>
                      </a:lnTo>
                      <a:lnTo>
                        <a:pt x="2" y="131"/>
                      </a:lnTo>
                      <a:lnTo>
                        <a:pt x="0" y="112"/>
                      </a:lnTo>
                      <a:lnTo>
                        <a:pt x="2" y="96"/>
                      </a:lnTo>
                      <a:lnTo>
                        <a:pt x="7" y="79"/>
                      </a:lnTo>
                      <a:lnTo>
                        <a:pt x="6" y="58"/>
                      </a:lnTo>
                      <a:lnTo>
                        <a:pt x="3" y="40"/>
                      </a:lnTo>
                      <a:lnTo>
                        <a:pt x="3" y="17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3241800" y="3646440"/>
                <a:ext cx="46080" cy="69840"/>
                <a:chOff x="3241800" y="3646440"/>
                <a:chExt cx="46080" cy="69840"/>
              </a:xfrm>
            </p:grpSpPr>
            <p:grpSp>
              <p:nvGrpSpPr>
                <p:cNvPr id="2298" name=""/>
                <p:cNvGrpSpPr/>
                <p:nvPr/>
              </p:nvGrpSpPr>
              <p:grpSpPr>
                <a:xfrm>
                  <a:off x="3241800" y="3646440"/>
                  <a:ext cx="46080" cy="7920"/>
                  <a:chOff x="3241800" y="3646440"/>
                  <a:chExt cx="46080" cy="7920"/>
                </a:xfrm>
              </p:grpSpPr>
              <p:sp>
                <p:nvSpPr>
                  <p:cNvPr id="2299" name=""/>
                  <p:cNvSpPr/>
                  <p:nvPr/>
                </p:nvSpPr>
                <p:spPr>
                  <a:xfrm>
                    <a:off x="3241800" y="3646440"/>
                    <a:ext cx="61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3278160" y="3646440"/>
                    <a:ext cx="9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1" name=""/>
                <p:cNvGrpSpPr/>
                <p:nvPr/>
              </p:nvGrpSpPr>
              <p:grpSpPr>
                <a:xfrm>
                  <a:off x="3241800" y="3708360"/>
                  <a:ext cx="46080" cy="7920"/>
                  <a:chOff x="3241800" y="3708360"/>
                  <a:chExt cx="46080" cy="7920"/>
                </a:xfrm>
              </p:grpSpPr>
              <p:sp>
                <p:nvSpPr>
                  <p:cNvPr id="2302" name=""/>
                  <p:cNvSpPr/>
                  <p:nvPr/>
                </p:nvSpPr>
                <p:spPr>
                  <a:xfrm>
                    <a:off x="3241800" y="3708360"/>
                    <a:ext cx="61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3278160" y="3708360"/>
                    <a:ext cx="9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04" name=""/>
            <p:cNvSpPr/>
            <p:nvPr/>
          </p:nvSpPr>
          <p:spPr>
            <a:xfrm>
              <a:off x="3232080" y="3222720"/>
              <a:ext cx="115920" cy="20304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23" y="125"/>
                  </a:moveTo>
                  <a:lnTo>
                    <a:pt x="20" y="123"/>
                  </a:lnTo>
                  <a:lnTo>
                    <a:pt x="14" y="119"/>
                  </a:lnTo>
                  <a:lnTo>
                    <a:pt x="13" y="113"/>
                  </a:lnTo>
                  <a:lnTo>
                    <a:pt x="13" y="106"/>
                  </a:lnTo>
                  <a:lnTo>
                    <a:pt x="13" y="102"/>
                  </a:lnTo>
                  <a:lnTo>
                    <a:pt x="13" y="98"/>
                  </a:lnTo>
                  <a:lnTo>
                    <a:pt x="13" y="91"/>
                  </a:lnTo>
                  <a:lnTo>
                    <a:pt x="13" y="83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7" y="71"/>
                  </a:lnTo>
                  <a:lnTo>
                    <a:pt x="5" y="64"/>
                  </a:lnTo>
                  <a:lnTo>
                    <a:pt x="2" y="56"/>
                  </a:lnTo>
                  <a:lnTo>
                    <a:pt x="1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5" y="12"/>
                  </a:lnTo>
                  <a:lnTo>
                    <a:pt x="9" y="8"/>
                  </a:lnTo>
                  <a:lnTo>
                    <a:pt x="16" y="6"/>
                  </a:lnTo>
                  <a:lnTo>
                    <a:pt x="25" y="2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5" y="7"/>
                  </a:lnTo>
                  <a:lnTo>
                    <a:pt x="70" y="13"/>
                  </a:lnTo>
                  <a:lnTo>
                    <a:pt x="72" y="24"/>
                  </a:lnTo>
                  <a:lnTo>
                    <a:pt x="71" y="33"/>
                  </a:lnTo>
                  <a:lnTo>
                    <a:pt x="71" y="36"/>
                  </a:lnTo>
                  <a:lnTo>
                    <a:pt x="71" y="41"/>
                  </a:lnTo>
                  <a:lnTo>
                    <a:pt x="72" y="46"/>
                  </a:lnTo>
                  <a:lnTo>
                    <a:pt x="72" y="50"/>
                  </a:lnTo>
                  <a:lnTo>
                    <a:pt x="70" y="56"/>
                  </a:lnTo>
                  <a:lnTo>
                    <a:pt x="69" y="63"/>
                  </a:lnTo>
                  <a:lnTo>
                    <a:pt x="68" y="69"/>
                  </a:lnTo>
                  <a:lnTo>
                    <a:pt x="67" y="75"/>
                  </a:lnTo>
                  <a:lnTo>
                    <a:pt x="66" y="81"/>
                  </a:lnTo>
                  <a:lnTo>
                    <a:pt x="63" y="85"/>
                  </a:lnTo>
                  <a:lnTo>
                    <a:pt x="60" y="87"/>
                  </a:lnTo>
                  <a:lnTo>
                    <a:pt x="57" y="88"/>
                  </a:lnTo>
                  <a:lnTo>
                    <a:pt x="57" y="94"/>
                  </a:lnTo>
                  <a:lnTo>
                    <a:pt x="58" y="99"/>
                  </a:lnTo>
                  <a:lnTo>
                    <a:pt x="58" y="103"/>
                  </a:lnTo>
                  <a:lnTo>
                    <a:pt x="54" y="110"/>
                  </a:lnTo>
                  <a:lnTo>
                    <a:pt x="47" y="117"/>
                  </a:lnTo>
                  <a:lnTo>
                    <a:pt x="40" y="123"/>
                  </a:lnTo>
                  <a:lnTo>
                    <a:pt x="37" y="126"/>
                  </a:lnTo>
                  <a:lnTo>
                    <a:pt x="33" y="127"/>
                  </a:lnTo>
                  <a:lnTo>
                    <a:pt x="30" y="126"/>
                  </a:lnTo>
                  <a:lnTo>
                    <a:pt x="23" y="125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f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257640" y="331776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0"/>
                  </a:moveTo>
                  <a:lnTo>
                    <a:pt x="2" y="11"/>
                  </a:lnTo>
                  <a:lnTo>
                    <a:pt x="5" y="20"/>
                  </a:lnTo>
                  <a:lnTo>
                    <a:pt x="7" y="23"/>
                  </a:lnTo>
                  <a:lnTo>
                    <a:pt x="11" y="27"/>
                  </a:lnTo>
                  <a:lnTo>
                    <a:pt x="16" y="32"/>
                  </a:lnTo>
                  <a:lnTo>
                    <a:pt x="20" y="34"/>
                  </a:lnTo>
                  <a:lnTo>
                    <a:pt x="24" y="38"/>
                  </a:lnTo>
                  <a:lnTo>
                    <a:pt x="27" y="43"/>
                  </a:lnTo>
                  <a:lnTo>
                    <a:pt x="28" y="45"/>
                  </a:lnTo>
                  <a:lnTo>
                    <a:pt x="32" y="41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5" y="30"/>
                  </a:lnTo>
                  <a:lnTo>
                    <a:pt x="35" y="25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7" y="15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252960" y="331956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b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246480" y="3309840"/>
              <a:ext cx="77760" cy="558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8" y="33"/>
                  </a:moveTo>
                  <a:lnTo>
                    <a:pt x="42" y="34"/>
                  </a:lnTo>
                  <a:lnTo>
                    <a:pt x="36" y="32"/>
                  </a:lnTo>
                  <a:lnTo>
                    <a:pt x="28" y="32"/>
                  </a:lnTo>
                  <a:lnTo>
                    <a:pt x="22" y="28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3" y="18"/>
                  </a:lnTo>
                  <a:lnTo>
                    <a:pt x="10" y="12"/>
                  </a:lnTo>
                  <a:lnTo>
                    <a:pt x="9" y="7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3278160" y="3267000"/>
              <a:ext cx="68400" cy="12600"/>
              <a:chOff x="3278160" y="3267000"/>
              <a:chExt cx="68400" cy="12600"/>
            </a:xfrm>
          </p:grpSpPr>
          <p:sp>
            <p:nvSpPr>
              <p:cNvPr id="2309" name=""/>
              <p:cNvSpPr/>
              <p:nvPr/>
            </p:nvSpPr>
            <p:spPr>
              <a:xfrm>
                <a:off x="3278160" y="3270240"/>
                <a:ext cx="33480" cy="93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0" y="1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325680" y="326700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3"/>
                    </a:lnTo>
                  </a:path>
                </a:pathLst>
              </a:custGeom>
              <a:noFill/>
              <a:ln cap="rnd" w="1260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1" name=""/>
            <p:cNvSpPr/>
            <p:nvPr/>
          </p:nvSpPr>
          <p:spPr>
            <a:xfrm>
              <a:off x="3209760" y="3200400"/>
              <a:ext cx="144720" cy="209520"/>
            </a:xfrm>
            <a:custGeom>
              <a:avLst/>
              <a:gdLst/>
              <a:ahLst/>
              <a:rect l="l" t="t" r="r" b="b"/>
              <a:pathLst>
                <a:path w="91" h="132">
                  <a:moveTo>
                    <a:pt x="39" y="23"/>
                  </a:moveTo>
                  <a:lnTo>
                    <a:pt x="44" y="22"/>
                  </a:lnTo>
                  <a:lnTo>
                    <a:pt x="49" y="22"/>
                  </a:lnTo>
                  <a:lnTo>
                    <a:pt x="56" y="22"/>
                  </a:lnTo>
                  <a:lnTo>
                    <a:pt x="64" y="23"/>
                  </a:lnTo>
                  <a:lnTo>
                    <a:pt x="68" y="25"/>
                  </a:lnTo>
                  <a:lnTo>
                    <a:pt x="73" y="28"/>
                  </a:lnTo>
                  <a:lnTo>
                    <a:pt x="77" y="31"/>
                  </a:lnTo>
                  <a:lnTo>
                    <a:pt x="81" y="34"/>
                  </a:lnTo>
                  <a:lnTo>
                    <a:pt x="85" y="40"/>
                  </a:lnTo>
                  <a:lnTo>
                    <a:pt x="87" y="46"/>
                  </a:lnTo>
                  <a:lnTo>
                    <a:pt x="90" y="39"/>
                  </a:lnTo>
                  <a:lnTo>
                    <a:pt x="90" y="32"/>
                  </a:lnTo>
                  <a:lnTo>
                    <a:pt x="90" y="26"/>
                  </a:lnTo>
                  <a:lnTo>
                    <a:pt x="90" y="22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3" y="11"/>
                  </a:lnTo>
                  <a:lnTo>
                    <a:pt x="78" y="7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6" y="9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6" y="44"/>
                  </a:lnTo>
                  <a:lnTo>
                    <a:pt x="4" y="61"/>
                  </a:lnTo>
                  <a:lnTo>
                    <a:pt x="2" y="80"/>
                  </a:lnTo>
                  <a:lnTo>
                    <a:pt x="2" y="95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1"/>
                  </a:lnTo>
                  <a:lnTo>
                    <a:pt x="4" y="129"/>
                  </a:lnTo>
                  <a:lnTo>
                    <a:pt x="9" y="127"/>
                  </a:lnTo>
                  <a:lnTo>
                    <a:pt x="12" y="124"/>
                  </a:lnTo>
                  <a:lnTo>
                    <a:pt x="17" y="119"/>
                  </a:lnTo>
                  <a:lnTo>
                    <a:pt x="22" y="116"/>
                  </a:lnTo>
                  <a:lnTo>
                    <a:pt x="25" y="112"/>
                  </a:lnTo>
                  <a:lnTo>
                    <a:pt x="27" y="107"/>
                  </a:lnTo>
                  <a:lnTo>
                    <a:pt x="28" y="101"/>
                  </a:lnTo>
                  <a:lnTo>
                    <a:pt x="29" y="95"/>
                  </a:lnTo>
                  <a:lnTo>
                    <a:pt x="28" y="89"/>
                  </a:lnTo>
                  <a:lnTo>
                    <a:pt x="27" y="81"/>
                  </a:lnTo>
                  <a:lnTo>
                    <a:pt x="26" y="68"/>
                  </a:lnTo>
                  <a:lnTo>
                    <a:pt x="28" y="59"/>
                  </a:lnTo>
                  <a:lnTo>
                    <a:pt x="29" y="54"/>
                  </a:lnTo>
                  <a:lnTo>
                    <a:pt x="31" y="50"/>
                  </a:lnTo>
                  <a:lnTo>
                    <a:pt x="35" y="43"/>
                  </a:lnTo>
                  <a:lnTo>
                    <a:pt x="37" y="34"/>
                  </a:lnTo>
                  <a:lnTo>
                    <a:pt x="37" y="29"/>
                  </a:lnTo>
                  <a:lnTo>
                    <a:pt x="39" y="23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3222720" y="3214800"/>
              <a:ext cx="128520" cy="190440"/>
              <a:chOff x="3222720" y="3214800"/>
              <a:chExt cx="128520" cy="190440"/>
            </a:xfrm>
          </p:grpSpPr>
          <p:sp>
            <p:nvSpPr>
              <p:cNvPr id="2313" name=""/>
              <p:cNvSpPr/>
              <p:nvPr/>
            </p:nvSpPr>
            <p:spPr>
              <a:xfrm>
                <a:off x="3236760" y="3243240"/>
                <a:ext cx="25560" cy="138240"/>
              </a:xfrm>
              <a:custGeom>
                <a:avLst/>
                <a:gdLst/>
                <a:ahLst/>
                <a:rect l="l" t="t" r="r" b="b"/>
                <a:pathLst>
                  <a:path w="16" h="87">
                    <a:moveTo>
                      <a:pt x="15" y="0"/>
                    </a:moveTo>
                    <a:lnTo>
                      <a:pt x="14" y="6"/>
                    </a:lnTo>
                    <a:lnTo>
                      <a:pt x="13" y="12"/>
                    </a:lnTo>
                    <a:lnTo>
                      <a:pt x="11" y="18"/>
                    </a:lnTo>
                    <a:lnTo>
                      <a:pt x="8" y="24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3" y="38"/>
                    </a:lnTo>
                    <a:lnTo>
                      <a:pt x="2" y="44"/>
                    </a:lnTo>
                    <a:lnTo>
                      <a:pt x="2" y="57"/>
                    </a:lnTo>
                    <a:lnTo>
                      <a:pt x="2" y="67"/>
                    </a:lnTo>
                    <a:lnTo>
                      <a:pt x="1" y="75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22720" y="3235320"/>
                <a:ext cx="30240" cy="169920"/>
              </a:xfrm>
              <a:custGeom>
                <a:avLst/>
                <a:gdLst/>
                <a:ahLst/>
                <a:rect l="l" t="t" r="r" b="b"/>
                <a:pathLst>
                  <a:path w="19" h="107">
                    <a:moveTo>
                      <a:pt x="18" y="0"/>
                    </a:moveTo>
                    <a:lnTo>
                      <a:pt x="18" y="8"/>
                    </a:lnTo>
                    <a:lnTo>
                      <a:pt x="15" y="14"/>
                    </a:lnTo>
                    <a:lnTo>
                      <a:pt x="12" y="21"/>
                    </a:lnTo>
                    <a:lnTo>
                      <a:pt x="8" y="29"/>
                    </a:lnTo>
                    <a:lnTo>
                      <a:pt x="6" y="36"/>
                    </a:lnTo>
                    <a:lnTo>
                      <a:pt x="4" y="47"/>
                    </a:lnTo>
                    <a:lnTo>
                      <a:pt x="3" y="53"/>
                    </a:lnTo>
                    <a:lnTo>
                      <a:pt x="3" y="65"/>
                    </a:lnTo>
                    <a:lnTo>
                      <a:pt x="3" y="76"/>
                    </a:lnTo>
                    <a:lnTo>
                      <a:pt x="2" y="85"/>
                    </a:lnTo>
                    <a:lnTo>
                      <a:pt x="1" y="91"/>
                    </a:lnTo>
                    <a:lnTo>
                      <a:pt x="0" y="106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62320" y="3214800"/>
                <a:ext cx="88920" cy="47520"/>
              </a:xfrm>
              <a:custGeom>
                <a:avLst/>
                <a:gdLst/>
                <a:ahLst/>
                <a:rect l="l" t="t" r="r" b="b"/>
                <a:pathLst>
                  <a:path w="56" h="30">
                    <a:moveTo>
                      <a:pt x="0" y="8"/>
                    </a:moveTo>
                    <a:lnTo>
                      <a:pt x="6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5" y="2"/>
                    </a:lnTo>
                    <a:lnTo>
                      <a:pt x="31" y="3"/>
                    </a:lnTo>
                    <a:lnTo>
                      <a:pt x="37" y="7"/>
                    </a:lnTo>
                    <a:lnTo>
                      <a:pt x="43" y="11"/>
                    </a:lnTo>
                    <a:lnTo>
                      <a:pt x="49" y="17"/>
                    </a:lnTo>
                    <a:lnTo>
                      <a:pt x="53" y="21"/>
                    </a:lnTo>
                    <a:lnTo>
                      <a:pt x="53" y="25"/>
                    </a:lnTo>
                    <a:lnTo>
                      <a:pt x="55" y="29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274920" y="3230640"/>
                <a:ext cx="74880" cy="44280"/>
              </a:xfrm>
              <a:custGeom>
                <a:avLst/>
                <a:gdLst/>
                <a:ahLst/>
                <a:rect l="l" t="t" r="r" b="b"/>
                <a:pathLst>
                  <a:path w="47" h="28">
                    <a:moveTo>
                      <a:pt x="0" y="2"/>
                    </a:moveTo>
                    <a:lnTo>
                      <a:pt x="8" y="0"/>
                    </a:lnTo>
                    <a:lnTo>
                      <a:pt x="13" y="0"/>
                    </a:lnTo>
                    <a:lnTo>
                      <a:pt x="21" y="2"/>
                    </a:lnTo>
                    <a:lnTo>
                      <a:pt x="29" y="5"/>
                    </a:lnTo>
                    <a:lnTo>
                      <a:pt x="35" y="9"/>
                    </a:lnTo>
                    <a:lnTo>
                      <a:pt x="40" y="16"/>
                    </a:lnTo>
                    <a:lnTo>
                      <a:pt x="44" y="22"/>
                    </a:lnTo>
                    <a:lnTo>
                      <a:pt x="45" y="26"/>
                    </a:lnTo>
                    <a:lnTo>
                      <a:pt x="46" y="27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"/>
            <p:cNvSpPr/>
            <p:nvPr/>
          </p:nvSpPr>
          <p:spPr>
            <a:xfrm>
              <a:off x="3227400" y="3594240"/>
              <a:ext cx="36360" cy="253800"/>
            </a:xfrm>
            <a:custGeom>
              <a:avLst/>
              <a:gdLst/>
              <a:ahLst/>
              <a:rect l="l" t="t" r="r" b="b"/>
              <a:pathLst>
                <a:path w="23" h="160">
                  <a:moveTo>
                    <a:pt x="22" y="0"/>
                  </a:moveTo>
                  <a:lnTo>
                    <a:pt x="11" y="19"/>
                  </a:lnTo>
                  <a:lnTo>
                    <a:pt x="2" y="39"/>
                  </a:lnTo>
                  <a:lnTo>
                    <a:pt x="0" y="72"/>
                  </a:lnTo>
                  <a:lnTo>
                    <a:pt x="2" y="104"/>
                  </a:lnTo>
                  <a:lnTo>
                    <a:pt x="2" y="133"/>
                  </a:lnTo>
                  <a:lnTo>
                    <a:pt x="2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8" name=""/>
            <p:cNvGrpSpPr/>
            <p:nvPr/>
          </p:nvGrpSpPr>
          <p:grpSpPr>
            <a:xfrm>
              <a:off x="3240000" y="3371760"/>
              <a:ext cx="92160" cy="223920"/>
              <a:chOff x="3240000" y="3371760"/>
              <a:chExt cx="92160" cy="223920"/>
            </a:xfrm>
          </p:grpSpPr>
          <p:grpSp>
            <p:nvGrpSpPr>
              <p:cNvPr id="2319" name=""/>
              <p:cNvGrpSpPr/>
              <p:nvPr/>
            </p:nvGrpSpPr>
            <p:grpSpPr>
              <a:xfrm>
                <a:off x="3240000" y="3371760"/>
                <a:ext cx="92160" cy="223920"/>
                <a:chOff x="3240000" y="3371760"/>
                <a:chExt cx="92160" cy="22392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3240000" y="3371760"/>
                  <a:ext cx="92160" cy="22392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54" y="10"/>
                      </a:moveTo>
                      <a:lnTo>
                        <a:pt x="53" y="6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7" y="13"/>
                      </a:lnTo>
                      <a:lnTo>
                        <a:pt x="56" y="19"/>
                      </a:lnTo>
                      <a:lnTo>
                        <a:pt x="54" y="27"/>
                      </a:lnTo>
                      <a:lnTo>
                        <a:pt x="50" y="36"/>
                      </a:lnTo>
                      <a:lnTo>
                        <a:pt x="42" y="62"/>
                      </a:lnTo>
                      <a:lnTo>
                        <a:pt x="31" y="94"/>
                      </a:lnTo>
                      <a:lnTo>
                        <a:pt x="20" y="124"/>
                      </a:lnTo>
                      <a:lnTo>
                        <a:pt x="13" y="140"/>
                      </a:lnTo>
                      <a:lnTo>
                        <a:pt x="8" y="120"/>
                      </a:lnTo>
                      <a:lnTo>
                        <a:pt x="2" y="106"/>
                      </a:lnTo>
                      <a:lnTo>
                        <a:pt x="0" y="82"/>
                      </a:lnTo>
                      <a:lnTo>
                        <a:pt x="1" y="48"/>
                      </a:lnTo>
                      <a:lnTo>
                        <a:pt x="2" y="38"/>
                      </a:lnTo>
                      <a:lnTo>
                        <a:pt x="3" y="25"/>
                      </a:lnTo>
                      <a:lnTo>
                        <a:pt x="4" y="15"/>
                      </a:lnTo>
                      <a:lnTo>
                        <a:pt x="7" y="6"/>
                      </a:lnTo>
                      <a:lnTo>
                        <a:pt x="7" y="13"/>
                      </a:lnTo>
                      <a:lnTo>
                        <a:pt x="10" y="18"/>
                      </a:lnTo>
                      <a:lnTo>
                        <a:pt x="14" y="23"/>
                      </a:lnTo>
                      <a:lnTo>
                        <a:pt x="23" y="30"/>
                      </a:lnTo>
                      <a:lnTo>
                        <a:pt x="30" y="30"/>
                      </a:lnTo>
                      <a:lnTo>
                        <a:pt x="40" y="22"/>
                      </a:lnTo>
                      <a:lnTo>
                        <a:pt x="50" y="13"/>
                      </a:lnTo>
                      <a:lnTo>
                        <a:pt x="5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1" name=""/>
                <p:cNvGrpSpPr/>
                <p:nvPr/>
              </p:nvGrpSpPr>
              <p:grpSpPr>
                <a:xfrm>
                  <a:off x="3263760" y="3421080"/>
                  <a:ext cx="19080" cy="163440"/>
                  <a:chOff x="3263760" y="3421080"/>
                  <a:chExt cx="19080" cy="163440"/>
                </a:xfrm>
              </p:grpSpPr>
              <p:sp>
                <p:nvSpPr>
                  <p:cNvPr id="2322" name=""/>
                  <p:cNvSpPr/>
                  <p:nvPr/>
                </p:nvSpPr>
                <p:spPr>
                  <a:xfrm>
                    <a:off x="3268800" y="3421080"/>
                    <a:ext cx="140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8">
                        <a:moveTo>
                          <a:pt x="8" y="0"/>
                        </a:moveTo>
                        <a:lnTo>
                          <a:pt x="8" y="17"/>
                        </a:lnTo>
                        <a:lnTo>
                          <a:pt x="5" y="32"/>
                        </a:lnTo>
                        <a:lnTo>
                          <a:pt x="4" y="49"/>
                        </a:lnTo>
                        <a:lnTo>
                          <a:pt x="2" y="66"/>
                        </a:lnTo>
                        <a:lnTo>
                          <a:pt x="2" y="82"/>
                        </a:lnTo>
                        <a:lnTo>
                          <a:pt x="2" y="92"/>
                        </a:lnTo>
                        <a:lnTo>
                          <a:pt x="0" y="9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3263760" y="3422520"/>
                    <a:ext cx="1116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2">
                        <a:moveTo>
                          <a:pt x="6" y="0"/>
                        </a:moveTo>
                        <a:lnTo>
                          <a:pt x="6" y="10"/>
                        </a:lnTo>
                        <a:lnTo>
                          <a:pt x="5" y="16"/>
                        </a:lnTo>
                        <a:lnTo>
                          <a:pt x="3" y="34"/>
                        </a:lnTo>
                        <a:lnTo>
                          <a:pt x="2" y="52"/>
                        </a:lnTo>
                        <a:lnTo>
                          <a:pt x="1" y="70"/>
                        </a:lnTo>
                        <a:lnTo>
                          <a:pt x="1" y="85"/>
                        </a:lnTo>
                        <a:lnTo>
                          <a:pt x="1" y="95"/>
                        </a:lnTo>
                        <a:lnTo>
                          <a:pt x="0" y="10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4" name=""/>
              <p:cNvGrpSpPr/>
              <p:nvPr/>
            </p:nvGrpSpPr>
            <p:grpSpPr>
              <a:xfrm>
                <a:off x="3243240" y="3381480"/>
                <a:ext cx="87480" cy="73080"/>
                <a:chOff x="3243240" y="3381480"/>
                <a:chExt cx="87480" cy="7308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3282840" y="3424320"/>
                  <a:ext cx="12960" cy="205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2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243240" y="3387600"/>
                  <a:ext cx="39600" cy="6696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3" y="0"/>
                      </a:move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4" y="14"/>
                      </a:lnTo>
                      <a:lnTo>
                        <a:pt x="18" y="18"/>
                      </a:lnTo>
                      <a:lnTo>
                        <a:pt x="24" y="19"/>
                      </a:lnTo>
                      <a:lnTo>
                        <a:pt x="12" y="34"/>
                      </a:lnTo>
                      <a:lnTo>
                        <a:pt x="10" y="36"/>
                      </a:lnTo>
                      <a:lnTo>
                        <a:pt x="7" y="38"/>
                      </a:lnTo>
                      <a:lnTo>
                        <a:pt x="2" y="41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276720" y="3381480"/>
                  <a:ext cx="54000" cy="73080"/>
                </a:xfrm>
                <a:custGeom>
                  <a:avLst/>
                  <a:gdLst/>
                  <a:ahLst/>
                  <a:rect l="l" t="t" r="r" b="b"/>
                  <a:pathLst>
                    <a:path w="34" h="46">
                      <a:moveTo>
                        <a:pt x="0" y="24"/>
                      </a:moveTo>
                      <a:lnTo>
                        <a:pt x="6" y="32"/>
                      </a:lnTo>
                      <a:lnTo>
                        <a:pt x="11" y="38"/>
                      </a:lnTo>
                      <a:lnTo>
                        <a:pt x="14" y="41"/>
                      </a:lnTo>
                      <a:lnTo>
                        <a:pt x="19" y="45"/>
                      </a:lnTo>
                      <a:lnTo>
                        <a:pt x="24" y="38"/>
                      </a:lnTo>
                      <a:lnTo>
                        <a:pt x="28" y="26"/>
                      </a:lnTo>
                      <a:lnTo>
                        <a:pt x="31" y="15"/>
                      </a:lnTo>
                      <a:lnTo>
                        <a:pt x="33" y="10"/>
                      </a:lnTo>
                      <a:lnTo>
                        <a:pt x="33" y="4"/>
                      </a:lnTo>
                      <a:lnTo>
                        <a:pt x="32" y="0"/>
                      </a:lnTo>
                      <a:lnTo>
                        <a:pt x="29" y="4"/>
                      </a:lnTo>
                      <a:lnTo>
                        <a:pt x="27" y="6"/>
                      </a:lnTo>
                      <a:lnTo>
                        <a:pt x="23" y="10"/>
                      </a:lnTo>
                      <a:lnTo>
                        <a:pt x="19" y="14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6" y="22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8" name=""/>
            <p:cNvSpPr/>
            <p:nvPr/>
          </p:nvSpPr>
          <p:spPr>
            <a:xfrm>
              <a:off x="3267000" y="32385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274920" y="32353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286080" y="32367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3301920" y="3324240"/>
              <a:ext cx="31680" cy="19080"/>
              <a:chOff x="3301920" y="3324240"/>
              <a:chExt cx="31680" cy="19080"/>
            </a:xfrm>
          </p:grpSpPr>
          <p:sp>
            <p:nvSpPr>
              <p:cNvPr id="2332" name=""/>
              <p:cNvSpPr/>
              <p:nvPr/>
            </p:nvSpPr>
            <p:spPr>
              <a:xfrm>
                <a:off x="3301920" y="3328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3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301920" y="332424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2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3300480" y="3276720"/>
              <a:ext cx="14400" cy="36360"/>
              <a:chOff x="3300480" y="3276720"/>
              <a:chExt cx="14400" cy="36360"/>
            </a:xfrm>
          </p:grpSpPr>
          <p:sp>
            <p:nvSpPr>
              <p:cNvPr id="2335" name=""/>
              <p:cNvSpPr/>
              <p:nvPr/>
            </p:nvSpPr>
            <p:spPr>
              <a:xfrm>
                <a:off x="3309840" y="33066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00480" y="3276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3286080" y="3273480"/>
              <a:ext cx="25560" cy="17280"/>
              <a:chOff x="3286080" y="3273480"/>
              <a:chExt cx="25560" cy="17280"/>
            </a:xfrm>
          </p:grpSpPr>
          <p:sp>
            <p:nvSpPr>
              <p:cNvPr id="2338" name=""/>
              <p:cNvSpPr/>
              <p:nvPr/>
            </p:nvSpPr>
            <p:spPr>
              <a:xfrm>
                <a:off x="3286080" y="32781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4"/>
                    </a:move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4" y="6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9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39" name=""/>
              <p:cNvGrpSpPr/>
              <p:nvPr/>
            </p:nvGrpSpPr>
            <p:grpSpPr>
              <a:xfrm>
                <a:off x="3286080" y="3273480"/>
                <a:ext cx="12600" cy="12600"/>
                <a:chOff x="3286080" y="3273480"/>
                <a:chExt cx="12600" cy="12600"/>
              </a:xfrm>
            </p:grpSpPr>
            <p:grpSp>
              <p:nvGrpSpPr>
                <p:cNvPr id="2340" name=""/>
                <p:cNvGrpSpPr/>
                <p:nvPr/>
              </p:nvGrpSpPr>
              <p:grpSpPr>
                <a:xfrm>
                  <a:off x="3287880" y="3273480"/>
                  <a:ext cx="9360" cy="7920"/>
                  <a:chOff x="3287880" y="3273480"/>
                  <a:chExt cx="9360" cy="7920"/>
                </a:xfrm>
              </p:grpSpPr>
              <p:sp>
                <p:nvSpPr>
                  <p:cNvPr id="2341" name=""/>
                  <p:cNvSpPr/>
                  <p:nvPr/>
                </p:nvSpPr>
                <p:spPr>
                  <a:xfrm>
                    <a:off x="3292560" y="327816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3292560" y="3278160"/>
                    <a:ext cx="32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3287880" y="3273480"/>
                    <a:ext cx="61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3286080" y="3274920"/>
                  <a:ext cx="12600" cy="11160"/>
                  <a:chOff x="3286080" y="3274920"/>
                  <a:chExt cx="12600" cy="1116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>
                    <a:off x="3286080" y="32749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7" y="0"/>
                        </a:lnTo>
                        <a:lnTo>
                          <a:pt x="5" y="2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3286080" y="32781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4"/>
                        </a:moveTo>
                        <a:lnTo>
                          <a:pt x="1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6" y="4"/>
                        </a:ln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7" name=""/>
            <p:cNvGrpSpPr/>
            <p:nvPr/>
          </p:nvGrpSpPr>
          <p:grpSpPr>
            <a:xfrm>
              <a:off x="3324240" y="3273480"/>
              <a:ext cx="22320" cy="17280"/>
              <a:chOff x="3324240" y="3273480"/>
              <a:chExt cx="22320" cy="17280"/>
            </a:xfrm>
          </p:grpSpPr>
          <p:sp>
            <p:nvSpPr>
              <p:cNvPr id="2348" name=""/>
              <p:cNvSpPr/>
              <p:nvPr/>
            </p:nvSpPr>
            <p:spPr>
              <a:xfrm>
                <a:off x="3325680" y="327816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4"/>
                    </a:moveTo>
                    <a:lnTo>
                      <a:pt x="10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9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49" name=""/>
              <p:cNvGrpSpPr/>
              <p:nvPr/>
            </p:nvGrpSpPr>
            <p:grpSpPr>
              <a:xfrm>
                <a:off x="3324240" y="3273480"/>
                <a:ext cx="7920" cy="7920"/>
                <a:chOff x="3324240" y="3273480"/>
                <a:chExt cx="7920" cy="792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3330720" y="32767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3330720" y="32767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324240" y="3273480"/>
                  <a:ext cx="7920" cy="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3" name=""/>
              <p:cNvSpPr/>
              <p:nvPr/>
            </p:nvSpPr>
            <p:spPr>
              <a:xfrm>
                <a:off x="3327480" y="32734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30720" y="32767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5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5" name=""/>
          <p:cNvGrpSpPr/>
          <p:nvPr/>
        </p:nvGrpSpPr>
        <p:grpSpPr>
          <a:xfrm>
            <a:off x="4249800" y="3297240"/>
            <a:ext cx="476280" cy="1352520"/>
            <a:chOff x="4249800" y="3297240"/>
            <a:chExt cx="476280" cy="1352520"/>
          </a:xfrm>
        </p:grpSpPr>
        <p:grpSp>
          <p:nvGrpSpPr>
            <p:cNvPr id="2356" name=""/>
            <p:cNvGrpSpPr/>
            <p:nvPr/>
          </p:nvGrpSpPr>
          <p:grpSpPr>
            <a:xfrm>
              <a:off x="4570560" y="3701880"/>
              <a:ext cx="155520" cy="128880"/>
              <a:chOff x="4570560" y="3701880"/>
              <a:chExt cx="155520" cy="128880"/>
            </a:xfrm>
          </p:grpSpPr>
          <p:sp>
            <p:nvSpPr>
              <p:cNvPr id="2357" name=""/>
              <p:cNvSpPr/>
              <p:nvPr/>
            </p:nvSpPr>
            <p:spPr>
              <a:xfrm>
                <a:off x="4583160" y="3701880"/>
                <a:ext cx="142920" cy="122400"/>
              </a:xfrm>
              <a:custGeom>
                <a:avLst/>
                <a:gdLst/>
                <a:ahLst/>
                <a:rect l="l" t="t" r="r" b="b"/>
                <a:pathLst>
                  <a:path w="90" h="77">
                    <a:moveTo>
                      <a:pt x="0" y="44"/>
                    </a:moveTo>
                    <a:lnTo>
                      <a:pt x="9" y="42"/>
                    </a:lnTo>
                    <a:lnTo>
                      <a:pt x="18" y="29"/>
                    </a:lnTo>
                    <a:lnTo>
                      <a:pt x="20" y="22"/>
                    </a:lnTo>
                    <a:lnTo>
                      <a:pt x="25" y="18"/>
                    </a:lnTo>
                    <a:lnTo>
                      <a:pt x="32" y="15"/>
                    </a:lnTo>
                    <a:lnTo>
                      <a:pt x="41" y="7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3" y="1"/>
                    </a:lnTo>
                    <a:lnTo>
                      <a:pt x="64" y="4"/>
                    </a:lnTo>
                    <a:lnTo>
                      <a:pt x="62" y="7"/>
                    </a:lnTo>
                    <a:lnTo>
                      <a:pt x="52" y="12"/>
                    </a:lnTo>
                    <a:lnTo>
                      <a:pt x="47" y="16"/>
                    </a:lnTo>
                    <a:lnTo>
                      <a:pt x="55" y="12"/>
                    </a:lnTo>
                    <a:lnTo>
                      <a:pt x="62" y="9"/>
                    </a:lnTo>
                    <a:lnTo>
                      <a:pt x="70" y="5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0" y="8"/>
                    </a:lnTo>
                    <a:lnTo>
                      <a:pt x="84" y="9"/>
                    </a:lnTo>
                    <a:lnTo>
                      <a:pt x="85" y="11"/>
                    </a:lnTo>
                    <a:lnTo>
                      <a:pt x="84" y="16"/>
                    </a:lnTo>
                    <a:lnTo>
                      <a:pt x="81" y="18"/>
                    </a:lnTo>
                    <a:lnTo>
                      <a:pt x="75" y="23"/>
                    </a:lnTo>
                    <a:lnTo>
                      <a:pt x="66" y="31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80" y="35"/>
                    </a:lnTo>
                    <a:lnTo>
                      <a:pt x="87" y="35"/>
                    </a:lnTo>
                    <a:lnTo>
                      <a:pt x="89" y="37"/>
                    </a:lnTo>
                    <a:lnTo>
                      <a:pt x="89" y="40"/>
                    </a:lnTo>
                    <a:lnTo>
                      <a:pt x="86" y="44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63" y="47"/>
                    </a:lnTo>
                    <a:lnTo>
                      <a:pt x="55" y="51"/>
                    </a:lnTo>
                    <a:lnTo>
                      <a:pt x="48" y="57"/>
                    </a:lnTo>
                    <a:lnTo>
                      <a:pt x="41" y="64"/>
                    </a:lnTo>
                    <a:lnTo>
                      <a:pt x="37" y="66"/>
                    </a:lnTo>
                    <a:lnTo>
                      <a:pt x="27" y="66"/>
                    </a:lnTo>
                    <a:lnTo>
                      <a:pt x="22" y="67"/>
                    </a:lnTo>
                    <a:lnTo>
                      <a:pt x="9" y="76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9" y="56"/>
                    </a:lnTo>
                    <a:lnTo>
                      <a:pt x="6" y="49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603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662360" y="371952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9" y="0"/>
                    </a:moveTo>
                    <a:lnTo>
                      <a:pt x="13" y="3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570560" y="3763800"/>
                <a:ext cx="42840" cy="6696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1" y="2"/>
                    </a:moveTo>
                    <a:lnTo>
                      <a:pt x="11" y="0"/>
                    </a:lnTo>
                    <a:lnTo>
                      <a:pt x="19" y="6"/>
                    </a:lnTo>
                    <a:lnTo>
                      <a:pt x="24" y="13"/>
                    </a:lnTo>
                    <a:lnTo>
                      <a:pt x="26" y="21"/>
                    </a:lnTo>
                    <a:lnTo>
                      <a:pt x="26" y="26"/>
                    </a:lnTo>
                    <a:lnTo>
                      <a:pt x="25" y="36"/>
                    </a:lnTo>
                    <a:lnTo>
                      <a:pt x="3" y="41"/>
                    </a:lnTo>
                    <a:lnTo>
                      <a:pt x="0" y="5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0" name=""/>
            <p:cNvGrpSpPr/>
            <p:nvPr/>
          </p:nvGrpSpPr>
          <p:grpSpPr>
            <a:xfrm>
              <a:off x="4249800" y="3297240"/>
              <a:ext cx="333360" cy="1352520"/>
              <a:chOff x="4249800" y="3297240"/>
              <a:chExt cx="333360" cy="1352520"/>
            </a:xfrm>
          </p:grpSpPr>
          <p:grpSp>
            <p:nvGrpSpPr>
              <p:cNvPr id="2361" name=""/>
              <p:cNvGrpSpPr/>
              <p:nvPr/>
            </p:nvGrpSpPr>
            <p:grpSpPr>
              <a:xfrm>
                <a:off x="4249800" y="3470400"/>
                <a:ext cx="333360" cy="1179360"/>
                <a:chOff x="4249800" y="3470400"/>
                <a:chExt cx="333360" cy="1179360"/>
              </a:xfrm>
            </p:grpSpPr>
            <p:grpSp>
              <p:nvGrpSpPr>
                <p:cNvPr id="2362" name=""/>
                <p:cNvGrpSpPr/>
                <p:nvPr/>
              </p:nvGrpSpPr>
              <p:grpSpPr>
                <a:xfrm>
                  <a:off x="4308480" y="4540320"/>
                  <a:ext cx="209520" cy="109440"/>
                  <a:chOff x="4308480" y="4540320"/>
                  <a:chExt cx="209520" cy="10944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4308480" y="4540320"/>
                    <a:ext cx="209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9">
                        <a:moveTo>
                          <a:pt x="3" y="14"/>
                        </a:moveTo>
                        <a:lnTo>
                          <a:pt x="1" y="25"/>
                        </a:lnTo>
                        <a:lnTo>
                          <a:pt x="0" y="34"/>
                        </a:lnTo>
                        <a:lnTo>
                          <a:pt x="2" y="41"/>
                        </a:lnTo>
                        <a:lnTo>
                          <a:pt x="3" y="46"/>
                        </a:lnTo>
                        <a:lnTo>
                          <a:pt x="9" y="48"/>
                        </a:lnTo>
                        <a:lnTo>
                          <a:pt x="14" y="48"/>
                        </a:lnTo>
                        <a:lnTo>
                          <a:pt x="25" y="59"/>
                        </a:lnTo>
                        <a:lnTo>
                          <a:pt x="40" y="66"/>
                        </a:lnTo>
                        <a:lnTo>
                          <a:pt x="56" y="68"/>
                        </a:lnTo>
                        <a:lnTo>
                          <a:pt x="71" y="66"/>
                        </a:lnTo>
                        <a:lnTo>
                          <a:pt x="76" y="63"/>
                        </a:lnTo>
                        <a:lnTo>
                          <a:pt x="77" y="58"/>
                        </a:lnTo>
                        <a:lnTo>
                          <a:pt x="75" y="53"/>
                        </a:lnTo>
                        <a:lnTo>
                          <a:pt x="71" y="47"/>
                        </a:lnTo>
                        <a:lnTo>
                          <a:pt x="65" y="43"/>
                        </a:lnTo>
                        <a:lnTo>
                          <a:pt x="60" y="37"/>
                        </a:lnTo>
                        <a:lnTo>
                          <a:pt x="68" y="38"/>
                        </a:lnTo>
                        <a:lnTo>
                          <a:pt x="72" y="36"/>
                        </a:lnTo>
                        <a:lnTo>
                          <a:pt x="81" y="40"/>
                        </a:lnTo>
                        <a:lnTo>
                          <a:pt x="92" y="43"/>
                        </a:lnTo>
                        <a:lnTo>
                          <a:pt x="113" y="45"/>
                        </a:lnTo>
                        <a:lnTo>
                          <a:pt x="131" y="43"/>
                        </a:lnTo>
                        <a:lnTo>
                          <a:pt x="131" y="35"/>
                        </a:lnTo>
                        <a:lnTo>
                          <a:pt x="125" y="33"/>
                        </a:lnTo>
                        <a:lnTo>
                          <a:pt x="111" y="26"/>
                        </a:lnTo>
                        <a:lnTo>
                          <a:pt x="97" y="17"/>
                        </a:lnTo>
                        <a:lnTo>
                          <a:pt x="90" y="11"/>
                        </a:lnTo>
                        <a:lnTo>
                          <a:pt x="53" y="0"/>
                        </a:lnTo>
                        <a:lnTo>
                          <a:pt x="4" y="5"/>
                        </a:lnTo>
                        <a:lnTo>
                          <a:pt x="3" y="14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4340160" y="4576680"/>
                    <a:ext cx="50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5" y="1"/>
                        </a:moveTo>
                        <a:lnTo>
                          <a:pt x="16" y="2"/>
                        </a:lnTo>
                        <a:lnTo>
                          <a:pt x="21" y="0"/>
                        </a:lnTo>
                        <a:lnTo>
                          <a:pt x="31" y="9"/>
                        </a:lnTo>
                        <a:lnTo>
                          <a:pt x="22" y="11"/>
                        </a:lnTo>
                        <a:lnTo>
                          <a:pt x="7" y="12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5" y="1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4359240" y="4600440"/>
                    <a:ext cx="57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5">
                        <a:moveTo>
                          <a:pt x="0" y="4"/>
                        </a:moveTo>
                        <a:lnTo>
                          <a:pt x="7" y="9"/>
                        </a:lnTo>
                        <a:lnTo>
                          <a:pt x="17" y="12"/>
                        </a:lnTo>
                        <a:lnTo>
                          <a:pt x="26" y="14"/>
                        </a:lnTo>
                        <a:lnTo>
                          <a:pt x="32" y="13"/>
                        </a:lnTo>
                        <a:lnTo>
                          <a:pt x="35" y="12"/>
                        </a:lnTo>
                        <a:lnTo>
                          <a:pt x="28" y="6"/>
                        </a:lnTo>
                        <a:lnTo>
                          <a:pt x="22" y="0"/>
                        </a:lnTo>
                        <a:lnTo>
                          <a:pt x="13" y="3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4430880" y="4567320"/>
                    <a:ext cx="29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">
                        <a:moveTo>
                          <a:pt x="0" y="0"/>
                        </a:moveTo>
                        <a:lnTo>
                          <a:pt x="6" y="3"/>
                        </a:lnTo>
                        <a:lnTo>
                          <a:pt x="13" y="4"/>
                        </a:lnTo>
                        <a:lnTo>
                          <a:pt x="18" y="3"/>
                        </a:lnTo>
                        <a:lnTo>
                          <a:pt x="14" y="1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4459320" y="4578480"/>
                    <a:ext cx="41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5" y="0"/>
                        </a:moveTo>
                        <a:lnTo>
                          <a:pt x="0" y="2"/>
                        </a:lnTo>
                        <a:lnTo>
                          <a:pt x="6" y="5"/>
                        </a:lnTo>
                        <a:lnTo>
                          <a:pt x="16" y="6"/>
                        </a:lnTo>
                        <a:lnTo>
                          <a:pt x="25" y="7"/>
                        </a:lnTo>
                        <a:lnTo>
                          <a:pt x="18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4386240" y="4570560"/>
                    <a:ext cx="1224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0">
                        <a:moveTo>
                          <a:pt x="0" y="2"/>
                        </a:moveTo>
                        <a:lnTo>
                          <a:pt x="8" y="11"/>
                        </a:lnTo>
                        <a:lnTo>
                          <a:pt x="18" y="11"/>
                        </a:lnTo>
                        <a:lnTo>
                          <a:pt x="26" y="12"/>
                        </a:lnTo>
                        <a:lnTo>
                          <a:pt x="34" y="15"/>
                        </a:lnTo>
                        <a:lnTo>
                          <a:pt x="43" y="17"/>
                        </a:lnTo>
                        <a:lnTo>
                          <a:pt x="61" y="19"/>
                        </a:lnTo>
                        <a:lnTo>
                          <a:pt x="76" y="18"/>
                        </a:lnTo>
                        <a:lnTo>
                          <a:pt x="75" y="15"/>
                        </a:lnTo>
                        <a:lnTo>
                          <a:pt x="63" y="15"/>
                        </a:lnTo>
                        <a:lnTo>
                          <a:pt x="53" y="13"/>
                        </a:lnTo>
                        <a:lnTo>
                          <a:pt x="41" y="10"/>
                        </a:lnTo>
                        <a:lnTo>
                          <a:pt x="33" y="6"/>
                        </a:lnTo>
                        <a:lnTo>
                          <a:pt x="24" y="0"/>
                        </a:lnTo>
                        <a:lnTo>
                          <a:pt x="15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4311720" y="4581360"/>
                    <a:ext cx="109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6">
                        <a:moveTo>
                          <a:pt x="1" y="0"/>
                        </a:moveTo>
                        <a:lnTo>
                          <a:pt x="8" y="3"/>
                        </a:lnTo>
                        <a:lnTo>
                          <a:pt x="15" y="1"/>
                        </a:ln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42" y="26"/>
                        </a:lnTo>
                        <a:lnTo>
                          <a:pt x="54" y="28"/>
                        </a:lnTo>
                        <a:lnTo>
                          <a:pt x="62" y="28"/>
                        </a:lnTo>
                        <a:lnTo>
                          <a:pt x="67" y="27"/>
                        </a:lnTo>
                        <a:lnTo>
                          <a:pt x="68" y="30"/>
                        </a:lnTo>
                        <a:lnTo>
                          <a:pt x="64" y="34"/>
                        </a:lnTo>
                        <a:lnTo>
                          <a:pt x="51" y="35"/>
                        </a:lnTo>
                        <a:lnTo>
                          <a:pt x="37" y="33"/>
                        </a:lnTo>
                        <a:lnTo>
                          <a:pt x="26" y="29"/>
                        </a:lnTo>
                        <a:lnTo>
                          <a:pt x="16" y="22"/>
                        </a:lnTo>
                        <a:lnTo>
                          <a:pt x="13" y="18"/>
                        </a:lnTo>
                        <a:lnTo>
                          <a:pt x="8" y="16"/>
                        </a:lnTo>
                        <a:lnTo>
                          <a:pt x="1" y="14"/>
                        </a:lnTo>
                        <a:lnTo>
                          <a:pt x="0" y="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0" name=""/>
                <p:cNvGrpSpPr/>
                <p:nvPr/>
              </p:nvGrpSpPr>
              <p:grpSpPr>
                <a:xfrm>
                  <a:off x="4249800" y="3470400"/>
                  <a:ext cx="333360" cy="1106280"/>
                  <a:chOff x="4249800" y="3470400"/>
                  <a:chExt cx="333360" cy="110628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>
                    <a:off x="4249800" y="3486240"/>
                    <a:ext cx="333360" cy="10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687">
                        <a:moveTo>
                          <a:pt x="62" y="0"/>
                        </a:moveTo>
                        <a:lnTo>
                          <a:pt x="51" y="18"/>
                        </a:lnTo>
                        <a:lnTo>
                          <a:pt x="26" y="36"/>
                        </a:lnTo>
                        <a:lnTo>
                          <a:pt x="19" y="43"/>
                        </a:lnTo>
                        <a:lnTo>
                          <a:pt x="11" y="64"/>
                        </a:lnTo>
                        <a:lnTo>
                          <a:pt x="0" y="94"/>
                        </a:lnTo>
                        <a:lnTo>
                          <a:pt x="9" y="129"/>
                        </a:lnTo>
                        <a:lnTo>
                          <a:pt x="16" y="159"/>
                        </a:lnTo>
                        <a:lnTo>
                          <a:pt x="16" y="189"/>
                        </a:lnTo>
                        <a:lnTo>
                          <a:pt x="26" y="205"/>
                        </a:lnTo>
                        <a:lnTo>
                          <a:pt x="23" y="278"/>
                        </a:lnTo>
                        <a:lnTo>
                          <a:pt x="29" y="303"/>
                        </a:lnTo>
                        <a:lnTo>
                          <a:pt x="29" y="328"/>
                        </a:lnTo>
                        <a:lnTo>
                          <a:pt x="26" y="348"/>
                        </a:lnTo>
                        <a:lnTo>
                          <a:pt x="37" y="350"/>
                        </a:lnTo>
                        <a:lnTo>
                          <a:pt x="41" y="375"/>
                        </a:lnTo>
                        <a:lnTo>
                          <a:pt x="41" y="409"/>
                        </a:lnTo>
                        <a:lnTo>
                          <a:pt x="34" y="465"/>
                        </a:lnTo>
                        <a:lnTo>
                          <a:pt x="26" y="527"/>
                        </a:lnTo>
                        <a:lnTo>
                          <a:pt x="24" y="569"/>
                        </a:lnTo>
                        <a:lnTo>
                          <a:pt x="28" y="624"/>
                        </a:lnTo>
                        <a:lnTo>
                          <a:pt x="34" y="680"/>
                        </a:lnTo>
                        <a:lnTo>
                          <a:pt x="56" y="684"/>
                        </a:lnTo>
                        <a:lnTo>
                          <a:pt x="78" y="686"/>
                        </a:lnTo>
                        <a:lnTo>
                          <a:pt x="88" y="673"/>
                        </a:lnTo>
                        <a:lnTo>
                          <a:pt x="113" y="677"/>
                        </a:lnTo>
                        <a:lnTo>
                          <a:pt x="141" y="677"/>
                        </a:lnTo>
                        <a:lnTo>
                          <a:pt x="143" y="639"/>
                        </a:lnTo>
                        <a:lnTo>
                          <a:pt x="152" y="599"/>
                        </a:lnTo>
                        <a:lnTo>
                          <a:pt x="161" y="546"/>
                        </a:lnTo>
                        <a:lnTo>
                          <a:pt x="166" y="506"/>
                        </a:lnTo>
                        <a:lnTo>
                          <a:pt x="171" y="464"/>
                        </a:lnTo>
                        <a:lnTo>
                          <a:pt x="178" y="412"/>
                        </a:lnTo>
                        <a:lnTo>
                          <a:pt x="183" y="360"/>
                        </a:lnTo>
                        <a:lnTo>
                          <a:pt x="189" y="352"/>
                        </a:lnTo>
                        <a:lnTo>
                          <a:pt x="185" y="314"/>
                        </a:lnTo>
                        <a:lnTo>
                          <a:pt x="181" y="274"/>
                        </a:lnTo>
                        <a:lnTo>
                          <a:pt x="174" y="257"/>
                        </a:lnTo>
                        <a:lnTo>
                          <a:pt x="172" y="227"/>
                        </a:lnTo>
                        <a:lnTo>
                          <a:pt x="203" y="230"/>
                        </a:lnTo>
                        <a:lnTo>
                          <a:pt x="204" y="222"/>
                        </a:lnTo>
                        <a:lnTo>
                          <a:pt x="207" y="213"/>
                        </a:lnTo>
                        <a:lnTo>
                          <a:pt x="209" y="201"/>
                        </a:lnTo>
                        <a:lnTo>
                          <a:pt x="209" y="191"/>
                        </a:lnTo>
                        <a:lnTo>
                          <a:pt x="206" y="180"/>
                        </a:lnTo>
                        <a:lnTo>
                          <a:pt x="199" y="172"/>
                        </a:lnTo>
                        <a:lnTo>
                          <a:pt x="163" y="165"/>
                        </a:lnTo>
                        <a:lnTo>
                          <a:pt x="155" y="146"/>
                        </a:lnTo>
                        <a:lnTo>
                          <a:pt x="155" y="129"/>
                        </a:lnTo>
                        <a:lnTo>
                          <a:pt x="154" y="110"/>
                        </a:lnTo>
                        <a:lnTo>
                          <a:pt x="149" y="91"/>
                        </a:lnTo>
                        <a:lnTo>
                          <a:pt x="141" y="61"/>
                        </a:lnTo>
                        <a:lnTo>
                          <a:pt x="134" y="39"/>
                        </a:lnTo>
                        <a:lnTo>
                          <a:pt x="126" y="29"/>
                        </a:lnTo>
                        <a:lnTo>
                          <a:pt x="117" y="11"/>
                        </a:lnTo>
                        <a:lnTo>
                          <a:pt x="62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4392720" y="3935520"/>
                    <a:ext cx="13788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8">
                        <a:moveTo>
                          <a:pt x="53" y="73"/>
                        </a:moveTo>
                        <a:lnTo>
                          <a:pt x="58" y="74"/>
                        </a:lnTo>
                        <a:lnTo>
                          <a:pt x="61" y="29"/>
                        </a:lnTo>
                        <a:lnTo>
                          <a:pt x="59" y="0"/>
                        </a:lnTo>
                        <a:lnTo>
                          <a:pt x="68" y="26"/>
                        </a:lnTo>
                        <a:lnTo>
                          <a:pt x="69" y="52"/>
                        </a:lnTo>
                        <a:lnTo>
                          <a:pt x="70" y="72"/>
                        </a:lnTo>
                        <a:lnTo>
                          <a:pt x="86" y="76"/>
                        </a:lnTo>
                        <a:lnTo>
                          <a:pt x="79" y="148"/>
                        </a:lnTo>
                        <a:lnTo>
                          <a:pt x="69" y="221"/>
                        </a:lnTo>
                        <a:lnTo>
                          <a:pt x="65" y="257"/>
                        </a:lnTo>
                        <a:lnTo>
                          <a:pt x="60" y="287"/>
                        </a:lnTo>
                        <a:lnTo>
                          <a:pt x="57" y="311"/>
                        </a:lnTo>
                        <a:lnTo>
                          <a:pt x="47" y="349"/>
                        </a:lnTo>
                        <a:lnTo>
                          <a:pt x="46" y="387"/>
                        </a:lnTo>
                        <a:lnTo>
                          <a:pt x="0" y="383"/>
                        </a:lnTo>
                        <a:lnTo>
                          <a:pt x="3" y="351"/>
                        </a:lnTo>
                        <a:lnTo>
                          <a:pt x="9" y="314"/>
                        </a:lnTo>
                        <a:lnTo>
                          <a:pt x="14" y="286"/>
                        </a:lnTo>
                        <a:lnTo>
                          <a:pt x="19" y="256"/>
                        </a:lnTo>
                        <a:lnTo>
                          <a:pt x="22" y="231"/>
                        </a:lnTo>
                        <a:lnTo>
                          <a:pt x="28" y="206"/>
                        </a:lnTo>
                        <a:lnTo>
                          <a:pt x="39" y="166"/>
                        </a:lnTo>
                        <a:lnTo>
                          <a:pt x="43" y="140"/>
                        </a:lnTo>
                        <a:lnTo>
                          <a:pt x="49" y="98"/>
                        </a:lnTo>
                        <a:lnTo>
                          <a:pt x="53" y="73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4255920" y="3470400"/>
                    <a:ext cx="314640" cy="1092240"/>
                    <a:chOff x="4255920" y="3470400"/>
                    <a:chExt cx="314640" cy="1092240"/>
                  </a:xfrm>
                </p:grpSpPr>
                <p:sp>
                  <p:nvSpPr>
                    <p:cNvPr id="2374" name=""/>
                    <p:cNvSpPr/>
                    <p:nvPr/>
                  </p:nvSpPr>
                  <p:spPr>
                    <a:xfrm>
                      <a:off x="4273560" y="3495600"/>
                      <a:ext cx="22068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56">
                          <a:moveTo>
                            <a:pt x="47" y="0"/>
                          </a:moveTo>
                          <a:lnTo>
                            <a:pt x="60" y="12"/>
                          </a:lnTo>
                          <a:lnTo>
                            <a:pt x="86" y="51"/>
                          </a:lnTo>
                          <a:lnTo>
                            <a:pt x="95" y="66"/>
                          </a:lnTo>
                          <a:lnTo>
                            <a:pt x="103" y="79"/>
                          </a:lnTo>
                          <a:lnTo>
                            <a:pt x="119" y="114"/>
                          </a:lnTo>
                          <a:lnTo>
                            <a:pt x="131" y="138"/>
                          </a:lnTo>
                          <a:lnTo>
                            <a:pt x="138" y="155"/>
                          </a:lnTo>
                          <a:lnTo>
                            <a:pt x="132" y="154"/>
                          </a:lnTo>
                          <a:lnTo>
                            <a:pt x="126" y="137"/>
                          </a:lnTo>
                          <a:lnTo>
                            <a:pt x="110" y="116"/>
                          </a:lnTo>
                          <a:lnTo>
                            <a:pt x="94" y="89"/>
                          </a:lnTo>
                          <a:lnTo>
                            <a:pt x="77" y="76"/>
                          </a:lnTo>
                          <a:lnTo>
                            <a:pt x="86" y="58"/>
                          </a:lnTo>
                          <a:lnTo>
                            <a:pt x="65" y="51"/>
                          </a:lnTo>
                          <a:lnTo>
                            <a:pt x="44" y="21"/>
                          </a:lnTo>
                          <a:lnTo>
                            <a:pt x="59" y="48"/>
                          </a:lnTo>
                          <a:lnTo>
                            <a:pt x="70" y="57"/>
                          </a:lnTo>
                          <a:lnTo>
                            <a:pt x="80" y="60"/>
                          </a:lnTo>
                          <a:lnTo>
                            <a:pt x="75" y="76"/>
                          </a:lnTo>
                          <a:lnTo>
                            <a:pt x="98" y="99"/>
                          </a:lnTo>
                          <a:lnTo>
                            <a:pt x="107" y="120"/>
                          </a:lnTo>
                          <a:lnTo>
                            <a:pt x="122" y="138"/>
                          </a:lnTo>
                          <a:lnTo>
                            <a:pt x="128" y="155"/>
                          </a:lnTo>
                          <a:lnTo>
                            <a:pt x="119" y="151"/>
                          </a:lnTo>
                          <a:lnTo>
                            <a:pt x="110" y="144"/>
                          </a:lnTo>
                          <a:lnTo>
                            <a:pt x="101" y="140"/>
                          </a:lnTo>
                          <a:lnTo>
                            <a:pt x="95" y="128"/>
                          </a:lnTo>
                          <a:lnTo>
                            <a:pt x="86" y="116"/>
                          </a:lnTo>
                          <a:lnTo>
                            <a:pt x="81" y="110"/>
                          </a:lnTo>
                          <a:lnTo>
                            <a:pt x="77" y="100"/>
                          </a:lnTo>
                          <a:lnTo>
                            <a:pt x="59" y="66"/>
                          </a:lnTo>
                          <a:lnTo>
                            <a:pt x="44" y="42"/>
                          </a:lnTo>
                          <a:lnTo>
                            <a:pt x="29" y="37"/>
                          </a:lnTo>
                          <a:lnTo>
                            <a:pt x="11" y="40"/>
                          </a:lnTo>
                          <a:lnTo>
                            <a:pt x="0" y="52"/>
                          </a:lnTo>
                          <a:lnTo>
                            <a:pt x="8" y="36"/>
                          </a:lnTo>
                          <a:lnTo>
                            <a:pt x="19" y="27"/>
                          </a:lnTo>
                          <a:lnTo>
                            <a:pt x="37" y="16"/>
                          </a:lnTo>
                          <a:lnTo>
                            <a:pt x="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/>
                    <p:nvPr/>
                  </p:nvSpPr>
                  <p:spPr>
                    <a:xfrm>
                      <a:off x="4255920" y="3627360"/>
                      <a:ext cx="314640" cy="21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33">
                          <a:moveTo>
                            <a:pt x="0" y="5"/>
                          </a:moveTo>
                          <a:lnTo>
                            <a:pt x="11" y="29"/>
                          </a:lnTo>
                          <a:lnTo>
                            <a:pt x="22" y="47"/>
                          </a:lnTo>
                          <a:lnTo>
                            <a:pt x="40" y="66"/>
                          </a:lnTo>
                          <a:lnTo>
                            <a:pt x="62" y="87"/>
                          </a:lnTo>
                          <a:lnTo>
                            <a:pt x="77" y="100"/>
                          </a:lnTo>
                          <a:lnTo>
                            <a:pt x="87" y="113"/>
                          </a:lnTo>
                          <a:lnTo>
                            <a:pt x="111" y="118"/>
                          </a:lnTo>
                          <a:lnTo>
                            <a:pt x="139" y="125"/>
                          </a:lnTo>
                          <a:lnTo>
                            <a:pt x="170" y="129"/>
                          </a:lnTo>
                          <a:lnTo>
                            <a:pt x="190" y="132"/>
                          </a:lnTo>
                          <a:lnTo>
                            <a:pt x="196" y="115"/>
                          </a:lnTo>
                          <a:lnTo>
                            <a:pt x="197" y="101"/>
                          </a:lnTo>
                          <a:lnTo>
                            <a:pt x="194" y="91"/>
                          </a:lnTo>
                          <a:lnTo>
                            <a:pt x="189" y="83"/>
                          </a:lnTo>
                          <a:lnTo>
                            <a:pt x="175" y="80"/>
                          </a:lnTo>
                          <a:lnTo>
                            <a:pt x="151" y="77"/>
                          </a:lnTo>
                          <a:lnTo>
                            <a:pt x="131" y="73"/>
                          </a:lnTo>
                          <a:lnTo>
                            <a:pt x="118" y="63"/>
                          </a:lnTo>
                          <a:lnTo>
                            <a:pt x="111" y="63"/>
                          </a:lnTo>
                          <a:lnTo>
                            <a:pt x="109" y="54"/>
                          </a:lnTo>
                          <a:lnTo>
                            <a:pt x="98" y="38"/>
                          </a:lnTo>
                          <a:lnTo>
                            <a:pt x="86" y="41"/>
                          </a:lnTo>
                          <a:lnTo>
                            <a:pt x="56" y="36"/>
                          </a:lnTo>
                          <a:lnTo>
                            <a:pt x="39" y="30"/>
                          </a:lnTo>
                          <a:lnTo>
                            <a:pt x="20" y="18"/>
                          </a:lnTo>
                          <a:lnTo>
                            <a:pt x="6" y="8"/>
                          </a:lnTo>
                          <a:lnTo>
                            <a:pt x="1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>
                      <a:off x="4259160" y="3562200"/>
                      <a:ext cx="142920" cy="1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76">
                          <a:moveTo>
                            <a:pt x="4" y="43"/>
                          </a:moveTo>
                          <a:lnTo>
                            <a:pt x="27" y="60"/>
                          </a:lnTo>
                          <a:lnTo>
                            <a:pt x="47" y="69"/>
                          </a:lnTo>
                          <a:lnTo>
                            <a:pt x="71" y="75"/>
                          </a:lnTo>
                          <a:lnTo>
                            <a:pt x="89" y="75"/>
                          </a:lnTo>
                          <a:lnTo>
                            <a:pt x="75" y="67"/>
                          </a:lnTo>
                          <a:lnTo>
                            <a:pt x="53" y="57"/>
                          </a:lnTo>
                          <a:lnTo>
                            <a:pt x="35" y="51"/>
                          </a:lnTo>
                          <a:lnTo>
                            <a:pt x="17" y="42"/>
                          </a:lnTo>
                          <a:lnTo>
                            <a:pt x="33" y="43"/>
                          </a:lnTo>
                          <a:lnTo>
                            <a:pt x="49" y="51"/>
                          </a:lnTo>
                          <a:lnTo>
                            <a:pt x="75" y="63"/>
                          </a:lnTo>
                          <a:lnTo>
                            <a:pt x="54" y="45"/>
                          </a:lnTo>
                          <a:lnTo>
                            <a:pt x="37" y="32"/>
                          </a:lnTo>
                          <a:lnTo>
                            <a:pt x="24" y="24"/>
                          </a:lnTo>
                          <a:lnTo>
                            <a:pt x="16" y="21"/>
                          </a:lnTo>
                          <a:lnTo>
                            <a:pt x="33" y="19"/>
                          </a:lnTo>
                          <a:lnTo>
                            <a:pt x="48" y="29"/>
                          </a:lnTo>
                          <a:lnTo>
                            <a:pt x="64" y="45"/>
                          </a:lnTo>
                          <a:lnTo>
                            <a:pt x="78" y="62"/>
                          </a:lnTo>
                          <a:lnTo>
                            <a:pt x="85" y="69"/>
                          </a:lnTo>
                          <a:lnTo>
                            <a:pt x="78" y="54"/>
                          </a:lnTo>
                          <a:lnTo>
                            <a:pt x="67" y="39"/>
                          </a:lnTo>
                          <a:lnTo>
                            <a:pt x="52" y="22"/>
                          </a:lnTo>
                          <a:lnTo>
                            <a:pt x="36" y="15"/>
                          </a:lnTo>
                          <a:lnTo>
                            <a:pt x="24" y="13"/>
                          </a:lnTo>
                          <a:lnTo>
                            <a:pt x="16" y="15"/>
                          </a:lnTo>
                          <a:lnTo>
                            <a:pt x="19" y="10"/>
                          </a:lnTo>
                          <a:lnTo>
                            <a:pt x="35" y="10"/>
                          </a:lnTo>
                          <a:lnTo>
                            <a:pt x="45" y="15"/>
                          </a:lnTo>
                          <a:lnTo>
                            <a:pt x="55" y="22"/>
                          </a:lnTo>
                          <a:lnTo>
                            <a:pt x="62" y="29"/>
                          </a:lnTo>
                          <a:lnTo>
                            <a:pt x="73" y="43"/>
                          </a:lnTo>
                          <a:lnTo>
                            <a:pt x="63" y="24"/>
                          </a:lnTo>
                          <a:lnTo>
                            <a:pt x="54" y="13"/>
                          </a:lnTo>
                          <a:lnTo>
                            <a:pt x="47" y="1"/>
                          </a:lnTo>
                          <a:lnTo>
                            <a:pt x="37" y="0"/>
                          </a:lnTo>
                          <a:lnTo>
                            <a:pt x="28" y="0"/>
                          </a:lnTo>
                          <a:lnTo>
                            <a:pt x="21" y="4"/>
                          </a:lnTo>
                          <a:lnTo>
                            <a:pt x="11" y="10"/>
                          </a:lnTo>
                          <a:lnTo>
                            <a:pt x="4" y="24"/>
                          </a:lnTo>
                          <a:lnTo>
                            <a:pt x="0" y="37"/>
                          </a:lnTo>
                          <a:lnTo>
                            <a:pt x="4" y="43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7" name=""/>
                    <p:cNvSpPr/>
                    <p:nvPr/>
                  </p:nvSpPr>
                  <p:spPr>
                    <a:xfrm>
                      <a:off x="4257720" y="3643200"/>
                      <a:ext cx="243000" cy="40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53">
                          <a:moveTo>
                            <a:pt x="0" y="0"/>
                          </a:moveTo>
                          <a:lnTo>
                            <a:pt x="7" y="20"/>
                          </a:lnTo>
                          <a:lnTo>
                            <a:pt x="18" y="39"/>
                          </a:lnTo>
                          <a:lnTo>
                            <a:pt x="40" y="61"/>
                          </a:lnTo>
                          <a:lnTo>
                            <a:pt x="53" y="77"/>
                          </a:lnTo>
                          <a:lnTo>
                            <a:pt x="71" y="91"/>
                          </a:lnTo>
                          <a:lnTo>
                            <a:pt x="81" y="108"/>
                          </a:lnTo>
                          <a:lnTo>
                            <a:pt x="98" y="111"/>
                          </a:lnTo>
                          <a:lnTo>
                            <a:pt x="132" y="120"/>
                          </a:lnTo>
                          <a:lnTo>
                            <a:pt x="147" y="121"/>
                          </a:lnTo>
                          <a:lnTo>
                            <a:pt x="152" y="123"/>
                          </a:lnTo>
                          <a:lnTo>
                            <a:pt x="144" y="154"/>
                          </a:lnTo>
                          <a:lnTo>
                            <a:pt x="141" y="176"/>
                          </a:lnTo>
                          <a:lnTo>
                            <a:pt x="142" y="212"/>
                          </a:lnTo>
                          <a:lnTo>
                            <a:pt x="140" y="250"/>
                          </a:lnTo>
                          <a:lnTo>
                            <a:pt x="126" y="252"/>
                          </a:lnTo>
                          <a:lnTo>
                            <a:pt x="96" y="250"/>
                          </a:lnTo>
                          <a:lnTo>
                            <a:pt x="51" y="245"/>
                          </a:lnTo>
                          <a:lnTo>
                            <a:pt x="26" y="241"/>
                          </a:lnTo>
                          <a:lnTo>
                            <a:pt x="27" y="211"/>
                          </a:lnTo>
                          <a:lnTo>
                            <a:pt x="23" y="185"/>
                          </a:lnTo>
                          <a:lnTo>
                            <a:pt x="23" y="162"/>
                          </a:lnTo>
                          <a:lnTo>
                            <a:pt x="26" y="108"/>
                          </a:lnTo>
                          <a:lnTo>
                            <a:pt x="25" y="101"/>
                          </a:lnTo>
                          <a:lnTo>
                            <a:pt x="15" y="89"/>
                          </a:lnTo>
                          <a:lnTo>
                            <a:pt x="15" y="69"/>
                          </a:lnTo>
                          <a:lnTo>
                            <a:pt x="14" y="55"/>
                          </a:lnTo>
                          <a:lnTo>
                            <a:pt x="11" y="42"/>
                          </a:lnTo>
                          <a:lnTo>
                            <a:pt x="8" y="3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8" name=""/>
                    <p:cNvSpPr/>
                    <p:nvPr/>
                  </p:nvSpPr>
                  <p:spPr>
                    <a:xfrm>
                      <a:off x="4492800" y="3841920"/>
                      <a:ext cx="4572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29">
                          <a:moveTo>
                            <a:pt x="15" y="1"/>
                          </a:moveTo>
                          <a:lnTo>
                            <a:pt x="7" y="0"/>
                          </a:lnTo>
                          <a:lnTo>
                            <a:pt x="1" y="28"/>
                          </a:lnTo>
                          <a:lnTo>
                            <a:pt x="0" y="51"/>
                          </a:lnTo>
                          <a:lnTo>
                            <a:pt x="8" y="82"/>
                          </a:lnTo>
                          <a:lnTo>
                            <a:pt x="12" y="125"/>
                          </a:lnTo>
                          <a:lnTo>
                            <a:pt x="25" y="128"/>
                          </a:lnTo>
                          <a:lnTo>
                            <a:pt x="28" y="122"/>
                          </a:lnTo>
                          <a:lnTo>
                            <a:pt x="27" y="107"/>
                          </a:lnTo>
                          <a:lnTo>
                            <a:pt x="24" y="75"/>
                          </a:lnTo>
                          <a:lnTo>
                            <a:pt x="23" y="51"/>
                          </a:lnTo>
                          <a:lnTo>
                            <a:pt x="16" y="34"/>
                          </a:lnTo>
                          <a:lnTo>
                            <a:pt x="16" y="10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9" name=""/>
                    <p:cNvSpPr/>
                    <p:nvPr/>
                  </p:nvSpPr>
                  <p:spPr>
                    <a:xfrm>
                      <a:off x="4292640" y="4041720"/>
                      <a:ext cx="120600" cy="52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328">
                          <a:moveTo>
                            <a:pt x="13" y="0"/>
                          </a:moveTo>
                          <a:lnTo>
                            <a:pt x="75" y="7"/>
                          </a:lnTo>
                          <a:lnTo>
                            <a:pt x="71" y="71"/>
                          </a:lnTo>
                          <a:lnTo>
                            <a:pt x="63" y="125"/>
                          </a:lnTo>
                          <a:lnTo>
                            <a:pt x="57" y="186"/>
                          </a:lnTo>
                          <a:lnTo>
                            <a:pt x="51" y="237"/>
                          </a:lnTo>
                          <a:lnTo>
                            <a:pt x="49" y="288"/>
                          </a:lnTo>
                          <a:lnTo>
                            <a:pt x="46" y="327"/>
                          </a:lnTo>
                          <a:lnTo>
                            <a:pt x="27" y="326"/>
                          </a:lnTo>
                          <a:lnTo>
                            <a:pt x="9" y="321"/>
                          </a:lnTo>
                          <a:lnTo>
                            <a:pt x="3" y="251"/>
                          </a:lnTo>
                          <a:lnTo>
                            <a:pt x="0" y="213"/>
                          </a:lnTo>
                          <a:lnTo>
                            <a:pt x="5" y="162"/>
                          </a:lnTo>
                          <a:lnTo>
                            <a:pt x="10" y="114"/>
                          </a:lnTo>
                          <a:lnTo>
                            <a:pt x="14" y="84"/>
                          </a:lnTo>
                          <a:lnTo>
                            <a:pt x="17" y="62"/>
                          </a:lnTo>
                          <a:lnTo>
                            <a:pt x="17" y="39"/>
                          </a:lnTo>
                          <a:lnTo>
                            <a:pt x="17" y="2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>
                      <a:off x="4375080" y="4051440"/>
                      <a:ext cx="93600" cy="50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318">
                          <a:moveTo>
                            <a:pt x="29" y="0"/>
                          </a:moveTo>
                          <a:lnTo>
                            <a:pt x="58" y="1"/>
                          </a:lnTo>
                          <a:lnTo>
                            <a:pt x="52" y="50"/>
                          </a:lnTo>
                          <a:lnTo>
                            <a:pt x="42" y="105"/>
                          </a:lnTo>
                          <a:lnTo>
                            <a:pt x="30" y="152"/>
                          </a:lnTo>
                          <a:lnTo>
                            <a:pt x="23" y="199"/>
                          </a:lnTo>
                          <a:lnTo>
                            <a:pt x="17" y="235"/>
                          </a:lnTo>
                          <a:lnTo>
                            <a:pt x="11" y="276"/>
                          </a:lnTo>
                          <a:lnTo>
                            <a:pt x="8" y="308"/>
                          </a:lnTo>
                          <a:lnTo>
                            <a:pt x="0" y="317"/>
                          </a:lnTo>
                          <a:lnTo>
                            <a:pt x="5" y="249"/>
                          </a:lnTo>
                          <a:lnTo>
                            <a:pt x="10" y="195"/>
                          </a:lnTo>
                          <a:lnTo>
                            <a:pt x="12" y="145"/>
                          </a:lnTo>
                          <a:lnTo>
                            <a:pt x="17" y="110"/>
                          </a:lnTo>
                          <a:lnTo>
                            <a:pt x="20" y="75"/>
                          </a:lnTo>
                          <a:lnTo>
                            <a:pt x="24" y="38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81" name=""/>
                    <p:cNvGrpSpPr/>
                    <p:nvPr/>
                  </p:nvGrpSpPr>
                  <p:grpSpPr>
                    <a:xfrm>
                      <a:off x="4351320" y="3470400"/>
                      <a:ext cx="138240" cy="242640"/>
                      <a:chOff x="4351320" y="3470400"/>
                      <a:chExt cx="138240" cy="242640"/>
                    </a:xfrm>
                  </p:grpSpPr>
                  <p:sp>
                    <p:nvSpPr>
                      <p:cNvPr id="2382" name=""/>
                      <p:cNvSpPr/>
                      <p:nvPr/>
                    </p:nvSpPr>
                    <p:spPr>
                      <a:xfrm>
                        <a:off x="4351320" y="3470400"/>
                        <a:ext cx="138240" cy="2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153">
                            <a:moveTo>
                              <a:pt x="7" y="0"/>
                            </a:moveTo>
                            <a:lnTo>
                              <a:pt x="0" y="12"/>
                            </a:lnTo>
                            <a:lnTo>
                              <a:pt x="15" y="27"/>
                            </a:lnTo>
                            <a:lnTo>
                              <a:pt x="33" y="52"/>
                            </a:lnTo>
                            <a:lnTo>
                              <a:pt x="52" y="79"/>
                            </a:lnTo>
                            <a:lnTo>
                              <a:pt x="64" y="104"/>
                            </a:lnTo>
                            <a:lnTo>
                              <a:pt x="77" y="134"/>
                            </a:lnTo>
                            <a:lnTo>
                              <a:pt x="86" y="152"/>
                            </a:lnTo>
                            <a:lnTo>
                              <a:pt x="86" y="132"/>
                            </a:lnTo>
                            <a:lnTo>
                              <a:pt x="77" y="94"/>
                            </a:lnTo>
                            <a:lnTo>
                              <a:pt x="70" y="68"/>
                            </a:lnTo>
                            <a:lnTo>
                              <a:pt x="64" y="54"/>
                            </a:lnTo>
                            <a:lnTo>
                              <a:pt x="58" y="34"/>
                            </a:lnTo>
                            <a:lnTo>
                              <a:pt x="58" y="19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3" name=""/>
                      <p:cNvSpPr/>
                      <p:nvPr/>
                    </p:nvSpPr>
                    <p:spPr>
                      <a:xfrm>
                        <a:off x="4422600" y="3524400"/>
                        <a:ext cx="66960" cy="18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119">
                            <a:moveTo>
                              <a:pt x="11" y="0"/>
                            </a:moveTo>
                            <a:lnTo>
                              <a:pt x="0" y="15"/>
                            </a:lnTo>
                            <a:lnTo>
                              <a:pt x="9" y="19"/>
                            </a:lnTo>
                            <a:lnTo>
                              <a:pt x="11" y="26"/>
                            </a:lnTo>
                            <a:lnTo>
                              <a:pt x="10" y="50"/>
                            </a:lnTo>
                            <a:lnTo>
                              <a:pt x="40" y="118"/>
                            </a:lnTo>
                            <a:lnTo>
                              <a:pt x="41" y="97"/>
                            </a:lnTo>
                            <a:lnTo>
                              <a:pt x="32" y="57"/>
                            </a:lnTo>
                            <a:lnTo>
                              <a:pt x="24" y="32"/>
                            </a:lnTo>
                            <a:lnTo>
                              <a:pt x="21" y="18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4" name=""/>
                      <p:cNvSpPr/>
                      <p:nvPr/>
                    </p:nvSpPr>
                    <p:spPr>
                      <a:xfrm>
                        <a:off x="4356000" y="3476520"/>
                        <a:ext cx="7632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48">
                            <a:moveTo>
                              <a:pt x="4" y="0"/>
                            </a:moveTo>
                            <a:lnTo>
                              <a:pt x="0" y="8"/>
                            </a:lnTo>
                            <a:lnTo>
                              <a:pt x="12" y="19"/>
                            </a:lnTo>
                            <a:lnTo>
                              <a:pt x="21" y="31"/>
                            </a:lnTo>
                            <a:lnTo>
                              <a:pt x="31" y="47"/>
                            </a:lnTo>
                            <a:lnTo>
                              <a:pt x="37" y="37"/>
                            </a:lnTo>
                            <a:lnTo>
                              <a:pt x="43" y="29"/>
                            </a:lnTo>
                            <a:lnTo>
                              <a:pt x="47" y="25"/>
                            </a:lnTo>
                            <a:lnTo>
                              <a:pt x="46" y="24"/>
                            </a:lnTo>
                            <a:lnTo>
                              <a:pt x="41" y="25"/>
                            </a:lnTo>
                            <a:lnTo>
                              <a:pt x="36" y="25"/>
                            </a:lnTo>
                            <a:lnTo>
                              <a:pt x="19" y="17"/>
                            </a:lnTo>
                            <a:lnTo>
                              <a:pt x="10" y="9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"/>
                      <p:cNvSpPr/>
                      <p:nvPr/>
                    </p:nvSpPr>
                    <p:spPr>
                      <a:xfrm>
                        <a:off x="4413240" y="3549600"/>
                        <a:ext cx="1584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3">
                            <a:moveTo>
                              <a:pt x="3" y="0"/>
                            </a:moveTo>
                            <a:lnTo>
                              <a:pt x="0" y="5"/>
                            </a:lnTo>
                            <a:lnTo>
                              <a:pt x="9" y="22"/>
                            </a:lnTo>
                            <a:lnTo>
                              <a:pt x="9" y="10"/>
                            </a:lnTo>
                            <a:lnTo>
                              <a:pt x="9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86" name=""/>
                    <p:cNvSpPr/>
                    <p:nvPr/>
                  </p:nvSpPr>
                  <p:spPr>
                    <a:xfrm>
                      <a:off x="4492800" y="3854520"/>
                      <a:ext cx="1440" cy="612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/>
                    <p:nvPr/>
                  </p:nvSpPr>
                  <p:spPr>
                    <a:xfrm>
                      <a:off x="4317840" y="3890880"/>
                      <a:ext cx="98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29">
                          <a:moveTo>
                            <a:pt x="54" y="0"/>
                          </a:moveTo>
                          <a:lnTo>
                            <a:pt x="57" y="23"/>
                          </a:lnTo>
                          <a:lnTo>
                            <a:pt x="39" y="25"/>
                          </a:lnTo>
                          <a:lnTo>
                            <a:pt x="0" y="25"/>
                          </a:lnTo>
                          <a:lnTo>
                            <a:pt x="6" y="26"/>
                          </a:lnTo>
                          <a:lnTo>
                            <a:pt x="61" y="28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88" name=""/>
              <p:cNvGrpSpPr/>
              <p:nvPr/>
            </p:nvGrpSpPr>
            <p:grpSpPr>
              <a:xfrm>
                <a:off x="4332240" y="3297240"/>
                <a:ext cx="147600" cy="220680"/>
                <a:chOff x="4332240" y="3297240"/>
                <a:chExt cx="147600" cy="22068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4332240" y="32972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93" h="93">
                      <a:moveTo>
                        <a:pt x="10" y="85"/>
                      </a:moveTo>
                      <a:lnTo>
                        <a:pt x="7" y="79"/>
                      </a:lnTo>
                      <a:lnTo>
                        <a:pt x="1" y="69"/>
                      </a:lnTo>
                      <a:lnTo>
                        <a:pt x="0" y="57"/>
                      </a:lnTo>
                      <a:lnTo>
                        <a:pt x="1" y="49"/>
                      </a:lnTo>
                      <a:lnTo>
                        <a:pt x="1" y="36"/>
                      </a:lnTo>
                      <a:lnTo>
                        <a:pt x="8" y="18"/>
                      </a:lnTo>
                      <a:lnTo>
                        <a:pt x="20" y="7"/>
                      </a:lnTo>
                      <a:lnTo>
                        <a:pt x="35" y="1"/>
                      </a:lnTo>
                      <a:lnTo>
                        <a:pt x="49" y="0"/>
                      </a:lnTo>
                      <a:lnTo>
                        <a:pt x="70" y="4"/>
                      </a:lnTo>
                      <a:lnTo>
                        <a:pt x="82" y="16"/>
                      </a:lnTo>
                      <a:lnTo>
                        <a:pt x="89" y="30"/>
                      </a:lnTo>
                      <a:lnTo>
                        <a:pt x="91" y="43"/>
                      </a:lnTo>
                      <a:lnTo>
                        <a:pt x="91" y="55"/>
                      </a:lnTo>
                      <a:lnTo>
                        <a:pt x="92" y="64"/>
                      </a:lnTo>
                      <a:lnTo>
                        <a:pt x="90" y="70"/>
                      </a:lnTo>
                      <a:lnTo>
                        <a:pt x="85" y="82"/>
                      </a:lnTo>
                      <a:lnTo>
                        <a:pt x="21" y="92"/>
                      </a:lnTo>
                      <a:lnTo>
                        <a:pt x="10" y="85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348080" y="3324240"/>
                  <a:ext cx="130320" cy="193680"/>
                </a:xfrm>
                <a:custGeom>
                  <a:avLst/>
                  <a:gdLst/>
                  <a:ahLst/>
                  <a:rect l="l" t="t" r="r" b="b"/>
                  <a:pathLst>
                    <a:path w="82" h="122">
                      <a:moveTo>
                        <a:pt x="16" y="5"/>
                      </a:moveTo>
                      <a:lnTo>
                        <a:pt x="8" y="12"/>
                      </a:lnTo>
                      <a:lnTo>
                        <a:pt x="5" y="15"/>
                      </a:lnTo>
                      <a:lnTo>
                        <a:pt x="7" y="27"/>
                      </a:lnTo>
                      <a:lnTo>
                        <a:pt x="8" y="37"/>
                      </a:lnTo>
                      <a:lnTo>
                        <a:pt x="8" y="51"/>
                      </a:lnTo>
                      <a:lnTo>
                        <a:pt x="7" y="54"/>
                      </a:lnTo>
                      <a:lnTo>
                        <a:pt x="5" y="52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9"/>
                      </a:lnTo>
                      <a:lnTo>
                        <a:pt x="1" y="67"/>
                      </a:lnTo>
                      <a:lnTo>
                        <a:pt x="4" y="73"/>
                      </a:lnTo>
                      <a:lnTo>
                        <a:pt x="5" y="76"/>
                      </a:lnTo>
                      <a:lnTo>
                        <a:pt x="8" y="80"/>
                      </a:lnTo>
                      <a:lnTo>
                        <a:pt x="10" y="91"/>
                      </a:lnTo>
                      <a:lnTo>
                        <a:pt x="16" y="101"/>
                      </a:lnTo>
                      <a:lnTo>
                        <a:pt x="22" y="108"/>
                      </a:lnTo>
                      <a:lnTo>
                        <a:pt x="27" y="112"/>
                      </a:lnTo>
                      <a:lnTo>
                        <a:pt x="34" y="116"/>
                      </a:lnTo>
                      <a:lnTo>
                        <a:pt x="40" y="119"/>
                      </a:lnTo>
                      <a:lnTo>
                        <a:pt x="46" y="121"/>
                      </a:lnTo>
                      <a:lnTo>
                        <a:pt x="51" y="121"/>
                      </a:lnTo>
                      <a:lnTo>
                        <a:pt x="56" y="120"/>
                      </a:lnTo>
                      <a:lnTo>
                        <a:pt x="58" y="114"/>
                      </a:lnTo>
                      <a:lnTo>
                        <a:pt x="61" y="106"/>
                      </a:lnTo>
                      <a:lnTo>
                        <a:pt x="62" y="102"/>
                      </a:lnTo>
                      <a:lnTo>
                        <a:pt x="67" y="98"/>
                      </a:lnTo>
                      <a:lnTo>
                        <a:pt x="69" y="94"/>
                      </a:lnTo>
                      <a:lnTo>
                        <a:pt x="73" y="89"/>
                      </a:lnTo>
                      <a:lnTo>
                        <a:pt x="74" y="83"/>
                      </a:lnTo>
                      <a:lnTo>
                        <a:pt x="75" y="77"/>
                      </a:lnTo>
                      <a:lnTo>
                        <a:pt x="79" y="73"/>
                      </a:lnTo>
                      <a:lnTo>
                        <a:pt x="80" y="67"/>
                      </a:lnTo>
                      <a:lnTo>
                        <a:pt x="81" y="59"/>
                      </a:lnTo>
                      <a:lnTo>
                        <a:pt x="81" y="54"/>
                      </a:lnTo>
                      <a:lnTo>
                        <a:pt x="80" y="49"/>
                      </a:lnTo>
                      <a:lnTo>
                        <a:pt x="79" y="48"/>
                      </a:lnTo>
                      <a:lnTo>
                        <a:pt x="76" y="49"/>
                      </a:lnTo>
                      <a:lnTo>
                        <a:pt x="77" y="44"/>
                      </a:lnTo>
                      <a:lnTo>
                        <a:pt x="76" y="36"/>
                      </a:lnTo>
                      <a:lnTo>
                        <a:pt x="76" y="27"/>
                      </a:lnTo>
                      <a:lnTo>
                        <a:pt x="74" y="20"/>
                      </a:lnTo>
                      <a:lnTo>
                        <a:pt x="71" y="13"/>
                      </a:lnTo>
                      <a:lnTo>
                        <a:pt x="66" y="5"/>
                      </a:lnTo>
                      <a:lnTo>
                        <a:pt x="59" y="1"/>
                      </a:lnTo>
                      <a:lnTo>
                        <a:pt x="53" y="0"/>
                      </a:lnTo>
                      <a:lnTo>
                        <a:pt x="47" y="3"/>
                      </a:lnTo>
                      <a:lnTo>
                        <a:pt x="39" y="7"/>
                      </a:lnTo>
                      <a:lnTo>
                        <a:pt x="32" y="7"/>
                      </a:lnTo>
                      <a:lnTo>
                        <a:pt x="25" y="5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603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4379760" y="339876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0" y="2"/>
                      </a:move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4433760" y="33955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4429080" y="338148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16" h="4">
                      <a:moveTo>
                        <a:pt x="0" y="2"/>
                      </a:move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4370400" y="3384720"/>
                  <a:ext cx="30240" cy="288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16" y="0"/>
                      </a:move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6" y="1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4430880" y="3392640"/>
                  <a:ext cx="21960" cy="936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1" y="3"/>
                      </a:move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4376880" y="3395520"/>
                  <a:ext cx="20520" cy="180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4400640" y="3390840"/>
                  <a:ext cx="28440" cy="5076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6" y="7"/>
                      </a:moveTo>
                      <a:lnTo>
                        <a:pt x="6" y="18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5" y="26"/>
                      </a:lnTo>
                      <a:lnTo>
                        <a:pt x="8" y="27"/>
                      </a:lnTo>
                      <a:lnTo>
                        <a:pt x="10" y="29"/>
                      </a:lnTo>
                      <a:lnTo>
                        <a:pt x="12" y="29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7" y="25"/>
                      </a:lnTo>
                      <a:lnTo>
                        <a:pt x="15" y="28"/>
                      </a:lnTo>
                      <a:lnTo>
                        <a:pt x="14" y="30"/>
                      </a:lnTo>
                      <a:lnTo>
                        <a:pt x="12" y="30"/>
                      </a:lnTo>
                      <a:lnTo>
                        <a:pt x="12" y="31"/>
                      </a:lnTo>
                      <a:lnTo>
                        <a:pt x="10" y="31"/>
                      </a:lnTo>
                      <a:lnTo>
                        <a:pt x="8" y="31"/>
                      </a:lnTo>
                      <a:lnTo>
                        <a:pt x="6" y="30"/>
                      </a:lnTo>
                      <a:lnTo>
                        <a:pt x="4" y="29"/>
                      </a:lnTo>
                      <a:lnTo>
                        <a:pt x="3" y="27"/>
                      </a:lnTo>
                      <a:lnTo>
                        <a:pt x="3" y="25"/>
                      </a:lnTo>
                      <a:lnTo>
                        <a:pt x="5" y="22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5" y="5"/>
                      </a:lnTo>
                      <a:lnTo>
                        <a:pt x="6" y="7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4398840" y="3452760"/>
                  <a:ext cx="42840" cy="3240"/>
                </a:xfrm>
                <a:custGeom>
                  <a:avLst/>
                  <a:gdLst/>
                  <a:ahLst/>
                  <a:rect l="l" t="t" r="r" b="b"/>
                  <a:pathLst>
                    <a:path w="27" h="2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4411800" y="346068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4356000" y="3416400"/>
                  <a:ext cx="1800" cy="17280"/>
                </a:xfrm>
                <a:custGeom>
                  <a:avLst/>
                  <a:gdLst/>
                  <a:ahLst/>
                  <a:rect l="l" t="t" r="r" b="b"/>
                  <a:pathLst>
                    <a:path w="1" h="1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4464000" y="3405240"/>
                  <a:ext cx="3240" cy="2700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0"/>
                      </a:move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1" y="16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4362480" y="3449520"/>
                  <a:ext cx="77760" cy="4464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3" y="1"/>
                      </a:moveTo>
                      <a:lnTo>
                        <a:pt x="5" y="7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6" y="20"/>
                      </a:lnTo>
                      <a:lnTo>
                        <a:pt x="20" y="22"/>
                      </a:lnTo>
                      <a:lnTo>
                        <a:pt x="25" y="24"/>
                      </a:lnTo>
                      <a:lnTo>
                        <a:pt x="32" y="24"/>
                      </a:lnTo>
                      <a:lnTo>
                        <a:pt x="37" y="24"/>
                      </a:lnTo>
                      <a:lnTo>
                        <a:pt x="40" y="24"/>
                      </a:lnTo>
                      <a:lnTo>
                        <a:pt x="44" y="22"/>
                      </a:lnTo>
                      <a:lnTo>
                        <a:pt x="48" y="19"/>
                      </a:lnTo>
                      <a:lnTo>
                        <a:pt x="48" y="21"/>
                      </a:lnTo>
                      <a:lnTo>
                        <a:pt x="43" y="24"/>
                      </a:lnTo>
                      <a:lnTo>
                        <a:pt x="37" y="26"/>
                      </a:lnTo>
                      <a:lnTo>
                        <a:pt x="30" y="27"/>
                      </a:lnTo>
                      <a:lnTo>
                        <a:pt x="20" y="25"/>
                      </a:lnTo>
                      <a:lnTo>
                        <a:pt x="10" y="22"/>
                      </a:lnTo>
                      <a:lnTo>
                        <a:pt x="6" y="18"/>
                      </a:lnTo>
                      <a:lnTo>
                        <a:pt x="2" y="13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4427640" y="34290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4378320" y="3400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4392720" y="33987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4430880" y="339552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4444920" y="33955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4336920" y="3301920"/>
                  <a:ext cx="139680" cy="11268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38" y="18"/>
                      </a:moveTo>
                      <a:lnTo>
                        <a:pt x="32" y="16"/>
                      </a:lnTo>
                      <a:lnTo>
                        <a:pt x="26" y="16"/>
                      </a:lnTo>
                      <a:lnTo>
                        <a:pt x="16" y="20"/>
                      </a:lnTo>
                      <a:lnTo>
                        <a:pt x="11" y="26"/>
                      </a:lnTo>
                      <a:lnTo>
                        <a:pt x="11" y="34"/>
                      </a:lnTo>
                      <a:lnTo>
                        <a:pt x="12" y="44"/>
                      </a:lnTo>
                      <a:lnTo>
                        <a:pt x="12" y="55"/>
                      </a:lnTo>
                      <a:lnTo>
                        <a:pt x="12" y="61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6" y="70"/>
                      </a:lnTo>
                      <a:lnTo>
                        <a:pt x="1" y="66"/>
                      </a:lnTo>
                      <a:lnTo>
                        <a:pt x="0" y="56"/>
                      </a:lnTo>
                      <a:lnTo>
                        <a:pt x="1" y="47"/>
                      </a:lnTo>
                      <a:lnTo>
                        <a:pt x="1" y="37"/>
                      </a:lnTo>
                      <a:lnTo>
                        <a:pt x="5" y="37"/>
                      </a:lnTo>
                      <a:lnTo>
                        <a:pt x="1" y="34"/>
                      </a:lnTo>
                      <a:lnTo>
                        <a:pt x="3" y="28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20" y="7"/>
                      </a:lnTo>
                      <a:lnTo>
                        <a:pt x="25" y="4"/>
                      </a:lnTo>
                      <a:lnTo>
                        <a:pt x="33" y="1"/>
                      </a:lnTo>
                      <a:lnTo>
                        <a:pt x="34" y="8"/>
                      </a:lnTo>
                      <a:lnTo>
                        <a:pt x="35" y="1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3" y="2"/>
                      </a:lnTo>
                      <a:lnTo>
                        <a:pt x="51" y="7"/>
                      </a:lnTo>
                      <a:lnTo>
                        <a:pt x="56" y="4"/>
                      </a:lnTo>
                      <a:lnTo>
                        <a:pt x="58" y="2"/>
                      </a:lnTo>
                      <a:lnTo>
                        <a:pt x="65" y="4"/>
                      </a:lnTo>
                      <a:lnTo>
                        <a:pt x="69" y="7"/>
                      </a:lnTo>
                      <a:lnTo>
                        <a:pt x="79" y="16"/>
                      </a:lnTo>
                      <a:lnTo>
                        <a:pt x="80" y="20"/>
                      </a:lnTo>
                      <a:lnTo>
                        <a:pt x="80" y="29"/>
                      </a:lnTo>
                      <a:lnTo>
                        <a:pt x="80" y="23"/>
                      </a:lnTo>
                      <a:lnTo>
                        <a:pt x="82" y="26"/>
                      </a:lnTo>
                      <a:lnTo>
                        <a:pt x="86" y="34"/>
                      </a:lnTo>
                      <a:lnTo>
                        <a:pt x="86" y="44"/>
                      </a:lnTo>
                      <a:lnTo>
                        <a:pt x="87" y="51"/>
                      </a:lnTo>
                      <a:lnTo>
                        <a:pt x="87" y="60"/>
                      </a:lnTo>
                      <a:lnTo>
                        <a:pt x="86" y="63"/>
                      </a:lnTo>
                      <a:lnTo>
                        <a:pt x="83" y="58"/>
                      </a:lnTo>
                      <a:lnTo>
                        <a:pt x="81" y="57"/>
                      </a:lnTo>
                      <a:lnTo>
                        <a:pt x="80" y="44"/>
                      </a:lnTo>
                      <a:lnTo>
                        <a:pt x="77" y="32"/>
                      </a:lnTo>
                      <a:lnTo>
                        <a:pt x="75" y="24"/>
                      </a:lnTo>
                      <a:lnTo>
                        <a:pt x="72" y="20"/>
                      </a:lnTo>
                      <a:lnTo>
                        <a:pt x="65" y="13"/>
                      </a:lnTo>
                      <a:lnTo>
                        <a:pt x="56" y="11"/>
                      </a:lnTo>
                      <a:lnTo>
                        <a:pt x="49" y="16"/>
                      </a:lnTo>
                      <a:lnTo>
                        <a:pt x="38" y="18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09" name=""/>
          <p:cNvGrpSpPr/>
          <p:nvPr/>
        </p:nvGrpSpPr>
        <p:grpSpPr>
          <a:xfrm>
            <a:off x="5024520" y="3249000"/>
            <a:ext cx="599760" cy="656640"/>
            <a:chOff x="5024520" y="3249000"/>
            <a:chExt cx="599760" cy="656640"/>
          </a:xfrm>
        </p:grpSpPr>
        <p:sp>
          <p:nvSpPr>
            <p:cNvPr id="2410" name=""/>
            <p:cNvSpPr/>
            <p:nvPr/>
          </p:nvSpPr>
          <p:spPr>
            <a:xfrm rot="19500000">
              <a:off x="5046840" y="3327120"/>
              <a:ext cx="330120" cy="182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9500000">
              <a:off x="5079600" y="3360240"/>
              <a:ext cx="266760" cy="117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9500000">
              <a:off x="5391000" y="3460680"/>
              <a:ext cx="34920" cy="4780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3" name=""/>
            <p:cNvGrpSpPr/>
            <p:nvPr/>
          </p:nvGrpSpPr>
          <p:grpSpPr>
            <a:xfrm>
              <a:off x="5437440" y="3610800"/>
              <a:ext cx="186840" cy="186840"/>
              <a:chOff x="5437440" y="3610800"/>
              <a:chExt cx="186840" cy="186840"/>
            </a:xfrm>
          </p:grpSpPr>
          <p:sp>
            <p:nvSpPr>
              <p:cNvPr id="2414" name=""/>
              <p:cNvSpPr/>
              <p:nvPr/>
            </p:nvSpPr>
            <p:spPr>
              <a:xfrm rot="19500000">
                <a:off x="5435640" y="3646080"/>
                <a:ext cx="135000" cy="367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rot="19500000">
                <a:off x="5491080" y="3725640"/>
                <a:ext cx="135000" cy="363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rot="19500000">
                <a:off x="5468760" y="3700080"/>
                <a:ext cx="86040" cy="3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7" name=""/>
          <p:cNvSpPr/>
          <p:nvPr/>
        </p:nvSpPr>
        <p:spPr>
          <a:xfrm>
            <a:off x="5396040" y="396396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813320" y="5030640"/>
            <a:ext cx="116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00320" y="6040440"/>
            <a:ext cx="778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onitor (synchronised) solves race-condition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335240" y="35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xamples :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ogram with two threads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 and shared object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21" name=""/>
          <p:cNvSpPr/>
          <p:nvPr/>
        </p:nvSpPr>
        <p:spPr>
          <a:xfrm>
            <a:off x="1539720" y="1066680"/>
            <a:ext cx="532764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ass MyThread implements Runnable 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hared  s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MyThread (Shared s) {  so = s;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run() {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o.method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)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 // end class MyThr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ass YourThread implements Runnable 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hared  s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YourThread (Shared s) { so = s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run() {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o.method2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); }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 // end class YourThr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ass HerThread implements Runnable 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hared  s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HerThread (Shared s) { so = s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run() {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o.method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); 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 // end class HerThr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927920" y="3452760"/>
            <a:ext cx="973080" cy="973080"/>
          </a:xfrm>
          <a:custGeom>
            <a:avLst/>
            <a:gdLst>
              <a:gd name="textAreaLeft" fmla="*/ 222120 w 973080"/>
              <a:gd name="textAreaRight" fmla="*/ 750960 w 973080"/>
              <a:gd name="textAreaTop" fmla="*/ 222120 h 973080"/>
              <a:gd name="textAreaBottom" fmla="*/ 750960 h 9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rot="18600000">
            <a:off x="6773400" y="2216160"/>
            <a:ext cx="547920" cy="1503360"/>
          </a:xfrm>
          <a:prstGeom prst="downArrow">
            <a:avLst>
              <a:gd name="adj1" fmla="val 50000"/>
              <a:gd name="adj2" fmla="val 137200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rot="15420000">
            <a:off x="6722280" y="3657960"/>
            <a:ext cx="547560" cy="1505160"/>
          </a:xfrm>
          <a:prstGeom prst="downArrow">
            <a:avLst>
              <a:gd name="adj1" fmla="val 50000"/>
              <a:gd name="adj2" fmla="val 13745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rot="13500000">
            <a:off x="7044840" y="4608360"/>
            <a:ext cx="549360" cy="1501920"/>
          </a:xfrm>
          <a:prstGeom prst="downArrow">
            <a:avLst>
              <a:gd name="adj1" fmla="val 50000"/>
              <a:gd name="adj2" fmla="val 136710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8152560" y="3629160"/>
            <a:ext cx="547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952520" y="150840"/>
            <a:ext cx="4156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the monitor (shared objec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28" name=""/>
          <p:cNvSpPr/>
          <p:nvPr/>
        </p:nvSpPr>
        <p:spPr>
          <a:xfrm>
            <a:off x="1584360" y="928800"/>
            <a:ext cx="735948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 Shared {   // the 'monitor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f 'synchronized' is removed, the outcome is un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synchronized void method1(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 (int i = 0; i &lt; 200; i++) { System.out.print("   [1] :: " + i ) 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f the 'synchronized' is removed, the outcome is un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 synchronized void method2(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 (int i = 0; i &lt; 200; i++) { System.out.print("   [2] :: " + i ) ;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if the 'synchronized' is removed, the outcome is un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 synchronized void method3( 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 (int i = 0; i &lt; 200; i++) { System.out.print("   [3] :: " + i ) 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// end class Sha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081080" y="3884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he driv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30" name=""/>
          <p:cNvSpPr/>
          <p:nvPr/>
        </p:nvSpPr>
        <p:spPr>
          <a:xfrm>
            <a:off x="1749600" y="1332000"/>
            <a:ext cx="73929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MainClass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[] args 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</a:t>
            </a:r>
            <a:r>
              <a:rPr b="0" lang="en-US" sz="24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new Shared (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 t1 = new Thread(new MyThread(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 t2 = new Thread(new YourThread(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 t3 = new Thread(new HerThread(</a:t>
            </a:r>
            <a:r>
              <a:rPr b="1" lang="en-US" sz="2000" spc="-1" strike="noStrike">
                <a:solidFill>
                  <a:srgbClr val="ff6633"/>
                </a:solidFill>
                <a:latin typeface="Times New Roman"/>
              </a:rPr>
              <a:t>shared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3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// en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      // end class ThreadEx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7" name=""/>
          <p:cNvGraphicFramePr/>
          <p:nvPr/>
        </p:nvGraphicFramePr>
        <p:xfrm>
          <a:off x="1828800" y="152280"/>
          <a:ext cx="3060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280"/>
                    <a:ext cx="3060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GI (Common Gateway Interface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16120" y="2362320"/>
            <a:ext cx="79675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makes the Web a Two-way interf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-lets the user run a script when a web page is access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formation from the Web Client  is received through simple ‘fill-in-the-forms’ kind of interf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ORMS - Integrates  data sheets, menus , check box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makes the Web interactiv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GI  -complicated to setup ,requires  PERL knowled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books talk less about CG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260000" y="-360"/>
            <a:ext cx="7883640" cy="1104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s in Action...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operative threads - File Cop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32" name=""/>
          <p:cNvSpPr/>
          <p:nvPr/>
        </p:nvSpPr>
        <p:spPr>
          <a:xfrm>
            <a:off x="1095480" y="1871640"/>
            <a:ext cx="2627280" cy="2530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ader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ad(src,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un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589720" y="2119320"/>
            <a:ext cx="2787480" cy="210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riter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rite(src,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unlock(buff[i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- - - - - - - - -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4" name="" descr=""/>
          <p:cNvPicPr/>
          <p:nvPr/>
        </p:nvPicPr>
        <p:blipFill>
          <a:blip r:embed="rId1"/>
          <a:stretch/>
        </p:blipFill>
        <p:spPr>
          <a:xfrm>
            <a:off x="6505560" y="4729320"/>
            <a:ext cx="1136520" cy="1136520"/>
          </a:xfrm>
          <a:prstGeom prst="rect">
            <a:avLst/>
          </a:prstGeom>
          <a:ln w="0">
            <a:noFill/>
          </a:ln>
        </p:spPr>
      </p:pic>
      <p:grpSp>
        <p:nvGrpSpPr>
          <p:cNvPr id="2435" name=""/>
          <p:cNvGrpSpPr/>
          <p:nvPr/>
        </p:nvGrpSpPr>
        <p:grpSpPr>
          <a:xfrm>
            <a:off x="1560600" y="4965840"/>
            <a:ext cx="1100160" cy="812520"/>
            <a:chOff x="1560600" y="4965840"/>
            <a:chExt cx="1100160" cy="812520"/>
          </a:xfrm>
        </p:grpSpPr>
        <p:sp>
          <p:nvSpPr>
            <p:cNvPr id="2436" name=""/>
            <p:cNvSpPr/>
            <p:nvPr/>
          </p:nvSpPr>
          <p:spPr>
            <a:xfrm>
              <a:off x="1560600" y="5499000"/>
              <a:ext cx="1100160" cy="279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560600" y="5423040"/>
              <a:ext cx="1100160" cy="279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560600" y="5346720"/>
              <a:ext cx="1100160" cy="27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1560600" y="4965840"/>
              <a:ext cx="1100160" cy="660240"/>
              <a:chOff x="1560600" y="4965840"/>
              <a:chExt cx="1100160" cy="660240"/>
            </a:xfrm>
          </p:grpSpPr>
          <p:sp>
            <p:nvSpPr>
              <p:cNvPr id="2440" name=""/>
              <p:cNvSpPr/>
              <p:nvPr/>
            </p:nvSpPr>
            <p:spPr>
              <a:xfrm>
                <a:off x="1560600" y="5346720"/>
                <a:ext cx="1100160" cy="2793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560600" y="5270400"/>
                <a:ext cx="1100160" cy="27936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560600" y="5194440"/>
                <a:ext cx="1100160" cy="2793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560600" y="5118120"/>
                <a:ext cx="1100160" cy="27936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560600" y="5041800"/>
                <a:ext cx="1100160" cy="2793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560600" y="4965840"/>
                <a:ext cx="1100160" cy="2793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6" name=""/>
          <p:cNvSpPr/>
          <p:nvPr/>
        </p:nvSpPr>
        <p:spPr>
          <a:xfrm>
            <a:off x="4016520" y="2292480"/>
            <a:ext cx="1110960" cy="596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buff[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016520" y="2901960"/>
            <a:ext cx="1110960" cy="596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buff[1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97000" y="2679480"/>
            <a:ext cx="2367720" cy="271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21600"/>
                </a:moveTo>
                <a:arcTo wR="10800" hR="10800" stAng="5409228" swAng="5390772"/>
                <a:lnTo>
                  <a:pt x="10800" y="10800"/>
                </a:lnTo>
                <a:close/>
              </a:path>
              <a:path fill="none" w="21600" h="21600">
                <a:moveTo>
                  <a:pt x="10771" y="21600"/>
                </a:moveTo>
                <a:arcTo wR="10800" hR="10800" stAng="5409228" swAng="5390772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7000" y="3216240"/>
            <a:ext cx="2225160" cy="165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9"/>
                </a:moveTo>
                <a:arcTo wR="10800" hR="10800" stAng="-10793389" swAng="5388484"/>
                <a:lnTo>
                  <a:pt x="10800" y="10800"/>
                </a:lnTo>
                <a:close/>
              </a:path>
              <a:path fill="none" w="21600" h="21600">
                <a:moveTo>
                  <a:pt x="0" y="10779"/>
                </a:moveTo>
                <a:arcTo wR="10800" hR="10800" stAng="-10793389" swAng="5388484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2654280" y="2606760"/>
            <a:ext cx="1593720" cy="1193400"/>
            <a:chOff x="2654280" y="2606760"/>
            <a:chExt cx="1593720" cy="1193400"/>
          </a:xfrm>
        </p:grpSpPr>
        <p:sp>
          <p:nvSpPr>
            <p:cNvPr id="2451" name=""/>
            <p:cNvSpPr/>
            <p:nvPr/>
          </p:nvSpPr>
          <p:spPr>
            <a:xfrm>
              <a:off x="2654280" y="2606760"/>
              <a:ext cx="1593720" cy="111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9"/>
                  </a:moveTo>
                  <a:arcTo wR="10800" hR="10800" stAng="-10790234" swAng="538338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9"/>
                  </a:moveTo>
                  <a:arcTo wR="10800" hR="10800" stAng="-10790234" swAng="53833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040200" y="2606760"/>
              <a:ext cx="888480" cy="11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1" y="0"/>
                  </a:moveTo>
                  <a:arcTo wR="10800" hR="10800" stAng="-5412277" swAng="5412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1" y="0"/>
                  </a:moveTo>
                  <a:arcTo wR="10800" hR="10800" stAng="-5412277" swAng="541227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4165920" y="2606760"/>
            <a:ext cx="1936080" cy="12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6347160" y="3365640"/>
            <a:ext cx="2504520" cy="1958760"/>
            <a:chOff x="6347160" y="3365640"/>
            <a:chExt cx="2504520" cy="1958760"/>
          </a:xfrm>
        </p:grpSpPr>
        <p:sp>
          <p:nvSpPr>
            <p:cNvPr id="2455" name=""/>
            <p:cNvSpPr/>
            <p:nvPr/>
          </p:nvSpPr>
          <p:spPr>
            <a:xfrm>
              <a:off x="7469640" y="3368520"/>
              <a:ext cx="1380240" cy="195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347160" y="3365640"/>
              <a:ext cx="2504520" cy="19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7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72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2185920" y="5925960"/>
            <a:ext cx="4251240" cy="698760"/>
          </a:xfrm>
          <a:prstGeom prst="rect">
            <a:avLst/>
          </a:prstGeom>
          <a:solidFill>
            <a:srgbClr val="9234d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ooperative Parallel Synchronized Thre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treams and I/O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treams and I/O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370160" y="182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basic classes for file I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leInputStre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for reading from a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leOutputStre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for writing to a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Example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Open a file "myfile.txt" for </a:t>
            </a:r>
            <a:r>
              <a:rPr b="1" lang="en-US" sz="1800" spc="-1" strike="noStrike">
                <a:solidFill>
                  <a:srgbClr val="ff6633"/>
                </a:solidFill>
                <a:latin typeface="Century Gothic"/>
              </a:rPr>
              <a:t>reading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FileInputStream fis = new FileInputStream("myfile.txt")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Open a file "outfile.txt" for </a:t>
            </a:r>
            <a:r>
              <a:rPr b="1" lang="en-US" sz="1800" spc="-1" strike="noStrike">
                <a:solidFill>
                  <a:srgbClr val="ff6633"/>
                </a:solidFill>
                <a:latin typeface="Century Gothic"/>
              </a:rPr>
              <a:t>writing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FileOutputStream fos = new FileOutputStream ("myfile.txt")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374840" y="4754520"/>
            <a:ext cx="715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1370160" y="26172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Display File Conten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3" name=""/>
          <p:cNvSpPr/>
          <p:nvPr/>
        </p:nvSpPr>
        <p:spPr>
          <a:xfrm>
            <a:off x="1600200" y="1295280"/>
            <a:ext cx="724860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FileToOut1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leInputStream infile = new FileInputStream("testfile.txt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byte buffer[] = new byte[50]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nt nBytesRead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 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nBytesRead = infile.read(buff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out.write(buffer, 0, nBytesRead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 while (nBytesRead == buffer.length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FileNotFoundException e)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File not foun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 System.err.println("Read failed"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370160" y="27756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Fil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5" name=""/>
          <p:cNvSpPr/>
          <p:nvPr/>
        </p:nvSpPr>
        <p:spPr>
          <a:xfrm>
            <a:off x="914400" y="1981080"/>
            <a:ext cx="79246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a stream (e.g., file) has been opened, we can atta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l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ers make reading/writing mor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popular filter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basic 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Input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DataOutput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object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jectInput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ObjectOutput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590920" y="60480"/>
            <a:ext cx="653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riting data to a file using Fil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7" name=""/>
          <p:cNvSpPr/>
          <p:nvPr/>
        </p:nvSpPr>
        <p:spPr>
          <a:xfrm>
            <a:off x="1600200" y="1200240"/>
            <a:ext cx="732456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GenerateData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 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leOutputStream fos = new FileOutputStream("stuff.dat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ataOutputStream dos = new DataOutputStream(fos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writeInt(2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writeDouble(2.7182818284590451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writeDouble(3.1415926535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os.close(); fos.close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FileNotFoundException e) {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File not foun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Read or write faile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24816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Reading data from a file using filter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69" name=""/>
          <p:cNvSpPr/>
          <p:nvPr/>
        </p:nvSpPr>
        <p:spPr>
          <a:xfrm>
            <a:off x="1596960" y="1200240"/>
            <a:ext cx="75470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ReadData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leInputStream fis = new FileInputStream("stuff.dat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ataInputStream dis = new DataInputStream(fis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nt n = dis.readInt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out.println(n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or( int i = 0; i &lt; n; i++ ) { System.out.println(dis.readDouble()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is.close(); fis.close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FileNotFoundException e) {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err.println("File not foun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 System.err.println("Read or write failed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76440" y="208080"/>
            <a:ext cx="643896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bject serializa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1" name=""/>
          <p:cNvSpPr/>
          <p:nvPr/>
        </p:nvSpPr>
        <p:spPr>
          <a:xfrm>
            <a:off x="1609560" y="1897200"/>
            <a:ext cx="73771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objects to a file, instead of writing primitive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ctInputStre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ObjectOutputStream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</a:rPr>
              <a:t>classes, the same way that filters are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1316160" y="24264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rite an object to a fi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3" name=""/>
          <p:cNvSpPr/>
          <p:nvPr/>
        </p:nvSpPr>
        <p:spPr>
          <a:xfrm>
            <a:off x="1623960" y="1192320"/>
            <a:ext cx="751860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WriteDat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WriteDate 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e d = new Dat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OutputStream f = new FileOutputStream("date.s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OutputStream s = new ObjectOutputStream (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.writeObject (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.close 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 (IOException e) { e.printStackTrace(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 (String args[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WriteDate 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1241280" y="16992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 an object from a fi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5" name=""/>
          <p:cNvSpPr/>
          <p:nvPr/>
        </p:nvSpPr>
        <p:spPr>
          <a:xfrm>
            <a:off x="1643040" y="1447920"/>
            <a:ext cx="7500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class ReadDate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ReadDate () 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ate d = null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ObjectInputStream s = null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{  FileInputStream f = new FileInputStream ("date.ser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 = new ObjectInputStream (f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 catch (IOException e) { e.printStackTrace(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ry { d = (Date)</a:t>
            </a: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s.readObject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(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ClassNotFound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nvalidClass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StreamCorrupted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OptionalDataException e) { e.printStackTrace(); }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tch (IOException e) { e.printStackTrace();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ystem.out.println ("Date serialized at: "+ d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ublic static void main (String args[]) { new ReadDate ();  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uthoring  tools and Filt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ng tools- Editors for HTML docu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ditors similar to WYSIWYG word processing progra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mi-WYSIWYG or completely WYSIWYG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vide syntax checking and correction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ters -Convert legacy documents to HTML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ters are useful when the documents already exis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ng tools- HoTMetaL, HTML Assistant -Sharewa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etwork/Socket Programming  in Java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.n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d to man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RL 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ent/server soc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ata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370160" y="35244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t III - Network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80" name=""/>
          <p:cNvSpPr/>
          <p:nvPr/>
        </p:nvSpPr>
        <p:spPr>
          <a:xfrm>
            <a:off x="1824120" y="1139760"/>
            <a:ext cx="4595760" cy="207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390920" y="4441680"/>
            <a:ext cx="4680000" cy="187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78560" y="1236600"/>
            <a:ext cx="26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ocket(123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124240" y="5915160"/>
            <a:ext cx="38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(“130.63.122.1”, 123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68520" y="1854360"/>
            <a:ext cx="1041480" cy="803160"/>
          </a:xfrm>
          <a:prstGeom prst="parallelogram">
            <a:avLst>
              <a:gd name="adj" fmla="val 32412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rot="60000">
            <a:off x="4321080" y="1886040"/>
            <a:ext cx="1044720" cy="803160"/>
          </a:xfrm>
          <a:prstGeom prst="parallelogram">
            <a:avLst>
              <a:gd name="adj" fmla="val 32513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056280" y="4727520"/>
            <a:ext cx="1041480" cy="803160"/>
          </a:xfrm>
          <a:prstGeom prst="parallelogram">
            <a:avLst>
              <a:gd name="adj" fmla="val 32412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rot="60000">
            <a:off x="4575240" y="4692600"/>
            <a:ext cx="1044360" cy="803160"/>
          </a:xfrm>
          <a:prstGeom prst="parallelogram">
            <a:avLst>
              <a:gd name="adj" fmla="val 3250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619440" y="3548160"/>
            <a:ext cx="1548000" cy="1563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 flipV="1">
            <a:off x="3908520" y="3191040"/>
            <a:ext cx="2822400" cy="1768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2889360" y="2509920"/>
            <a:ext cx="645840" cy="952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3875040" y="2476080"/>
            <a:ext cx="986040" cy="663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914400" y="4624560"/>
            <a:ext cx="619200" cy="463320"/>
          </a:xfrm>
          <a:prstGeom prst="parallelogram">
            <a:avLst>
              <a:gd name="adj" fmla="val 33405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rot="60000">
            <a:off x="952200" y="5202360"/>
            <a:ext cx="682560" cy="465120"/>
          </a:xfrm>
          <a:prstGeom prst="parallelogram">
            <a:avLst>
              <a:gd name="adj" fmla="val 36680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81200" y="4605480"/>
            <a:ext cx="263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/write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681200" y="5200560"/>
            <a:ext cx="233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/read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200400" y="2754360"/>
            <a:ext cx="1195560" cy="1193760"/>
          </a:xfrm>
          <a:custGeom>
            <a:avLst/>
            <a:gdLst>
              <a:gd name="textAreaLeft" fmla="*/ 272880 w 1195560"/>
              <a:gd name="textAreaRight" fmla="*/ 922680 w 1195560"/>
              <a:gd name="textAreaTop" fmla="*/ 272520 h 1193760"/>
              <a:gd name="textAreaBottom" fmla="*/ 92124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6629400" y="6324120"/>
            <a:ext cx="3808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890800" y="63244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_name: “cdacb.ernet.i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611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Server side Socket Opera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1. Open Server Socket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server; Socket slin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OutputStream o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i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 = new ServerSocket( PORT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2. Wait for Client Request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ocket client = server.accep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3. Create I/O streams for communicating to clients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client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client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4. Perform communication with clien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ceiive from client: String line = is.readLine()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nd to client: os.writeBytes("Hello\n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5. Close sockets: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afd00"/>
                </a:solidFill>
                <a:uFillTx/>
                <a:latin typeface="Arial"/>
              </a:rPr>
              <a:t>For multithreade server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hile(true)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i. wait for client requests (step 2 above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ii. create a thread with “client” socket as parameter (the thread creates streams (as in step (3) and does communication as stated  in (4). Remove thread once service is provided.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lient side Socket Opera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987480" y="2209320"/>
            <a:ext cx="7967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1. Get connection to server: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 = new Socket( server, port_id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2. Create I/O streams for communicating to clients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client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client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3. Perform communication with clien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ceiive from client: String line = is.readLine()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nd to client: os.writeBytes("Hello\n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4. Close sockets: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1268280" y="2012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simple server (simplified code)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4" name=""/>
          <p:cNvSpPr/>
          <p:nvPr/>
        </p:nvSpPr>
        <p:spPr>
          <a:xfrm>
            <a:off x="1600200" y="1295280"/>
            <a:ext cx="73771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net.*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ASimpleServer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Register service on port 12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Socket s = new ServerSocket(1234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ket s1=s.accept(); // Wait and accept a conn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Get a communication stream associated with the s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Stream s1out = s1.getOut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OutputStream dos = new DataOutputStream (s1ou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Send a string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s.writeUTF(“Hi ther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Close the connection, but not the server s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s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out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352520" y="1839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simple client (simplified code)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6" name=""/>
          <p:cNvSpPr/>
          <p:nvPr/>
        </p:nvSpPr>
        <p:spPr>
          <a:xfrm>
            <a:off x="1447920" y="1447920"/>
            <a:ext cx="78818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net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SimpleClient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 args[]) throws IOException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Open your connection to a server, at port 12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ket s1 = new Socket(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0.63.122.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,1234)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Get an input file handle from the socket and read the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Stream s1In = s1.getIn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InputStream dis = new DataInputStream(s1I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st = new String (dis.readUTF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s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When done, just close the connection and 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In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Echo Server Client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client.java: client interface to serv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io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ne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client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 port_id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server; Socket slin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OutputStream o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is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kbd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ient( String args[]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 = args[0]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ort_id = Integer.valueOf(args[1]).intValu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link = new Socket( server, port_id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slink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slink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kbd = new DataInputStream( System.in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Echo Server Client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UnknownHost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Don't know about host: 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Could not get I/O for the connection to "+server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void communicate(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hile(true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("Enter Input &lt;end to stop&gt;: 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line = kbd.readLin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.writeBytes( line+"\n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110484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Echo Server Client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1139400" y="1295280"/>
            <a:ext cx="7967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line.equals("end")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  os.close(); is.close(); slink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rea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line2 = is.readLin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"Output: "+line2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    System.out.println(e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tatic void main( String [] args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args.length &lt; 2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"Usage: java client server_name port_id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1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ient cln = new client( args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ln.communicat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reconfigured v/s Integrated Internet Product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grated Internet Products- From multiple vend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econfigured  Systems-  Web Server and a Client ready to us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un’s Netra Internet Serv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GI’s WebFORCE Indy and WebFORCE Challenge 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’s Internet Server Solu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EC’s Internet AlphaServ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graph’s Web Server 10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1139400" y="137124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server.java: echo serv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io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mport java.net.*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class server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// public final static int PORT = 4779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public static void main( String [] args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Socket server = null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OutputStream os = null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DataInputStream is = null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oolean shutdown = false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args.length &lt; 1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 "Usage: java server port_num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xit( 1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 PORT = Integer.valueOf(args[0]).intValu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 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 = new ServerSocket( PORT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2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/>
          </p:nvPr>
        </p:nvSpPr>
        <p:spPr>
          <a:xfrm>
            <a:off x="1139400" y="1371600"/>
            <a:ext cx="7967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Could not get I/O for the connection to: 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while(!shutdown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server != null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ocket client = server.accep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"Connected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etAddress cip = client.getInetAddress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 "Client IP Addr: "+cip.toString());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 = new DataInputStream( client.getIn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 = new DataOutputStream( client.getOutputStream()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for(;;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tring line = is.readLine();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line == null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rea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f( line.startsWith("end" )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hutdown = true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break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.writeBytes(line.toUpperCase()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os.writeBytes("\n"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line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s.close(); client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UnknownHost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Server Open fails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catch( IOException e )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err.println( "Could not get I/O for the connection to:"+args[0]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title"/>
          </p:nvPr>
        </p:nvSpPr>
        <p:spPr>
          <a:xfrm>
            <a:off x="80028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/>
          </p:nvPr>
        </p:nvSpPr>
        <p:spPr>
          <a:xfrm>
            <a:off x="990720" y="21337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ystem.out.println( "Server Down" 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try {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rver.close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 catch(IOException e) {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title"/>
          </p:nvPr>
        </p:nvSpPr>
        <p:spPr>
          <a:xfrm>
            <a:off x="800280" y="304560"/>
            <a:ext cx="802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cho Server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1" name=""/>
          <p:cNvGrpSpPr/>
          <p:nvPr/>
        </p:nvGrpSpPr>
        <p:grpSpPr>
          <a:xfrm>
            <a:off x="4779720" y="3600360"/>
            <a:ext cx="1225800" cy="2171880"/>
            <a:chOff x="4779720" y="3600360"/>
            <a:chExt cx="1225800" cy="2171880"/>
          </a:xfrm>
        </p:grpSpPr>
        <p:sp>
          <p:nvSpPr>
            <p:cNvPr id="2522" name=""/>
            <p:cNvSpPr/>
            <p:nvPr/>
          </p:nvSpPr>
          <p:spPr>
            <a:xfrm>
              <a:off x="6005520" y="3600360"/>
              <a:ext cx="0" cy="187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578920" y="5127840"/>
              <a:ext cx="41508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52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5275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H="1">
              <a:off x="4779720" y="5772240"/>
              <a:ext cx="102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4799160" y="3381480"/>
            <a:ext cx="449280" cy="2171520"/>
            <a:chOff x="4799160" y="3381480"/>
            <a:chExt cx="449280" cy="2171520"/>
          </a:xfrm>
        </p:grpSpPr>
        <p:sp>
          <p:nvSpPr>
            <p:cNvPr id="2526" name=""/>
            <p:cNvSpPr/>
            <p:nvPr/>
          </p:nvSpPr>
          <p:spPr>
            <a:xfrm>
              <a:off x="5248440" y="3381480"/>
              <a:ext cx="0" cy="19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822920" y="5023080"/>
              <a:ext cx="4122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4799160" y="5553000"/>
              <a:ext cx="23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993600" y="4762440"/>
            <a:ext cx="7128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45160" y="2482920"/>
            <a:ext cx="1850760" cy="13968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981680" y="3244680"/>
            <a:ext cx="63360" cy="281160"/>
          </a:xfrm>
          <a:custGeom>
            <a:avLst/>
            <a:gdLst/>
            <a:ahLst/>
            <a:rect l="l" t="t" r="r" b="b"/>
            <a:pathLst>
              <a:path w="40" h="177">
                <a:moveTo>
                  <a:pt x="0" y="0"/>
                </a:moveTo>
                <a:lnTo>
                  <a:pt x="17" y="0"/>
                </a:lnTo>
                <a:lnTo>
                  <a:pt x="17" y="16"/>
                </a:lnTo>
                <a:lnTo>
                  <a:pt x="11" y="31"/>
                </a:lnTo>
                <a:lnTo>
                  <a:pt x="0" y="47"/>
                </a:lnTo>
                <a:lnTo>
                  <a:pt x="0" y="62"/>
                </a:lnTo>
                <a:lnTo>
                  <a:pt x="11" y="78"/>
                </a:lnTo>
                <a:lnTo>
                  <a:pt x="28" y="83"/>
                </a:lnTo>
                <a:lnTo>
                  <a:pt x="39" y="98"/>
                </a:lnTo>
                <a:lnTo>
                  <a:pt x="33" y="114"/>
                </a:lnTo>
                <a:lnTo>
                  <a:pt x="17" y="124"/>
                </a:lnTo>
                <a:lnTo>
                  <a:pt x="11" y="140"/>
                </a:lnTo>
                <a:lnTo>
                  <a:pt x="6" y="155"/>
                </a:lnTo>
                <a:lnTo>
                  <a:pt x="11" y="171"/>
                </a:lnTo>
                <a:lnTo>
                  <a:pt x="28" y="17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205240" y="2949480"/>
            <a:ext cx="63720" cy="314280"/>
          </a:xfrm>
          <a:custGeom>
            <a:avLst/>
            <a:gdLst/>
            <a:ahLst/>
            <a:rect l="l" t="t" r="r" b="b"/>
            <a:pathLst>
              <a:path w="40" h="198">
                <a:moveTo>
                  <a:pt x="0" y="0"/>
                </a:moveTo>
                <a:lnTo>
                  <a:pt x="17" y="0"/>
                </a:lnTo>
                <a:lnTo>
                  <a:pt x="17" y="17"/>
                </a:lnTo>
                <a:lnTo>
                  <a:pt x="11" y="35"/>
                </a:lnTo>
                <a:lnTo>
                  <a:pt x="0" y="52"/>
                </a:lnTo>
                <a:lnTo>
                  <a:pt x="0" y="70"/>
                </a:lnTo>
                <a:lnTo>
                  <a:pt x="11" y="87"/>
                </a:lnTo>
                <a:lnTo>
                  <a:pt x="28" y="93"/>
                </a:lnTo>
                <a:lnTo>
                  <a:pt x="39" y="110"/>
                </a:lnTo>
                <a:lnTo>
                  <a:pt x="33" y="127"/>
                </a:lnTo>
                <a:lnTo>
                  <a:pt x="17" y="139"/>
                </a:lnTo>
                <a:lnTo>
                  <a:pt x="11" y="156"/>
                </a:lnTo>
                <a:lnTo>
                  <a:pt x="6" y="174"/>
                </a:lnTo>
                <a:lnTo>
                  <a:pt x="11" y="191"/>
                </a:lnTo>
                <a:lnTo>
                  <a:pt x="28" y="197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975280" y="3236760"/>
            <a:ext cx="65160" cy="281160"/>
          </a:xfrm>
          <a:custGeom>
            <a:avLst/>
            <a:gdLst/>
            <a:ahLst/>
            <a:rect l="l" t="t" r="r" b="b"/>
            <a:pathLst>
              <a:path w="41" h="177">
                <a:moveTo>
                  <a:pt x="0" y="0"/>
                </a:moveTo>
                <a:lnTo>
                  <a:pt x="17" y="0"/>
                </a:lnTo>
                <a:lnTo>
                  <a:pt x="17" y="16"/>
                </a:lnTo>
                <a:lnTo>
                  <a:pt x="11" y="31"/>
                </a:lnTo>
                <a:lnTo>
                  <a:pt x="0" y="47"/>
                </a:lnTo>
                <a:lnTo>
                  <a:pt x="0" y="62"/>
                </a:lnTo>
                <a:lnTo>
                  <a:pt x="11" y="78"/>
                </a:lnTo>
                <a:lnTo>
                  <a:pt x="29" y="83"/>
                </a:lnTo>
                <a:lnTo>
                  <a:pt x="40" y="98"/>
                </a:lnTo>
                <a:lnTo>
                  <a:pt x="34" y="114"/>
                </a:lnTo>
                <a:lnTo>
                  <a:pt x="17" y="124"/>
                </a:lnTo>
                <a:lnTo>
                  <a:pt x="11" y="140"/>
                </a:lnTo>
                <a:lnTo>
                  <a:pt x="6" y="155"/>
                </a:lnTo>
                <a:lnTo>
                  <a:pt x="11" y="171"/>
                </a:lnTo>
                <a:lnTo>
                  <a:pt x="29" y="17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280200" y="2911320"/>
            <a:ext cx="65160" cy="282600"/>
          </a:xfrm>
          <a:custGeom>
            <a:avLst/>
            <a:gdLst/>
            <a:ahLst/>
            <a:rect l="l" t="t" r="r" b="b"/>
            <a:pathLst>
              <a:path w="41" h="178">
                <a:moveTo>
                  <a:pt x="0" y="0"/>
                </a:moveTo>
                <a:lnTo>
                  <a:pt x="17" y="0"/>
                </a:lnTo>
                <a:lnTo>
                  <a:pt x="17" y="16"/>
                </a:lnTo>
                <a:lnTo>
                  <a:pt x="11" y="31"/>
                </a:lnTo>
                <a:lnTo>
                  <a:pt x="0" y="47"/>
                </a:lnTo>
                <a:lnTo>
                  <a:pt x="0" y="62"/>
                </a:lnTo>
                <a:lnTo>
                  <a:pt x="11" y="78"/>
                </a:lnTo>
                <a:lnTo>
                  <a:pt x="29" y="83"/>
                </a:lnTo>
                <a:lnTo>
                  <a:pt x="40" y="99"/>
                </a:lnTo>
                <a:lnTo>
                  <a:pt x="34" y="115"/>
                </a:lnTo>
                <a:lnTo>
                  <a:pt x="17" y="125"/>
                </a:lnTo>
                <a:lnTo>
                  <a:pt x="11" y="141"/>
                </a:lnTo>
                <a:lnTo>
                  <a:pt x="6" y="156"/>
                </a:lnTo>
                <a:lnTo>
                  <a:pt x="11" y="172"/>
                </a:lnTo>
                <a:lnTo>
                  <a:pt x="29" y="177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2282760" y="2711520"/>
            <a:ext cx="620640" cy="444600"/>
            <a:chOff x="2282760" y="2711520"/>
            <a:chExt cx="620640" cy="444600"/>
          </a:xfrm>
        </p:grpSpPr>
        <p:sp>
          <p:nvSpPr>
            <p:cNvPr id="2536" name=""/>
            <p:cNvSpPr/>
            <p:nvPr/>
          </p:nvSpPr>
          <p:spPr>
            <a:xfrm>
              <a:off x="2282760" y="2711520"/>
              <a:ext cx="620640" cy="4446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549520" y="2819520"/>
              <a:ext cx="63360" cy="25848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lnTo>
                    <a:pt x="17" y="0"/>
                  </a:lnTo>
                  <a:lnTo>
                    <a:pt x="17" y="14"/>
                  </a:lnTo>
                  <a:lnTo>
                    <a:pt x="11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11" y="71"/>
                  </a:lnTo>
                  <a:lnTo>
                    <a:pt x="28" y="76"/>
                  </a:lnTo>
                  <a:lnTo>
                    <a:pt x="39" y="91"/>
                  </a:lnTo>
                  <a:lnTo>
                    <a:pt x="33" y="105"/>
                  </a:lnTo>
                  <a:lnTo>
                    <a:pt x="17" y="114"/>
                  </a:lnTo>
                  <a:lnTo>
                    <a:pt x="11" y="129"/>
                  </a:lnTo>
                  <a:lnTo>
                    <a:pt x="6" y="143"/>
                  </a:lnTo>
                  <a:lnTo>
                    <a:pt x="11" y="157"/>
                  </a:lnTo>
                  <a:lnTo>
                    <a:pt x="28" y="1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8" name=""/>
          <p:cNvGrpSpPr/>
          <p:nvPr/>
        </p:nvGrpSpPr>
        <p:grpSpPr>
          <a:xfrm>
            <a:off x="1440000" y="3701880"/>
            <a:ext cx="620640" cy="444600"/>
            <a:chOff x="1440000" y="3701880"/>
            <a:chExt cx="620640" cy="444600"/>
          </a:xfrm>
        </p:grpSpPr>
        <p:sp>
          <p:nvSpPr>
            <p:cNvPr id="2539" name=""/>
            <p:cNvSpPr/>
            <p:nvPr/>
          </p:nvSpPr>
          <p:spPr>
            <a:xfrm>
              <a:off x="1440000" y="3701880"/>
              <a:ext cx="620640" cy="4446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704960" y="3809880"/>
              <a:ext cx="63360" cy="25884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lnTo>
                    <a:pt x="17" y="0"/>
                  </a:lnTo>
                  <a:lnTo>
                    <a:pt x="17" y="14"/>
                  </a:lnTo>
                  <a:lnTo>
                    <a:pt x="11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11" y="71"/>
                  </a:lnTo>
                  <a:lnTo>
                    <a:pt x="28" y="76"/>
                  </a:lnTo>
                  <a:lnTo>
                    <a:pt x="39" y="91"/>
                  </a:lnTo>
                  <a:lnTo>
                    <a:pt x="33" y="105"/>
                  </a:lnTo>
                  <a:lnTo>
                    <a:pt x="17" y="114"/>
                  </a:lnTo>
                  <a:lnTo>
                    <a:pt x="11" y="129"/>
                  </a:lnTo>
                  <a:lnTo>
                    <a:pt x="6" y="143"/>
                  </a:lnTo>
                  <a:lnTo>
                    <a:pt x="11" y="157"/>
                  </a:lnTo>
                  <a:lnTo>
                    <a:pt x="28" y="1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2968560" y="5302080"/>
            <a:ext cx="2168640" cy="749520"/>
          </a:xfrm>
          <a:prstGeom prst="roundRect">
            <a:avLst>
              <a:gd name="adj" fmla="val 38875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essage Pa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ac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2558880" y="3176640"/>
            <a:ext cx="439200" cy="2376360"/>
            <a:chOff x="2558880" y="3176640"/>
            <a:chExt cx="439200" cy="2376360"/>
          </a:xfrm>
        </p:grpSpPr>
        <p:sp>
          <p:nvSpPr>
            <p:cNvPr id="2543" name=""/>
            <p:cNvSpPr/>
            <p:nvPr/>
          </p:nvSpPr>
          <p:spPr>
            <a:xfrm>
              <a:off x="2558880" y="3176640"/>
              <a:ext cx="0" cy="21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583000" y="4956480"/>
              <a:ext cx="41508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4" y="21599"/>
                  </a:moveTo>
                  <a:arcTo wR="10800" hR="10800" stAng="5452767" swAng="5347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4" y="21599"/>
                  </a:moveTo>
                  <a:arcTo wR="10800" hR="10800" stAng="5452767" swAng="5347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730600" y="5553000"/>
              <a:ext cx="20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1714680" y="4167360"/>
            <a:ext cx="1217520" cy="1604880"/>
            <a:chOff x="1714680" y="4167360"/>
            <a:chExt cx="1217520" cy="1604880"/>
          </a:xfrm>
        </p:grpSpPr>
        <p:sp>
          <p:nvSpPr>
            <p:cNvPr id="2547" name=""/>
            <p:cNvSpPr/>
            <p:nvPr/>
          </p:nvSpPr>
          <p:spPr>
            <a:xfrm>
              <a:off x="1714680" y="4167360"/>
              <a:ext cx="0" cy="132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30520" y="5175360"/>
              <a:ext cx="41508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4" y="21599"/>
                  </a:moveTo>
                  <a:arcTo wR="10800" hR="10800" stAng="5452767" swAng="5347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4" y="21599"/>
                  </a:moveTo>
                  <a:arcTo wR="10800" hR="10800" stAng="5452767" swAng="5347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940040" y="5772240"/>
              <a:ext cx="99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0" name=""/>
          <p:cNvSpPr/>
          <p:nvPr/>
        </p:nvSpPr>
        <p:spPr>
          <a:xfrm>
            <a:off x="4665600" y="1944720"/>
            <a:ext cx="23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Univers (WN)"/>
              </a:rPr>
              <a:t>Server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851120" y="2325600"/>
            <a:ext cx="21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Univers (WN)"/>
              </a:rPr>
              <a:t>Client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49440" y="3335400"/>
            <a:ext cx="268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Univers (WN)"/>
              </a:rPr>
              <a:t>Client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331680" y="4211280"/>
            <a:ext cx="181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(WN)"/>
              </a:rPr>
              <a:t>User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133680" y="4935240"/>
            <a:ext cx="21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(WN)"/>
              </a:rPr>
              <a:t>Kernel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030320" y="20520"/>
            <a:ext cx="78073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reads in Action...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ultithreaded Ser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System Architecture &amp; Availabilit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Look Inside the Java Platfor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58" name=""/>
          <p:cNvSpPr/>
          <p:nvPr/>
        </p:nvSpPr>
        <p:spPr>
          <a:xfrm>
            <a:off x="1754280" y="3243240"/>
            <a:ext cx="6626160" cy="4539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 Virtual Mach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54280" y="3692520"/>
            <a:ext cx="6626160" cy="4539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rting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754280" y="2058840"/>
            <a:ext cx="6626160" cy="454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ets and 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754280" y="2516040"/>
            <a:ext cx="2587680" cy="72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Java Bas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 Base Cla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344840" y="2516040"/>
            <a:ext cx="4035600" cy="725760"/>
          </a:xfrm>
          <a:prstGeom prst="rect">
            <a:avLst/>
          </a:prstGeom>
          <a:solidFill>
            <a:srgbClr val="b1e9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va Standard Extension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 Standard Extension Cla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349880" y="2800440"/>
            <a:ext cx="40194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739880" y="2800440"/>
            <a:ext cx="259092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5" name=""/>
          <p:cNvGrpSpPr/>
          <p:nvPr/>
        </p:nvGrpSpPr>
        <p:grpSpPr>
          <a:xfrm>
            <a:off x="3665520" y="4154400"/>
            <a:ext cx="901800" cy="1025640"/>
            <a:chOff x="3665520" y="4154400"/>
            <a:chExt cx="901800" cy="1025640"/>
          </a:xfrm>
        </p:grpSpPr>
        <p:sp>
          <p:nvSpPr>
            <p:cNvPr id="2566" name=""/>
            <p:cNvSpPr/>
            <p:nvPr/>
          </p:nvSpPr>
          <p:spPr>
            <a:xfrm>
              <a:off x="3665520" y="4154400"/>
              <a:ext cx="901800" cy="254160"/>
            </a:xfrm>
            <a:prstGeom prst="rect">
              <a:avLst/>
            </a:prstGeom>
            <a:solidFill>
              <a:srgbClr val="b1e9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665520" y="4411800"/>
              <a:ext cx="901800" cy="511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665520" y="4925880"/>
              <a:ext cx="90180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576760" y="4154400"/>
            <a:ext cx="901800" cy="1025640"/>
            <a:chOff x="5576760" y="4154400"/>
            <a:chExt cx="901800" cy="1025640"/>
          </a:xfrm>
        </p:grpSpPr>
        <p:sp>
          <p:nvSpPr>
            <p:cNvPr id="2570" name=""/>
            <p:cNvSpPr/>
            <p:nvPr/>
          </p:nvSpPr>
          <p:spPr>
            <a:xfrm>
              <a:off x="5576760" y="4154400"/>
              <a:ext cx="901800" cy="473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576760" y="4621320"/>
              <a:ext cx="901800" cy="30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576760" y="4925880"/>
              <a:ext cx="901800" cy="2541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7488360" y="4154400"/>
            <a:ext cx="901440" cy="1025640"/>
            <a:chOff x="7488360" y="4154400"/>
            <a:chExt cx="901440" cy="1025640"/>
          </a:xfrm>
        </p:grpSpPr>
        <p:sp>
          <p:nvSpPr>
            <p:cNvPr id="2574" name=""/>
            <p:cNvSpPr/>
            <p:nvPr/>
          </p:nvSpPr>
          <p:spPr>
            <a:xfrm>
              <a:off x="7488360" y="4154400"/>
              <a:ext cx="901440" cy="76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Java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488360" y="4925880"/>
              <a:ext cx="90144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1486080" y="2513160"/>
            <a:ext cx="268200" cy="1643040"/>
            <a:chOff x="1486080" y="2513160"/>
            <a:chExt cx="268200" cy="1643040"/>
          </a:xfrm>
        </p:grpSpPr>
        <p:sp>
          <p:nvSpPr>
            <p:cNvPr id="2577" name=""/>
            <p:cNvSpPr/>
            <p:nvPr/>
          </p:nvSpPr>
          <p:spPr>
            <a:xfrm>
              <a:off x="1533600" y="272088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533600" y="340344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600" y="2513160"/>
              <a:ext cx="220680" cy="18576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0" y="116"/>
                  </a:moveTo>
                  <a:lnTo>
                    <a:pt x="1" y="108"/>
                  </a:lnTo>
                  <a:lnTo>
                    <a:pt x="4" y="97"/>
                  </a:lnTo>
                  <a:lnTo>
                    <a:pt x="9" y="72"/>
                  </a:lnTo>
                  <a:lnTo>
                    <a:pt x="12" y="57"/>
                  </a:lnTo>
                  <a:lnTo>
                    <a:pt x="16" y="44"/>
                  </a:lnTo>
                  <a:lnTo>
                    <a:pt x="22" y="34"/>
                  </a:lnTo>
                  <a:lnTo>
                    <a:pt x="29" y="26"/>
                  </a:lnTo>
                  <a:lnTo>
                    <a:pt x="41" y="19"/>
                  </a:lnTo>
                  <a:lnTo>
                    <a:pt x="53" y="15"/>
                  </a:lnTo>
                  <a:lnTo>
                    <a:pt x="68" y="11"/>
                  </a:lnTo>
                  <a:lnTo>
                    <a:pt x="84" y="9"/>
                  </a:lnTo>
                  <a:lnTo>
                    <a:pt x="100" y="7"/>
                  </a:lnTo>
                  <a:lnTo>
                    <a:pt x="114" y="4"/>
                  </a:lnTo>
                  <a:lnTo>
                    <a:pt x="128" y="2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523880" y="397368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0"/>
                  </a:moveTo>
                  <a:lnTo>
                    <a:pt x="1" y="7"/>
                  </a:lnTo>
                  <a:lnTo>
                    <a:pt x="3" y="18"/>
                  </a:lnTo>
                  <a:lnTo>
                    <a:pt x="8" y="43"/>
                  </a:lnTo>
                  <a:lnTo>
                    <a:pt x="12" y="57"/>
                  </a:lnTo>
                  <a:lnTo>
                    <a:pt x="17" y="71"/>
                  </a:lnTo>
                  <a:lnTo>
                    <a:pt x="23" y="82"/>
                  </a:lnTo>
                  <a:lnTo>
                    <a:pt x="30" y="89"/>
                  </a:lnTo>
                  <a:lnTo>
                    <a:pt x="41" y="96"/>
                  </a:lnTo>
                  <a:lnTo>
                    <a:pt x="54" y="100"/>
                  </a:lnTo>
                  <a:lnTo>
                    <a:pt x="68" y="103"/>
                  </a:lnTo>
                  <a:lnTo>
                    <a:pt x="84" y="107"/>
                  </a:lnTo>
                  <a:lnTo>
                    <a:pt x="100" y="107"/>
                  </a:lnTo>
                  <a:lnTo>
                    <a:pt x="115" y="110"/>
                  </a:lnTo>
                  <a:lnTo>
                    <a:pt x="128" y="110"/>
                  </a:lnTo>
                  <a:lnTo>
                    <a:pt x="138" y="1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486080" y="3286080"/>
              <a:ext cx="48960" cy="11736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0" y="0"/>
                  </a:moveTo>
                  <a:lnTo>
                    <a:pt x="19" y="8"/>
                  </a:lnTo>
                  <a:lnTo>
                    <a:pt x="9" y="20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9" y="53"/>
                  </a:lnTo>
                  <a:lnTo>
                    <a:pt x="19" y="62"/>
                  </a:lnTo>
                  <a:lnTo>
                    <a:pt x="30" y="7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636120" y="2670120"/>
            <a:ext cx="9648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n blac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486080" y="5181480"/>
            <a:ext cx="6256080" cy="344520"/>
          </a:xfrm>
          <a:custGeom>
            <a:avLst/>
            <a:gdLst/>
            <a:ahLst/>
            <a:rect l="l" t="t" r="r" b="b"/>
            <a:pathLst>
              <a:path w="3941" h="217">
                <a:moveTo>
                  <a:pt x="0" y="216"/>
                </a:moveTo>
                <a:lnTo>
                  <a:pt x="3940" y="216"/>
                </a:lnTo>
                <a:lnTo>
                  <a:pt x="394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829480" y="519732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905280" y="519732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1754280" y="4154400"/>
            <a:ext cx="901440" cy="1357560"/>
            <a:chOff x="1754280" y="4154400"/>
            <a:chExt cx="901440" cy="1357560"/>
          </a:xfrm>
        </p:grpSpPr>
        <p:sp>
          <p:nvSpPr>
            <p:cNvPr id="2587" name=""/>
            <p:cNvSpPr/>
            <p:nvPr/>
          </p:nvSpPr>
          <p:spPr>
            <a:xfrm>
              <a:off x="1754280" y="4154400"/>
              <a:ext cx="901440" cy="254160"/>
            </a:xfrm>
            <a:prstGeom prst="rect">
              <a:avLst/>
            </a:prstGeom>
            <a:solidFill>
              <a:srgbClr val="b1e9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754280" y="4411800"/>
              <a:ext cx="901440" cy="253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rows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754280" y="4668840"/>
              <a:ext cx="90144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754280" y="4925880"/>
              <a:ext cx="901440" cy="254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943280" y="5197320"/>
              <a:ext cx="0" cy="31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2" name=""/>
          <p:cNvSpPr/>
          <p:nvPr/>
        </p:nvSpPr>
        <p:spPr>
          <a:xfrm>
            <a:off x="676440" y="5346720"/>
            <a:ext cx="88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638000" y="5626080"/>
            <a:ext cx="104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Brow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506400" y="5626080"/>
            <a:ext cx="1190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ktop 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452200" y="5626080"/>
            <a:ext cx="1135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aller 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501320" y="5626080"/>
            <a:ext cx="894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 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Java Applications!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Java applications are now availabl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ost of manfg zero, cost of distribution zero, cost of marketing zero!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ot Java is lean - loads everything else from the net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Java itself  is small - 40k to 225k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New class of small machines will emerg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Java on cellular phones, credit cards, washing machines, and everywhere ?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"/>
          <p:cNvSpPr/>
          <p:nvPr/>
        </p:nvSpPr>
        <p:spPr>
          <a:xfrm flipH="1">
            <a:off x="1512720" y="4433760"/>
            <a:ext cx="2386080" cy="14972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662360" y="4433760"/>
            <a:ext cx="1954440" cy="1344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1" name=""/>
          <p:cNvGraphicFramePr/>
          <p:nvPr/>
        </p:nvGraphicFramePr>
        <p:xfrm>
          <a:off x="1365120" y="1708200"/>
          <a:ext cx="179100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708200"/>
                    <a:ext cx="17910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3" name=""/>
          <p:cNvGraphicFramePr/>
          <p:nvPr/>
        </p:nvGraphicFramePr>
        <p:xfrm>
          <a:off x="3346560" y="1708200"/>
          <a:ext cx="1790640" cy="11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6560" y="1708200"/>
                    <a:ext cx="1790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5" name=""/>
          <p:cNvGraphicFramePr/>
          <p:nvPr/>
        </p:nvGraphicFramePr>
        <p:xfrm>
          <a:off x="5327640" y="1714680"/>
          <a:ext cx="1790640" cy="111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7640" y="1714680"/>
                    <a:ext cx="1790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7" name=""/>
          <p:cNvGrpSpPr/>
          <p:nvPr/>
        </p:nvGrpSpPr>
        <p:grpSpPr>
          <a:xfrm>
            <a:off x="458640" y="5484960"/>
            <a:ext cx="1379520" cy="755640"/>
            <a:chOff x="458640" y="5484960"/>
            <a:chExt cx="1379520" cy="755640"/>
          </a:xfrm>
        </p:grpSpPr>
        <p:grpSp>
          <p:nvGrpSpPr>
            <p:cNvPr id="2608" name=""/>
            <p:cNvGrpSpPr/>
            <p:nvPr/>
          </p:nvGrpSpPr>
          <p:grpSpPr>
            <a:xfrm>
              <a:off x="458640" y="6019920"/>
              <a:ext cx="1379520" cy="220680"/>
              <a:chOff x="458640" y="6019920"/>
              <a:chExt cx="1379520" cy="220680"/>
            </a:xfrm>
          </p:grpSpPr>
          <p:sp>
            <p:nvSpPr>
              <p:cNvPr id="2609" name=""/>
              <p:cNvSpPr/>
              <p:nvPr/>
            </p:nvSpPr>
            <p:spPr>
              <a:xfrm>
                <a:off x="458640" y="6019920"/>
                <a:ext cx="1379520" cy="220680"/>
              </a:xfrm>
              <a:custGeom>
                <a:avLst/>
                <a:gdLst/>
                <a:ahLst/>
                <a:rect l="l" t="t" r="r" b="b"/>
                <a:pathLst>
                  <a:path w="869" h="139">
                    <a:moveTo>
                      <a:pt x="108" y="0"/>
                    </a:moveTo>
                    <a:lnTo>
                      <a:pt x="764" y="0"/>
                    </a:lnTo>
                    <a:lnTo>
                      <a:pt x="868" y="125"/>
                    </a:lnTo>
                    <a:lnTo>
                      <a:pt x="868" y="131"/>
                    </a:lnTo>
                    <a:lnTo>
                      <a:pt x="865" y="136"/>
                    </a:lnTo>
                    <a:lnTo>
                      <a:pt x="858" y="138"/>
                    </a:lnTo>
                    <a:lnTo>
                      <a:pt x="12" y="138"/>
                    </a:lnTo>
                    <a:lnTo>
                      <a:pt x="4" y="135"/>
                    </a:lnTo>
                    <a:lnTo>
                      <a:pt x="0" y="129"/>
                    </a:lnTo>
                    <a:lnTo>
                      <a:pt x="2" y="12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34960" y="6067440"/>
                <a:ext cx="919080" cy="141120"/>
              </a:xfrm>
              <a:custGeom>
                <a:avLst/>
                <a:gdLst/>
                <a:ahLst/>
                <a:rect l="l" t="t" r="r" b="b"/>
                <a:pathLst>
                  <a:path w="579" h="89">
                    <a:moveTo>
                      <a:pt x="78" y="0"/>
                    </a:moveTo>
                    <a:lnTo>
                      <a:pt x="550" y="0"/>
                    </a:lnTo>
                    <a:lnTo>
                      <a:pt x="578" y="88"/>
                    </a:lnTo>
                    <a:lnTo>
                      <a:pt x="0" y="8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481040" y="6067440"/>
                <a:ext cx="277920" cy="14112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0" y="0"/>
                    </a:moveTo>
                    <a:lnTo>
                      <a:pt x="103" y="0"/>
                    </a:lnTo>
                    <a:lnTo>
                      <a:pt x="174" y="88"/>
                    </a:lnTo>
                    <a:lnTo>
                      <a:pt x="32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2" name=""/>
            <p:cNvSpPr/>
            <p:nvPr/>
          </p:nvSpPr>
          <p:spPr>
            <a:xfrm>
              <a:off x="773280" y="5484960"/>
              <a:ext cx="734760" cy="51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76240" y="5557680"/>
              <a:ext cx="528840" cy="3477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352520" y="5952960"/>
              <a:ext cx="554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3354480" y="5484960"/>
            <a:ext cx="1379520" cy="755640"/>
            <a:chOff x="3354480" y="5484960"/>
            <a:chExt cx="1379520" cy="755640"/>
          </a:xfrm>
        </p:grpSpPr>
        <p:grpSp>
          <p:nvGrpSpPr>
            <p:cNvPr id="2616" name=""/>
            <p:cNvGrpSpPr/>
            <p:nvPr/>
          </p:nvGrpSpPr>
          <p:grpSpPr>
            <a:xfrm>
              <a:off x="3354480" y="6019920"/>
              <a:ext cx="1379520" cy="220680"/>
              <a:chOff x="3354480" y="6019920"/>
              <a:chExt cx="1379520" cy="220680"/>
            </a:xfrm>
          </p:grpSpPr>
          <p:sp>
            <p:nvSpPr>
              <p:cNvPr id="2617" name=""/>
              <p:cNvSpPr/>
              <p:nvPr/>
            </p:nvSpPr>
            <p:spPr>
              <a:xfrm>
                <a:off x="3354480" y="6019920"/>
                <a:ext cx="1379520" cy="220680"/>
              </a:xfrm>
              <a:custGeom>
                <a:avLst/>
                <a:gdLst/>
                <a:ahLst/>
                <a:rect l="l" t="t" r="r" b="b"/>
                <a:pathLst>
                  <a:path w="869" h="139">
                    <a:moveTo>
                      <a:pt x="108" y="0"/>
                    </a:moveTo>
                    <a:lnTo>
                      <a:pt x="764" y="0"/>
                    </a:lnTo>
                    <a:lnTo>
                      <a:pt x="868" y="125"/>
                    </a:lnTo>
                    <a:lnTo>
                      <a:pt x="868" y="131"/>
                    </a:lnTo>
                    <a:lnTo>
                      <a:pt x="865" y="136"/>
                    </a:lnTo>
                    <a:lnTo>
                      <a:pt x="858" y="138"/>
                    </a:lnTo>
                    <a:lnTo>
                      <a:pt x="12" y="138"/>
                    </a:lnTo>
                    <a:lnTo>
                      <a:pt x="4" y="135"/>
                    </a:lnTo>
                    <a:lnTo>
                      <a:pt x="0" y="129"/>
                    </a:lnTo>
                    <a:lnTo>
                      <a:pt x="2" y="12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430440" y="6067440"/>
                <a:ext cx="919440" cy="141120"/>
              </a:xfrm>
              <a:custGeom>
                <a:avLst/>
                <a:gdLst/>
                <a:ahLst/>
                <a:rect l="l" t="t" r="r" b="b"/>
                <a:pathLst>
                  <a:path w="579" h="89">
                    <a:moveTo>
                      <a:pt x="78" y="0"/>
                    </a:moveTo>
                    <a:lnTo>
                      <a:pt x="550" y="0"/>
                    </a:lnTo>
                    <a:lnTo>
                      <a:pt x="578" y="88"/>
                    </a:lnTo>
                    <a:lnTo>
                      <a:pt x="0" y="8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376880" y="6067440"/>
                <a:ext cx="277560" cy="14112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0" y="0"/>
                    </a:moveTo>
                    <a:lnTo>
                      <a:pt x="103" y="0"/>
                    </a:lnTo>
                    <a:lnTo>
                      <a:pt x="174" y="88"/>
                    </a:lnTo>
                    <a:lnTo>
                      <a:pt x="32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0" name=""/>
            <p:cNvSpPr/>
            <p:nvPr/>
          </p:nvSpPr>
          <p:spPr>
            <a:xfrm>
              <a:off x="3668760" y="5484960"/>
              <a:ext cx="735120" cy="51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772080" y="5557680"/>
              <a:ext cx="528480" cy="3477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248000" y="595296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5640480" y="5484960"/>
            <a:ext cx="1379520" cy="755640"/>
            <a:chOff x="5640480" y="5484960"/>
            <a:chExt cx="1379520" cy="755640"/>
          </a:xfrm>
        </p:grpSpPr>
        <p:grpSp>
          <p:nvGrpSpPr>
            <p:cNvPr id="2624" name=""/>
            <p:cNvGrpSpPr/>
            <p:nvPr/>
          </p:nvGrpSpPr>
          <p:grpSpPr>
            <a:xfrm>
              <a:off x="5640480" y="6019920"/>
              <a:ext cx="1379520" cy="220680"/>
              <a:chOff x="5640480" y="6019920"/>
              <a:chExt cx="1379520" cy="220680"/>
            </a:xfrm>
          </p:grpSpPr>
          <p:sp>
            <p:nvSpPr>
              <p:cNvPr id="2625" name=""/>
              <p:cNvSpPr/>
              <p:nvPr/>
            </p:nvSpPr>
            <p:spPr>
              <a:xfrm>
                <a:off x="5640480" y="6019920"/>
                <a:ext cx="1379520" cy="220680"/>
              </a:xfrm>
              <a:custGeom>
                <a:avLst/>
                <a:gdLst/>
                <a:ahLst/>
                <a:rect l="l" t="t" r="r" b="b"/>
                <a:pathLst>
                  <a:path w="869" h="139">
                    <a:moveTo>
                      <a:pt x="108" y="0"/>
                    </a:moveTo>
                    <a:lnTo>
                      <a:pt x="764" y="0"/>
                    </a:lnTo>
                    <a:lnTo>
                      <a:pt x="868" y="125"/>
                    </a:lnTo>
                    <a:lnTo>
                      <a:pt x="868" y="131"/>
                    </a:lnTo>
                    <a:lnTo>
                      <a:pt x="865" y="136"/>
                    </a:lnTo>
                    <a:lnTo>
                      <a:pt x="858" y="138"/>
                    </a:lnTo>
                    <a:lnTo>
                      <a:pt x="12" y="138"/>
                    </a:lnTo>
                    <a:lnTo>
                      <a:pt x="4" y="135"/>
                    </a:lnTo>
                    <a:lnTo>
                      <a:pt x="0" y="129"/>
                    </a:lnTo>
                    <a:lnTo>
                      <a:pt x="2" y="12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716440" y="6067440"/>
                <a:ext cx="919440" cy="141120"/>
              </a:xfrm>
              <a:custGeom>
                <a:avLst/>
                <a:gdLst/>
                <a:ahLst/>
                <a:rect l="l" t="t" r="r" b="b"/>
                <a:pathLst>
                  <a:path w="579" h="89">
                    <a:moveTo>
                      <a:pt x="78" y="0"/>
                    </a:moveTo>
                    <a:lnTo>
                      <a:pt x="550" y="0"/>
                    </a:lnTo>
                    <a:lnTo>
                      <a:pt x="578" y="88"/>
                    </a:lnTo>
                    <a:lnTo>
                      <a:pt x="0" y="8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662880" y="6067440"/>
                <a:ext cx="277560" cy="14112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0" y="0"/>
                    </a:moveTo>
                    <a:lnTo>
                      <a:pt x="103" y="0"/>
                    </a:lnTo>
                    <a:lnTo>
                      <a:pt x="174" y="88"/>
                    </a:lnTo>
                    <a:lnTo>
                      <a:pt x="32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8" name=""/>
            <p:cNvSpPr/>
            <p:nvPr/>
          </p:nvSpPr>
          <p:spPr>
            <a:xfrm>
              <a:off x="5954760" y="5484960"/>
              <a:ext cx="735120" cy="51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058080" y="5557680"/>
              <a:ext cx="528480" cy="3477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534000" y="595296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3398760" y="3611520"/>
            <a:ext cx="1709640" cy="817560"/>
            <a:chOff x="3398760" y="3611520"/>
            <a:chExt cx="1709640" cy="817560"/>
          </a:xfrm>
        </p:grpSpPr>
        <p:sp>
          <p:nvSpPr>
            <p:cNvPr id="2632" name=""/>
            <p:cNvSpPr/>
            <p:nvPr/>
          </p:nvSpPr>
          <p:spPr>
            <a:xfrm>
              <a:off x="3398760" y="3741840"/>
              <a:ext cx="1527120" cy="65412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559320" y="3611520"/>
              <a:ext cx="925200" cy="62064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141800" y="3611520"/>
              <a:ext cx="966600" cy="42552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60840" y="4133880"/>
              <a:ext cx="1084320" cy="295200"/>
            </a:xfrm>
            <a:prstGeom prst="ellipse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6" name=""/>
          <p:cNvSpPr/>
          <p:nvPr/>
        </p:nvSpPr>
        <p:spPr>
          <a:xfrm>
            <a:off x="3642120" y="379584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998800" y="2770200"/>
            <a:ext cx="709560" cy="8618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4636800" y="2757600"/>
            <a:ext cx="328680" cy="811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5094360" y="2757600"/>
            <a:ext cx="1852560" cy="9633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267080" y="4510080"/>
            <a:ext cx="0" cy="963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Universal Interface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42" name=""/>
          <p:cNvSpPr/>
          <p:nvPr/>
        </p:nvSpPr>
        <p:spPr>
          <a:xfrm>
            <a:off x="7147440" y="1585800"/>
            <a:ext cx="1850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 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ith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842520" y="4938840"/>
            <a:ext cx="18853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y O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y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entury Gothic"/>
              </a:rPr>
              <a:t>Java on my platform ? 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n (SPARC) ftp://java.sun.c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n(x86)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ftp://xm.com:/pub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BM(Aix, OS/2)ftp://ncc.hursley.ibm.com/javainf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C(Alpha OSF/1) http://www.gr.osf.org:8001/projects/web/java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GI http://liawww.epfl.ch/~simon/java/irix-jdk.htm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P  http://www.gr.osf.org:8001/projects/web/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inux http://www.blackdown.or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T &amp; T http://www.gr.osf.org:8001/projects/web/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ndows 3.1 http://www.alphaworks.ibm.c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"/>
          <p:cNvGrpSpPr/>
          <p:nvPr/>
        </p:nvGrpSpPr>
        <p:grpSpPr>
          <a:xfrm>
            <a:off x="2819520" y="2035080"/>
            <a:ext cx="4465440" cy="3300480"/>
            <a:chOff x="2819520" y="2035080"/>
            <a:chExt cx="4465440" cy="3300480"/>
          </a:xfrm>
        </p:grpSpPr>
        <p:grpSp>
          <p:nvGrpSpPr>
            <p:cNvPr id="1006" name=""/>
            <p:cNvGrpSpPr/>
            <p:nvPr/>
          </p:nvGrpSpPr>
          <p:grpSpPr>
            <a:xfrm>
              <a:off x="2819520" y="2187720"/>
              <a:ext cx="4049640" cy="3147840"/>
              <a:chOff x="2819520" y="2187720"/>
              <a:chExt cx="4049640" cy="3147840"/>
            </a:xfrm>
          </p:grpSpPr>
          <p:sp>
            <p:nvSpPr>
              <p:cNvPr id="1007" name=""/>
              <p:cNvSpPr/>
              <p:nvPr/>
            </p:nvSpPr>
            <p:spPr>
              <a:xfrm>
                <a:off x="2819520" y="3809880"/>
                <a:ext cx="1298520" cy="1522440"/>
              </a:xfrm>
              <a:custGeom>
                <a:avLst/>
                <a:gdLst/>
                <a:ahLst/>
                <a:rect l="l" t="t" r="r" b="b"/>
                <a:pathLst>
                  <a:path w="818" h="959">
                    <a:moveTo>
                      <a:pt x="817" y="566"/>
                    </a:moveTo>
                    <a:lnTo>
                      <a:pt x="599" y="566"/>
                    </a:lnTo>
                    <a:lnTo>
                      <a:pt x="599" y="0"/>
                    </a:lnTo>
                    <a:lnTo>
                      <a:pt x="219" y="0"/>
                    </a:lnTo>
                    <a:lnTo>
                      <a:pt x="219" y="566"/>
                    </a:lnTo>
                    <a:lnTo>
                      <a:pt x="0" y="566"/>
                    </a:lnTo>
                    <a:lnTo>
                      <a:pt x="410" y="958"/>
                    </a:lnTo>
                    <a:lnTo>
                      <a:pt x="817" y="56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73520" y="3695760"/>
                <a:ext cx="1301760" cy="1630440"/>
              </a:xfrm>
              <a:custGeom>
                <a:avLst/>
                <a:gdLst/>
                <a:ahLst/>
                <a:rect l="l" t="t" r="r" b="b"/>
                <a:pathLst>
                  <a:path w="820" h="1027">
                    <a:moveTo>
                      <a:pt x="819" y="633"/>
                    </a:moveTo>
                    <a:lnTo>
                      <a:pt x="600" y="633"/>
                    </a:lnTo>
                    <a:lnTo>
                      <a:pt x="600" y="0"/>
                    </a:lnTo>
                    <a:lnTo>
                      <a:pt x="220" y="0"/>
                    </a:lnTo>
                    <a:lnTo>
                      <a:pt x="220" y="633"/>
                    </a:lnTo>
                    <a:lnTo>
                      <a:pt x="0" y="633"/>
                    </a:lnTo>
                    <a:lnTo>
                      <a:pt x="410" y="1026"/>
                    </a:lnTo>
                    <a:lnTo>
                      <a:pt x="819" y="633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987640" y="3695760"/>
                <a:ext cx="1405080" cy="1638360"/>
              </a:xfrm>
              <a:custGeom>
                <a:avLst/>
                <a:gdLst/>
                <a:ahLst/>
                <a:rect l="l" t="t" r="r" b="b"/>
                <a:pathLst>
                  <a:path w="885" h="1032">
                    <a:moveTo>
                      <a:pt x="884" y="637"/>
                    </a:moveTo>
                    <a:lnTo>
                      <a:pt x="648" y="637"/>
                    </a:lnTo>
                    <a:lnTo>
                      <a:pt x="649" y="0"/>
                    </a:lnTo>
                    <a:lnTo>
                      <a:pt x="237" y="0"/>
                    </a:lnTo>
                    <a:lnTo>
                      <a:pt x="237" y="637"/>
                    </a:lnTo>
                    <a:lnTo>
                      <a:pt x="0" y="637"/>
                    </a:lnTo>
                    <a:lnTo>
                      <a:pt x="442" y="1031"/>
                    </a:lnTo>
                    <a:lnTo>
                      <a:pt x="884" y="637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035160" y="3584520"/>
                <a:ext cx="1408320" cy="1741680"/>
              </a:xfrm>
              <a:custGeom>
                <a:avLst/>
                <a:gdLst/>
                <a:ahLst/>
                <a:rect l="l" t="t" r="r" b="b"/>
                <a:pathLst>
                  <a:path w="887" h="1097">
                    <a:moveTo>
                      <a:pt x="886" y="705"/>
                    </a:moveTo>
                    <a:lnTo>
                      <a:pt x="647" y="705"/>
                    </a:lnTo>
                    <a:lnTo>
                      <a:pt x="647" y="0"/>
                    </a:lnTo>
                    <a:lnTo>
                      <a:pt x="238" y="0"/>
                    </a:lnTo>
                    <a:lnTo>
                      <a:pt x="238" y="705"/>
                    </a:lnTo>
                    <a:lnTo>
                      <a:pt x="0" y="705"/>
                    </a:lnTo>
                    <a:lnTo>
                      <a:pt x="443" y="1096"/>
                    </a:lnTo>
                    <a:lnTo>
                      <a:pt x="886" y="705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62240" y="3497400"/>
                <a:ext cx="1589040" cy="1830240"/>
              </a:xfrm>
              <a:custGeom>
                <a:avLst/>
                <a:gdLst/>
                <a:ahLst/>
                <a:rect l="l" t="t" r="r" b="b"/>
                <a:pathLst>
                  <a:path w="1001" h="1153">
                    <a:moveTo>
                      <a:pt x="1000" y="712"/>
                    </a:moveTo>
                    <a:lnTo>
                      <a:pt x="732" y="712"/>
                    </a:lnTo>
                    <a:lnTo>
                      <a:pt x="734" y="1"/>
                    </a:lnTo>
                    <a:lnTo>
                      <a:pt x="269" y="0"/>
                    </a:lnTo>
                    <a:lnTo>
                      <a:pt x="269" y="712"/>
                    </a:lnTo>
                    <a:lnTo>
                      <a:pt x="0" y="712"/>
                    </a:lnTo>
                    <a:lnTo>
                      <a:pt x="501" y="1152"/>
                    </a:lnTo>
                    <a:lnTo>
                      <a:pt x="1000" y="71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220920" y="3367080"/>
                <a:ext cx="1590840" cy="1968480"/>
              </a:xfrm>
              <a:custGeom>
                <a:avLst/>
                <a:gdLst/>
                <a:ahLst/>
                <a:rect l="l" t="t" r="r" b="b"/>
                <a:pathLst>
                  <a:path w="1002" h="1240">
                    <a:moveTo>
                      <a:pt x="1001" y="798"/>
                    </a:moveTo>
                    <a:lnTo>
                      <a:pt x="733" y="798"/>
                    </a:lnTo>
                    <a:lnTo>
                      <a:pt x="734" y="0"/>
                    </a:lnTo>
                    <a:lnTo>
                      <a:pt x="269" y="2"/>
                    </a:lnTo>
                    <a:lnTo>
                      <a:pt x="268" y="798"/>
                    </a:lnTo>
                    <a:lnTo>
                      <a:pt x="0" y="798"/>
                    </a:lnTo>
                    <a:lnTo>
                      <a:pt x="501" y="1239"/>
                    </a:lnTo>
                    <a:lnTo>
                      <a:pt x="1001" y="79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359160" y="3309840"/>
                <a:ext cx="1719360" cy="2022480"/>
              </a:xfrm>
              <a:custGeom>
                <a:avLst/>
                <a:gdLst/>
                <a:ahLst/>
                <a:rect l="l" t="t" r="r" b="b"/>
                <a:pathLst>
                  <a:path w="1083" h="1274">
                    <a:moveTo>
                      <a:pt x="1082" y="819"/>
                    </a:moveTo>
                    <a:lnTo>
                      <a:pt x="792" y="819"/>
                    </a:lnTo>
                    <a:lnTo>
                      <a:pt x="792" y="0"/>
                    </a:lnTo>
                    <a:lnTo>
                      <a:pt x="290" y="0"/>
                    </a:lnTo>
                    <a:lnTo>
                      <a:pt x="290" y="819"/>
                    </a:lnTo>
                    <a:lnTo>
                      <a:pt x="0" y="819"/>
                    </a:lnTo>
                    <a:lnTo>
                      <a:pt x="541" y="1273"/>
                    </a:lnTo>
                    <a:lnTo>
                      <a:pt x="1082" y="819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429000" y="3182760"/>
                <a:ext cx="1717560" cy="2149560"/>
              </a:xfrm>
              <a:custGeom>
                <a:avLst/>
                <a:gdLst/>
                <a:ahLst/>
                <a:rect l="l" t="t" r="r" b="b"/>
                <a:pathLst>
                  <a:path w="1082" h="1354">
                    <a:moveTo>
                      <a:pt x="1081" y="902"/>
                    </a:moveTo>
                    <a:lnTo>
                      <a:pt x="790" y="902"/>
                    </a:lnTo>
                    <a:lnTo>
                      <a:pt x="790" y="0"/>
                    </a:lnTo>
                    <a:lnTo>
                      <a:pt x="288" y="0"/>
                    </a:lnTo>
                    <a:lnTo>
                      <a:pt x="290" y="902"/>
                    </a:lnTo>
                    <a:lnTo>
                      <a:pt x="0" y="902"/>
                    </a:lnTo>
                    <a:lnTo>
                      <a:pt x="539" y="1353"/>
                    </a:lnTo>
                    <a:lnTo>
                      <a:pt x="1081" y="902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625920" y="3127320"/>
                <a:ext cx="1733400" cy="2208240"/>
              </a:xfrm>
              <a:custGeom>
                <a:avLst/>
                <a:gdLst/>
                <a:ahLst/>
                <a:rect l="l" t="t" r="r" b="b"/>
                <a:pathLst>
                  <a:path w="1092" h="1391">
                    <a:moveTo>
                      <a:pt x="1091" y="907"/>
                    </a:moveTo>
                    <a:lnTo>
                      <a:pt x="797" y="907"/>
                    </a:lnTo>
                    <a:lnTo>
                      <a:pt x="800" y="2"/>
                    </a:lnTo>
                    <a:lnTo>
                      <a:pt x="292" y="0"/>
                    </a:lnTo>
                    <a:lnTo>
                      <a:pt x="293" y="907"/>
                    </a:lnTo>
                    <a:lnTo>
                      <a:pt x="0" y="907"/>
                    </a:lnTo>
                    <a:lnTo>
                      <a:pt x="546" y="1390"/>
                    </a:lnTo>
                    <a:lnTo>
                      <a:pt x="1091" y="907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92520" y="2986200"/>
                <a:ext cx="1731960" cy="2347920"/>
              </a:xfrm>
              <a:custGeom>
                <a:avLst/>
                <a:gdLst/>
                <a:ahLst/>
                <a:rect l="l" t="t" r="r" b="b"/>
                <a:pathLst>
                  <a:path w="1091" h="1479">
                    <a:moveTo>
                      <a:pt x="1090" y="996"/>
                    </a:moveTo>
                    <a:lnTo>
                      <a:pt x="797" y="996"/>
                    </a:lnTo>
                    <a:lnTo>
                      <a:pt x="797" y="0"/>
                    </a:lnTo>
                    <a:lnTo>
                      <a:pt x="292" y="0"/>
                    </a:lnTo>
                    <a:lnTo>
                      <a:pt x="292" y="996"/>
                    </a:lnTo>
                    <a:lnTo>
                      <a:pt x="0" y="996"/>
                    </a:lnTo>
                    <a:lnTo>
                      <a:pt x="544" y="1478"/>
                    </a:lnTo>
                    <a:lnTo>
                      <a:pt x="1090" y="996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843360" y="2984400"/>
                <a:ext cx="1874880" cy="2347920"/>
              </a:xfrm>
              <a:custGeom>
                <a:avLst/>
                <a:gdLst/>
                <a:ahLst/>
                <a:rect l="l" t="t" r="r" b="b"/>
                <a:pathLst>
                  <a:path w="1181" h="1479">
                    <a:moveTo>
                      <a:pt x="1180" y="996"/>
                    </a:moveTo>
                    <a:lnTo>
                      <a:pt x="863" y="996"/>
                    </a:lnTo>
                    <a:lnTo>
                      <a:pt x="858" y="2"/>
                    </a:lnTo>
                    <a:lnTo>
                      <a:pt x="317" y="0"/>
                    </a:lnTo>
                    <a:lnTo>
                      <a:pt x="318" y="996"/>
                    </a:lnTo>
                    <a:lnTo>
                      <a:pt x="0" y="996"/>
                    </a:lnTo>
                    <a:lnTo>
                      <a:pt x="590" y="1478"/>
                    </a:lnTo>
                    <a:lnTo>
                      <a:pt x="1180" y="996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919680" y="2847960"/>
                <a:ext cx="1873080" cy="2487600"/>
              </a:xfrm>
              <a:custGeom>
                <a:avLst/>
                <a:gdLst/>
                <a:ahLst/>
                <a:rect l="l" t="t" r="r" b="b"/>
                <a:pathLst>
                  <a:path w="1180" h="1567">
                    <a:moveTo>
                      <a:pt x="1179" y="1082"/>
                    </a:moveTo>
                    <a:lnTo>
                      <a:pt x="862" y="1082"/>
                    </a:lnTo>
                    <a:lnTo>
                      <a:pt x="863" y="0"/>
                    </a:lnTo>
                    <a:lnTo>
                      <a:pt x="316" y="0"/>
                    </a:lnTo>
                    <a:lnTo>
                      <a:pt x="317" y="1082"/>
                    </a:lnTo>
                    <a:lnTo>
                      <a:pt x="0" y="1082"/>
                    </a:lnTo>
                    <a:lnTo>
                      <a:pt x="590" y="1566"/>
                    </a:lnTo>
                    <a:lnTo>
                      <a:pt x="1179" y="1082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67360" y="2790720"/>
                <a:ext cx="1834920" cy="2543400"/>
              </a:xfrm>
              <a:custGeom>
                <a:avLst/>
                <a:gdLst/>
                <a:ahLst/>
                <a:rect l="l" t="t" r="r" b="b"/>
                <a:pathLst>
                  <a:path w="1156" h="1602">
                    <a:moveTo>
                      <a:pt x="1155" y="1079"/>
                    </a:moveTo>
                    <a:lnTo>
                      <a:pt x="844" y="1079"/>
                    </a:lnTo>
                    <a:lnTo>
                      <a:pt x="843" y="0"/>
                    </a:lnTo>
                    <a:lnTo>
                      <a:pt x="311" y="0"/>
                    </a:lnTo>
                    <a:lnTo>
                      <a:pt x="311" y="1079"/>
                    </a:lnTo>
                    <a:lnTo>
                      <a:pt x="0" y="1079"/>
                    </a:lnTo>
                    <a:lnTo>
                      <a:pt x="579" y="1601"/>
                    </a:lnTo>
                    <a:lnTo>
                      <a:pt x="1155" y="1079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238640" y="2641680"/>
                <a:ext cx="1836720" cy="2692440"/>
              </a:xfrm>
              <a:custGeom>
                <a:avLst/>
                <a:gdLst/>
                <a:ahLst/>
                <a:rect l="l" t="t" r="r" b="b"/>
                <a:pathLst>
                  <a:path w="1157" h="1696">
                    <a:moveTo>
                      <a:pt x="1156" y="1174"/>
                    </a:moveTo>
                    <a:lnTo>
                      <a:pt x="845" y="1174"/>
                    </a:lnTo>
                    <a:lnTo>
                      <a:pt x="845" y="0"/>
                    </a:lnTo>
                    <a:lnTo>
                      <a:pt x="311" y="0"/>
                    </a:lnTo>
                    <a:lnTo>
                      <a:pt x="311" y="1174"/>
                    </a:lnTo>
                    <a:lnTo>
                      <a:pt x="0" y="1174"/>
                    </a:lnTo>
                    <a:lnTo>
                      <a:pt x="578" y="1695"/>
                    </a:lnTo>
                    <a:lnTo>
                      <a:pt x="1156" y="117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430880" y="2593800"/>
                <a:ext cx="2028600" cy="2740320"/>
              </a:xfrm>
              <a:custGeom>
                <a:avLst/>
                <a:gdLst/>
                <a:ahLst/>
                <a:rect l="l" t="t" r="r" b="b"/>
                <a:pathLst>
                  <a:path w="1278" h="1726">
                    <a:moveTo>
                      <a:pt x="1277" y="1200"/>
                    </a:moveTo>
                    <a:lnTo>
                      <a:pt x="933" y="1200"/>
                    </a:lnTo>
                    <a:lnTo>
                      <a:pt x="935" y="3"/>
                    </a:lnTo>
                    <a:lnTo>
                      <a:pt x="342" y="0"/>
                    </a:lnTo>
                    <a:lnTo>
                      <a:pt x="343" y="1200"/>
                    </a:lnTo>
                    <a:lnTo>
                      <a:pt x="0" y="1200"/>
                    </a:lnTo>
                    <a:lnTo>
                      <a:pt x="639" y="1725"/>
                    </a:lnTo>
                    <a:lnTo>
                      <a:pt x="1277" y="120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508640" y="2443320"/>
                <a:ext cx="2028600" cy="2890800"/>
              </a:xfrm>
              <a:custGeom>
                <a:avLst/>
                <a:gdLst/>
                <a:ahLst/>
                <a:rect l="l" t="t" r="r" b="b"/>
                <a:pathLst>
                  <a:path w="1278" h="1821">
                    <a:moveTo>
                      <a:pt x="1277" y="1296"/>
                    </a:moveTo>
                    <a:lnTo>
                      <a:pt x="933" y="1296"/>
                    </a:lnTo>
                    <a:lnTo>
                      <a:pt x="933" y="0"/>
                    </a:lnTo>
                    <a:lnTo>
                      <a:pt x="342" y="0"/>
                    </a:lnTo>
                    <a:lnTo>
                      <a:pt x="343" y="1296"/>
                    </a:lnTo>
                    <a:lnTo>
                      <a:pt x="0" y="1296"/>
                    </a:lnTo>
                    <a:lnTo>
                      <a:pt x="639" y="1820"/>
                    </a:lnTo>
                    <a:lnTo>
                      <a:pt x="1277" y="1296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799160" y="2346480"/>
                <a:ext cx="1989000" cy="2982600"/>
              </a:xfrm>
              <a:custGeom>
                <a:avLst/>
                <a:gdLst/>
                <a:ahLst/>
                <a:rect l="l" t="t" r="r" b="b"/>
                <a:pathLst>
                  <a:path w="1253" h="1879">
                    <a:moveTo>
                      <a:pt x="1252" y="1321"/>
                    </a:moveTo>
                    <a:lnTo>
                      <a:pt x="916" y="1321"/>
                    </a:lnTo>
                    <a:lnTo>
                      <a:pt x="916" y="0"/>
                    </a:lnTo>
                    <a:lnTo>
                      <a:pt x="337" y="3"/>
                    </a:lnTo>
                    <a:lnTo>
                      <a:pt x="337" y="1321"/>
                    </a:lnTo>
                    <a:lnTo>
                      <a:pt x="0" y="1321"/>
                    </a:lnTo>
                    <a:lnTo>
                      <a:pt x="627" y="1878"/>
                    </a:lnTo>
                    <a:lnTo>
                      <a:pt x="1252" y="1321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81600" y="2187720"/>
                <a:ext cx="1987560" cy="3143160"/>
              </a:xfrm>
              <a:custGeom>
                <a:avLst/>
                <a:gdLst/>
                <a:ahLst/>
                <a:rect l="l" t="t" r="r" b="b"/>
                <a:pathLst>
                  <a:path w="1252" h="1980">
                    <a:moveTo>
                      <a:pt x="1251" y="1422"/>
                    </a:moveTo>
                    <a:lnTo>
                      <a:pt x="915" y="1422"/>
                    </a:lnTo>
                    <a:lnTo>
                      <a:pt x="918" y="0"/>
                    </a:lnTo>
                    <a:lnTo>
                      <a:pt x="337" y="3"/>
                    </a:lnTo>
                    <a:lnTo>
                      <a:pt x="337" y="1422"/>
                    </a:lnTo>
                    <a:lnTo>
                      <a:pt x="0" y="1422"/>
                    </a:lnTo>
                    <a:lnTo>
                      <a:pt x="625" y="1979"/>
                    </a:lnTo>
                    <a:lnTo>
                      <a:pt x="1251" y="142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5054760" y="2187720"/>
              <a:ext cx="2149200" cy="3138480"/>
            </a:xfrm>
            <a:custGeom>
              <a:avLst/>
              <a:gdLst/>
              <a:ahLst/>
              <a:rect l="l" t="t" r="r" b="b"/>
              <a:pathLst>
                <a:path w="1354" h="1977">
                  <a:moveTo>
                    <a:pt x="1353" y="1419"/>
                  </a:moveTo>
                  <a:lnTo>
                    <a:pt x="989" y="1419"/>
                  </a:lnTo>
                  <a:lnTo>
                    <a:pt x="989" y="0"/>
                  </a:lnTo>
                  <a:lnTo>
                    <a:pt x="364" y="0"/>
                  </a:lnTo>
                  <a:lnTo>
                    <a:pt x="364" y="1419"/>
                  </a:lnTo>
                  <a:lnTo>
                    <a:pt x="0" y="1419"/>
                  </a:lnTo>
                  <a:lnTo>
                    <a:pt x="677" y="1976"/>
                  </a:lnTo>
                  <a:lnTo>
                    <a:pt x="1353" y="1419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33960" y="2035080"/>
              <a:ext cx="2151000" cy="3299040"/>
            </a:xfrm>
            <a:custGeom>
              <a:avLst/>
              <a:gdLst/>
              <a:ahLst/>
              <a:rect l="l" t="t" r="r" b="b"/>
              <a:pathLst>
                <a:path w="1355" h="2078">
                  <a:moveTo>
                    <a:pt x="1354" y="1520"/>
                  </a:moveTo>
                  <a:lnTo>
                    <a:pt x="989" y="1520"/>
                  </a:lnTo>
                  <a:lnTo>
                    <a:pt x="989" y="0"/>
                  </a:lnTo>
                  <a:lnTo>
                    <a:pt x="364" y="0"/>
                  </a:lnTo>
                  <a:lnTo>
                    <a:pt x="364" y="1520"/>
                  </a:lnTo>
                  <a:lnTo>
                    <a:pt x="0" y="1520"/>
                  </a:lnTo>
                  <a:lnTo>
                    <a:pt x="677" y="2077"/>
                  </a:lnTo>
                  <a:lnTo>
                    <a:pt x="1354" y="1520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Future Direction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dditions to HTML (Grammar, Maths, Display control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VRML (Virtual Reality Markup Languag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curity - Using Scrambling and Encryp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mmon Client Interface (CCI)- Allows Clients to pass information back and forth between  the Browser and the External View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harge Mechanis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erformance Enhancements- Sending a page and graphics for that page in one connec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333440" y="297144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Development Tools 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(Present and Planned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n’s Java WorkShop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DK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iler and runti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doc - Automated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akes comments and converts to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DE: Visual Java, and integrated tools, JavaBea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ther Products and API: JavaHelp, Java Card, Java Blend, JavaOS, Java Mail, Java Management, Java Electronic Commerce Framewor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Enterprise API: Java Naming and Directory Interface, Java IDL, JDBC, RMI and Object Serializ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ymantec Cafe 1.0 (Release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ull IDE for Windows 95/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aphic Development Tool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wo Compil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bugg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Brows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crosoft Jakarta (Planned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isual C++ type interf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ll Support ActiveX/C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net Explorer 3.0 will have Just-In-Time Java compi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orland JBuild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Visual RAD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orkbench for maximum productivity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Rapid Application Developmen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(RAD) and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Open Component Architectur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patterned after Delphi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100+ JavaBean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onents, with source code, for drag-and-drop application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Beans Expres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-easiest way to create industry-standard Java-Bean component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DataExpres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- the fastest way to build business and database appplication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Borland DataGatewa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for Java connectivity to all major database server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tier applications with integrated RMI and CORBA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Version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: Standard, Professional, &amp; Client/Serv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llenges &amp; Possible Directions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rformanc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WT - need better GUI!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intaining Interoperabilit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urity - current restrictions limit what can be don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ative Compil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s Portability that Important?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Comments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is a fun and easy programming languag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bility = Mediocrity?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will become a programming language of choice, but may take on a final form that will surprise many!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DBC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API for Relational Databa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eing standardized by all major play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script and Java (Preview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script can control Java apple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atic data accessible as properties of appl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ar i = Bank.Account.cou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blic methods invocable on Java instanc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ovided those instances are accessible through the Appl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et is accessible through docu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cument.applet_Name_Attribute.do_Stuff(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for HPC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55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any efforts are in in progress for making java as a language for parallel programming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computing frameworks (HPC, numeric, data parallel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in distributed simulations and applications (e.g., real-world HPC, grand chaleng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urce to source translators (C, Fortran, C++ to Java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eb based computation environment in 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for HPC conference: http://www.cs.ucsb.edu/conferences/java98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for Science and Engineering computing: subscribe java-for-cse to majordomo@npac.syr.edu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http://www.jhpc.or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Agenda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55504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0000"/>
          </a:bodyPr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Internet and its Evolution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Internet Tools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Web and its Programming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for Internet Programming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Nuts and Bolts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Platform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Developing Applets and Applications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17160" indent="-317160">
              <a:lnSpc>
                <a:spcPct val="90000"/>
              </a:lnSpc>
              <a:spcBef>
                <a:spcPts val="108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Challenges and Future Directions</a:t>
            </a:r>
            <a:r>
              <a:rPr b="1" lang="en-US" sz="29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9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Interesting UR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2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whitehouse.gov ( The WhiteHous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w3.org (Everything about the WWW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sunsite.unc.edu (Software  on Sun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indnet.org  (India Net Foundation Service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elnet://www.arbornet.org (Free Public Access Unix System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infoseek.com (Search engines,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Add URL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infophil.com (World Alumni on the net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rocketmail.com  (Free Email 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members.tripod.com (Free Website,2MB spac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bangaloreonline.com (Offers virtual web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vices for compinies to host their website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prajavani.com  (Kannada news paper on web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ow to Convert Programs to AWT 1.1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. Change source code so that it import event pack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mport java.awt.event.*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. Figure out which component generates each event type:  (1.0 uses handleEvent() and action()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utton, List, MenuItem, TextField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face: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tionListener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ethod: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tionPerformed(ActionEvent even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heckbox, CheckboxMenuItem, Choice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face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ItemListener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ethod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itemStateChanged(.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alog, Frame: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face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WindowListener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ethod: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windowClosing(), windowOpened(),..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ow to Convert Programs to AWT 1.1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63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3. Change class declaration so that class impl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ublic class MyClass extends SomeCompon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mplements ActionListen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4. Register action Listen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ewComponentObject.addActionListener(this)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5. Change event handling method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ld: public boolean action(Event e, Object arg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w: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ublic void actionPerformed(ActionEvent 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ow to Convert Programs to AWT 1.1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63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6. Delete the event handling code in this wa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a) Delete all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tur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stat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b) Change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.targe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to e.getSource(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c) Delete all code the unnecessarily tests for whic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onent the event come fro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d)  Perform  any  other modification require  to  mak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     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program compi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</a:rPr>
              <a:t>Just to Summarize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Times New Roman"/>
              </a:rPr>
              <a:t>Java as a Comprehensive Programming Solution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 Ori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eared for Distributed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ly suitable for Internet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is really very well pois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credible leverage from the Web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ll impact the C++ and Smalltalk marke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te of progress is astonishingly hig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ment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asten you seat-belts!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2647800" y="1130400"/>
            <a:ext cx="4096080" cy="5333760"/>
            <a:chOff x="2647800" y="1130400"/>
            <a:chExt cx="4096080" cy="5333760"/>
          </a:xfrm>
        </p:grpSpPr>
        <p:sp>
          <p:nvSpPr>
            <p:cNvPr id="2677" name=""/>
            <p:cNvSpPr/>
            <p:nvPr/>
          </p:nvSpPr>
          <p:spPr>
            <a:xfrm>
              <a:off x="2647800" y="1130400"/>
              <a:ext cx="4096080" cy="533376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78" name=""/>
            <p:cNvGraphicFramePr/>
            <p:nvPr/>
          </p:nvGraphicFramePr>
          <p:xfrm>
            <a:off x="2754360" y="1390680"/>
            <a:ext cx="3954240" cy="488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4360" y="1390680"/>
                      <a:ext cx="3954240" cy="488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API Bottleneck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968400" y="2455920"/>
          <a:ext cx="12571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2455920"/>
                    <a:ext cx="12571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700200" y="4451400"/>
          <a:ext cx="1790640" cy="11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200" y="4451400"/>
                    <a:ext cx="1790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6566040" y="3992400"/>
          <a:ext cx="1284120" cy="15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3992400"/>
                    <a:ext cx="12841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8" name=""/>
          <p:cNvGraphicFramePr/>
          <p:nvPr/>
        </p:nvGraphicFramePr>
        <p:xfrm>
          <a:off x="6330960" y="1996920"/>
          <a:ext cx="1797120" cy="12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0960" y="1996920"/>
                    <a:ext cx="17971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0" name=""/>
          <p:cNvGrpSpPr/>
          <p:nvPr/>
        </p:nvGrpSpPr>
        <p:grpSpPr>
          <a:xfrm>
            <a:off x="3489480" y="3306600"/>
            <a:ext cx="1577880" cy="817560"/>
            <a:chOff x="3489480" y="3306600"/>
            <a:chExt cx="1577880" cy="817560"/>
          </a:xfrm>
        </p:grpSpPr>
        <p:sp>
          <p:nvSpPr>
            <p:cNvPr id="1041" name=""/>
            <p:cNvSpPr/>
            <p:nvPr/>
          </p:nvSpPr>
          <p:spPr>
            <a:xfrm>
              <a:off x="3489480" y="3436920"/>
              <a:ext cx="1409400" cy="65412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37080" y="3306600"/>
              <a:ext cx="853920" cy="62100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75280" y="3306600"/>
              <a:ext cx="892080" cy="42552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730680" y="3828960"/>
              <a:ext cx="1001520" cy="295200"/>
            </a:xfrm>
            <a:prstGeom prst="ellipse">
              <a:avLst/>
            </a:prstGeom>
            <a:solidFill>
              <a:srgbClr val="f3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87640" y="2344680"/>
            <a:ext cx="0" cy="30704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16440" y="2311560"/>
            <a:ext cx="0" cy="3070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130480" y="2782800"/>
            <a:ext cx="806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68680" y="4843440"/>
            <a:ext cx="2682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5684400" y="2782800"/>
            <a:ext cx="7873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648040" y="4648320"/>
            <a:ext cx="9349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021120" y="3828960"/>
            <a:ext cx="4172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56280" y="3470400"/>
            <a:ext cx="4903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678480" y="417816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74840" y="23130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919760" y="23130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68280" y="205092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009080" y="4308480"/>
            <a:ext cx="69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S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809040" y="1625760"/>
            <a:ext cx="74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566400" y="3490920"/>
            <a:ext cx="85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4997520" y="4406760"/>
            <a:ext cx="1644480" cy="173988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The OS - Platform lock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5118120" y="4757760"/>
          <a:ext cx="137808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4757760"/>
                    <a:ext cx="13780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4" name=""/>
          <p:cNvGrpSpPr/>
          <p:nvPr/>
        </p:nvGrpSpPr>
        <p:grpSpPr>
          <a:xfrm>
            <a:off x="5625720" y="2651400"/>
            <a:ext cx="393840" cy="1736280"/>
            <a:chOff x="5625720" y="2651400"/>
            <a:chExt cx="393840" cy="1736280"/>
          </a:xfrm>
        </p:grpSpPr>
        <p:sp>
          <p:nvSpPr>
            <p:cNvPr id="1065" name=""/>
            <p:cNvSpPr/>
            <p:nvPr/>
          </p:nvSpPr>
          <p:spPr>
            <a:xfrm>
              <a:off x="5661000" y="2720880"/>
              <a:ext cx="311040" cy="12542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5400000">
              <a:off x="5123880" y="3153240"/>
              <a:ext cx="1397520" cy="3938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16520" y="3998880"/>
              <a:ext cx="1800" cy="388800"/>
            </a:xfrm>
            <a:prstGeom prst="line">
              <a:avLst/>
            </a:prstGeom>
            <a:ln w="12600">
              <a:solidFill>
                <a:srgbClr val="f6bf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 rot="2220000">
            <a:off x="3795840" y="3898440"/>
            <a:ext cx="1253880" cy="31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2220000">
            <a:off x="3729600" y="3855240"/>
            <a:ext cx="1397520" cy="39384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43520" y="4451400"/>
            <a:ext cx="309600" cy="22392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283200" y="5054760"/>
            <a:ext cx="1733400" cy="393840"/>
            <a:chOff x="3283200" y="5054760"/>
            <a:chExt cx="1733400" cy="393840"/>
          </a:xfrm>
        </p:grpSpPr>
        <p:sp>
          <p:nvSpPr>
            <p:cNvPr id="1072" name=""/>
            <p:cNvSpPr/>
            <p:nvPr/>
          </p:nvSpPr>
          <p:spPr>
            <a:xfrm>
              <a:off x="3349800" y="5102280"/>
              <a:ext cx="1253880" cy="3110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83200" y="5054760"/>
              <a:ext cx="1397520" cy="3938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24560" y="5257800"/>
              <a:ext cx="3920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rot="18420000">
            <a:off x="6462720" y="3727080"/>
            <a:ext cx="1254240" cy="31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8420000">
            <a:off x="6371280" y="3683160"/>
            <a:ext cx="1397520" cy="39384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6384600" y="4413240"/>
            <a:ext cx="360360" cy="22392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89840" y="5083200"/>
            <a:ext cx="1254240" cy="311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047360" y="5054760"/>
            <a:ext cx="1397520" cy="39384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88080" y="5276880"/>
            <a:ext cx="392040" cy="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55520" y="4425840"/>
            <a:ext cx="507600" cy="393840"/>
          </a:xfrm>
          <a:prstGeom prst="rect">
            <a:avLst/>
          </a:prstGeom>
          <a:noFill/>
          <a:ln w="1260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5440" y="2054160"/>
            <a:ext cx="3551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pplications tied to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S tied to Plat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5358960" y="1356120"/>
            <a:ext cx="393840" cy="1736280"/>
            <a:chOff x="5358960" y="1356120"/>
            <a:chExt cx="393840" cy="1736280"/>
          </a:xfrm>
        </p:grpSpPr>
        <p:sp>
          <p:nvSpPr>
            <p:cNvPr id="1084" name=""/>
            <p:cNvSpPr/>
            <p:nvPr/>
          </p:nvSpPr>
          <p:spPr>
            <a:xfrm>
              <a:off x="5394240" y="1425600"/>
              <a:ext cx="311400" cy="12542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5400000">
              <a:off x="4857120" y="1857960"/>
              <a:ext cx="1397520" cy="393840"/>
            </a:xfrm>
            <a:prstGeom prst="rect">
              <a:avLst/>
            </a:prstGeom>
            <a:solidFill>
              <a:srgbClr val="d93192"/>
            </a:soli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49760" y="2703600"/>
              <a:ext cx="1800" cy="388800"/>
            </a:xfrm>
            <a:prstGeom prst="line">
              <a:avLst/>
            </a:prstGeom>
            <a:ln w="12600">
              <a:solidFill>
                <a:srgbClr val="f6bf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2220000">
            <a:off x="2976480" y="2813040"/>
            <a:ext cx="1254240" cy="31104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2220000">
            <a:off x="2906640" y="277488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24160" y="3365640"/>
            <a:ext cx="309600" cy="22356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2760" y="4492800"/>
            <a:ext cx="1254240" cy="31104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16880" y="4451400"/>
            <a:ext cx="1397520" cy="39384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57520" y="4648320"/>
            <a:ext cx="392040" cy="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8420000">
            <a:off x="6752160" y="2673720"/>
            <a:ext cx="1397520" cy="39384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85200" y="4478400"/>
            <a:ext cx="1253880" cy="311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498440" y="4441680"/>
            <a:ext cx="1397520" cy="39384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75520" y="4653000"/>
            <a:ext cx="392040" cy="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949560" y="3054240"/>
            <a:ext cx="3183120" cy="32450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84480" y="3917880"/>
            <a:ext cx="1349640" cy="142884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4148280" y="4290840"/>
          <a:ext cx="103500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8280" y="4290840"/>
                    <a:ext cx="103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"/>
          <p:cNvSpPr/>
          <p:nvPr/>
        </p:nvSpPr>
        <p:spPr>
          <a:xfrm flipH="1">
            <a:off x="6760800" y="3457440"/>
            <a:ext cx="328680" cy="201600"/>
          </a:xfrm>
          <a:prstGeom prst="line">
            <a:avLst/>
          </a:prstGeom>
          <a:ln w="1260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68680" y="3935520"/>
            <a:ext cx="4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19440" y="3952800"/>
            <a:ext cx="1351080" cy="142740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4718160" y="4290840"/>
          <a:ext cx="1036440" cy="81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8160" y="4290840"/>
                    <a:ext cx="10364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"/>
          <p:cNvSpPr/>
          <p:nvPr/>
        </p:nvSpPr>
        <p:spPr>
          <a:xfrm>
            <a:off x="5091120" y="3935520"/>
            <a:ext cx="46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41880" y="3970440"/>
            <a:ext cx="1349280" cy="142704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8" name=""/>
          <p:cNvGraphicFramePr/>
          <p:nvPr/>
        </p:nvGraphicFramePr>
        <p:xfrm>
          <a:off x="5305320" y="4341960"/>
          <a:ext cx="1035000" cy="81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05320" y="4341960"/>
                    <a:ext cx="1035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"/>
          <p:cNvSpPr/>
          <p:nvPr/>
        </p:nvSpPr>
        <p:spPr>
          <a:xfrm>
            <a:off x="5626080" y="3986280"/>
            <a:ext cx="46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29400" y="4021200"/>
            <a:ext cx="1349280" cy="142884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892840" y="4394160"/>
          <a:ext cx="1035000" cy="81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92840" y="4394160"/>
                    <a:ext cx="1035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>
            <a:off x="6213600" y="4038480"/>
            <a:ext cx="46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784760" y="3425760"/>
            <a:ext cx="157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7e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74720" y="39178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65120" y="38988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74960" y="39178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146280" y="3994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The Web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21" name=""/>
          <p:cNvSpPr/>
          <p:nvPr/>
        </p:nvSpPr>
        <p:spPr>
          <a:xfrm>
            <a:off x="852840" y="1574640"/>
            <a:ext cx="39762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Seeded by HTML from C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Revolutionised by MOSA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Standardised, universal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o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* Graph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2880" y="5643720"/>
            <a:ext cx="403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* Broadcast capability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publish once, reach mill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97720" y="2482920"/>
            <a:ext cx="977760" cy="79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5" y="0"/>
                </a:moveTo>
                <a:arcTo wR="10800" hR="10800" stAng="-5411161" swAng="5411161"/>
                <a:lnTo>
                  <a:pt x="10800" y="10800"/>
                </a:lnTo>
                <a:close/>
              </a:path>
              <a:path fill="none" w="21600" h="21600">
                <a:moveTo>
                  <a:pt x="10765" y="0"/>
                </a:moveTo>
                <a:arcTo wR="10800" hR="10800" stAng="-5411161" swAng="5411161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Making life easier!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Data on the web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Browser platform independent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Click on application - run on any machine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52440" indent="-35244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Java the programming language of the 21 century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nd Java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5204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8" name=""/>
          <p:cNvGraphicFramePr/>
          <p:nvPr/>
        </p:nvGraphicFramePr>
        <p:xfrm>
          <a:off x="1600200" y="701640"/>
          <a:ext cx="5651640" cy="59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01640"/>
                    <a:ext cx="565164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- An Introduc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 The new programming language from Sun Micro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Allows anyone to publish a web page with Java code in i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 CPU  Independent langua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reated for consumer electronic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 James , Arthur Van , and  other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-The  name that survived a patent searc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ak -The predecessor of Java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is “C++ -- ++ “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From 10,000 Ft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ccording to the world, Java is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ccording to Sun, Java is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n closer inspection, Java i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ccording to the World, Java I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nazzy Web pag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cross-platform language we wa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rest-of-the-worlds answer to Bil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C++ replacement we ne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C++ replacement we dont ne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bunch of hyp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ccording to Sun, Java i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20320" y="159984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Simple and Powerfu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Object Orien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Port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Architecture Neutra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Distribu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Multi-thread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Robust, Secure/Saf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Interpre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High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Dynamic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pogramming language/platform.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  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8" name=""/>
          <p:cNvSpPr/>
          <p:nvPr/>
        </p:nvSpPr>
        <p:spPr>
          <a:xfrm>
            <a:off x="2702520" y="6210360"/>
            <a:ext cx="3372840" cy="41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uzzword complia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the Internet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146560" y="2200320"/>
            <a:ext cx="3610080" cy="4346640"/>
            <a:chOff x="5146560" y="2200320"/>
            <a:chExt cx="3610080" cy="43466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659560" y="3262320"/>
              <a:ext cx="2662200" cy="224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6705720" y="2200320"/>
              <a:ext cx="669960" cy="987480"/>
              <a:chOff x="6705720" y="2200320"/>
              <a:chExt cx="669960" cy="987480"/>
            </a:xfrm>
          </p:grpSpPr>
          <p:sp>
            <p:nvSpPr>
              <p:cNvPr id="180" name=""/>
              <p:cNvSpPr/>
              <p:nvPr/>
            </p:nvSpPr>
            <p:spPr>
              <a:xfrm>
                <a:off x="6897600" y="2625840"/>
                <a:ext cx="300240" cy="156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6705720" y="2778120"/>
                <a:ext cx="669960" cy="409680"/>
                <a:chOff x="6705720" y="2778120"/>
                <a:chExt cx="669960" cy="4096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6750000" y="2782440"/>
                  <a:ext cx="123840" cy="24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6954840" y="2782440"/>
                  <a:ext cx="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7130880" y="2778120"/>
                  <a:ext cx="0" cy="233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05720" y="3019320"/>
                  <a:ext cx="6660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913440" y="3005280"/>
                  <a:ext cx="79560" cy="182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088040" y="3003480"/>
                  <a:ext cx="7164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10520" y="3019320"/>
                  <a:ext cx="6516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7180200" y="2782440"/>
                  <a:ext cx="185760" cy="24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705720" y="2200320"/>
                <a:ext cx="669960" cy="385560"/>
                <a:chOff x="6705720" y="2200320"/>
                <a:chExt cx="669960" cy="385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751800" y="2387520"/>
                  <a:ext cx="12384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54840" y="240984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30880" y="2397240"/>
                  <a:ext cx="0" cy="18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705720" y="2214720"/>
                  <a:ext cx="6660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913440" y="2200320"/>
                  <a:ext cx="79560" cy="17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8040" y="2205000"/>
                  <a:ext cx="71640" cy="184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520" y="2214720"/>
                  <a:ext cx="6516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7180200" y="2387520"/>
                  <a:ext cx="18576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8086680" y="2795760"/>
              <a:ext cx="669960" cy="984240"/>
              <a:chOff x="8086680" y="2795760"/>
              <a:chExt cx="669960" cy="984240"/>
            </a:xfrm>
          </p:grpSpPr>
          <p:sp>
            <p:nvSpPr>
              <p:cNvPr id="200" name=""/>
              <p:cNvSpPr/>
              <p:nvPr/>
            </p:nvSpPr>
            <p:spPr>
              <a:xfrm>
                <a:off x="8282160" y="3220920"/>
                <a:ext cx="298440" cy="160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8086680" y="3375000"/>
                <a:ext cx="669960" cy="405000"/>
                <a:chOff x="8086680" y="3375000"/>
                <a:chExt cx="669960" cy="40500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8132760" y="3375000"/>
                  <a:ext cx="12384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8335800" y="3379320"/>
                  <a:ext cx="0" cy="219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8507520" y="3376080"/>
                  <a:ext cx="0" cy="23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86680" y="3618000"/>
                  <a:ext cx="6372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96200" y="3603600"/>
                  <a:ext cx="7452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469360" y="3594240"/>
                  <a:ext cx="68040" cy="183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691480" y="3618000"/>
                  <a:ext cx="65160" cy="154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8562960" y="3375000"/>
                  <a:ext cx="18432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086680" y="2795760"/>
                <a:ext cx="669960" cy="385560"/>
                <a:chOff x="8086680" y="2795760"/>
                <a:chExt cx="669960" cy="385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134200" y="2984400"/>
                  <a:ext cx="123840" cy="196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335800" y="3000240"/>
                  <a:ext cx="0" cy="177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507520" y="2995560"/>
                  <a:ext cx="0" cy="18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086680" y="2808360"/>
                  <a:ext cx="6372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96200" y="2795760"/>
                  <a:ext cx="7452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469360" y="2805120"/>
                  <a:ext cx="68040" cy="1746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691480" y="2808360"/>
                  <a:ext cx="6516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8564400" y="2984400"/>
                  <a:ext cx="184320" cy="196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8086680" y="4943520"/>
              <a:ext cx="669960" cy="987480"/>
              <a:chOff x="8086680" y="4943520"/>
              <a:chExt cx="669960" cy="987480"/>
            </a:xfrm>
          </p:grpSpPr>
          <p:sp>
            <p:nvSpPr>
              <p:cNvPr id="220" name=""/>
              <p:cNvSpPr/>
              <p:nvPr/>
            </p:nvSpPr>
            <p:spPr>
              <a:xfrm>
                <a:off x="8282160" y="5365800"/>
                <a:ext cx="298440" cy="160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8086680" y="5519520"/>
                <a:ext cx="669960" cy="411480"/>
                <a:chOff x="8086680" y="5519520"/>
                <a:chExt cx="669960" cy="411480"/>
              </a:xfrm>
            </p:grpSpPr>
            <p:sp>
              <p:nvSpPr>
                <p:cNvPr id="222" name=""/>
                <p:cNvSpPr/>
                <p:nvPr/>
              </p:nvSpPr>
              <p:spPr>
                <a:xfrm flipV="1">
                  <a:off x="8132760" y="5522760"/>
                  <a:ext cx="123840" cy="24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8335800" y="5524560"/>
                  <a:ext cx="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8507520" y="5519520"/>
                  <a:ext cx="0" cy="231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86680" y="5762520"/>
                  <a:ext cx="6372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96200" y="5746680"/>
                  <a:ext cx="74520" cy="184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469360" y="5745240"/>
                  <a:ext cx="6804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691480" y="5762520"/>
                  <a:ext cx="6516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8562960" y="5522760"/>
                  <a:ext cx="184320" cy="24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086680" y="4943520"/>
                <a:ext cx="669960" cy="385560"/>
                <a:chOff x="8086680" y="4943520"/>
                <a:chExt cx="669960" cy="385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134200" y="5130720"/>
                  <a:ext cx="12384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335800" y="5149800"/>
                  <a:ext cx="0" cy="173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07520" y="5141880"/>
                  <a:ext cx="0" cy="18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086680" y="4954680"/>
                  <a:ext cx="6372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296200" y="4943520"/>
                  <a:ext cx="74520" cy="1778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469360" y="4950000"/>
                  <a:ext cx="68040" cy="179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691480" y="4954680"/>
                  <a:ext cx="6516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8564400" y="5130720"/>
                  <a:ext cx="18432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6726240" y="5559480"/>
              <a:ext cx="666720" cy="987480"/>
              <a:chOff x="6726240" y="5559480"/>
              <a:chExt cx="666720" cy="987480"/>
            </a:xfrm>
          </p:grpSpPr>
          <p:sp>
            <p:nvSpPr>
              <p:cNvPr id="240" name=""/>
              <p:cNvSpPr/>
              <p:nvPr/>
            </p:nvSpPr>
            <p:spPr>
              <a:xfrm>
                <a:off x="6913440" y="5987880"/>
                <a:ext cx="308160" cy="154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726240" y="6137280"/>
                <a:ext cx="666720" cy="409680"/>
                <a:chOff x="6726240" y="6137280"/>
                <a:chExt cx="666720" cy="409680"/>
              </a:xfrm>
            </p:grpSpPr>
            <p:sp>
              <p:nvSpPr>
                <p:cNvPr id="242" name=""/>
                <p:cNvSpPr/>
                <p:nvPr/>
              </p:nvSpPr>
              <p:spPr>
                <a:xfrm flipV="1">
                  <a:off x="6769080" y="6140160"/>
                  <a:ext cx="123840" cy="244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6975360" y="6146280"/>
                  <a:ext cx="0" cy="220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7147080" y="6137280"/>
                  <a:ext cx="0" cy="23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726240" y="6380280"/>
                  <a:ext cx="6516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937200" y="6370560"/>
                  <a:ext cx="7308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05680" y="6361200"/>
                  <a:ext cx="68400" cy="182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26360" y="6380280"/>
                  <a:ext cx="66600" cy="1522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7199280" y="6140160"/>
                  <a:ext cx="185760" cy="244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726240" y="5559480"/>
                <a:ext cx="666720" cy="385560"/>
                <a:chOff x="6726240" y="5559480"/>
                <a:chExt cx="666720" cy="385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770520" y="5748480"/>
                  <a:ext cx="123840" cy="196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75360" y="576900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47080" y="5762520"/>
                  <a:ext cx="0" cy="182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726240" y="5573880"/>
                  <a:ext cx="651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937200" y="5559480"/>
                  <a:ext cx="73080" cy="182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05680" y="5568840"/>
                  <a:ext cx="68400" cy="179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326360" y="5573880"/>
                  <a:ext cx="6660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199280" y="5748480"/>
                  <a:ext cx="185760" cy="196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5276880" y="5062680"/>
              <a:ext cx="666720" cy="985680"/>
              <a:chOff x="5276880" y="5062680"/>
              <a:chExt cx="666720" cy="985680"/>
            </a:xfrm>
          </p:grpSpPr>
          <p:sp>
            <p:nvSpPr>
              <p:cNvPr id="260" name=""/>
              <p:cNvSpPr/>
              <p:nvPr/>
            </p:nvSpPr>
            <p:spPr>
              <a:xfrm>
                <a:off x="5465880" y="5487840"/>
                <a:ext cx="304560" cy="155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5276880" y="5636880"/>
                <a:ext cx="666720" cy="411480"/>
                <a:chOff x="5276880" y="5636880"/>
                <a:chExt cx="666720" cy="41148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5321160" y="5637240"/>
                  <a:ext cx="12384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526000" y="5644800"/>
                  <a:ext cx="0" cy="22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699160" y="5636880"/>
                  <a:ext cx="0" cy="237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276880" y="5880240"/>
                  <a:ext cx="6984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87840" y="5870520"/>
                  <a:ext cx="76320" cy="1778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659560" y="5862600"/>
                  <a:ext cx="68040" cy="181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80240" y="5880240"/>
                  <a:ext cx="633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5748480" y="5637240"/>
                  <a:ext cx="188640" cy="247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76880" y="5062680"/>
                <a:ext cx="666720" cy="380880"/>
                <a:chOff x="5276880" y="5062680"/>
                <a:chExt cx="666720" cy="380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322960" y="5251320"/>
                  <a:ext cx="123840" cy="19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26000" y="5267160"/>
                  <a:ext cx="0" cy="176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99160" y="5259240"/>
                  <a:ext cx="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76880" y="5075280"/>
                  <a:ext cx="6984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487840" y="5062680"/>
                  <a:ext cx="76320" cy="176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659560" y="5068800"/>
                  <a:ext cx="68040" cy="1778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880240" y="5075280"/>
                  <a:ext cx="63360" cy="15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5748480" y="5251320"/>
                  <a:ext cx="188640" cy="19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5146560" y="2895480"/>
              <a:ext cx="669960" cy="981360"/>
              <a:chOff x="5146560" y="2895480"/>
              <a:chExt cx="669960" cy="981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342040" y="3317760"/>
                <a:ext cx="299880" cy="160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146560" y="3472920"/>
                <a:ext cx="669960" cy="403920"/>
                <a:chOff x="5146560" y="3472920"/>
                <a:chExt cx="669960" cy="40392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5194440" y="3478320"/>
                  <a:ext cx="123840" cy="242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5396040" y="3476520"/>
                  <a:ext cx="0" cy="22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5570640" y="3472920"/>
                  <a:ext cx="0" cy="23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146560" y="3714840"/>
                  <a:ext cx="651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59320" y="3700440"/>
                  <a:ext cx="7164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29240" y="3697200"/>
                  <a:ext cx="69840" cy="1764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753160" y="3714840"/>
                  <a:ext cx="63360" cy="15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>
                  <a:off x="5622840" y="3478320"/>
                  <a:ext cx="184320" cy="242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146560" y="2895480"/>
                <a:ext cx="669960" cy="382680"/>
                <a:chOff x="5146560" y="2895480"/>
                <a:chExt cx="669960" cy="382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195880" y="3079800"/>
                  <a:ext cx="12384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96040" y="3098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570640" y="3090960"/>
                  <a:ext cx="0" cy="18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46560" y="2906640"/>
                  <a:ext cx="6516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359320" y="2895480"/>
                  <a:ext cx="71640" cy="1746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529240" y="2900520"/>
                  <a:ext cx="69840" cy="1774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753160" y="2906640"/>
                  <a:ext cx="63360" cy="152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5624280" y="3079800"/>
                  <a:ext cx="183960" cy="19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9" name=""/>
          <p:cNvSpPr/>
          <p:nvPr/>
        </p:nvSpPr>
        <p:spPr>
          <a:xfrm>
            <a:off x="502560" y="2043000"/>
            <a:ext cx="48434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t is a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global network of 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at communicate with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sing a variety of protocol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vercoming various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arr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t is like International Tele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n Closer Inspection, Java i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urprisingly effectiv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s a whole, Java is a Comprehensive Programming Solution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 Orien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eared for Distributed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Object Oriente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s all the way down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e and Familiar:  “C++ Lite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Pointers!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arbage Collec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ynamic Bin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Inheritance with “Interfaces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Port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nlike other language compilers, Java complier generates code (byte codes) for Universal Machine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Virtual Machine (JVM): Interprets bytecodes at runtim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rchitecture Neutra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Link Phas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igher Level Portable Features:  AWT, Unic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otal Platform Independe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50" name=""/>
          <p:cNvSpPr/>
          <p:nvPr/>
        </p:nvSpPr>
        <p:spPr>
          <a:xfrm>
            <a:off x="1530360" y="1225440"/>
            <a:ext cx="6540480" cy="1206720"/>
          </a:xfrm>
          <a:prstGeom prst="cube">
            <a:avLst>
              <a:gd name="adj" fmla="val 24976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812320" y="1600200"/>
            <a:ext cx="4030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JAVA COMPIL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447920" y="2438280"/>
            <a:ext cx="6553080" cy="1295640"/>
          </a:xfrm>
          <a:prstGeom prst="hexagon">
            <a:avLst>
              <a:gd name="adj" fmla="val 126327"/>
              <a:gd name="vf" fmla="val 115470"/>
            </a:avLst>
          </a:prstGeom>
          <a:solidFill>
            <a:srgbClr val="b50069"/>
          </a:solidFill>
          <a:ln w="0">
            <a:noFill/>
          </a:ln>
          <a:effectLst>
            <a:outerShdw dist="107932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27360" y="2743200"/>
            <a:ext cx="4197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JAVA BYTE CO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800600" y="5029200"/>
            <a:ext cx="1773360" cy="1297080"/>
            <a:chOff x="4800600" y="5029200"/>
            <a:chExt cx="1773360" cy="1297080"/>
          </a:xfrm>
        </p:grpSpPr>
        <p:sp>
          <p:nvSpPr>
            <p:cNvPr id="1155" name=""/>
            <p:cNvSpPr/>
            <p:nvPr/>
          </p:nvSpPr>
          <p:spPr>
            <a:xfrm>
              <a:off x="4800600" y="6027840"/>
              <a:ext cx="174600" cy="9684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107" y="0"/>
                  </a:moveTo>
                  <a:lnTo>
                    <a:pt x="83" y="0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38" y="6"/>
                  </a:lnTo>
                  <a:lnTo>
                    <a:pt x="25" y="9"/>
                  </a:lnTo>
                  <a:lnTo>
                    <a:pt x="17" y="12"/>
                  </a:lnTo>
                  <a:lnTo>
                    <a:pt x="11" y="15"/>
                  </a:lnTo>
                  <a:lnTo>
                    <a:pt x="6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6"/>
                  </a:lnTo>
                  <a:lnTo>
                    <a:pt x="8" y="38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4" y="38"/>
                  </a:lnTo>
                  <a:lnTo>
                    <a:pt x="46" y="38"/>
                  </a:lnTo>
                  <a:lnTo>
                    <a:pt x="58" y="38"/>
                  </a:lnTo>
                  <a:lnTo>
                    <a:pt x="67" y="39"/>
                  </a:lnTo>
                  <a:lnTo>
                    <a:pt x="75" y="41"/>
                  </a:lnTo>
                  <a:lnTo>
                    <a:pt x="84" y="45"/>
                  </a:lnTo>
                  <a:lnTo>
                    <a:pt x="109" y="60"/>
                  </a:lnTo>
                  <a:lnTo>
                    <a:pt x="108" y="60"/>
                  </a:lnTo>
                  <a:lnTo>
                    <a:pt x="109" y="59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4950000" y="5753160"/>
              <a:ext cx="1379520" cy="439560"/>
              <a:chOff x="4950000" y="5753160"/>
              <a:chExt cx="1379520" cy="439560"/>
            </a:xfrm>
          </p:grpSpPr>
          <p:sp>
            <p:nvSpPr>
              <p:cNvPr id="1157" name=""/>
              <p:cNvSpPr/>
              <p:nvPr/>
            </p:nvSpPr>
            <p:spPr>
              <a:xfrm>
                <a:off x="4959360" y="5978520"/>
                <a:ext cx="1370160" cy="214200"/>
              </a:xfrm>
              <a:custGeom>
                <a:avLst/>
                <a:gdLst/>
                <a:ahLst/>
                <a:rect l="l" t="t" r="r" b="b"/>
                <a:pathLst>
                  <a:path w="863" h="135">
                    <a:moveTo>
                      <a:pt x="0" y="8"/>
                    </a:moveTo>
                    <a:lnTo>
                      <a:pt x="0" y="67"/>
                    </a:lnTo>
                    <a:lnTo>
                      <a:pt x="700" y="134"/>
                    </a:lnTo>
                    <a:lnTo>
                      <a:pt x="862" y="52"/>
                    </a:lnTo>
                    <a:lnTo>
                      <a:pt x="862" y="0"/>
                    </a:lnTo>
                    <a:lnTo>
                      <a:pt x="694" y="7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950000" y="5753160"/>
                <a:ext cx="1114200" cy="334800"/>
              </a:xfrm>
              <a:custGeom>
                <a:avLst/>
                <a:gdLst/>
                <a:ahLst/>
                <a:rect l="l" t="t" r="r" b="b"/>
                <a:pathLst>
                  <a:path w="702" h="211">
                    <a:moveTo>
                      <a:pt x="0" y="0"/>
                    </a:moveTo>
                    <a:lnTo>
                      <a:pt x="701" y="46"/>
                    </a:lnTo>
                    <a:lnTo>
                      <a:pt x="701" y="210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4975200" y="5837400"/>
                <a:ext cx="1082880" cy="96840"/>
                <a:chOff x="4975200" y="5837400"/>
                <a:chExt cx="1082880" cy="9684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975200" y="5837400"/>
                  <a:ext cx="10810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799240" y="5889600"/>
                  <a:ext cx="19368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522760" y="5869080"/>
                  <a:ext cx="19548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975200" y="5883120"/>
                  <a:ext cx="1082880" cy="51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4" name=""/>
            <p:cNvGrpSpPr/>
            <p:nvPr/>
          </p:nvGrpSpPr>
          <p:grpSpPr>
            <a:xfrm>
              <a:off x="4950000" y="5705640"/>
              <a:ext cx="1382400" cy="112680"/>
              <a:chOff x="4950000" y="5705640"/>
              <a:chExt cx="1382400" cy="112680"/>
            </a:xfrm>
          </p:grpSpPr>
          <p:sp>
            <p:nvSpPr>
              <p:cNvPr id="1165" name=""/>
              <p:cNvSpPr/>
              <p:nvPr/>
            </p:nvSpPr>
            <p:spPr>
              <a:xfrm>
                <a:off x="4950000" y="5705640"/>
                <a:ext cx="1382400" cy="112680"/>
              </a:xfrm>
              <a:custGeom>
                <a:avLst/>
                <a:gdLst/>
                <a:ahLst/>
                <a:rect l="l" t="t" r="r" b="b"/>
                <a:pathLst>
                  <a:path w="871" h="71">
                    <a:moveTo>
                      <a:pt x="0" y="27"/>
                    </a:moveTo>
                    <a:lnTo>
                      <a:pt x="703" y="70"/>
                    </a:lnTo>
                    <a:lnTo>
                      <a:pt x="870" y="29"/>
                    </a:lnTo>
                    <a:lnTo>
                      <a:pt x="811" y="24"/>
                    </a:lnTo>
                    <a:lnTo>
                      <a:pt x="268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67160" y="5730840"/>
                <a:ext cx="1013040" cy="69840"/>
              </a:xfrm>
              <a:custGeom>
                <a:avLst/>
                <a:gdLst/>
                <a:ahLst/>
                <a:rect l="l" t="t" r="r" b="b"/>
                <a:pathLst>
                  <a:path w="638" h="44">
                    <a:moveTo>
                      <a:pt x="52" y="0"/>
                    </a:moveTo>
                    <a:lnTo>
                      <a:pt x="0" y="16"/>
                    </a:lnTo>
                    <a:lnTo>
                      <a:pt x="514" y="43"/>
                    </a:lnTo>
                    <a:lnTo>
                      <a:pt x="598" y="24"/>
                    </a:lnTo>
                    <a:lnTo>
                      <a:pt x="591" y="21"/>
                    </a:lnTo>
                    <a:lnTo>
                      <a:pt x="637" y="11"/>
                    </a:lnTo>
                    <a:lnTo>
                      <a:pt x="609" y="9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6086520" y="5043600"/>
              <a:ext cx="243000" cy="739800"/>
              <a:chOff x="6086520" y="5043600"/>
              <a:chExt cx="243000" cy="739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6184800" y="5138640"/>
                <a:ext cx="144720" cy="619200"/>
                <a:chOff x="6184800" y="5138640"/>
                <a:chExt cx="144720" cy="61920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184800" y="5138640"/>
                  <a:ext cx="144720" cy="619200"/>
                </a:xfrm>
                <a:custGeom>
                  <a:avLst/>
                  <a:gdLst/>
                  <a:ahLst/>
                  <a:rect l="l" t="t" r="r" b="b"/>
                  <a:pathLst>
                    <a:path w="91" h="390">
                      <a:moveTo>
                        <a:pt x="8" y="0"/>
                      </a:moveTo>
                      <a:lnTo>
                        <a:pt x="90" y="32"/>
                      </a:lnTo>
                      <a:lnTo>
                        <a:pt x="83" y="184"/>
                      </a:lnTo>
                      <a:lnTo>
                        <a:pt x="74" y="366"/>
                      </a:lnTo>
                      <a:lnTo>
                        <a:pt x="0" y="38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6207120" y="5187960"/>
                  <a:ext cx="112680" cy="523440"/>
                  <a:chOff x="6207120" y="5187960"/>
                  <a:chExt cx="112680" cy="52344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6207120" y="5187960"/>
                    <a:ext cx="112680" cy="523440"/>
                    <a:chOff x="6207120" y="5187960"/>
                    <a:chExt cx="112680" cy="523440"/>
                  </a:xfrm>
                </p:grpSpPr>
                <p:grpSp>
                  <p:nvGrpSpPr>
                    <p:cNvPr id="1172" name=""/>
                    <p:cNvGrpSpPr/>
                    <p:nvPr/>
                  </p:nvGrpSpPr>
                  <p:grpSpPr>
                    <a:xfrm>
                      <a:off x="6207120" y="5187960"/>
                      <a:ext cx="112680" cy="289080"/>
                      <a:chOff x="6207120" y="5187960"/>
                      <a:chExt cx="112680" cy="289080"/>
                    </a:xfrm>
                  </p:grpSpPr>
                  <p:grpSp>
                    <p:nvGrpSpPr>
                      <p:cNvPr id="1173" name=""/>
                      <p:cNvGrpSpPr/>
                      <p:nvPr/>
                    </p:nvGrpSpPr>
                    <p:grpSpPr>
                      <a:xfrm>
                        <a:off x="6219720" y="5187960"/>
                        <a:ext cx="100080" cy="135000"/>
                        <a:chOff x="6219720" y="5187960"/>
                        <a:chExt cx="100080" cy="135000"/>
                      </a:xfrm>
                    </p:grpSpPr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>
                          <a:off x="6224760" y="5187960"/>
                          <a:ext cx="9504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5" name=""/>
                        <p:cNvSpPr/>
                        <p:nvPr/>
                      </p:nvSpPr>
                      <p:spPr>
                        <a:xfrm>
                          <a:off x="6221520" y="5214960"/>
                          <a:ext cx="9504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6" name=""/>
                        <p:cNvSpPr/>
                        <p:nvPr/>
                      </p:nvSpPr>
                      <p:spPr>
                        <a:xfrm>
                          <a:off x="6222960" y="5243400"/>
                          <a:ext cx="936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7" name=""/>
                        <p:cNvSpPr/>
                        <p:nvPr/>
                      </p:nvSpPr>
                      <p:spPr>
                        <a:xfrm>
                          <a:off x="6221520" y="5264280"/>
                          <a:ext cx="95040" cy="1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8" name=""/>
                        <p:cNvSpPr/>
                        <p:nvPr/>
                      </p:nvSpPr>
                      <p:spPr>
                        <a:xfrm>
                          <a:off x="6219720" y="5291280"/>
                          <a:ext cx="954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9" name=""/>
                        <p:cNvSpPr/>
                        <p:nvPr/>
                      </p:nvSpPr>
                      <p:spPr>
                        <a:xfrm>
                          <a:off x="6219720" y="5318280"/>
                          <a:ext cx="9360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0" name=""/>
                      <p:cNvSpPr/>
                      <p:nvPr/>
                    </p:nvSpPr>
                    <p:spPr>
                      <a:xfrm>
                        <a:off x="6207120" y="5372280"/>
                        <a:ext cx="101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1" name=""/>
                      <p:cNvSpPr/>
                      <p:nvPr/>
                    </p:nvSpPr>
                    <p:spPr>
                      <a:xfrm>
                        <a:off x="6208560" y="5394240"/>
                        <a:ext cx="9864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2" name=""/>
                      <p:cNvSpPr/>
                      <p:nvPr/>
                    </p:nvSpPr>
                    <p:spPr>
                      <a:xfrm>
                        <a:off x="6207120" y="5423040"/>
                        <a:ext cx="9828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3" name=""/>
                      <p:cNvSpPr/>
                      <p:nvPr/>
                    </p:nvSpPr>
                    <p:spPr>
                      <a:xfrm>
                        <a:off x="6208560" y="5450040"/>
                        <a:ext cx="968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" name=""/>
                      <p:cNvSpPr/>
                      <p:nvPr/>
                    </p:nvSpPr>
                    <p:spPr>
                      <a:xfrm>
                        <a:off x="6210360" y="5477040"/>
                        <a:ext cx="95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85" name=""/>
                    <p:cNvGrpSpPr/>
                    <p:nvPr/>
                  </p:nvGrpSpPr>
                  <p:grpSpPr>
                    <a:xfrm>
                      <a:off x="6207120" y="5502240"/>
                      <a:ext cx="95400" cy="209160"/>
                      <a:chOff x="6207120" y="5502240"/>
                      <a:chExt cx="95400" cy="209160"/>
                    </a:xfrm>
                  </p:grpSpPr>
                  <p:sp>
                    <p:nvSpPr>
                      <p:cNvPr id="1186" name=""/>
                      <p:cNvSpPr/>
                      <p:nvPr/>
                    </p:nvSpPr>
                    <p:spPr>
                      <a:xfrm>
                        <a:off x="6210360" y="5502240"/>
                        <a:ext cx="9216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7" name=""/>
                      <p:cNvSpPr/>
                      <p:nvPr/>
                    </p:nvSpPr>
                    <p:spPr>
                      <a:xfrm>
                        <a:off x="6211800" y="5529240"/>
                        <a:ext cx="8892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" name=""/>
                      <p:cNvSpPr/>
                      <p:nvPr/>
                    </p:nvSpPr>
                    <p:spPr>
                      <a:xfrm>
                        <a:off x="6210360" y="5556240"/>
                        <a:ext cx="88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" name=""/>
                      <p:cNvSpPr/>
                      <p:nvPr/>
                    </p:nvSpPr>
                    <p:spPr>
                      <a:xfrm flipV="1">
                        <a:off x="6208560" y="5562720"/>
                        <a:ext cx="8892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" name=""/>
                      <p:cNvSpPr/>
                      <p:nvPr/>
                    </p:nvSpPr>
                    <p:spPr>
                      <a:xfrm flipV="1">
                        <a:off x="6208560" y="5587920"/>
                        <a:ext cx="8604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" name=""/>
                      <p:cNvSpPr/>
                      <p:nvPr/>
                    </p:nvSpPr>
                    <p:spPr>
                      <a:xfrm flipV="1">
                        <a:off x="6208560" y="5613120"/>
                        <a:ext cx="8604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2" name=""/>
                      <p:cNvSpPr/>
                      <p:nvPr/>
                    </p:nvSpPr>
                    <p:spPr>
                      <a:xfrm flipV="1">
                        <a:off x="6207120" y="5635800"/>
                        <a:ext cx="87480" cy="475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 flipV="1">
                        <a:off x="6208560" y="5660640"/>
                        <a:ext cx="82800" cy="507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94" name=""/>
                  <p:cNvSpPr/>
                  <p:nvPr/>
                </p:nvSpPr>
                <p:spPr>
                  <a:xfrm>
                    <a:off x="6216480" y="5345280"/>
                    <a:ext cx="93960" cy="144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5" name=""/>
              <p:cNvGrpSpPr/>
              <p:nvPr/>
            </p:nvGrpSpPr>
            <p:grpSpPr>
              <a:xfrm>
                <a:off x="6086520" y="5043600"/>
                <a:ext cx="125280" cy="739800"/>
                <a:chOff x="6086520" y="5043600"/>
                <a:chExt cx="125280" cy="73980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6086520" y="5043600"/>
                  <a:ext cx="125280" cy="739800"/>
                </a:xfrm>
                <a:custGeom>
                  <a:avLst/>
                  <a:gdLst/>
                  <a:ahLst/>
                  <a:rect l="l" t="t" r="r" b="b"/>
                  <a:pathLst>
                    <a:path w="79" h="466">
                      <a:moveTo>
                        <a:pt x="18" y="0"/>
                      </a:moveTo>
                      <a:lnTo>
                        <a:pt x="73" y="23"/>
                      </a:lnTo>
                      <a:lnTo>
                        <a:pt x="78" y="29"/>
                      </a:lnTo>
                      <a:lnTo>
                        <a:pt x="61" y="446"/>
                      </a:lnTo>
                      <a:lnTo>
                        <a:pt x="54" y="452"/>
                      </a:lnTo>
                      <a:lnTo>
                        <a:pt x="0" y="465"/>
                      </a:lnTo>
                      <a:lnTo>
                        <a:pt x="6" y="458"/>
                      </a:lnTo>
                      <a:lnTo>
                        <a:pt x="7" y="452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199560" y="5086440"/>
                  <a:ext cx="11880" cy="1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6482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648271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6138720" y="6173640"/>
              <a:ext cx="435240" cy="152640"/>
              <a:chOff x="6138720" y="6173640"/>
              <a:chExt cx="435240" cy="152640"/>
            </a:xfrm>
          </p:grpSpPr>
          <p:sp>
            <p:nvSpPr>
              <p:cNvPr id="1199" name=""/>
              <p:cNvSpPr/>
              <p:nvPr/>
            </p:nvSpPr>
            <p:spPr>
              <a:xfrm>
                <a:off x="6138720" y="6173640"/>
                <a:ext cx="435240" cy="108000"/>
              </a:xfrm>
              <a:custGeom>
                <a:avLst/>
                <a:gdLst/>
                <a:ahLst/>
                <a:rect l="l" t="t" r="r" b="b"/>
                <a:pathLst>
                  <a:path w="274" h="68">
                    <a:moveTo>
                      <a:pt x="0" y="0"/>
                    </a:moveTo>
                    <a:lnTo>
                      <a:pt x="50" y="3"/>
                    </a:lnTo>
                    <a:lnTo>
                      <a:pt x="89" y="5"/>
                    </a:lnTo>
                    <a:lnTo>
                      <a:pt x="122" y="9"/>
                    </a:lnTo>
                    <a:lnTo>
                      <a:pt x="156" y="12"/>
                    </a:lnTo>
                    <a:lnTo>
                      <a:pt x="179" y="15"/>
                    </a:lnTo>
                    <a:lnTo>
                      <a:pt x="209" y="20"/>
                    </a:lnTo>
                    <a:lnTo>
                      <a:pt x="225" y="23"/>
                    </a:lnTo>
                    <a:lnTo>
                      <a:pt x="237" y="26"/>
                    </a:lnTo>
                    <a:lnTo>
                      <a:pt x="244" y="27"/>
                    </a:lnTo>
                    <a:lnTo>
                      <a:pt x="249" y="29"/>
                    </a:lnTo>
                    <a:lnTo>
                      <a:pt x="256" y="31"/>
                    </a:lnTo>
                    <a:lnTo>
                      <a:pt x="263" y="33"/>
                    </a:lnTo>
                    <a:lnTo>
                      <a:pt x="269" y="36"/>
                    </a:lnTo>
                    <a:lnTo>
                      <a:pt x="272" y="40"/>
                    </a:lnTo>
                    <a:lnTo>
                      <a:pt x="273" y="43"/>
                    </a:lnTo>
                    <a:lnTo>
                      <a:pt x="271" y="47"/>
                    </a:lnTo>
                    <a:lnTo>
                      <a:pt x="269" y="52"/>
                    </a:lnTo>
                    <a:lnTo>
                      <a:pt x="266" y="56"/>
                    </a:lnTo>
                    <a:lnTo>
                      <a:pt x="261" y="58"/>
                    </a:lnTo>
                    <a:lnTo>
                      <a:pt x="255" y="62"/>
                    </a:lnTo>
                    <a:lnTo>
                      <a:pt x="249" y="65"/>
                    </a:lnTo>
                    <a:lnTo>
                      <a:pt x="242" y="66"/>
                    </a:lnTo>
                    <a:lnTo>
                      <a:pt x="233" y="67"/>
                    </a:lnTo>
                    <a:lnTo>
                      <a:pt x="224" y="67"/>
                    </a:lnTo>
                    <a:lnTo>
                      <a:pt x="214" y="67"/>
                    </a:lnTo>
                    <a:lnTo>
                      <a:pt x="198" y="64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6156360" y="6226200"/>
                <a:ext cx="293760" cy="100080"/>
                <a:chOff x="6156360" y="6226200"/>
                <a:chExt cx="293760" cy="10008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6156360" y="6226200"/>
                  <a:ext cx="293760" cy="100080"/>
                  <a:chOff x="6156360" y="6226200"/>
                  <a:chExt cx="293760" cy="10008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6156360" y="6226200"/>
                    <a:ext cx="1778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8">
                        <a:moveTo>
                          <a:pt x="0" y="23"/>
                        </a:moveTo>
                        <a:lnTo>
                          <a:pt x="29" y="0"/>
                        </a:lnTo>
                        <a:lnTo>
                          <a:pt x="111" y="13"/>
                        </a:lnTo>
                        <a:lnTo>
                          <a:pt x="79" y="37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6156360" y="6270480"/>
                    <a:ext cx="123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5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" y="19"/>
                        </a:lnTo>
                        <a:lnTo>
                          <a:pt x="77" y="34"/>
                        </a:lnTo>
                        <a:lnTo>
                          <a:pt x="77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291360" y="6251400"/>
                    <a:ext cx="158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7">
                        <a:moveTo>
                          <a:pt x="0" y="25"/>
                        </a:moveTo>
                        <a:lnTo>
                          <a:pt x="32" y="0"/>
                        </a:lnTo>
                        <a:lnTo>
                          <a:pt x="99" y="6"/>
                        </a:lnTo>
                        <a:lnTo>
                          <a:pt x="99" y="26"/>
                        </a:lnTo>
                        <a:lnTo>
                          <a:pt x="0" y="46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6207120" y="6226200"/>
                    <a:ext cx="243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17">
                        <a:moveTo>
                          <a:pt x="0" y="0"/>
                        </a:moveTo>
                        <a:lnTo>
                          <a:pt x="76" y="4"/>
                        </a:lnTo>
                        <a:lnTo>
                          <a:pt x="152" y="16"/>
                        </a:lnTo>
                        <a:lnTo>
                          <a:pt x="83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6" name=""/>
                <p:cNvGrpSpPr/>
                <p:nvPr/>
              </p:nvGrpSpPr>
              <p:grpSpPr>
                <a:xfrm>
                  <a:off x="6180120" y="6241680"/>
                  <a:ext cx="260280" cy="82440"/>
                  <a:chOff x="6180120" y="6241680"/>
                  <a:chExt cx="260280" cy="8244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6180120" y="6292800"/>
                    <a:ext cx="92160" cy="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V="1">
                    <a:off x="6313320" y="6241680"/>
                    <a:ext cx="14400" cy="824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6370560" y="6262560"/>
                    <a:ext cx="69840" cy="64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0" name=""/>
            <p:cNvSpPr/>
            <p:nvPr/>
          </p:nvSpPr>
          <p:spPr>
            <a:xfrm>
              <a:off x="6078600" y="5972040"/>
              <a:ext cx="249120" cy="22248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0" y="70"/>
                  </a:moveTo>
                  <a:lnTo>
                    <a:pt x="156" y="0"/>
                  </a:lnTo>
                  <a:lnTo>
                    <a:pt x="156" y="56"/>
                  </a:lnTo>
                  <a:lnTo>
                    <a:pt x="0" y="139"/>
                  </a:lnTo>
                  <a:lnTo>
                    <a:pt x="0" y="7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75360" y="5756400"/>
              <a:ext cx="258840" cy="330120"/>
            </a:xfrm>
            <a:custGeom>
              <a:avLst/>
              <a:gdLst/>
              <a:ahLst/>
              <a:rect l="l" t="t" r="r" b="b"/>
              <a:pathLst>
                <a:path w="163" h="208">
                  <a:moveTo>
                    <a:pt x="0" y="44"/>
                  </a:moveTo>
                  <a:lnTo>
                    <a:pt x="162" y="0"/>
                  </a:lnTo>
                  <a:lnTo>
                    <a:pt x="162" y="137"/>
                  </a:lnTo>
                  <a:lnTo>
                    <a:pt x="0" y="207"/>
                  </a:lnTo>
                  <a:lnTo>
                    <a:pt x="0" y="4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43480" y="5148360"/>
              <a:ext cx="657360" cy="511200"/>
            </a:xfrm>
            <a:custGeom>
              <a:avLst/>
              <a:gdLst/>
              <a:ahLst/>
              <a:rect l="l" t="t" r="r" b="b"/>
              <a:pathLst>
                <a:path w="414" h="322">
                  <a:moveTo>
                    <a:pt x="17" y="0"/>
                  </a:moveTo>
                  <a:lnTo>
                    <a:pt x="413" y="0"/>
                  </a:lnTo>
                  <a:lnTo>
                    <a:pt x="397" y="321"/>
                  </a:lnTo>
                  <a:lnTo>
                    <a:pt x="0" y="302"/>
                  </a:lnTo>
                  <a:lnTo>
                    <a:pt x="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08600" y="6022800"/>
              <a:ext cx="1231920" cy="228600"/>
            </a:xfrm>
            <a:custGeom>
              <a:avLst/>
              <a:gdLst/>
              <a:ahLst/>
              <a:rect l="l" t="t" r="r" b="b"/>
              <a:pathLst>
                <a:path w="776" h="144">
                  <a:moveTo>
                    <a:pt x="126" y="0"/>
                  </a:moveTo>
                  <a:lnTo>
                    <a:pt x="775" y="58"/>
                  </a:lnTo>
                  <a:lnTo>
                    <a:pt x="729" y="111"/>
                  </a:lnTo>
                  <a:lnTo>
                    <a:pt x="684" y="143"/>
                  </a:lnTo>
                  <a:lnTo>
                    <a:pt x="0" y="71"/>
                  </a:lnTo>
                  <a:lnTo>
                    <a:pt x="51" y="51"/>
                  </a:lnTo>
                  <a:lnTo>
                    <a:pt x="126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6095880" y="5760720"/>
              <a:ext cx="225720" cy="313200"/>
              <a:chOff x="6095880" y="5760720"/>
              <a:chExt cx="225720" cy="313200"/>
            </a:xfrm>
          </p:grpSpPr>
          <p:sp>
            <p:nvSpPr>
              <p:cNvPr id="1215" name=""/>
              <p:cNvSpPr/>
              <p:nvPr/>
            </p:nvSpPr>
            <p:spPr>
              <a:xfrm flipV="1">
                <a:off x="6095880" y="5843160"/>
                <a:ext cx="225720" cy="127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141960" y="5870520"/>
                <a:ext cx="177840" cy="115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6141960" y="5895720"/>
                <a:ext cx="177840" cy="120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6141960" y="5921280"/>
                <a:ext cx="179640" cy="122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6141960" y="5945040"/>
                <a:ext cx="179640" cy="128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6141960" y="5817960"/>
                <a:ext cx="179640" cy="106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141960" y="5790960"/>
                <a:ext cx="179640" cy="99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6141960" y="5760720"/>
                <a:ext cx="177840" cy="96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121440" y="5842080"/>
                <a:ext cx="0" cy="216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253120" y="5029200"/>
              <a:ext cx="866520" cy="755640"/>
              <a:chOff x="5253120" y="5029200"/>
              <a:chExt cx="866520" cy="75564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5253120" y="5029200"/>
                <a:ext cx="866520" cy="755640"/>
                <a:chOff x="5253120" y="5029200"/>
                <a:chExt cx="866520" cy="755640"/>
              </a:xfrm>
            </p:grpSpPr>
            <p:grpSp>
              <p:nvGrpSpPr>
                <p:cNvPr id="1226" name=""/>
                <p:cNvGrpSpPr/>
                <p:nvPr/>
              </p:nvGrpSpPr>
              <p:grpSpPr>
                <a:xfrm>
                  <a:off x="5253120" y="5029200"/>
                  <a:ext cx="866520" cy="755640"/>
                  <a:chOff x="5253120" y="5029200"/>
                  <a:chExt cx="866520" cy="75564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5253120" y="5029200"/>
                    <a:ext cx="86652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476">
                        <a:moveTo>
                          <a:pt x="44" y="7"/>
                        </a:moveTo>
                        <a:lnTo>
                          <a:pt x="90" y="6"/>
                        </a:lnTo>
                        <a:lnTo>
                          <a:pt x="154" y="1"/>
                        </a:lnTo>
                        <a:lnTo>
                          <a:pt x="220" y="0"/>
                        </a:lnTo>
                        <a:lnTo>
                          <a:pt x="297" y="0"/>
                        </a:lnTo>
                        <a:lnTo>
                          <a:pt x="352" y="1"/>
                        </a:lnTo>
                        <a:lnTo>
                          <a:pt x="435" y="4"/>
                        </a:lnTo>
                        <a:lnTo>
                          <a:pt x="515" y="7"/>
                        </a:lnTo>
                        <a:lnTo>
                          <a:pt x="535" y="8"/>
                        </a:lnTo>
                        <a:lnTo>
                          <a:pt x="539" y="9"/>
                        </a:lnTo>
                        <a:lnTo>
                          <a:pt x="542" y="12"/>
                        </a:lnTo>
                        <a:lnTo>
                          <a:pt x="545" y="15"/>
                        </a:lnTo>
                        <a:lnTo>
                          <a:pt x="545" y="20"/>
                        </a:lnTo>
                        <a:lnTo>
                          <a:pt x="524" y="466"/>
                        </a:lnTo>
                        <a:lnTo>
                          <a:pt x="522" y="472"/>
                        </a:lnTo>
                        <a:lnTo>
                          <a:pt x="515" y="475"/>
                        </a:lnTo>
                        <a:lnTo>
                          <a:pt x="340" y="464"/>
                        </a:lnTo>
                        <a:lnTo>
                          <a:pt x="166" y="452"/>
                        </a:lnTo>
                        <a:lnTo>
                          <a:pt x="8" y="441"/>
                        </a:lnTo>
                        <a:lnTo>
                          <a:pt x="0" y="429"/>
                        </a:lnTo>
                        <a:lnTo>
                          <a:pt x="25" y="22"/>
                        </a:lnTo>
                        <a:lnTo>
                          <a:pt x="44" y="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6088320" y="5048280"/>
                    <a:ext cx="31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725" y="54"/>
                        </a:moveTo>
                        <a:arcTo wR="10800" hR="10800" stAng="-5742635" swAng="520147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725" y="54"/>
                        </a:moveTo>
                        <a:arcTo wR="10800" hR="10800" stAng="-5742635" swAng="520147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295960" y="5046840"/>
                    <a:ext cx="763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3" y="9460"/>
                        </a:moveTo>
                        <a:arcTo wR="10800" hR="10800" stAng="-10372499" swAng="48293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3" y="9460"/>
                        </a:moveTo>
                        <a:arcTo wR="10800" hR="10800" stAng="-10372499" swAng="482934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257800" y="5698800"/>
                    <a:ext cx="248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09" y="21206"/>
                        </a:moveTo>
                        <a:arcTo wR="10800" hR="10800" stAng="6331447" swAng="51471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09" y="21206"/>
                        </a:moveTo>
                        <a:arcTo wR="10800" hR="10800" stAng="6331447" swAng="514715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345280" y="5146560"/>
                  <a:ext cx="657000" cy="511200"/>
                  <a:chOff x="5345280" y="5146560"/>
                  <a:chExt cx="657000" cy="511200"/>
                </a:xfrm>
              </p:grpSpPr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5345280" y="5146560"/>
                    <a:ext cx="657000" cy="511200"/>
                    <a:chOff x="5345280" y="5146560"/>
                    <a:chExt cx="657000" cy="51120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5370480" y="5146560"/>
                      <a:ext cx="63036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1">
                          <a:moveTo>
                            <a:pt x="0" y="0"/>
                          </a:moveTo>
                          <a:lnTo>
                            <a:pt x="396" y="0"/>
                          </a:lnTo>
                          <a:lnTo>
                            <a:pt x="387" y="0"/>
                          </a:lnTo>
                          <a:lnTo>
                            <a:pt x="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5972040" y="5146560"/>
                      <a:ext cx="30240" cy="51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22">
                          <a:moveTo>
                            <a:pt x="11" y="6"/>
                          </a:moveTo>
                          <a:lnTo>
                            <a:pt x="18" y="0"/>
                          </a:lnTo>
                          <a:lnTo>
                            <a:pt x="12" y="175"/>
                          </a:lnTo>
                          <a:lnTo>
                            <a:pt x="6" y="321"/>
                          </a:lnTo>
                          <a:lnTo>
                            <a:pt x="0" y="312"/>
                          </a:lnTo>
                          <a:lnTo>
                            <a:pt x="11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5345280" y="5626080"/>
                      <a:ext cx="630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20">
                          <a:moveTo>
                            <a:pt x="9" y="0"/>
                          </a:moveTo>
                          <a:lnTo>
                            <a:pt x="0" y="6"/>
                          </a:lnTo>
                          <a:lnTo>
                            <a:pt x="396" y="19"/>
                          </a:lnTo>
                          <a:lnTo>
                            <a:pt x="387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5345280" y="5148360"/>
                      <a:ext cx="28440" cy="48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03">
                          <a:moveTo>
                            <a:pt x="11" y="0"/>
                          </a:moveTo>
                          <a:lnTo>
                            <a:pt x="17" y="6"/>
                          </a:lnTo>
                          <a:lnTo>
                            <a:pt x="6" y="294"/>
                          </a:lnTo>
                          <a:lnTo>
                            <a:pt x="0" y="30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5359320" y="5157720"/>
                    <a:ext cx="627120" cy="486000"/>
                    <a:chOff x="5359320" y="5157720"/>
                    <a:chExt cx="627120" cy="48600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5359320" y="5157720"/>
                      <a:ext cx="62712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5" h="306">
                          <a:moveTo>
                            <a:pt x="16" y="0"/>
                          </a:moveTo>
                          <a:lnTo>
                            <a:pt x="394" y="0"/>
                          </a:lnTo>
                          <a:lnTo>
                            <a:pt x="378" y="305"/>
                          </a:lnTo>
                          <a:lnTo>
                            <a:pt x="0" y="287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5380200" y="5178600"/>
                      <a:ext cx="585720" cy="44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282">
                          <a:moveTo>
                            <a:pt x="14" y="0"/>
                          </a:moveTo>
                          <a:lnTo>
                            <a:pt x="368" y="0"/>
                          </a:lnTo>
                          <a:lnTo>
                            <a:pt x="352" y="281"/>
                          </a:lnTo>
                          <a:lnTo>
                            <a:pt x="0" y="266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5389560" y="5205240"/>
                      <a:ext cx="552600" cy="40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8" h="254">
                          <a:moveTo>
                            <a:pt x="13" y="0"/>
                          </a:moveTo>
                          <a:lnTo>
                            <a:pt x="347" y="0"/>
                          </a:lnTo>
                          <a:lnTo>
                            <a:pt x="332" y="253"/>
                          </a:lnTo>
                          <a:lnTo>
                            <a:pt x="0" y="24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41" name=""/>
              <p:cNvSpPr/>
              <p:nvPr/>
            </p:nvSpPr>
            <p:spPr>
              <a:xfrm>
                <a:off x="5958000" y="57326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08600" y="6019920"/>
              <a:ext cx="1231920" cy="271440"/>
              <a:chOff x="4908600" y="6019920"/>
              <a:chExt cx="1231920" cy="271440"/>
            </a:xfrm>
          </p:grpSpPr>
          <p:sp>
            <p:nvSpPr>
              <p:cNvPr id="1243" name=""/>
              <p:cNvSpPr/>
              <p:nvPr/>
            </p:nvSpPr>
            <p:spPr>
              <a:xfrm>
                <a:off x="5765760" y="6116760"/>
                <a:ext cx="287280" cy="106200"/>
              </a:xfrm>
              <a:custGeom>
                <a:avLst/>
                <a:gdLst/>
                <a:ahLst/>
                <a:rect l="l" t="t" r="r" b="b"/>
                <a:pathLst>
                  <a:path w="181" h="67">
                    <a:moveTo>
                      <a:pt x="69" y="0"/>
                    </a:moveTo>
                    <a:lnTo>
                      <a:pt x="28" y="39"/>
                    </a:lnTo>
                    <a:lnTo>
                      <a:pt x="0" y="55"/>
                    </a:lnTo>
                    <a:lnTo>
                      <a:pt x="118" y="66"/>
                    </a:lnTo>
                    <a:lnTo>
                      <a:pt x="145" y="45"/>
                    </a:lnTo>
                    <a:lnTo>
                      <a:pt x="180" y="9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4" name=""/>
              <p:cNvGrpSpPr/>
              <p:nvPr/>
            </p:nvGrpSpPr>
            <p:grpSpPr>
              <a:xfrm>
                <a:off x="4908600" y="6019920"/>
                <a:ext cx="1231920" cy="271440"/>
                <a:chOff x="4908600" y="6019920"/>
                <a:chExt cx="1231920" cy="2714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4908600" y="6141960"/>
                  <a:ext cx="1089000" cy="149400"/>
                </a:xfrm>
                <a:custGeom>
                  <a:avLst/>
                  <a:gdLst/>
                  <a:ahLst/>
                  <a:rect l="l" t="t" r="r" b="b"/>
                  <a:pathLst>
                    <a:path w="686" h="9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685" y="93"/>
                      </a:lnTo>
                      <a:lnTo>
                        <a:pt x="684" y="6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006960" y="6119640"/>
                  <a:ext cx="133560" cy="17172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83"/>
                      </a:moveTo>
                      <a:lnTo>
                        <a:pt x="0" y="107"/>
                      </a:lnTo>
                      <a:lnTo>
                        <a:pt x="36" y="82"/>
                      </a:lnTo>
                      <a:lnTo>
                        <a:pt x="51" y="68"/>
                      </a:lnTo>
                      <a:lnTo>
                        <a:pt x="83" y="30"/>
                      </a:lnTo>
                      <a:lnTo>
                        <a:pt x="83" y="0"/>
                      </a:lnTo>
                      <a:lnTo>
                        <a:pt x="41" y="5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932360" y="6176880"/>
                  <a:ext cx="1058760" cy="7452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8" name=""/>
                <p:cNvGrpSpPr/>
                <p:nvPr/>
              </p:nvGrpSpPr>
              <p:grpSpPr>
                <a:xfrm>
                  <a:off x="4981680" y="6019920"/>
                  <a:ext cx="1038240" cy="231480"/>
                  <a:chOff x="4981680" y="6019920"/>
                  <a:chExt cx="1038240" cy="231480"/>
                </a:xfrm>
              </p:grpSpPr>
              <p:sp>
                <p:nvSpPr>
                  <p:cNvPr id="1249" name=""/>
                  <p:cNvSpPr/>
                  <p:nvPr/>
                </p:nvSpPr>
                <p:spPr>
                  <a:xfrm>
                    <a:off x="4981680" y="6045120"/>
                    <a:ext cx="8017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5" h="94">
                        <a:moveTo>
                          <a:pt x="87" y="0"/>
                        </a:moveTo>
                        <a:lnTo>
                          <a:pt x="27" y="40"/>
                        </a:lnTo>
                        <a:lnTo>
                          <a:pt x="0" y="54"/>
                        </a:lnTo>
                        <a:lnTo>
                          <a:pt x="428" y="93"/>
                        </a:lnTo>
                        <a:lnTo>
                          <a:pt x="458" y="75"/>
                        </a:lnTo>
                        <a:lnTo>
                          <a:pt x="504" y="38"/>
                        </a:lnTo>
                        <a:lnTo>
                          <a:pt x="8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024520" y="6019920"/>
                    <a:ext cx="995400" cy="231480"/>
                    <a:chOff x="5024520" y="6019920"/>
                    <a:chExt cx="995400" cy="231480"/>
                  </a:xfrm>
                </p:grpSpPr>
                <p:grpSp>
                  <p:nvGrpSpPr>
                    <p:cNvPr id="1251" name=""/>
                    <p:cNvGrpSpPr/>
                    <p:nvPr/>
                  </p:nvGrpSpPr>
                  <p:grpSpPr>
                    <a:xfrm>
                      <a:off x="5038560" y="6019920"/>
                      <a:ext cx="717840" cy="196200"/>
                      <a:chOff x="5038560" y="6019920"/>
                      <a:chExt cx="717840" cy="196200"/>
                    </a:xfrm>
                  </p:grpSpPr>
                  <p:grpSp>
                    <p:nvGrpSpPr>
                      <p:cNvPr id="1252" name=""/>
                      <p:cNvGrpSpPr/>
                      <p:nvPr/>
                    </p:nvGrpSpPr>
                    <p:grpSpPr>
                      <a:xfrm>
                        <a:off x="5038560" y="6019920"/>
                        <a:ext cx="117720" cy="142920"/>
                        <a:chOff x="5038560" y="6019920"/>
                        <a:chExt cx="117720" cy="142920"/>
                      </a:xfrm>
                    </p:grpSpPr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 flipV="1">
                          <a:off x="5038560" y="6102360"/>
                          <a:ext cx="111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 flipV="1">
                          <a:off x="5091120" y="6019920"/>
                          <a:ext cx="651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5100480" y="6025680"/>
                        <a:ext cx="119160" cy="142920"/>
                        <a:chOff x="5100480" y="6025680"/>
                        <a:chExt cx="119160" cy="14292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 flipV="1">
                          <a:off x="5100480" y="6108480"/>
                          <a:ext cx="972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 flipV="1">
                          <a:off x="5151600" y="6025680"/>
                          <a:ext cx="68040" cy="11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8" name=""/>
                      <p:cNvGrpSpPr/>
                      <p:nvPr/>
                    </p:nvGrpSpPr>
                    <p:grpSpPr>
                      <a:xfrm>
                        <a:off x="5164200" y="6028920"/>
                        <a:ext cx="117360" cy="142920"/>
                        <a:chOff x="5164200" y="6028920"/>
                        <a:chExt cx="117360" cy="142920"/>
                      </a:xfrm>
                    </p:grpSpPr>
                    <p:sp>
                      <p:nvSpPr>
                        <p:cNvPr id="1259" name=""/>
                        <p:cNvSpPr/>
                        <p:nvPr/>
                      </p:nvSpPr>
                      <p:spPr>
                        <a:xfrm flipV="1">
                          <a:off x="5164200" y="6113160"/>
                          <a:ext cx="11160" cy="58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 flipV="1">
                          <a:off x="5216400" y="6028920"/>
                          <a:ext cx="6516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1" name=""/>
                      <p:cNvGrpSpPr/>
                      <p:nvPr/>
                    </p:nvGrpSpPr>
                    <p:grpSpPr>
                      <a:xfrm>
                        <a:off x="5222880" y="6036840"/>
                        <a:ext cx="117360" cy="144360"/>
                        <a:chOff x="5222880" y="6036840"/>
                        <a:chExt cx="117360" cy="144360"/>
                      </a:xfrm>
                    </p:grpSpPr>
                    <p:sp>
                      <p:nvSpPr>
                        <p:cNvPr id="1262" name=""/>
                        <p:cNvSpPr/>
                        <p:nvPr/>
                      </p:nvSpPr>
                      <p:spPr>
                        <a:xfrm flipV="1">
                          <a:off x="5222880" y="6121080"/>
                          <a:ext cx="111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 flipV="1">
                          <a:off x="5275440" y="6036840"/>
                          <a:ext cx="6480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4" name=""/>
                      <p:cNvGrpSpPr/>
                      <p:nvPr/>
                    </p:nvGrpSpPr>
                    <p:grpSpPr>
                      <a:xfrm>
                        <a:off x="5286240" y="6040080"/>
                        <a:ext cx="115920" cy="144360"/>
                        <a:chOff x="5286240" y="6040080"/>
                        <a:chExt cx="115920" cy="144360"/>
                      </a:xfrm>
                    </p:grpSpPr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 flipV="1">
                          <a:off x="5286240" y="6124320"/>
                          <a:ext cx="111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5338800" y="6040080"/>
                          <a:ext cx="6336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7" name=""/>
                      <p:cNvGrpSpPr/>
                      <p:nvPr/>
                    </p:nvGrpSpPr>
                    <p:grpSpPr>
                      <a:xfrm>
                        <a:off x="5346720" y="6044760"/>
                        <a:ext cx="117360" cy="142920"/>
                        <a:chOff x="5346720" y="6044760"/>
                        <a:chExt cx="117360" cy="142920"/>
                      </a:xfrm>
                    </p:grpSpPr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 flipV="1">
                          <a:off x="5346720" y="6127560"/>
                          <a:ext cx="93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 flipV="1">
                          <a:off x="5397480" y="6044760"/>
                          <a:ext cx="66600" cy="11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0" name=""/>
                      <p:cNvGrpSpPr/>
                      <p:nvPr/>
                    </p:nvGrpSpPr>
                    <p:grpSpPr>
                      <a:xfrm>
                        <a:off x="5405400" y="6049440"/>
                        <a:ext cx="117360" cy="145080"/>
                        <a:chOff x="5405400" y="6049440"/>
                        <a:chExt cx="117360" cy="145080"/>
                      </a:xfrm>
                    </p:grpSpPr>
                    <p:sp>
                      <p:nvSpPr>
                        <p:cNvPr id="1271" name=""/>
                        <p:cNvSpPr/>
                        <p:nvPr/>
                      </p:nvSpPr>
                      <p:spPr>
                        <a:xfrm flipV="1">
                          <a:off x="5405400" y="6134040"/>
                          <a:ext cx="111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 flipV="1">
                          <a:off x="5457960" y="6049440"/>
                          <a:ext cx="6480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3" name=""/>
                      <p:cNvGrpSpPr/>
                      <p:nvPr/>
                    </p:nvGrpSpPr>
                    <p:grpSpPr>
                      <a:xfrm>
                        <a:off x="5462640" y="6059520"/>
                        <a:ext cx="115920" cy="142920"/>
                        <a:chOff x="5462640" y="6059520"/>
                        <a:chExt cx="115920" cy="142920"/>
                      </a:xfrm>
                    </p:grpSpPr>
                    <p:sp>
                      <p:nvSpPr>
                        <p:cNvPr id="1274" name=""/>
                        <p:cNvSpPr/>
                        <p:nvPr/>
                      </p:nvSpPr>
                      <p:spPr>
                        <a:xfrm flipV="1">
                          <a:off x="5462640" y="6141960"/>
                          <a:ext cx="93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 flipV="1">
                          <a:off x="5513400" y="6059520"/>
                          <a:ext cx="651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6" name=""/>
                      <p:cNvGrpSpPr/>
                      <p:nvPr/>
                    </p:nvGrpSpPr>
                    <p:grpSpPr>
                      <a:xfrm>
                        <a:off x="5521320" y="6067440"/>
                        <a:ext cx="115920" cy="142920"/>
                        <a:chOff x="5521320" y="6067440"/>
                        <a:chExt cx="115920" cy="142920"/>
                      </a:xfrm>
                    </p:grpSpPr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 flipV="1">
                          <a:off x="5521320" y="6149880"/>
                          <a:ext cx="9360" cy="60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 flipV="1">
                          <a:off x="5572080" y="6067440"/>
                          <a:ext cx="651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9" name=""/>
                      <p:cNvGrpSpPr/>
                      <p:nvPr/>
                    </p:nvGrpSpPr>
                    <p:grpSpPr>
                      <a:xfrm>
                        <a:off x="5580000" y="6068520"/>
                        <a:ext cx="119160" cy="146520"/>
                        <a:chOff x="5580000" y="6068520"/>
                        <a:chExt cx="119160" cy="146520"/>
                      </a:xfrm>
                    </p:grpSpPr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 flipV="1">
                          <a:off x="5580000" y="615312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 flipV="1">
                          <a:off x="5632560" y="6068520"/>
                          <a:ext cx="66600" cy="119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2" name=""/>
                      <p:cNvGrpSpPr/>
                      <p:nvPr/>
                    </p:nvGrpSpPr>
                    <p:grpSpPr>
                      <a:xfrm>
                        <a:off x="5638680" y="6073920"/>
                        <a:ext cx="117720" cy="142200"/>
                        <a:chOff x="5638680" y="6073920"/>
                        <a:chExt cx="117720" cy="142200"/>
                      </a:xfrm>
                    </p:grpSpPr>
                    <p:sp>
                      <p:nvSpPr>
                        <p:cNvPr id="1283" name=""/>
                        <p:cNvSpPr/>
                        <p:nvPr/>
                      </p:nvSpPr>
                      <p:spPr>
                        <a:xfrm flipV="1">
                          <a:off x="5638680" y="6156000"/>
                          <a:ext cx="972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 flipV="1">
                          <a:off x="5689440" y="6073920"/>
                          <a:ext cx="66960" cy="117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85" name=""/>
                    <p:cNvGrpSpPr/>
                    <p:nvPr/>
                  </p:nvGrpSpPr>
                  <p:grpSpPr>
                    <a:xfrm>
                      <a:off x="5823000" y="6093000"/>
                      <a:ext cx="187200" cy="158400"/>
                      <a:chOff x="5823000" y="6093000"/>
                      <a:chExt cx="187200" cy="158400"/>
                    </a:xfrm>
                  </p:grpSpPr>
                  <p:grpSp>
                    <p:nvGrpSpPr>
                      <p:cNvPr id="1286" name=""/>
                      <p:cNvGrpSpPr/>
                      <p:nvPr/>
                    </p:nvGrpSpPr>
                    <p:grpSpPr>
                      <a:xfrm>
                        <a:off x="5918040" y="6099120"/>
                        <a:ext cx="92160" cy="152280"/>
                        <a:chOff x="5918040" y="6099120"/>
                        <a:chExt cx="92160" cy="152280"/>
                      </a:xfrm>
                    </p:grpSpPr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918040" y="6186600"/>
                          <a:ext cx="5040" cy="64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 flipV="1">
                          <a:off x="5964120" y="6099120"/>
                          <a:ext cx="4608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9" name=""/>
                      <p:cNvGrpSpPr/>
                      <p:nvPr/>
                    </p:nvGrpSpPr>
                    <p:grpSpPr>
                      <a:xfrm>
                        <a:off x="5870520" y="6094080"/>
                        <a:ext cx="95400" cy="154440"/>
                        <a:chOff x="5870520" y="6094080"/>
                        <a:chExt cx="95400" cy="154440"/>
                      </a:xfrm>
                    </p:grpSpPr>
                    <p:sp>
                      <p:nvSpPr>
                        <p:cNvPr id="1290" name=""/>
                        <p:cNvSpPr/>
                        <p:nvPr/>
                      </p:nvSpPr>
                      <p:spPr>
                        <a:xfrm flipV="1">
                          <a:off x="5870520" y="6181560"/>
                          <a:ext cx="3240" cy="66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 flipV="1">
                          <a:off x="5915160" y="6094080"/>
                          <a:ext cx="507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92" name=""/>
                      <p:cNvGrpSpPr/>
                      <p:nvPr/>
                    </p:nvGrpSpPr>
                    <p:grpSpPr>
                      <a:xfrm>
                        <a:off x="5823000" y="6093000"/>
                        <a:ext cx="90360" cy="150120"/>
                        <a:chOff x="5823000" y="6093000"/>
                        <a:chExt cx="90360" cy="150120"/>
                      </a:xfrm>
                    </p:grpSpPr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 flipV="1">
                          <a:off x="5823000" y="6176520"/>
                          <a:ext cx="4680" cy="66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800" bIns="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 flipV="1">
                          <a:off x="5869080" y="6093000"/>
                          <a:ext cx="44280" cy="11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5095800" y="6093000"/>
                      <a:ext cx="924120" cy="457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5060880" y="6114960"/>
                      <a:ext cx="943200" cy="493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5024520" y="6138720"/>
                      <a:ext cx="952560" cy="558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029280" y="6117840"/>
                  <a:ext cx="100080" cy="171720"/>
                  <a:chOff x="6029280" y="6117840"/>
                  <a:chExt cx="100080" cy="17172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 flipV="1">
                    <a:off x="6029280" y="6195960"/>
                    <a:ext cx="33480" cy="9360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V="1">
                    <a:off x="6103800" y="6117840"/>
                    <a:ext cx="25560" cy="1126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301" name=""/>
          <p:cNvGraphicFramePr/>
          <p:nvPr/>
        </p:nvGraphicFramePr>
        <p:xfrm>
          <a:off x="2743200" y="4780080"/>
          <a:ext cx="188280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780080"/>
                    <a:ext cx="188280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3" name=""/>
          <p:cNvGrpSpPr/>
          <p:nvPr/>
        </p:nvGrpSpPr>
        <p:grpSpPr>
          <a:xfrm>
            <a:off x="849240" y="4803840"/>
            <a:ext cx="1762200" cy="1369800"/>
            <a:chOff x="849240" y="4803840"/>
            <a:chExt cx="1762200" cy="1369800"/>
          </a:xfrm>
        </p:grpSpPr>
        <p:sp>
          <p:nvSpPr>
            <p:cNvPr id="1304" name=""/>
            <p:cNvSpPr/>
            <p:nvPr/>
          </p:nvSpPr>
          <p:spPr>
            <a:xfrm>
              <a:off x="849240" y="5857920"/>
              <a:ext cx="173160" cy="1033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106" y="0"/>
                  </a:moveTo>
                  <a:lnTo>
                    <a:pt x="82" y="0"/>
                  </a:lnTo>
                  <a:lnTo>
                    <a:pt x="68" y="1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25" y="10"/>
                  </a:lnTo>
                  <a:lnTo>
                    <a:pt x="17" y="13"/>
                  </a:lnTo>
                  <a:lnTo>
                    <a:pt x="11" y="16"/>
                  </a:lnTo>
                  <a:lnTo>
                    <a:pt x="6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8" y="41"/>
                  </a:lnTo>
                  <a:lnTo>
                    <a:pt x="15" y="42"/>
                  </a:lnTo>
                  <a:lnTo>
                    <a:pt x="24" y="42"/>
                  </a:lnTo>
                  <a:lnTo>
                    <a:pt x="34" y="41"/>
                  </a:lnTo>
                  <a:lnTo>
                    <a:pt x="46" y="40"/>
                  </a:lnTo>
                  <a:lnTo>
                    <a:pt x="57" y="41"/>
                  </a:lnTo>
                  <a:lnTo>
                    <a:pt x="66" y="42"/>
                  </a:lnTo>
                  <a:lnTo>
                    <a:pt x="74" y="44"/>
                  </a:lnTo>
                  <a:lnTo>
                    <a:pt x="83" y="48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8" y="63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996840" y="5568840"/>
              <a:ext cx="1371600" cy="463680"/>
              <a:chOff x="996840" y="5568840"/>
              <a:chExt cx="1371600" cy="463680"/>
            </a:xfrm>
          </p:grpSpPr>
          <p:sp>
            <p:nvSpPr>
              <p:cNvPr id="1306" name=""/>
              <p:cNvSpPr/>
              <p:nvPr/>
            </p:nvSpPr>
            <p:spPr>
              <a:xfrm>
                <a:off x="1006560" y="5807160"/>
                <a:ext cx="1361880" cy="225360"/>
              </a:xfrm>
              <a:custGeom>
                <a:avLst/>
                <a:gdLst/>
                <a:ahLst/>
                <a:rect l="l" t="t" r="r" b="b"/>
                <a:pathLst>
                  <a:path w="858" h="142">
                    <a:moveTo>
                      <a:pt x="0" y="9"/>
                    </a:moveTo>
                    <a:lnTo>
                      <a:pt x="0" y="70"/>
                    </a:lnTo>
                    <a:lnTo>
                      <a:pt x="696" y="141"/>
                    </a:lnTo>
                    <a:lnTo>
                      <a:pt x="857" y="55"/>
                    </a:lnTo>
                    <a:lnTo>
                      <a:pt x="857" y="0"/>
                    </a:lnTo>
                    <a:lnTo>
                      <a:pt x="690" y="7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996840" y="5568840"/>
                <a:ext cx="1108080" cy="354240"/>
              </a:xfrm>
              <a:custGeom>
                <a:avLst/>
                <a:gdLst/>
                <a:ahLst/>
                <a:rect l="l" t="t" r="r" b="b"/>
                <a:pathLst>
                  <a:path w="698" h="223">
                    <a:moveTo>
                      <a:pt x="0" y="0"/>
                    </a:moveTo>
                    <a:lnTo>
                      <a:pt x="697" y="48"/>
                    </a:lnTo>
                    <a:lnTo>
                      <a:pt x="697" y="222"/>
                    </a:lnTo>
                    <a:lnTo>
                      <a:pt x="0" y="1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1022400" y="5656320"/>
                <a:ext cx="1076400" cy="104760"/>
                <a:chOff x="1022400" y="5656320"/>
                <a:chExt cx="1076400" cy="1047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022400" y="5656320"/>
                  <a:ext cx="107460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841400" y="5711760"/>
                  <a:ext cx="1922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566720" y="5691240"/>
                  <a:ext cx="19368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022400" y="5705640"/>
                  <a:ext cx="107640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3" name=""/>
            <p:cNvGrpSpPr/>
            <p:nvPr/>
          </p:nvGrpSpPr>
          <p:grpSpPr>
            <a:xfrm>
              <a:off x="996840" y="5518080"/>
              <a:ext cx="1374840" cy="119160"/>
              <a:chOff x="996840" y="5518080"/>
              <a:chExt cx="1374840" cy="119160"/>
            </a:xfrm>
          </p:grpSpPr>
          <p:sp>
            <p:nvSpPr>
              <p:cNvPr id="1314" name=""/>
              <p:cNvSpPr/>
              <p:nvPr/>
            </p:nvSpPr>
            <p:spPr>
              <a:xfrm>
                <a:off x="996840" y="5518080"/>
                <a:ext cx="1374840" cy="119160"/>
              </a:xfrm>
              <a:custGeom>
                <a:avLst/>
                <a:gdLst/>
                <a:ahLst/>
                <a:rect l="l" t="t" r="r" b="b"/>
                <a:pathLst>
                  <a:path w="866" h="75">
                    <a:moveTo>
                      <a:pt x="0" y="29"/>
                    </a:moveTo>
                    <a:lnTo>
                      <a:pt x="699" y="74"/>
                    </a:lnTo>
                    <a:lnTo>
                      <a:pt x="865" y="31"/>
                    </a:lnTo>
                    <a:lnTo>
                      <a:pt x="807" y="25"/>
                    </a:lnTo>
                    <a:lnTo>
                      <a:pt x="267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312920" y="5545080"/>
                <a:ext cx="1006560" cy="73080"/>
              </a:xfrm>
              <a:custGeom>
                <a:avLst/>
                <a:gdLst/>
                <a:ahLst/>
                <a:rect l="l" t="t" r="r" b="b"/>
                <a:pathLst>
                  <a:path w="634" h="46">
                    <a:moveTo>
                      <a:pt x="51" y="0"/>
                    </a:moveTo>
                    <a:lnTo>
                      <a:pt x="0" y="17"/>
                    </a:lnTo>
                    <a:lnTo>
                      <a:pt x="511" y="45"/>
                    </a:lnTo>
                    <a:lnTo>
                      <a:pt x="594" y="25"/>
                    </a:lnTo>
                    <a:lnTo>
                      <a:pt x="588" y="22"/>
                    </a:lnTo>
                    <a:lnTo>
                      <a:pt x="633" y="11"/>
                    </a:lnTo>
                    <a:lnTo>
                      <a:pt x="605" y="9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2127240" y="4819680"/>
              <a:ext cx="241200" cy="781200"/>
              <a:chOff x="2127240" y="4819680"/>
              <a:chExt cx="241200" cy="781200"/>
            </a:xfrm>
          </p:grpSpPr>
          <p:grpSp>
            <p:nvGrpSpPr>
              <p:cNvPr id="1317" name=""/>
              <p:cNvGrpSpPr/>
              <p:nvPr/>
            </p:nvGrpSpPr>
            <p:grpSpPr>
              <a:xfrm>
                <a:off x="2225520" y="4919760"/>
                <a:ext cx="142920" cy="654120"/>
                <a:chOff x="2225520" y="4919760"/>
                <a:chExt cx="142920" cy="6541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2225520" y="4919760"/>
                  <a:ext cx="142920" cy="654120"/>
                </a:xfrm>
                <a:custGeom>
                  <a:avLst/>
                  <a:gdLst/>
                  <a:ahLst/>
                  <a:rect l="l" t="t" r="r" b="b"/>
                  <a:pathLst>
                    <a:path w="90" h="412">
                      <a:moveTo>
                        <a:pt x="8" y="0"/>
                      </a:moveTo>
                      <a:lnTo>
                        <a:pt x="89" y="34"/>
                      </a:lnTo>
                      <a:lnTo>
                        <a:pt x="82" y="194"/>
                      </a:lnTo>
                      <a:lnTo>
                        <a:pt x="73" y="386"/>
                      </a:lnTo>
                      <a:lnTo>
                        <a:pt x="0" y="4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2247840" y="4970520"/>
                  <a:ext cx="111240" cy="554040"/>
                  <a:chOff x="2247840" y="4970520"/>
                  <a:chExt cx="111240" cy="554040"/>
                </a:xfrm>
              </p:grpSpPr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2247840" y="4970520"/>
                    <a:ext cx="111240" cy="554040"/>
                    <a:chOff x="2247840" y="4970520"/>
                    <a:chExt cx="111240" cy="554040"/>
                  </a:xfrm>
                </p:grpSpPr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2247840" y="4970520"/>
                      <a:ext cx="111240" cy="306360"/>
                      <a:chOff x="2247840" y="4970520"/>
                      <a:chExt cx="111240" cy="306360"/>
                    </a:xfrm>
                  </p:grpSpPr>
                  <p:grpSp>
                    <p:nvGrpSpPr>
                      <p:cNvPr id="1322" name=""/>
                      <p:cNvGrpSpPr/>
                      <p:nvPr/>
                    </p:nvGrpSpPr>
                    <p:grpSpPr>
                      <a:xfrm>
                        <a:off x="2259000" y="4970520"/>
                        <a:ext cx="100080" cy="144360"/>
                        <a:chOff x="2259000" y="4970520"/>
                        <a:chExt cx="100080" cy="144360"/>
                      </a:xfrm>
                    </p:grpSpPr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>
                          <a:off x="2263680" y="4970520"/>
                          <a:ext cx="95400" cy="1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4" name=""/>
                        <p:cNvSpPr/>
                        <p:nvPr/>
                      </p:nvSpPr>
                      <p:spPr>
                        <a:xfrm>
                          <a:off x="2260440" y="4998960"/>
                          <a:ext cx="9540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2262240" y="5029200"/>
                          <a:ext cx="9360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2260440" y="5057640"/>
                          <a:ext cx="954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7" name=""/>
                        <p:cNvSpPr/>
                        <p:nvPr/>
                      </p:nvSpPr>
                      <p:spPr>
                        <a:xfrm>
                          <a:off x="2259000" y="5079960"/>
                          <a:ext cx="95400" cy="9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8" name=""/>
                        <p:cNvSpPr/>
                        <p:nvPr/>
                      </p:nvSpPr>
                      <p:spPr>
                        <a:xfrm>
                          <a:off x="2259000" y="5108400"/>
                          <a:ext cx="9360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2247840" y="5165640"/>
                        <a:ext cx="10008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2249640" y="5189400"/>
                        <a:ext cx="9684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>
                        <a:off x="2247840" y="5219640"/>
                        <a:ext cx="9684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2249640" y="5248440"/>
                        <a:ext cx="950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2251080" y="5276880"/>
                        <a:ext cx="93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4" name=""/>
                    <p:cNvGrpSpPr/>
                    <p:nvPr/>
                  </p:nvGrpSpPr>
                  <p:grpSpPr>
                    <a:xfrm>
                      <a:off x="2247840" y="5303880"/>
                      <a:ext cx="93600" cy="220680"/>
                      <a:chOff x="2247840" y="5303880"/>
                      <a:chExt cx="93600" cy="220680"/>
                    </a:xfrm>
                  </p:grpSpPr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2251080" y="5303880"/>
                        <a:ext cx="9036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>
                        <a:off x="2252520" y="5332320"/>
                        <a:ext cx="8748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>
                        <a:off x="2251080" y="5361120"/>
                        <a:ext cx="87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"/>
                      <p:cNvSpPr/>
                      <p:nvPr/>
                    </p:nvSpPr>
                    <p:spPr>
                      <a:xfrm flipV="1">
                        <a:off x="2249640" y="5369040"/>
                        <a:ext cx="8712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"/>
                      <p:cNvSpPr/>
                      <p:nvPr/>
                    </p:nvSpPr>
                    <p:spPr>
                      <a:xfrm flipV="1">
                        <a:off x="2249640" y="5393880"/>
                        <a:ext cx="8388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 flipV="1">
                        <a:off x="2249640" y="5421240"/>
                        <a:ext cx="8388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 flipV="1">
                        <a:off x="2247840" y="5444640"/>
                        <a:ext cx="85680" cy="493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2" name=""/>
                      <p:cNvSpPr/>
                      <p:nvPr/>
                    </p:nvSpPr>
                    <p:spPr>
                      <a:xfrm flipV="1">
                        <a:off x="2249640" y="5472000"/>
                        <a:ext cx="80640" cy="525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3" name=""/>
                  <p:cNvSpPr/>
                  <p:nvPr/>
                </p:nvSpPr>
                <p:spPr>
                  <a:xfrm>
                    <a:off x="2255760" y="5138640"/>
                    <a:ext cx="93600" cy="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4" name=""/>
              <p:cNvGrpSpPr/>
              <p:nvPr/>
            </p:nvGrpSpPr>
            <p:grpSpPr>
              <a:xfrm>
                <a:off x="2127240" y="4819680"/>
                <a:ext cx="123840" cy="781200"/>
                <a:chOff x="2127240" y="4819680"/>
                <a:chExt cx="123840" cy="7812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2127240" y="4819680"/>
                  <a:ext cx="123840" cy="781200"/>
                </a:xfrm>
                <a:custGeom>
                  <a:avLst/>
                  <a:gdLst/>
                  <a:ahLst/>
                  <a:rect l="l" t="t" r="r" b="b"/>
                  <a:pathLst>
                    <a:path w="78" h="492">
                      <a:moveTo>
                        <a:pt x="18" y="0"/>
                      </a:moveTo>
                      <a:lnTo>
                        <a:pt x="72" y="25"/>
                      </a:lnTo>
                      <a:lnTo>
                        <a:pt x="77" y="31"/>
                      </a:lnTo>
                      <a:lnTo>
                        <a:pt x="61" y="471"/>
                      </a:lnTo>
                      <a:lnTo>
                        <a:pt x="53" y="477"/>
                      </a:lnTo>
                      <a:lnTo>
                        <a:pt x="0" y="491"/>
                      </a:lnTo>
                      <a:lnTo>
                        <a:pt x="6" y="483"/>
                      </a:lnTo>
                      <a:lnTo>
                        <a:pt x="7" y="477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238120" y="48639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6482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648271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7" name=""/>
            <p:cNvGrpSpPr/>
            <p:nvPr/>
          </p:nvGrpSpPr>
          <p:grpSpPr>
            <a:xfrm>
              <a:off x="2179800" y="6013440"/>
              <a:ext cx="431640" cy="160200"/>
              <a:chOff x="2179800" y="6013440"/>
              <a:chExt cx="431640" cy="160200"/>
            </a:xfrm>
          </p:grpSpPr>
          <p:sp>
            <p:nvSpPr>
              <p:cNvPr id="1348" name=""/>
              <p:cNvSpPr/>
              <p:nvPr/>
            </p:nvSpPr>
            <p:spPr>
              <a:xfrm>
                <a:off x="2179800" y="6013440"/>
                <a:ext cx="431640" cy="112680"/>
              </a:xfrm>
              <a:custGeom>
                <a:avLst/>
                <a:gdLst/>
                <a:ahLst/>
                <a:rect l="l" t="t" r="r" b="b"/>
                <a:pathLst>
                  <a:path w="272" h="71">
                    <a:moveTo>
                      <a:pt x="0" y="0"/>
                    </a:moveTo>
                    <a:lnTo>
                      <a:pt x="50" y="3"/>
                    </a:lnTo>
                    <a:lnTo>
                      <a:pt x="88" y="5"/>
                    </a:lnTo>
                    <a:lnTo>
                      <a:pt x="121" y="9"/>
                    </a:lnTo>
                    <a:lnTo>
                      <a:pt x="155" y="13"/>
                    </a:lnTo>
                    <a:lnTo>
                      <a:pt x="178" y="16"/>
                    </a:lnTo>
                    <a:lnTo>
                      <a:pt x="207" y="21"/>
                    </a:lnTo>
                    <a:lnTo>
                      <a:pt x="223" y="24"/>
                    </a:lnTo>
                    <a:lnTo>
                      <a:pt x="235" y="27"/>
                    </a:lnTo>
                    <a:lnTo>
                      <a:pt x="242" y="28"/>
                    </a:lnTo>
                    <a:lnTo>
                      <a:pt x="247" y="30"/>
                    </a:lnTo>
                    <a:lnTo>
                      <a:pt x="254" y="32"/>
                    </a:lnTo>
                    <a:lnTo>
                      <a:pt x="261" y="34"/>
                    </a:lnTo>
                    <a:lnTo>
                      <a:pt x="267" y="38"/>
                    </a:lnTo>
                    <a:lnTo>
                      <a:pt x="270" y="42"/>
                    </a:lnTo>
                    <a:lnTo>
                      <a:pt x="271" y="45"/>
                    </a:lnTo>
                    <a:lnTo>
                      <a:pt x="269" y="49"/>
                    </a:lnTo>
                    <a:lnTo>
                      <a:pt x="267" y="54"/>
                    </a:lnTo>
                    <a:lnTo>
                      <a:pt x="264" y="58"/>
                    </a:lnTo>
                    <a:lnTo>
                      <a:pt x="259" y="61"/>
                    </a:lnTo>
                    <a:lnTo>
                      <a:pt x="253" y="65"/>
                    </a:lnTo>
                    <a:lnTo>
                      <a:pt x="247" y="68"/>
                    </a:lnTo>
                    <a:lnTo>
                      <a:pt x="240" y="69"/>
                    </a:lnTo>
                    <a:lnTo>
                      <a:pt x="231" y="70"/>
                    </a:lnTo>
                    <a:lnTo>
                      <a:pt x="222" y="70"/>
                    </a:lnTo>
                    <a:lnTo>
                      <a:pt x="212" y="70"/>
                    </a:lnTo>
                    <a:lnTo>
                      <a:pt x="197" y="67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9" name=""/>
              <p:cNvGrpSpPr/>
              <p:nvPr/>
            </p:nvGrpSpPr>
            <p:grpSpPr>
              <a:xfrm>
                <a:off x="2197080" y="6068880"/>
                <a:ext cx="290520" cy="104760"/>
                <a:chOff x="2197080" y="6068880"/>
                <a:chExt cx="290520" cy="104760"/>
              </a:xfrm>
            </p:grpSpPr>
            <p:grpSp>
              <p:nvGrpSpPr>
                <p:cNvPr id="1350" name=""/>
                <p:cNvGrpSpPr/>
                <p:nvPr/>
              </p:nvGrpSpPr>
              <p:grpSpPr>
                <a:xfrm>
                  <a:off x="2197080" y="6068880"/>
                  <a:ext cx="290520" cy="104760"/>
                  <a:chOff x="2197080" y="6068880"/>
                  <a:chExt cx="290520" cy="10476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>
                    <a:off x="2197080" y="6068880"/>
                    <a:ext cx="176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0">
                        <a:moveTo>
                          <a:pt x="0" y="24"/>
                        </a:moveTo>
                        <a:lnTo>
                          <a:pt x="29" y="0"/>
                        </a:lnTo>
                        <a:lnTo>
                          <a:pt x="110" y="13"/>
                        </a:lnTo>
                        <a:lnTo>
                          <a:pt x="78" y="39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2197080" y="6114960"/>
                    <a:ext cx="1224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7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1" y="20"/>
                        </a:lnTo>
                        <a:lnTo>
                          <a:pt x="76" y="36"/>
                        </a:lnTo>
                        <a:lnTo>
                          <a:pt x="76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2330280" y="6094440"/>
                    <a:ext cx="1573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27"/>
                        </a:moveTo>
                        <a:lnTo>
                          <a:pt x="31" y="0"/>
                        </a:lnTo>
                        <a:lnTo>
                          <a:pt x="98" y="7"/>
                        </a:lnTo>
                        <a:lnTo>
                          <a:pt x="98" y="28"/>
                        </a:lnTo>
                        <a:lnTo>
                          <a:pt x="0" y="49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2246400" y="6068880"/>
                    <a:ext cx="2412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7">
                        <a:moveTo>
                          <a:pt x="0" y="0"/>
                        </a:moveTo>
                        <a:lnTo>
                          <a:pt x="76" y="4"/>
                        </a:lnTo>
                        <a:lnTo>
                          <a:pt x="151" y="16"/>
                        </a:lnTo>
                        <a:lnTo>
                          <a:pt x="83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2220840" y="6086520"/>
                  <a:ext cx="257400" cy="84240"/>
                  <a:chOff x="2220840" y="6086520"/>
                  <a:chExt cx="257400" cy="8424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2220840" y="6138720"/>
                    <a:ext cx="90720" cy="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>
                    <a:off x="2352600" y="6086520"/>
                    <a:ext cx="14400" cy="842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2409840" y="6107040"/>
                    <a:ext cx="68400" cy="64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59" name=""/>
            <p:cNvSpPr/>
            <p:nvPr/>
          </p:nvSpPr>
          <p:spPr>
            <a:xfrm>
              <a:off x="2119320" y="5800680"/>
              <a:ext cx="247680" cy="23328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73"/>
                  </a:moveTo>
                  <a:lnTo>
                    <a:pt x="155" y="0"/>
                  </a:lnTo>
                  <a:lnTo>
                    <a:pt x="155" y="59"/>
                  </a:lnTo>
                  <a:lnTo>
                    <a:pt x="0" y="146"/>
                  </a:lnTo>
                  <a:lnTo>
                    <a:pt x="0" y="7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16080" y="5572080"/>
              <a:ext cx="257400" cy="349200"/>
            </a:xfrm>
            <a:custGeom>
              <a:avLst/>
              <a:gdLst/>
              <a:ahLst/>
              <a:rect l="l" t="t" r="r" b="b"/>
              <a:pathLst>
                <a:path w="162" h="220">
                  <a:moveTo>
                    <a:pt x="0" y="46"/>
                  </a:moveTo>
                  <a:lnTo>
                    <a:pt x="161" y="0"/>
                  </a:lnTo>
                  <a:lnTo>
                    <a:pt x="161" y="145"/>
                  </a:lnTo>
                  <a:lnTo>
                    <a:pt x="0" y="219"/>
                  </a:lnTo>
                  <a:lnTo>
                    <a:pt x="0" y="46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89240" y="4929120"/>
              <a:ext cx="652320" cy="539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17" y="0"/>
                  </a:moveTo>
                  <a:lnTo>
                    <a:pt x="410" y="0"/>
                  </a:lnTo>
                  <a:lnTo>
                    <a:pt x="394" y="339"/>
                  </a:lnTo>
                  <a:lnTo>
                    <a:pt x="0" y="319"/>
                  </a:lnTo>
                  <a:lnTo>
                    <a:pt x="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957240" y="5853240"/>
              <a:ext cx="1224000" cy="241200"/>
            </a:xfrm>
            <a:custGeom>
              <a:avLst/>
              <a:gdLst/>
              <a:ahLst/>
              <a:rect l="l" t="t" r="r" b="b"/>
              <a:pathLst>
                <a:path w="771" h="152">
                  <a:moveTo>
                    <a:pt x="125" y="0"/>
                  </a:moveTo>
                  <a:lnTo>
                    <a:pt x="770" y="62"/>
                  </a:lnTo>
                  <a:lnTo>
                    <a:pt x="724" y="117"/>
                  </a:lnTo>
                  <a:lnTo>
                    <a:pt x="680" y="151"/>
                  </a:lnTo>
                  <a:lnTo>
                    <a:pt x="0" y="75"/>
                  </a:lnTo>
                  <a:lnTo>
                    <a:pt x="50" y="54"/>
                  </a:lnTo>
                  <a:lnTo>
                    <a:pt x="125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2136600" y="5578560"/>
              <a:ext cx="223920" cy="326880"/>
              <a:chOff x="2136600" y="5578560"/>
              <a:chExt cx="223920" cy="326880"/>
            </a:xfrm>
          </p:grpSpPr>
          <p:sp>
            <p:nvSpPr>
              <p:cNvPr id="1364" name=""/>
              <p:cNvSpPr/>
              <p:nvPr/>
            </p:nvSpPr>
            <p:spPr>
              <a:xfrm flipV="1">
                <a:off x="2136600" y="5665680"/>
                <a:ext cx="223920" cy="131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2182680" y="5694480"/>
                <a:ext cx="176400" cy="118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82680" y="5719320"/>
                <a:ext cx="176400" cy="125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182680" y="5746320"/>
                <a:ext cx="177840" cy="127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182680" y="5772240"/>
                <a:ext cx="177840" cy="133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2182680" y="5638320"/>
                <a:ext cx="177840" cy="109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2182680" y="5609880"/>
                <a:ext cx="17784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2182680" y="5578560"/>
                <a:ext cx="176400" cy="100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162160" y="5661000"/>
                <a:ext cx="0" cy="230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1298520" y="4803840"/>
              <a:ext cx="862200" cy="798480"/>
              <a:chOff x="1298520" y="4803840"/>
              <a:chExt cx="862200" cy="798480"/>
            </a:xfrm>
          </p:grpSpPr>
          <p:grpSp>
            <p:nvGrpSpPr>
              <p:cNvPr id="1374" name=""/>
              <p:cNvGrpSpPr/>
              <p:nvPr/>
            </p:nvGrpSpPr>
            <p:grpSpPr>
              <a:xfrm>
                <a:off x="1298520" y="4803840"/>
                <a:ext cx="862200" cy="798480"/>
                <a:chOff x="1298520" y="4803840"/>
                <a:chExt cx="862200" cy="798480"/>
              </a:xfrm>
            </p:grpSpPr>
            <p:grpSp>
              <p:nvGrpSpPr>
                <p:cNvPr id="1375" name=""/>
                <p:cNvGrpSpPr/>
                <p:nvPr/>
              </p:nvGrpSpPr>
              <p:grpSpPr>
                <a:xfrm>
                  <a:off x="1298520" y="4803840"/>
                  <a:ext cx="862200" cy="798480"/>
                  <a:chOff x="1298520" y="4803840"/>
                  <a:chExt cx="862200" cy="7984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1298520" y="4803840"/>
                    <a:ext cx="862200" cy="79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503">
                        <a:moveTo>
                          <a:pt x="43" y="8"/>
                        </a:moveTo>
                        <a:lnTo>
                          <a:pt x="90" y="6"/>
                        </a:lnTo>
                        <a:lnTo>
                          <a:pt x="153" y="1"/>
                        </a:lnTo>
                        <a:lnTo>
                          <a:pt x="219" y="0"/>
                        </a:lnTo>
                        <a:lnTo>
                          <a:pt x="296" y="0"/>
                        </a:lnTo>
                        <a:lnTo>
                          <a:pt x="350" y="1"/>
                        </a:lnTo>
                        <a:lnTo>
                          <a:pt x="433" y="4"/>
                        </a:lnTo>
                        <a:lnTo>
                          <a:pt x="512" y="8"/>
                        </a:lnTo>
                        <a:lnTo>
                          <a:pt x="532" y="9"/>
                        </a:lnTo>
                        <a:lnTo>
                          <a:pt x="536" y="10"/>
                        </a:lnTo>
                        <a:lnTo>
                          <a:pt x="539" y="13"/>
                        </a:lnTo>
                        <a:lnTo>
                          <a:pt x="542" y="16"/>
                        </a:lnTo>
                        <a:lnTo>
                          <a:pt x="542" y="21"/>
                        </a:lnTo>
                        <a:lnTo>
                          <a:pt x="521" y="492"/>
                        </a:lnTo>
                        <a:lnTo>
                          <a:pt x="519" y="499"/>
                        </a:lnTo>
                        <a:lnTo>
                          <a:pt x="512" y="502"/>
                        </a:lnTo>
                        <a:lnTo>
                          <a:pt x="338" y="490"/>
                        </a:lnTo>
                        <a:lnTo>
                          <a:pt x="166" y="477"/>
                        </a:lnTo>
                        <a:lnTo>
                          <a:pt x="8" y="466"/>
                        </a:lnTo>
                        <a:lnTo>
                          <a:pt x="0" y="454"/>
                        </a:lnTo>
                        <a:lnTo>
                          <a:pt x="25" y="24"/>
                        </a:lnTo>
                        <a:lnTo>
                          <a:pt x="43" y="8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127600" y="4822920"/>
                    <a:ext cx="31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725" y="54"/>
                        </a:moveTo>
                        <a:arcTo wR="10800" hR="10800" stAng="-5742635" swAng="520147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725" y="54"/>
                        </a:moveTo>
                        <a:arcTo wR="10800" hR="10800" stAng="-5742635" swAng="520147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1341360" y="4821120"/>
                    <a:ext cx="763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542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542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1303200" y="5508000"/>
                    <a:ext cx="255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36" y="21213"/>
                        </a:moveTo>
                        <a:arcTo wR="10800" hR="10800" stAng="6322575" swAng="44774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36" y="21213"/>
                        </a:moveTo>
                        <a:arcTo wR="10800" hR="10800" stAng="6322575" swAng="4477425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0" name=""/>
                <p:cNvGrpSpPr/>
                <p:nvPr/>
              </p:nvGrpSpPr>
              <p:grpSpPr>
                <a:xfrm>
                  <a:off x="1390680" y="4927680"/>
                  <a:ext cx="652320" cy="539640"/>
                  <a:chOff x="1390680" y="4927680"/>
                  <a:chExt cx="652320" cy="539640"/>
                </a:xfrm>
              </p:grpSpPr>
              <p:grpSp>
                <p:nvGrpSpPr>
                  <p:cNvPr id="1381" name=""/>
                  <p:cNvGrpSpPr/>
                  <p:nvPr/>
                </p:nvGrpSpPr>
                <p:grpSpPr>
                  <a:xfrm>
                    <a:off x="1390680" y="4927680"/>
                    <a:ext cx="652320" cy="539640"/>
                    <a:chOff x="1390680" y="4927680"/>
                    <a:chExt cx="652320" cy="539640"/>
                  </a:xfrm>
                </p:grpSpPr>
                <p:sp>
                  <p:nvSpPr>
                    <p:cNvPr id="1382" name=""/>
                    <p:cNvSpPr/>
                    <p:nvPr/>
                  </p:nvSpPr>
                  <p:spPr>
                    <a:xfrm>
                      <a:off x="1415880" y="4927680"/>
                      <a:ext cx="6256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4" h="1">
                          <a:moveTo>
                            <a:pt x="0" y="0"/>
                          </a:moveTo>
                          <a:lnTo>
                            <a:pt x="393" y="0"/>
                          </a:lnTo>
                          <a:lnTo>
                            <a:pt x="384" y="0"/>
                          </a:lnTo>
                          <a:lnTo>
                            <a:pt x="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2013120" y="4927680"/>
                      <a:ext cx="29880" cy="53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40">
                          <a:moveTo>
                            <a:pt x="11" y="7"/>
                          </a:moveTo>
                          <a:lnTo>
                            <a:pt x="18" y="0"/>
                          </a:lnTo>
                          <a:lnTo>
                            <a:pt x="12" y="185"/>
                          </a:lnTo>
                          <a:lnTo>
                            <a:pt x="6" y="339"/>
                          </a:lnTo>
                          <a:lnTo>
                            <a:pt x="0" y="329"/>
                          </a:lnTo>
                          <a:lnTo>
                            <a:pt x="11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1390680" y="5433840"/>
                      <a:ext cx="6253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4" h="21">
                          <a:moveTo>
                            <a:pt x="9" y="0"/>
                          </a:moveTo>
                          <a:lnTo>
                            <a:pt x="0" y="6"/>
                          </a:lnTo>
                          <a:lnTo>
                            <a:pt x="393" y="20"/>
                          </a:lnTo>
                          <a:lnTo>
                            <a:pt x="38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>
                      <a:off x="1390680" y="4929120"/>
                      <a:ext cx="28440" cy="50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20">
                          <a:moveTo>
                            <a:pt x="11" y="0"/>
                          </a:moveTo>
                          <a:lnTo>
                            <a:pt x="17" y="7"/>
                          </a:lnTo>
                          <a:lnTo>
                            <a:pt x="6" y="310"/>
                          </a:lnTo>
                          <a:lnTo>
                            <a:pt x="0" y="319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6" name=""/>
                  <p:cNvGrpSpPr/>
                  <p:nvPr/>
                </p:nvGrpSpPr>
                <p:grpSpPr>
                  <a:xfrm>
                    <a:off x="1405080" y="4940280"/>
                    <a:ext cx="622080" cy="512640"/>
                    <a:chOff x="1405080" y="4940280"/>
                    <a:chExt cx="622080" cy="512640"/>
                  </a:xfrm>
                </p:grpSpPr>
                <p:sp>
                  <p:nvSpPr>
                    <p:cNvPr id="1387" name=""/>
                    <p:cNvSpPr/>
                    <p:nvPr/>
                  </p:nvSpPr>
                  <p:spPr>
                    <a:xfrm>
                      <a:off x="1405080" y="4940280"/>
                      <a:ext cx="622080" cy="51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2" h="323">
                          <a:moveTo>
                            <a:pt x="16" y="0"/>
                          </a:moveTo>
                          <a:lnTo>
                            <a:pt x="391" y="0"/>
                          </a:lnTo>
                          <a:lnTo>
                            <a:pt x="375" y="322"/>
                          </a:lnTo>
                          <a:lnTo>
                            <a:pt x="0" y="303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"/>
                    <p:cNvSpPr/>
                    <p:nvPr/>
                  </p:nvSpPr>
                  <p:spPr>
                    <a:xfrm>
                      <a:off x="1425600" y="4960800"/>
                      <a:ext cx="58104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298">
                          <a:moveTo>
                            <a:pt x="14" y="0"/>
                          </a:moveTo>
                          <a:lnTo>
                            <a:pt x="365" y="0"/>
                          </a:lnTo>
                          <a:lnTo>
                            <a:pt x="349" y="297"/>
                          </a:lnTo>
                          <a:lnTo>
                            <a:pt x="0" y="281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9" name=""/>
                    <p:cNvSpPr/>
                    <p:nvPr/>
                  </p:nvSpPr>
                  <p:spPr>
                    <a:xfrm>
                      <a:off x="1434960" y="4989600"/>
                      <a:ext cx="54792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68">
                          <a:moveTo>
                            <a:pt x="13" y="0"/>
                          </a:moveTo>
                          <a:lnTo>
                            <a:pt x="344" y="0"/>
                          </a:lnTo>
                          <a:lnTo>
                            <a:pt x="329" y="267"/>
                          </a:lnTo>
                          <a:lnTo>
                            <a:pt x="0" y="25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90" name=""/>
              <p:cNvSpPr/>
              <p:nvPr/>
            </p:nvSpPr>
            <p:spPr>
              <a:xfrm>
                <a:off x="1998720" y="554688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957240" y="5851440"/>
              <a:ext cx="1224000" cy="285840"/>
              <a:chOff x="957240" y="5851440"/>
              <a:chExt cx="1224000" cy="285840"/>
            </a:xfrm>
          </p:grpSpPr>
          <p:sp>
            <p:nvSpPr>
              <p:cNvPr id="1392" name=""/>
              <p:cNvSpPr/>
              <p:nvPr/>
            </p:nvSpPr>
            <p:spPr>
              <a:xfrm>
                <a:off x="1808280" y="5952960"/>
                <a:ext cx="285480" cy="111240"/>
              </a:xfrm>
              <a:custGeom>
                <a:avLst/>
                <a:gdLst/>
                <a:ahLst/>
                <a:rect l="l" t="t" r="r" b="b"/>
                <a:pathLst>
                  <a:path w="180" h="70">
                    <a:moveTo>
                      <a:pt x="69" y="0"/>
                    </a:moveTo>
                    <a:lnTo>
                      <a:pt x="28" y="40"/>
                    </a:lnTo>
                    <a:lnTo>
                      <a:pt x="0" y="57"/>
                    </a:lnTo>
                    <a:lnTo>
                      <a:pt x="118" y="69"/>
                    </a:lnTo>
                    <a:lnTo>
                      <a:pt x="145" y="47"/>
                    </a:lnTo>
                    <a:lnTo>
                      <a:pt x="179" y="9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957240" y="5851440"/>
                <a:ext cx="1224000" cy="285840"/>
                <a:chOff x="957240" y="5851440"/>
                <a:chExt cx="1224000" cy="28584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957240" y="5978520"/>
                  <a:ext cx="1081080" cy="158760"/>
                </a:xfrm>
                <a:custGeom>
                  <a:avLst/>
                  <a:gdLst/>
                  <a:ahLst/>
                  <a:rect l="l" t="t" r="r" b="b"/>
                  <a:pathLst>
                    <a:path w="681" h="100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80" y="99"/>
                      </a:lnTo>
                      <a:lnTo>
                        <a:pt x="679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048040" y="5956200"/>
                  <a:ext cx="133200" cy="181080"/>
                </a:xfrm>
                <a:custGeom>
                  <a:avLst/>
                  <a:gdLst/>
                  <a:ahLst/>
                  <a:rect l="l" t="t" r="r" b="b"/>
                  <a:pathLst>
                    <a:path w="84" h="114">
                      <a:moveTo>
                        <a:pt x="0" y="88"/>
                      </a:moveTo>
                      <a:lnTo>
                        <a:pt x="0" y="113"/>
                      </a:lnTo>
                      <a:lnTo>
                        <a:pt x="36" y="87"/>
                      </a:lnTo>
                      <a:lnTo>
                        <a:pt x="51" y="72"/>
                      </a:lnTo>
                      <a:lnTo>
                        <a:pt x="83" y="32"/>
                      </a:lnTo>
                      <a:lnTo>
                        <a:pt x="83" y="0"/>
                      </a:lnTo>
                      <a:lnTo>
                        <a:pt x="41" y="53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981000" y="6014880"/>
                  <a:ext cx="1050840" cy="8100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"/>
                <p:cNvGrpSpPr/>
                <p:nvPr/>
              </p:nvGrpSpPr>
              <p:grpSpPr>
                <a:xfrm>
                  <a:off x="1028880" y="5851440"/>
                  <a:ext cx="1031760" cy="242640"/>
                  <a:chOff x="1028880" y="5851440"/>
                  <a:chExt cx="1031760" cy="24264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1028880" y="5877000"/>
                    <a:ext cx="79668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99">
                        <a:moveTo>
                          <a:pt x="87" y="0"/>
                        </a:moveTo>
                        <a:lnTo>
                          <a:pt x="27" y="43"/>
                        </a:lnTo>
                        <a:lnTo>
                          <a:pt x="0" y="56"/>
                        </a:lnTo>
                        <a:lnTo>
                          <a:pt x="425" y="98"/>
                        </a:lnTo>
                        <a:lnTo>
                          <a:pt x="456" y="79"/>
                        </a:lnTo>
                        <a:lnTo>
                          <a:pt x="501" y="40"/>
                        </a:lnTo>
                        <a:lnTo>
                          <a:pt x="8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1071720" y="5851440"/>
                    <a:ext cx="988920" cy="242640"/>
                    <a:chOff x="1071720" y="5851440"/>
                    <a:chExt cx="988920" cy="242640"/>
                  </a:xfrm>
                </p:grpSpPr>
                <p:grpSp>
                  <p:nvGrpSpPr>
                    <p:cNvPr id="1400" name=""/>
                    <p:cNvGrpSpPr/>
                    <p:nvPr/>
                  </p:nvGrpSpPr>
                  <p:grpSpPr>
                    <a:xfrm>
                      <a:off x="1085760" y="5851440"/>
                      <a:ext cx="712800" cy="206640"/>
                      <a:chOff x="1085760" y="5851440"/>
                      <a:chExt cx="712800" cy="206640"/>
                    </a:xfrm>
                  </p:grpSpPr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1085760" y="5851440"/>
                        <a:ext cx="117720" cy="149400"/>
                        <a:chOff x="1085760" y="5851440"/>
                        <a:chExt cx="117720" cy="149400"/>
                      </a:xfrm>
                    </p:grpSpPr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 flipV="1">
                          <a:off x="1085760" y="593892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/>
                        <p:nvPr/>
                      </p:nvSpPr>
                      <p:spPr>
                        <a:xfrm flipV="1">
                          <a:off x="1138320" y="5851440"/>
                          <a:ext cx="6516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4" name=""/>
                      <p:cNvGrpSpPr/>
                      <p:nvPr/>
                    </p:nvGrpSpPr>
                    <p:grpSpPr>
                      <a:xfrm>
                        <a:off x="1147680" y="5857560"/>
                        <a:ext cx="117720" cy="149400"/>
                        <a:chOff x="1147680" y="5857560"/>
                        <a:chExt cx="117720" cy="149400"/>
                      </a:xfrm>
                    </p:grpSpPr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 flipV="1">
                          <a:off x="1147680" y="594504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6" name=""/>
                        <p:cNvSpPr/>
                        <p:nvPr/>
                      </p:nvSpPr>
                      <p:spPr>
                        <a:xfrm flipV="1">
                          <a:off x="1198440" y="5857560"/>
                          <a:ext cx="669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7" name=""/>
                      <p:cNvGrpSpPr/>
                      <p:nvPr/>
                    </p:nvGrpSpPr>
                    <p:grpSpPr>
                      <a:xfrm>
                        <a:off x="1211400" y="5861160"/>
                        <a:ext cx="115920" cy="148680"/>
                        <a:chOff x="1211400" y="5861160"/>
                        <a:chExt cx="115920" cy="148680"/>
                      </a:xfrm>
                    </p:grpSpPr>
                    <p:sp>
                      <p:nvSpPr>
                        <p:cNvPr id="1408" name=""/>
                        <p:cNvSpPr/>
                        <p:nvPr/>
                      </p:nvSpPr>
                      <p:spPr>
                        <a:xfrm flipV="1">
                          <a:off x="1211400" y="5949720"/>
                          <a:ext cx="9360" cy="60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 flipV="1">
                          <a:off x="1262160" y="5861160"/>
                          <a:ext cx="6516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0" name=""/>
                      <p:cNvGrpSpPr/>
                      <p:nvPr/>
                    </p:nvGrpSpPr>
                    <p:grpSpPr>
                      <a:xfrm>
                        <a:off x="1268280" y="5869080"/>
                        <a:ext cx="117720" cy="150840"/>
                        <a:chOff x="1268280" y="5869080"/>
                        <a:chExt cx="117720" cy="150840"/>
                      </a:xfrm>
                    </p:grpSpPr>
                    <p:sp>
                      <p:nvSpPr>
                        <p:cNvPr id="1411" name=""/>
                        <p:cNvSpPr/>
                        <p:nvPr/>
                      </p:nvSpPr>
                      <p:spPr>
                        <a:xfrm flipV="1">
                          <a:off x="1268280" y="595800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 flipV="1">
                          <a:off x="1320840" y="5869080"/>
                          <a:ext cx="6516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3" name=""/>
                      <p:cNvGrpSpPr/>
                      <p:nvPr/>
                    </p:nvGrpSpPr>
                    <p:grpSpPr>
                      <a:xfrm>
                        <a:off x="1332000" y="5873760"/>
                        <a:ext cx="115920" cy="148680"/>
                        <a:chOff x="1332000" y="5873760"/>
                        <a:chExt cx="115920" cy="148680"/>
                      </a:xfrm>
                    </p:grpSpPr>
                    <p:sp>
                      <p:nvSpPr>
                        <p:cNvPr id="1414" name=""/>
                        <p:cNvSpPr/>
                        <p:nvPr/>
                      </p:nvSpPr>
                      <p:spPr>
                        <a:xfrm flipV="1">
                          <a:off x="1332000" y="5960880"/>
                          <a:ext cx="11160" cy="61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5" name=""/>
                        <p:cNvSpPr/>
                        <p:nvPr/>
                      </p:nvSpPr>
                      <p:spPr>
                        <a:xfrm flipV="1">
                          <a:off x="1384200" y="5873760"/>
                          <a:ext cx="6372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6" name=""/>
                      <p:cNvGrpSpPr/>
                      <p:nvPr/>
                    </p:nvGrpSpPr>
                    <p:grpSpPr>
                      <a:xfrm>
                        <a:off x="1392120" y="5878440"/>
                        <a:ext cx="115920" cy="149400"/>
                        <a:chOff x="1392120" y="5878440"/>
                        <a:chExt cx="115920" cy="149400"/>
                      </a:xfrm>
                    </p:grpSpPr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 flipV="1">
                          <a:off x="1392120" y="596592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8" name=""/>
                        <p:cNvSpPr/>
                        <p:nvPr/>
                      </p:nvSpPr>
                      <p:spPr>
                        <a:xfrm flipV="1">
                          <a:off x="1442880" y="5878440"/>
                          <a:ext cx="6516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9" name=""/>
                      <p:cNvGrpSpPr/>
                      <p:nvPr/>
                    </p:nvGrpSpPr>
                    <p:grpSpPr>
                      <a:xfrm>
                        <a:off x="1450800" y="5883120"/>
                        <a:ext cx="115920" cy="150840"/>
                        <a:chOff x="1450800" y="5883120"/>
                        <a:chExt cx="115920" cy="150840"/>
                      </a:xfrm>
                    </p:grpSpPr>
                    <p:sp>
                      <p:nvSpPr>
                        <p:cNvPr id="1420" name=""/>
                        <p:cNvSpPr/>
                        <p:nvPr/>
                      </p:nvSpPr>
                      <p:spPr>
                        <a:xfrm flipV="1">
                          <a:off x="1450800" y="597204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1" name=""/>
                        <p:cNvSpPr/>
                        <p:nvPr/>
                      </p:nvSpPr>
                      <p:spPr>
                        <a:xfrm flipV="1">
                          <a:off x="1501920" y="5883120"/>
                          <a:ext cx="6480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2" name=""/>
                      <p:cNvGrpSpPr/>
                      <p:nvPr/>
                    </p:nvGrpSpPr>
                    <p:grpSpPr>
                      <a:xfrm>
                        <a:off x="1506600" y="5892480"/>
                        <a:ext cx="115920" cy="149400"/>
                        <a:chOff x="1506600" y="5892480"/>
                        <a:chExt cx="115920" cy="149400"/>
                      </a:xfrm>
                    </p:grpSpPr>
                    <p:sp>
                      <p:nvSpPr>
                        <p:cNvPr id="1423" name=""/>
                        <p:cNvSpPr/>
                        <p:nvPr/>
                      </p:nvSpPr>
                      <p:spPr>
                        <a:xfrm flipV="1">
                          <a:off x="1506600" y="5979960"/>
                          <a:ext cx="93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4" name=""/>
                        <p:cNvSpPr/>
                        <p:nvPr/>
                      </p:nvSpPr>
                      <p:spPr>
                        <a:xfrm flipV="1">
                          <a:off x="1557360" y="5892480"/>
                          <a:ext cx="651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5" name=""/>
                      <p:cNvGrpSpPr/>
                      <p:nvPr/>
                    </p:nvGrpSpPr>
                    <p:grpSpPr>
                      <a:xfrm>
                        <a:off x="1565280" y="5900400"/>
                        <a:ext cx="115920" cy="149400"/>
                        <a:chOff x="1565280" y="5900400"/>
                        <a:chExt cx="115920" cy="149400"/>
                      </a:xfrm>
                    </p:grpSpPr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 flipV="1">
                          <a:off x="1565280" y="5987880"/>
                          <a:ext cx="93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7" name=""/>
                        <p:cNvSpPr/>
                        <p:nvPr/>
                      </p:nvSpPr>
                      <p:spPr>
                        <a:xfrm flipV="1">
                          <a:off x="1616040" y="5900400"/>
                          <a:ext cx="65160" cy="122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8" name=""/>
                      <p:cNvGrpSpPr/>
                      <p:nvPr/>
                    </p:nvGrpSpPr>
                    <p:grpSpPr>
                      <a:xfrm>
                        <a:off x="1623960" y="5904000"/>
                        <a:ext cx="117360" cy="150840"/>
                        <a:chOff x="1623960" y="5904000"/>
                        <a:chExt cx="117360" cy="150840"/>
                      </a:xfrm>
                    </p:grpSpPr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 flipV="1">
                          <a:off x="1623960" y="5992920"/>
                          <a:ext cx="1116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0" name=""/>
                        <p:cNvSpPr/>
                        <p:nvPr/>
                      </p:nvSpPr>
                      <p:spPr>
                        <a:xfrm flipV="1">
                          <a:off x="1676520" y="5904000"/>
                          <a:ext cx="6480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31" name=""/>
                      <p:cNvGrpSpPr/>
                      <p:nvPr/>
                    </p:nvGrpSpPr>
                    <p:grpSpPr>
                      <a:xfrm>
                        <a:off x="1682640" y="5908680"/>
                        <a:ext cx="115920" cy="149400"/>
                        <a:chOff x="1682640" y="5908680"/>
                        <a:chExt cx="115920" cy="149400"/>
                      </a:xfrm>
                    </p:grpSpPr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 flipV="1">
                          <a:off x="1682640" y="5996160"/>
                          <a:ext cx="9720" cy="6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 flipV="1">
                          <a:off x="1733400" y="5908680"/>
                          <a:ext cx="65160" cy="122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4" name=""/>
                    <p:cNvGrpSpPr/>
                    <p:nvPr/>
                  </p:nvGrpSpPr>
                  <p:grpSpPr>
                    <a:xfrm>
                      <a:off x="1865160" y="5927760"/>
                      <a:ext cx="185760" cy="166320"/>
                      <a:chOff x="1865160" y="5927760"/>
                      <a:chExt cx="185760" cy="166320"/>
                    </a:xfrm>
                  </p:grpSpPr>
                  <p:grpSp>
                    <p:nvGrpSpPr>
                      <p:cNvPr id="1435" name=""/>
                      <p:cNvGrpSpPr/>
                      <p:nvPr/>
                    </p:nvGrpSpPr>
                    <p:grpSpPr>
                      <a:xfrm>
                        <a:off x="1960560" y="5935320"/>
                        <a:ext cx="90360" cy="158760"/>
                        <a:chOff x="1960560" y="5935320"/>
                        <a:chExt cx="90360" cy="158760"/>
                      </a:xfrm>
                    </p:grpSpPr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 flipV="1">
                          <a:off x="1960560" y="6027480"/>
                          <a:ext cx="3240" cy="66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800" bIns="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7" name=""/>
                        <p:cNvSpPr/>
                        <p:nvPr/>
                      </p:nvSpPr>
                      <p:spPr>
                        <a:xfrm flipV="1">
                          <a:off x="2004840" y="5935320"/>
                          <a:ext cx="46080" cy="127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38" name=""/>
                      <p:cNvGrpSpPr/>
                      <p:nvPr/>
                    </p:nvGrpSpPr>
                    <p:grpSpPr>
                      <a:xfrm>
                        <a:off x="1913040" y="5929200"/>
                        <a:ext cx="93600" cy="162000"/>
                        <a:chOff x="1913040" y="5929200"/>
                        <a:chExt cx="93600" cy="162000"/>
                      </a:xfrm>
                    </p:grpSpPr>
                    <p:sp>
                      <p:nvSpPr>
                        <p:cNvPr id="1439" name=""/>
                        <p:cNvSpPr/>
                        <p:nvPr/>
                      </p:nvSpPr>
                      <p:spPr>
                        <a:xfrm flipV="1">
                          <a:off x="1913040" y="6022800"/>
                          <a:ext cx="3240" cy="68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 flipV="1">
                          <a:off x="1957320" y="5929200"/>
                          <a:ext cx="49320" cy="128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41" name=""/>
                      <p:cNvGrpSpPr/>
                      <p:nvPr/>
                    </p:nvGrpSpPr>
                    <p:grpSpPr>
                      <a:xfrm>
                        <a:off x="1865160" y="5927760"/>
                        <a:ext cx="90720" cy="156600"/>
                        <a:chOff x="1865160" y="5927760"/>
                        <a:chExt cx="90720" cy="156600"/>
                      </a:xfrm>
                    </p:grpSpPr>
                    <p:sp>
                      <p:nvSpPr>
                        <p:cNvPr id="1442" name=""/>
                        <p:cNvSpPr/>
                        <p:nvPr/>
                      </p:nvSpPr>
                      <p:spPr>
                        <a:xfrm flipV="1">
                          <a:off x="1865160" y="6016320"/>
                          <a:ext cx="5040" cy="6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 flipV="1">
                          <a:off x="1911240" y="5927760"/>
                          <a:ext cx="44640" cy="123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1143000" y="5925960"/>
                      <a:ext cx="917640" cy="511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1108080" y="5950080"/>
                      <a:ext cx="936720" cy="540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>
                      <a:off x="1071720" y="5975280"/>
                      <a:ext cx="946080" cy="604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2070000" y="5954760"/>
                  <a:ext cx="100080" cy="178920"/>
                  <a:chOff x="2070000" y="5954760"/>
                  <a:chExt cx="100080" cy="17892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 flipV="1">
                    <a:off x="2070000" y="6036840"/>
                    <a:ext cx="33480" cy="9684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>
                    <a:off x="2144880" y="5954760"/>
                    <a:ext cx="25200" cy="1173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450" name=""/>
          <p:cNvGraphicFramePr/>
          <p:nvPr/>
        </p:nvGraphicFramePr>
        <p:xfrm>
          <a:off x="6934320" y="4780080"/>
          <a:ext cx="152388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780080"/>
                    <a:ext cx="1523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 flipV="1">
            <a:off x="1392120" y="2421000"/>
            <a:ext cx="339840" cy="247320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2193480" y="3679920"/>
            <a:ext cx="568440" cy="11779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765520" y="3679920"/>
            <a:ext cx="339480" cy="14824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3906720" y="3792240"/>
            <a:ext cx="568440" cy="140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18000" y="3832200"/>
            <a:ext cx="720720" cy="12542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116760" y="3715920"/>
            <a:ext cx="415800" cy="140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99080" y="3832200"/>
            <a:ext cx="644760" cy="11779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566120" y="2460600"/>
            <a:ext cx="568080" cy="23972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74360" y="3857760"/>
            <a:ext cx="430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JAVA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7360" y="6310440"/>
            <a:ext cx="173124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31920" y="6310440"/>
            <a:ext cx="147060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into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166000" y="6310440"/>
            <a:ext cx="103032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43600" y="6310440"/>
            <a:ext cx="1832040" cy="45468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100040" y="2111400"/>
            <a:ext cx="131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transl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641040" y="3406680"/>
            <a:ext cx="24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(same for all platfor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197080" y="4282920"/>
            <a:ext cx="480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(one for each different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1394280" y="2851200"/>
            <a:ext cx="62409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Ja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rite Once, Run Anyw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chitecture Neutral &amp; Port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Compiler -Java source code to </a:t>
            </a: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bytec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Bytecode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an intermediate  form, closer to machine represent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virtual machine on any target platform interprets the bytec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rting the java system to any new platform involves writing an interpreter that supports the Java Virtual Machin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 interpreter will  figure out what the equivalent machine dependent code to ru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High Performa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VM uses “lean and mean” bytec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mall binary class filt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ust-in-time Compil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thre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ative Metho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241920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in the World of Distributed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Load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ightweight Binary Class Fi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thre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ynamic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ood communication construc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as Sec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nguage designed as saf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ct compi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ynamic Runtime Loading (Verifier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time Security Manag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Internet Technology Evolution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88000"/>
          </a:bodyPr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Internet is much bigger than what we think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More than 25 years old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More than doubling every year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Technology effect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  <a:p>
            <a:pPr lvl="1" marL="673200" indent="-258120">
              <a:lnSpc>
                <a:spcPct val="90000"/>
              </a:lnSpc>
              <a:spcBef>
                <a:spcPts val="1089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Century Gothic"/>
              </a:rPr>
              <a:t>suddenly every body sees the need for a technolog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58120">
              <a:lnSpc>
                <a:spcPct val="90000"/>
              </a:lnSpc>
              <a:spcBef>
                <a:spcPts val="1089"/>
              </a:spcBef>
              <a:buClr>
                <a:srgbClr val="fc0128"/>
              </a:buClr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Century Gothic"/>
              </a:rPr>
              <a:t>like the radio or the TV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123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10 terabytes flows everyday</a:t>
            </a:r>
            <a:endParaRPr b="1" lang="en-US" sz="3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476440" y="-3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bject Oriented Languages         -a Comparis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539640" y="1682640"/>
            <a:ext cx="7836120" cy="4864320"/>
            <a:chOff x="539640" y="1682640"/>
            <a:chExt cx="7836120" cy="4864320"/>
          </a:xfrm>
        </p:grpSpPr>
        <p:sp>
          <p:nvSpPr>
            <p:cNvPr id="1479" name=""/>
            <p:cNvSpPr/>
            <p:nvPr/>
          </p:nvSpPr>
          <p:spPr>
            <a:xfrm>
              <a:off x="7169040" y="1682640"/>
              <a:ext cx="1206720" cy="486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73760" y="1682640"/>
              <a:ext cx="1282680" cy="48643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78280" y="1682640"/>
              <a:ext cx="1282680" cy="486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73560" y="1682640"/>
              <a:ext cx="1587600" cy="486432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39640" y="1682640"/>
              <a:ext cx="2425680" cy="4864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7560" y="2362320"/>
              <a:ext cx="782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15080" y="1860480"/>
              <a:ext cx="11109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Featu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368880" y="1860480"/>
              <a:ext cx="699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+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71920" y="1708200"/>
              <a:ext cx="1327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Objectiv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71880" y="1960560"/>
              <a:ext cx="3826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148440" y="1860480"/>
              <a:ext cx="6782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d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82520" y="1860480"/>
              <a:ext cx="742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5200" y="2468520"/>
              <a:ext cx="173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Encaps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1624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1312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0724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405560" y="25192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65920" y="2868480"/>
              <a:ext cx="1440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Inheri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16240" y="29192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713120" y="29192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06880" y="291924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05560" y="29192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64120" y="3268800"/>
              <a:ext cx="2005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Multiple Inherit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216240" y="33195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713120" y="33195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06880" y="33195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05560" y="33195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4840" y="3668760"/>
              <a:ext cx="1780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Polymorphi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1624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1312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0724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05560" y="37195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63760" y="4068720"/>
              <a:ext cx="245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Binding (Early/Lat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16240" y="411948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Both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713120" y="411948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Both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906520" y="4119480"/>
              <a:ext cx="8488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Earl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05560" y="4119480"/>
              <a:ext cx="7239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La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6280" y="4468680"/>
              <a:ext cx="161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oncurr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16240" y="451944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713120" y="4519440"/>
              <a:ext cx="7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908320" y="4519440"/>
              <a:ext cx="11736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Difficul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05560" y="451944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3040" y="4869000"/>
              <a:ext cx="229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Garbage Coll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216240" y="49197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13120" y="49197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06880" y="491976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405560" y="491976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65920" y="5268960"/>
              <a:ext cx="132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Generic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216240" y="53197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13120" y="531972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07240" y="531972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05560" y="5319720"/>
              <a:ext cx="5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5560" y="5668920"/>
              <a:ext cx="184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lass Libra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16240" y="57196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13120" y="57196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08320" y="5719680"/>
              <a:ext cx="1126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Limite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405560" y="5719680"/>
              <a:ext cx="614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better than C++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Typedefs, Defines, or Preprocess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 Global Variab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Goto stat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Poin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Unsafe Structur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Multiple Inherit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Operator Overlo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Automatic Coerc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Fragile Data Typ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8" name=""/>
          <p:cNvSpPr/>
          <p:nvPr/>
        </p:nvSpPr>
        <p:spPr>
          <a:xfrm>
            <a:off x="5396040" y="2590920"/>
            <a:ext cx="123192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asic Data Typ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719280" y="165708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ype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oolean either true of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har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6 bit Unicode 1.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yt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8-bit integer (sign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hor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6-bit integer (sign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32-bit integer (sign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o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64-bit integer (sing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loa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32-bit floating point (IEEE 754-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ubl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64-bit floating point (IEEE 754-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ng       (class for manipulating string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 uses Unicode to represent characters internal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1" name=""/>
          <p:cNvGraphicFramePr/>
          <p:nvPr/>
        </p:nvGraphicFramePr>
        <p:xfrm>
          <a:off x="817560" y="0"/>
          <a:ext cx="8077320" cy="679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0"/>
                    <a:ext cx="80773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566640" y="1961640"/>
            <a:ext cx="8120160" cy="29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Java Integrates 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Power of Compiled Languages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and 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  <a:p>
            <a:pPr marL="2455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entury Gothic"/>
              </a:rPr>
              <a:t>Flexibility of Interpreted Languages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wo Types of JavaApplic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fferent ways to write/run a Java codes are:                   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7a5"/>
                </a:solidFill>
                <a:uFillTx/>
                <a:latin typeface="Century Gothic"/>
              </a:rPr>
              <a:t>Applicatio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A stand-alone program that can be invoked from command line . A program that has a “</a:t>
            </a:r>
            <a:r>
              <a:rPr b="1" lang="en-US" sz="2400" spc="-1" strike="noStrike">
                <a:solidFill>
                  <a:srgbClr val="b50069"/>
                </a:solidFill>
                <a:latin typeface="Century Gothic"/>
              </a:rPr>
              <a:t>mai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”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7a5"/>
                </a:solidFill>
                <a:uFillTx/>
                <a:latin typeface="Century Gothic"/>
              </a:rPr>
              <a:t>Apple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A program embedded in a web page , to be run when the page is browsed . A program that contains no “main”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Century Gothic"/>
              </a:rPr>
              <a:t>Applicatio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Java interpreter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Century Gothic"/>
              </a:rPr>
              <a:t>Applet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- Java enabled web browser (Linked to HTML via &lt;APPLET&gt; tag. in html fil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428640" y="380880"/>
            <a:ext cx="495612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8" name=""/>
          <p:cNvSpPr/>
          <p:nvPr/>
        </p:nvSpPr>
        <p:spPr>
          <a:xfrm>
            <a:off x="963720" y="6340320"/>
            <a:ext cx="146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549600" y="6340320"/>
            <a:ext cx="22287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919240" y="3535200"/>
            <a:ext cx="1314720" cy="1316160"/>
          </a:xfrm>
          <a:prstGeom prst="ellipse">
            <a:avLst/>
          </a:prstGeom>
          <a:solidFill>
            <a:srgbClr val="b1e9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yteco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ve loc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r throu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55480" y="2195280"/>
            <a:ext cx="1243080" cy="1029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(.jav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55480" y="3994200"/>
            <a:ext cx="1235160" cy="703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03200" y="5289480"/>
            <a:ext cx="1384200" cy="133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Byte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(.clas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120680" y="3274920"/>
            <a:ext cx="1800" cy="689040"/>
          </a:xfrm>
          <a:custGeom>
            <a:avLst/>
            <a:gdLst/>
            <a:ahLst/>
            <a:rect l="l" t="t" r="r" b="b"/>
            <a:pathLst>
              <a:path w="1" h="434">
                <a:moveTo>
                  <a:pt x="0" y="0"/>
                </a:moveTo>
                <a:lnTo>
                  <a:pt x="0" y="43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120680" y="4721400"/>
            <a:ext cx="1800" cy="688680"/>
          </a:xfrm>
          <a:custGeom>
            <a:avLst/>
            <a:gdLst/>
            <a:ahLst/>
            <a:rect l="l" t="t" r="r" b="b"/>
            <a:pathLst>
              <a:path w="1" h="434">
                <a:moveTo>
                  <a:pt x="0" y="0"/>
                </a:moveTo>
                <a:lnTo>
                  <a:pt x="0" y="43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443560" y="2921040"/>
            <a:ext cx="2544840" cy="2136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e4e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5645160" y="3132000"/>
            <a:ext cx="2311560" cy="901800"/>
            <a:chOff x="5645160" y="3132000"/>
            <a:chExt cx="2311560" cy="901800"/>
          </a:xfrm>
        </p:grpSpPr>
        <p:sp>
          <p:nvSpPr>
            <p:cNvPr id="1558" name=""/>
            <p:cNvSpPr/>
            <p:nvPr/>
          </p:nvSpPr>
          <p:spPr>
            <a:xfrm>
              <a:off x="5645160" y="3132000"/>
              <a:ext cx="1049400" cy="901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</a:rPr>
                <a:t>Jav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</a:rPr>
                <a:t>Interpre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07320" y="3132000"/>
              <a:ext cx="1049400" cy="901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Just in Ti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5549760" y="4632480"/>
            <a:ext cx="2311560" cy="37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Runtime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5757840" y="4129200"/>
            <a:ext cx="4608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405560" y="4129200"/>
            <a:ext cx="2700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127920" y="1731960"/>
            <a:ext cx="1049040" cy="901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 Loa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Byte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Ver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885080" y="1731960"/>
            <a:ext cx="1049400" cy="901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Java C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Libr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350120" y="2070000"/>
            <a:ext cx="298440" cy="1800"/>
          </a:xfrm>
          <a:custGeom>
            <a:avLst/>
            <a:gdLst/>
            <a:ahLst/>
            <a:rect l="l" t="t" r="r" b="b"/>
            <a:pathLst>
              <a:path w="188" h="1">
                <a:moveTo>
                  <a:pt x="0" y="0"/>
                </a:moveTo>
                <a:lnTo>
                  <a:pt x="18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908680" y="2736720"/>
            <a:ext cx="631800" cy="393840"/>
          </a:xfrm>
          <a:custGeom>
            <a:avLst/>
            <a:gdLst/>
            <a:ahLst/>
            <a:rect l="l" t="t" r="r" b="b"/>
            <a:pathLst>
              <a:path w="398" h="248">
                <a:moveTo>
                  <a:pt x="397" y="0"/>
                </a:moveTo>
                <a:lnTo>
                  <a:pt x="0" y="24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727680" y="2736720"/>
            <a:ext cx="631800" cy="393840"/>
          </a:xfrm>
          <a:custGeom>
            <a:avLst/>
            <a:gdLst/>
            <a:ahLst/>
            <a:rect l="l" t="t" r="r" b="b"/>
            <a:pathLst>
              <a:path w="398" h="248">
                <a:moveTo>
                  <a:pt x="0" y="0"/>
                </a:moveTo>
                <a:lnTo>
                  <a:pt x="397" y="24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549760" y="5748480"/>
            <a:ext cx="2311560" cy="26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Operating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549760" y="6415200"/>
            <a:ext cx="2311560" cy="26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607080" y="518148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5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607080" y="6022800"/>
            <a:ext cx="1800" cy="320760"/>
          </a:xfrm>
          <a:custGeom>
            <a:avLst/>
            <a:gdLst/>
            <a:ahLst/>
            <a:rect l="l" t="t" r="r" b="b"/>
            <a:pathLst>
              <a:path w="1" h="202">
                <a:moveTo>
                  <a:pt x="0" y="0"/>
                </a:moveTo>
                <a:lnTo>
                  <a:pt x="0" y="20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8002440" y="3600000"/>
            <a:ext cx="1063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478400" y="1420560"/>
            <a:ext cx="156060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Enviro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1000" y="1549080"/>
            <a:ext cx="18795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-time Enviro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106720" y="4967280"/>
            <a:ext cx="866520" cy="898560"/>
          </a:xfrm>
          <a:custGeom>
            <a:avLst/>
            <a:gdLst/>
            <a:ahLst/>
            <a:rect l="l" t="t" r="r" b="b"/>
            <a:pathLst>
              <a:path w="546" h="566">
                <a:moveTo>
                  <a:pt x="0" y="565"/>
                </a:moveTo>
                <a:lnTo>
                  <a:pt x="139" y="56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294080" y="2171880"/>
            <a:ext cx="1454400" cy="1139760"/>
          </a:xfrm>
          <a:custGeom>
            <a:avLst/>
            <a:gdLst/>
            <a:ahLst/>
            <a:rect l="l" t="t" r="r" b="b"/>
            <a:pathLst>
              <a:path w="916" h="718">
                <a:moveTo>
                  <a:pt x="0" y="717"/>
                </a:moveTo>
                <a:lnTo>
                  <a:pt x="525" y="0"/>
                </a:lnTo>
                <a:lnTo>
                  <a:pt x="91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476440" y="0"/>
            <a:ext cx="643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Environment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fe Cycle of Java Co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Development Ki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javac - The Java Compil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java -   The Java Interpret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jdb-     The Java Debugg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ppletviewer -Tool to run the apple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p - to print the Java bytec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prof - Java profi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doc - documentation genera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javah - creates C header fi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6095880" y="1006560"/>
          <a:ext cx="28479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006560"/>
                    <a:ext cx="28479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ello Intern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51920" y="24188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// hello.java: Hello Internet program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class HelloInternet 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public static void main(String args[])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System.out.println(“Hello Internet”); 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584" name=""/>
          <p:cNvGraphicFramePr/>
          <p:nvPr/>
        </p:nvGraphicFramePr>
        <p:xfrm>
          <a:off x="1828800" y="20520"/>
          <a:ext cx="330516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20"/>
                    <a:ext cx="330516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gram Process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il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# javac hello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sults in HelloInternet.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xecu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# java Hello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Hello Inter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mple Java Appl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63120" y="1828440"/>
            <a:ext cx="8404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// HelloWorld.java: A sample apple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import java.applet.Apple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public class HelloWorld extends Applet {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public void paint(Graphics 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g.drawString(“Hello World !”,25,2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Internet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2000"/>
          </a:bodyPr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Use of internet advertisement/elections/newspapers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information is public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Ubiquitous  technology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Network is the computer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Intranets - internal TCP/IP nets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PC accounts for 55% of total IT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24000" indent="-32400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Applications tied to platform - API lock-in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alling an Appl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TITLE&gt; Hello Worls Applet &lt;/TITLE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APPLET code=“HelloWorld.class” width=500 height=500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/APPLET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&lt;/HTML&gt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ecution of Apple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3" name=""/>
          <p:cNvSpPr/>
          <p:nvPr/>
        </p:nvSpPr>
        <p:spPr>
          <a:xfrm>
            <a:off x="5568840" y="4654440"/>
            <a:ext cx="749520" cy="368280"/>
          </a:xfrm>
          <a:prstGeom prst="rightArrow">
            <a:avLst>
              <a:gd name="adj1" fmla="val 50000"/>
              <a:gd name="adj2" fmla="val 101788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4578480" y="4730760"/>
            <a:ext cx="1282680" cy="749160"/>
            <a:chOff x="4578480" y="4730760"/>
            <a:chExt cx="1282680" cy="749160"/>
          </a:xfrm>
        </p:grpSpPr>
        <p:sp>
          <p:nvSpPr>
            <p:cNvPr id="1595" name=""/>
            <p:cNvSpPr/>
            <p:nvPr/>
          </p:nvSpPr>
          <p:spPr>
            <a:xfrm>
              <a:off x="4668840" y="4849920"/>
              <a:ext cx="7632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22"/>
                  </a:moveTo>
                  <a:lnTo>
                    <a:pt x="20" y="0"/>
                  </a:lnTo>
                  <a:lnTo>
                    <a:pt x="47" y="22"/>
                  </a:lnTo>
                  <a:lnTo>
                    <a:pt x="24" y="41"/>
                  </a:lnTo>
                  <a:lnTo>
                    <a:pt x="0" y="22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981680" y="4754520"/>
              <a:ext cx="301680" cy="2397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241960" y="4730760"/>
              <a:ext cx="243000" cy="1922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73800" y="4940280"/>
              <a:ext cx="387360" cy="30960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22840" y="5078520"/>
              <a:ext cx="509400" cy="37152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357880" y="5124600"/>
              <a:ext cx="328680" cy="26352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06920" y="5149800"/>
              <a:ext cx="243000" cy="1904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578480" y="4986360"/>
              <a:ext cx="242640" cy="1922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94400" y="4802040"/>
              <a:ext cx="387360" cy="3063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40360" y="5172120"/>
              <a:ext cx="387360" cy="30780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30680" y="4822920"/>
              <a:ext cx="300240" cy="2397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443560" y="4730760"/>
              <a:ext cx="271440" cy="21744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22840" y="4822920"/>
              <a:ext cx="1114560" cy="598320"/>
            </a:xfrm>
            <a:custGeom>
              <a:avLst/>
              <a:gdLst/>
              <a:ahLst/>
              <a:rect l="l" t="t" r="r" b="b"/>
              <a:pathLst>
                <a:path w="702" h="377">
                  <a:moveTo>
                    <a:pt x="216" y="38"/>
                  </a:moveTo>
                  <a:lnTo>
                    <a:pt x="246" y="11"/>
                  </a:lnTo>
                  <a:lnTo>
                    <a:pt x="377" y="13"/>
                  </a:lnTo>
                  <a:lnTo>
                    <a:pt x="469" y="0"/>
                  </a:lnTo>
                  <a:lnTo>
                    <a:pt x="586" y="45"/>
                  </a:lnTo>
                  <a:lnTo>
                    <a:pt x="644" y="32"/>
                  </a:lnTo>
                  <a:lnTo>
                    <a:pt x="676" y="38"/>
                  </a:lnTo>
                  <a:lnTo>
                    <a:pt x="683" y="149"/>
                  </a:lnTo>
                  <a:lnTo>
                    <a:pt x="701" y="167"/>
                  </a:lnTo>
                  <a:lnTo>
                    <a:pt x="647" y="254"/>
                  </a:lnTo>
                  <a:lnTo>
                    <a:pt x="588" y="195"/>
                  </a:lnTo>
                  <a:lnTo>
                    <a:pt x="572" y="225"/>
                  </a:lnTo>
                  <a:lnTo>
                    <a:pt x="489" y="344"/>
                  </a:lnTo>
                  <a:lnTo>
                    <a:pt x="211" y="376"/>
                  </a:lnTo>
                  <a:lnTo>
                    <a:pt x="67" y="353"/>
                  </a:lnTo>
                  <a:lnTo>
                    <a:pt x="22" y="279"/>
                  </a:lnTo>
                  <a:lnTo>
                    <a:pt x="22" y="204"/>
                  </a:lnTo>
                  <a:lnTo>
                    <a:pt x="0" y="141"/>
                  </a:lnTo>
                  <a:lnTo>
                    <a:pt x="216" y="38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2346480" y="150840"/>
            <a:ext cx="4552920" cy="641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6bf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9" name=""/>
          <p:cNvGraphicFramePr/>
          <p:nvPr/>
        </p:nvGraphicFramePr>
        <p:xfrm>
          <a:off x="5827680" y="4648320"/>
          <a:ext cx="160020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7680" y="4648320"/>
                    <a:ext cx="160020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1" name=""/>
          <p:cNvGraphicFramePr/>
          <p:nvPr/>
        </p:nvGraphicFramePr>
        <p:xfrm>
          <a:off x="2438280" y="4419720"/>
          <a:ext cx="62244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19720"/>
                    <a:ext cx="62244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3" name=""/>
          <p:cNvGraphicFramePr/>
          <p:nvPr/>
        </p:nvGraphicFramePr>
        <p:xfrm>
          <a:off x="76320" y="4309920"/>
          <a:ext cx="214632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309920"/>
                    <a:ext cx="21463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5" name=""/>
          <p:cNvSpPr/>
          <p:nvPr/>
        </p:nvSpPr>
        <p:spPr>
          <a:xfrm>
            <a:off x="4044960" y="4959360"/>
            <a:ext cx="749160" cy="368280"/>
          </a:xfrm>
          <a:prstGeom prst="rightArrow">
            <a:avLst>
              <a:gd name="adj1" fmla="val 50000"/>
              <a:gd name="adj2" fmla="val 101739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758960" y="4883040"/>
            <a:ext cx="749160" cy="368280"/>
          </a:xfrm>
          <a:prstGeom prst="rightArrow">
            <a:avLst>
              <a:gd name="adj1" fmla="val 50000"/>
              <a:gd name="adj2" fmla="val 101739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971800" y="4578480"/>
            <a:ext cx="1677960" cy="1358640"/>
            <a:chOff x="2971800" y="4578480"/>
            <a:chExt cx="1677960" cy="1358640"/>
          </a:xfrm>
        </p:grpSpPr>
        <p:grpSp>
          <p:nvGrpSpPr>
            <p:cNvPr id="1618" name=""/>
            <p:cNvGrpSpPr/>
            <p:nvPr/>
          </p:nvGrpSpPr>
          <p:grpSpPr>
            <a:xfrm>
              <a:off x="2971800" y="5641920"/>
              <a:ext cx="1677960" cy="295200"/>
              <a:chOff x="2971800" y="5641920"/>
              <a:chExt cx="1677960" cy="29520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2971800" y="5641920"/>
                <a:ext cx="1677960" cy="295200"/>
                <a:chOff x="2971800" y="5641920"/>
                <a:chExt cx="1677960" cy="29520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2978280" y="5891040"/>
                  <a:ext cx="1662120" cy="46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2971800" y="5641920"/>
                  <a:ext cx="1677960" cy="247680"/>
                </a:xfrm>
                <a:custGeom>
                  <a:avLst/>
                  <a:gdLst/>
                  <a:ahLst/>
                  <a:rect l="l" t="t" r="r" b="b"/>
                  <a:pathLst>
                    <a:path w="1057" h="156">
                      <a:moveTo>
                        <a:pt x="0" y="155"/>
                      </a:moveTo>
                      <a:lnTo>
                        <a:pt x="1056" y="155"/>
                      </a:lnTo>
                      <a:lnTo>
                        <a:pt x="995" y="1"/>
                      </a:lnTo>
                      <a:lnTo>
                        <a:pt x="77" y="0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021120" y="5672160"/>
                  <a:ext cx="1571400" cy="189000"/>
                </a:xfrm>
                <a:custGeom>
                  <a:avLst/>
                  <a:gdLst/>
                  <a:ahLst/>
                  <a:rect l="l" t="t" r="r" b="b"/>
                  <a:pathLst>
                    <a:path w="990" h="119">
                      <a:moveTo>
                        <a:pt x="57" y="0"/>
                      </a:moveTo>
                      <a:lnTo>
                        <a:pt x="0" y="118"/>
                      </a:lnTo>
                      <a:lnTo>
                        <a:pt x="989" y="118"/>
                      </a:lnTo>
                      <a:lnTo>
                        <a:pt x="94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3157560" y="5667480"/>
                <a:ext cx="1320840" cy="56880"/>
                <a:chOff x="3157560" y="5667480"/>
                <a:chExt cx="1320840" cy="568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3157560" y="5667480"/>
                  <a:ext cx="54000" cy="3636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25" y="22"/>
                      </a:lnTo>
                      <a:lnTo>
                        <a:pt x="0" y="2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284640" y="5667480"/>
                  <a:ext cx="210960" cy="33120"/>
                </a:xfrm>
                <a:custGeom>
                  <a:avLst/>
                  <a:gdLst/>
                  <a:ahLst/>
                  <a:rect l="l" t="t" r="r" b="b"/>
                  <a:pathLst>
                    <a:path w="133" h="21">
                      <a:moveTo>
                        <a:pt x="6" y="0"/>
                      </a:moveTo>
                      <a:lnTo>
                        <a:pt x="132" y="0"/>
                      </a:lnTo>
                      <a:lnTo>
                        <a:pt x="127" y="20"/>
                      </a:lnTo>
                      <a:lnTo>
                        <a:pt x="0" y="2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552840" y="5667480"/>
                  <a:ext cx="200160" cy="36360"/>
                </a:xfrm>
                <a:custGeom>
                  <a:avLst/>
                  <a:gdLst/>
                  <a:ahLst/>
                  <a:rect l="l" t="t" r="r" b="b"/>
                  <a:pathLst>
                    <a:path w="126" h="23">
                      <a:moveTo>
                        <a:pt x="4" y="0"/>
                      </a:moveTo>
                      <a:lnTo>
                        <a:pt x="125" y="0"/>
                      </a:lnTo>
                      <a:lnTo>
                        <a:pt x="124" y="22"/>
                      </a:lnTo>
                      <a:lnTo>
                        <a:pt x="0" y="2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790800" y="5667480"/>
                  <a:ext cx="201600" cy="36360"/>
                </a:xfrm>
                <a:custGeom>
                  <a:avLst/>
                  <a:gdLst/>
                  <a:ahLst/>
                  <a:rect l="l" t="t" r="r" b="b"/>
                  <a:pathLst>
                    <a:path w="127" h="23">
                      <a:moveTo>
                        <a:pt x="1" y="0"/>
                      </a:moveTo>
                      <a:lnTo>
                        <a:pt x="126" y="0"/>
                      </a:lnTo>
                      <a:lnTo>
                        <a:pt x="126" y="22"/>
                      </a:lnTo>
                      <a:lnTo>
                        <a:pt x="0" y="2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4035600" y="5667480"/>
                  <a:ext cx="180720" cy="38160"/>
                </a:xfrm>
                <a:custGeom>
                  <a:avLst/>
                  <a:gdLst/>
                  <a:ahLst/>
                  <a:rect l="l" t="t" r="r" b="b"/>
                  <a:pathLst>
                    <a:path w="114" h="24">
                      <a:moveTo>
                        <a:pt x="0" y="0"/>
                      </a:moveTo>
                      <a:lnTo>
                        <a:pt x="110" y="0"/>
                      </a:lnTo>
                      <a:lnTo>
                        <a:pt x="113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4257720" y="5688000"/>
                  <a:ext cx="220680" cy="36360"/>
                </a:xfrm>
                <a:custGeom>
                  <a:avLst/>
                  <a:gdLst/>
                  <a:ahLst/>
                  <a:rect l="l" t="t" r="r" b="b"/>
                  <a:pathLst>
                    <a:path w="139" h="23">
                      <a:moveTo>
                        <a:pt x="0" y="0"/>
                      </a:moveTo>
                      <a:lnTo>
                        <a:pt x="126" y="0"/>
                      </a:lnTo>
                      <a:lnTo>
                        <a:pt x="138" y="22"/>
                      </a:lnTo>
                      <a:lnTo>
                        <a:pt x="6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3121200" y="5730840"/>
                <a:ext cx="1360440" cy="100080"/>
                <a:chOff x="3121200" y="5730840"/>
                <a:chExt cx="1360440" cy="100080"/>
              </a:xfrm>
            </p:grpSpPr>
            <p:grpSp>
              <p:nvGrpSpPr>
                <p:cNvPr id="1631" name=""/>
                <p:cNvGrpSpPr/>
                <p:nvPr/>
              </p:nvGrpSpPr>
              <p:grpSpPr>
                <a:xfrm>
                  <a:off x="3240000" y="5737320"/>
                  <a:ext cx="658800" cy="85680"/>
                  <a:chOff x="3240000" y="5737320"/>
                  <a:chExt cx="658800" cy="8568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>
                    <a:off x="3240000" y="5737320"/>
                    <a:ext cx="62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3267000" y="5765760"/>
                    <a:ext cx="63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274920" y="5791320"/>
                    <a:ext cx="547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289320" y="582300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121200" y="5748480"/>
                  <a:ext cx="87120" cy="54000"/>
                  <a:chOff x="3121200" y="5748480"/>
                  <a:chExt cx="87120" cy="5400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147840" y="57484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138480" y="577692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3121200" y="5802480"/>
                    <a:ext cx="8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0" name=""/>
                <p:cNvGrpSpPr/>
                <p:nvPr/>
              </p:nvGrpSpPr>
              <p:grpSpPr>
                <a:xfrm>
                  <a:off x="3389400" y="5730840"/>
                  <a:ext cx="601560" cy="93600"/>
                  <a:chOff x="3389400" y="5730840"/>
                  <a:chExt cx="601560" cy="9360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389400" y="5823000"/>
                    <a:ext cx="363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922560" y="5730840"/>
                    <a:ext cx="61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3943440" y="576576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895560" y="5794200"/>
                    <a:ext cx="95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3795840" y="582300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3875040" y="5824440"/>
                    <a:ext cx="10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4046400" y="5748480"/>
                  <a:ext cx="169920" cy="79200"/>
                  <a:chOff x="4046400" y="5748480"/>
                  <a:chExt cx="169920" cy="792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>
                    <a:off x="4046400" y="5748480"/>
                    <a:ext cx="158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4073400" y="5783400"/>
                    <a:ext cx="133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4075200" y="582768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4276800" y="5748480"/>
                  <a:ext cx="204840" cy="82440"/>
                  <a:chOff x="4276800" y="5748480"/>
                  <a:chExt cx="204840" cy="8244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4294080" y="5748480"/>
                    <a:ext cx="147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4276800" y="5780160"/>
                    <a:ext cx="11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4294080" y="5802480"/>
                    <a:ext cx="10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4287960" y="5830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4449600" y="5781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4465800" y="5816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58" name=""/>
            <p:cNvGrpSpPr/>
            <p:nvPr/>
          </p:nvGrpSpPr>
          <p:grpSpPr>
            <a:xfrm>
              <a:off x="3435480" y="5408640"/>
              <a:ext cx="728640" cy="182520"/>
              <a:chOff x="3435480" y="5408640"/>
              <a:chExt cx="728640" cy="18252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3435480" y="5465880"/>
                <a:ext cx="728640" cy="125280"/>
                <a:chOff x="3435480" y="5465880"/>
                <a:chExt cx="728640" cy="12528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3435480" y="5465880"/>
                  <a:ext cx="728640" cy="69840"/>
                </a:xfrm>
                <a:custGeom>
                  <a:avLst/>
                  <a:gdLst/>
                  <a:ahLst/>
                  <a:rect l="l" t="t" r="r" b="b"/>
                  <a:pathLst>
                    <a:path w="459" h="44">
                      <a:moveTo>
                        <a:pt x="0" y="43"/>
                      </a:moveTo>
                      <a:lnTo>
                        <a:pt x="458" y="43"/>
                      </a:lnTo>
                      <a:lnTo>
                        <a:pt x="431" y="0"/>
                      </a:lnTo>
                      <a:lnTo>
                        <a:pt x="27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3438360" y="5537160"/>
                  <a:ext cx="712800" cy="540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2" name=""/>
              <p:cNvSpPr/>
              <p:nvPr/>
            </p:nvSpPr>
            <p:spPr>
              <a:xfrm>
                <a:off x="3602160" y="5408640"/>
                <a:ext cx="388800" cy="12528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0" y="44"/>
                    </a:moveTo>
                    <a:lnTo>
                      <a:pt x="0" y="0"/>
                    </a:lnTo>
                    <a:lnTo>
                      <a:pt x="244" y="0"/>
                    </a:lnTo>
                    <a:lnTo>
                      <a:pt x="244" y="45"/>
                    </a:lnTo>
                    <a:lnTo>
                      <a:pt x="243" y="49"/>
                    </a:lnTo>
                    <a:lnTo>
                      <a:pt x="241" y="52"/>
                    </a:lnTo>
                    <a:lnTo>
                      <a:pt x="236" y="56"/>
                    </a:lnTo>
                    <a:lnTo>
                      <a:pt x="230" y="59"/>
                    </a:lnTo>
                    <a:lnTo>
                      <a:pt x="224" y="63"/>
                    </a:lnTo>
                    <a:lnTo>
                      <a:pt x="217" y="65"/>
                    </a:lnTo>
                    <a:lnTo>
                      <a:pt x="209" y="68"/>
                    </a:lnTo>
                    <a:lnTo>
                      <a:pt x="200" y="70"/>
                    </a:lnTo>
                    <a:lnTo>
                      <a:pt x="192" y="71"/>
                    </a:lnTo>
                    <a:lnTo>
                      <a:pt x="179" y="74"/>
                    </a:lnTo>
                    <a:lnTo>
                      <a:pt x="169" y="75"/>
                    </a:lnTo>
                    <a:lnTo>
                      <a:pt x="158" y="77"/>
                    </a:lnTo>
                    <a:lnTo>
                      <a:pt x="146" y="77"/>
                    </a:lnTo>
                    <a:lnTo>
                      <a:pt x="133" y="78"/>
                    </a:lnTo>
                    <a:lnTo>
                      <a:pt x="115" y="78"/>
                    </a:lnTo>
                    <a:lnTo>
                      <a:pt x="100" y="77"/>
                    </a:lnTo>
                    <a:lnTo>
                      <a:pt x="85" y="77"/>
                    </a:lnTo>
                    <a:lnTo>
                      <a:pt x="71" y="75"/>
                    </a:lnTo>
                    <a:lnTo>
                      <a:pt x="60" y="74"/>
                    </a:lnTo>
                    <a:lnTo>
                      <a:pt x="52" y="71"/>
                    </a:lnTo>
                    <a:lnTo>
                      <a:pt x="40" y="69"/>
                    </a:lnTo>
                    <a:lnTo>
                      <a:pt x="31" y="67"/>
                    </a:lnTo>
                    <a:lnTo>
                      <a:pt x="23" y="64"/>
                    </a:lnTo>
                    <a:lnTo>
                      <a:pt x="15" y="60"/>
                    </a:lnTo>
                    <a:lnTo>
                      <a:pt x="10" y="57"/>
                    </a:lnTo>
                    <a:lnTo>
                      <a:pt x="6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3349800" y="4578480"/>
              <a:ext cx="888840" cy="846000"/>
              <a:chOff x="3349800" y="4578480"/>
              <a:chExt cx="888840" cy="846000"/>
            </a:xfrm>
          </p:grpSpPr>
          <p:grpSp>
            <p:nvGrpSpPr>
              <p:cNvPr id="1664" name=""/>
              <p:cNvGrpSpPr/>
              <p:nvPr/>
            </p:nvGrpSpPr>
            <p:grpSpPr>
              <a:xfrm>
                <a:off x="3349800" y="4578480"/>
                <a:ext cx="888840" cy="846000"/>
                <a:chOff x="3349800" y="4578480"/>
                <a:chExt cx="888840" cy="84600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3349800" y="4578480"/>
                  <a:ext cx="888840" cy="846000"/>
                </a:xfrm>
                <a:prstGeom prst="roundRect">
                  <a:avLst>
                    <a:gd name="adj" fmla="val 12292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3451320" y="4673520"/>
                  <a:ext cx="689040" cy="654120"/>
                </a:xfrm>
                <a:prstGeom prst="roundRect">
                  <a:avLst>
                    <a:gd name="adj" fmla="val 12222"/>
                  </a:avLst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3489480" y="4710240"/>
                  <a:ext cx="609480" cy="582480"/>
                </a:xfrm>
                <a:prstGeom prst="roundRect">
                  <a:avLst>
                    <a:gd name="adj" fmla="val 12120"/>
                  </a:avLst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>
                <a:off x="4105440" y="5381640"/>
                <a:ext cx="10800" cy="79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6543720" y="4582440"/>
            <a:ext cx="2582280" cy="1440720"/>
            <a:chOff x="6543720" y="4582440"/>
            <a:chExt cx="2582280" cy="1440720"/>
          </a:xfrm>
        </p:grpSpPr>
        <p:sp>
          <p:nvSpPr>
            <p:cNvPr id="1670" name=""/>
            <p:cNvSpPr/>
            <p:nvPr/>
          </p:nvSpPr>
          <p:spPr>
            <a:xfrm>
              <a:off x="6543720" y="4770360"/>
              <a:ext cx="1811160" cy="1025640"/>
            </a:xfrm>
            <a:custGeom>
              <a:avLst/>
              <a:gdLst/>
              <a:ahLst/>
              <a:rect l="l" t="t" r="r" b="b"/>
              <a:pathLst>
                <a:path w="1141" h="646">
                  <a:moveTo>
                    <a:pt x="1140" y="0"/>
                  </a:moveTo>
                  <a:lnTo>
                    <a:pt x="0" y="139"/>
                  </a:lnTo>
                  <a:lnTo>
                    <a:pt x="1082" y="645"/>
                  </a:lnTo>
                  <a:lnTo>
                    <a:pt x="1140" y="0"/>
                  </a:lnTo>
                </a:path>
              </a:pathLst>
            </a:custGeom>
            <a:solidFill>
              <a:srgbClr val="8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9120000">
              <a:off x="7921080" y="4754160"/>
              <a:ext cx="1006200" cy="109692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7909920" y="496872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48080" y="461952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Hello 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415320" y="4772160"/>
            <a:ext cx="768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&lt;app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Hello”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157800" y="165420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2600" y="2135160"/>
            <a:ext cx="219564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ET Development “hello.jav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AC-Ind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35720" y="4952880"/>
            <a:ext cx="127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The 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319480" y="2211480"/>
            <a:ext cx="156528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lo.cla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C-DAC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881080" y="173052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04960" y="180648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052280" y="180648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86600" y="1730520"/>
            <a:ext cx="295920" cy="3632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060800" y="2211480"/>
            <a:ext cx="125244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App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g in 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642280" y="2111400"/>
            <a:ext cx="146304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Y Co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US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469280" y="2135160"/>
            <a:ext cx="1520640" cy="228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browser cre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new window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new thread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 runs the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14800" y="3657600"/>
            <a:ext cx="382680" cy="1068480"/>
          </a:xfrm>
          <a:custGeom>
            <a:avLst/>
            <a:gdLst/>
            <a:ahLst/>
            <a:rect l="l" t="t" r="r" b="b"/>
            <a:pathLst>
              <a:path w="241" h="673">
                <a:moveTo>
                  <a:pt x="0" y="405"/>
                </a:moveTo>
                <a:lnTo>
                  <a:pt x="44" y="449"/>
                </a:lnTo>
                <a:lnTo>
                  <a:pt x="143" y="216"/>
                </a:lnTo>
                <a:lnTo>
                  <a:pt x="148" y="201"/>
                </a:lnTo>
                <a:lnTo>
                  <a:pt x="152" y="189"/>
                </a:lnTo>
                <a:lnTo>
                  <a:pt x="153" y="176"/>
                </a:lnTo>
                <a:lnTo>
                  <a:pt x="155" y="162"/>
                </a:lnTo>
                <a:lnTo>
                  <a:pt x="156" y="146"/>
                </a:lnTo>
                <a:lnTo>
                  <a:pt x="155" y="132"/>
                </a:lnTo>
                <a:lnTo>
                  <a:pt x="154" y="117"/>
                </a:lnTo>
                <a:lnTo>
                  <a:pt x="152" y="104"/>
                </a:lnTo>
                <a:lnTo>
                  <a:pt x="149" y="92"/>
                </a:lnTo>
                <a:lnTo>
                  <a:pt x="146" y="80"/>
                </a:lnTo>
                <a:lnTo>
                  <a:pt x="143" y="68"/>
                </a:lnTo>
                <a:lnTo>
                  <a:pt x="139" y="56"/>
                </a:lnTo>
                <a:lnTo>
                  <a:pt x="134" y="45"/>
                </a:lnTo>
                <a:lnTo>
                  <a:pt x="130" y="34"/>
                </a:lnTo>
                <a:lnTo>
                  <a:pt x="125" y="22"/>
                </a:lnTo>
                <a:lnTo>
                  <a:pt x="121" y="14"/>
                </a:lnTo>
                <a:lnTo>
                  <a:pt x="113" y="0"/>
                </a:lnTo>
                <a:lnTo>
                  <a:pt x="122" y="5"/>
                </a:lnTo>
                <a:lnTo>
                  <a:pt x="130" y="9"/>
                </a:lnTo>
                <a:lnTo>
                  <a:pt x="139" y="15"/>
                </a:lnTo>
                <a:lnTo>
                  <a:pt x="147" y="22"/>
                </a:lnTo>
                <a:lnTo>
                  <a:pt x="155" y="30"/>
                </a:lnTo>
                <a:lnTo>
                  <a:pt x="164" y="39"/>
                </a:lnTo>
                <a:lnTo>
                  <a:pt x="174" y="51"/>
                </a:lnTo>
                <a:lnTo>
                  <a:pt x="183" y="63"/>
                </a:lnTo>
                <a:lnTo>
                  <a:pt x="192" y="74"/>
                </a:lnTo>
                <a:lnTo>
                  <a:pt x="200" y="89"/>
                </a:lnTo>
                <a:lnTo>
                  <a:pt x="208" y="102"/>
                </a:lnTo>
                <a:lnTo>
                  <a:pt x="214" y="118"/>
                </a:lnTo>
                <a:lnTo>
                  <a:pt x="221" y="136"/>
                </a:lnTo>
                <a:lnTo>
                  <a:pt x="225" y="152"/>
                </a:lnTo>
                <a:lnTo>
                  <a:pt x="230" y="171"/>
                </a:lnTo>
                <a:lnTo>
                  <a:pt x="235" y="193"/>
                </a:lnTo>
                <a:lnTo>
                  <a:pt x="238" y="209"/>
                </a:lnTo>
                <a:lnTo>
                  <a:pt x="240" y="231"/>
                </a:lnTo>
                <a:lnTo>
                  <a:pt x="240" y="251"/>
                </a:lnTo>
                <a:lnTo>
                  <a:pt x="239" y="267"/>
                </a:lnTo>
                <a:lnTo>
                  <a:pt x="234" y="289"/>
                </a:lnTo>
                <a:lnTo>
                  <a:pt x="228" y="306"/>
                </a:lnTo>
                <a:lnTo>
                  <a:pt x="221" y="321"/>
                </a:lnTo>
                <a:lnTo>
                  <a:pt x="131" y="536"/>
                </a:lnTo>
                <a:lnTo>
                  <a:pt x="177" y="583"/>
                </a:lnTo>
                <a:lnTo>
                  <a:pt x="15" y="672"/>
                </a:lnTo>
                <a:lnTo>
                  <a:pt x="0" y="40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eb Perspectiv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did Web interactions work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do they work with Java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stributed Java objects and the Web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assical Web Perspectiv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771480" y="1704960"/>
            <a:ext cx="758340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Web Perspectiv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876240" y="1685880"/>
            <a:ext cx="7442280" cy="48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7644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gnificance of downloading Apple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ractive WWW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lashy animation instead of  static web pag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ts react to users input and dynamically chan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isplay of dynamic data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WW with Java - more than a document publishing mediu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http://www.javasoft.com/applets/alpha/applets/StockDemo/standalone.html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ower of  Java and the Web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eliver applications, not just inform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te por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te end-user install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lash software distribution cos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Aft>
                <a:spcPts val="451"/>
              </a:spcAft>
              <a:buClr>
                <a:srgbClr val="fc0128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ach millions of customers - insta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fecycle of Java Co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698" name=""/>
          <p:cNvGraphicFramePr/>
          <p:nvPr/>
        </p:nvGraphicFramePr>
        <p:xfrm>
          <a:off x="14400" y="1744560"/>
          <a:ext cx="91072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" y="1744560"/>
                    <a:ext cx="91072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ytecode Verifi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lled when class is first loaded in runtime environ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rifies bytecodes meet certain set of propert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rifier uses Theorem Prov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rified code runs fa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fter verification, interpreter defines memory layou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ass Load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nique “Namespace” for each origi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ocal namespace classes are called “built-ins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events class “spoofing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Internet Evolution</a:t>
            </a:r>
            <a:endParaRPr b="1" lang="en-US" sz="3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920880" y="3282840"/>
            <a:ext cx="520560" cy="1435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31360" y="3308400"/>
            <a:ext cx="1409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ile &amp; 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Web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Netsc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157400" y="1588680"/>
            <a:ext cx="6297480" cy="170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57400" y="4738680"/>
            <a:ext cx="6297480" cy="164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32120" y="2755800"/>
            <a:ext cx="660240" cy="24894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8480" y="2774880"/>
            <a:ext cx="27158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On line conn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Secure pay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ulti media Auth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6560" y="2063880"/>
            <a:ext cx="901800" cy="3873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58400" y="2235240"/>
            <a:ext cx="2395800" cy="4052880"/>
          </a:xfrm>
          <a:prstGeom prst="rect">
            <a:avLst/>
          </a:prstGeom>
          <a:noFill/>
          <a:ln w="1260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ternet every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ternet 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rice bas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ve commun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23600" y="1616040"/>
            <a:ext cx="1040400" cy="48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7039440" y="1553040"/>
            <a:ext cx="1040760" cy="48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6"/>
                </a:moveTo>
                <a:arcTo wR="10800" hR="10800" stAng="-10795500" swAng="5385019"/>
                <a:lnTo>
                  <a:pt x="10800" y="10800"/>
                </a:lnTo>
                <a:close/>
              </a:path>
              <a:path fill="none" w="21600" h="21600">
                <a:moveTo>
                  <a:pt x="0" y="10786"/>
                </a:moveTo>
                <a:arcTo wR="10800" hR="10800" stAng="-10795500" swAng="5385019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9040" y="5197320"/>
            <a:ext cx="132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10%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7680" y="5388120"/>
            <a:ext cx="132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0%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0360" y="5502240"/>
            <a:ext cx="132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ecurity Manag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events unauthorized disk read/writ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stricts network acce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ther access restrictions (native method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lementation is browser depend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eneral Language Feat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/C++ like synta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 poin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s all the way dow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bjects request services of other objects through </a:t>
            </a: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messag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essages result in invocation of class </a:t>
            </a:r>
            <a:r>
              <a:rPr b="1" i="1" lang="en-US" sz="2400" spc="-1" strike="noStrike">
                <a:solidFill>
                  <a:srgbClr val="fafd00"/>
                </a:solidFill>
                <a:latin typeface="Century Gothic"/>
              </a:rPr>
              <a:t>metho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moved From C++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perator overloa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ointers and Array/poin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ple-inheritance of implement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num, typedef, #defin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py constructors, destruct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emplat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d other stuff.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ded or Improved over C++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faces: type Vs.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arbage collec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xceptions (More powerful than C++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ng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stanceof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acka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threa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ich Object Environmen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re Clas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t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put/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ow-Level Net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bstract 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net Class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CP/IP Net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WW and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stributed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4" name=""/>
          <p:cNvGraphicFramePr/>
          <p:nvPr/>
        </p:nvGraphicFramePr>
        <p:xfrm>
          <a:off x="3807000" y="1855800"/>
          <a:ext cx="51908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7000" y="1855800"/>
                    <a:ext cx="51908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in Packag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719280" y="17330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la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util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io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w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wt.imag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pple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ne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24b"/>
            </a:gs>
            <a:gs pos="100000">
              <a:srgbClr val="33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Fundamental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Construct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Graphic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Multithreading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Streams and Networking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Networking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85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--Java Construc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hat is Java, basic constructs, includ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es and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or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and super keyword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itanc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es, interfa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class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I--Graphics Programm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to build Graphical User Interfaces in Java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 component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 handl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you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II--Advanced Feat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133360" y="1752120"/>
            <a:ext cx="597996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pplets,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ads,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reams I/O,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etwork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arly Interne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arly Internet supported only email 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e Transfer Protocol development - ftp site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 News was added to the Internet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rchie - A program to canvass anonymous ftp sites and create a database of what is availabl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opher- A menu-driven interface used to search for informati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rchie and Gopher could answer questions only like ‘what FTP server contains info about “xxxx” ‘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25560" y="6480"/>
            <a:ext cx="1314720" cy="1976400"/>
            <a:chOff x="2725560" y="6480"/>
            <a:chExt cx="1314720" cy="1976400"/>
          </a:xfrm>
        </p:grpSpPr>
        <p:grpSp>
          <p:nvGrpSpPr>
            <p:cNvPr id="321" name=""/>
            <p:cNvGrpSpPr/>
            <p:nvPr/>
          </p:nvGrpSpPr>
          <p:grpSpPr>
            <a:xfrm>
              <a:off x="2754360" y="527040"/>
              <a:ext cx="1219320" cy="836640"/>
              <a:chOff x="2754360" y="527040"/>
              <a:chExt cx="1219320" cy="8366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754360" y="527040"/>
                <a:ext cx="1219320" cy="836640"/>
                <a:chOff x="2754360" y="527040"/>
                <a:chExt cx="1219320" cy="836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754360" y="527040"/>
                  <a:ext cx="1219320" cy="836640"/>
                </a:xfrm>
                <a:custGeom>
                  <a:avLst/>
                  <a:gdLst/>
                  <a:ahLst/>
                  <a:rect l="l" t="t" r="r" b="b"/>
                  <a:pathLst>
                    <a:path w="768" h="527">
                      <a:moveTo>
                        <a:pt x="132" y="26"/>
                      </a:moveTo>
                      <a:lnTo>
                        <a:pt x="79" y="54"/>
                      </a:lnTo>
                      <a:lnTo>
                        <a:pt x="59" y="81"/>
                      </a:lnTo>
                      <a:lnTo>
                        <a:pt x="36" y="123"/>
                      </a:lnTo>
                      <a:lnTo>
                        <a:pt x="19" y="171"/>
                      </a:lnTo>
                      <a:lnTo>
                        <a:pt x="12" y="212"/>
                      </a:lnTo>
                      <a:lnTo>
                        <a:pt x="0" y="272"/>
                      </a:lnTo>
                      <a:lnTo>
                        <a:pt x="4" y="320"/>
                      </a:lnTo>
                      <a:lnTo>
                        <a:pt x="12" y="376"/>
                      </a:lnTo>
                      <a:lnTo>
                        <a:pt x="26" y="411"/>
                      </a:lnTo>
                      <a:lnTo>
                        <a:pt x="38" y="430"/>
                      </a:lnTo>
                      <a:lnTo>
                        <a:pt x="60" y="450"/>
                      </a:lnTo>
                      <a:lnTo>
                        <a:pt x="79" y="456"/>
                      </a:lnTo>
                      <a:lnTo>
                        <a:pt x="97" y="456"/>
                      </a:lnTo>
                      <a:lnTo>
                        <a:pt x="123" y="450"/>
                      </a:lnTo>
                      <a:lnTo>
                        <a:pt x="131" y="435"/>
                      </a:lnTo>
                      <a:lnTo>
                        <a:pt x="148" y="421"/>
                      </a:lnTo>
                      <a:lnTo>
                        <a:pt x="157" y="389"/>
                      </a:lnTo>
                      <a:lnTo>
                        <a:pt x="161" y="413"/>
                      </a:lnTo>
                      <a:lnTo>
                        <a:pt x="185" y="439"/>
                      </a:lnTo>
                      <a:lnTo>
                        <a:pt x="220" y="480"/>
                      </a:lnTo>
                      <a:lnTo>
                        <a:pt x="252" y="511"/>
                      </a:lnTo>
                      <a:lnTo>
                        <a:pt x="340" y="526"/>
                      </a:lnTo>
                      <a:lnTo>
                        <a:pt x="497" y="508"/>
                      </a:lnTo>
                      <a:lnTo>
                        <a:pt x="519" y="494"/>
                      </a:lnTo>
                      <a:lnTo>
                        <a:pt x="551" y="473"/>
                      </a:lnTo>
                      <a:lnTo>
                        <a:pt x="571" y="452"/>
                      </a:lnTo>
                      <a:lnTo>
                        <a:pt x="583" y="425"/>
                      </a:lnTo>
                      <a:lnTo>
                        <a:pt x="603" y="380"/>
                      </a:lnTo>
                      <a:lnTo>
                        <a:pt x="604" y="327"/>
                      </a:lnTo>
                      <a:lnTo>
                        <a:pt x="591" y="260"/>
                      </a:lnTo>
                      <a:lnTo>
                        <a:pt x="621" y="359"/>
                      </a:lnTo>
                      <a:lnTo>
                        <a:pt x="641" y="402"/>
                      </a:lnTo>
                      <a:lnTo>
                        <a:pt x="680" y="428"/>
                      </a:lnTo>
                      <a:lnTo>
                        <a:pt x="712" y="428"/>
                      </a:lnTo>
                      <a:lnTo>
                        <a:pt x="731" y="421"/>
                      </a:lnTo>
                      <a:lnTo>
                        <a:pt x="756" y="418"/>
                      </a:lnTo>
                      <a:lnTo>
                        <a:pt x="767" y="385"/>
                      </a:lnTo>
                      <a:lnTo>
                        <a:pt x="760" y="301"/>
                      </a:lnTo>
                      <a:lnTo>
                        <a:pt x="728" y="263"/>
                      </a:lnTo>
                      <a:lnTo>
                        <a:pt x="682" y="236"/>
                      </a:lnTo>
                      <a:lnTo>
                        <a:pt x="653" y="201"/>
                      </a:lnTo>
                      <a:lnTo>
                        <a:pt x="621" y="144"/>
                      </a:lnTo>
                      <a:lnTo>
                        <a:pt x="589" y="81"/>
                      </a:lnTo>
                      <a:lnTo>
                        <a:pt x="564" y="54"/>
                      </a:lnTo>
                      <a:lnTo>
                        <a:pt x="551" y="44"/>
                      </a:lnTo>
                      <a:lnTo>
                        <a:pt x="529" y="33"/>
                      </a:lnTo>
                      <a:lnTo>
                        <a:pt x="500" y="22"/>
                      </a:lnTo>
                      <a:lnTo>
                        <a:pt x="464" y="9"/>
                      </a:lnTo>
                      <a:lnTo>
                        <a:pt x="386" y="0"/>
                      </a:lnTo>
                      <a:lnTo>
                        <a:pt x="294" y="2"/>
                      </a:lnTo>
                      <a:lnTo>
                        <a:pt x="189" y="4"/>
                      </a:lnTo>
                      <a:lnTo>
                        <a:pt x="132" y="26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2792520" y="1004760"/>
                  <a:ext cx="144360" cy="44640"/>
                  <a:chOff x="2792520" y="1004760"/>
                  <a:chExt cx="144360" cy="446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2792520" y="1014480"/>
                    <a:ext cx="144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9">
                        <a:moveTo>
                          <a:pt x="0" y="1"/>
                        </a:moveTo>
                        <a:lnTo>
                          <a:pt x="22" y="0"/>
                        </a:lnTo>
                        <a:lnTo>
                          <a:pt x="49" y="1"/>
                        </a:lnTo>
                        <a:lnTo>
                          <a:pt x="78" y="4"/>
                        </a:lnTo>
                        <a:lnTo>
                          <a:pt x="9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V="1">
                    <a:off x="2830680" y="1004760"/>
                    <a:ext cx="27000" cy="44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3446640" y="117936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5" y="8"/>
                      </a:move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0" y="8"/>
                      </a:lnTo>
                      <a:lnTo>
                        <a:pt x="2" y="14"/>
                      </a:lnTo>
                      <a:lnTo>
                        <a:pt x="5" y="19"/>
                      </a:lnTo>
                      <a:lnTo>
                        <a:pt x="9" y="21"/>
                      </a:lnTo>
                      <a:lnTo>
                        <a:pt x="12" y="20"/>
                      </a:lnTo>
                      <a:lnTo>
                        <a:pt x="16" y="15"/>
                      </a:lnTo>
                      <a:lnTo>
                        <a:pt x="15" y="8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3000240" y="839880"/>
                <a:ext cx="7920" cy="117360"/>
              </a:xfrm>
              <a:custGeom>
                <a:avLst/>
                <a:gdLst/>
                <a:ahLst/>
                <a:rect l="l" t="t" r="r" b="b"/>
                <a:pathLst>
                  <a:path w="5" h="74">
                    <a:moveTo>
                      <a:pt x="0" y="0"/>
                    </a:moveTo>
                    <a:lnTo>
                      <a:pt x="4" y="35"/>
                    </a:lnTo>
                    <a:lnTo>
                      <a:pt x="4" y="59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749680" y="6480"/>
              <a:ext cx="925560" cy="850680"/>
              <a:chOff x="2749680" y="6480"/>
              <a:chExt cx="925560" cy="850680"/>
            </a:xfrm>
          </p:grpSpPr>
          <p:sp>
            <p:nvSpPr>
              <p:cNvPr id="330" name=""/>
              <p:cNvSpPr/>
              <p:nvPr/>
            </p:nvSpPr>
            <p:spPr>
              <a:xfrm>
                <a:off x="2749680" y="6480"/>
                <a:ext cx="925560" cy="850680"/>
              </a:xfrm>
              <a:custGeom>
                <a:avLst/>
                <a:gdLst/>
                <a:ahLst/>
                <a:rect l="l" t="t" r="r" b="b"/>
                <a:pathLst>
                  <a:path w="583" h="536">
                    <a:moveTo>
                      <a:pt x="257" y="65"/>
                    </a:moveTo>
                    <a:lnTo>
                      <a:pt x="237" y="47"/>
                    </a:lnTo>
                    <a:lnTo>
                      <a:pt x="219" y="36"/>
                    </a:lnTo>
                    <a:lnTo>
                      <a:pt x="195" y="30"/>
                    </a:lnTo>
                    <a:lnTo>
                      <a:pt x="176" y="30"/>
                    </a:lnTo>
                    <a:lnTo>
                      <a:pt x="154" y="32"/>
                    </a:lnTo>
                    <a:lnTo>
                      <a:pt x="143" y="36"/>
                    </a:lnTo>
                    <a:lnTo>
                      <a:pt x="176" y="41"/>
                    </a:lnTo>
                    <a:lnTo>
                      <a:pt x="198" y="47"/>
                    </a:lnTo>
                    <a:lnTo>
                      <a:pt x="222" y="69"/>
                    </a:lnTo>
                    <a:lnTo>
                      <a:pt x="175" y="48"/>
                    </a:lnTo>
                    <a:lnTo>
                      <a:pt x="144" y="43"/>
                    </a:lnTo>
                    <a:lnTo>
                      <a:pt x="127" y="41"/>
                    </a:lnTo>
                    <a:lnTo>
                      <a:pt x="107" y="41"/>
                    </a:lnTo>
                    <a:lnTo>
                      <a:pt x="87" y="45"/>
                    </a:lnTo>
                    <a:lnTo>
                      <a:pt x="74" y="51"/>
                    </a:lnTo>
                    <a:lnTo>
                      <a:pt x="61" y="60"/>
                    </a:lnTo>
                    <a:lnTo>
                      <a:pt x="51" y="80"/>
                    </a:lnTo>
                    <a:lnTo>
                      <a:pt x="44" y="110"/>
                    </a:lnTo>
                    <a:lnTo>
                      <a:pt x="65" y="88"/>
                    </a:lnTo>
                    <a:lnTo>
                      <a:pt x="80" y="78"/>
                    </a:lnTo>
                    <a:lnTo>
                      <a:pt x="90" y="71"/>
                    </a:lnTo>
                    <a:lnTo>
                      <a:pt x="104" y="67"/>
                    </a:lnTo>
                    <a:lnTo>
                      <a:pt x="116" y="69"/>
                    </a:lnTo>
                    <a:lnTo>
                      <a:pt x="122" y="69"/>
                    </a:lnTo>
                    <a:lnTo>
                      <a:pt x="97" y="87"/>
                    </a:lnTo>
                    <a:lnTo>
                      <a:pt x="75" y="103"/>
                    </a:lnTo>
                    <a:lnTo>
                      <a:pt x="51" y="128"/>
                    </a:lnTo>
                    <a:lnTo>
                      <a:pt x="30" y="154"/>
                    </a:lnTo>
                    <a:lnTo>
                      <a:pt x="17" y="177"/>
                    </a:lnTo>
                    <a:lnTo>
                      <a:pt x="0" y="214"/>
                    </a:lnTo>
                    <a:lnTo>
                      <a:pt x="26" y="192"/>
                    </a:lnTo>
                    <a:lnTo>
                      <a:pt x="36" y="186"/>
                    </a:lnTo>
                    <a:lnTo>
                      <a:pt x="51" y="182"/>
                    </a:lnTo>
                    <a:lnTo>
                      <a:pt x="60" y="183"/>
                    </a:lnTo>
                    <a:lnTo>
                      <a:pt x="69" y="190"/>
                    </a:lnTo>
                    <a:lnTo>
                      <a:pt x="57" y="199"/>
                    </a:lnTo>
                    <a:lnTo>
                      <a:pt x="46" y="213"/>
                    </a:lnTo>
                    <a:lnTo>
                      <a:pt x="35" y="226"/>
                    </a:lnTo>
                    <a:lnTo>
                      <a:pt x="25" y="241"/>
                    </a:lnTo>
                    <a:lnTo>
                      <a:pt x="14" y="264"/>
                    </a:lnTo>
                    <a:lnTo>
                      <a:pt x="42" y="247"/>
                    </a:lnTo>
                    <a:lnTo>
                      <a:pt x="56" y="241"/>
                    </a:lnTo>
                    <a:lnTo>
                      <a:pt x="72" y="241"/>
                    </a:lnTo>
                    <a:lnTo>
                      <a:pt x="61" y="254"/>
                    </a:lnTo>
                    <a:lnTo>
                      <a:pt x="49" y="275"/>
                    </a:lnTo>
                    <a:lnTo>
                      <a:pt x="37" y="298"/>
                    </a:lnTo>
                    <a:lnTo>
                      <a:pt x="27" y="347"/>
                    </a:lnTo>
                    <a:lnTo>
                      <a:pt x="44" y="321"/>
                    </a:lnTo>
                    <a:lnTo>
                      <a:pt x="61" y="301"/>
                    </a:lnTo>
                    <a:lnTo>
                      <a:pt x="82" y="290"/>
                    </a:lnTo>
                    <a:lnTo>
                      <a:pt x="92" y="290"/>
                    </a:lnTo>
                    <a:lnTo>
                      <a:pt x="82" y="314"/>
                    </a:lnTo>
                    <a:lnTo>
                      <a:pt x="81" y="346"/>
                    </a:lnTo>
                    <a:lnTo>
                      <a:pt x="82" y="366"/>
                    </a:lnTo>
                    <a:lnTo>
                      <a:pt x="93" y="396"/>
                    </a:lnTo>
                    <a:lnTo>
                      <a:pt x="112" y="425"/>
                    </a:lnTo>
                    <a:lnTo>
                      <a:pt x="112" y="388"/>
                    </a:lnTo>
                    <a:lnTo>
                      <a:pt x="122" y="364"/>
                    </a:lnTo>
                    <a:lnTo>
                      <a:pt x="133" y="356"/>
                    </a:lnTo>
                    <a:lnTo>
                      <a:pt x="129" y="394"/>
                    </a:lnTo>
                    <a:lnTo>
                      <a:pt x="129" y="422"/>
                    </a:lnTo>
                    <a:lnTo>
                      <a:pt x="129" y="444"/>
                    </a:lnTo>
                    <a:lnTo>
                      <a:pt x="133" y="466"/>
                    </a:lnTo>
                    <a:lnTo>
                      <a:pt x="153" y="494"/>
                    </a:lnTo>
                    <a:lnTo>
                      <a:pt x="175" y="516"/>
                    </a:lnTo>
                    <a:lnTo>
                      <a:pt x="178" y="483"/>
                    </a:lnTo>
                    <a:lnTo>
                      <a:pt x="178" y="446"/>
                    </a:lnTo>
                    <a:lnTo>
                      <a:pt x="197" y="514"/>
                    </a:lnTo>
                    <a:lnTo>
                      <a:pt x="210" y="533"/>
                    </a:lnTo>
                    <a:lnTo>
                      <a:pt x="222" y="485"/>
                    </a:lnTo>
                    <a:lnTo>
                      <a:pt x="242" y="527"/>
                    </a:lnTo>
                    <a:lnTo>
                      <a:pt x="280" y="481"/>
                    </a:lnTo>
                    <a:lnTo>
                      <a:pt x="314" y="524"/>
                    </a:lnTo>
                    <a:lnTo>
                      <a:pt x="329" y="490"/>
                    </a:lnTo>
                    <a:lnTo>
                      <a:pt x="371" y="529"/>
                    </a:lnTo>
                    <a:lnTo>
                      <a:pt x="385" y="478"/>
                    </a:lnTo>
                    <a:lnTo>
                      <a:pt x="427" y="535"/>
                    </a:lnTo>
                    <a:lnTo>
                      <a:pt x="456" y="480"/>
                    </a:lnTo>
                    <a:lnTo>
                      <a:pt x="502" y="516"/>
                    </a:lnTo>
                    <a:lnTo>
                      <a:pt x="497" y="470"/>
                    </a:lnTo>
                    <a:lnTo>
                      <a:pt x="548" y="490"/>
                    </a:lnTo>
                    <a:lnTo>
                      <a:pt x="526" y="429"/>
                    </a:lnTo>
                    <a:lnTo>
                      <a:pt x="559" y="454"/>
                    </a:lnTo>
                    <a:lnTo>
                      <a:pt x="529" y="382"/>
                    </a:lnTo>
                    <a:lnTo>
                      <a:pt x="575" y="429"/>
                    </a:lnTo>
                    <a:lnTo>
                      <a:pt x="510" y="332"/>
                    </a:lnTo>
                    <a:lnTo>
                      <a:pt x="564" y="372"/>
                    </a:lnTo>
                    <a:lnTo>
                      <a:pt x="510" y="307"/>
                    </a:lnTo>
                    <a:lnTo>
                      <a:pt x="542" y="318"/>
                    </a:lnTo>
                    <a:lnTo>
                      <a:pt x="564" y="334"/>
                    </a:lnTo>
                    <a:lnTo>
                      <a:pt x="550" y="305"/>
                    </a:lnTo>
                    <a:lnTo>
                      <a:pt x="526" y="278"/>
                    </a:lnTo>
                    <a:lnTo>
                      <a:pt x="510" y="261"/>
                    </a:lnTo>
                    <a:lnTo>
                      <a:pt x="500" y="247"/>
                    </a:lnTo>
                    <a:lnTo>
                      <a:pt x="520" y="256"/>
                    </a:lnTo>
                    <a:lnTo>
                      <a:pt x="538" y="275"/>
                    </a:lnTo>
                    <a:lnTo>
                      <a:pt x="562" y="299"/>
                    </a:lnTo>
                    <a:lnTo>
                      <a:pt x="575" y="311"/>
                    </a:lnTo>
                    <a:lnTo>
                      <a:pt x="552" y="270"/>
                    </a:lnTo>
                    <a:lnTo>
                      <a:pt x="538" y="244"/>
                    </a:lnTo>
                    <a:lnTo>
                      <a:pt x="518" y="230"/>
                    </a:lnTo>
                    <a:lnTo>
                      <a:pt x="495" y="217"/>
                    </a:lnTo>
                    <a:lnTo>
                      <a:pt x="521" y="219"/>
                    </a:lnTo>
                    <a:lnTo>
                      <a:pt x="537" y="227"/>
                    </a:lnTo>
                    <a:lnTo>
                      <a:pt x="554" y="244"/>
                    </a:lnTo>
                    <a:lnTo>
                      <a:pt x="570" y="256"/>
                    </a:lnTo>
                    <a:lnTo>
                      <a:pt x="545" y="204"/>
                    </a:lnTo>
                    <a:lnTo>
                      <a:pt x="524" y="184"/>
                    </a:lnTo>
                    <a:lnTo>
                      <a:pt x="510" y="172"/>
                    </a:lnTo>
                    <a:lnTo>
                      <a:pt x="537" y="178"/>
                    </a:lnTo>
                    <a:lnTo>
                      <a:pt x="582" y="201"/>
                    </a:lnTo>
                    <a:lnTo>
                      <a:pt x="535" y="154"/>
                    </a:lnTo>
                    <a:lnTo>
                      <a:pt x="516" y="141"/>
                    </a:lnTo>
                    <a:lnTo>
                      <a:pt x="484" y="134"/>
                    </a:lnTo>
                    <a:lnTo>
                      <a:pt x="471" y="132"/>
                    </a:lnTo>
                    <a:lnTo>
                      <a:pt x="489" y="124"/>
                    </a:lnTo>
                    <a:lnTo>
                      <a:pt x="521" y="130"/>
                    </a:lnTo>
                    <a:lnTo>
                      <a:pt x="511" y="113"/>
                    </a:lnTo>
                    <a:lnTo>
                      <a:pt x="486" y="106"/>
                    </a:lnTo>
                    <a:lnTo>
                      <a:pt x="451" y="103"/>
                    </a:lnTo>
                    <a:lnTo>
                      <a:pt x="431" y="103"/>
                    </a:lnTo>
                    <a:lnTo>
                      <a:pt x="453" y="89"/>
                    </a:lnTo>
                    <a:lnTo>
                      <a:pt x="422" y="84"/>
                    </a:lnTo>
                    <a:lnTo>
                      <a:pt x="429" y="71"/>
                    </a:lnTo>
                    <a:lnTo>
                      <a:pt x="471" y="71"/>
                    </a:lnTo>
                    <a:lnTo>
                      <a:pt x="510" y="81"/>
                    </a:lnTo>
                    <a:lnTo>
                      <a:pt x="484" y="58"/>
                    </a:lnTo>
                    <a:lnTo>
                      <a:pt x="414" y="56"/>
                    </a:lnTo>
                    <a:lnTo>
                      <a:pt x="395" y="62"/>
                    </a:lnTo>
                    <a:lnTo>
                      <a:pt x="446" y="33"/>
                    </a:lnTo>
                    <a:lnTo>
                      <a:pt x="471" y="24"/>
                    </a:lnTo>
                    <a:lnTo>
                      <a:pt x="425" y="15"/>
                    </a:lnTo>
                    <a:lnTo>
                      <a:pt x="381" y="30"/>
                    </a:lnTo>
                    <a:lnTo>
                      <a:pt x="365" y="30"/>
                    </a:lnTo>
                    <a:lnTo>
                      <a:pt x="385" y="0"/>
                    </a:lnTo>
                    <a:lnTo>
                      <a:pt x="350" y="26"/>
                    </a:lnTo>
                    <a:lnTo>
                      <a:pt x="332" y="21"/>
                    </a:lnTo>
                    <a:lnTo>
                      <a:pt x="311" y="21"/>
                    </a:lnTo>
                    <a:lnTo>
                      <a:pt x="292" y="30"/>
                    </a:lnTo>
                    <a:lnTo>
                      <a:pt x="268" y="54"/>
                    </a:lnTo>
                    <a:lnTo>
                      <a:pt x="261" y="9"/>
                    </a:lnTo>
                    <a:lnTo>
                      <a:pt x="257" y="65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833560" y="50760"/>
                <a:ext cx="787680" cy="325440"/>
                <a:chOff x="2833560" y="50760"/>
                <a:chExt cx="787680" cy="3254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833560" y="122400"/>
                  <a:ext cx="324000" cy="150480"/>
                </a:xfrm>
                <a:custGeom>
                  <a:avLst/>
                  <a:gdLst/>
                  <a:ahLst/>
                  <a:rect l="l" t="t" r="r" b="b"/>
                  <a:pathLst>
                    <a:path w="204" h="95">
                      <a:moveTo>
                        <a:pt x="203" y="34"/>
                      </a:moveTo>
                      <a:lnTo>
                        <a:pt x="192" y="15"/>
                      </a:lnTo>
                      <a:lnTo>
                        <a:pt x="177" y="7"/>
                      </a:lnTo>
                      <a:lnTo>
                        <a:pt x="164" y="3"/>
                      </a:lnTo>
                      <a:lnTo>
                        <a:pt x="145" y="0"/>
                      </a:lnTo>
                      <a:lnTo>
                        <a:pt x="118" y="0"/>
                      </a:lnTo>
                      <a:lnTo>
                        <a:pt x="100" y="3"/>
                      </a:lnTo>
                      <a:lnTo>
                        <a:pt x="78" y="13"/>
                      </a:lnTo>
                      <a:lnTo>
                        <a:pt x="53" y="34"/>
                      </a:lnTo>
                      <a:lnTo>
                        <a:pt x="14" y="68"/>
                      </a:lnTo>
                      <a:lnTo>
                        <a:pt x="0" y="94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247920" y="50760"/>
                  <a:ext cx="209520" cy="104760"/>
                </a:xfrm>
                <a:custGeom>
                  <a:avLst/>
                  <a:gdLst/>
                  <a:ahLst/>
                  <a:rect l="l" t="t" r="r" b="b"/>
                  <a:pathLst>
                    <a:path w="132" h="66">
                      <a:moveTo>
                        <a:pt x="0" y="65"/>
                      </a:moveTo>
                      <a:lnTo>
                        <a:pt x="18" y="35"/>
                      </a:lnTo>
                      <a:lnTo>
                        <a:pt x="30" y="25"/>
                      </a:lnTo>
                      <a:lnTo>
                        <a:pt x="43" y="19"/>
                      </a:lnTo>
                      <a:lnTo>
                        <a:pt x="59" y="12"/>
                      </a:lnTo>
                      <a:lnTo>
                        <a:pt x="75" y="7"/>
                      </a:lnTo>
                      <a:lnTo>
                        <a:pt x="96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389400" y="233280"/>
                  <a:ext cx="231840" cy="49320"/>
                </a:xfrm>
                <a:custGeom>
                  <a:avLst/>
                  <a:gdLst/>
                  <a:ahLst/>
                  <a:rect l="l" t="t" r="r" b="b"/>
                  <a:pathLst>
                    <a:path w="146" h="31">
                      <a:moveTo>
                        <a:pt x="0" y="2"/>
                      </a:moveTo>
                      <a:lnTo>
                        <a:pt x="46" y="0"/>
                      </a:lnTo>
                      <a:lnTo>
                        <a:pt x="85" y="5"/>
                      </a:lnTo>
                      <a:lnTo>
                        <a:pt x="119" y="15"/>
                      </a:lnTo>
                      <a:lnTo>
                        <a:pt x="145" y="3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90800" y="195120"/>
                  <a:ext cx="263520" cy="181080"/>
                </a:xfrm>
                <a:custGeom>
                  <a:avLst/>
                  <a:gdLst/>
                  <a:ahLst/>
                  <a:rect l="l" t="t" r="r" b="b"/>
                  <a:pathLst>
                    <a:path w="166" h="114">
                      <a:moveTo>
                        <a:pt x="165" y="3"/>
                      </a:moveTo>
                      <a:lnTo>
                        <a:pt x="125" y="0"/>
                      </a:lnTo>
                      <a:lnTo>
                        <a:pt x="89" y="3"/>
                      </a:lnTo>
                      <a:lnTo>
                        <a:pt x="54" y="22"/>
                      </a:lnTo>
                      <a:lnTo>
                        <a:pt x="20" y="59"/>
                      </a:lnTo>
                      <a:lnTo>
                        <a:pt x="5" y="87"/>
                      </a:lnTo>
                      <a:lnTo>
                        <a:pt x="0" y="113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905200" y="157320"/>
                  <a:ext cx="230040" cy="107640"/>
                </a:xfrm>
                <a:custGeom>
                  <a:avLst/>
                  <a:gdLst/>
                  <a:ahLst/>
                  <a:rect l="l" t="t" r="r" b="b"/>
                  <a:pathLst>
                    <a:path w="145" h="68">
                      <a:moveTo>
                        <a:pt x="144" y="11"/>
                      </a:moveTo>
                      <a:lnTo>
                        <a:pt x="99" y="0"/>
                      </a:lnTo>
                      <a:lnTo>
                        <a:pt x="72" y="2"/>
                      </a:lnTo>
                      <a:lnTo>
                        <a:pt x="37" y="17"/>
                      </a:lnTo>
                      <a:lnTo>
                        <a:pt x="16" y="35"/>
                      </a:lnTo>
                      <a:lnTo>
                        <a:pt x="0" y="67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33680" y="279360"/>
                  <a:ext cx="177840" cy="79560"/>
                </a:xfrm>
                <a:custGeom>
                  <a:avLst/>
                  <a:gdLst/>
                  <a:ahLst/>
                  <a:rect l="l" t="t" r="r" b="b"/>
                  <a:pathLst>
                    <a:path w="112" h="50">
                      <a:moveTo>
                        <a:pt x="0" y="1"/>
                      </a:moveTo>
                      <a:lnTo>
                        <a:pt x="23" y="0"/>
                      </a:lnTo>
                      <a:lnTo>
                        <a:pt x="50" y="6"/>
                      </a:lnTo>
                      <a:lnTo>
                        <a:pt x="64" y="14"/>
                      </a:lnTo>
                      <a:lnTo>
                        <a:pt x="88" y="29"/>
                      </a:lnTo>
                      <a:lnTo>
                        <a:pt x="111" y="49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292560" y="112680"/>
                  <a:ext cx="191880" cy="34920"/>
                </a:xfrm>
                <a:custGeom>
                  <a:avLst/>
                  <a:gdLst/>
                  <a:ahLst/>
                  <a:rect l="l" t="t" r="r" b="b"/>
                  <a:pathLst>
                    <a:path w="121" h="22">
                      <a:moveTo>
                        <a:pt x="0" y="21"/>
                      </a:moveTo>
                      <a:lnTo>
                        <a:pt x="21" y="12"/>
                      </a:lnTo>
                      <a:lnTo>
                        <a:pt x="51" y="4"/>
                      </a:lnTo>
                      <a:lnTo>
                        <a:pt x="80" y="0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373560" y="189000"/>
                  <a:ext cx="161640" cy="2052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0" y="12"/>
                      </a:moveTo>
                      <a:lnTo>
                        <a:pt x="34" y="5"/>
                      </a:lnTo>
                      <a:lnTo>
                        <a:pt x="60" y="2"/>
                      </a:lnTo>
                      <a:lnTo>
                        <a:pt x="78" y="0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220920" y="57240"/>
                  <a:ext cx="87480" cy="9828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0" y="61"/>
                      </a:moveTo>
                      <a:lnTo>
                        <a:pt x="9" y="41"/>
                      </a:lnTo>
                      <a:lnTo>
                        <a:pt x="19" y="25"/>
                      </a:lnTo>
                      <a:lnTo>
                        <a:pt x="35" y="8"/>
                      </a:lnTo>
                      <a:lnTo>
                        <a:pt x="48" y="1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2725560" y="1192320"/>
              <a:ext cx="1227240" cy="790560"/>
              <a:chOff x="2725560" y="1192320"/>
              <a:chExt cx="1227240" cy="7905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725560" y="1290600"/>
                <a:ext cx="1227240" cy="692280"/>
                <a:chOff x="2725560" y="1290600"/>
                <a:chExt cx="1227240" cy="6922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25560" y="1290600"/>
                  <a:ext cx="682920" cy="692280"/>
                </a:xfrm>
                <a:custGeom>
                  <a:avLst/>
                  <a:gdLst/>
                  <a:ahLst/>
                  <a:rect l="l" t="t" r="r" b="b"/>
                  <a:pathLst>
                    <a:path w="430" h="436">
                      <a:moveTo>
                        <a:pt x="399" y="20"/>
                      </a:moveTo>
                      <a:lnTo>
                        <a:pt x="397" y="76"/>
                      </a:lnTo>
                      <a:lnTo>
                        <a:pt x="391" y="139"/>
                      </a:lnTo>
                      <a:lnTo>
                        <a:pt x="389" y="189"/>
                      </a:lnTo>
                      <a:lnTo>
                        <a:pt x="389" y="215"/>
                      </a:lnTo>
                      <a:lnTo>
                        <a:pt x="397" y="272"/>
                      </a:lnTo>
                      <a:lnTo>
                        <a:pt x="401" y="305"/>
                      </a:lnTo>
                      <a:lnTo>
                        <a:pt x="411" y="331"/>
                      </a:lnTo>
                      <a:lnTo>
                        <a:pt x="426" y="357"/>
                      </a:lnTo>
                      <a:lnTo>
                        <a:pt x="429" y="379"/>
                      </a:lnTo>
                      <a:lnTo>
                        <a:pt x="429" y="392"/>
                      </a:lnTo>
                      <a:lnTo>
                        <a:pt x="428" y="403"/>
                      </a:lnTo>
                      <a:lnTo>
                        <a:pt x="410" y="414"/>
                      </a:lnTo>
                      <a:lnTo>
                        <a:pt x="393" y="426"/>
                      </a:lnTo>
                      <a:lnTo>
                        <a:pt x="358" y="423"/>
                      </a:lnTo>
                      <a:lnTo>
                        <a:pt x="336" y="421"/>
                      </a:lnTo>
                      <a:lnTo>
                        <a:pt x="312" y="414"/>
                      </a:lnTo>
                      <a:lnTo>
                        <a:pt x="300" y="411"/>
                      </a:lnTo>
                      <a:lnTo>
                        <a:pt x="286" y="413"/>
                      </a:lnTo>
                      <a:lnTo>
                        <a:pt x="266" y="424"/>
                      </a:lnTo>
                      <a:lnTo>
                        <a:pt x="239" y="429"/>
                      </a:lnTo>
                      <a:lnTo>
                        <a:pt x="219" y="435"/>
                      </a:lnTo>
                      <a:lnTo>
                        <a:pt x="190" y="435"/>
                      </a:lnTo>
                      <a:lnTo>
                        <a:pt x="161" y="431"/>
                      </a:lnTo>
                      <a:lnTo>
                        <a:pt x="134" y="423"/>
                      </a:lnTo>
                      <a:lnTo>
                        <a:pt x="120" y="423"/>
                      </a:lnTo>
                      <a:lnTo>
                        <a:pt x="85" y="423"/>
                      </a:lnTo>
                      <a:lnTo>
                        <a:pt x="66" y="424"/>
                      </a:lnTo>
                      <a:lnTo>
                        <a:pt x="62" y="424"/>
                      </a:lnTo>
                      <a:lnTo>
                        <a:pt x="48" y="424"/>
                      </a:lnTo>
                      <a:lnTo>
                        <a:pt x="34" y="423"/>
                      </a:lnTo>
                      <a:lnTo>
                        <a:pt x="10" y="413"/>
                      </a:lnTo>
                      <a:lnTo>
                        <a:pt x="5" y="402"/>
                      </a:lnTo>
                      <a:lnTo>
                        <a:pt x="2" y="387"/>
                      </a:lnTo>
                      <a:lnTo>
                        <a:pt x="0" y="373"/>
                      </a:lnTo>
                      <a:lnTo>
                        <a:pt x="6" y="362"/>
                      </a:lnTo>
                      <a:lnTo>
                        <a:pt x="18" y="359"/>
                      </a:lnTo>
                      <a:lnTo>
                        <a:pt x="35" y="359"/>
                      </a:lnTo>
                      <a:lnTo>
                        <a:pt x="58" y="361"/>
                      </a:lnTo>
                      <a:lnTo>
                        <a:pt x="99" y="366"/>
                      </a:lnTo>
                      <a:lnTo>
                        <a:pt x="115" y="364"/>
                      </a:lnTo>
                      <a:lnTo>
                        <a:pt x="127" y="357"/>
                      </a:lnTo>
                      <a:lnTo>
                        <a:pt x="147" y="340"/>
                      </a:lnTo>
                      <a:lnTo>
                        <a:pt x="177" y="320"/>
                      </a:lnTo>
                      <a:lnTo>
                        <a:pt x="203" y="303"/>
                      </a:lnTo>
                      <a:lnTo>
                        <a:pt x="226" y="290"/>
                      </a:lnTo>
                      <a:lnTo>
                        <a:pt x="243" y="286"/>
                      </a:lnTo>
                      <a:lnTo>
                        <a:pt x="248" y="277"/>
                      </a:lnTo>
                      <a:lnTo>
                        <a:pt x="262" y="222"/>
                      </a:lnTo>
                      <a:lnTo>
                        <a:pt x="276" y="171"/>
                      </a:lnTo>
                      <a:lnTo>
                        <a:pt x="283" y="137"/>
                      </a:lnTo>
                      <a:lnTo>
                        <a:pt x="284" y="102"/>
                      </a:lnTo>
                      <a:lnTo>
                        <a:pt x="272" y="78"/>
                      </a:lnTo>
                      <a:lnTo>
                        <a:pt x="255" y="45"/>
                      </a:lnTo>
                      <a:lnTo>
                        <a:pt x="241" y="0"/>
                      </a:lnTo>
                      <a:lnTo>
                        <a:pt x="399" y="2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70240" y="1298520"/>
                  <a:ext cx="682560" cy="684360"/>
                </a:xfrm>
                <a:custGeom>
                  <a:avLst/>
                  <a:gdLst/>
                  <a:ahLst/>
                  <a:rect l="l" t="t" r="r" b="b"/>
                  <a:pathLst>
                    <a:path w="430" h="431">
                      <a:moveTo>
                        <a:pt x="29" y="15"/>
                      </a:moveTo>
                      <a:lnTo>
                        <a:pt x="31" y="71"/>
                      </a:lnTo>
                      <a:lnTo>
                        <a:pt x="38" y="134"/>
                      </a:lnTo>
                      <a:lnTo>
                        <a:pt x="39" y="184"/>
                      </a:lnTo>
                      <a:lnTo>
                        <a:pt x="39" y="210"/>
                      </a:lnTo>
                      <a:lnTo>
                        <a:pt x="31" y="267"/>
                      </a:lnTo>
                      <a:lnTo>
                        <a:pt x="28" y="300"/>
                      </a:lnTo>
                      <a:lnTo>
                        <a:pt x="17" y="326"/>
                      </a:lnTo>
                      <a:lnTo>
                        <a:pt x="3" y="352"/>
                      </a:lnTo>
                      <a:lnTo>
                        <a:pt x="0" y="374"/>
                      </a:lnTo>
                      <a:lnTo>
                        <a:pt x="0" y="387"/>
                      </a:lnTo>
                      <a:lnTo>
                        <a:pt x="1" y="398"/>
                      </a:lnTo>
                      <a:lnTo>
                        <a:pt x="19" y="409"/>
                      </a:lnTo>
                      <a:lnTo>
                        <a:pt x="36" y="421"/>
                      </a:lnTo>
                      <a:lnTo>
                        <a:pt x="71" y="418"/>
                      </a:lnTo>
                      <a:lnTo>
                        <a:pt x="92" y="416"/>
                      </a:lnTo>
                      <a:lnTo>
                        <a:pt x="117" y="409"/>
                      </a:lnTo>
                      <a:lnTo>
                        <a:pt x="129" y="406"/>
                      </a:lnTo>
                      <a:lnTo>
                        <a:pt x="142" y="408"/>
                      </a:lnTo>
                      <a:lnTo>
                        <a:pt x="162" y="419"/>
                      </a:lnTo>
                      <a:lnTo>
                        <a:pt x="190" y="424"/>
                      </a:lnTo>
                      <a:lnTo>
                        <a:pt x="210" y="430"/>
                      </a:lnTo>
                      <a:lnTo>
                        <a:pt x="239" y="430"/>
                      </a:lnTo>
                      <a:lnTo>
                        <a:pt x="268" y="426"/>
                      </a:lnTo>
                      <a:lnTo>
                        <a:pt x="295" y="418"/>
                      </a:lnTo>
                      <a:lnTo>
                        <a:pt x="309" y="418"/>
                      </a:lnTo>
                      <a:lnTo>
                        <a:pt x="344" y="418"/>
                      </a:lnTo>
                      <a:lnTo>
                        <a:pt x="363" y="419"/>
                      </a:lnTo>
                      <a:lnTo>
                        <a:pt x="367" y="419"/>
                      </a:lnTo>
                      <a:lnTo>
                        <a:pt x="381" y="419"/>
                      </a:lnTo>
                      <a:lnTo>
                        <a:pt x="395" y="418"/>
                      </a:lnTo>
                      <a:lnTo>
                        <a:pt x="419" y="408"/>
                      </a:lnTo>
                      <a:lnTo>
                        <a:pt x="424" y="397"/>
                      </a:lnTo>
                      <a:lnTo>
                        <a:pt x="427" y="382"/>
                      </a:lnTo>
                      <a:lnTo>
                        <a:pt x="429" y="368"/>
                      </a:lnTo>
                      <a:lnTo>
                        <a:pt x="422" y="357"/>
                      </a:lnTo>
                      <a:lnTo>
                        <a:pt x="411" y="354"/>
                      </a:lnTo>
                      <a:lnTo>
                        <a:pt x="393" y="354"/>
                      </a:lnTo>
                      <a:lnTo>
                        <a:pt x="371" y="356"/>
                      </a:lnTo>
                      <a:lnTo>
                        <a:pt x="329" y="361"/>
                      </a:lnTo>
                      <a:lnTo>
                        <a:pt x="314" y="359"/>
                      </a:lnTo>
                      <a:lnTo>
                        <a:pt x="301" y="352"/>
                      </a:lnTo>
                      <a:lnTo>
                        <a:pt x="281" y="335"/>
                      </a:lnTo>
                      <a:lnTo>
                        <a:pt x="252" y="315"/>
                      </a:lnTo>
                      <a:lnTo>
                        <a:pt x="226" y="303"/>
                      </a:lnTo>
                      <a:lnTo>
                        <a:pt x="200" y="291"/>
                      </a:lnTo>
                      <a:lnTo>
                        <a:pt x="186" y="281"/>
                      </a:lnTo>
                      <a:lnTo>
                        <a:pt x="180" y="272"/>
                      </a:lnTo>
                      <a:lnTo>
                        <a:pt x="166" y="217"/>
                      </a:lnTo>
                      <a:lnTo>
                        <a:pt x="153" y="166"/>
                      </a:lnTo>
                      <a:lnTo>
                        <a:pt x="146" y="132"/>
                      </a:lnTo>
                      <a:lnTo>
                        <a:pt x="144" y="97"/>
                      </a:lnTo>
                      <a:lnTo>
                        <a:pt x="151" y="69"/>
                      </a:lnTo>
                      <a:lnTo>
                        <a:pt x="160" y="38"/>
                      </a:lnTo>
                      <a:lnTo>
                        <a:pt x="166" y="0"/>
                      </a:lnTo>
                      <a:lnTo>
                        <a:pt x="29" y="15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2965320" y="1192320"/>
                <a:ext cx="787680" cy="469800"/>
              </a:xfrm>
              <a:custGeom>
                <a:avLst/>
                <a:gdLst/>
                <a:ahLst/>
                <a:rect l="l" t="t" r="r" b="b"/>
                <a:pathLst>
                  <a:path w="496" h="296">
                    <a:moveTo>
                      <a:pt x="54" y="16"/>
                    </a:moveTo>
                    <a:lnTo>
                      <a:pt x="102" y="48"/>
                    </a:lnTo>
                    <a:lnTo>
                      <a:pt x="150" y="65"/>
                    </a:lnTo>
                    <a:lnTo>
                      <a:pt x="195" y="72"/>
                    </a:lnTo>
                    <a:lnTo>
                      <a:pt x="236" y="76"/>
                    </a:lnTo>
                    <a:lnTo>
                      <a:pt x="275" y="72"/>
                    </a:lnTo>
                    <a:lnTo>
                      <a:pt x="307" y="65"/>
                    </a:lnTo>
                    <a:lnTo>
                      <a:pt x="358" y="55"/>
                    </a:lnTo>
                    <a:lnTo>
                      <a:pt x="390" y="40"/>
                    </a:lnTo>
                    <a:lnTo>
                      <a:pt x="418" y="24"/>
                    </a:lnTo>
                    <a:lnTo>
                      <a:pt x="457" y="0"/>
                    </a:lnTo>
                    <a:lnTo>
                      <a:pt x="475" y="68"/>
                    </a:lnTo>
                    <a:lnTo>
                      <a:pt x="489" y="141"/>
                    </a:lnTo>
                    <a:lnTo>
                      <a:pt x="495" y="237"/>
                    </a:lnTo>
                    <a:lnTo>
                      <a:pt x="450" y="117"/>
                    </a:lnTo>
                    <a:lnTo>
                      <a:pt x="450" y="237"/>
                    </a:lnTo>
                    <a:lnTo>
                      <a:pt x="409" y="151"/>
                    </a:lnTo>
                    <a:lnTo>
                      <a:pt x="409" y="274"/>
                    </a:lnTo>
                    <a:lnTo>
                      <a:pt x="374" y="151"/>
                    </a:lnTo>
                    <a:lnTo>
                      <a:pt x="361" y="271"/>
                    </a:lnTo>
                    <a:lnTo>
                      <a:pt x="332" y="158"/>
                    </a:lnTo>
                    <a:lnTo>
                      <a:pt x="320" y="284"/>
                    </a:lnTo>
                    <a:lnTo>
                      <a:pt x="281" y="154"/>
                    </a:lnTo>
                    <a:lnTo>
                      <a:pt x="269" y="267"/>
                    </a:lnTo>
                    <a:lnTo>
                      <a:pt x="253" y="161"/>
                    </a:lnTo>
                    <a:lnTo>
                      <a:pt x="221" y="295"/>
                    </a:lnTo>
                    <a:lnTo>
                      <a:pt x="201" y="161"/>
                    </a:lnTo>
                    <a:lnTo>
                      <a:pt x="183" y="295"/>
                    </a:lnTo>
                    <a:lnTo>
                      <a:pt x="183" y="154"/>
                    </a:lnTo>
                    <a:lnTo>
                      <a:pt x="132" y="291"/>
                    </a:lnTo>
                    <a:lnTo>
                      <a:pt x="132" y="178"/>
                    </a:lnTo>
                    <a:lnTo>
                      <a:pt x="83" y="291"/>
                    </a:lnTo>
                    <a:lnTo>
                      <a:pt x="112" y="141"/>
                    </a:lnTo>
                    <a:lnTo>
                      <a:pt x="45" y="271"/>
                    </a:lnTo>
                    <a:lnTo>
                      <a:pt x="74" y="127"/>
                    </a:lnTo>
                    <a:lnTo>
                      <a:pt x="0" y="243"/>
                    </a:lnTo>
                    <a:lnTo>
                      <a:pt x="7" y="185"/>
                    </a:lnTo>
                    <a:lnTo>
                      <a:pt x="10" y="148"/>
                    </a:lnTo>
                    <a:lnTo>
                      <a:pt x="22" y="96"/>
                    </a:lnTo>
                    <a:lnTo>
                      <a:pt x="39" y="55"/>
                    </a:lnTo>
                    <a:lnTo>
                      <a:pt x="54" y="16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025800" y="166680"/>
              <a:ext cx="455760" cy="569880"/>
            </a:xfrm>
            <a:custGeom>
              <a:avLst/>
              <a:gdLst/>
              <a:ahLst/>
              <a:rect l="l" t="t" r="r" b="b"/>
              <a:pathLst>
                <a:path w="287" h="359">
                  <a:moveTo>
                    <a:pt x="144" y="0"/>
                  </a:moveTo>
                  <a:lnTo>
                    <a:pt x="125" y="3"/>
                  </a:lnTo>
                  <a:lnTo>
                    <a:pt x="107" y="11"/>
                  </a:lnTo>
                  <a:lnTo>
                    <a:pt x="83" y="28"/>
                  </a:lnTo>
                  <a:lnTo>
                    <a:pt x="60" y="55"/>
                  </a:lnTo>
                  <a:lnTo>
                    <a:pt x="39" y="88"/>
                  </a:lnTo>
                  <a:lnTo>
                    <a:pt x="21" y="123"/>
                  </a:lnTo>
                  <a:lnTo>
                    <a:pt x="9" y="159"/>
                  </a:lnTo>
                  <a:lnTo>
                    <a:pt x="3" y="184"/>
                  </a:lnTo>
                  <a:lnTo>
                    <a:pt x="0" y="206"/>
                  </a:lnTo>
                  <a:lnTo>
                    <a:pt x="0" y="233"/>
                  </a:lnTo>
                  <a:lnTo>
                    <a:pt x="6" y="247"/>
                  </a:lnTo>
                  <a:lnTo>
                    <a:pt x="13" y="260"/>
                  </a:lnTo>
                  <a:lnTo>
                    <a:pt x="24" y="280"/>
                  </a:lnTo>
                  <a:lnTo>
                    <a:pt x="34" y="301"/>
                  </a:lnTo>
                  <a:lnTo>
                    <a:pt x="44" y="312"/>
                  </a:lnTo>
                  <a:lnTo>
                    <a:pt x="60" y="327"/>
                  </a:lnTo>
                  <a:lnTo>
                    <a:pt x="75" y="340"/>
                  </a:lnTo>
                  <a:lnTo>
                    <a:pt x="99" y="350"/>
                  </a:lnTo>
                  <a:lnTo>
                    <a:pt x="125" y="357"/>
                  </a:lnTo>
                  <a:lnTo>
                    <a:pt x="149" y="358"/>
                  </a:lnTo>
                  <a:lnTo>
                    <a:pt x="183" y="355"/>
                  </a:lnTo>
                  <a:lnTo>
                    <a:pt x="211" y="348"/>
                  </a:lnTo>
                  <a:lnTo>
                    <a:pt x="226" y="341"/>
                  </a:lnTo>
                  <a:lnTo>
                    <a:pt x="240" y="332"/>
                  </a:lnTo>
                  <a:lnTo>
                    <a:pt x="260" y="315"/>
                  </a:lnTo>
                  <a:lnTo>
                    <a:pt x="273" y="290"/>
                  </a:lnTo>
                  <a:lnTo>
                    <a:pt x="285" y="258"/>
                  </a:lnTo>
                  <a:lnTo>
                    <a:pt x="286" y="233"/>
                  </a:lnTo>
                  <a:lnTo>
                    <a:pt x="285" y="207"/>
                  </a:lnTo>
                  <a:lnTo>
                    <a:pt x="281" y="181"/>
                  </a:lnTo>
                  <a:lnTo>
                    <a:pt x="276" y="163"/>
                  </a:lnTo>
                  <a:lnTo>
                    <a:pt x="266" y="134"/>
                  </a:lnTo>
                  <a:lnTo>
                    <a:pt x="258" y="116"/>
                  </a:lnTo>
                  <a:lnTo>
                    <a:pt x="244" y="91"/>
                  </a:lnTo>
                  <a:lnTo>
                    <a:pt x="232" y="67"/>
                  </a:lnTo>
                  <a:lnTo>
                    <a:pt x="222" y="52"/>
                  </a:lnTo>
                  <a:lnTo>
                    <a:pt x="211" y="35"/>
                  </a:lnTo>
                  <a:lnTo>
                    <a:pt x="197" y="23"/>
                  </a:lnTo>
                  <a:lnTo>
                    <a:pt x="184" y="11"/>
                  </a:lnTo>
                  <a:lnTo>
                    <a:pt x="170" y="4"/>
                  </a:lnTo>
                  <a:lnTo>
                    <a:pt x="144" y="0"/>
                  </a:lnTo>
                </a:path>
              </a:pathLst>
            </a:custGeom>
            <a:solidFill>
              <a:srgbClr val="ffe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830760" y="946080"/>
              <a:ext cx="209520" cy="266760"/>
              <a:chOff x="3830760" y="946080"/>
              <a:chExt cx="209520" cy="266760"/>
            </a:xfrm>
          </p:grpSpPr>
          <p:sp>
            <p:nvSpPr>
              <p:cNvPr id="348" name=""/>
              <p:cNvSpPr/>
              <p:nvPr/>
            </p:nvSpPr>
            <p:spPr>
              <a:xfrm>
                <a:off x="3832200" y="1017720"/>
                <a:ext cx="198360" cy="95040"/>
              </a:xfrm>
              <a:custGeom>
                <a:avLst/>
                <a:gdLst/>
                <a:ahLst/>
                <a:rect l="l" t="t" r="r" b="b"/>
                <a:pathLst>
                  <a:path w="125" h="60">
                    <a:moveTo>
                      <a:pt x="107" y="1"/>
                    </a:moveTo>
                    <a:lnTo>
                      <a:pt x="95" y="0"/>
                    </a:lnTo>
                    <a:lnTo>
                      <a:pt x="76" y="1"/>
                    </a:lnTo>
                    <a:lnTo>
                      <a:pt x="54" y="5"/>
                    </a:lnTo>
                    <a:lnTo>
                      <a:pt x="32" y="11"/>
                    </a:lnTo>
                    <a:lnTo>
                      <a:pt x="17" y="16"/>
                    </a:lnTo>
                    <a:lnTo>
                      <a:pt x="6" y="20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4"/>
                    </a:lnTo>
                    <a:lnTo>
                      <a:pt x="7" y="53"/>
                    </a:lnTo>
                    <a:lnTo>
                      <a:pt x="13" y="56"/>
                    </a:lnTo>
                    <a:lnTo>
                      <a:pt x="25" y="59"/>
                    </a:lnTo>
                    <a:lnTo>
                      <a:pt x="38" y="58"/>
                    </a:lnTo>
                    <a:lnTo>
                      <a:pt x="60" y="53"/>
                    </a:lnTo>
                    <a:lnTo>
                      <a:pt x="87" y="48"/>
                    </a:lnTo>
                    <a:lnTo>
                      <a:pt x="104" y="43"/>
                    </a:lnTo>
                    <a:lnTo>
                      <a:pt x="114" y="37"/>
                    </a:lnTo>
                    <a:lnTo>
                      <a:pt x="120" y="34"/>
                    </a:lnTo>
                    <a:lnTo>
                      <a:pt x="124" y="27"/>
                    </a:lnTo>
                    <a:lnTo>
                      <a:pt x="124" y="19"/>
                    </a:lnTo>
                    <a:lnTo>
                      <a:pt x="123" y="11"/>
                    </a:lnTo>
                    <a:lnTo>
                      <a:pt x="117" y="4"/>
                    </a:lnTo>
                    <a:lnTo>
                      <a:pt x="107" y="1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30760" y="946080"/>
                <a:ext cx="182520" cy="101520"/>
              </a:xfrm>
              <a:custGeom>
                <a:avLst/>
                <a:gdLst/>
                <a:ahLst/>
                <a:rect l="l" t="t" r="r" b="b"/>
                <a:pathLst>
                  <a:path w="115" h="64">
                    <a:moveTo>
                      <a:pt x="86" y="0"/>
                    </a:moveTo>
                    <a:lnTo>
                      <a:pt x="69" y="0"/>
                    </a:lnTo>
                    <a:lnTo>
                      <a:pt x="54" y="3"/>
                    </a:lnTo>
                    <a:lnTo>
                      <a:pt x="43" y="5"/>
                    </a:lnTo>
                    <a:lnTo>
                      <a:pt x="28" y="9"/>
                    </a:lnTo>
                    <a:lnTo>
                      <a:pt x="14" y="15"/>
                    </a:lnTo>
                    <a:lnTo>
                      <a:pt x="4" y="22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5" y="63"/>
                    </a:lnTo>
                    <a:lnTo>
                      <a:pt x="27" y="63"/>
                    </a:lnTo>
                    <a:lnTo>
                      <a:pt x="45" y="59"/>
                    </a:lnTo>
                    <a:lnTo>
                      <a:pt x="63" y="55"/>
                    </a:lnTo>
                    <a:lnTo>
                      <a:pt x="86" y="49"/>
                    </a:lnTo>
                    <a:lnTo>
                      <a:pt x="102" y="43"/>
                    </a:lnTo>
                    <a:lnTo>
                      <a:pt x="110" y="35"/>
                    </a:lnTo>
                    <a:lnTo>
                      <a:pt x="114" y="25"/>
                    </a:lnTo>
                    <a:lnTo>
                      <a:pt x="114" y="18"/>
                    </a:lnTo>
                    <a:lnTo>
                      <a:pt x="110" y="12"/>
                    </a:lnTo>
                    <a:lnTo>
                      <a:pt x="105" y="6"/>
                    </a:lnTo>
                    <a:lnTo>
                      <a:pt x="96" y="2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46600" y="1085760"/>
                <a:ext cx="193680" cy="127080"/>
              </a:xfrm>
              <a:custGeom>
                <a:avLst/>
                <a:gdLst/>
                <a:ahLst/>
                <a:rect l="l" t="t" r="r" b="b"/>
                <a:pathLst>
                  <a:path w="122" h="80">
                    <a:moveTo>
                      <a:pt x="3" y="24"/>
                    </a:moveTo>
                    <a:lnTo>
                      <a:pt x="9" y="18"/>
                    </a:lnTo>
                    <a:lnTo>
                      <a:pt x="20" y="13"/>
                    </a:lnTo>
                    <a:lnTo>
                      <a:pt x="42" y="8"/>
                    </a:lnTo>
                    <a:lnTo>
                      <a:pt x="62" y="3"/>
                    </a:lnTo>
                    <a:lnTo>
                      <a:pt x="85" y="0"/>
                    </a:lnTo>
                    <a:lnTo>
                      <a:pt x="96" y="2"/>
                    </a:lnTo>
                    <a:lnTo>
                      <a:pt x="110" y="7"/>
                    </a:lnTo>
                    <a:lnTo>
                      <a:pt x="119" y="15"/>
                    </a:lnTo>
                    <a:lnTo>
                      <a:pt x="121" y="26"/>
                    </a:lnTo>
                    <a:lnTo>
                      <a:pt x="117" y="39"/>
                    </a:lnTo>
                    <a:lnTo>
                      <a:pt x="103" y="55"/>
                    </a:lnTo>
                    <a:lnTo>
                      <a:pt x="92" y="66"/>
                    </a:lnTo>
                    <a:lnTo>
                      <a:pt x="78" y="71"/>
                    </a:lnTo>
                    <a:lnTo>
                      <a:pt x="61" y="77"/>
                    </a:lnTo>
                    <a:lnTo>
                      <a:pt x="40" y="79"/>
                    </a:lnTo>
                    <a:lnTo>
                      <a:pt x="29" y="79"/>
                    </a:lnTo>
                    <a:lnTo>
                      <a:pt x="39" y="63"/>
                    </a:lnTo>
                    <a:lnTo>
                      <a:pt x="20" y="58"/>
                    </a:lnTo>
                    <a:lnTo>
                      <a:pt x="10" y="55"/>
                    </a:lnTo>
                    <a:lnTo>
                      <a:pt x="3" y="50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3" y="24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908440" y="954000"/>
              <a:ext cx="199800" cy="258840"/>
              <a:chOff x="2908440" y="954000"/>
              <a:chExt cx="199800" cy="258840"/>
            </a:xfrm>
          </p:grpSpPr>
          <p:sp>
            <p:nvSpPr>
              <p:cNvPr id="352" name=""/>
              <p:cNvSpPr/>
              <p:nvPr/>
            </p:nvSpPr>
            <p:spPr>
              <a:xfrm>
                <a:off x="2916360" y="1023840"/>
                <a:ext cx="191880" cy="96840"/>
              </a:xfrm>
              <a:custGeom>
                <a:avLst/>
                <a:gdLst/>
                <a:ahLst/>
                <a:rect l="l" t="t" r="r" b="b"/>
                <a:pathLst>
                  <a:path w="121" h="61">
                    <a:moveTo>
                      <a:pt x="110" y="18"/>
                    </a:moveTo>
                    <a:lnTo>
                      <a:pt x="100" y="15"/>
                    </a:lnTo>
                    <a:lnTo>
                      <a:pt x="84" y="10"/>
                    </a:lnTo>
                    <a:lnTo>
                      <a:pt x="69" y="6"/>
                    </a:lnTo>
                    <a:lnTo>
                      <a:pt x="56" y="2"/>
                    </a:lnTo>
                    <a:lnTo>
                      <a:pt x="39" y="0"/>
                    </a:lnTo>
                    <a:lnTo>
                      <a:pt x="22" y="1"/>
                    </a:lnTo>
                    <a:lnTo>
                      <a:pt x="14" y="2"/>
                    </a:lnTo>
                    <a:lnTo>
                      <a:pt x="7" y="4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2" y="44"/>
                    </a:lnTo>
                    <a:lnTo>
                      <a:pt x="24" y="45"/>
                    </a:lnTo>
                    <a:lnTo>
                      <a:pt x="38" y="49"/>
                    </a:lnTo>
                    <a:lnTo>
                      <a:pt x="60" y="53"/>
                    </a:lnTo>
                    <a:lnTo>
                      <a:pt x="85" y="60"/>
                    </a:lnTo>
                    <a:lnTo>
                      <a:pt x="100" y="60"/>
                    </a:lnTo>
                    <a:lnTo>
                      <a:pt x="113" y="54"/>
                    </a:lnTo>
                    <a:lnTo>
                      <a:pt x="118" y="45"/>
                    </a:lnTo>
                    <a:lnTo>
                      <a:pt x="120" y="37"/>
                    </a:lnTo>
                    <a:lnTo>
                      <a:pt x="120" y="30"/>
                    </a:lnTo>
                    <a:lnTo>
                      <a:pt x="118" y="24"/>
                    </a:lnTo>
                    <a:lnTo>
                      <a:pt x="110" y="1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33640" y="954000"/>
                <a:ext cx="173160" cy="9684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92" y="58"/>
                    </a:moveTo>
                    <a:lnTo>
                      <a:pt x="102" y="52"/>
                    </a:lnTo>
                    <a:lnTo>
                      <a:pt x="108" y="42"/>
                    </a:lnTo>
                    <a:lnTo>
                      <a:pt x="108" y="34"/>
                    </a:lnTo>
                    <a:lnTo>
                      <a:pt x="108" y="25"/>
                    </a:lnTo>
                    <a:lnTo>
                      <a:pt x="105" y="20"/>
                    </a:lnTo>
                    <a:lnTo>
                      <a:pt x="97" y="14"/>
                    </a:lnTo>
                    <a:lnTo>
                      <a:pt x="89" y="10"/>
                    </a:lnTo>
                    <a:lnTo>
                      <a:pt x="74" y="7"/>
                    </a:lnTo>
                    <a:lnTo>
                      <a:pt x="63" y="4"/>
                    </a:lnTo>
                    <a:lnTo>
                      <a:pt x="42" y="1"/>
                    </a:lnTo>
                    <a:lnTo>
                      <a:pt x="28" y="0"/>
                    </a:lnTo>
                    <a:lnTo>
                      <a:pt x="16" y="2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8"/>
                    </a:lnTo>
                    <a:lnTo>
                      <a:pt x="12" y="44"/>
                    </a:lnTo>
                    <a:lnTo>
                      <a:pt x="25" y="48"/>
                    </a:lnTo>
                    <a:lnTo>
                      <a:pt x="42" y="52"/>
                    </a:lnTo>
                    <a:lnTo>
                      <a:pt x="61" y="56"/>
                    </a:lnTo>
                    <a:lnTo>
                      <a:pt x="80" y="60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08440" y="1093680"/>
                <a:ext cx="193680" cy="119160"/>
              </a:xfrm>
              <a:custGeom>
                <a:avLst/>
                <a:gdLst/>
                <a:ahLst/>
                <a:rect l="l" t="t" r="r" b="b"/>
                <a:pathLst>
                  <a:path w="122" h="75">
                    <a:moveTo>
                      <a:pt x="117" y="21"/>
                    </a:moveTo>
                    <a:lnTo>
                      <a:pt x="105" y="16"/>
                    </a:lnTo>
                    <a:lnTo>
                      <a:pt x="93" y="12"/>
                    </a:lnTo>
                    <a:lnTo>
                      <a:pt x="72" y="7"/>
                    </a:lnTo>
                    <a:lnTo>
                      <a:pt x="53" y="3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8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7" y="41"/>
                    </a:lnTo>
                    <a:lnTo>
                      <a:pt x="18" y="53"/>
                    </a:lnTo>
                    <a:lnTo>
                      <a:pt x="29" y="64"/>
                    </a:lnTo>
                    <a:lnTo>
                      <a:pt x="39" y="70"/>
                    </a:lnTo>
                    <a:lnTo>
                      <a:pt x="49" y="74"/>
                    </a:lnTo>
                    <a:lnTo>
                      <a:pt x="59" y="64"/>
                    </a:lnTo>
                    <a:lnTo>
                      <a:pt x="82" y="61"/>
                    </a:lnTo>
                    <a:lnTo>
                      <a:pt x="98" y="58"/>
                    </a:lnTo>
                    <a:lnTo>
                      <a:pt x="109" y="53"/>
                    </a:lnTo>
                    <a:lnTo>
                      <a:pt x="118" y="47"/>
                    </a:lnTo>
                    <a:lnTo>
                      <a:pt x="120" y="36"/>
                    </a:lnTo>
                    <a:lnTo>
                      <a:pt x="121" y="28"/>
                    </a:lnTo>
                    <a:lnTo>
                      <a:pt x="117" y="21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063960" y="237960"/>
              <a:ext cx="492120" cy="414360"/>
              <a:chOff x="3063960" y="237960"/>
              <a:chExt cx="492120" cy="4143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3241800" y="347760"/>
                <a:ext cx="253800" cy="168120"/>
                <a:chOff x="3241800" y="347760"/>
                <a:chExt cx="253800" cy="168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241800" y="347760"/>
                  <a:ext cx="241200" cy="153720"/>
                </a:xfrm>
                <a:custGeom>
                  <a:avLst/>
                  <a:gdLst/>
                  <a:ahLst/>
                  <a:rect l="l" t="t" r="r" b="b"/>
                  <a:pathLst>
                    <a:path w="152" h="97">
                      <a:moveTo>
                        <a:pt x="50" y="2"/>
                      </a:moveTo>
                      <a:lnTo>
                        <a:pt x="71" y="2"/>
                      </a:lnTo>
                      <a:lnTo>
                        <a:pt x="95" y="0"/>
                      </a:lnTo>
                      <a:lnTo>
                        <a:pt x="107" y="2"/>
                      </a:lnTo>
                      <a:lnTo>
                        <a:pt x="114" y="3"/>
                      </a:lnTo>
                      <a:lnTo>
                        <a:pt x="120" y="4"/>
                      </a:lnTo>
                      <a:lnTo>
                        <a:pt x="126" y="6"/>
                      </a:lnTo>
                      <a:lnTo>
                        <a:pt x="132" y="10"/>
                      </a:lnTo>
                      <a:lnTo>
                        <a:pt x="138" y="14"/>
                      </a:lnTo>
                      <a:lnTo>
                        <a:pt x="143" y="21"/>
                      </a:lnTo>
                      <a:lnTo>
                        <a:pt x="147" y="26"/>
                      </a:lnTo>
                      <a:lnTo>
                        <a:pt x="149" y="31"/>
                      </a:lnTo>
                      <a:lnTo>
                        <a:pt x="150" y="37"/>
                      </a:lnTo>
                      <a:lnTo>
                        <a:pt x="151" y="43"/>
                      </a:lnTo>
                      <a:lnTo>
                        <a:pt x="151" y="49"/>
                      </a:lnTo>
                      <a:lnTo>
                        <a:pt x="150" y="55"/>
                      </a:lnTo>
                      <a:lnTo>
                        <a:pt x="149" y="62"/>
                      </a:lnTo>
                      <a:lnTo>
                        <a:pt x="148" y="66"/>
                      </a:lnTo>
                      <a:lnTo>
                        <a:pt x="143" y="72"/>
                      </a:lnTo>
                      <a:lnTo>
                        <a:pt x="139" y="78"/>
                      </a:lnTo>
                      <a:lnTo>
                        <a:pt x="129" y="85"/>
                      </a:lnTo>
                      <a:lnTo>
                        <a:pt x="122" y="87"/>
                      </a:lnTo>
                      <a:lnTo>
                        <a:pt x="114" y="90"/>
                      </a:lnTo>
                      <a:lnTo>
                        <a:pt x="103" y="93"/>
                      </a:lnTo>
                      <a:lnTo>
                        <a:pt x="93" y="95"/>
                      </a:lnTo>
                      <a:lnTo>
                        <a:pt x="79" y="96"/>
                      </a:lnTo>
                      <a:lnTo>
                        <a:pt x="64" y="96"/>
                      </a:lnTo>
                      <a:lnTo>
                        <a:pt x="52" y="96"/>
                      </a:lnTo>
                      <a:lnTo>
                        <a:pt x="39" y="94"/>
                      </a:lnTo>
                      <a:lnTo>
                        <a:pt x="27" y="91"/>
                      </a:lnTo>
                      <a:lnTo>
                        <a:pt x="16" y="89"/>
                      </a:lnTo>
                      <a:lnTo>
                        <a:pt x="0" y="85"/>
                      </a:lnTo>
                      <a:lnTo>
                        <a:pt x="50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241800" y="347760"/>
                  <a:ext cx="253800" cy="168120"/>
                </a:xfrm>
                <a:custGeom>
                  <a:avLst/>
                  <a:gdLst/>
                  <a:ahLst/>
                  <a:rect l="l" t="t" r="r" b="b"/>
                  <a:pathLst>
                    <a:path w="160" h="106">
                      <a:moveTo>
                        <a:pt x="52" y="2"/>
                      </a:moveTo>
                      <a:lnTo>
                        <a:pt x="76" y="2"/>
                      </a:lnTo>
                      <a:lnTo>
                        <a:pt x="99" y="0"/>
                      </a:lnTo>
                      <a:lnTo>
                        <a:pt x="113" y="2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3" y="7"/>
                      </a:lnTo>
                      <a:lnTo>
                        <a:pt x="139" y="11"/>
                      </a:lnTo>
                      <a:lnTo>
                        <a:pt x="146" y="15"/>
                      </a:lnTo>
                      <a:lnTo>
                        <a:pt x="151" y="23"/>
                      </a:lnTo>
                      <a:lnTo>
                        <a:pt x="155" y="29"/>
                      </a:lnTo>
                      <a:lnTo>
                        <a:pt x="157" y="34"/>
                      </a:lnTo>
                      <a:lnTo>
                        <a:pt x="158" y="40"/>
                      </a:lnTo>
                      <a:lnTo>
                        <a:pt x="159" y="47"/>
                      </a:lnTo>
                      <a:lnTo>
                        <a:pt x="159" y="53"/>
                      </a:lnTo>
                      <a:lnTo>
                        <a:pt x="158" y="61"/>
                      </a:lnTo>
                      <a:lnTo>
                        <a:pt x="157" y="67"/>
                      </a:lnTo>
                      <a:lnTo>
                        <a:pt x="155" y="73"/>
                      </a:lnTo>
                      <a:lnTo>
                        <a:pt x="151" y="79"/>
                      </a:lnTo>
                      <a:lnTo>
                        <a:pt x="147" y="85"/>
                      </a:lnTo>
                      <a:lnTo>
                        <a:pt x="136" y="93"/>
                      </a:lnTo>
                      <a:lnTo>
                        <a:pt x="129" y="95"/>
                      </a:lnTo>
                      <a:lnTo>
                        <a:pt x="120" y="98"/>
                      </a:lnTo>
                      <a:lnTo>
                        <a:pt x="109" y="102"/>
                      </a:lnTo>
                      <a:lnTo>
                        <a:pt x="98" y="104"/>
                      </a:lnTo>
                      <a:lnTo>
                        <a:pt x="83" y="105"/>
                      </a:lnTo>
                      <a:lnTo>
                        <a:pt x="68" y="105"/>
                      </a:lnTo>
                      <a:lnTo>
                        <a:pt x="55" y="105"/>
                      </a:lnTo>
                      <a:lnTo>
                        <a:pt x="41" y="103"/>
                      </a:lnTo>
                      <a:lnTo>
                        <a:pt x="28" y="99"/>
                      </a:lnTo>
                      <a:lnTo>
                        <a:pt x="17" y="97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162240" y="237960"/>
                <a:ext cx="200160" cy="192240"/>
                <a:chOff x="3162240" y="237960"/>
                <a:chExt cx="200160" cy="19224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162240" y="237960"/>
                  <a:ext cx="169920" cy="192240"/>
                  <a:chOff x="3162240" y="237960"/>
                  <a:chExt cx="169920" cy="1922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178080" y="246240"/>
                    <a:ext cx="57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3">
                        <a:moveTo>
                          <a:pt x="0" y="22"/>
                        </a:moveTo>
                        <a:lnTo>
                          <a:pt x="6" y="14"/>
                        </a:lnTo>
                        <a:lnTo>
                          <a:pt x="12" y="7"/>
                        </a:lnTo>
                        <a:lnTo>
                          <a:pt x="17" y="3"/>
                        </a:lnTo>
                        <a:lnTo>
                          <a:pt x="20" y="1"/>
                        </a:lnTo>
                        <a:lnTo>
                          <a:pt x="28" y="0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290760" y="237960"/>
                    <a:ext cx="41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1"/>
                        </a:lnTo>
                        <a:lnTo>
                          <a:pt x="14" y="4"/>
                        </a:lnTo>
                        <a:lnTo>
                          <a:pt x="20" y="6"/>
                        </a:lnTo>
                        <a:lnTo>
                          <a:pt x="25" y="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3162240" y="361440"/>
                    <a:ext cx="1908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3166920" y="374760"/>
                    <a:ext cx="1296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3208320" y="301680"/>
                  <a:ext cx="154080" cy="50760"/>
                  <a:chOff x="3208320" y="301680"/>
                  <a:chExt cx="154080" cy="50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3208320" y="309600"/>
                    <a:ext cx="60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9">
                        <a:moveTo>
                          <a:pt x="37" y="0"/>
                        </a:moveTo>
                        <a:lnTo>
                          <a:pt x="30" y="4"/>
                        </a:lnTo>
                        <a:lnTo>
                          <a:pt x="20" y="9"/>
                        </a:lnTo>
                        <a:lnTo>
                          <a:pt x="15" y="12"/>
                        </a:lnTo>
                        <a:lnTo>
                          <a:pt x="5" y="16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306600" y="301680"/>
                    <a:ext cx="55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0" y="5"/>
                        </a:lnTo>
                        <a:lnTo>
                          <a:pt x="17" y="7"/>
                        </a:lnTo>
                        <a:lnTo>
                          <a:pt x="21" y="10"/>
                        </a:lnTo>
                        <a:lnTo>
                          <a:pt x="26" y="11"/>
                        </a:lnTo>
                        <a:lnTo>
                          <a:pt x="30" y="12"/>
                        </a:lnTo>
                        <a:lnTo>
                          <a:pt x="34" y="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228840" y="301680"/>
                    <a:ext cx="115920" cy="50760"/>
                    <a:chOff x="3228840" y="301680"/>
                    <a:chExt cx="115920" cy="507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3228840" y="309600"/>
                      <a:ext cx="399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7">
                          <a:moveTo>
                            <a:pt x="24" y="0"/>
                          </a:moveTo>
                          <a:lnTo>
                            <a:pt x="24" y="5"/>
                          </a:lnTo>
                          <a:lnTo>
                            <a:pt x="24" y="12"/>
                          </a:lnTo>
                          <a:lnTo>
                            <a:pt x="24" y="17"/>
                          </a:lnTo>
                          <a:lnTo>
                            <a:pt x="24" y="21"/>
                          </a:lnTo>
                          <a:lnTo>
                            <a:pt x="21" y="24"/>
                          </a:lnTo>
                          <a:lnTo>
                            <a:pt x="17" y="26"/>
                          </a:lnTo>
                          <a:lnTo>
                            <a:pt x="14" y="26"/>
                          </a:lnTo>
                          <a:lnTo>
                            <a:pt x="8" y="26"/>
                          </a:lnTo>
                          <a:lnTo>
                            <a:pt x="3" y="25"/>
                          </a:lnTo>
                          <a:lnTo>
                            <a:pt x="1" y="22"/>
                          </a:lnTo>
                          <a:lnTo>
                            <a:pt x="0" y="18"/>
                          </a:lnTo>
                          <a:lnTo>
                            <a:pt x="0" y="15"/>
                          </a:lnTo>
                          <a:lnTo>
                            <a:pt x="1" y="13"/>
                          </a:lnTo>
                          <a:lnTo>
                            <a:pt x="8" y="11"/>
                          </a:lnTo>
                          <a:lnTo>
                            <a:pt x="13" y="7"/>
                          </a:lnTo>
                          <a:lnTo>
                            <a:pt x="19" y="3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3305160" y="301680"/>
                      <a:ext cx="396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6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0" y="11"/>
                          </a:lnTo>
                          <a:lnTo>
                            <a:pt x="0" y="15"/>
                          </a:lnTo>
                          <a:lnTo>
                            <a:pt x="1" y="18"/>
                          </a:lnTo>
                          <a:lnTo>
                            <a:pt x="1" y="20"/>
                          </a:lnTo>
                          <a:lnTo>
                            <a:pt x="5" y="23"/>
                          </a:lnTo>
                          <a:lnTo>
                            <a:pt x="9" y="25"/>
                          </a:lnTo>
                          <a:lnTo>
                            <a:pt x="17" y="24"/>
                          </a:lnTo>
                          <a:lnTo>
                            <a:pt x="21" y="21"/>
                          </a:lnTo>
                          <a:lnTo>
                            <a:pt x="22" y="18"/>
                          </a:lnTo>
                          <a:lnTo>
                            <a:pt x="24" y="16"/>
                          </a:lnTo>
                          <a:lnTo>
                            <a:pt x="24" y="13"/>
                          </a:lnTo>
                          <a:lnTo>
                            <a:pt x="23" y="12"/>
                          </a:lnTo>
                          <a:lnTo>
                            <a:pt x="23" y="11"/>
                          </a:lnTo>
                          <a:lnTo>
                            <a:pt x="18" y="8"/>
                          </a:lnTo>
                          <a:lnTo>
                            <a:pt x="12" y="6"/>
                          </a:lnTo>
                          <a:lnTo>
                            <a:pt x="7" y="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3241800" y="322200"/>
                      <a:ext cx="11160" cy="11160"/>
                      <a:chOff x="3241800" y="322200"/>
                      <a:chExt cx="11160" cy="11160"/>
                    </a:xfrm>
                  </p:grpSpPr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3241800" y="324000"/>
                        <a:ext cx="11160" cy="9360"/>
                      </a:xfrm>
                      <a:prstGeom prst="ellipse">
                        <a:avLst/>
                      </a:prstGeom>
                      <a:solidFill>
                        <a:srgbClr val="8080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3241800" y="322200"/>
                        <a:ext cx="6120" cy="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3316320" y="314280"/>
                      <a:ext cx="9360" cy="9720"/>
                      <a:chOff x="3316320" y="314280"/>
                      <a:chExt cx="9360" cy="97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3316320" y="316080"/>
                        <a:ext cx="9360" cy="7920"/>
                      </a:xfrm>
                      <a:prstGeom prst="ellipse">
                        <a:avLst/>
                      </a:prstGeom>
                      <a:solidFill>
                        <a:srgbClr val="8080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3316320" y="314280"/>
                        <a:ext cx="4680" cy="3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4280" bIns="-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3165480" y="514440"/>
                <a:ext cx="236520" cy="137880"/>
                <a:chOff x="3165480" y="514440"/>
                <a:chExt cx="236520" cy="1378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00400" y="585720"/>
                  <a:ext cx="46080" cy="493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3"/>
                      </a:lnTo>
                      <a:lnTo>
                        <a:pt x="3" y="25"/>
                      </a:lnTo>
                      <a:lnTo>
                        <a:pt x="5" y="27"/>
                      </a:lnTo>
                      <a:lnTo>
                        <a:pt x="7" y="29"/>
                      </a:lnTo>
                      <a:lnTo>
                        <a:pt x="11" y="29"/>
                      </a:lnTo>
                      <a:lnTo>
                        <a:pt x="13" y="30"/>
                      </a:lnTo>
                      <a:lnTo>
                        <a:pt x="17" y="29"/>
                      </a:lnTo>
                      <a:lnTo>
                        <a:pt x="22" y="27"/>
                      </a:lnTo>
                      <a:lnTo>
                        <a:pt x="26" y="22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4" y="14"/>
                      </a:lnTo>
                      <a:lnTo>
                        <a:pt x="16" y="8"/>
                      </a:lnTo>
                      <a:lnTo>
                        <a:pt x="10" y="3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165480" y="514440"/>
                  <a:ext cx="236520" cy="137880"/>
                </a:xfrm>
                <a:custGeom>
                  <a:avLst/>
                  <a:gdLst/>
                  <a:ahLst/>
                  <a:rect l="l" t="t" r="r" b="b"/>
                  <a:pathLst>
                    <a:path w="149" h="87">
                      <a:moveTo>
                        <a:pt x="0" y="13"/>
                      </a:moveTo>
                      <a:lnTo>
                        <a:pt x="6" y="25"/>
                      </a:lnTo>
                      <a:lnTo>
                        <a:pt x="13" y="33"/>
                      </a:lnTo>
                      <a:lnTo>
                        <a:pt x="31" y="47"/>
                      </a:lnTo>
                      <a:lnTo>
                        <a:pt x="50" y="61"/>
                      </a:lnTo>
                      <a:lnTo>
                        <a:pt x="62" y="69"/>
                      </a:lnTo>
                      <a:lnTo>
                        <a:pt x="74" y="75"/>
                      </a:lnTo>
                      <a:lnTo>
                        <a:pt x="84" y="81"/>
                      </a:lnTo>
                      <a:lnTo>
                        <a:pt x="98" y="86"/>
                      </a:lnTo>
                      <a:lnTo>
                        <a:pt x="106" y="86"/>
                      </a:lnTo>
                      <a:lnTo>
                        <a:pt x="116" y="80"/>
                      </a:lnTo>
                      <a:lnTo>
                        <a:pt x="126" y="71"/>
                      </a:lnTo>
                      <a:lnTo>
                        <a:pt x="136" y="56"/>
                      </a:lnTo>
                      <a:lnTo>
                        <a:pt x="143" y="41"/>
                      </a:lnTo>
                      <a:lnTo>
                        <a:pt x="145" y="31"/>
                      </a:lnTo>
                      <a:lnTo>
                        <a:pt x="148" y="17"/>
                      </a:lnTo>
                      <a:lnTo>
                        <a:pt x="148" y="7"/>
                      </a:lnTo>
                      <a:lnTo>
                        <a:pt x="1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063960" y="492120"/>
                <a:ext cx="492120" cy="144360"/>
                <a:chOff x="3063960" y="492120"/>
                <a:chExt cx="492120" cy="1443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063960" y="492120"/>
                  <a:ext cx="187200" cy="3348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20"/>
                      </a:moveTo>
                      <a:lnTo>
                        <a:pt x="35" y="10"/>
                      </a:lnTo>
                      <a:lnTo>
                        <a:pt x="66" y="7"/>
                      </a:lnTo>
                      <a:lnTo>
                        <a:pt x="104" y="0"/>
                      </a:lnTo>
                      <a:lnTo>
                        <a:pt x="117" y="1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108240" y="498600"/>
                  <a:ext cx="152640" cy="77760"/>
                </a:xfrm>
                <a:custGeom>
                  <a:avLst/>
                  <a:gdLst/>
                  <a:ahLst/>
                  <a:rect l="l" t="t" r="r" b="b"/>
                  <a:pathLst>
                    <a:path w="96" h="49">
                      <a:moveTo>
                        <a:pt x="0" y="48"/>
                      </a:moveTo>
                      <a:lnTo>
                        <a:pt x="36" y="31"/>
                      </a:lnTo>
                      <a:lnTo>
                        <a:pt x="69" y="14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157560" y="504720"/>
                  <a:ext cx="123840" cy="131760"/>
                </a:xfrm>
                <a:custGeom>
                  <a:avLst/>
                  <a:gdLst/>
                  <a:ahLst/>
                  <a:rect l="l" t="t" r="r" b="b"/>
                  <a:pathLst>
                    <a:path w="78" h="83">
                      <a:moveTo>
                        <a:pt x="0" y="82"/>
                      </a:moveTo>
                      <a:lnTo>
                        <a:pt x="32" y="47"/>
                      </a:lnTo>
                      <a:lnTo>
                        <a:pt x="61" y="16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389400" y="515880"/>
                  <a:ext cx="129960" cy="77760"/>
                </a:xfrm>
                <a:custGeom>
                  <a:avLst/>
                  <a:gdLst/>
                  <a:ahLst/>
                  <a:rect l="l" t="t" r="r" b="b"/>
                  <a:pathLst>
                    <a:path w="82" h="49">
                      <a:moveTo>
                        <a:pt x="0" y="0"/>
                      </a:moveTo>
                      <a:lnTo>
                        <a:pt x="25" y="4"/>
                      </a:lnTo>
                      <a:lnTo>
                        <a:pt x="45" y="9"/>
                      </a:lnTo>
                      <a:lnTo>
                        <a:pt x="61" y="23"/>
                      </a:lnTo>
                      <a:lnTo>
                        <a:pt x="77" y="40"/>
                      </a:lnTo>
                      <a:lnTo>
                        <a:pt x="81" y="48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22520" y="506520"/>
                  <a:ext cx="133560" cy="381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51" y="2"/>
                      </a:lnTo>
                      <a:lnTo>
                        <a:pt x="71" y="12"/>
                      </a:lnTo>
                      <a:lnTo>
                        <a:pt x="83" y="23"/>
                      </a:lnTo>
                    </a:path>
                  </a:pathLst>
                </a:custGeom>
                <a:noFill/>
                <a:ln cap="rnd" w="1260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Unit I -- What is Java ?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programming langu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riented (no friends, all functions are members of classes, no function libraries -- just class libra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(no pointer arithmetic, no need for programmer to deallocate mem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p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ype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ight basic typ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integers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te, short, int, 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int a;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floating point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, dou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double a;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character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char a; 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boolean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 boolean a; 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verything else is an object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asses and objec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claring a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yClass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variable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functions () 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// end class My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ava program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wo kin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from the OS pro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init(), start(), stop(), paint(), update(), repaint(), destro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from within a web pa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first Java Applica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ass MyApp {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blic static void main(String s [ ] ) {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stem.out.println(“Hello World”);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} // end class MyApp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claring and creating objec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clare a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refere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reate/define an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objec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new String (“India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327480" y="3157560"/>
            <a:ext cx="722160" cy="5223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3659040" y="3171960"/>
            <a:ext cx="1290960" cy="257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849920" y="3211560"/>
            <a:ext cx="0" cy="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784680" y="338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545080" y="3944880"/>
            <a:ext cx="939960" cy="5428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970880" y="4205160"/>
            <a:ext cx="210096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4" y="0"/>
                </a:moveTo>
                <a:arcTo wR="10800" hR="10800" stAng="-5405193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84" y="0"/>
                </a:moveTo>
                <a:arcTo wR="10800" hR="10800" stAng="-5405193" swAng="5405193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205680" y="4903920"/>
            <a:ext cx="1595160" cy="91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475680" y="510552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rays (are objects in Java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820520" y="1576080"/>
            <a:ext cx="715788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entury Gothic"/>
              </a:rPr>
              <a:t>decla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a [ ] 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1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[ ] b 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1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[ ] c [ ]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2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c [ ][]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2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llocate sp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new int [7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= new int [7][11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rays have </a:t>
            </a: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length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674720" y="2198520"/>
            <a:ext cx="7158240" cy="390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entury Gothic"/>
              </a:rPr>
              <a:t>used to retrieve the size of an arra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a [ ] = new int [7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1-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a.length);  will print ‘7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b [ ] [ ] = new int [7] [11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a.length);  will print ‘7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b.length * b[0].length);  will print ‘77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…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is is becaus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Let int [][][][] array = new int [7][11][10][21] , then …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rray.length * array[3].length * array[3][5].length * array[3][5][2].length is 7 x 11 x 10 x 21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…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is is becaus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739960" y="2400480"/>
            <a:ext cx="8035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49680" y="280008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730600" y="313344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749680" y="5353200"/>
            <a:ext cx="8031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749680" y="566712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2759040" y="592416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759040" y="3438000"/>
            <a:ext cx="80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46440" y="1951200"/>
            <a:ext cx="793800" cy="42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2733480" y="2819520"/>
            <a:ext cx="80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533760" y="2819520"/>
            <a:ext cx="3192480" cy="3297240"/>
          </a:xfrm>
          <a:custGeom>
            <a:avLst/>
            <a:gdLst/>
            <a:ahLst/>
            <a:rect l="l" t="t" r="r" b="b"/>
            <a:pathLst>
              <a:path w="2011" h="2077">
                <a:moveTo>
                  <a:pt x="12" y="0"/>
                </a:moveTo>
                <a:lnTo>
                  <a:pt x="2010" y="1824"/>
                </a:lnTo>
                <a:lnTo>
                  <a:pt x="1902" y="1854"/>
                </a:lnTo>
                <a:lnTo>
                  <a:pt x="1956" y="1932"/>
                </a:lnTo>
                <a:lnTo>
                  <a:pt x="1866" y="1944"/>
                </a:lnTo>
                <a:lnTo>
                  <a:pt x="1968" y="2076"/>
                </a:lnTo>
                <a:lnTo>
                  <a:pt x="0" y="234"/>
                </a:lnTo>
                <a:lnTo>
                  <a:pt x="12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2743200" y="3191040"/>
            <a:ext cx="79056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048280" y="2095560"/>
            <a:ext cx="344520" cy="2411280"/>
          </a:xfrm>
          <a:custGeom>
            <a:avLst/>
            <a:gdLst/>
            <a:ahLst/>
            <a:rect l="l" t="t" r="r" b="b"/>
            <a:pathLst>
              <a:path w="217" h="1519">
                <a:moveTo>
                  <a:pt x="0" y="1314"/>
                </a:moveTo>
                <a:lnTo>
                  <a:pt x="0" y="78"/>
                </a:lnTo>
                <a:lnTo>
                  <a:pt x="60" y="204"/>
                </a:lnTo>
                <a:lnTo>
                  <a:pt x="102" y="30"/>
                </a:lnTo>
                <a:lnTo>
                  <a:pt x="144" y="282"/>
                </a:lnTo>
                <a:lnTo>
                  <a:pt x="216" y="0"/>
                </a:lnTo>
                <a:lnTo>
                  <a:pt x="216" y="1518"/>
                </a:lnTo>
                <a:lnTo>
                  <a:pt x="0" y="1314"/>
                </a:lnTo>
              </a:path>
            </a:pathLst>
          </a:custGeom>
          <a:solidFill>
            <a:srgbClr val="ff663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391000" y="2666880"/>
            <a:ext cx="2954520" cy="2992680"/>
          </a:xfrm>
          <a:custGeom>
            <a:avLst/>
            <a:gdLst/>
            <a:ahLst/>
            <a:rect l="l" t="t" r="r" b="b"/>
            <a:pathLst>
              <a:path w="1861" h="1885">
                <a:moveTo>
                  <a:pt x="0" y="0"/>
                </a:moveTo>
                <a:lnTo>
                  <a:pt x="1782" y="1638"/>
                </a:lnTo>
                <a:lnTo>
                  <a:pt x="1584" y="1548"/>
                </a:lnTo>
                <a:lnTo>
                  <a:pt x="1860" y="1776"/>
                </a:lnTo>
                <a:lnTo>
                  <a:pt x="1596" y="1638"/>
                </a:lnTo>
                <a:lnTo>
                  <a:pt x="1824" y="1884"/>
                </a:lnTo>
                <a:lnTo>
                  <a:pt x="1590" y="1704"/>
                </a:lnTo>
                <a:lnTo>
                  <a:pt x="1650" y="1812"/>
                </a:lnTo>
                <a:lnTo>
                  <a:pt x="0" y="336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828680" y="4181400"/>
            <a:ext cx="21924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43680" y="4505400"/>
            <a:ext cx="21888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5048280" y="26668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5048280" y="32194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808280" y="57240"/>
          <a:ext cx="23191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57240"/>
                    <a:ext cx="23191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World Wide Web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orld Wide Web conceptualized by Tim Berners-Lee at CERN in Switzerlan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cept of Hypertext led to the development of the Hypertext Markup Language (HTML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im Berners-Lee proposed  the ‘Browser’ progr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cientists at CERN designed a TCP/IP based protocol to share Hypertext information called HTTP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WW officially is described as a” Wide-area hypermedia information retrieval initiative aiming to give universal access to a large universe of document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structo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15788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ll objects are created through construct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y are invoked automatical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class Weight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 lb;  int oz;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ublic Weight (int a, int b )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lb = a; oz = b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“this” object (object in which it is used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instance variable or method of “this”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function inside a constructor of “this”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“this” object, when passed as parame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with a vari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“this” object’s data memb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class Weight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int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lb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;  int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oz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;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Weight (int lb, int oz )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this.lb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= lb;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this.oz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= oz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with a meth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another method of “this” clas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class Weight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int m1 (int a)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int x =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this.m2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(a); return x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int </a:t>
            </a:r>
            <a:r>
              <a:rPr b="1" lang="en-US" sz="2000" spc="-1" strike="noStrike" u="sng">
                <a:solidFill>
                  <a:srgbClr val="f6bf69"/>
                </a:solidFill>
                <a:uFillTx/>
                <a:latin typeface="Century Gothic"/>
              </a:rPr>
              <a:t>m2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(int b) { return b*7 ; } 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s a function inside a constructor of “this” cla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be used with a constructo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class Weight {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int 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lb, oz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public Weight (int a, int b) { lb = a; oz = b; 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public Weight (int x) { </a:t>
            </a:r>
            <a:r>
              <a:rPr b="1" lang="en-US" sz="1800" spc="-1" strike="noStrike" u="sng">
                <a:solidFill>
                  <a:srgbClr val="f6bf69"/>
                </a:solidFill>
                <a:uFillTx/>
                <a:latin typeface="Century Gothic"/>
              </a:rPr>
              <a:t>this( x, 0)</a:t>
            </a: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; 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0" name=""/>
          <p:cNvSpPr/>
          <p:nvPr/>
        </p:nvSpPr>
        <p:spPr>
          <a:xfrm>
            <a:off x="4416480" y="2847600"/>
            <a:ext cx="466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8" y="7577"/>
                </a:moveTo>
                <a:arcTo wR="10800" hR="10800" stAng="-1041620" swAng="8673474"/>
                <a:lnTo>
                  <a:pt x="10800" y="10800"/>
                </a:lnTo>
                <a:close/>
              </a:path>
              <a:path fill="none" w="21600" h="21600">
                <a:moveTo>
                  <a:pt x="21108" y="7577"/>
                </a:moveTo>
                <a:arcTo wR="10800" hR="10800" stAng="-1041620" swAng="8673474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370160" y="5227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Constructor is also </a:t>
            </a:r>
            <a:r>
              <a:rPr b="1" lang="en-US" sz="2400" spc="-1" strike="noStrike" u="sng">
                <a:solidFill>
                  <a:srgbClr val="f6bf69"/>
                </a:solidFill>
                <a:uFillTx/>
                <a:latin typeface="Arial"/>
              </a:rPr>
              <a:t>overloaded</a:t>
            </a: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 (Java allows overloading of all methods, including constru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thi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s “this” object, when passed as parameter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the object that used to call the calling metho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class MyApp {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int a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ublic static void main(String [] s  ) { (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new MyApp()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).myMethod(); 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ublic void myMethod() {  yourMethod(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this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);  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ublic void yourMethod(MyApp inMyApp) {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inMyApp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.a = 77;  }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tatic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eans “global”--all all objects refer to the same storage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ies to variables or methods”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instance variable of a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method of a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tatic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 (with variable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class PurchaseOrder {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rivate static int POCount;  // var. ‘a’ is shared by all objects of this class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ublic static void main(String [] s  ) {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urchaseOrder  po1 = new PurchaseOrder();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o1.updatePOCount();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public void updatePOCount() {  POCount++;  }  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tatic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 (w/ method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89" name=""/>
          <p:cNvSpPr/>
          <p:nvPr/>
        </p:nvSpPr>
        <p:spPr>
          <a:xfrm>
            <a:off x="2298600" y="1736640"/>
            <a:ext cx="529452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class Math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public static double sqrt(double x)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// calcu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return  resul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class MyApp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public static void main(String [] s )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double d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dd = </a:t>
            </a:r>
            <a:r>
              <a:rPr b="1" lang="en-US" sz="2000" spc="-1" strike="noStrike">
                <a:solidFill>
                  <a:srgbClr val="f6bf69"/>
                </a:solidFill>
                <a:latin typeface="Times New Roman"/>
              </a:rPr>
              <a:t>Math.sqrt(7.1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bf6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heritance (subclassing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1" name=""/>
          <p:cNvSpPr/>
          <p:nvPr/>
        </p:nvSpPr>
        <p:spPr>
          <a:xfrm>
            <a:off x="2063880" y="2057400"/>
            <a:ext cx="55846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Employe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ring nam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ouble sala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raise(double dd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ary += salary * dd/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Employee ( … ) { …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47840" y="228240"/>
            <a:ext cx="5905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TM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text -A little Hype and a Little Text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text point to information which can be local or remotely located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-Derivative of the SGML( Standard Generalized Markup Language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-information , commands for the Browser for formatting document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ML -The de-facto language for publishing on the Internet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ypermedia- Hyper-links to Multimedia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nager can be made a </a:t>
            </a: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b/derived-clas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of Employe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3" name=""/>
          <p:cNvSpPr/>
          <p:nvPr/>
        </p:nvSpPr>
        <p:spPr>
          <a:xfrm>
            <a:off x="2063880" y="2109960"/>
            <a:ext cx="558468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anag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ploye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double b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etBonus(double bb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u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* bb/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Manager ( … ) { …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verriding (method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5" name=""/>
          <p:cNvSpPr/>
          <p:nvPr/>
        </p:nvSpPr>
        <p:spPr>
          <a:xfrm>
            <a:off x="2063880" y="2109960"/>
            <a:ext cx="6811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anag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ploye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double b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etBonus(double bb) { …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 void raise(double dd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ary += salary * dd/100 + b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Manager ( … ) { …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990440" y="1787400"/>
            <a:ext cx="7041960" cy="22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ass First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public First() { System.out.println(“ First class “);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class Second extends First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public Second() { System.out.println(“Second class”); 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class Third extends Second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public Third() {System.out.println(“Third class”);}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7" name=""/>
          <p:cNvSpPr/>
          <p:nvPr/>
        </p:nvSpPr>
        <p:spPr>
          <a:xfrm>
            <a:off x="1827360" y="349200"/>
            <a:ext cx="704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heritance and Constru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057400" y="4267080"/>
            <a:ext cx="4100400" cy="11898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cla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211400" y="5867280"/>
            <a:ext cx="543240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most class constructor is invoked fir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like us …grandparent--&gt;parent--&gt;child-&gt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ccess modifi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820520" y="1576080"/>
            <a:ext cx="715788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entury Gothic"/>
              </a:rPr>
              <a:t>privat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las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ublic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otect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lass, same package, any sub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default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lass, same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per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67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fers to the superclass (base clas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variable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ost common with a meth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function inside a constructor of the sub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per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with a meth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369800" y="1741320"/>
            <a:ext cx="6173640" cy="43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lass Manager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Century Gothic"/>
              </a:rPr>
              <a:t>extends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Employee {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rivate double bonus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ublic void setBonus(double bb) { …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public void raise(double dd) {  </a:t>
            </a:r>
            <a:r>
              <a:rPr b="0" lang="en-US" sz="1400" spc="-1" strike="noStrike">
                <a:solidFill>
                  <a:srgbClr val="fafd00"/>
                </a:solidFill>
                <a:latin typeface="Century Gothic"/>
              </a:rPr>
              <a:t>//overrides raise() of Employee</a:t>
            </a:r>
            <a:endParaRPr b="1" lang="en-US" sz="1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super.raise(dd); 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// call Employee’s raise(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salary += bonus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ublic Manager ( … ) { … 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super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::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s a function inside a constructor of the subclas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587600" y="1960200"/>
            <a:ext cx="7554960" cy="46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lass Manager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Century Gothic"/>
              </a:rPr>
              <a:t>extends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Employee {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rivate double bonus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ublic void setBonus(double bb) { …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entury Gothic"/>
              </a:rPr>
              <a:t>public Manager ( String name, double salary, double bonus ) {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entury Gothic"/>
              </a:rPr>
              <a:t>super(name, salary);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this.bonus = bonus;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}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keywor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2185920" y="1828440"/>
            <a:ext cx="6750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eans “constant”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ies to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 (makes a var. constant),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 (makes a  metho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n-overrid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es (makes a clas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n-subclassable means “objects cannot be created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476440" y="15192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keyword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th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a variabl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660320" y="1852560"/>
            <a:ext cx="7159320" cy="31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class Math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ublic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double pi = 3.1412;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public static double method(double x)  {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double x = pi * pi; 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}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note: variable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i</a:t>
            </a:r>
            <a:r>
              <a:rPr b="1" lang="en-US" sz="2000" spc="-1" strike="noStrike">
                <a:solidFill>
                  <a:srgbClr val="f6bf69"/>
                </a:solidFill>
                <a:latin typeface="Century Gothic"/>
              </a:rPr>
              <a:t> is made “read-only”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>
    <p:split dir="out" orient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Century Gothic"/>
              </a:rPr>
              <a:t>final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keyword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th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a meth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13" name=""/>
          <p:cNvSpPr/>
          <p:nvPr/>
        </p:nvSpPr>
        <p:spPr>
          <a:xfrm>
            <a:off x="1971720" y="1542960"/>
            <a:ext cx="67942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Employee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ring nam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uble salar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oid raise(double dd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ary += salary * dd/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Employee ( … ) { … 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n: cannot ovveride method raise() inside the Manager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1:52:28Z</dcterms:created>
  <dc:creator>Rajkumar Buyya</dc:creator>
  <dc:description/>
  <dc:language>en-US</dc:language>
  <cp:lastModifiedBy>Rajkumar Buyya</cp:lastModifiedBy>
  <cp:lastPrinted>1999-06-17T10:16:35Z</cp:lastPrinted>
  <dcterms:modified xsi:type="dcterms:W3CDTF">1999-06-24T11:29:59Z</dcterms:modified>
  <cp:revision>19</cp:revision>
  <dc:subject>IEEE India</dc:subject>
  <dc:title>A Practical Guide to Java</dc:title>
</cp:coreProperties>
</file>