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F23-5F46-48A6-9814-B6B702E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3EA-A247-4FEF-A401-5B55B21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52-D44E-408C-9986-ED839447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1EF-8A72-45F0-A51B-5555FD2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F8D-F0EA-4DA2-A648-42CD5B92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6559-4299-4398-B625-191BF32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BEBB-4922-4E68-B454-E4EAF6B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F029-6E73-48D1-91BE-3AE84F5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222-4B7A-4730-99C8-833E4B6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75DC-DE93-485E-AF87-6F06D968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B8BB-A103-48C4-B59B-80A80BF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964-7655-41BC-A93F-8809568F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3BB-8215-4AD0-8980-B0F08F3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306-40C1-42C1-AD0F-6C1879B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B56E-4AC6-49F2-89BF-617D616B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DE5-1F54-4803-AA18-3872A016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3872-E67C-4E48-B7B7-FA0E2C02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230-3E91-49D9-8A97-689A5D3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D9A-D5A7-4549-9C9E-A29BFA80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BEE-AE9D-494B-B150-4D32EE1C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9B1-EF16-4F16-B2E2-6CFC233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82C-F16B-48C4-BB12-0BE8A80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37D-4D15-4BE6-8AA0-510B04B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DB7-6D08-4F1C-B50A-D661D04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269-2A82-4777-80CD-63B3F5FD686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1028-3653-4B37-87EB-53C1778C03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290-4566-4BED-A68A-68939C31DD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7DC-8ED2-448E-AF4F-86C9F4380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and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AB38-29EB-4240-80CA-09DC4C6A91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252878-6C1F-427F-8675-5D28BB55B0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 Major vs. Column 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row major you access the rows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olumn major you access the cols fir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: They are next to each other in mem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EAC-742F-4D30-9464-BA5ED1FDCC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B65DE-236F-4F97-93CA-E07A4217CF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as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es the Vector clas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od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227-1120-4CE1-9F96-32431DDDB9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BE28F-90A3-42F5-9D07-9DF2F16AD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 vs.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have fixed size, vectors do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s can only store ref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ultidimensional ve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is more efficient for storing prim.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27E-82AF-451D-9AD1-941988C9EE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06B2A-4D71-427E-9980-F4005688D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vecto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Vecto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size()); //returns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prints hello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41C-4D69-4655-A2A9-1959BE07D1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7A750-557F-41CC-B4EA-EF69744E74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a vector in a for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Vector v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i=0; i &lt; v.size(); i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i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422-5F51-4159-A12E-CAF6C07D50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4E288-B77C-4CBC-8C78-42321D1466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vector of custom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CDB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add(Customer c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addElement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ustomer getCustomer(int i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(Customer)v.elementAt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1C7-C2B0-4AB0-975D-83D7823FB0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20650-4CA5-478C-A9A4-C05BAB6A5F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sort a vecto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rtableVector v = new SortableVector 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tom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dick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harry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sort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A56-16C1-486F-8786-5B4DACAC43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4087-A5DD-4142-956B-0C8CFE466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ntain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a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Que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E35-76AE-448B-B7D1-8A8A1CD8A1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9EE86-C413-46DF-868F-1AF364A47C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addresse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knows its own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has a fixed number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ainer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E2A-E026-41E8-8E35-6111267733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A58F8-E94B-4322-92E0-5706741931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tor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 memory to pro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ex the data that w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700-A08B-41B5-9330-45E7A6756D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A555-6C72-4164-97F0-DFFD6A1A60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kind of stuff can we sto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ver you store, all the data typ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st b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7AE-1061-4036-BB9D-48F1954CA9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E49AF-AFE9-4E09-BB2B-110DF0CA6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a[] = {1,2,3,4,5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b[] = new int[1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”, “dick”, “har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E9E-706E-4BAA-A21C-BABF4AD92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7D267-28B0-4AFB-9425-A6B10FAD21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use the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IntArra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ia[] = {1,2,3,4,5,6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int sum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s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ia.length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s + ia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C49-758D-462D-8B6F-DB2DC23CE1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0E112-6D7D-4048-9830-0639F11F1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[] = new int [100]; //1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[][]=new int[100][100]; // 2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[][][]=new int[2][3][4]; // 3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[0]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.length i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787-B7CB-47FA-9049-7D221C2C0D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84397-958D-46CA-8796-7CC9B4366D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k[][][] = new int [2][3][4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.length="+k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.length="+k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[0].length=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k[0]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length=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.length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[0].length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3A9-F6E4-4BE6-857A-9F3E2C9AEF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D1D03-B98A-4EF7-BE11-56300DB8B7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4-09-20T19:17:55Z</dcterms:modified>
  <cp:revision>9</cp:revision>
  <dc:subject/>
  <dc:title>PowerPoint Presentation</dc:title>
</cp:coreProperties>
</file>