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4D8-DF75-4201-9B67-E31CE114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D5F-BA5B-451B-A628-AF2686B9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60F-1DE2-4026-A962-A8239DBA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A58-F5C9-49C2-B73F-6FEC72FF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F469-5A2A-4811-8374-EDF2A620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9A1C-0415-4ECC-970A-8D0F2FE3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549B-E3FD-461F-A95D-6DC2E13C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D276-C46B-455B-B96C-E5C60FB1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3D4E-89A7-4F9B-88A4-94BD14C5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E8B1-3000-45A3-B55A-2F5070D3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84EB-6E84-4EC9-A399-ED3D4F6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B5C-7410-4415-8392-3DB6D01D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B0BF-DAA3-4600-8F65-20C43079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3ADE-DD4A-4BC5-B676-159EBF8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E0F6-E80B-4F12-A300-39EB8754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07C6-F7BF-4FBF-9AED-F58156D6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AD05-CEF4-475A-9A4F-909807F7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40E-1FCE-4949-8EB3-B3FF3045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ED2-A5EC-4633-858E-1BB29C05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BE6-03F2-4F49-86FD-56C6019C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5DD-540E-4C1E-A7F3-28627EF8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FF9-AF22-40B4-8E26-25A9791F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98E-450F-485F-B8EB-90342F9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961-36FC-4EBA-9B19-D5697492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CEEE-A243-4242-975E-B1D6761FC53F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92D4-8E95-4CD9-811C-94BF0B7D69C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sted Cla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 inner reference data typ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om what can you build an anonymous clas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om an interfa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om an abstract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om non-abstract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 of an anonymous inner class from a non-abstract cla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Customer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vate String name = “j doe”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String toString() { return name;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Payroll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stomer c = new Customer(){public String toString() {return “hello world”;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anonymous Member class is sometimes called an anonymous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OuterClass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namedMember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nnable r = new Runnable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oid run() { // do stuff he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encl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anonymous classes are inner clas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onymous inner class = anonymous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vention is to call it a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onymous inner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t use a named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Job implements Runnable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void run() { do Stuff Here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ad t = new Thread(new Job()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s: you only needed one new job. Like singlet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ke a 1000 classes...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onymous inner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static void main(String args[])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(int i=0; i &lt; 1000; i++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Thread(new Runnable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a unique class..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encl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w people say: local anonymous inner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ypically call it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nonymous inner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and Patter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mmands reside in the instance, so the instance knows how to run itsel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Job(2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doCommand() {...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nt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Print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static void printFunction(Fcn fcn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(int x=0; x &lt; 100; x++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.out.println(fcn.f(x)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cn, The Interf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interface Fcn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uble f(double x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t.printFunction(new Fcn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uble f(double x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turn x*x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the different Nested Ref. Data Typ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nBut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RunButton(“ok”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TheOKThing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he Interface...for comma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mmando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unnable getRunnable() { // factory patter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w Runnable() { // anonymous local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.out.println(“wow”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 // Commando c = new Commando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 // Runnable r = c.getRunnable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use Command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ando c = new Commando(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ad t = new Thread(c.getRunnable()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.start(); //call back on the run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cal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lass defined inside of a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accessible to outer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 the other methods in the same clas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I need local inner class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tory pattern with an anonymous inner clas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example, a local anonymous inner class!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pretty comm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39880"/>
            <a:ext cx="70106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unnable get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.out.println(“wow”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4495680"/>
            <a:ext cx="5867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y Patter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d Local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RunnableThings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nnable getARunThing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Job implements Runn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{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turn new Job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sted Interf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class Roach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face kill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olean isAlive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lony implements kill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olean isAlive() {return true;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kinds of nest ref data typ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f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cal inner interface not permitt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ber inner interfa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cal inner class (named or anonymou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ber inner class (named or anonymou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nested refere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contained by another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contained by a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with no name -&gt;anonymo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onymous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I need a nested refere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temporary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isolate the reference name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new reference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make use of new object-oriented desig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local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plify interfaces (façade design pattern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the different types of Nested class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static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dynamic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kinds of access can I have for a static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– public ref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fault – package ref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vate – yes, you can have a private inner clas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ected – accessible to subclasses of the outer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tatic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Point3d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class Float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oat(float x, float y,  float z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class Double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uble (Double x, Double y, Double z) {...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3d.Float pf = new Point3d.Float(10,20,30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ner class instead of packag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java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awt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Fram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mponent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ing an Anonym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face Runn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ad t = new Thread(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Runnable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 doStuffHere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21:59:50Z</dcterms:created>
  <dc:creator>lyon</dc:creator>
  <dc:description/>
  <dc:language>en-US</dc:language>
  <cp:lastModifiedBy>dlyon</cp:lastModifiedBy>
  <dcterms:modified xsi:type="dcterms:W3CDTF">2004-10-04T19:33:07Z</dcterms:modified>
  <cp:revision>11</cp:revision>
  <dc:subject/>
  <dc:title>Nested Classes</dc:title>
</cp:coreProperties>
</file>