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514F-7CF2-4D9D-955F-BDF6E9F2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AE25-2C33-4B7A-8284-B308E152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E3E3-3691-4C9A-9353-C17FCE086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65BB-E738-477F-87B1-7B83B3A2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09C7-167B-44C6-9B46-5BDF1814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7B15-BFF3-41FF-874F-2C8B0B6D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BBEA-DC3B-4371-8DF4-C8A409E1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4D9E-4069-4F2F-B11A-49A613B8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AB9F-4450-412D-8DFC-AE40BC0B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5A52-59E3-423D-86FB-3DF0CF2E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01E6-0F9F-4793-BF3A-798EA80A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976B-13F1-4C33-BE03-2D2A0B17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4484-8F13-4CE9-A65A-A02D553A7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ans of reading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read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s a str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s a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ic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produced from ASCII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 the translation from non ASCII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CII – American Standard Code for Information Inter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BCDIC – Extended Binary Coded Decimal Interchange C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build a read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fferReader br = new BufferedReader(new InputStreamReader(new FileInputStream(f)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((String s = br.readLine()) != null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Line(s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lyon</cp:lastModifiedBy>
  <dcterms:modified xsi:type="dcterms:W3CDTF">2002-10-17T01:24:57Z</dcterms:modified>
  <cp:revision>8</cp:revision>
  <dc:subject/>
  <dc:title>Exceptions</dc:title>
</cp:coreProperties>
</file>