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337-0AA0-45FD-8715-BFF638BC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902-30BC-40A1-922F-D8E372C9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53B-E59E-4093-ADBD-13227A17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F77-6B61-4895-8D54-D61F6BD0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0D76-1964-4D68-AD1C-9B22E8CF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2CA5-9461-4791-9B5A-4B3BEF52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643D-D7C2-4428-9F1E-CD642759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7FED-2866-4A40-8943-7E8E9ABF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054D-77C7-40A9-B930-CBCBE40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B921-557F-4BB5-8F48-EDF7FBA7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001C-85CB-468E-B24F-0D24E16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7F4-39F6-442E-8E45-4AD3E8E5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344C-2E93-4BCA-869D-33C8C6E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D5EF-57F4-412D-AF86-0C044D1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7730-1599-4095-BFB4-8CE3CB5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25D4-4F01-4722-A10A-F154793A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7E66-442B-4AE7-9B8D-F6A73293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3F8-C4CA-4D11-8612-92037EA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431-50AF-4F05-8E3B-4AE2DDD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D10-444F-4A2A-AAD6-DDD2BF06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43A-1AA5-432E-BA26-8E676213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A67-CDD0-43B3-BBA6-47EB0EEA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B57-FBEC-4B9D-8C31-D8CFB6B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8A0-6DB1-435F-8631-15FE372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3A94-7500-4DC4-B064-1F431F1A00D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011C-293D-4DA0-8DDD-BB21E325B8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0279-B4E0-4D28-9043-45A96898A68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18BE-2065-4C31-8F38-94B53DC8A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44C1-52FE-4187-868D-57953AFF4B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036765-0B71-48D7-936C-102DD43088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classes, Cont’d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FE3-D766-4D5F-A124-AF7F1F4ED8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03CA7-528E-4CEC-92B8-48BA6EA89D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ain abstract methods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 have a specification, but no implem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 enable us to defer the implementation of a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F2A-44D4-4946-8998-DC9EAED488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573C2-EDF6-4F94-82F4-CBCD479801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isVisible = fals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void drawLine(int x, int y, int x1, int y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Visible(boolean b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Visible=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ostscript extend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drawLine(int x, int y, int x1, int y1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“ps:”+x+’,’+..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8C6-8C8F-4E93-B5D3-F1121CDB14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369C8-8FA4-4DA9-AFE6-E5F55C9A38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ru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class contains an abstract method then the class must be declared abstr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EB6-18B4-4C42-B752-FCDBAEED28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F5816-88C4-4FB7-B336-25E144D4AA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classes come later in the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F74-39F1-4C75-B4DE-74BA14FD66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D1DE0-E5F5-4058-B81F-0C2327FAB5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atic variab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 variables exist only at run-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fixed location inside of th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to all instances of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referenced w/o instancing the out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B36-8143-47B7-89D6-F0B9C2B1F9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3CFB5-E51C-4787-90A8-921FAE63B2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stat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a S.V. before inst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double cos(double x){...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x = Math.cos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007-5CE7-4726-9443-2B131A5C05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CF3E5-C763-4DF6-B21D-B95C82FF51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instance a dynamic el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use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f.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1A6-E758-4208-BAB7-1E8F300EF9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9E624-F50F-4125-997E-71B5B0FEE3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for dynam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instance the containing class to gain access to the dynamic memb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CC5-6DC6-406B-AB61-6A278DB163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25839-D0C9-4C2D-B216-0C4698D9E3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ff about 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ng new instances of classes that contain only static elements, no new memory is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C92-6956-4027-89C2-DCEBCA1BE0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79327-55DB-49EA-961D-6B1FB1A442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1D8-ABEA-4C22-859C-2CB216B843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692B9-E932-413D-92CE-17753D24B3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and 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Tes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test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100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oo(); // takes no more memor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D80-598E-4D9C-BAB0-77A0C0D157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02331-7A05-46B3-AA37-1AFF24976A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 + 100; // 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k = j; // 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0AB-A64B-4354-A42A-BAA378D3AE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A6AD7-884D-4C63-9F53-AD5BE82221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nam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//O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996-ABF1-4A4A-B80F-B4B23CB99B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31669-C4CE-4152-996A-8F1D15DF50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. Dynamic, 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 //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FF5-34E6-413A-BE4D-8FA1AA22F2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C2664-C053-4429-8E7B-FCE8276274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na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07B-9FE8-4825-A699-C75899FA60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33875-5FC7-4F28-8114-BCCF2CC7DF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ynamic vars and stat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get10()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526-BAAF-44AA-94D2-2F4336BCE9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773AB-453A-415E-B5B7-8041D18E96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v and S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 ba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365-9DED-4DD5-8DC4-3240BCB204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197F7-61DD-4E77-8AC8-DB79BFDD8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 can invok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 can referenc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stuff can use stat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tatic stuff cannot directly reference dynam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070-5A7D-4977-9815-7A04B0000E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5DE7E-0B6C-41C9-AF11-C9E79A64CC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Patt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n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problem it so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big books on design patte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533-2777-4246-8051-7E36E250A2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F842A-61F6-4B01-AE05-79C95D2E5B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leton Patter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you only have one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Foo() {} //don’t let other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atic 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oo getFoo() {return f;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514-0E1B-407B-A40A-59472914AC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FBEA4-1303-4E6E-A0F7-CAA80AD72F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final int i = 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= i + 1 // cannot work, since i is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70B-B6C9-42A1-A086-9CC40AAC5D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2DD48-4E8A-4211-A733-28B413AE2D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 cannot be overridden by subclasses, this causes a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rin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final void print(Object o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FC5-7619-4865-B511-1036595A87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67DBA-101F-43CC-AD7A-412248B8E1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cannot shadow a final met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PrintStuff extends Print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Object args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“hi:”+arg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This does not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BC3-F288-4949-BEA9-0623D3161C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806F6-3260-4204-A896-62DC1B0805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 classes cannot be subcla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inal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Math {}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can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145-3E01-4FBD-9799-44AD68A4E2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5F4DC-ABCE-4854-9E16-BE03BCF198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have an abstract vari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590-C89B-4AA3-A259-9D997082F2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4DC7E-C8AA-42E7-A4DA-70952D0275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not be inst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 be subcla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declared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 //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747-DCD6-40EC-B49A-229B24FA7A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57FDD-8B2F-4F45-9670-9E50D00D54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 of abstract subcla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of abstract class are non abstract if and only if they provide implements for the abstract metho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EF3-3280-4B70-A49B-6E48955BF6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78547-07D0-4F2F-9AB1-67CDAF855D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lyon</cp:lastModifiedBy>
  <dcterms:modified xsi:type="dcterms:W3CDTF">2004-09-08T23:42:40Z</dcterms:modified>
  <cp:revision>6</cp:revision>
  <dc:subject/>
  <dc:title>PowerPoint Presentation</dc:title>
</cp:coreProperties>
</file>