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C364-2236-4939-A079-3715E3DBD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75F8-ABB0-4818-8B92-AFBD2FE93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9D93-CBE6-4AFB-9958-7CB5B539A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8252-B554-42AD-BA90-8D2F019F7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4B50-979D-47C3-8551-162FF9ACE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FF40-C04F-4F5D-B9BC-06F67F9AD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C856-8BB8-437F-BFBF-D62C287A3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14BE-86C6-4550-853E-25DB55D71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F00B-FBDB-48BE-8047-C9EEEC98E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7E34-5E9B-46C6-BB36-40A99A0C9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C195-237F-4437-96B3-A166A21BC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57B1-5303-4084-9C38-4A817F691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B0982-391B-40F3-BB09-176B891DE6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// for homework    // write a program    // in Java. That can list    // All of the methods that contain    // a method that is of  the signature    // public static void main(String args[])    // These methods can be in many classes    // and all must reside in a package that is given.    // For example:    // Method [] getMainMethods(Package p);    // Method m[] = getMainMethods(networkPackage);    // returns a list of methods that are in the networkPackage" TargetMode="External"/><Relationship Id="rId2" Type="http://schemas.openxmlformats.org/officeDocument/2006/relationships/hyperlink" Target="// for homework    // write a program    // in Java. That can list    // All of the methods that contain    // a method that is of  the signature    // public static void main(String args[])    // These methods can be in many classes    // and all must reside in a package that is given.    // For example:    // Method [] getMainMethods(Package p);    // Method m[] = getMainMethods(networkPackage);    // returns a list of methods that are in the networkPackage" TargetMode="External"/><Relationship Id="rId3" Type="http://schemas.openxmlformats.org/officeDocument/2006/relationships/hyperlink" Target="// for homework    // write a program    // in Java. That can list    // All of the methods that contain    // a method that is of  the signature    // public static void main(String args[])    // These methods can be in many classes    // and all must reside in a package that is given.    // For example:    // Method [] getMainMethods(Package p);    // Method m[] = getMainMethods(networkPackage);    // returns a list of methods that are in the networkPackage" TargetMode="External"/><Relationship Id="rId4" Type="http://schemas.openxmlformats.org/officeDocument/2006/relationships/hyperlink" Target="// for homework    // write a program    // in Java. That can list    // All of the methods that contain    // a method that is of  the signature    // public static void main(String args[])    // These methods can be in many classes    // and all must reside in a package that is given.    // For example:    // Method [] getMainMethods(Package p);    // Method m[] = getMainMethods(networkPackage);    // returns a list of methods that are in the networkPackage" TargetMode="External"/><Relationship Id="rId5" Type="http://schemas.openxmlformats.org/officeDocument/2006/relationships/hyperlink" Target="// for homework    // write a program    // in Java. That can list    // All of the methods that contain    // a method that is of  the signature    // public static void main(String args[])    // These methods can be in many classes    // and all must reside in a package that is given.    // For example:    // Method [] getMainMethods(Package p);    // Method m[] = getMainMethods(networkPackage);    // returns a list of methods that are in the networkPackage" TargetMode="External"/><Relationship Id="rId6" Type="http://schemas.openxmlformats.org/officeDocument/2006/relationships/hyperlink" Target="// for homework    // write a program    // in Java. That can list    // All of the methods that contain    // a method that is of  the signature    // public static void main(String args[])    // These methods can be in many classes    // and all must reside in a package that is given.    // For example:    // Method [] getMainMethods(Package p);    // Method m[] = getMainMethods(networkPackage);    // returns a list of methods that are in the networkPackage" TargetMode="External"/><Relationship Id="rId7" Type="http://schemas.openxmlformats.org/officeDocument/2006/relationships/hyperlink" Target="// for homework    // write a program    // in Java. That can list    // All of the methods that contain    // a method that is of  the signature    // public static void main(String args[])    // These methods can be in many classes    // and all must reside in a package that is given.    // For example:    // Method [] getMainMethods(Package p);    // Method m[] = getMainMethods(networkPackage);    // returns a list of methods that are in the networkPackage" TargetMode="External"/><Relationship Id="rId8" Type="http://schemas.openxmlformats.org/officeDocument/2006/relationships/hyperlink" Target="// for homework    // write a program    // in Java. That can list    // All of the methods that contain    // a method that is of  the signature    // public static void main(String args[])    // These methods can be in many classes    // and all must reside in a package that is given.    // For example:    // Method [] getMainMethods(Package p);    // Method m[] = getMainMethods(networkPackage);    // returns a list of methods that are in the networkPackage" TargetMode="External"/><Relationship Id="rId9" Type="http://schemas.openxmlformats.org/officeDocument/2006/relationships/hyperlink" Target="// for homework    // write a program    // in Java. That can list    // All of the methods that contain    // a method that is of  the signature    // public static void main(String args[])    // These methods can be in many classes    // and all must reside in a package that is given.    // For example:    // Method [] getMainMethods(Package p);    // Method m[] = getMainMethods(networkPackage);    // returns a list of methods that are in the networkPackage" TargetMode="External"/><Relationship Id="rId10" Type="http://schemas.openxmlformats.org/officeDocument/2006/relationships/hyperlink" Target="// for homework    // write a program    // in Java. That can list    // All of the methods that contain    // a method that is of  the signature    // public static void main(String args[])    // These methods can be in many classes    // and all must reside in a package that is given.    // For example:    // Method [] getMainMethods(Package p);    // Method m[] = getMainMethods(networkPackage);    // returns a list of methods that are in the networkPackage" TargetMode="External"/><Relationship Id="rId11" Type="http://schemas.openxmlformats.org/officeDocument/2006/relationships/hyperlink" Target="// for homework    // write a program    // in Java. That can list    // All of the methods that contain    // a method that is of  the signature    // public static void main(String args[])    // These methods can be in many classes    // and all must reside in a package that is given.    // For example:    // Method [] getMainMethods(Package p);    // Method m[] = getMainMethods(networkPackage);    // returns a list of methods that are in the networkPackage" TargetMode="External"/><Relationship Id="rId12" Type="http://schemas.openxmlformats.org/officeDocument/2006/relationships/hyperlink" Target="// for homework    // write a program    // in Java. That can list    // All of the methods that contain    // a method that is of  the signature    // public static void main(String args[])    // These methods can be in many classes    // and all must reside in a package that is given.    // For example:    // Method [] getMainMethods(Package p);    // Method m[] = getMainMethods(networkPackage);    // returns a list of methods that are in the networkPackage" TargetMode="External"/><Relationship Id="rId13" Type="http://schemas.openxmlformats.org/officeDocument/2006/relationships/hyperlink" Target="// for homework    // write a program    // in Java. That can list    // All of the methods that contain    // a method that is of  the signature    // public static void main(String args[])    // These methods can be in many classes    // and all must reside in a package that is given.    // For example:    // Method [] getMainMethods(Package p);    // Method m[] = getMainMethods(networkPackage);    // returns a list of methods that are in the networkPackage" TargetMode="External"/><Relationship Id="rId14" Type="http://schemas.openxmlformats.org/officeDocument/2006/relationships/hyperlink" Target="// for homework    // write a program    // in Java. That can list    // All of the methods that contain    // a method that is of  the signature    // public static void main(String args[])    // These methods can be in many classes    // and all must reside in a package that is given.    // For example:    // Method [] getMainMethods(Package p);    // Method m[] = getMainMethods(networkPackage);    // returns a list of methods that are in the networkPackage" TargetMode="External"/><Relationship Id="rId15" Type="http://schemas.openxmlformats.org/officeDocument/2006/relationships/hyperlink" Target="// for homework    // write a program    // in Java. That can list    // All of the methods that contain    // a method that is of  the signature    // public static void main(String args[])    // These methods can be in many classes    // and all must reside in a package that is given.    // For example:    // Method [] getMainMethods(Package p);    // Method m[] = getMainMethods(networkPackage);    // returns a list of methods that are in the networkPackage" TargetMode="External"/><Relationship Id="rId16" Type="http://schemas.openxmlformats.org/officeDocument/2006/relationships/hyperlink" Target="// for homework    // write a program    // in Java. That can list    // All of the methods that contain    // a method that is of  the signature    // public static void main(String args[])    // These methods can be in many classes    // and all must reside in a package that is given.    // For example:    // Method [] getMainMethods(Package p);    // Method m[] = getMainMethods(networkPackage);    // returns a list of methods that are in the networkPackage" TargetMode="External"/><Relationship Id="rId17" Type="http://schemas.openxmlformats.org/officeDocument/2006/relationships/hyperlink" Target="// for homework    // write a program    // in Java. That can list    // All of the methods that contain    // a method that is of  the signature    // public static void main(String args[])    // These methods can be in many classes    // and all must reside in a package that is given.    // For example:    // Method [] getMainMethods(Package p);    // Method m[] = getMainMethods(networkPackage);    // returns a list of methods that are in the networkPackage" TargetMode="External"/><Relationship Id="rId18" Type="http://schemas.openxmlformats.org/officeDocument/2006/relationships/hyperlink" Target="// for homework    // write a program    // in Java. That can list    // All of the methods that contain    // a method that is of  the signature    // public static void main(String args[])    // These methods can be in many classes    // and all must reside in a package that is given.    // For example:    // Method [] getMainMethods(Package p);    // Method m[] = getMainMethods(networkPackage);    // returns a list of methods that are in the networkPackage" TargetMode="External"/><Relationship Id="rId19" Type="http://schemas.openxmlformats.org/officeDocument/2006/relationships/hyperlink" Target="// for homework    // write a program    // in Java. That can list    // All of the methods that contain    // a method that is of  the signature    // public static void main(String args[])    // These methods can be in many classes    // and all must reside in a package that is given.    // For example:    // Method [] getMainMethods(Package p);    // Method m[] = getMainMethods(networkPackage);    // returns a list of methods that are in the networkPackage" TargetMode="External"/><Relationship Id="rId20" Type="http://schemas.openxmlformats.org/officeDocument/2006/relationships/hyperlink" Target="// for homework    // write a program    // in Java. That can list    // All of the methods that contain    // a method that is of  the signature    // public static void main(String args[])    // These methods can be in many classes    // and all must reside in a package that is given.    // For example:    // Method [] getMainMethods(Package p);    // Method m[] = getMainMethods(networkPackage);    // returns a list of methods that are in the networkPackage" TargetMode="External"/><Relationship Id="rId21" Type="http://schemas.openxmlformats.org/officeDocument/2006/relationships/hyperlink" Target="// for homework    // write a program    // in Java. That can list    // All of the methods that contain    // a method that is of  the signature    // public static void main(String args[])    // These methods can be in many classes    // and all must reside in a package that is given.    // For example:    // Method [] getMainMethods(Package p);    // Method m[] = getMainMethods(networkPackage);    // returns a list of methods that are in the networkPackage" TargetMode="External"/><Relationship Id="rId2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f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ting information about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static void main(String args[])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.util.Date date = new java.util.Date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c = date.getClass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List ml = new MethodList(c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 mutators[] = ml.getWriteMethods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 accessors[] = ml.getReadMethods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.out.println("here comes the mutations"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nt(mutators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.out.println("here goes the accessors"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nt(accessors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05740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214280"/>
            <a:ext cx="80773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for homework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rite a program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// in Java. That can list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 // All of the methods that contain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 // a method that is of  the signature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// public static void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main(String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args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[])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 // These methods can be in many classes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// and all must reside in a package that is given.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// For example: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// Class []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getMainClasses(Package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7"/>
              </a:rPr>
              <a:t> p);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8"/>
              </a:rPr>
              <a:t> // Method m[] =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9"/>
              </a:rPr>
              <a:t>getMainMethods(Class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0"/>
              </a:rPr>
              <a:t> []);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1"/>
              </a:rPr>
              <a:t>// returns a list of methods that are in the 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ow do we get the classes in a Packag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age p = Package.getPackage(“packageName”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we load class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.for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s default system class lo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teCode loaders can load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we load byte cod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 the file that holds the bytec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use the reloader to load the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mpt the user for a f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ile has a directory of class files in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load the classes into th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lass the classes for the main meth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tting a Directory of F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o I get a Directory of fil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ils.getReadDir only gets one direct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want a list of all the files in all the subdirecto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List dl = new DirList(".class"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e f[] = dl.getFiles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I filter the file lis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a list of files in an array File fa[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want a new list of files in an array that are NOT directo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of the file instances in fa are directo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lter the methods so that they contain a mai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would you support such a task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a class file, how do you know if it has a mai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a method call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boolean hasMain(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me for next week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pter 24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4.3, 24.4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AddressDialog in package gui.dialogs; in order enter data without having to hit enter for each textfield. Just type into the text field, then click O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e next wee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flection us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lass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lass called Class has many metho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lectUtil class demonstrates many reflection techn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uff you can disco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er-classes and interf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el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s method need for invo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sibility modifi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types of method retur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types of fiel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ess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an accesso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method that starts with “get” or “i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returns a property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er c = new Customer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.getName(); // returns the name of the cu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.isDeadbeat(); // returns true or fa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t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a mutato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method that alters a proper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method that starts with “set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lectUtil ru = new ReflectUtil(new java.util.Date()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.getWriteMethodNames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ow do I convert a string into a metho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a class, c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hod m = c.getMethod(s, new Class[]{}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 main = c.getMethod(“main”, new Class[]{}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ow do I invoke a method from a string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a static method, m, the first argument to invoke can be nu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.invoke(null, args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f you have a static method that takes no argum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.invoke(null,null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mit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lass must be load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.E., you must have access to the byte c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ire system works on byte code driven metho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not a source code driven mechan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thing is already compil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Ref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lectUtil ru = new ReflectUtil(o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hodList is used to store all the methods and get information about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c = o.getClass(); //supported for all obj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5T01:14:58Z</dcterms:created>
  <dc:creator>lyon</dc:creator>
  <dc:description/>
  <dc:language>en-US</dc:language>
  <cp:lastModifiedBy>dlyon</cp:lastModifiedBy>
  <dcterms:modified xsi:type="dcterms:W3CDTF">2004-10-07T01:19:59Z</dcterms:modified>
  <cp:revision>9</cp:revision>
  <dc:subject/>
  <dc:title>Exceptions</dc:title>
</cp:coreProperties>
</file>