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B11-EBA7-4CA0-8BA5-FF278873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F50-FAE9-4F24-9BC2-BEE3198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561-2E8D-49C6-806C-F35477E5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60E-F71F-41A4-9B49-F95C4A5D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507-9E8C-43C5-958A-394C37A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874-804F-40F3-B103-08D78F4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1E4-CEB1-4A95-9A94-C580514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A17-BA19-4E39-8517-CDA2B15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51D-9A90-4171-9870-F7EABB9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8E4-8D22-4DDA-8714-3437871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2BE-0913-4A88-B3E1-5EB31AD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6EF-624F-45D5-989A-1831DC20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774B-787F-4441-A034-930DC98AE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prompt the user for a fi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wing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.out.println(getReadFile("select a file")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wing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.out.println(getReadFile("select a file")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ile f = futils.Futil.getReadFile(“select a fil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f = futils.Futil.getWriteFile(“select a fil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tatic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the parent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File getReadDirFile(String prompt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Futil.getReadFile(promp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.getParent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ple of the directory selecto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033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a read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.getReadFile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n java.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implement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accept(File f, String 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care about FileFil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me create a class of instances that will eliminate the files I don’t care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e select, for example all files that end with “.java” or “.doc” or “.tx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select only those files that are accep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Filter implement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od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ontrol of how files are listed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 is an insta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);// files in a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fnf); // uses fnf to list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exampl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Ls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resi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is a unix command (like DI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list The files in a direct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“c: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a[] = f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a1[] = f.list(fn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fnf = file name fi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list all the files in all the subdirector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system has a tre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ot might be “c: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all the files in all the subdirectories from the root list all the files in the fil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i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ies of data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to obtain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ist the files in subdirector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search for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ss all the files in the folder and subfo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all th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all th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ll th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catal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I list all the files in all the subdirectories from a given roo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static void getSubdirectoryExampl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uffix = In.getString("enter a suffix for a file lis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prefix = In.getString("enter a prefix for a file lis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midfix = In.getString("enter a midfix for a file lis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dFilter fnf = new WildFilter(prefix, midfix, suffi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List d = new DirList(fn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f[] = d.getFil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f == null || f.length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.message("no files found with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aFile = (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.multiPrompt(f, "select a file", "file selection dialog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.message("you select:" + aFi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a file sto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on a hard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ically in ram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access time is in 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access time is in 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is 1 Million times faster than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disk is cheaper/byte than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performance trade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File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.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do not have to correspond to files in the 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 can correspond to a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irectories will contain fil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 that points to a directory can list fil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-qualified file-n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+fil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home/lyon/fo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autoexec.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with a file sepa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separator is OS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\' = windows file sep, on mac it is ‘: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/' = unix file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you find out what your file separator 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formulate fully-qualified file-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navigate through the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s.SystemUtils.getFileSeparato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FileSeparato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System.getProperty(“file.separator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th Sepa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windows it is a “;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=c:\lyon\bin;c:\windows\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h separator separates out fully-qualified path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need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list multiple files or directories on the sam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. C:\ora9ias\bin;%SystemRoot%\system32;%SystemRoot%;%SystemRoot%\System32\Wbem;C:\Program Files\Metrowerks\CodeWarrior\Other Metrowe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get the path sepa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getProperty("path.separator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s.SystemUtils.getPathSeparato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mpt the user for a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Futil.getDir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Dir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Dir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ReadDirFile(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10-18T19:56:53Z</dcterms:modified>
  <cp:revision>17</cp:revision>
  <dc:subject/>
  <dc:title>Exceptions</dc:title>
</cp:coreProperties>
</file>