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209-A0DA-4F81-A34C-E6D3AB6A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85F-E481-4DBC-9312-AB9861AA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A9E-8AAD-469C-940B-6DDFFC3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C94-409A-4E0B-939E-DE9480B2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86F-9B48-4776-B35E-E7CF2B5E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708-CB2F-4A0A-AE25-96F93A0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B4B-059D-4389-89AD-2ACDA0CC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ECB-6EC1-4825-8EEE-774EFBE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D7C-8B3B-40ED-AA3E-7D543F67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E07-6F99-4847-A1CF-C0BB5CE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B1A-7A63-44BE-9A3D-C849C50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157-CAAA-453B-9F5A-61C55C3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991B-C964-49E4-947B-BDFE90F0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ing HTML in 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Data is decoded at the presentation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reation of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handy documentation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 of HTML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 web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.html.Html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ers some canned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HTML viewer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rt of the HTML vie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Editor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an instance of the JEP i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Scroll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Text(s);/// then just displ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he type of data in the J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" indicates there is text in th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tml" indicates we have an HTML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urpose Internet Mail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"string" with several predefined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have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beginning MAIL was only ASCII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body wanted BINARY data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= Mail Transfer Ag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is a program that moves mail from one NOD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de is just a computer than runs an M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dentifies Data Typ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documents are of a specific ty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present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 represents process data “sound/aiff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represents process data. “sound/a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t limit to the number of different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E is used to introduce the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 = ht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rtf" = word R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iff" = audio interchang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u" = 8 bit voice grade format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Lots of others....All documented in an RFC1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s use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use MIME (mapping to plugins or helper ap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tP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, "text/plain", "text/rtf", "image/gif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nerate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&lt;html&gt; &lt;body&gt; sdlkfdslfkj&lt;/body&gt; &lt;/html&gt;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type it 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is to synthesize the HTM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write a toolkit for HTML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n addressbook using the gui.ru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Button, RunMenuItem, RunTextField, RunTextArea, Run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nemonics and Keyboard accel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HTML Synthes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Html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html&gt;\n" + s + "\n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getHtml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="&lt;html&gt;\n helloworld \n 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ListItem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li&gt;\n" + s + "\n&lt;/li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getHtml(getListItem(li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html&gt;...&lt;li&gt; li1 &lt;li&gt; &lt;/html&gt;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xml.adbk.Address for your address record. Use xml.adbk. AddressBook to store your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 For next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uild the GUI for the addressbook, you don’t have to make anything actually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vent handling is needed for nex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 Run Method, but they will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build an HTML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MIME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ynthesiz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enerate HTM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– bits (so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link layer – PPP (AT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layer – IP -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layer -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layer – login, creating a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layer – html /proces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layer - 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know my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Sniff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– enables the decoding of data by using a special string “MI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purpose Internet Mail Extens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– 1521 “text/html” “image/gif” “text/rtf” The mime string is in the head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name suffix….not rel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HTML vie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that renders HTML to the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help file for my address book progra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9-30T00:16:39Z</dcterms:modified>
  <cp:revision>19</cp:revision>
  <dc:subject/>
  <dc:title>Exceptions</dc:title>
</cp:coreProperties>
</file>