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28C-6B53-4E80-AF4C-DCCEDEF5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D25-859E-41B4-9A35-FDE477A9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CD2-41C8-417A-B09A-527D11F2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F58-01A8-405E-8A06-DE9E550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A56-36F1-4DF3-80B6-0E09E01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3ED-7705-4263-BF74-0DBFA46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51F-7AA0-4C95-A9E8-DEBD3472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435-3FF5-4B31-9A54-E544DD20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6E3-FA6D-481E-B400-5BEF651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429-6B6C-401F-9153-A198F25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369-72A9-47AD-B877-8B9D148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73C-54DB-4792-9C13-4B6C325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9EF4-99AF-409A-8B95-A5953A115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se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mous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and Sca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mouse events with Key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the mouse spe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has a different event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event.Mouse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MotionListener, Mouse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Listener: mousePressed, mouseReleased, mouseEntered, mouseExited, mouseCli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seMotionListe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being dragged, mous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ombine your interfaces into a single interface...Mouse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3-04-08T00:27:20Z</dcterms:modified>
  <cp:revision>19</cp:revision>
  <dc:subject/>
  <dc:title>Exceptions</dc:title>
</cp:coreProperties>
</file>