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F28-3BFE-4873-A545-4279A3F9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F41-AE4F-4B17-B58D-5B785785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C0A-A6A0-4C91-B556-45D6A6E7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1CC-F256-49D2-B151-A2F73A22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7EAE-E7F9-4B93-96B8-3D64F9DB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2863-03E6-48D2-9D56-C6C6A768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09C7-88DD-4ECF-8C5D-3990BB19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B898-D671-41EB-9A6F-2B2192C8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5934-7CC2-4322-9FEC-25A39A94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77B7-EC5F-41BE-92D9-7C1685FD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AD1D-F389-454B-8DD6-229C3B9C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A10-FE3A-4DD3-AE9A-4A2CACB8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934E-4B91-4601-B235-61821C29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C9A7-7699-4E04-9171-03553258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50AE-2985-42BD-A8FF-F86521F8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DCA6-5A11-4810-BFAB-D08FF751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BA97-C08F-4306-A9A8-A23F2C2D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D31-BC8C-4CA9-A043-1DB00BA4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7F5-9D33-4F37-9463-C0DA992D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2226-9946-4A96-A514-BE90862A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F19-8D47-4D6B-9901-66C21EEB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6F7D-52F6-499A-825B-6B2E33DD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D97-1ABA-4B08-8694-93A7DEEF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05F-28F7-404D-BB64-29917DB9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F584-FCCE-43AC-8A9E-BE6FA9FADEC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93D9-1614-491E-9BD7-3F3613BC08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98EC-860D-4304-8CF3-693336EE24B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6F95-2D85-459C-88E2-31EF8F5E3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ference Data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6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E155-8C8D-4CA4-9E5C-AC9E47A01F4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0F75780-BABA-4B4C-8834-206B6BAFDAA8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example of a AKO hierarch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ions (go left, go forward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ctures (tent, building (house, sky scraper, warehouse) bridge (suspension, truss, trestle), stat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s (water, gasoline (unleaded, leaded, super, regular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7C5-FB53-4060-ACDF-C392E14628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A09DC-FAAE-4783-BE59-B1620E6706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interfac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just like a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uses the keyword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referenc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ontains specifications for methods, but no implementations, for metho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o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an have static final con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94E-D980-4625-8F8C-687724BD84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6E6CE-438F-4540-80BA-4416C8D862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we need interface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that we can have a common specification for many different clas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mon specification enables reuse via a technique called polymorphism (Greek many shapes!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7EF-6885-4304-B2BD-43046A4AD6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0B237-F23F-47EB-B995-157CFABD59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ppose we want to process functions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fcn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f(double 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1 implements fcn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f(double x) { return Math.sin(x)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0A2-7FF0-4F5F-BD14-064A9C403A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29F6F-F392-4873-A12F-21CDA051C9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utab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Computable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Object compute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B917-F47F-4249-ADD3-21A7E8F7B8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B7584-FDBB-4668-9722-AC77D6DDCB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utableAnim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ableAnimation implements Computable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omputableAnimation (double startTime, double endTime)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Object compute(){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C21-8DFD-419B-A978-0112FF449A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633B8-FE48-4A4C-8F33-9ED31C4FB7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is a reserved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lasses have n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ames can have any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s contain two el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6FC-8059-4396-93B7-EF32BA9BBD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1670A-E82A-4033-ACA7-8D3DB6EEA8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I need a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need a class to run a program in 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Hw1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static void main(String args[]) {.....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Hw2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static void main(String args[]) {.....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645-C752-4EEF-82CB-F8414D6869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8305D-357D-4B5E-952D-54BAD25D3C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is it called a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is short for classifi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cations are used for sets of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bset of the things allows for a sub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Java we make a subclass by extending a parent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8CA-A9BD-4BD6-A419-BA3A3ACFB5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066B1-6D93-495C-AF95-728B96052D7F}" type="datetime1">
              <a:rPr lang="en-US"/>
              <a:t>07/31/26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n did the class idea star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67 – Simula – used for 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ustrup was a Ph.D studen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using Simula for his thesis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liked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too slow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e used B (a language that came before C) And it was very fast but hard ;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CC3-F2F6-44C2-8CCD-3DF08716BC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780F6-B899-48F8-9FBC-22342402BA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story continu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TL, Murray Hill N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C in 1971, on PDP-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with classes....C++ became an ANSI standard (around 1984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sling started fooling around with C++ extensions at Sun in 19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ak was started and became project gr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F0B-C0EC-458F-B035-19D2137B62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567CB-617B-4924-A182-A52D66482749}" type="datetime1">
              <a:rPr lang="en-US"/>
              <a:t>07/31/2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verview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s allow for the creation of taxonom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yclic Digraphic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AAE-80C6-4FF0-9345-6421A79BA5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F1762-9666-4794-844D-134F4C92AFBB}" type="datetime1">
              <a:rPr lang="en-US"/>
              <a:t>07/31/26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xono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2209680"/>
            <a:ext cx="4343400" cy="38102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3505320"/>
            <a:ext cx="1981080" cy="19047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666880"/>
            <a:ext cx="1371600" cy="1752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4800600"/>
            <a:ext cx="1219320" cy="10666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114800"/>
            <a:ext cx="1143000" cy="990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3581280"/>
            <a:ext cx="609840" cy="990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52880" y="1600200"/>
            <a:ext cx="21621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uperCla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00600" y="3048120"/>
            <a:ext cx="120492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ubcla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CDC-261C-451D-8F21-D868F1354D4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27619-5B38-4232-BBA4-811B684BD2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the cardinality of a se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elements in the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dinality of a subset is &lt; card(superclas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10D-1B1A-48CE-9F68-792F904E8E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21553-D533-4C64-8610-8798D6B327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lyon</cp:lastModifiedBy>
  <dcterms:modified xsi:type="dcterms:W3CDTF">2004-09-14T19:09:54Z</dcterms:modified>
  <cp:revision>5</cp:revision>
  <dc:subject/>
  <dc:title>PowerPoint Presentation</dc:title>
</cp:coreProperties>
</file>