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1215-E7C9-4A07-8C3C-D86DE44F4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6FF4-2F35-4E34-A0E4-29A20052C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5825-FF1C-430A-B2C9-8D5605E4B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875A-DB20-46C8-AC4F-8D2414C36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F8EF-A156-4743-8224-5A539825C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EECF-BDED-43B5-A40D-EE99A0A3E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2AC3-C5AF-44DF-A692-C45E3585D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D254-128E-4C26-804B-9BD4BEBF4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0C62-DA6A-4661-B4DB-9A144AD21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D7CB-A88A-4F09-BAB3-470C9F3A4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C6FB-1E7F-49DF-A04D-5265A865D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D171-0265-4368-92FF-C8EB039AA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EF62E-4FC5-40DB-AA1F-779E155198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1. Reference Organ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ck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sibil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 – world ac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tected – sub-class ac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ault – package ac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vate – only within the cla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adOnly Vari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 class Customer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vate String name = “J. Shmoe”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 String getName()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turn name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do I need public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sh a constan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blic static void PI = 3.14159265358962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sh a metho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blic static double sin(double x){…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sh a class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allows others to use your AP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do I need protecte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cannot have a protected cla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can have protected variables and metho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y class authors can use protected ite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-Class authors know what they are doing!??!? Trust them!?!?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do I need privat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n't trust the subclass author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things can be read but not writt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things can be written but not re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can control access to state variab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ad-only vari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class Taxes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vate int interestRate = 3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getInterestRate() {// access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 interestRat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void greenSpanManeuver(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estRate = interestRate +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rite-only Vari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class Taxes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vate int interestRate = 3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void setInterestRate(int  r) {// mut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estRate = r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void greenSpanManeuver(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estRate = interestRate +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do I need private method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don't want to publish the method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haps the spec will chan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 stuff must be s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 stuff must be suppor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 stuff must be documen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 careful what you make publi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 interface car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blic int getSpeed(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blic int getOdometer(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blic int getGas(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blic void setAcceleration(int a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blic void setSteerWheelAngle(int degrees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ault is easy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 nothing, it is defaul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not make everything defaul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one can use your stuff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r stuff is unpublished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lexity in an OOD is a function of class interdependenc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must encapsulate complexity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reference organiza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a process that enables us to group classes and interfaces into isolated namespac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do I share protected element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ckage dl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 class ShareMe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tected int i = 10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the protected memb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ckage sop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 SomeClass extends dl.ShareMe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Class()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stem.out.println(i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n isolated namespac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name is an identifi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namespace is place where identifiers are group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solated namespace is an isolated identifier grou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isolate identifier group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enable the reuse of identifiers w/o causing confu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 java.util.Lis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 java.awt.Lis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t l = new List()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/ this is an error, how do I fix i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mbiguous class name conflict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a.awt.List l = new java.awt.List(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a.util.List ll = new java.util.List(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not just use unique identifier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cause we can’t control all the programmers who write libraries that we want to u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packag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olated grouping of reference identifiers (classes and interfac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do I create a packag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erved word “package” appears as the first java statement in a fil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appears only o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ckage com.docjava.futil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 class Foo {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ckages are ALWAYS public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vate package foo; // syntax err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 package foo; // syntax err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tected package foo; //syntax err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ckage foo; // O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5T01:14:58Z</dcterms:created>
  <dc:creator>lyon</dc:creator>
  <dc:description/>
  <dc:language>en-US</dc:language>
  <cp:lastModifiedBy>dlyon</cp:lastModifiedBy>
  <dcterms:modified xsi:type="dcterms:W3CDTF">2004-09-27T20:15:57Z</dcterms:modified>
  <cp:revision>8</cp:revision>
  <dc:subject/>
  <dc:title>Exceptions</dc:title>
</cp:coreProperties>
</file>