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362-3045-42C3-A75A-2E430443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D1D-3D53-4E93-A736-8B3771C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AEE-AA19-4900-8FC5-2BE12061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5D3-780A-4193-8162-7D237735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AE1-8A44-460A-AFEE-C2C35BE2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8B1-4826-4608-8B7E-6B7EAC45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47E-6427-4520-B8F2-B6B685DD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32E-64ED-42E4-8E14-202D743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136-C007-43F1-A801-6346FB7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53D-B027-45A7-8318-8B29AA4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B35-FCD6-4F49-A3F4-7514E9A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54E-C6B9-4687-8DE8-D151AAFE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08C8-493F-41AC-8479-BA5E5747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emory sw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mory for a task is swapped to disk so that the next task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ing occurs during a memory sw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 tak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as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 progress is made because of the overhead in the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n’t threads thra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share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have a low-overhead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can have their own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make thousands of threads with little slow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 and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514600"/>
            <a:ext cx="205740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13716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8760" y="5146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5480" y="5299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ad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reads or tasks make no progress because of an unavailable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I make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 the Thread clas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unnable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nterface that defines a method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Runn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ad constructor wants an instance of a class that implements Run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is because the thread scheduler needs a call-back method to execute th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tates of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9880" y="3809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tar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1080" y="448632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472428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50532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metho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67652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952880" y="259056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281952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leep(), t.wa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14600" y="2286000"/>
            <a:ext cx="23623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2160" y="1905120"/>
            <a:ext cx="17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notif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thread d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izer is invoked just before a thread is garbage col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group is a group of threa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group is a child of the SystemThread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-tas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more than on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em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thread that dies when main 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aemon threads will cause the JVM to keep ru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eadsa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source is synchronized other threads cannot us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events resource con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can cause dead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omputations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Account ba = new BankAccou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ed void doInterest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.doIntere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ue concurr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do two or more thing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of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entium computer has two pro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rocess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spee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523880"/>
          <a:ext cx="76197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197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i-th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multiple th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hared memory task that exists in protected memory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OS a task is a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b has its own memory address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Job dies, the other jobs can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get some resources according to a program called a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 schedu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a discipline to decide what resources a job 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allows for allocation of various CPU time s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 job that do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ares memory resource with other threads in a given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10-18T18:17:36Z</dcterms:modified>
  <cp:revision>15</cp:revision>
  <dc:subject/>
  <dc:title>Exceptions</dc:title>
</cp:coreProperties>
</file>