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D4-1EC9-4659-8D21-62CCEDE9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BB6-ED20-4C43-B1EB-8DDDD645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2AB-8F33-40A6-A7E4-D2A618D6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F62-D4DE-45D6-A776-E28AD1D4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7C7E-7B8B-4B4A-A02A-12CF7E07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748-C3FC-4EB1-8B3E-F69C61F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1F78-3887-4981-9764-7243601F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4D2A-618B-4E8F-859C-A793F232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5B0F-44DB-46B8-BA63-BDB160F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E0E3-69D5-4FC3-8239-432D855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28AB-9AC4-4A4B-A5E8-BB3D486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512-D94E-4665-8CAC-0E9F3708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C6B7-2615-4ABA-9D00-384C010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1214-DD04-4AC5-BD79-3BE0F81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5A9F-6713-4484-B7C0-BD2DD2D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DF86-2C3B-423B-BF15-4FF9F717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CF2-CCAE-41A7-A53F-BB4F05F0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933-9230-4815-A507-BEE12FF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351-609A-42B2-92E6-1CA7A60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32F-B074-41B7-8C84-68541EF1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C36-EFEE-47AE-BBC1-21C415E9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AB1-6169-4539-8080-A69833F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640-2A7D-4155-9E21-9457847E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775-10C2-402B-B6D3-496D8DC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AFF3-7C77-4F67-BC30-3DAE5F20DE5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66B-2853-4718-BE7D-DE1E5ADBD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081F-0E54-4D24-9457-6DE6E630FD7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09C1-DD52-43DB-841D-6F4C52792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9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9DA5-0693-40CB-A46F-C0098C9077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E7B658-4D4D-450C-BC7F-5E21A9E612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converts and array of char to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[] = {‘h’,’e’,’l’,’l’,’o’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i = new String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ello = “hello world”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1[] = hi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 = hello instanceof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2[] = "hello world"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2 = c2.length == hello.length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27D-893C-459C-8ED8-B2F1282886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9E3D5-4723-4E38-B161-EF20691FD2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replace all instance of a string with anoth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it to an array and search the ar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lots copying for this, since the two strings are generally of differenc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 = replaceString(s, “hello”, “hi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all instances of hello are replaced with h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it to a Vector of Charac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ight be slow...and take lots of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226-BED3-4DDE-BE72-601D67CE2D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13249-2FC9-4A0C-80B7-6AF30D7CD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n we use the String method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help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.indexOf(“hello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64A-2BCD-4B92-848C-C2EAB2134F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A78E6-E786-4E04-93ED-FA073A1D34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placeSt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static String replaceString (String s, String lookFor, String replace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(int i= s.indexOf(lookFor); i &gt;= 0;i= s.indexOf(lookFor)) {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 =s.substring(0,i)+ replace +  s.substring(i+ lookFor.length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ystem.out.println("hello="+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705-D2E8-4957-8BC6-4DD44B8ABE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4747E-4384-4D1E-83A0-B5BA746D81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the java.util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StringTokeniz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util.StringTokenizer st =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StringTokenizer(“hello world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DBC-1673-4205-8874-F016BCE933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A2DD6-1FAA-4FCE-8866-419AB8D2D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zier st = new StringTokenizer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; j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015-CF13-4A2B-9954-203565B628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F1003-C79D-46AB-8A1B-E55E5E5F5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java we writ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 hi this is a test world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594-6F9B-4445-A0F3-8BA23785C3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F4348-474B-49D7-A872-DF6B9198D1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tok on comma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,hi this,is a test,world",",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8D0-0F31-4A98-8339-B7F80E5B94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C3352-038A-42B1-BF7B-7338A9C4FE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wrapper cla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 of ch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FAD-5098-4C73-A3E9-269987BD95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3C1E7-AADB-4B27-9FD2-1942CE98B8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wrapper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prim data type to a ref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8 of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E14-FF78-4DFC-A897-99C8CB897A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B20AA-25B6-4A0D-9F51-303D908303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re the wrapper class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,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, Short, Integer,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at, 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BCA-D270-4B63-91E6-599452B3D8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A846C-B909-4BB8-A40A-C7721779AC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lean b = new Boolean(tru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3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d = new Double(2.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c = new Character(‘t’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C1A-69FB-4497-A26A-EA225684F1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3C3A4-E61A-4EF9-AACA-B14096CF4F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store reference data types in contain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Integer(2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Double(2.3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298-E965-4BF2-B0E7-A14146E80D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17929-21F6-440E-BFA7-E528F81A28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wrappers...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s have nice methods, that we can us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 = i.intValue(); //back to 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nteger.parseInt(“234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lso have a corresponding set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in each wrapp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08A-13C1-4D1A-855F-0CBD940F22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D54F9-B8B1-43BC-AC29-D4948E060C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determine equalit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100; int k = 200; boolean b = i == 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m= new Integer(i); Integer p = new Integer(k); boolean b2 = m.equals(p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C9F-C5CA-415D-B1A8-3AEDF053F4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8D7D7-B9AB-41AE-BB13-7D4DDDF6FF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reference data 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java.l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ls are formulated with qu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this is a string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 +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+= “hello hello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E36-B2FD-45D7-83D9-C96816ED37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2A91D-363A-4457-927F-DEEBEE4778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4-09-20T19:22:28Z</dcterms:modified>
  <cp:revision>8</cp:revision>
  <dc:subject/>
  <dc:title>PowerPoint Presentation</dc:title>
</cp:coreProperties>
</file>