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B658-A71C-4273-812C-A3B52A10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13BF-A98E-41D4-8FB9-B4B43E52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4B22-3ADA-4E09-AA1C-71A49A9F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ECB6-F976-42F5-9B1E-D9991330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7250-44C0-4871-9812-8796C111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40EE-B1D7-4CAA-A5C6-978B4604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AB56-3E72-4823-9E87-EF1A1C24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13A4-0859-46D2-92E4-E59F972A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FB68-2C05-4B09-A2D2-142A4F63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B3A3-743E-4B4C-BAE5-A01E24B1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82F4-409D-41C7-9E12-314950F7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182A-6B0A-445B-A100-EC35447E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8C99-A0D1-4F1F-83E3-243CC8C93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-server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SO-OSI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= International Standards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I = Open Systems Inter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 Lay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-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Link – dlpdu (frames) no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– IP (192.168.1.1) -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ort – TCP/IP, UDP/IP-transmission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ssion – log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on – http – iiop /corba, rmi, db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- brow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doma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 for network, tlds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edu, .com, .gov, .net, biz, org, name,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– maps domain names to IP addre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ups or reverse looku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ocket programm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ans of using TCP/IP or UDP/IP along with a PORT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 bytes in a 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nn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ocess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socket programm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/ht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OP, 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t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a virtual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por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computer has many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s are sometimes standard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 – default web service 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 – 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 – 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 – snm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etc/services – to see the ports in UN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22:29:33Z</dcterms:created>
  <dc:creator>lyon</dc:creator>
  <dc:description/>
  <dc:language>en-US</dc:language>
  <cp:lastModifiedBy>lyon</cp:lastModifiedBy>
  <dcterms:modified xsi:type="dcterms:W3CDTF">2002-10-09T01:26:38Z</dcterms:modified>
  <cp:revision>6</cp:revision>
  <dc:subject/>
  <dc:title>Introduction To Programming</dc:title>
</cp:coreProperties>
</file>