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DEF-EECC-484B-827A-A36D2F1B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54A-5E3A-420D-8625-314A4E5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DF1-BF64-47BE-8EEE-D8334AFA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E75-3D7B-4113-A63A-0A077DD0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14C-205A-4C3E-A4EE-D09163FE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F28-BE25-43E8-A4E7-52AFEC6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B40-C9DE-4EE2-9077-C65FD5D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67C-1DFA-49DC-ABC9-5ADF957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DB2-B5CB-4C82-B167-3171E420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B3A-DE2D-442E-9401-A1B4CB9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600-D332-4FC4-8AD4-E015A13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C41-56F4-41C7-BD05-F50BC49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6705-6583-4BC9-B4D8-9659A941D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lse do while continue break switch case retur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userWantsToContinu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Stuf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weHaveMoreData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Data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UserFor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userInputIsNotQui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it; booleanCondition; iter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 &lt;= 1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lters the flow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must reside in a continue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tinue targe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, DO, FOR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continu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go to the nex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5.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. in W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1 ..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contin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2.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s a Jav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in a break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, while, do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prin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f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bable-Possible, my black 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lays eggs in the Relative W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oesn't lay eggs in the Positiv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he's unable to postulate how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Frederick Wi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continue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break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prints 0..9,1..10, 2..11 then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reserve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makes a table out of several different statements and selects which ones get executed. Like a complex if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(argu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 is byte, char, short,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ouble, float, long o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(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2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10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on 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s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appears in switch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used when no case is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quit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command not foun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a sudden change in the flow of control to the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xam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age &gt; 6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ayingSocialSecurit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ouAteLotsOf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GetFat = 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“this is the return exampl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x = 10 * Math.cos(Math.P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x &gt; 20) 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irst method using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nt addOne(int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x +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addOne(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s to ra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deg2rad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d * Math.PI / 18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deg2rads(18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2c(double f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(5.0/9.0) * (f –3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2c(212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value of a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v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p, double r, double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p * Math.pow(1+r,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v(100,0.07,3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“CS131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Name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ls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 65) &amp;&amp; (grade &lt; 7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D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= 70) &amp;&amp; (grade &lt; 8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C”; // etc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If handle multiple statemen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theCowsComeHom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moo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called a block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therThingYouMight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(grade &lt; 65) ? “F” : “pas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assignments with many simple boolean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I use the whil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something as long as some condition is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i &gt;= 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9 8 7 6 5 4 3 2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the do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++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 (!(i &gt; 1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4-03-31T17:55:47Z</dcterms:modified>
  <cp:revision>5</cp:revision>
  <dc:subject/>
  <dc:title>Introduction To Programming</dc:title>
</cp:coreProperties>
</file>