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C6C-CF5F-4D08-9853-11A9BE68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339-26A1-4010-86FC-3926F4B9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19B-6041-4D30-B2E4-313E746F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589-9CCA-42BA-9512-8391C9C1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D16-633D-4DA8-A18B-45544A03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6EF-EFDE-4246-A498-AA279FE9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8B0-5263-4540-8F2D-EB3C1A09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393-C438-4DE3-8249-E5405F9B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D0C-F99F-4C57-A5DC-555F1015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39F-E8C8-4569-8060-00FEC0AB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D4E-2461-405D-A2A7-8300E7AE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7B8-8DFC-4B2B-B496-2C8C67F8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69D5-20F4-4243-998C-4E1EB669F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simple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ctor Grap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s cont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stance of the Graphic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s is ABSTRAC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extend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get instances of the Graphic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pai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n instance of an java.awt.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java.awt.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graphics cont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access to simple 2D draw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Business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Vectors into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java.awt.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imple shapes (2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print vectors, and bit 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calls Pa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paint(Graphics g) {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he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he J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Event Dispatcher (it runs in a threa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in response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c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nt(1000); // paint invoked in 1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oes the Damage control manager invokes repa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damage, damage control for the window causes repa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re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exp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dem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nt(int x, int y, int w, int 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mage control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3600" y="30481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Dispat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75840" y="250524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572000" y="28195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343400" y="1981080"/>
            <a:ext cx="1295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372320" y="396252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90920" y="3505320"/>
            <a:ext cx="1522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48640" y="524844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age ca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28280" y="402912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880" y="213372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27432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52880" y="4724280"/>
            <a:ext cx="37720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lti-thread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have dim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indow w = new Window(); //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ension d = w.getSiz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have dimensions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w = d.width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h = d.heigh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3505320"/>
            <a:ext cx="3352680" cy="190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90720" y="28861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760" y="532440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,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3505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3505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91320" y="319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720" y="5934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 for a cir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it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-xc)^2 + (Y-yc)^2 = R^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ric 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sin(t)+x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cos(t)+y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is in the range from 0 to 1 inclu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4-10-21T01:14:25Z</dcterms:modified>
  <cp:revision>9</cp:revision>
  <dc:subject/>
  <dc:title>Exceptions</dc:title>
</cp:coreProperties>
</file>