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FB5-A4C2-43AA-8E18-CD19C10F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extensible Markup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overcome limitations of HTML – define own tags for e-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ML already has so many tags that it is common to have more markup tha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s adding more tags to HTML would be a bad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ll formed XML has a close tag for every open t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main use is exchange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ble – able to be extended. (Author creates the tags that are nee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– extensible stylesheet languag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ts a document from one format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– Change a title element to a name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the allowed constructs in an XML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arose from the W3C work on Extensibel Style Sheet Language (XS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SL specification covers the transformation and formatting of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3C realized that transformation was a significant area in it own right and broke out XSLT as a stand alon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PATH is a specialized language that provides ability to address parts of a XML document. It was originally part of XSLT specification but has since become a separate W3C recommen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XSLT is XML any program that can read XML can read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tools available to transform XML using XS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has provided abstraction layer through JA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LST provides an easier to maintain and more readily extensib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is easier to learn than traditional programming languages for use by non-programmers, e.g., web ma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to agree upon common schema DTD with all potential business partners in adv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Key Construct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value-o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d/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for-each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od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-unless-empt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ZeroFuelWeigh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Xalan XSLT processor in conjunction with Xerces parser. Both products are open source products by Apa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Demonstrating the transformation of an XML file into another XML format as well as 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2C3-8D1F-4F3B-A300-E688EC63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EAB-F702-49E1-9DA6-7BFBA2F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E0D-5B8B-4691-BD46-626B8136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A92-2FE5-4361-B492-6114ECED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279-B0C4-46D8-A5EF-117B7F0A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966-739D-4D96-B7A1-074D5A3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D24-5DDC-470A-8D2F-796F6C0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FBF-A3E3-42CA-8A02-1EF956F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115-2375-4D1C-A8EB-76127BA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46-415E-45EC-8A11-3220D32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7AC-ED90-4BAF-9CCB-28070A7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EB0-3E57-4ABB-BAE9-CEAB31A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0F1-8399-4931-BC36-E2A2CAE9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d Rosenthal And Dave P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 Primer on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71625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095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8196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XSLT Relate to X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s XM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one DT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6483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343400"/>
            <a:ext cx="525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T is part of XS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o separ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on XPath for some of it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477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dd functionality to program without re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 &amp; ease of cod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T is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ibraries such as SAX used in conjunction with general purpose programming language such as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ogramming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business partners, e.g., work with common DTD /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XSLT Style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32004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xmlns:xsl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1999/XSL/Transform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version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!--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 All other elements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.99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4290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16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934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5:24:27Z</dcterms:created>
  <dc:creator>Ed Rosenthal</dc:creator>
  <dc:description/>
  <dc:language>en-US</dc:language>
  <cp:lastModifiedBy>Ed Rosenthal</cp:lastModifiedBy>
  <dcterms:modified xsi:type="dcterms:W3CDTF">2002-02-15T18:42:04Z</dcterms:modified>
  <cp:revision>20</cp:revision>
  <dc:subject/>
  <dc:title>Introduction to XS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637660</vt:r8>
  </property>
  <property fmtid="{D5CDD505-2E9C-101B-9397-08002B2CF9AE}" pid="3" name="_AuthorEmail">
    <vt:lpwstr>edr@optonline.net</vt:lpwstr>
  </property>
  <property fmtid="{D5CDD505-2E9C-101B-9397-08002B2CF9AE}" pid="4" name="_AuthorEmailDisplayName">
    <vt:lpwstr>Ed Rosenthal</vt:lpwstr>
  </property>
  <property fmtid="{D5CDD505-2E9C-101B-9397-08002B2CF9AE}" pid="5" name="_EmailSubject">
    <vt:lpwstr>Here is Dave and My Presentation Number 1</vt:lpwstr>
  </property>
</Properties>
</file>