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52A-B6BE-4F61-93AC-5D6DD9D7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2E3-305A-446F-A9B1-D31E731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0C4-DB83-4AD3-BD70-6A621578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CC6-E9CC-4AAE-9F1F-1394B4BE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D30-FB28-48B8-BF1A-37DF0C7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933-8C9E-4BE0-A803-28D5A2CD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539-1CF0-41FB-A97C-6303FE98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0E7-CD11-4067-B85F-92736FFD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A57-F4D5-478D-AD7C-935688B7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E33-A87F-4477-AC30-200D9338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F2D-18E0-4402-9B7A-D3D001D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9E5-9C08-44FB-8363-00614A6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6BF0-9189-48B5-B964-819FA9B98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yon@docjava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ocjava.com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way to partition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a way to transfer jobs from one machin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run a program on dem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Web Star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Cluster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m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chnology that supports th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gramming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nguage that can run on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vention that helps facilitate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it helps people communicate with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chine that processe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rain= bio-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ach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vice that transforms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use energy to perform information proce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Wheel, human, brain=biological compu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Machines Thi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think that they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brain is a kind of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machines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Application of A programm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dients – data structures (&lt;-in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to follow -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-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Java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ext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a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Ly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c (203)641-6293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x (203)877-41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yon@docjav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; appt only (for now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row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decodes HTML and presents it to the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nter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loc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ften viewed using a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 net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comp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809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29200" y="4419720"/>
            <a:ext cx="20955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=Inter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forwarding on a data packet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43200" y="4495680"/>
            <a:ext cx="20955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76920" y="3733920"/>
            <a:ext cx="838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590920" y="2819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743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4343400"/>
            <a:ext cx="167652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35053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We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HTML for 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decode presentation data for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HTM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present data embedded in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F, JPEG, P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FF, AU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 Plug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helps a browser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ck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o the number of formats we can de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Java program automatically when we visit a web page using a browser with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uld you run a program on Dem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security ri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Limits help us to be sec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programs can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rusted programs have big lim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i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ccess across the net to other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strictions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i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rogram that inputs a programming language and outputs another programming langu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language is lower level than input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for Programme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. Lyon, Pren. H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3, ho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3 mid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3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java 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BY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un BYTE CO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the command that invokes the JV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puts BYTE CODES and RUNs th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s a By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 ty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structured record that hold bits in a format that is defined by either the programmer or the language desig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The bit is a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Digit =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ymbolized by the numbers 0 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use a bit to count, you use a two-state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is a BI (two) state numbering (nary)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in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umber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, 01, 10, 11 (bin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1, 2, 3 (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exidec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,8,9,A, B,C,D,E,F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AD) base 16 (hexi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c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 8 numbe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7) (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) + (1) = (1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0)+(7)=(17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)+(1)=(2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x of a numbering system is th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they call it the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ecimal we write: 4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 = 4 * 10**1 + 2*10**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inary we write: 1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1 = 1 * 2 ** 3 + 1 * 2**2+0*2**1+1*2**0=8 + 4 +1=13 bas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ekly or bi-week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loose 10 points per day l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s are due in class with a de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is due in class with a de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 are tak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built in (to the language)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eans that the language comes with the primitive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some value represented by bits in computer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elps with computations by stor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example of a PD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– true,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b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 = fal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ChairsAreHard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ExampleIsGettingSill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= sign means assig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on the left hand side of the =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8 primitive data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ixedPoint (byte, short, int, lo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loatingPoint (float, dou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ig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unsigned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c = ‘t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qwerty = ‘q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thisIsGettingSilly = ‘w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Java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Java code followed by a ‘;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fooBar = ‘e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fixed point PDT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 byte, short, int,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uses 8 bits to stor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uses 16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uses 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uses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8; // does not work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s range from –128...1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significant bit is the sign b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thisIsGettingSilly = -12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sho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Short = 32767; //max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TheSmallestShort = -3276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ocjav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omputers working on a single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g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ser – web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whatWouldYouDoWithoutInts = 2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BiggestInt = 214748364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SmallestInt = -214748364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add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j =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k = i + j; //k become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written using “//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a com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ubtract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1 = 2.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2 = 3.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3 = f1 - f2; // f3 = - 0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multip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thisIsTheSecondDouble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a = d * thisIsTheSecondDoub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’s value is: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divi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w = 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r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q = w/2; //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.5 can’t fit in a fixed point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ways truncates the part after the decimal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ntrol the order of Evalu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* c + 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evaluate c+d fir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= b * (c + 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w / (q +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 /(1 + 3) = 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/1 + 3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int a random nu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output a number that ranges from 0 t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sitional no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system that multiples a symbol by the base raised to an exponent that represents the symbols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that performs the invocation of some method that manipulates some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a = b + c; // + is the addi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d = e – f; // - is the sub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f = f / 2.0; // / is the division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represents the assignment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s of Distributed Comp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provided by a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tp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ne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operato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kes it easier to do comp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op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s, take two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+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–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/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*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+ is the same as a = a +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– is the same as a = a –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+=25; // a = a +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-= 25; // a = a –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/= 4; // a = a / 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*= 3; // a = a *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wise 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, X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2590920"/>
          <a:ext cx="3209760" cy="242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90920"/>
                    <a:ext cx="320976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860000" y="255600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ut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olean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46748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53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2040" y="55278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AN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truth table in the Boolean Al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5800" y="4114800"/>
          <a:ext cx="2600280" cy="196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260028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4572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952880" y="3504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9528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723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exclusive OR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62120" y="3733920"/>
          <a:ext cx="313344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313344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Boolean Op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&amp; z; //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| z; //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^ z; // bitwise xor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~ y // bitwise n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uth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he results of doing ops on a list of all the binary comb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in binary to create the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 boolean alg. function to create th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oolean O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put is 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&amp; // boolean AND (not bitw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 // boolean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// boolean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&amp;&amp; c; //a is boolean, so is b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|| 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! (b || c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re services lis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etc/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you a list of “por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is Network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tudy Network Programming to do Network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ugmented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hort cut (that sometimes is unreadable!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*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*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-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–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+=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+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&gt;&gt;=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&gt;&gt;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^=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^ 9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(s) of computers that are geographically co-located. Typically central administration using a master-work paradig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load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mechanism to register a volunt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problem – need a compute server on every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detect when i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yon</cp:lastModifiedBy>
  <dcterms:modified xsi:type="dcterms:W3CDTF">2004-09-14T18:42:46Z</dcterms:modified>
  <cp:revision>6</cp:revision>
  <dc:subject/>
  <dc:title>Introduction To Programming</dc:title>
</cp:coreProperties>
</file>