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BC53-01A8-441C-9C82-32119A020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2105-921E-4E84-9A23-C23B28D6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DCD1-6617-41D3-99C9-80F2D6E7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578-9315-47E1-8B3E-E9757814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B6227-E1F9-472F-807A-3149E178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CB113-1031-4FCE-8315-BDE26B11B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B755-41AD-4D0E-9111-6F275102F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0C226-3C5E-4D94-BF5E-976B2F95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3EC6-F2F9-464C-8463-5AE621C5F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838B7-A41A-4867-AE36-F790D68CA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E0140-6C05-45F4-87F3-1FD39F35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5A55-02F8-40C3-8781-093C1FB98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3587-85EE-4178-A9FF-41D970E3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781E-0530-4C7F-9416-D882C33D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69BE-A4E3-4D1A-9697-D9A515EE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B248B-93B0-4B8E-AF38-4EA656213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0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382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2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0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382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A7D13-CC68-4110-BFD0-FAAF99541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2BAF-696A-4CFF-BB41-5E2AE2F9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EE60-0161-412F-A7D7-EB14D4782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EF1-2300-4756-BA58-A2B1CA54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2560" y="609120"/>
            <a:ext cx="8080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6366-16F4-4E27-B761-001F59A0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8F8-FE8A-4B81-B92C-3F5EC3F9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70DA-38F3-4DE8-A454-71D689DE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256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50DD-647A-43A2-B4E2-E70B51097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05280" y="4680"/>
            <a:ext cx="17538120" cy="27381240"/>
            <a:chOff x="-8405280" y="4680"/>
            <a:chExt cx="17538120" cy="273812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05280" y="4680"/>
              <a:ext cx="773094112920" cy="2738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48A6-FCDD-486F-AEA7-4DF61CF7FCA8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E4188-67F6-43BE-920D-0EBE8FF66D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93752280" y="1463760"/>
            <a:ext cx="171988200" cy="21589560"/>
            <a:chOff x="-93752280" y="1463760"/>
            <a:chExt cx="171988200" cy="2158956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93752280" y="1463760"/>
              <a:ext cx="171988200" cy="2158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"/>
                </a:path>
              </a:pathLst>
            </a:custGeom>
            <a:noFill/>
            <a:ln cap="sq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D83B-5B5E-4167-9C19-6D6EF33382D7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BE7A-1B3E-4F6F-AC4F-7400F8B2AA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ference Data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428640" y="2085840"/>
            <a:ext cx="5638680" cy="1038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hapter 6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6F28F-D61D-4646-A70E-A7F41108719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122A337-3E15-47CB-9AAC-09039C810B15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n example of a AKO hierarchy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rections (go left, go forward...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uctures (tent, building (house, sky scraper, warehouse) bridge (suspension, truss, trestle), stat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luids (water, gasoline (unleaded, leaded, super, regular)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903E-7CEC-4D38-81A8-EE2CA740161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8FB298-3ADB-4A15-B572-9ADD494BB7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0811-FAAC-41F8-A145-185861D96B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B65C2-8E05-4EB1-A611-D8869A3C83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a reserved wor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classes have nam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names can have any l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contain two element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ariab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tho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E51-5C6F-4C3E-A89F-CCEC3F65E07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2F6BF-6B59-4221-B7AF-AF9009F8F46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do I ne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need a class to run a program in Ja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1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ublic class Hw2 {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ublic static void main(String args[]) {.....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8FAA-C85A-4A97-BE0C-A40B7309BEF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FC5A2B-DA14-41AB-B24B-ECAAC2EB6F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y is it called a class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 is short for classific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ications are used for sets of thing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ubset of the things allows for a sub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Java we make a subclass by extending a parent clas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B8F6-28CB-42A2-8615-1526C27610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3A9051-07D1-4D1A-BD62-5A52A6DE2233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en did the class idea star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967 – Simula – used for simul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oustrup was a Ph.D student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was using Simula for his thesis.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 liked i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was too slow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 he used B (a language that came before C) And it was very fast but hard ;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59A2-9769-454A-9C97-70E11B79560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12DFB3-09FF-4BA5-BCB6-227F77E858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story continu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TL, Murray Hill N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had C in 1971, on PDP-1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 with classes....C++ became an ANSI standard (around 1984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osling started fooling around with C++ extensions at Sun in 199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ak was started and became project gree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9542-8819-42E0-9BBA-9C8F8688592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70B12-7FF1-491A-B4AC-452DE472C1C9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verview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es allow for the creation of taxonom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cyclic Digraphic organiz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0740-3618-4E61-886A-5F05D52FE23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AB4D74-6BD7-4802-B212-7B7C813F250A}" type="datetime1">
              <a:rPr lang="en-US"/>
              <a:t>07/28/26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axonom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666880" y="2209680"/>
            <a:ext cx="4343400" cy="38102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505320"/>
            <a:ext cx="1981080" cy="19047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666880"/>
            <a:ext cx="1371600" cy="175284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00600" y="4800600"/>
            <a:ext cx="1219320" cy="10666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114800"/>
            <a:ext cx="114300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3581280"/>
            <a:ext cx="609840" cy="9907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952880" y="1600200"/>
            <a:ext cx="21621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Super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800600" y="3048120"/>
            <a:ext cx="1204920" cy="103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Subcla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8507-B18E-4905-8136-1C8CFCA6654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167236-1177-4D60-A10F-389178F155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What is the cardinality of a set?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umber of elements in the s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rdinality of a subset is &lt; card(superclass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DocJava, Inc., 200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F733-A7BF-4A3C-BDEB-814CCDF9422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EC4362-13D1-4585-9AFA-D3EC3FC371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yon</cp:lastModifiedBy>
  <dcterms:modified xsi:type="dcterms:W3CDTF">2002-10-18T01:14:57Z</dcterms:modified>
  <cp:revision>3</cp:revision>
  <dc:subject/>
  <dc:title>PowerPoint Presentation</dc:title>
</cp:coreProperties>
</file>