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5F6-ADCE-40A2-B566-C19F3BE8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703E-041F-4626-B043-E75C33D67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47F21-EADE-47FB-8D90-B022699DF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AC2E-E342-4398-AD0A-AFD1838C1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8038-C553-4ED4-852F-F05292F42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5B69-312C-4755-B077-1555D2DEC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0EF3-A594-4157-B93D-10397F33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8CF1-B495-4B58-BAFD-E0836D0D5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9867-20C0-426C-B3D7-430C1842A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4D05-D23C-490A-ACE7-221EC46C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B6D3-6EA6-4BFF-838F-89C8718F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0D2-CCF0-4CBC-9B41-1DD09E84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05174-DF3F-4DA4-95B5-8AD50076A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-server programm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SO-OSI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O= International Standards Organ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= Open Systems Inter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7 Lay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-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Link – dlpdu (frames) no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work – IP (192.168.1.1) - rou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port – TCP/IP, UDP/IP-transmission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ssion – log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entation – http – iiop /corba, rmi, db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cation - brow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domai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 for network, tlds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edu, .com, .gov, .net, biz, org, name,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– maps domain names to IP address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ups or reverse looku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using TCP/IP or UDP/IP along with a POR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t bytes in a stre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onn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rocess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socket programm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/htt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IOP, RM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work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en a virtual conn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port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computer has many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s are sometimes standard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 – default web service 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 – p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 – ti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– snm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etc/services – to see the ports in UN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9T01:26:38Z</dcterms:modified>
  <cp:revision>6</cp:revision>
  <dc:subject/>
  <dc:title>Introduction To Programming</dc:title>
</cp:coreProperties>
</file>