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8BA6-2990-4C54-B5D5-51B8A742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996B-56F8-477E-B6C0-3EB6F7A8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6060-9D39-4B34-A01E-4E9C5BBB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B0C-C86B-4965-B583-2F27FA8F6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1B6A-F7B2-4113-8E19-24D9EFCC1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AF1-E623-4EDD-A59A-5E6202BA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1C48-26D7-4D9F-A979-8F6977B2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84C-C6DE-4BC7-ACEF-BCB32B99A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3A48-7427-4AB7-9143-DDE374FE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61C-0079-4CA1-86E0-FB6CB6AE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A037-1EBB-4EAC-AD98-2F52E944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0F4-F942-4ECE-ACE7-D8F6B60C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50C9-FFBB-44CF-83C6-F7F0C1229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Forwar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mi-automatic proxy del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atic proxy d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ve method invocations that are checked at compile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ng methods to the delegatees does NOT mean that methods will appear in the prox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ynamic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methods in the delegatee automatically appear available in the proxy at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 for JDK 1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type safe. Exceptions can be thr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example: using reflection to invoke a string on an ins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automatic Static Dele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-time checks for type safe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gatee changes are discovered using introspection and cause a resynthesis of the proxy 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of Java source code synthesis that occurs at a pre-processing run-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new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time (input instance to the synthesiz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time (output proxy code to a fi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ile time (compile the new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king time (dynamically link to the proxy and classes it us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ime (where invoke method in the prox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semi-automatic static proxy deleg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interface to a complex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ter Code Re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than manual message forwar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 saf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ier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ernative to inherit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using Multiple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MI in Jav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s rel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plicate methods with the same signature then you must disambig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dowing is decided at compile-time using some techni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pological sorting is an automatic means of disambigu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MI Confu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Rad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);//in rad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gDe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co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ath.cos(d * Math.PI/180.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 and Tri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onfusion extends TrigRad, TrigDeg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cos(90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 this is not allowed in Java but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in C++ or Smalltalk. Or in ZetaLi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Sim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mbiguity can exist for topological sorting in 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 class is sub-classed by two other classes that are in turn sub-classed by a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964320" y="3276720"/>
            <a:ext cx="118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920" y="4267080"/>
            <a:ext cx="49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352680" y="358128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31360" y="411480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 flipV="1">
            <a:off x="5105160" y="35812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96560" y="49435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724280" y="457200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9000" y="4723920"/>
            <a:ext cx="3808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x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element that represents another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vote – slip that is sent to a central authority in lieu of appearing and voting in person. The proxy vote represents the vote of the individ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xy delegate – simpler interface to a complex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s all the problems of multiple inherit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complex for linking st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head for each instance grow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of the overhead is in malloc or N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s taken from the HE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agile base class (constant recompilatio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good about Diamond Inheritan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ic addition of features to a sub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gle larg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kits are easier to 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idge Patte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with an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er that implements th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the client and the serv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oal is to have transparent distributed applications. Key for using R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ssage forward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ssage is passed from one place to ano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OOP Message Forwarding mea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ing a method invocation and forwarding it to another inst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ammal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tr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Movabl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, int 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_x, int _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= _x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 = _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MovableMammal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 m; Mammal 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vableMammal(Movable _m, Mammal _mm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 = _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m = _mm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ableMammal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move(int x, int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.move(x, y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boolean hasHair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mm.hasHair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xy uses the implementation of another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95280" y="3200400"/>
            <a:ext cx="1038240" cy="257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Proxy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43400" y="3429000"/>
            <a:ext cx="16095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Mammal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419720" y="4724280"/>
            <a:ext cx="159048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Mov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2438280" y="3809520"/>
            <a:ext cx="1752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4600" y="4267080"/>
            <a:ext cx="1676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6560" y="3505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98920" y="5705640"/>
            <a:ext cx="15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57240" y="562932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gat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3040" y="3048120"/>
            <a:ext cx="341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.g., MovableMam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7T23:24:19Z</dcterms:modified>
  <cp:revision>5</cp:revision>
  <dc:subject/>
  <dc:title>Exceptions</dc:title>
</cp:coreProperties>
</file>