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FF74-A8D1-43F5-9E3B-EC5FB668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F300-4113-4E96-9C43-F0E7BFD9E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7734-C8FB-4CE0-9DC9-8A04F5FBD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B7CF-3E01-4DC8-83EE-B23FA61EF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5F28-23E2-4750-920E-D924DD76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B09A-C7C7-4AA0-B214-4B2B5795E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91C7-F1CA-4A3D-B90F-D37A16BC3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2AE9-4003-4B78-855B-F2FD7ED2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50CA-C862-4184-A981-8D12F6354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CC3-8FC5-49D2-A4C6-10A2E54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ACE7-9045-4783-9A2B-6D655036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9DE0-C228-4339-ACAF-5810519A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72A6-912C-458F-854F-E474BCD52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Database Connectiv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 driver ide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needs to work with many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y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Server, etc.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ping to a DSN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with ODBC driver is called JDBC/ODBC (microsoft method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using a protocol and sub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formulate a connect UR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url =“jdbc:dbnet://show.docjava.com:356/addres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– primary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bnet – sub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.docjava.com – FQ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6 – standard port for RDBMS serv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Packages do I ne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ort java.sql.*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RDBM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tional database management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other kinds of 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ess is a GUI on a JET RBDMS backe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guage for RBMS - &gt;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uctured Query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 are many standards for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92, SQL 89, SQL99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for all the standar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mmands exists only for specific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JDB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s to a R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DBMS Neu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 API (porta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for transmission of SQ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help to process resul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QL 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OOP language (ye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instances of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le to store blobs (unformatted sequences of by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BMS is good f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o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rch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programmer updates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DBC+RDBMS=2 tier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ent + server = 2 tier compu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does connections, query and result processing from the RDB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DBC uses SQ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nect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anc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ecute SQL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 SQL resul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 connection to DB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 tier system - distributed compu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2286000"/>
            <a:ext cx="144792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57600" y="2286000"/>
            <a:ext cx="190512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191120" y="4191120"/>
            <a:ext cx="220968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db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90920" y="28195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04400" y="2784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3276720"/>
            <a:ext cx="1526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5334120" y="3352320"/>
            <a:ext cx="3045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590560" y="25146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27360" y="18702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27520" y="3241800"/>
            <a:ext cx="122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/o 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880" y="342900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22120" y="33177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dbc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2T00:55:38Z</dcterms:modified>
  <cp:revision>5</cp:revision>
  <dc:subject/>
  <dc:title>Introduction To Programming</dc:title>
</cp:coreProperties>
</file>