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67C0-80C5-40E2-856A-CF52253E0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826A-F988-481C-ADA2-A7616811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A7A3-611E-45CD-B7BF-C0B8B4F2A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0ED0-5457-4D48-AC5D-570F3BD23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BF5F-869D-469C-9D15-8B13A2668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F405-A2AD-4EA1-9F27-35B26400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CECD-614B-4D26-B335-1EB979F1F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FE40-AE34-4A17-8AFF-211CE97B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B4B5-2B3E-441A-BCB0-5A6B52F80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D9B7-3E45-4699-A2A0-6430C508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9E57-04AA-4416-B037-004DA6AA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2795-CD2C-4FFE-89C4-F90565B7C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6152-836C-443E-92B1-41CCF95D16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mportant Ref. Data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eniz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tring Tokeniz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s that uses a string to create substr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strings are toke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input =“this is a sample string”; //– Garbage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ing output[] = {“this”, “is”, “a”, “sample”, “string”}; // - Garbage ou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output is a tokenized version of the inpu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StringTokeniz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package java.ut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 java.util.StringTokenize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you make a StringTokeniz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Tokenizer st = new StringTokenizer(“1,2,3,4 5\” –6”, “,\” ”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you find out how many tokens there a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tn = st.countTokens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can I use the StringTokeniz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(st.hasMoreTokens()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st.nextToken(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s = st.nextToken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int i=0; s != null; s = st.nextToken()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s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read a CSV Fi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Name, LastName, StAddress, City, State, ZIP, ph1, ph2, ph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record per l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ing fn = Futil.getFileName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f = new File(fn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InputStream fis = new FileInputStream(f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fferedReader br = new BufferedReader(fis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read a CSV File?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((String s = br.readLine()) != null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cessALine(s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s.close(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5T01:14:58Z</dcterms:created>
  <dc:creator>lyon</dc:creator>
  <dc:description/>
  <dc:language>en-US</dc:language>
  <cp:lastModifiedBy>lyon</cp:lastModifiedBy>
  <dcterms:modified xsi:type="dcterms:W3CDTF">2002-09-11T23:25:10Z</dcterms:modified>
  <cp:revision>3</cp:revision>
  <dc:subject/>
  <dc:title>Exceptions</dc:title>
</cp:coreProperties>
</file>