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1297-D4E1-4CDB-8DAE-C70C88B8A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2B70-B88A-440C-8772-8F35C239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1DD-E296-44E6-854E-DEFBAAD6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5BA5-02D3-469A-9429-8833D3F2E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FDB7-A481-43C9-8EFC-623AA7138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6E9-A034-4098-8919-E0D17023F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0C07-5006-4442-9BE6-A23431D56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2685-804D-4E4A-8C3D-9A29E9B4A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7143-647A-4250-8817-79E4312A6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D2E-06BA-40C8-9D50-8DE85F7FE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DCE-B5CC-4DA8-97D8-41E2F954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CFDB-AA0A-4CFD-884D-4A6BE478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C12B-4800-490D-8814-B1DB8941B0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ction To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 13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fy chairs in fron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rows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decodes HTML and presents it to the u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sca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yn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Inter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local area networ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often viewed using a brows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 networ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eans of communicating between compu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3429000"/>
            <a:ext cx="914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335268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8098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371600" y="4267080"/>
            <a:ext cx="1035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mputer1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029200" y="4419720"/>
            <a:ext cx="2095560" cy="83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omputer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net=Internet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ection of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ssage forwarding on a data packet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3429000"/>
            <a:ext cx="91440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71800" y="3352680"/>
            <a:ext cx="1371600" cy="990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3809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371600" y="4267080"/>
            <a:ext cx="103500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Computer1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743200" y="4495680"/>
            <a:ext cx="2095560" cy="83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Computer2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2743200"/>
            <a:ext cx="91440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876920" y="3733920"/>
            <a:ext cx="8380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o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590920" y="2819160"/>
            <a:ext cx="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590920" y="281952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4320" y="2743200"/>
            <a:ext cx="106668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58000" y="4343400"/>
            <a:ext cx="167652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43800" y="3657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79132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00800" y="35053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We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on the 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HTML for presentation of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rs decode presentation data for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HTM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sers present data embedded in 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F, JPEG, PNG, 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FF, AU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a Plugi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 that helps a browser proces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ckw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P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ick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ava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to the number of formats we can deco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the Java program automatically when we visit a web page using a browser with Ja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uld you run a program on Deman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ig security ris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ature Limits help us to be sec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usted programs can do an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trusted programs have big limi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file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ccess across the net to other mach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restrictions to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il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program that inputs a programming language and outputs another programming languag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 language is lower level than input langu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Jav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rogramming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technology that supports the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Javac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java compil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puts java source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utputs BYT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run BYTE COD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s the command that invokes the JV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va inputs BYTE CODES and RUNs them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s a Byt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collection of 8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mitive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a Data ty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 is a structured record that hold bits in a format that is defined by either the programmer or the language design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g. The bit is a data typ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Digit = b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ymbolized by the numbers 0 or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you use a bit to count, you use a two-state number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is a BI (two) state numbering (nary)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ina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numbered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S={0,1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, 01, 10, 11 (binar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 1, 2, 3 (dec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exidecim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6 symbols in a number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S={0,1,2,3,4,5,6,7,8,9,A, B,C,D,E,F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DEAD) base 16 (hexidec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AB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7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F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Oct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Base 8 numbering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symb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 S={0,1,2,3,4,5,6,7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77) (10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7) + (1) = (10) bas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0)+(7)=(17) bas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7)+(1)=(20) base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umber of symbols in a numbering system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x of a numbering system is th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they call it the bas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decimal we write: 4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2 = 4 * 10**1 + 2*10**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binary we write: 1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01 = 1 * 2 ** 3 + 1 * 2**2+0*2**1+1*2**0=8 + 4 +1=13 base 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gramming Languag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anguage that can run on a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vention that helps facilitate communic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lly, it helps people communicate with a compu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imitive data ty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a built in (to the language)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at means that the language comes with the primitive data typ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a primitive data typ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lds some value represented by bits in computer memo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elps with computations by storing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example of a PD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 – true, fa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b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t = fals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theChairsAreHard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lean theExampleIsGettingSilly = tru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= sign means assignme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s are on the left hand side of the = sig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re are 8 primitive data typ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FixedPoint (byte, short, int, lo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FloatingPoint (float, doub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primitive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sign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types of unsigned data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c = ‘t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qwerty = ‘q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r thisIsGettingSilly = ‘w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Java stateme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Java code followed by a ‘;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r fooBar = ‘e’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many fixed point PDT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 byte, short, int,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uses 8 bits to store val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uses 16 bi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uses 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ng uses 6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ome examp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b = 127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b = 128; // does not work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s range from –128...1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ost significant bit is the sign b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te thisIsGettingSilly = -12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use the shor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thisIsShort = 32767; //max val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thisisTheSmallestShort = -3276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machine that processes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 Brain= bio-compu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use the i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whatWouldYouDoWithoutInts = 2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hisIsTheBiggestInt = 2147483647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thisIsTheSmallestInt = -2147483648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add numb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i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j = 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k = i + j; //k becomes 5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ents are written using “//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/ this is a com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subtract numbe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f1 = 2.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f2 = 3.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loat f3 = f1 - f2; // f3 = - 0.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multipl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d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thisIsTheSecondDouble = 10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uble a = d * thisIsTheSecondDouble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’s value is: 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divid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w = 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r = 2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rt q = w/2; //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2.5 can’t fit in a fixed point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ways truncates the part after the decimal poi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control the order of Evalu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b * c + d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I evaluate c+d firs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a = b * (c + d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w / (q + r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2 /(1 + 3) = 0.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 = 2/1 + 3 =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do I print a random numb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ystem.out.println(Math.random()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output a number that ranges from 0 to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ositional not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system that multiples a symbol by the base raised to an exponent that represents the symbols posi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perat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ymbol that performs the invocation of some method that manipulates some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a = b + c; // + is the additio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d = e – f; // - is the sub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f = f / 2.0; // / is the division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represents the assignment o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achin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device that transforms ener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s use energy to perform information process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., Wheel, human, brain=biological computer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do I need operator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kes it easier to do comput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kind of op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ops, take two argu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+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–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/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= a * b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nary operato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++ is the same as a = a +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– is the same as a = a – 1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+=25; // a = a + 2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-= 25; // a = a – 25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/= 4; // a = a / 4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*= 3; // a = a * 3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wise Op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OR, NOT, X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2590920"/>
          <a:ext cx="3209760" cy="242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590920"/>
                    <a:ext cx="3209760" cy="24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4860000" y="2556000"/>
            <a:ext cx="229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ruth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Boolean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769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4572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7467480" y="41148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24280" y="502920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5140440"/>
            <a:ext cx="1474920" cy="226800"/>
          </a:xfrm>
          <a:custGeom>
            <a:avLst/>
            <a:gdLst/>
            <a:ahLst/>
            <a:rect l="l" t="t" r="r" b="b"/>
            <a:pathLst>
              <a:path w="929" h="143">
                <a:moveTo>
                  <a:pt x="0" y="77"/>
                </a:moveTo>
                <a:cubicBezTo>
                  <a:pt x="154" y="91"/>
                  <a:pt x="235" y="98"/>
                  <a:pt x="400" y="89"/>
                </a:cubicBezTo>
                <a:cubicBezTo>
                  <a:pt x="412" y="81"/>
                  <a:pt x="431" y="78"/>
                  <a:pt x="435" y="65"/>
                </a:cubicBezTo>
                <a:cubicBezTo>
                  <a:pt x="440" y="50"/>
                  <a:pt x="438" y="23"/>
                  <a:pt x="423" y="18"/>
                </a:cubicBezTo>
                <a:cubicBezTo>
                  <a:pt x="367" y="0"/>
                  <a:pt x="306" y="10"/>
                  <a:pt x="247" y="6"/>
                </a:cubicBezTo>
                <a:cubicBezTo>
                  <a:pt x="227" y="20"/>
                  <a:pt x="118" y="86"/>
                  <a:pt x="188" y="124"/>
                </a:cubicBezTo>
                <a:cubicBezTo>
                  <a:pt x="223" y="143"/>
                  <a:pt x="267" y="132"/>
                  <a:pt x="306" y="136"/>
                </a:cubicBezTo>
                <a:cubicBezTo>
                  <a:pt x="487" y="128"/>
                  <a:pt x="551" y="133"/>
                  <a:pt x="694" y="89"/>
                </a:cubicBezTo>
                <a:cubicBezTo>
                  <a:pt x="916" y="101"/>
                  <a:pt x="855" y="50"/>
                  <a:pt x="929" y="1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199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722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172200" y="5334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8610480" y="4495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4572000" y="4571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8532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534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12040" y="55278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AND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truth table in the Boolean Al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685800" y="4114800"/>
          <a:ext cx="2600280" cy="196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14800"/>
                    <a:ext cx="2600280" cy="19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876920" y="45720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4572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772400" y="45720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5029200"/>
            <a:ext cx="533520" cy="457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5140440"/>
            <a:ext cx="1474920" cy="226800"/>
          </a:xfrm>
          <a:custGeom>
            <a:avLst/>
            <a:gdLst/>
            <a:ahLst/>
            <a:rect l="l" t="t" r="r" b="b"/>
            <a:pathLst>
              <a:path w="929" h="143">
                <a:moveTo>
                  <a:pt x="0" y="77"/>
                </a:moveTo>
                <a:cubicBezTo>
                  <a:pt x="154" y="91"/>
                  <a:pt x="235" y="98"/>
                  <a:pt x="400" y="89"/>
                </a:cubicBezTo>
                <a:cubicBezTo>
                  <a:pt x="412" y="81"/>
                  <a:pt x="431" y="78"/>
                  <a:pt x="435" y="65"/>
                </a:cubicBezTo>
                <a:cubicBezTo>
                  <a:pt x="440" y="50"/>
                  <a:pt x="438" y="23"/>
                  <a:pt x="423" y="18"/>
                </a:cubicBezTo>
                <a:cubicBezTo>
                  <a:pt x="367" y="0"/>
                  <a:pt x="306" y="10"/>
                  <a:pt x="247" y="6"/>
                </a:cubicBezTo>
                <a:cubicBezTo>
                  <a:pt x="227" y="20"/>
                  <a:pt x="118" y="86"/>
                  <a:pt x="188" y="124"/>
                </a:cubicBezTo>
                <a:cubicBezTo>
                  <a:pt x="223" y="143"/>
                  <a:pt x="267" y="132"/>
                  <a:pt x="306" y="136"/>
                </a:cubicBezTo>
                <a:cubicBezTo>
                  <a:pt x="487" y="128"/>
                  <a:pt x="551" y="133"/>
                  <a:pt x="694" y="89"/>
                </a:cubicBezTo>
                <a:cubicBezTo>
                  <a:pt x="916" y="101"/>
                  <a:pt x="855" y="50"/>
                  <a:pt x="929" y="1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199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5181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5334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610480" y="44953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572000" y="4571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4572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85324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4952880" y="350496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952880" y="3047760"/>
            <a:ext cx="10670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19920" y="35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86600" y="3505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72360" y="2784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 exclusive OR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762120" y="3733920"/>
          <a:ext cx="313344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3733920"/>
                    <a:ext cx="313344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ing Boolean Ops in Ja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y &amp; z; //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y | z; //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y ^ z; // bitwise xor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 x = ~ y // bitwise ne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truth Tab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ows the results of doing ops on a list of all the binary combina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nt in binary to create the in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y a boolean alg. function to create the outp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oolean O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, OR,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utput is true or fal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&amp; // boolean AND (not bitw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| // boolean 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! // boolean N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are some example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b &amp;&amp; c; //a is boolean, so is b and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b || c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= ! (b || c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an Machines Thin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s think that they can th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man brain is a kind of mach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refore machines can thin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Augmented Operat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hort cut (that sometimes is unreadable!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*= 10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*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-= 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–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+=1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+ 10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&gt;&gt;=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&gt;&gt; 3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^=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= i ^ 9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Application of A programming Langu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i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gredients – data structures (&lt;-inpu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dure to follow -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s - out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 Java C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l Data struc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algorith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rate 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HTM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ertext Markup Langu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by a Brow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tion of cont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2T22:29:33Z</dcterms:created>
  <dc:creator>lyon</dc:creator>
  <dc:description/>
  <dc:language>en-US</dc:language>
  <cp:lastModifiedBy>lyon</cp:lastModifiedBy>
  <dcterms:modified xsi:type="dcterms:W3CDTF">2002-09-27T01:14:02Z</dcterms:modified>
  <cp:revision>3</cp:revision>
  <dc:subject/>
  <dc:title>Introduction To Programming</dc:title>
</cp:coreProperties>
</file>