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DB64-14D6-4818-81D5-3BFED2F9A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D600-BF0F-43AC-97FD-A1766E10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B7D0-C4A6-43E4-A5FC-24CAAC992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663B-F601-46CB-A09A-BBBF84A0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858C-66BA-4320-B426-97D53351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F27-3AEC-4DF0-9346-E733D6C8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A102-12E2-4828-8D20-1C408487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FA99-44F6-496E-8EA5-C8F71406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DC2A-67E8-4DE3-90B1-0CA6EA43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0E4-E8A4-4CA2-A71C-367844D65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ABD0-D2BC-49D9-B138-A3097C30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8D1-8DD9-47EA-AAC6-7815F980A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F4AE-DFA3-43F3-9AB1-C6F94F4846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cy in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emory sw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memory for a task is swapped to disk so that the next task can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 switching occurs during a memory sw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ext switch tak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ras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no progress is made because of the overhead in the context swi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n’t threads thras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s share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s have a low-overhead context swit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s can have their own schedu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can make thousands of threads with little slow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reads and ta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2514600"/>
            <a:ext cx="2057400" cy="2362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 thre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2590920"/>
            <a:ext cx="1371600" cy="25146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08760" y="514656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85480" y="5299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ead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reads or tasks make no progress because of an unavailable resour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to I make a th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class the Thread class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read t = new Thread(Runnable r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unn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s interface that defines a method like th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run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interface Runnabl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run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Runn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hread constructor wants an instance of a class that implements Runnab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need this because the thread scheduler needs a call-back method to execute the Thr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the States of A th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2819520"/>
            <a:ext cx="167652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Th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4648320"/>
            <a:ext cx="167652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752480" y="3733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9880" y="3809880"/>
            <a:ext cx="12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star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114800" y="4648320"/>
            <a:ext cx="167652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590920" y="5105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81080" y="448632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run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705720" y="4724280"/>
            <a:ext cx="167616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791320" y="51055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3505320"/>
            <a:ext cx="152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 metho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1676520"/>
            <a:ext cx="1676160" cy="91440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c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952880" y="2590560"/>
            <a:ext cx="6098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11880" y="2819520"/>
            <a:ext cx="254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sleep(), t.wai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2514600" y="2286000"/>
            <a:ext cx="236232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2160" y="1905120"/>
            <a:ext cx="172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.notify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ifyAll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aem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kind of thread that dies when main d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 Daemon threads will cause the JVM to keep runn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ult-task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ing more than one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readsaf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the resource is synchronized other threads cannot use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prevents resource cont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can cause dead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Computations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kAccount ba = new BankAccoun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nchronized void doInterest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.doInteres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rue concurrenc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do two or more things at the sam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of Work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 Pentium computer has two processor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processor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deal speedu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33520" y="1523880"/>
          <a:ext cx="7619760" cy="4156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523880"/>
                    <a:ext cx="7619760" cy="415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ulti-thread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have multiple threa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h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task that exists in another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as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 OS a task is a jo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job has its own memory address spa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called protected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one Job dies, the other jobs can contin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job get some resources according to a program called a schedul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ask schedul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uses a discipline to decide what resources a job ge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allows for allocation of various CPU time sli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hre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ask that does not have protect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shares memory resource with other threads in a given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09-25T22:56:24Z</dcterms:modified>
  <cp:revision>10</cp:revision>
  <dc:subject/>
  <dc:title>Exceptions</dc:title>
</cp:coreProperties>
</file>