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88A4-432B-4EC0-906C-FCC411407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1CF9-B1C7-41BC-9097-6CBBD3812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C3DF-12F0-4252-9C29-8092288E7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DDF9-51DD-4ECA-8B56-222EE6D79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D697E-9501-464F-A5FF-BAD8C75DE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976B2-94DA-46EE-B468-4C24D1285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6302F-F523-4046-9A9F-C67151295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C1C05-F7EC-4B8C-95A5-A31AF8405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530A0-457D-40EF-B405-4452A63AC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B3B2C-5D8B-403D-9BAA-0BAD925C5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AB27F-AFF2-46A6-8223-7295B2DF2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50E3-7F4E-4EF5-AD74-F634F7694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BB37B-D776-4079-8CA5-E4C6A703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DE423-B627-4809-8741-E6CAF541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7945D-B4C6-405D-BD85-911D06050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F9B93-1FB4-496B-9B5A-B549B611B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4E382-0344-4794-993E-08BD91269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AA37-02EE-4896-B893-DC8221676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DE76-10F3-4338-8AF6-3BF3396B4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2342-93D8-4D18-93CC-D2E8B7D7E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0D8F-7868-42BC-9396-8A8EDC85D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1AC9-CBFA-4647-B5BF-6226516A9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65A5-48F0-4CDB-8483-23386221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D919-8C59-47F9-A666-01A1F0BD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32065-1587-48DD-BD02-0D06B1383BC4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0CD1B-7336-46B2-9A6B-0E280A1E3E8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838FE-619E-4618-9A91-86F5480BAD98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DE78E-422D-4584-8AD6-4C7E093EBA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hapter 7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428640" y="2085840"/>
            <a:ext cx="563868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stra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9A1F9-465F-4E15-B6B5-6B8B1966517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69DEE2D-B1D9-4922-8BA7-9D1179ACB2C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bstract classes, Cont’d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abstract class Wow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class Foo extends Wow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o f = new Foo(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3C20-BF13-4F33-A182-9D9DCBED6B1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8CCAE3-18BA-4257-82BA-ED19F8A1991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y do I need an abstract class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contain abstract methods.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stract methods have a specification, but no implement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stract method enable us to defer the implementation of a metho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16BB-5CE7-48F0-9197-407935F1F2B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EA1751-FCF7-44DC-8DE7-6BFF67A784A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79000"/>
          </a:bodyPr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stract class Graphics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olean isVisible = fals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abstract void drawLine(int x, int y, int x1, int y1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void setVisible(boolean b) {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sVisible=b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ass Postscript extends Graphics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void drawLine(int x, int y, int x1, int y1)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stem.out.println(“ps:”+x+’,’+...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58E5-1189-4F3E-A3E9-8251CBF68C1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8105EB-E026-4BDF-836A-03851683F7D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bstract rule: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the class contains an abstract method then the class must be declared abstrac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13B9-2E59-443A-A4B1-CB42666800E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C24BF5-9DA0-4E3C-9A63-0D85008B460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atic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ic is a keywo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ic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ic varia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ic classes come later in the b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7B63-D0C4-4340-88AF-21B0A00E82E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55E09B-902E-4865-B777-8291E97F19C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is a static variable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ist at Compile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ynamics variables exist only at run-t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ve a fixed location inside of the cod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lobal to all instances of a cla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be referenced w/o instancing the outer cla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AC38-334F-41A5-AA87-D0762E4D174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0C52EE-01FD-488E-B4AE-D43545DBB67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Use of static variab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n use a S.V. before instanc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class Math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static double cos(double x){...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class Foo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uble x = Math.cos(2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FFA2-3E5C-4C5D-86A8-840015900D3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8BC405-6E60-4998-AA92-77908E5101A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o instance a dynamic elemen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must use NE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static void main(String args[])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o f = new Foo(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stem.out.println(f.x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C15C-ADD6-4FED-ACA1-14E38DC1DAA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23760F-DA9C-4F57-9E04-879FED8996E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ules for dynamic variab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must instance the containing class to gain access to the dynamic memb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36CC-500F-4F91-9B5D-7D357FF5C254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92A59A-249E-4E06-BE83-7C865C08736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uff about static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ing new instances of classes that contain only static elements, no new memory is us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C0C7-1629-43B7-B2E4-F336F0A4799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92CD34-9CC1-4C0E-AA99-B9F1A1F8CED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na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al vari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al metho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al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5E72-1BD6-4AED-891F-AB5D472E9D6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BCFA29-F86B-4240-9AF9-BFF45BA604E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atic and memo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class Foo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tic int i = 10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class Test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void test()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 (int i=0; i &lt; 100; i++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Foo(); // takes no more memory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99D7-590B-420B-978A-B1D1B3E54415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CA8E75-1AA2-4F87-B58F-1DD141F2E42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atic vs Dyanmic va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 Foo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ic int i = 10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 j = i + 100; // 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ic int k = j; // b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3B58-4444-42A5-831F-F486CAAE9EC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FC9E49-0FEA-48BB-BA2A-11A2E96F899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atic vs dyanmic method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 Foo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int get10()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turn get2()+8;//OK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static int get2()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turn 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CF16-6911-4CFC-A001-264F09A7812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385C3E-415E-4FFE-9BF6-31373A53F95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atic vs. Dynamic, cont’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 Foo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static int get10()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turn get2()+8; //b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int get2()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turn 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CD3E4-77CC-4C52-B7EA-15AB1D23625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0EEF7C-5903-4DB8-9CDA-77693155AA7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tatic vs Dynamic Var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 Foo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ic int i = get10(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static int get10()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turn 10; //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19D9-3DE3-4744-9AB0-39302FC7C8A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6D2148-F486-42F3-AE16-BEBAEA73F7F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ynamic vars and static method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 Foo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 i = get10(); //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static int get10()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turn 10;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9C56-A6AD-41CB-AC57-7B4D389F8EF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8EFA50-CCC3-4974-979C-754F1B4572A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v and S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 Foo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tic int i = get10(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int get10() { bad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turn 10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8A15-BD9C-4C27-A01D-3F4CAB2166A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30711D-B204-4534-AB42-662BC592BE6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u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M can invoke 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V can reference S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ynamic stuff can use static stuff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ut static stuff cannot directly reference dynamic stuff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CE4D-FDAA-4912-91DF-1A4FBF877E1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FE7DF0-8737-4490-BAAD-A8451B1E720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Patter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pattern has a na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pattern has a problem it solv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big books on design pattern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213B-6EB8-4CA6-BBF9-09324FA599B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EDAF14-D57A-44C4-BB2C-2C05F43FCED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ingleton Patter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sure you only have one insta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class Foo()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vate Foo() {} //don’t let other insta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ivate static Foo f = new Foo(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Foo getFoo() {return f;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877D-F8D6-4686-BE6E-D358700A060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66DB5C-ED78-43D0-88A4-17829A89FBD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nal Variabl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ta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tants cannot be s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tants cannot be chang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final int i = 100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 = i + 1 // cannot work, since i is fi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D085-DEE6-4C87-829A-E6C9FAB0305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449F1F-2285-420E-B236-7BE62CA1E88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nal Method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nal methods cannot be overridden by subclasses, this causes a syntax error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ass Print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static final void print(Object o)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.out.println(o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E174-74EF-4907-9CF8-87F8899D99A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6C7BD9-6DEC-43DB-839B-A30E4D3D05E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You cannot shadow a final metho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 PrintStuff extends Print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void print(Object args)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ystem.out.println(“hi:”+args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/This does not wor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3D77-C26A-4395-99DA-699EE12ED91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4CB0D6-6CA6-4E15-944C-595CF46A728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nal Class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100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nal classes cannot be subclasse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r exampl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final class Math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..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class Foo extends Math {}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//cannot wor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8B7A-315A-46E2-A3A5-222982D8692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7A5624-49AB-4B2E-9561-4279647DE17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bstrac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stract is a keywo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stract cl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stract metho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cannot have an abstract variabl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D87E-4739-4023-A58C-54C94DAD57E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B65977-4D45-4799-B457-7A79164BD9E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is an abstract class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a class that cannot be instanc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a class that can be subclass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declared using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abstract class Foo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o f = new Foo(); // syntax error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A3C0-235E-45A7-9EF2-5A6CBCAF06B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A6CF69-E2CC-44B1-B3CF-18E8F776E9C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ule of abstract subclass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bclasses of abstract class are non abstract if and only if they provide implements for the abstract methods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3223-1273-438A-8E8E-7A3C8CDAE92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D1343C-369E-453B-AD8C-649AC265778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yon</cp:lastModifiedBy>
  <dcterms:modified xsi:type="dcterms:W3CDTF">2002-11-15T00:05:43Z</dcterms:modified>
  <cp:revision>5</cp:revision>
  <dc:subject/>
  <dc:title>PowerPoint Presentation</dc:title>
</cp:coreProperties>
</file>