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DB70-37FD-4A7C-ADD7-199571FC5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B551-8E3B-4C41-AFD9-5035DBFF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EDFE-1B6C-4755-9AD5-B028BEB04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5DE5-EE65-4971-A136-E4DBB71C7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F8CE-783E-412A-8400-DBDEF844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94F7-7DF6-4595-A75A-32A68538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6EA6-8347-47DA-8F8F-2D608B87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26B8-6A76-4607-BACA-4221F0A0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E036-133F-4043-852F-CCBCC566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0CB3-95BE-4854-83D2-C89A90D9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4E13-13F0-4D82-898B-6C2D1E20F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427A-954C-453C-B525-0D532C77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D31A-85CA-4218-8258-8C107D312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ference Organ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eference organiz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process that enables us to group classes and interfaces into isolated namespa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isolated namesp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me is an identifi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amespace is place where identifiers are group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solated namespace is an isolated identifier gro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isolate identifier group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enable the reuse of identifiers w/o causing confu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java.util.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java.awt.Lis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st l = new List(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/ this is an error, how do I fix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iguous class name conflict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awt.List l = new java.awt.Lis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.util.List ll = new java.util.List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just use unique identifi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we can’t control all the programmers who write libraries that we want to 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ack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lated grouping of reference identifiers (classes and interfa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reate a pack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erved word “package” appears as the first java statement in a fil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ppears only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com.docjava.futil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Foo {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ages are ALWAYS public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vate package foo; // syntax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package foo; // syntax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tected package foo; //syntax err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age foo; // 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12T00:03:41Z</dcterms:modified>
  <cp:revision>4</cp:revision>
  <dc:subject/>
  <dc:title>Exceptions</dc:title>
</cp:coreProperties>
</file>