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4005-A0E6-49B8-92F0-28E5B8BE8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CCFC-72FC-46E5-918F-244B5DEF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E6FC-997B-4C47-8162-FD591757D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D5DE-8F55-4940-A0E5-2960A41C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573A-7BF6-4E20-B798-052F96036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5BDE-4020-4BDD-9FAF-03F314D9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972B-9572-4668-89A7-D9087119C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288-5593-4857-9E5A-E6EB5F69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2E8C-F1A3-4C51-A4E2-77466830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578-8F0F-446A-8833-73E0E97B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CBF-0775-43AB-80D8-603D7268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7EDA-A4AF-4845-9E7E-FB8FE003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C6E3-FCF6-4164-B709-633D9897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ting information about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lection us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class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called Class has many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class demonstrates many reflection techni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uff you can disco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er-classes a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s method need for inv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sibility modif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method retur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ypes of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lass must be load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.E., you must have access to the byte c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ire system works on byte code driven metho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not a source code driven mechani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already compil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ing Refl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Util ru = new ReflectUtil(o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hodList is used to store all the methods and get information about th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 = o.getClass(); //supported for all obj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.util.Date date = new java.util.Date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c = date.getClas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List ml = new MethodList(c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mutators[] = ml.getWrite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hod accessors[] = ml.getReadMethods(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comes the mutation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mutat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"here goes the accessors"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t(accessors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8T01:14:38Z</dcterms:modified>
  <cp:revision>6</cp:revision>
  <dc:subject/>
  <dc:title>Exceptions</dc:title>
</cp:coreProperties>
</file>