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00A7-2C19-4FEA-9730-5BFBFE2B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1237-B83D-4549-95DB-44E47E60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AAD-DBE2-43DD-83EC-CEB4E14B4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BEA4-63D1-45BE-93AE-AA51CB0E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6A4-E9EA-4FCE-825D-F7E32BD4C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71A1-C44D-4F2F-9782-B18DEA1F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772E-DEF9-40AD-91D5-DC782916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332-1205-4D55-BF53-63E6E5C6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6E29-08C8-435F-8FDB-58FCD8206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FE73-47A6-4E9C-92B8-7F3DB7B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0AE5-509A-4BBA-88C4-F1637403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B142-12EA-4F9F-919D-FC8991E4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23FF-8742-4255-A5F1-E3B200E6B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e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, output, FILE I/O, tokenization, serialization and 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i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unformatte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equence of by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unch of classes in the java.io. pack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would I want a 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input and output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aming data is data that flows without sto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er perform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processing of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Stream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ind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putStream (FileIn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tputStream (FileOutputStre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are streams use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cket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b-based 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urrent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tributed comp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yboard and ter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nter and the scan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a FileInputStrea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ublic static FileInputStream getFileInputStream(String prompt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ew FileInputStream(getReadFile(prompt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 catch (Exception e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ystem.out.println("Er: FileOutputStream in Futil.jav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10-10T01:09:22Z</dcterms:modified>
  <cp:revision>7</cp:revision>
  <dc:subject/>
  <dc:title>Exceptions</dc:title>
</cp:coreProperties>
</file>