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928-094C-4B8F-A47E-31AFE67A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BD80-FC8D-4D0E-9DDF-14BDE4C7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1CE4-0275-45D8-9BD5-17698AD6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CFB4-8E76-4F21-90FE-6BBF86301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C558-6202-4335-889D-5DEEE476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868B-6806-4100-8219-99431094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CAB58-F37A-4DDA-8684-40166D98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E0FF-FF03-4DD7-831D-6E8485890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57552-32E7-4F92-8BEF-B7F749C0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B743-5AF0-486A-AA89-9F7B1474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BA0B8-BDF9-4459-A934-793C5DAA2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0975-3095-425B-8057-BA676B9A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E5EC-674A-4F6A-B89F-7B1F8691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D0E5-3F5E-456D-B1DC-B43238BC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B2854-477C-425F-ADE6-5C89EDE4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A9B1-E195-4CD6-A5A0-6E8E26F32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4074-5552-48CB-AC70-A80F23456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B52E-7730-48F7-8EDC-4965E400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7290-A732-436E-8520-7CDBA9CB8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F3DE-A655-44F1-B20A-9D235782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D4B7-CF8B-4CE3-AE79-2387B9320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3328-64E5-4380-9C83-35B799C2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AD2-7974-430B-8612-317507DB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DCA1-ADE7-4234-8683-FDCB27D49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001A4-9126-4E53-9FF0-4DAABBCA7E5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8D38-4B44-4C93-B8EB-E0C9271BE35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FD4EC-BFDF-4E0C-9D89-3148FC014922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4D4A0-6DEF-4BCA-8E18-A7CF87E4CA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pter 8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rays and Vect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382B-7FBC-4A8D-A016-FA93DA753D98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66D1236-226A-442C-BCE1-C0CFB1EDC2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mportant ideas for you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n Arra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Vecto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Contain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stack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Queu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E8B7-57F8-401C-B387-28C1676921A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BCD2B-68F3-40C9-966A-425CC7E9C5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n arra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tinuous addresses in mem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ence Data typ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lement that knows its own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 element that has a fixed number of dimens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container of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F417-5A7F-4CAF-A064-533B2CCC3E3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C7E76-5532-4214-B5B2-8249EC110D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 we need an arra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store stuf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use memory to process d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index the data that we proce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3E6C-D441-4FBE-821F-B198232354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864B4-BD57-461C-9E6D-20301A2686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kind of stuff can we stor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mitive data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ference data typ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ever you store, all the data types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</a:rPr>
              <a:t>must be the same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D5D8-F76E-4CBF-B615-44B6F1804E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CAAB5-D002-4891-8D1B-09794D02BF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we make an arra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a[] = {1,2,3,4,5}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b[] = new int[10]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ing names[] =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m”, “dick”, “harry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7250-70B6-40D4-AEB5-59FD7F8668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9E33D7-34FC-4FC0-8D6F-31EAB5878E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w do we use the arra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lass IntArray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ia[] = {1,2,3,4,5,6}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int sum(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t s = 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(int i=0; i &lt; ia.length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 = s + ia[i]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turn 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20EC-4AB2-46FC-BCC6-5D3C4E6F29E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7CD320-D456-4A0D-8F63-178CA959D4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yon</cp:lastModifiedBy>
  <dcterms:modified xsi:type="dcterms:W3CDTF">2002-11-15T02:22:09Z</dcterms:modified>
  <cp:revision>5</cp:revision>
  <dc:subject/>
  <dc:title>PowerPoint Presentation</dc:title>
</cp:coreProperties>
</file>