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F60A-5514-4586-A42C-97733CA6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30A-C10C-44C7-8740-615D6F8C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52B8-42C6-47F3-8BE2-77F38DFE9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B737-8E17-4B30-8F11-C0C1513CD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4470-632C-4D93-9735-A1C71333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DC30-3DAD-4BB0-B0F4-E6C21DF2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43A2-1954-44E1-9490-A75E850A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6664-A4CD-4826-8E77-1CDBE457C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B0C7-AAEC-4144-A358-548CD989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9FD8-A8A6-4133-8003-B63EA5ED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69BB-BA7C-402F-8BCD-7B8A1589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9C08-AC2F-4B86-9F05-7AB84BBB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E875-7822-4556-A3AC-B57DFFF6C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raw Sha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simple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s cont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stance of the Graphics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s is ABSTRAC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extend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can get instances of the Graphics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paint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n instance of an java.awt.Im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a java.awt.C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a graphics contex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et access to simple 2D draw metho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Business graph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Vectors into the scre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Draw java.awt.Im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simple shapes (2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can print vectors, and bit ma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calls Pa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void paint(Graphics g) {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the programm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the JV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WT Event Dispatcher (it runs in a thread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lled in response to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epai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vocatio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nt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aint(1000); // paint invoked in 1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n does the Damage control manager invokes repa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damage, damage control for the window causes repa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res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dow expo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onent dema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int(int x, int y, int w, int h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25T01:29:53Z</dcterms:modified>
  <cp:revision>6</cp:revision>
  <dc:subject/>
  <dc:title>Exceptions</dc:title>
</cp:coreProperties>
</file>