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86C-4FB2-4382-8826-A3A46DCD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269-E7AE-4482-A0B8-1F71DC189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56D-E3BE-4BF1-BA27-8B5EB3248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5B98-FE35-46A0-BF97-82B5824B9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D2CA-BA9A-4715-A923-B609004E6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F49D-0160-49EB-B54A-E2F2C791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EFE5-C288-444F-8E1E-49F778A8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8A3-59F1-49FC-BBEE-C96179C50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2D8-C2C5-4190-8D89-3A3759C5D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114F-562E-488C-8B5A-BE2ABDAA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9332-7FFF-4D32-B785-3B9C99DE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076D-89B0-41FC-8FB2-5C69B476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9172-8902-4C97-8A37-59E344451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ed vs. Unche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optional in the try-catch bloc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catch (Exception 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finally { // this is op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inally Rule1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ALWAYS execu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less the JVM fails for some out-side cau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 is good for house kee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a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database connections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ception Cla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ides in Java.la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classes of Exception are checked exce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-catch statements are require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r error handling until la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not guard the inpu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double invert f(double x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x==0) System.out.println(“danger x is zero!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1/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our own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CreditCardException extends 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blic static check (int i) throws CreditCardExcept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&lt;= 0) throw new CreditCardException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ing the C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checkCard(int ccn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ditCardException.check(cc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tch(CreditCardException 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ul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-try-cat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must throw a checked exception OR try to catch i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class Wow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printCheck(int ccn) throws CreditCard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“checking ccn:”+cc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ditCardException.check(ccn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ing Multiple Excep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1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2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tch Ru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ve as many catches as you like, b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ust at least on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always catch all exception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y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 catch (Exception e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printStackTrace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g.store(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Exce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IOException extends Exception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FileIOException extend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UserIOException extends IOException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1T22:41:31Z</dcterms:modified>
  <cp:revision>2</cp:revision>
  <dc:subject/>
  <dc:title>Exceptions</dc:title>
</cp:coreProperties>
</file>