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E223-10BD-45F5-A647-7A0A22A30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E629-01E9-49A9-B2C4-DE090428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7992-450B-4F55-8500-1C83BC8A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793-893C-439F-9C9A-2D3E1412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D22D-CE76-44D7-BC4F-54D987FFF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5383-7B8F-4137-8379-3186481E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402-B515-4E33-BDB4-2983B5AA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DA83-42A7-411D-96A4-F4FE659B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3C60-D992-476F-B1BF-4DB65F50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BBDB-92B9-449D-84E1-0594FB3C4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5CE0-2E72-4238-B307-4EE43246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A9D-A58B-42AD-BA19-70C36AC1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01097-DF9A-4046-8A71-F3553B2A95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a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reading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read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a str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a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c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produced from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age the translation from non ASCII in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CII – American Standard Code for Information Inter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BCDIC – Extended Binary Coded Decimal Interchange Co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build a read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Reader br = new BufferedReader(new InputStreamReader(new FileInputStream(f)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10-17T01:24:57Z</dcterms:modified>
  <cp:revision>8</cp:revision>
  <dc:subject/>
  <dc:title>Exceptions</dc:title>
</cp:coreProperties>
</file>