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6F61-3C00-4B6C-BF0B-58CEB83A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5770-CA52-4303-B2B5-591FDBF84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63F-F0AE-4DD1-A28A-3E936B636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C1B2-D60E-48DA-8030-2E95187AD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876AC-2DC3-4738-81C5-6B184A581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FD98-957B-4965-A813-638A142A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A16B2-2535-4E21-8CA3-37BB21A94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0EBFE-42DB-4F5F-AC4B-CCC086AE7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69BF-5B02-42E1-AD0D-121FCDF09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85AC9-1FC0-4F2C-B552-F8CC35D02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9CA6-C644-4977-AA75-3573AF312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61F0-40BD-47B4-9527-72924FFD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6E4B-C599-4938-A144-26FF912E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A26A-ECF6-44C0-B517-C34C60090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E9FB-6C0A-4733-867F-703657D10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C368-185E-407B-B457-5B9E3E3BF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87319-7A73-4E00-BBD1-7B0E68BE5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9027-7905-4680-B557-D0446D3E8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C59C-9896-47CD-A7B7-661A741B4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C3D0-A070-480A-9CE0-E9D94512D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CFDE-DB1B-4747-9FD5-7C8F9A02E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E54B-7BD5-4A97-B627-4D7957A13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7388-4441-42A3-90FE-D03EDF301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7B21-35B5-4D97-B3D3-B3A3170A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1A5DD-F704-443F-AED7-F627B6E585A8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0BA8-9055-42B2-97F6-116A2C086DD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Nested Clas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inner reference data typ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ommand Patter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ave commands reside in the instance, so the instance knows how to run itself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Job(2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doCommand() {...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unButt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w RunButton(“ok”) {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esTheOKThing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sing the Interface...for comma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mando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Runnable get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ublic void run()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stem.out.println(“wow”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Commando c = new Commando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 // Runnable r = c.getRunnable(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Nested Ref. Data Typ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class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Interfac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nother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contained by a metho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reference with no na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y do I need a nested referenc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temporary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isolate the reference name spa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new reference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make use of new object-oriented desig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o create a local refer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are the different types of Nested classe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stat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sted dynamic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kinds of access can I have for a static class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ublic – public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fault – package ref organ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ivate – yes, you can have a private inner class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tected – accessible to subclasses of the outer clas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 static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Point3d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Float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Float(float x, float y,  float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tatic class Double 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ouble (Double x, Double y, Double z) {...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int.Float pf = new Point.Float(10,20,30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ner class instead of packages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java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aw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Fram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lass Component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Making an Anonymous Inner clas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rface Runnable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read t = new Thread(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w Runnable() {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void run() { doStuffHere(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})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5T21:59:50Z</dcterms:created>
  <dc:creator>lyon</dc:creator>
  <dc:description/>
  <dc:language>en-US</dc:language>
  <cp:lastModifiedBy>lyon</cp:lastModifiedBy>
  <dcterms:modified xsi:type="dcterms:W3CDTF">2002-10-09T23:09:46Z</dcterms:modified>
  <cp:revision>3</cp:revision>
  <dc:subject/>
  <dc:title>Nested Classes</dc:title>
</cp:coreProperties>
</file>