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F948-B024-49C7-86B3-A077C6B71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816-4516-4B17-B239-F6B0CADC2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06D7-7E59-4F84-9C44-89B343AA0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C9A1-A7B1-4A98-B997-1ACAC6C0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D6D5-92BC-4FF0-8294-6DFA7AFF8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FEA5-1AE0-47FD-A9DD-F47CE84F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58EE3-2ADC-48D7-9A4C-8471DA856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19DE-E557-42B3-B474-CE4576FD8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2F18-3459-4742-974E-AD5D62C61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E61D-0775-4BB4-9B52-22A0A6B7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76C-0EFD-4860-AB58-AA9D5C784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8641-4315-48F4-8ECB-9E61B197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41110-5A01-43AE-AAA2-D75CC931CE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else do while continue break switch case return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mptUserForCommand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userInputIsNotQuit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it; booleanCondition; iter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(int i=0; i &lt;= 10; i+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alters the flow of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e must reside in a continue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continue targets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, DO, FOR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does continue do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go to the next val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5.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. in Whi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1 .. 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continu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continu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2..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is a Jav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s the target termin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ust be in a break targ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, while, do,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i &lt; 5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 // 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i &lt; 1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 =0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// prints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-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++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(i % 2) == 1) break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(i &lt; 10); //prints not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f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"Probable-Possible, my black he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lays eggs in the Relative W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 doesn't lay eggs in the Positive N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cause she's unable to postulate how."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- Frederick Win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Contin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continue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continu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beled brea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: for (int i=0; i &lt; 10; i++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(int j=0; j &lt; 10; j++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.out.println(i+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(i + j &gt; 10) break star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//doubly nested for-loop with labeled brea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prints 0..9,1..10, 2..11 then stop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reserved 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witch – makes a table out of several different statements and selects which ones get executed. Like a complex if-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(argument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gument is byte, char, short,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double, float, long or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(i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2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10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men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witch on ch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q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t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s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ve(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a key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appears in switch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ault is used when no case is satisfi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defaul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r a = ‘z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witch (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se ‘q’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quit”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ault: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.out.println(“command not found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 is a reserved wo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es a sudden change in the flow of control to the invoking meth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“this is the return example”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xample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age &gt; 65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pPayingSocialSecurit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youAteLotsOfFoo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GetFat = 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of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x = 10 * Math.cos(Math.PI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x &gt; 20) return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x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y first method using retur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int addOne(int x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x + 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addOne(1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s to rad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deg2rads(double d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d * Math.PI / 180.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deg2rads(18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2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2c(double f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(5.0/9.0) * (f –32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2c(212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value of an invest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double fv(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p, double r, double y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p * Math.pow(1+r,y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fv(100,0.07,3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turn a st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String getName(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urn “CS131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blic static void main(String args[]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getName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else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grade &lt; 6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F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 65) &amp;&amp; (grade &lt; 7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D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((grade &gt;= 70) &amp;&amp; (grade &lt; 80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“C”; // etc.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ing If handle multiple statements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(theCowsComeHom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ment1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stem.out.println(“moo”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called a block of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OtherThingYouMightD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ditional Opera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terGrade = (grade &lt; 65) ? “F” : “pass”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ood for assignments with many simple boolean decis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While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should I use the while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something as long as some condition is m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 i &gt;= 0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--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stat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I need the do stateme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=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i++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 while (!(i &gt; 10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ile 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userWantsToContinue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Stuff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(weHaveMoreData) {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epDoingDataProcessing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10-04T00:22:40Z</dcterms:modified>
  <cp:revision>4</cp:revision>
  <dc:subject/>
  <dc:title>Introduction To Programming</dc:title>
</cp:coreProperties>
</file>